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4.gif" ContentType="image/gif"/>
  <Override PartName="/ppt/media/image3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10.gif" ContentType="image/gif"/>
  <Override PartName="/ppt/media/image37.jpeg" ContentType="image/jpeg"/>
  <Override PartName="/ppt/media/image13.gif" ContentType="image/gif"/>
  <Override PartName="/ppt/media/image34.jpeg" ContentType="image/jpeg"/>
  <Override PartName="/ppt/media/image24.jpeg" ContentType="image/jpeg"/>
  <Override PartName="/ppt/media/image30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16.jpeg" ContentType="image/jpeg"/>
  <Override PartName="/ppt/media/image9.gif" ContentType="image/gif"/>
  <Override PartName="/ppt/media/image39.jpeg" ContentType="image/jpeg"/>
  <Override PartName="/ppt/media/image8.jpeg" ContentType="image/jpeg"/>
  <Override PartName="/ppt/media/image28.jpeg" ContentType="image/jpeg"/>
  <Override PartName="/ppt/media/whoosh.wav" ContentType="audio/x-wav"/>
  <Override PartName="/ppt/media/image11.gif" ContentType="image/gif"/>
  <Override PartName="/ppt/media/explode.wav" ContentType="audio/x-wav"/>
  <Override PartName="/ppt/media/image5.jpeg" ContentType="image/jpeg"/>
  <Override PartName="/ppt/media/image26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4.gif" ContentType="image/gif"/>
  <Override PartName="/ppt/media/image3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FBE-B172-414B-A9A9-AC218407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B4C-3C39-4511-8F0E-620C006C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0D2-C584-454F-97F6-8E08A86B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5B5-E56C-4744-96E8-67B7211E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C33-A046-4E5C-B9CA-B2BA9FBC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F5B-D323-4A7A-8C19-CA324CBC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F5D-1633-413D-BC73-2DACABED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ED1-F0CF-4B2F-BA8E-D1EB40AF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F3F-7123-49C3-8F7E-6EFD9F59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754-6346-475F-9D65-6FD19D88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C3F-11DF-4F4A-964A-5075A281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FD4-308F-4C8A-A211-A04B848B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E5AE-3C20-4144-901B-F91CDE2F30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8.jpeg"/><Relationship Id="rId3" Type="http://schemas.openxmlformats.org/officeDocument/2006/relationships/audio" Target="../media/explod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47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5"/>
          <p:cNvSpPr txBox="1"/>
          <p:nvPr/>
        </p:nvSpPr>
        <p:spPr>
          <a:xfrm>
            <a:off x="826920" y="404640"/>
            <a:ext cx="7696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есмыкающиеся</a:t>
            </a:r>
            <a:endParaRPr b="0" lang="en-US" sz="2400" spc="1" strike="noStrike">
              <a:ln w="3816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18"/>
          <p:cNvSpPr txBox="1"/>
          <p:nvPr/>
        </p:nvSpPr>
        <p:spPr>
          <a:xfrm>
            <a:off x="1979640" y="2852640"/>
            <a:ext cx="5086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бщая характерист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" name="WordArt 20"/>
          <p:cNvSpPr txBox="1"/>
          <p:nvPr/>
        </p:nvSpPr>
        <p:spPr>
          <a:xfrm>
            <a:off x="2124000" y="3500280"/>
            <a:ext cx="5086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Древние пресмыкающиес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4" name="WordArt 21"/>
          <p:cNvSpPr txBox="1"/>
          <p:nvPr/>
        </p:nvSpPr>
        <p:spPr>
          <a:xfrm>
            <a:off x="2149560" y="4292640"/>
            <a:ext cx="5086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Разнообразие современны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рептил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5" name="WordArt 22"/>
          <p:cNvSpPr txBox="1"/>
          <p:nvPr/>
        </p:nvSpPr>
        <p:spPr>
          <a:xfrm>
            <a:off x="2124000" y="5516640"/>
            <a:ext cx="5086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Наступление челове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3857760" y="0"/>
            <a:ext cx="214308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c2ff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Зме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481040"/>
            <a:ext cx="46069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сутствуют коне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двигаются за счет изгибания туловищ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имеют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т внутреннего уха и звуки воспринимаются брюшной поверхнос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ют термолока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йственна линь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2"/>
          <p:cNvPicPr/>
          <p:nvPr/>
        </p:nvPicPr>
        <p:blipFill>
          <a:blip r:embed="rId1"/>
          <a:stretch/>
        </p:blipFill>
        <p:spPr>
          <a:xfrm>
            <a:off x="5148360" y="2924280"/>
            <a:ext cx="3809880" cy="3733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144[1]"/>
          <p:cNvPicPr/>
          <p:nvPr/>
        </p:nvPicPr>
        <p:blipFill>
          <a:blip r:embed="rId2"/>
          <a:stretch/>
        </p:blipFill>
        <p:spPr>
          <a:xfrm>
            <a:off x="6372360" y="549360"/>
            <a:ext cx="18748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 способу питания змеи делятс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17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672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Ядовиты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гадюка, кобр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Удав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питон, анаконд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Ужеподобны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полоз, уж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10"/>
          <p:cNvPicPr/>
          <p:nvPr/>
        </p:nvPicPr>
        <p:blipFill>
          <a:blip r:embed="rId2"/>
          <a:stretch/>
        </p:blipFill>
        <p:spPr>
          <a:xfrm>
            <a:off x="228600" y="2590920"/>
            <a:ext cx="4343400" cy="3378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20"/>
          <p:cNvPicPr/>
          <p:nvPr/>
        </p:nvPicPr>
        <p:blipFill>
          <a:blip r:embed="rId3"/>
          <a:stretch/>
        </p:blipFill>
        <p:spPr>
          <a:xfrm>
            <a:off x="228600" y="2590920"/>
            <a:ext cx="4470480" cy="33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145[1]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8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Неуязвимые черепах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22"/>
          <p:cNvPicPr/>
          <p:nvPr/>
        </p:nvPicPr>
        <p:blipFill>
          <a:blip r:embed="rId1"/>
          <a:stretch/>
        </p:blipFill>
        <p:spPr>
          <a:xfrm>
            <a:off x="647640" y="4005360"/>
            <a:ext cx="3780000" cy="2835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00720" y="1125000"/>
            <a:ext cx="4535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ни тяжеловесен панцирь, но именно он помог черепахам успешно просуществовать долгих 175 мл.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а панциря зависит от способа существования вида. У морских панцирь тоньше, поэтому они самые быстроходные рептил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19"/>
          <p:cNvPicPr/>
          <p:nvPr/>
        </p:nvPicPr>
        <p:blipFill>
          <a:blip r:embed="rId2"/>
          <a:stretch/>
        </p:blipFill>
        <p:spPr>
          <a:xfrm>
            <a:off x="647640" y="112536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49[1]"/>
          <p:cNvPicPr/>
          <p:nvPr/>
        </p:nvPicPr>
        <p:blipFill>
          <a:blip r:embed="rId3"/>
          <a:stretch/>
        </p:blipFill>
        <p:spPr>
          <a:xfrm>
            <a:off x="755640" y="260280"/>
            <a:ext cx="1457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7640" y="11592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наземных черепах панцирь легкий и тонкий, он хорошо защищает от врагов и потери вла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чности приспособлены для хож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11"/>
          <p:cNvPicPr/>
          <p:nvPr/>
        </p:nvPicPr>
        <p:blipFill>
          <a:blip r:embed="rId1"/>
          <a:stretch/>
        </p:blipFill>
        <p:spPr>
          <a:xfrm>
            <a:off x="4648320" y="2084400"/>
            <a:ext cx="3809880" cy="2792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12"/>
          <p:cNvPicPr/>
          <p:nvPr/>
        </p:nvPicPr>
        <p:blipFill>
          <a:blip r:embed="rId2"/>
          <a:stretch/>
        </p:blipFill>
        <p:spPr>
          <a:xfrm>
            <a:off x="4495680" y="1523880"/>
            <a:ext cx="4445280" cy="3733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16"/>
          <p:cNvPicPr/>
          <p:nvPr/>
        </p:nvPicPr>
        <p:blipFill>
          <a:blip r:embed="rId3"/>
          <a:stretch/>
        </p:blipFill>
        <p:spPr>
          <a:xfrm>
            <a:off x="4191120" y="1523880"/>
            <a:ext cx="4673520" cy="3633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23"/>
          <p:cNvPicPr/>
          <p:nvPr/>
        </p:nvPicPr>
        <p:blipFill>
          <a:blip r:embed="rId4"/>
          <a:stretch/>
        </p:blipFill>
        <p:spPr>
          <a:xfrm>
            <a:off x="395280" y="4149720"/>
            <a:ext cx="35290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9600" y="43920"/>
            <a:ext cx="611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Гигантские крокодил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1"/>
          <p:cNvPicPr/>
          <p:nvPr/>
        </p:nvPicPr>
        <p:blipFill>
          <a:blip r:embed="rId1"/>
          <a:stretch/>
        </p:blipFill>
        <p:spPr>
          <a:xfrm>
            <a:off x="4572000" y="1008000"/>
            <a:ext cx="4510080" cy="5805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5370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окодилы – вторичноводные животные предки, которых обитали на су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самые крупные и высокоорганизованные репти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88720" y="545760"/>
            <a:ext cx="867564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Times New Roman"/>
              </a:rPr>
              <a:t>Среди крокодилов встречаютс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ильски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крокоди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ина более 5-ти мет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Индийский гавиа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имеет длину до 6,5 метров и самую узкую и длинную среди всех крокодилов мор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Южно-американский кайма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- длина 2-4 метра. Способен издавать разнообразные звуки – от рычания и карканья до храпа и фыркань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6000" y="261720"/>
            <a:ext cx="5076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Аллигатор или крокодил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аллигатора более широкая и округлая морда, а зубы верхней челюсти при закрытой пасти располагаются снару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крокодила морда более заостренная, а зубы верхней и нижней челюстей находятся на одной ли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" descr="r00011[1]"/>
          <p:cNvPicPr/>
          <p:nvPr/>
        </p:nvPicPr>
        <p:blipFill>
          <a:blip r:embed="rId1"/>
          <a:stretch/>
        </p:blipFill>
        <p:spPr>
          <a:xfrm>
            <a:off x="6093000" y="368280"/>
            <a:ext cx="2727000" cy="363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r00007[1]"/>
          <p:cNvPicPr/>
          <p:nvPr/>
        </p:nvPicPr>
        <p:blipFill>
          <a:blip r:embed="rId2"/>
          <a:stretch/>
        </p:blipFill>
        <p:spPr>
          <a:xfrm>
            <a:off x="5292720" y="409572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38894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Избранница судь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2882880"/>
            <a:ext cx="871380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ттери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туатар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динственный вид, оставшийся от отряда клювоголов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итают они в Новой Зеланд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и животные способны жить в прохладном клима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ладают настоящим голосом, их печальное пение можно услышать туманными ноч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гатерия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28796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8">
            <a:hlinkClick r:id="" action="ppaction://hlinkshowjump?jump=firs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43" h="21600">
                <a:moveTo>
                  <a:pt x="23171" y="3837"/>
                </a:moveTo>
                <a:lnTo>
                  <a:pt x="25748" y="6448"/>
                </a:ln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lnTo>
                  <a:pt x="30134" y="10800"/>
                </a:lnTo>
                <a:lnTo>
                  <a:pt x="28481" y="10800"/>
                </a:lnTo>
                <a:lnTo>
                  <a:pt x="28481" y="17989"/>
                </a:lnTo>
                <a:lnTo>
                  <a:pt x="17862" y="17989"/>
                </a:lnTo>
                <a:lnTo>
                  <a:pt x="17862" y="10800"/>
                </a:lnTo>
                <a:lnTo>
                  <a:pt x="16209" y="10800"/>
                </a:lnTo>
                <a:close/>
              </a:path>
              <a:path fill="darkenLess" w="46343" h="21600">
                <a:moveTo>
                  <a:pt x="25748" y="6448"/>
                </a:move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close/>
              </a:path>
              <a:path fill="darkenLess" w="46343" h="21600">
                <a:moveTo>
                  <a:pt x="22249" y="14299"/>
                </a:moveTo>
                <a:lnTo>
                  <a:pt x="24094" y="14299"/>
                </a:lnTo>
                <a:lnTo>
                  <a:pt x="24094" y="17989"/>
                </a:lnTo>
                <a:lnTo>
                  <a:pt x="28481" y="17989"/>
                </a:lnTo>
                <a:lnTo>
                  <a:pt x="28481" y="10800"/>
                </a:lnTo>
                <a:lnTo>
                  <a:pt x="17862" y="10800"/>
                </a:lnTo>
                <a:lnTo>
                  <a:pt x="17862" y="17989"/>
                </a:lnTo>
                <a:lnTo>
                  <a:pt x="22249" y="17989"/>
                </a:lnTo>
                <a:close/>
              </a:path>
            </a:pathLst>
          </a:custGeom>
          <a:gradFill rotWithShape="0">
            <a:gsLst>
              <a:gs pos="0">
                <a:srgbClr val="2f1800"/>
              </a:gs>
              <a:gs pos="50000">
                <a:srgbClr val="663300"/>
              </a:gs>
              <a:gs pos="100000">
                <a:srgbClr val="2f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аступление человека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20320"/>
            <a:ext cx="417168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тилии и человек всегда много значили друг для дру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жние времена это  была естественная экологическая связь, теперь же, когда мы являемся властелинами Земли, наше влияние на жизнь рептилий возросл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00720" y="1125360"/>
            <a:ext cx="4495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история человека навсегда сохранила следы тесных отношений с этими холоднокровными животны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рептилий нашла отражение в духовой культуре всех народов в мифологических образах и религ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47"/>
            </a:gs>
            <a:gs pos="5000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3244680"/>
            <a:ext cx="41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ологии азиатских народов часто упоминаются черепахи и зме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йская мифология – сказочные змеи. Они отличались крутым нравом и безответственным пове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24280" y="333360"/>
            <a:ext cx="38102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м Египте крокодил священное животн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геральдика отводила ведущее место гремучей зм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7"/>
          <p:cNvPicPr/>
          <p:nvPr/>
        </p:nvPicPr>
        <p:blipFill>
          <a:blip r:embed="rId1"/>
          <a:stretch/>
        </p:blipFill>
        <p:spPr>
          <a:xfrm>
            <a:off x="250920" y="189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25"/>
          <p:cNvPicPr/>
          <p:nvPr/>
        </p:nvPicPr>
        <p:blipFill>
          <a:blip r:embed="rId2"/>
          <a:stretch/>
        </p:blipFill>
        <p:spPr>
          <a:xfrm>
            <a:off x="4284720" y="3292560"/>
            <a:ext cx="47163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есмыкающиеся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– это позвоночные животные, которые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йчатый покров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шат атмосферным воздухом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адывают яйца, покрытые кожистой или плотной известковой оболочкой 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меют постоянной температуры тел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47"/>
            </a:gs>
            <a:gs pos="5000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33"/>
          <p:cNvGrpSpPr/>
          <p:nvPr/>
        </p:nvGrpSpPr>
        <p:grpSpPr>
          <a:xfrm>
            <a:off x="9360" y="0"/>
            <a:ext cx="5714640" cy="6857640"/>
            <a:chOff x="9360" y="0"/>
            <a:chExt cx="5714640" cy="6857640"/>
          </a:xfrm>
        </p:grpSpPr>
        <p:pic>
          <p:nvPicPr>
            <p:cNvPr id="122" name="Picture 34" descr="P6270004"/>
            <p:cNvPicPr/>
            <p:nvPr/>
          </p:nvPicPr>
          <p:blipFill>
            <a:blip r:embed="rId1"/>
            <a:stretch/>
          </p:blipFill>
          <p:spPr>
            <a:xfrm>
              <a:off x="9360" y="0"/>
              <a:ext cx="5714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35"/>
            <p:cNvSpPr/>
            <p:nvPr/>
          </p:nvSpPr>
          <p:spPr>
            <a:xfrm>
              <a:off x="9360" y="94680"/>
              <a:ext cx="52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ластины из панциря черепах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36"/>
          <p:cNvGrpSpPr/>
          <p:nvPr/>
        </p:nvGrpSpPr>
        <p:grpSpPr>
          <a:xfrm>
            <a:off x="1219320" y="0"/>
            <a:ext cx="7924320" cy="6857640"/>
            <a:chOff x="1219320" y="0"/>
            <a:chExt cx="7924320" cy="6857640"/>
          </a:xfrm>
        </p:grpSpPr>
        <p:pic>
          <p:nvPicPr>
            <p:cNvPr id="125" name="Picture 37" descr="P6270003"/>
            <p:cNvPicPr/>
            <p:nvPr/>
          </p:nvPicPr>
          <p:blipFill>
            <a:blip r:embed="rId2"/>
            <a:stretch/>
          </p:blipFill>
          <p:spPr>
            <a:xfrm>
              <a:off x="1219320" y="0"/>
              <a:ext cx="792432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38"/>
            <p:cNvSpPr/>
            <p:nvPr/>
          </p:nvSpPr>
          <p:spPr>
            <a:xfrm>
              <a:off x="3026520" y="839520"/>
              <a:ext cx="500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ребень из панциря черепахи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и времена, когда человек активно использует рептилий в питании, изготовлении различных поделок, отлавливает их в природе, нарушая нормальное воспроизведение «экзотических домашних животных», это очень неблагоприятно влияет на их жизнь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из них находятся на грани вымирания или исчезли с лица Земли, и в этом главная вина человека перед удивительными животными, о которых сегодня была реч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30"/>
          <p:cNvGrpSpPr/>
          <p:nvPr/>
        </p:nvGrpSpPr>
        <p:grpSpPr>
          <a:xfrm>
            <a:off x="3581280" y="0"/>
            <a:ext cx="5562360" cy="6857640"/>
            <a:chOff x="3581280" y="0"/>
            <a:chExt cx="5562360" cy="6857640"/>
          </a:xfrm>
        </p:grpSpPr>
        <p:pic>
          <p:nvPicPr>
            <p:cNvPr id="129" name="Picture 31" descr="P6270002"/>
            <p:cNvPicPr/>
            <p:nvPr/>
          </p:nvPicPr>
          <p:blipFill>
            <a:blip r:embed="rId3"/>
            <a:stretch/>
          </p:blipFill>
          <p:spPr>
            <a:xfrm>
              <a:off x="3581280" y="0"/>
              <a:ext cx="556236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32"/>
            <p:cNvSpPr/>
            <p:nvPr/>
          </p:nvSpPr>
          <p:spPr>
            <a:xfrm>
              <a:off x="3976920" y="772560"/>
              <a:ext cx="49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аза из хвоста крокоди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9"/>
          <p:cNvGrpSpPr/>
          <p:nvPr/>
        </p:nvGrpSpPr>
        <p:grpSpPr>
          <a:xfrm>
            <a:off x="790560" y="0"/>
            <a:ext cx="8353440" cy="6286680"/>
            <a:chOff x="790560" y="0"/>
            <a:chExt cx="8353440" cy="6286680"/>
          </a:xfrm>
        </p:grpSpPr>
        <p:pic>
          <p:nvPicPr>
            <p:cNvPr id="132" name="Picture 40" descr="P6260008"/>
            <p:cNvPicPr/>
            <p:nvPr/>
          </p:nvPicPr>
          <p:blipFill>
            <a:blip r:embed="rId4"/>
            <a:stretch/>
          </p:blipFill>
          <p:spPr>
            <a:xfrm>
              <a:off x="790560" y="0"/>
              <a:ext cx="8353440" cy="62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41"/>
            <p:cNvSpPr/>
            <p:nvPr/>
          </p:nvSpPr>
          <p:spPr>
            <a:xfrm>
              <a:off x="5119200" y="5486400"/>
              <a:ext cx="40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зделие из змеиной кож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27"/>
          <p:cNvGrpSpPr/>
          <p:nvPr/>
        </p:nvGrpSpPr>
        <p:grpSpPr>
          <a:xfrm>
            <a:off x="9360" y="-27000"/>
            <a:ext cx="7010280" cy="6848280"/>
            <a:chOff x="9360" y="-27000"/>
            <a:chExt cx="7010280" cy="6848280"/>
          </a:xfrm>
        </p:grpSpPr>
        <p:pic>
          <p:nvPicPr>
            <p:cNvPr id="135" name="Picture 28" descr="P6260007"/>
            <p:cNvPicPr/>
            <p:nvPr/>
          </p:nvPicPr>
          <p:blipFill>
            <a:blip r:embed="rId5"/>
            <a:stretch/>
          </p:blipFill>
          <p:spPr>
            <a:xfrm>
              <a:off x="9360" y="-27000"/>
              <a:ext cx="6852960" cy="68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9"/>
            <p:cNvSpPr/>
            <p:nvPr/>
          </p:nvSpPr>
          <p:spPr>
            <a:xfrm>
              <a:off x="875520" y="285840"/>
              <a:ext cx="614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зделие из крокодиловой кож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77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47"/>
            </a:gs>
            <a:gs pos="50000">
              <a:srgbClr val="99ff99"/>
            </a:gs>
            <a:gs pos="100000">
              <a:srgbClr val="47764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5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Тревожные перспект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643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а из сложнейших задач современности – проблема замедления процесса уничтожения живой прир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птилии – неотъемлемая часть животного населения Земли. Допустить их исчезновение – значит признаться, что мы готовы расстаться со всей живой природ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15"/>
          <p:cNvPicPr/>
          <p:nvPr/>
        </p:nvPicPr>
        <p:blipFill>
          <a:blip r:embed="rId1"/>
          <a:stretch/>
        </p:blipFill>
        <p:spPr>
          <a:xfrm>
            <a:off x="4284720" y="836640"/>
            <a:ext cx="4680000" cy="3279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d_75m"/>
          <p:cNvPicPr/>
          <p:nvPr/>
        </p:nvPicPr>
        <p:blipFill>
          <a:blip r:embed="rId2"/>
          <a:stretch/>
        </p:blipFill>
        <p:spPr>
          <a:xfrm>
            <a:off x="4284720" y="4292640"/>
            <a:ext cx="4680000" cy="21733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141" name="AutoShape 12">
            <a:hlinkClick r:id="" action="ppaction://hlinkshowjump?jump=firs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43" h="21600">
                <a:moveTo>
                  <a:pt x="23171" y="3837"/>
                </a:moveTo>
                <a:lnTo>
                  <a:pt x="25748" y="6448"/>
                </a:ln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lnTo>
                  <a:pt x="30134" y="10800"/>
                </a:lnTo>
                <a:lnTo>
                  <a:pt x="28481" y="10800"/>
                </a:lnTo>
                <a:lnTo>
                  <a:pt x="28481" y="17989"/>
                </a:lnTo>
                <a:lnTo>
                  <a:pt x="17862" y="17989"/>
                </a:lnTo>
                <a:lnTo>
                  <a:pt x="17862" y="10800"/>
                </a:lnTo>
                <a:lnTo>
                  <a:pt x="16209" y="10800"/>
                </a:lnTo>
                <a:close/>
              </a:path>
              <a:path fill="darkenLess" w="46343" h="21600">
                <a:moveTo>
                  <a:pt x="25748" y="6448"/>
                </a:move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close/>
              </a:path>
              <a:path fill="darkenLess" w="46343" h="21600">
                <a:moveTo>
                  <a:pt x="22249" y="14299"/>
                </a:moveTo>
                <a:lnTo>
                  <a:pt x="24094" y="14299"/>
                </a:lnTo>
                <a:lnTo>
                  <a:pt x="24094" y="17989"/>
                </a:lnTo>
                <a:lnTo>
                  <a:pt x="28481" y="17989"/>
                </a:lnTo>
                <a:lnTo>
                  <a:pt x="28481" y="10800"/>
                </a:lnTo>
                <a:lnTo>
                  <a:pt x="17862" y="10800"/>
                </a:lnTo>
                <a:lnTo>
                  <a:pt x="17862" y="17989"/>
                </a:lnTo>
                <a:lnTo>
                  <a:pt x="22249" y="17989"/>
                </a:lnTo>
                <a:close/>
              </a:path>
            </a:pathLst>
          </a:custGeom>
          <a:gradFill rotWithShape="0">
            <a:gsLst>
              <a:gs pos="0">
                <a:srgbClr val="2f1800"/>
              </a:gs>
              <a:gs pos="50000">
                <a:srgbClr val="663300"/>
              </a:gs>
              <a:gs pos="100000">
                <a:srgbClr val="2f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о всем мире ныне существует лишь пять групп животных, которые удовлетворяют такой характеристик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583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репах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щер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ме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окод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ттерия – внешне очень похожая на ящериц, но в действительности им не родственн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142[1]"/>
          <p:cNvPicPr/>
          <p:nvPr/>
        </p:nvPicPr>
        <p:blipFill>
          <a:blip r:embed="rId1"/>
          <a:stretch/>
        </p:blipFill>
        <p:spPr>
          <a:xfrm>
            <a:off x="3995640" y="2060640"/>
            <a:ext cx="117180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146"/>
          <p:cNvPicPr/>
          <p:nvPr/>
        </p:nvPicPr>
        <p:blipFill>
          <a:blip r:embed="rId2"/>
          <a:stretch/>
        </p:blipFill>
        <p:spPr>
          <a:xfrm>
            <a:off x="7308720" y="3789360"/>
            <a:ext cx="1617840" cy="14097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7">
            <a:hlinkClick r:id="" action="ppaction://hlinkshowjump?jump=firs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43" h="21600">
                <a:moveTo>
                  <a:pt x="23171" y="3837"/>
                </a:moveTo>
                <a:lnTo>
                  <a:pt x="25748" y="6448"/>
                </a:ln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lnTo>
                  <a:pt x="30134" y="10800"/>
                </a:lnTo>
                <a:lnTo>
                  <a:pt x="28481" y="10800"/>
                </a:lnTo>
                <a:lnTo>
                  <a:pt x="28481" y="17989"/>
                </a:lnTo>
                <a:lnTo>
                  <a:pt x="17862" y="17989"/>
                </a:lnTo>
                <a:lnTo>
                  <a:pt x="17862" y="10800"/>
                </a:lnTo>
                <a:lnTo>
                  <a:pt x="16209" y="10800"/>
                </a:lnTo>
                <a:close/>
              </a:path>
              <a:path fill="darkenLess" w="46343" h="21600">
                <a:moveTo>
                  <a:pt x="25748" y="6448"/>
                </a:move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close/>
              </a:path>
              <a:path fill="darkenLess" w="46343" h="21600">
                <a:moveTo>
                  <a:pt x="22249" y="14299"/>
                </a:moveTo>
                <a:lnTo>
                  <a:pt x="24094" y="14299"/>
                </a:lnTo>
                <a:lnTo>
                  <a:pt x="24094" y="17989"/>
                </a:lnTo>
                <a:lnTo>
                  <a:pt x="28481" y="17989"/>
                </a:lnTo>
                <a:lnTo>
                  <a:pt x="28481" y="10800"/>
                </a:lnTo>
                <a:lnTo>
                  <a:pt x="17862" y="10800"/>
                </a:lnTo>
                <a:lnTo>
                  <a:pt x="17862" y="17989"/>
                </a:lnTo>
                <a:lnTo>
                  <a:pt x="22249" y="17989"/>
                </a:lnTo>
                <a:close/>
              </a:path>
            </a:pathLst>
          </a:cu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119640" cy="72072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«Золотой» век рептили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23036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мыкающиеся происходят от древних палеозойских земноводных – стегоцеф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явление рептилий на нашей планете было одним из величайших событий. Будучи первыми истинно наземными позвоночными, древние рептилии достигли поразительно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знообраз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d_12m"/>
          <p:cNvPicPr/>
          <p:nvPr/>
        </p:nvPicPr>
        <p:blipFill>
          <a:blip r:embed="rId1"/>
          <a:stretch/>
        </p:blipFill>
        <p:spPr>
          <a:xfrm>
            <a:off x="6443640" y="189000"/>
            <a:ext cx="2400480" cy="19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uzzle"/>
          <p:cNvPicPr/>
          <p:nvPr/>
        </p:nvPicPr>
        <p:blipFill>
          <a:blip r:embed="rId2"/>
          <a:stretch/>
        </p:blipFill>
        <p:spPr>
          <a:xfrm>
            <a:off x="252360" y="4611600"/>
            <a:ext cx="187164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zast_fst"/>
          <p:cNvPicPr/>
          <p:nvPr/>
        </p:nvPicPr>
        <p:blipFill>
          <a:blip r:embed="rId3"/>
          <a:stretch/>
        </p:blipFill>
        <p:spPr>
          <a:xfrm>
            <a:off x="2124000" y="5218200"/>
            <a:ext cx="1752840" cy="145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10" descr="d_75m"/>
          <p:cNvPicPr/>
          <p:nvPr/>
        </p:nvPicPr>
        <p:blipFill>
          <a:blip r:embed="rId4"/>
          <a:stretch/>
        </p:blipFill>
        <p:spPr>
          <a:xfrm>
            <a:off x="4788000" y="4851360"/>
            <a:ext cx="4038480" cy="181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Line 21"/>
          <p:cNvSpPr/>
          <p:nvPr/>
        </p:nvSpPr>
        <p:spPr>
          <a:xfrm>
            <a:off x="0" y="6858000"/>
            <a:ext cx="55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71[1]"/>
          <p:cNvPicPr/>
          <p:nvPr/>
        </p:nvPicPr>
        <p:blipFill>
          <a:blip r:embed="rId1"/>
          <a:stretch/>
        </p:blipFill>
        <p:spPr>
          <a:xfrm>
            <a:off x="9394920" y="4508640"/>
            <a:ext cx="3241440" cy="1985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276[1]"/>
          <p:cNvPicPr/>
          <p:nvPr/>
        </p:nvPicPr>
        <p:blipFill>
          <a:blip r:embed="rId2"/>
          <a:stretch/>
        </p:blipFill>
        <p:spPr>
          <a:xfrm>
            <a:off x="6659640" y="42926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72[1]"/>
          <p:cNvPicPr/>
          <p:nvPr/>
        </p:nvPicPr>
        <p:blipFill>
          <a:blip r:embed="rId3"/>
          <a:stretch/>
        </p:blipFill>
        <p:spPr>
          <a:xfrm>
            <a:off x="-2052720" y="6813720"/>
            <a:ext cx="2048040" cy="2160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6"/>
          <p:cNvSpPr/>
          <p:nvPr/>
        </p:nvSpPr>
        <p:spPr>
          <a:xfrm>
            <a:off x="144360" y="189000"/>
            <a:ext cx="8820360" cy="136836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«Золотой» век рептилий глазами современных художник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8">
            <a:hlinkClick r:id="" action="ppaction://hlinkshowjump?jump=firs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43" h="21600">
                <a:moveTo>
                  <a:pt x="23171" y="3837"/>
                </a:moveTo>
                <a:lnTo>
                  <a:pt x="25748" y="6448"/>
                </a:ln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lnTo>
                  <a:pt x="30134" y="10800"/>
                </a:lnTo>
                <a:lnTo>
                  <a:pt x="28481" y="10800"/>
                </a:lnTo>
                <a:lnTo>
                  <a:pt x="28481" y="17989"/>
                </a:lnTo>
                <a:lnTo>
                  <a:pt x="17862" y="17989"/>
                </a:lnTo>
                <a:lnTo>
                  <a:pt x="17862" y="10800"/>
                </a:lnTo>
                <a:lnTo>
                  <a:pt x="16209" y="10800"/>
                </a:lnTo>
                <a:close/>
              </a:path>
              <a:path fill="darkenLess" w="46343" h="21600">
                <a:moveTo>
                  <a:pt x="25748" y="6448"/>
                </a:move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close/>
              </a:path>
              <a:path fill="darkenLess" w="46343" h="21600">
                <a:moveTo>
                  <a:pt x="22249" y="14299"/>
                </a:moveTo>
                <a:lnTo>
                  <a:pt x="24094" y="14299"/>
                </a:lnTo>
                <a:lnTo>
                  <a:pt x="24094" y="17989"/>
                </a:lnTo>
                <a:lnTo>
                  <a:pt x="28481" y="17989"/>
                </a:lnTo>
                <a:lnTo>
                  <a:pt x="28481" y="10800"/>
                </a:lnTo>
                <a:lnTo>
                  <a:pt x="17862" y="10800"/>
                </a:lnTo>
                <a:lnTo>
                  <a:pt x="17862" y="17989"/>
                </a:lnTo>
                <a:lnTo>
                  <a:pt x="22249" y="17989"/>
                </a:lnTo>
                <a:close/>
              </a:path>
            </a:pathLst>
          </a:cu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33"/>
          <p:cNvGrpSpPr/>
          <p:nvPr/>
        </p:nvGrpSpPr>
        <p:grpSpPr>
          <a:xfrm>
            <a:off x="9453240" y="1989000"/>
            <a:ext cx="6351840" cy="2880000"/>
            <a:chOff x="9453240" y="1989000"/>
            <a:chExt cx="6351840" cy="2880000"/>
          </a:xfrm>
        </p:grpSpPr>
        <p:pic>
          <p:nvPicPr>
            <p:cNvPr id="66" name="Picture 9" descr="73[1]"/>
            <p:cNvPicPr/>
            <p:nvPr/>
          </p:nvPicPr>
          <p:blipFill>
            <a:blip r:embed="rId4"/>
            <a:stretch/>
          </p:blipFill>
          <p:spPr>
            <a:xfrm flipH="1">
              <a:off x="9453240" y="1989000"/>
              <a:ext cx="2974680" cy="21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3" descr="76"/>
            <p:cNvPicPr/>
            <p:nvPr/>
          </p:nvPicPr>
          <p:blipFill>
            <a:blip r:embed="rId5"/>
            <a:stretch/>
          </p:blipFill>
          <p:spPr>
            <a:xfrm>
              <a:off x="14422320" y="3436920"/>
              <a:ext cx="138276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9" descr="275[1]"/>
            <p:cNvPicPr/>
            <p:nvPr/>
          </p:nvPicPr>
          <p:blipFill>
            <a:blip r:embed="rId6"/>
            <a:stretch/>
          </p:blipFill>
          <p:spPr>
            <a:xfrm>
              <a:off x="12406320" y="2421000"/>
              <a:ext cx="2232000" cy="187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Разнообразие современных рептил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-то было 16 отрядов рептилий, известных по ископаемым остаткам, только четыре дожили до настоящего врем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класс Пресмыкающихся немногочислен, включает около 6000 видов и подразделяется на 4 отряд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шуйчаты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щерицы, зме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х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кодил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воголовы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ви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ттер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обитает в Новой Зеланд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4b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89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13"/>
          <p:cNvPicPr/>
          <p:nvPr/>
        </p:nvPicPr>
        <p:blipFill>
          <a:blip r:embed="rId2"/>
          <a:stretch/>
        </p:blipFill>
        <p:spPr>
          <a:xfrm>
            <a:off x="136440" y="115920"/>
            <a:ext cx="8899560" cy="667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26"/>
          <p:cNvPicPr/>
          <p:nvPr/>
        </p:nvPicPr>
        <p:blipFill>
          <a:blip r:embed="rId3"/>
          <a:stretch/>
        </p:blipFill>
        <p:spPr>
          <a:xfrm>
            <a:off x="179280" y="115920"/>
            <a:ext cx="8785440" cy="6589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11"/>
          <p:cNvPicPr/>
          <p:nvPr/>
        </p:nvPicPr>
        <p:blipFill>
          <a:blip r:embed="rId4"/>
          <a:stretch/>
        </p:blipFill>
        <p:spPr>
          <a:xfrm>
            <a:off x="179280" y="189000"/>
            <a:ext cx="8785440" cy="6377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9"/>
          <p:cNvPicPr/>
          <p:nvPr/>
        </p:nvPicPr>
        <p:blipFill>
          <a:blip r:embed="rId5"/>
          <a:stretch/>
        </p:blipFill>
        <p:spPr>
          <a:xfrm>
            <a:off x="108000" y="189000"/>
            <a:ext cx="8856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640" y="70920"/>
            <a:ext cx="280836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Ящериц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вляются хищник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ю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 конечности с коготк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уб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говой пок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хую кож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вижные ве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 свойственно явление реген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65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вают безногие (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еретен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вают двуногие (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айоло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которые меняют окраску в зависимости от времени суток, под влиянием беспокойства или испуга (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хамеле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21"/>
          <p:cNvPicPr/>
          <p:nvPr/>
        </p:nvPicPr>
        <p:blipFill>
          <a:blip r:embed="rId1"/>
          <a:stretch/>
        </p:blipFill>
        <p:spPr>
          <a:xfrm>
            <a:off x="6443640" y="189000"/>
            <a:ext cx="24382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двугоного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2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5" dur="1" fill="hold"/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12:11:17Z</dcterms:created>
  <dc:creator> </dc:creator>
  <dc:description/>
  <dc:language>en-US</dc:language>
  <cp:lastModifiedBy>Admin</cp:lastModifiedBy>
  <dcterms:modified xsi:type="dcterms:W3CDTF">2012-06-25T08:19:11Z</dcterms:modified>
  <cp:revision>65</cp:revision>
  <dc:subject/>
  <dc:title>Презентация PowerPoint</dc:title>
</cp:coreProperties>
</file>