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3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2.gif" ContentType="image/gif"/>
  <Override PartName="/ppt/media/image14.gif" ContentType="image/gif"/>
  <Override PartName="/ppt/media/image3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3.gif" ContentType="image/gif"/>
  <Override PartName="/ppt/media/image22.jpeg" ContentType="image/jpeg"/>
  <Override PartName="/ppt/media/image1.jpeg" ContentType="image/jpeg"/>
  <Override PartName="/ppt/media/image35.jpeg" ContentType="image/jpeg"/>
  <Override PartName="/ppt/media/image10.gif" ContentType="image/gif"/>
  <Override PartName="/ppt/media/image37.jpeg" ContentType="image/jpeg"/>
  <Override PartName="/ppt/media/image13.gif" ContentType="image/gif"/>
  <Override PartName="/ppt/media/image34.jpeg" ContentType="image/jpeg"/>
  <Override PartName="/ppt/media/image24.jpeg" ContentType="image/jpeg"/>
  <Override PartName="/ppt/media/image30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46.jpeg" ContentType="image/jpeg"/>
  <Override PartName="/ppt/media/image47.jpeg" ContentType="image/jpeg"/>
  <Override PartName="/ppt/media/image16.jpeg" ContentType="image/jpeg"/>
  <Override PartName="/ppt/media/image9.gif" ContentType="image/gif"/>
  <Override PartName="/ppt/media/image39.jpeg" ContentType="image/jpeg"/>
  <Override PartName="/ppt/media/image8.jpeg" ContentType="image/jpeg"/>
  <Override PartName="/ppt/media/image28.jpeg" ContentType="image/jpeg"/>
  <Override PartName="/ppt/media/whoosh.wav" ContentType="audio/x-wav"/>
  <Override PartName="/ppt/media/image11.gif" ContentType="image/gif"/>
  <Override PartName="/ppt/media/explode.wav" ContentType="audio/x-wav"/>
  <Override PartName="/ppt/media/image5.jpeg" ContentType="image/jpeg"/>
  <Override PartName="/ppt/media/image26.jpeg" ContentType="image/jpeg"/>
  <Override PartName="/ppt/media/image25.gif" ContentType="image/gif"/>
  <Override PartName="/ppt/media/image6.jpeg" ContentType="image/jpeg"/>
  <Override PartName="/ppt/media/image27.jpeg" ContentType="image/jpeg"/>
  <Override PartName="/ppt/media/image4.gif" ContentType="image/gif"/>
  <Override PartName="/ppt/media/image3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FB3D-13B3-4E50-836A-406684D49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2E68-1A26-4B06-AAA4-CAB62408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A2F3-47C2-492D-9184-B00C090F8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DCA2-0F97-4828-A6E6-1221DD6E1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3D5E-B36B-4036-8082-EB3267EA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1CFB-1C8F-45FD-9E13-DC905B1D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6D86-F58B-4291-96D9-E56085FE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A626-6F45-4117-83C1-3969FAF8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E494-39F7-48A2-A920-9931C00C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B573-06A8-41A8-9568-FE8719FD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0471-3504-45B5-B120-44852173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C22C-4ACA-4AE0-9C6D-D393B26C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5D39-2E39-4B02-A746-83E5059A17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8.jpeg"/><Relationship Id="rId3" Type="http://schemas.openxmlformats.org/officeDocument/2006/relationships/audio" Target="../media/explode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7647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5"/>
          <p:cNvSpPr txBox="1"/>
          <p:nvPr/>
        </p:nvSpPr>
        <p:spPr>
          <a:xfrm>
            <a:off x="826920" y="404640"/>
            <a:ext cx="76964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6633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ffff00"/>
                    </a:gs>
                    <a:gs pos="100000">
                      <a:srgbClr val="ff99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ресмыкающиеся</a:t>
            </a:r>
            <a:endParaRPr b="0" lang="en-US" sz="2400" spc="1" strike="noStrike">
              <a:ln w="38160">
                <a:solidFill>
                  <a:srgbClr val="6633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18"/>
          <p:cNvSpPr txBox="1"/>
          <p:nvPr/>
        </p:nvSpPr>
        <p:spPr>
          <a:xfrm>
            <a:off x="1979640" y="2852640"/>
            <a:ext cx="5086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Общая характеристи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3" name="WordArt 20"/>
          <p:cNvSpPr txBox="1"/>
          <p:nvPr/>
        </p:nvSpPr>
        <p:spPr>
          <a:xfrm>
            <a:off x="2124000" y="3500280"/>
            <a:ext cx="5086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Древние пресмыкающиес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4" name="WordArt 21"/>
          <p:cNvSpPr txBox="1"/>
          <p:nvPr/>
        </p:nvSpPr>
        <p:spPr>
          <a:xfrm>
            <a:off x="2149560" y="4292640"/>
            <a:ext cx="5086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Разнообразие современны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рептили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5" name="WordArt 22"/>
          <p:cNvSpPr txBox="1"/>
          <p:nvPr/>
        </p:nvSpPr>
        <p:spPr>
          <a:xfrm>
            <a:off x="2124000" y="5516640"/>
            <a:ext cx="5086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Наступление челове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6" name="Прямоугольник 8"/>
          <p:cNvSpPr/>
          <p:nvPr/>
        </p:nvSpPr>
        <p:spPr>
          <a:xfrm>
            <a:off x="3857760" y="0"/>
            <a:ext cx="214308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c2fff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560" y="43920"/>
            <a:ext cx="331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Зме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560" y="1481040"/>
            <a:ext cx="460692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сутствуют конеч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едвигаются за счет изгибания туловищ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имеют ве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т внутреннего уха и звуки воспринимаются брюшной поверхность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меют термолокат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йственна линь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6" descr="2"/>
          <p:cNvPicPr/>
          <p:nvPr/>
        </p:nvPicPr>
        <p:blipFill>
          <a:blip r:embed="rId1"/>
          <a:stretch/>
        </p:blipFill>
        <p:spPr>
          <a:xfrm>
            <a:off x="5148360" y="2924280"/>
            <a:ext cx="3809880" cy="3733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144[1]"/>
          <p:cNvPicPr/>
          <p:nvPr/>
        </p:nvPicPr>
        <p:blipFill>
          <a:blip r:embed="rId2"/>
          <a:stretch/>
        </p:blipFill>
        <p:spPr>
          <a:xfrm>
            <a:off x="6372360" y="549360"/>
            <a:ext cx="187488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По способу питания змеи делятс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17"/>
          <p:cNvPicPr/>
          <p:nvPr/>
        </p:nvPicPr>
        <p:blipFill>
          <a:blip r:embed="rId1"/>
          <a:stretch/>
        </p:blipFill>
        <p:spPr>
          <a:xfrm>
            <a:off x="1270080" y="1981080"/>
            <a:ext cx="2641680" cy="19814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76720" y="1773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Ядовиты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гадюка, кобр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Удавы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питон, анаконд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Ужеподобны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полоз, уж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7" descr="10"/>
          <p:cNvPicPr/>
          <p:nvPr/>
        </p:nvPicPr>
        <p:blipFill>
          <a:blip r:embed="rId2"/>
          <a:stretch/>
        </p:blipFill>
        <p:spPr>
          <a:xfrm>
            <a:off x="228600" y="2590920"/>
            <a:ext cx="4343400" cy="3378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20"/>
          <p:cNvPicPr/>
          <p:nvPr/>
        </p:nvPicPr>
        <p:blipFill>
          <a:blip r:embed="rId3"/>
          <a:stretch/>
        </p:blipFill>
        <p:spPr>
          <a:xfrm>
            <a:off x="228600" y="2590920"/>
            <a:ext cx="4470480" cy="3352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145[1]"/>
          <p:cNvPicPr/>
          <p:nvPr/>
        </p:nvPicPr>
        <p:blipFill>
          <a:blip r:embed="rId4"/>
          <a:stretch/>
        </p:blipFill>
        <p:spPr>
          <a:xfrm>
            <a:off x="7238880" y="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98" dur="1" fill="hold"/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Неуязвимые черепах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6" descr="22"/>
          <p:cNvPicPr/>
          <p:nvPr/>
        </p:nvPicPr>
        <p:blipFill>
          <a:blip r:embed="rId1"/>
          <a:stretch/>
        </p:blipFill>
        <p:spPr>
          <a:xfrm>
            <a:off x="647640" y="4005360"/>
            <a:ext cx="3780000" cy="2835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00720" y="1125000"/>
            <a:ext cx="45352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ни тяжеловесен панцирь, но именно он помог черепахам успешно просуществовать долгих 175 мл. л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рма панциря зависит от способа существования вида. У морских панцирь тоньше, поэтому они самые быстроходные рептил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7" descr="19"/>
          <p:cNvPicPr/>
          <p:nvPr/>
        </p:nvPicPr>
        <p:blipFill>
          <a:blip r:embed="rId2"/>
          <a:stretch/>
        </p:blipFill>
        <p:spPr>
          <a:xfrm>
            <a:off x="647640" y="1125360"/>
            <a:ext cx="3780000" cy="2835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149[1]"/>
          <p:cNvPicPr/>
          <p:nvPr/>
        </p:nvPicPr>
        <p:blipFill>
          <a:blip r:embed="rId3"/>
          <a:stretch/>
        </p:blipFill>
        <p:spPr>
          <a:xfrm>
            <a:off x="755640" y="260280"/>
            <a:ext cx="1457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7640" y="11592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наземных черепах панцирь легкий и тонкий, он хорошо защищает от врагов и потери влаг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нечности приспособлены для хожд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6" descr="11"/>
          <p:cNvPicPr/>
          <p:nvPr/>
        </p:nvPicPr>
        <p:blipFill>
          <a:blip r:embed="rId1"/>
          <a:stretch/>
        </p:blipFill>
        <p:spPr>
          <a:xfrm>
            <a:off x="4648320" y="2084400"/>
            <a:ext cx="3809880" cy="2792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12"/>
          <p:cNvPicPr/>
          <p:nvPr/>
        </p:nvPicPr>
        <p:blipFill>
          <a:blip r:embed="rId2"/>
          <a:stretch/>
        </p:blipFill>
        <p:spPr>
          <a:xfrm>
            <a:off x="4495680" y="1523880"/>
            <a:ext cx="4445280" cy="3733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16"/>
          <p:cNvPicPr/>
          <p:nvPr/>
        </p:nvPicPr>
        <p:blipFill>
          <a:blip r:embed="rId3"/>
          <a:stretch/>
        </p:blipFill>
        <p:spPr>
          <a:xfrm>
            <a:off x="4191120" y="1523880"/>
            <a:ext cx="4673520" cy="3633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23"/>
          <p:cNvPicPr/>
          <p:nvPr/>
        </p:nvPicPr>
        <p:blipFill>
          <a:blip r:embed="rId4"/>
          <a:stretch/>
        </p:blipFill>
        <p:spPr>
          <a:xfrm>
            <a:off x="395280" y="4149720"/>
            <a:ext cx="352908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9600" y="43920"/>
            <a:ext cx="611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Гигантские крокодил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6" descr="1"/>
          <p:cNvPicPr/>
          <p:nvPr/>
        </p:nvPicPr>
        <p:blipFill>
          <a:blip r:embed="rId1"/>
          <a:stretch/>
        </p:blipFill>
        <p:spPr>
          <a:xfrm>
            <a:off x="4572000" y="1008000"/>
            <a:ext cx="4510080" cy="58057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45370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окодилы – вторичноводные животные предки, которых обитали на суш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о самые крупные и высокоорганизованные рептил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88720" y="545760"/>
            <a:ext cx="8675640" cy="54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63300"/>
                </a:solidFill>
                <a:uFillTx/>
                <a:latin typeface="Times New Roman"/>
              </a:rPr>
              <a:t>Среди крокодилов встречаются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Нильский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крокоди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лина более 5-ти метр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Индийский гавиа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имеет длину до 6,5 метров и самую узкую и длинную среди всех крокодилов морд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Южно-американский кайман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- длина 2-4 метра. Способен издавать разнообразные звуки – от рычания и карканья до храпа и фыркань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16000" y="261720"/>
            <a:ext cx="50767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Аллигатор или крокодил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аллигатора более широкая и округлая морда, а зубы верхней челюсти при закрытой пасти располагаются снаруж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крокодила морда более заостренная, а зубы верхней и нижней челюстей находятся на одной лин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" descr="r00011[1]"/>
          <p:cNvPicPr/>
          <p:nvPr/>
        </p:nvPicPr>
        <p:blipFill>
          <a:blip r:embed="rId1"/>
          <a:stretch/>
        </p:blipFill>
        <p:spPr>
          <a:xfrm>
            <a:off x="6093000" y="368280"/>
            <a:ext cx="2727000" cy="3637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8" descr="r00007[1]"/>
          <p:cNvPicPr/>
          <p:nvPr/>
        </p:nvPicPr>
        <p:blipFill>
          <a:blip r:embed="rId2"/>
          <a:stretch/>
        </p:blipFill>
        <p:spPr>
          <a:xfrm>
            <a:off x="5292720" y="4095720"/>
            <a:ext cx="35272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38894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Избранница судьб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2882880"/>
            <a:ext cx="871380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аттери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туатар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динственный вид, оставшийся от отряда клювоголовы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итают они в Новой Зеланд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и животные способны жить в прохладном климат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ладают настоящим голосом, их печальное пение можно услышать туманными ноч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7" descr="гатерия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287964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8">
            <a:hlinkClick r:id="" action="ppaction://hlinkshowjump?jump=firstslide"/>
          </p:cNvPr>
          <p:cNvSpPr/>
          <p:nvPr/>
        </p:nvSpPr>
        <p:spPr>
          <a:xfrm>
            <a:off x="7812000" y="6237360"/>
            <a:ext cx="1332000" cy="620640"/>
          </a:xfrm>
          <a:custGeom>
            <a:avLst/>
            <a:gdLst>
              <a:gd name="textAreaLeft" fmla="*/ 39960 w 1332000"/>
              <a:gd name="textAreaRight" fmla="*/ 1292040 w 1332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6343" h="21600">
                <a:moveTo>
                  <a:pt x="0" y="0"/>
                </a:moveTo>
                <a:lnTo>
                  <a:pt x="46343" y="0"/>
                </a:lnTo>
                <a:lnTo>
                  <a:pt x="46343" y="21600"/>
                </a:lnTo>
                <a:lnTo>
                  <a:pt x="0" y="21600"/>
                </a:lnTo>
                <a:close/>
              </a:path>
              <a:path fill="lightenLess" w="46343" h="21600">
                <a:moveTo>
                  <a:pt x="0" y="0"/>
                </a:moveTo>
                <a:lnTo>
                  <a:pt x="46343" y="0"/>
                </a:lnTo>
                <a:lnTo>
                  <a:pt x="44943" y="1400"/>
                </a:lnTo>
                <a:lnTo>
                  <a:pt x="1400" y="1400"/>
                </a:lnTo>
                <a:close/>
              </a:path>
              <a:path fill="darken" w="46343" h="21600">
                <a:moveTo>
                  <a:pt x="46343" y="0"/>
                </a:moveTo>
                <a:lnTo>
                  <a:pt x="46343" y="21600"/>
                </a:lnTo>
                <a:lnTo>
                  <a:pt x="44943" y="20200"/>
                </a:lnTo>
                <a:lnTo>
                  <a:pt x="44943" y="1400"/>
                </a:lnTo>
                <a:close/>
              </a:path>
              <a:path fill="darkenLess" w="46343" h="21600">
                <a:moveTo>
                  <a:pt x="46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43" y="20200"/>
                </a:lnTo>
                <a:close/>
              </a:path>
              <a:path fill="lighten" w="46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43" h="21600">
                <a:moveTo>
                  <a:pt x="23171" y="3837"/>
                </a:moveTo>
                <a:lnTo>
                  <a:pt x="25748" y="6448"/>
                </a:lnTo>
                <a:lnTo>
                  <a:pt x="25748" y="4707"/>
                </a:lnTo>
                <a:lnTo>
                  <a:pt x="27523" y="4707"/>
                </a:lnTo>
                <a:lnTo>
                  <a:pt x="27523" y="8224"/>
                </a:lnTo>
                <a:lnTo>
                  <a:pt x="30134" y="10800"/>
                </a:lnTo>
                <a:lnTo>
                  <a:pt x="28481" y="10800"/>
                </a:lnTo>
                <a:lnTo>
                  <a:pt x="28481" y="17989"/>
                </a:lnTo>
                <a:lnTo>
                  <a:pt x="17862" y="17989"/>
                </a:lnTo>
                <a:lnTo>
                  <a:pt x="17862" y="10800"/>
                </a:lnTo>
                <a:lnTo>
                  <a:pt x="16209" y="10800"/>
                </a:lnTo>
                <a:close/>
              </a:path>
              <a:path fill="darkenLess" w="46343" h="21600">
                <a:moveTo>
                  <a:pt x="25748" y="6448"/>
                </a:moveTo>
                <a:lnTo>
                  <a:pt x="25748" y="4707"/>
                </a:lnTo>
                <a:lnTo>
                  <a:pt x="27523" y="4707"/>
                </a:lnTo>
                <a:lnTo>
                  <a:pt x="27523" y="8224"/>
                </a:lnTo>
                <a:close/>
              </a:path>
              <a:path fill="darkenLess" w="46343" h="21600">
                <a:moveTo>
                  <a:pt x="22249" y="14299"/>
                </a:moveTo>
                <a:lnTo>
                  <a:pt x="24094" y="14299"/>
                </a:lnTo>
                <a:lnTo>
                  <a:pt x="24094" y="17989"/>
                </a:lnTo>
                <a:lnTo>
                  <a:pt x="28481" y="17989"/>
                </a:lnTo>
                <a:lnTo>
                  <a:pt x="28481" y="10800"/>
                </a:lnTo>
                <a:lnTo>
                  <a:pt x="17862" y="10800"/>
                </a:lnTo>
                <a:lnTo>
                  <a:pt x="17862" y="17989"/>
                </a:lnTo>
                <a:lnTo>
                  <a:pt x="22249" y="17989"/>
                </a:lnTo>
                <a:close/>
              </a:path>
            </a:pathLst>
          </a:custGeom>
          <a:gradFill rotWithShape="0">
            <a:gsLst>
              <a:gs pos="0">
                <a:srgbClr val="2f1800"/>
              </a:gs>
              <a:gs pos="50000">
                <a:srgbClr val="663300"/>
              </a:gs>
              <a:gs pos="100000">
                <a:srgbClr val="2f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776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Наступление человека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120320"/>
            <a:ext cx="4171680" cy="51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тилии и человек всегда много значили друг для дру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ежние времена это  была естественная экологическая связь, теперь же, когда мы являемся властелинами Земли, наше влияние на жизнь рептилий возросл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00720" y="1125360"/>
            <a:ext cx="44956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история человека навсегда сохранила следы тесных отношений с этими холоднокровными животным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рептилий нашла отражение в духовой культуре всех народов в мифологических образах и религ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7647"/>
            </a:gs>
            <a:gs pos="50000">
              <a:srgbClr val="99ff99"/>
            </a:gs>
            <a:gs pos="100000">
              <a:srgbClr val="4776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50920" y="3244680"/>
            <a:ext cx="4100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ифологии азиатских народов часто упоминаются черепахи и зме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йская мифология – сказочные змеи. Они отличались крутым нравом и безответственным поведени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24280" y="333360"/>
            <a:ext cx="38102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ревнем Египте крокодил священное животно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ая геральдика отводила ведущее место гремучей зме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6" descr="7"/>
          <p:cNvPicPr/>
          <p:nvPr/>
        </p:nvPicPr>
        <p:blipFill>
          <a:blip r:embed="rId1"/>
          <a:stretch/>
        </p:blipFill>
        <p:spPr>
          <a:xfrm>
            <a:off x="250920" y="18900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25"/>
          <p:cNvPicPr/>
          <p:nvPr/>
        </p:nvPicPr>
        <p:blipFill>
          <a:blip r:embed="rId2"/>
          <a:stretch/>
        </p:blipFill>
        <p:spPr>
          <a:xfrm>
            <a:off x="4284720" y="3292560"/>
            <a:ext cx="471636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776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8785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есмыкающиеся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– это позвоночные животные, которые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т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йчатый покров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шат атмосферным воздухом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ладывают яйца, покрытые кожистой или плотной известковой оболочкой 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меют постоянной температуры тела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7647"/>
            </a:gs>
            <a:gs pos="50000">
              <a:srgbClr val="99ff99"/>
            </a:gs>
            <a:gs pos="100000">
              <a:srgbClr val="4776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33"/>
          <p:cNvGrpSpPr/>
          <p:nvPr/>
        </p:nvGrpSpPr>
        <p:grpSpPr>
          <a:xfrm>
            <a:off x="9360" y="0"/>
            <a:ext cx="5714640" cy="6857640"/>
            <a:chOff x="9360" y="0"/>
            <a:chExt cx="5714640" cy="6857640"/>
          </a:xfrm>
        </p:grpSpPr>
        <p:pic>
          <p:nvPicPr>
            <p:cNvPr id="122" name="Picture 34" descr="P6270004"/>
            <p:cNvPicPr/>
            <p:nvPr/>
          </p:nvPicPr>
          <p:blipFill>
            <a:blip r:embed="rId1"/>
            <a:stretch/>
          </p:blipFill>
          <p:spPr>
            <a:xfrm>
              <a:off x="9360" y="0"/>
              <a:ext cx="5714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35"/>
            <p:cNvSpPr/>
            <p:nvPr/>
          </p:nvSpPr>
          <p:spPr>
            <a:xfrm>
              <a:off x="9360" y="94680"/>
              <a:ext cx="522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Пластины из панциря черепах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36"/>
          <p:cNvGrpSpPr/>
          <p:nvPr/>
        </p:nvGrpSpPr>
        <p:grpSpPr>
          <a:xfrm>
            <a:off x="1219320" y="0"/>
            <a:ext cx="7924320" cy="6857640"/>
            <a:chOff x="1219320" y="0"/>
            <a:chExt cx="7924320" cy="6857640"/>
          </a:xfrm>
        </p:grpSpPr>
        <p:pic>
          <p:nvPicPr>
            <p:cNvPr id="125" name="Picture 37" descr="P6270003"/>
            <p:cNvPicPr/>
            <p:nvPr/>
          </p:nvPicPr>
          <p:blipFill>
            <a:blip r:embed="rId2"/>
            <a:stretch/>
          </p:blipFill>
          <p:spPr>
            <a:xfrm>
              <a:off x="1219320" y="0"/>
              <a:ext cx="792432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38"/>
            <p:cNvSpPr/>
            <p:nvPr/>
          </p:nvSpPr>
          <p:spPr>
            <a:xfrm>
              <a:off x="3026520" y="839520"/>
              <a:ext cx="500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Гребень из панциря черепахи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и времена, когда человек активно использует рептилий в питании, изготовлении различных поделок, отлавливает их в природе, нарушая нормальное воспроизведение «экзотических домашних животных», это очень неблагоприятно влияет на их жизнь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из них находятся на грани вымирания или исчезли с лица Земли, и в этом главная вина человека перед удивительными животными, о которых сегодня была реч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30"/>
          <p:cNvGrpSpPr/>
          <p:nvPr/>
        </p:nvGrpSpPr>
        <p:grpSpPr>
          <a:xfrm>
            <a:off x="3581280" y="0"/>
            <a:ext cx="5562360" cy="6857640"/>
            <a:chOff x="3581280" y="0"/>
            <a:chExt cx="5562360" cy="6857640"/>
          </a:xfrm>
        </p:grpSpPr>
        <p:pic>
          <p:nvPicPr>
            <p:cNvPr id="129" name="Picture 31" descr="P6270002"/>
            <p:cNvPicPr/>
            <p:nvPr/>
          </p:nvPicPr>
          <p:blipFill>
            <a:blip r:embed="rId3"/>
            <a:stretch/>
          </p:blipFill>
          <p:spPr>
            <a:xfrm>
              <a:off x="3581280" y="0"/>
              <a:ext cx="556236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32"/>
            <p:cNvSpPr/>
            <p:nvPr/>
          </p:nvSpPr>
          <p:spPr>
            <a:xfrm>
              <a:off x="3976920" y="772560"/>
              <a:ext cx="49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аза из хвоста крокодил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39"/>
          <p:cNvGrpSpPr/>
          <p:nvPr/>
        </p:nvGrpSpPr>
        <p:grpSpPr>
          <a:xfrm>
            <a:off x="790560" y="0"/>
            <a:ext cx="8353440" cy="6286680"/>
            <a:chOff x="790560" y="0"/>
            <a:chExt cx="8353440" cy="6286680"/>
          </a:xfrm>
        </p:grpSpPr>
        <p:pic>
          <p:nvPicPr>
            <p:cNvPr id="132" name="Picture 40" descr="P6260008"/>
            <p:cNvPicPr/>
            <p:nvPr/>
          </p:nvPicPr>
          <p:blipFill>
            <a:blip r:embed="rId4"/>
            <a:stretch/>
          </p:blipFill>
          <p:spPr>
            <a:xfrm>
              <a:off x="790560" y="0"/>
              <a:ext cx="8353440" cy="628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41"/>
            <p:cNvSpPr/>
            <p:nvPr/>
          </p:nvSpPr>
          <p:spPr>
            <a:xfrm>
              <a:off x="5119200" y="5486400"/>
              <a:ext cx="40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Изделие из змеиной кож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Group 27"/>
          <p:cNvGrpSpPr/>
          <p:nvPr/>
        </p:nvGrpSpPr>
        <p:grpSpPr>
          <a:xfrm>
            <a:off x="9360" y="-27000"/>
            <a:ext cx="7010280" cy="6848280"/>
            <a:chOff x="9360" y="-27000"/>
            <a:chExt cx="7010280" cy="6848280"/>
          </a:xfrm>
        </p:grpSpPr>
        <p:pic>
          <p:nvPicPr>
            <p:cNvPr id="135" name="Picture 28" descr="P6260007"/>
            <p:cNvPicPr/>
            <p:nvPr/>
          </p:nvPicPr>
          <p:blipFill>
            <a:blip r:embed="rId5"/>
            <a:stretch/>
          </p:blipFill>
          <p:spPr>
            <a:xfrm>
              <a:off x="9360" y="-27000"/>
              <a:ext cx="6852960" cy="684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29"/>
            <p:cNvSpPr/>
            <p:nvPr/>
          </p:nvSpPr>
          <p:spPr>
            <a:xfrm>
              <a:off x="875520" y="285840"/>
              <a:ext cx="614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Изделие из крокодиловой кож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77" dur="1" fill="hold"/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7647"/>
            </a:gs>
            <a:gs pos="50000">
              <a:srgbClr val="99ff99"/>
            </a:gs>
            <a:gs pos="100000">
              <a:srgbClr val="47764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560" y="0"/>
            <a:ext cx="91090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Тревожные перспекти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46432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дна из сложнейших задач современности – проблема замедления процесса уничтожения живой природ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птилии – неотъемлемая часть животного населения Земли. Допустить их исчезновение – значит признаться, что мы готовы расстаться со всей живой природ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15"/>
          <p:cNvPicPr/>
          <p:nvPr/>
        </p:nvPicPr>
        <p:blipFill>
          <a:blip r:embed="rId1"/>
          <a:stretch/>
        </p:blipFill>
        <p:spPr>
          <a:xfrm>
            <a:off x="4284720" y="836640"/>
            <a:ext cx="4680000" cy="3279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d_75m"/>
          <p:cNvPicPr/>
          <p:nvPr/>
        </p:nvPicPr>
        <p:blipFill>
          <a:blip r:embed="rId2"/>
          <a:stretch/>
        </p:blipFill>
        <p:spPr>
          <a:xfrm>
            <a:off x="4284720" y="4292640"/>
            <a:ext cx="4680000" cy="21733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141" name="AutoShape 12">
            <a:hlinkClick r:id="" action="ppaction://hlinkshowjump?jump=firstslide"/>
          </p:cNvPr>
          <p:cNvSpPr/>
          <p:nvPr/>
        </p:nvSpPr>
        <p:spPr>
          <a:xfrm>
            <a:off x="7812000" y="6237360"/>
            <a:ext cx="1332000" cy="620640"/>
          </a:xfrm>
          <a:custGeom>
            <a:avLst/>
            <a:gdLst>
              <a:gd name="textAreaLeft" fmla="*/ 39960 w 1332000"/>
              <a:gd name="textAreaRight" fmla="*/ 1292040 w 1332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6343" h="21600">
                <a:moveTo>
                  <a:pt x="0" y="0"/>
                </a:moveTo>
                <a:lnTo>
                  <a:pt x="46343" y="0"/>
                </a:lnTo>
                <a:lnTo>
                  <a:pt x="46343" y="21600"/>
                </a:lnTo>
                <a:lnTo>
                  <a:pt x="0" y="21600"/>
                </a:lnTo>
                <a:close/>
              </a:path>
              <a:path fill="lightenLess" w="46343" h="21600">
                <a:moveTo>
                  <a:pt x="0" y="0"/>
                </a:moveTo>
                <a:lnTo>
                  <a:pt x="46343" y="0"/>
                </a:lnTo>
                <a:lnTo>
                  <a:pt x="44943" y="1400"/>
                </a:lnTo>
                <a:lnTo>
                  <a:pt x="1400" y="1400"/>
                </a:lnTo>
                <a:close/>
              </a:path>
              <a:path fill="darken" w="46343" h="21600">
                <a:moveTo>
                  <a:pt x="46343" y="0"/>
                </a:moveTo>
                <a:lnTo>
                  <a:pt x="46343" y="21600"/>
                </a:lnTo>
                <a:lnTo>
                  <a:pt x="44943" y="20200"/>
                </a:lnTo>
                <a:lnTo>
                  <a:pt x="44943" y="1400"/>
                </a:lnTo>
                <a:close/>
              </a:path>
              <a:path fill="darkenLess" w="46343" h="21600">
                <a:moveTo>
                  <a:pt x="46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43" y="20200"/>
                </a:lnTo>
                <a:close/>
              </a:path>
              <a:path fill="lighten" w="46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43" h="21600">
                <a:moveTo>
                  <a:pt x="23171" y="3837"/>
                </a:moveTo>
                <a:lnTo>
                  <a:pt x="25748" y="6448"/>
                </a:lnTo>
                <a:lnTo>
                  <a:pt x="25748" y="4707"/>
                </a:lnTo>
                <a:lnTo>
                  <a:pt x="27523" y="4707"/>
                </a:lnTo>
                <a:lnTo>
                  <a:pt x="27523" y="8224"/>
                </a:lnTo>
                <a:lnTo>
                  <a:pt x="30134" y="10800"/>
                </a:lnTo>
                <a:lnTo>
                  <a:pt x="28481" y="10800"/>
                </a:lnTo>
                <a:lnTo>
                  <a:pt x="28481" y="17989"/>
                </a:lnTo>
                <a:lnTo>
                  <a:pt x="17862" y="17989"/>
                </a:lnTo>
                <a:lnTo>
                  <a:pt x="17862" y="10800"/>
                </a:lnTo>
                <a:lnTo>
                  <a:pt x="16209" y="10800"/>
                </a:lnTo>
                <a:close/>
              </a:path>
              <a:path fill="darkenLess" w="46343" h="21600">
                <a:moveTo>
                  <a:pt x="25748" y="6448"/>
                </a:moveTo>
                <a:lnTo>
                  <a:pt x="25748" y="4707"/>
                </a:lnTo>
                <a:lnTo>
                  <a:pt x="27523" y="4707"/>
                </a:lnTo>
                <a:lnTo>
                  <a:pt x="27523" y="8224"/>
                </a:lnTo>
                <a:close/>
              </a:path>
              <a:path fill="darkenLess" w="46343" h="21600">
                <a:moveTo>
                  <a:pt x="22249" y="14299"/>
                </a:moveTo>
                <a:lnTo>
                  <a:pt x="24094" y="14299"/>
                </a:lnTo>
                <a:lnTo>
                  <a:pt x="24094" y="17989"/>
                </a:lnTo>
                <a:lnTo>
                  <a:pt x="28481" y="17989"/>
                </a:lnTo>
                <a:lnTo>
                  <a:pt x="28481" y="10800"/>
                </a:lnTo>
                <a:lnTo>
                  <a:pt x="17862" y="10800"/>
                </a:lnTo>
                <a:lnTo>
                  <a:pt x="17862" y="17989"/>
                </a:lnTo>
                <a:lnTo>
                  <a:pt x="22249" y="17989"/>
                </a:lnTo>
                <a:close/>
              </a:path>
            </a:pathLst>
          </a:custGeom>
          <a:gradFill rotWithShape="0">
            <a:gsLst>
              <a:gs pos="0">
                <a:srgbClr val="2f1800"/>
              </a:gs>
              <a:gs pos="50000">
                <a:srgbClr val="663300"/>
              </a:gs>
              <a:gs pos="100000">
                <a:srgbClr val="2f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776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о всем мире ныне существует лишь пять групп животных, которые удовлетворяют такой характеристике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2276640"/>
            <a:ext cx="5833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репах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щериц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ме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окод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аттерия – внешне очень похожая на ящериц, но в действительности им не родственна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142[1]"/>
          <p:cNvPicPr/>
          <p:nvPr/>
        </p:nvPicPr>
        <p:blipFill>
          <a:blip r:embed="rId1"/>
          <a:stretch/>
        </p:blipFill>
        <p:spPr>
          <a:xfrm>
            <a:off x="3995640" y="2060640"/>
            <a:ext cx="1171800" cy="122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146"/>
          <p:cNvPicPr/>
          <p:nvPr/>
        </p:nvPicPr>
        <p:blipFill>
          <a:blip r:embed="rId2"/>
          <a:stretch/>
        </p:blipFill>
        <p:spPr>
          <a:xfrm>
            <a:off x="7308720" y="3789360"/>
            <a:ext cx="1617840" cy="140976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17">
            <a:hlinkClick r:id="" action="ppaction://hlinkshowjump?jump=firstslide"/>
          </p:cNvPr>
          <p:cNvSpPr/>
          <p:nvPr/>
        </p:nvSpPr>
        <p:spPr>
          <a:xfrm>
            <a:off x="7812000" y="6237360"/>
            <a:ext cx="1332000" cy="620640"/>
          </a:xfrm>
          <a:custGeom>
            <a:avLst/>
            <a:gdLst>
              <a:gd name="textAreaLeft" fmla="*/ 39960 w 1332000"/>
              <a:gd name="textAreaRight" fmla="*/ 1292040 w 1332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6343" h="21600">
                <a:moveTo>
                  <a:pt x="0" y="0"/>
                </a:moveTo>
                <a:lnTo>
                  <a:pt x="46343" y="0"/>
                </a:lnTo>
                <a:lnTo>
                  <a:pt x="46343" y="21600"/>
                </a:lnTo>
                <a:lnTo>
                  <a:pt x="0" y="21600"/>
                </a:lnTo>
                <a:close/>
              </a:path>
              <a:path fill="lightenLess" w="46343" h="21600">
                <a:moveTo>
                  <a:pt x="0" y="0"/>
                </a:moveTo>
                <a:lnTo>
                  <a:pt x="46343" y="0"/>
                </a:lnTo>
                <a:lnTo>
                  <a:pt x="44943" y="1400"/>
                </a:lnTo>
                <a:lnTo>
                  <a:pt x="1400" y="1400"/>
                </a:lnTo>
                <a:close/>
              </a:path>
              <a:path fill="darken" w="46343" h="21600">
                <a:moveTo>
                  <a:pt x="46343" y="0"/>
                </a:moveTo>
                <a:lnTo>
                  <a:pt x="46343" y="21600"/>
                </a:lnTo>
                <a:lnTo>
                  <a:pt x="44943" y="20200"/>
                </a:lnTo>
                <a:lnTo>
                  <a:pt x="44943" y="1400"/>
                </a:lnTo>
                <a:close/>
              </a:path>
              <a:path fill="darkenLess" w="46343" h="21600">
                <a:moveTo>
                  <a:pt x="46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43" y="20200"/>
                </a:lnTo>
                <a:close/>
              </a:path>
              <a:path fill="lighten" w="46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43" h="21600">
                <a:moveTo>
                  <a:pt x="23171" y="3837"/>
                </a:moveTo>
                <a:lnTo>
                  <a:pt x="25748" y="6448"/>
                </a:lnTo>
                <a:lnTo>
                  <a:pt x="25748" y="4707"/>
                </a:lnTo>
                <a:lnTo>
                  <a:pt x="27523" y="4707"/>
                </a:lnTo>
                <a:lnTo>
                  <a:pt x="27523" y="8224"/>
                </a:lnTo>
                <a:lnTo>
                  <a:pt x="30134" y="10800"/>
                </a:lnTo>
                <a:lnTo>
                  <a:pt x="28481" y="10800"/>
                </a:lnTo>
                <a:lnTo>
                  <a:pt x="28481" y="17989"/>
                </a:lnTo>
                <a:lnTo>
                  <a:pt x="17862" y="17989"/>
                </a:lnTo>
                <a:lnTo>
                  <a:pt x="17862" y="10800"/>
                </a:lnTo>
                <a:lnTo>
                  <a:pt x="16209" y="10800"/>
                </a:lnTo>
                <a:close/>
              </a:path>
              <a:path fill="darkenLess" w="46343" h="21600">
                <a:moveTo>
                  <a:pt x="25748" y="6448"/>
                </a:moveTo>
                <a:lnTo>
                  <a:pt x="25748" y="4707"/>
                </a:lnTo>
                <a:lnTo>
                  <a:pt x="27523" y="4707"/>
                </a:lnTo>
                <a:lnTo>
                  <a:pt x="27523" y="8224"/>
                </a:lnTo>
                <a:close/>
              </a:path>
              <a:path fill="darkenLess" w="46343" h="21600">
                <a:moveTo>
                  <a:pt x="22249" y="14299"/>
                </a:moveTo>
                <a:lnTo>
                  <a:pt x="24094" y="14299"/>
                </a:lnTo>
                <a:lnTo>
                  <a:pt x="24094" y="17989"/>
                </a:lnTo>
                <a:lnTo>
                  <a:pt x="28481" y="17989"/>
                </a:lnTo>
                <a:lnTo>
                  <a:pt x="28481" y="10800"/>
                </a:lnTo>
                <a:lnTo>
                  <a:pt x="17862" y="10800"/>
                </a:lnTo>
                <a:lnTo>
                  <a:pt x="17862" y="17989"/>
                </a:lnTo>
                <a:lnTo>
                  <a:pt x="22249" y="17989"/>
                </a:lnTo>
                <a:close/>
              </a:path>
            </a:pathLst>
          </a:custGeom>
          <a:gradFill rotWithShape="0">
            <a:gsLst>
              <a:gs pos="0">
                <a:srgbClr val="185e18"/>
              </a:gs>
              <a:gs pos="50000">
                <a:srgbClr val="33cc33"/>
              </a:gs>
              <a:gs pos="100000">
                <a:srgbClr val="185e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5e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6119640" cy="72072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«Золотой» век рептилий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8569080" cy="230364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txBody>
          <a:bodyPr anchor="t">
            <a:normAutofit fontScale="97000"/>
          </a:bodyPr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мыкающиеся происходят от древних палеозойских земноводных – стегоцефал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явление рептилий на нашей планете было одним из величайших событий. Будучи первыми истинно наземными позвоночными, древние рептилии достигли поразительног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разнообразия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d_12m"/>
          <p:cNvPicPr/>
          <p:nvPr/>
        </p:nvPicPr>
        <p:blipFill>
          <a:blip r:embed="rId1"/>
          <a:stretch/>
        </p:blipFill>
        <p:spPr>
          <a:xfrm>
            <a:off x="6443640" y="189000"/>
            <a:ext cx="2400480" cy="1914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puzzle"/>
          <p:cNvPicPr/>
          <p:nvPr/>
        </p:nvPicPr>
        <p:blipFill>
          <a:blip r:embed="rId2"/>
          <a:stretch/>
        </p:blipFill>
        <p:spPr>
          <a:xfrm>
            <a:off x="252360" y="4611600"/>
            <a:ext cx="1871640" cy="205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zast_fst"/>
          <p:cNvPicPr/>
          <p:nvPr/>
        </p:nvPicPr>
        <p:blipFill>
          <a:blip r:embed="rId3"/>
          <a:stretch/>
        </p:blipFill>
        <p:spPr>
          <a:xfrm>
            <a:off x="2124000" y="5218200"/>
            <a:ext cx="1752840" cy="1450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Picture 10" descr="d_75m"/>
          <p:cNvPicPr/>
          <p:nvPr/>
        </p:nvPicPr>
        <p:blipFill>
          <a:blip r:embed="rId4"/>
          <a:stretch/>
        </p:blipFill>
        <p:spPr>
          <a:xfrm>
            <a:off x="4788000" y="4851360"/>
            <a:ext cx="4038480" cy="181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" name="Line 21"/>
          <p:cNvSpPr/>
          <p:nvPr/>
        </p:nvSpPr>
        <p:spPr>
          <a:xfrm>
            <a:off x="0" y="6858000"/>
            <a:ext cx="55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5e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71[1]"/>
          <p:cNvPicPr/>
          <p:nvPr/>
        </p:nvPicPr>
        <p:blipFill>
          <a:blip r:embed="rId1"/>
          <a:stretch/>
        </p:blipFill>
        <p:spPr>
          <a:xfrm>
            <a:off x="9394920" y="4508640"/>
            <a:ext cx="3241440" cy="1985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276[1]"/>
          <p:cNvPicPr/>
          <p:nvPr/>
        </p:nvPicPr>
        <p:blipFill>
          <a:blip r:embed="rId2"/>
          <a:stretch/>
        </p:blipFill>
        <p:spPr>
          <a:xfrm>
            <a:off x="6659640" y="429264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72[1]"/>
          <p:cNvPicPr/>
          <p:nvPr/>
        </p:nvPicPr>
        <p:blipFill>
          <a:blip r:embed="rId3"/>
          <a:stretch/>
        </p:blipFill>
        <p:spPr>
          <a:xfrm>
            <a:off x="-2052720" y="6813720"/>
            <a:ext cx="2048040" cy="21603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6"/>
          <p:cNvSpPr/>
          <p:nvPr/>
        </p:nvSpPr>
        <p:spPr>
          <a:xfrm>
            <a:off x="144360" y="189000"/>
            <a:ext cx="8820360" cy="136836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«Золотой» век рептилий глазами современных художников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8">
            <a:hlinkClick r:id="" action="ppaction://hlinkshowjump?jump=firstslide"/>
          </p:cNvPr>
          <p:cNvSpPr/>
          <p:nvPr/>
        </p:nvSpPr>
        <p:spPr>
          <a:xfrm>
            <a:off x="7812000" y="6237360"/>
            <a:ext cx="1332000" cy="620640"/>
          </a:xfrm>
          <a:custGeom>
            <a:avLst/>
            <a:gdLst>
              <a:gd name="textAreaLeft" fmla="*/ 39960 w 1332000"/>
              <a:gd name="textAreaRight" fmla="*/ 1292040 w 1332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6343" h="21600">
                <a:moveTo>
                  <a:pt x="0" y="0"/>
                </a:moveTo>
                <a:lnTo>
                  <a:pt x="46343" y="0"/>
                </a:lnTo>
                <a:lnTo>
                  <a:pt x="46343" y="21600"/>
                </a:lnTo>
                <a:lnTo>
                  <a:pt x="0" y="21600"/>
                </a:lnTo>
                <a:close/>
              </a:path>
              <a:path fill="lightenLess" w="46343" h="21600">
                <a:moveTo>
                  <a:pt x="0" y="0"/>
                </a:moveTo>
                <a:lnTo>
                  <a:pt x="46343" y="0"/>
                </a:lnTo>
                <a:lnTo>
                  <a:pt x="44943" y="1400"/>
                </a:lnTo>
                <a:lnTo>
                  <a:pt x="1400" y="1400"/>
                </a:lnTo>
                <a:close/>
              </a:path>
              <a:path fill="darken" w="46343" h="21600">
                <a:moveTo>
                  <a:pt x="46343" y="0"/>
                </a:moveTo>
                <a:lnTo>
                  <a:pt x="46343" y="21600"/>
                </a:lnTo>
                <a:lnTo>
                  <a:pt x="44943" y="20200"/>
                </a:lnTo>
                <a:lnTo>
                  <a:pt x="44943" y="1400"/>
                </a:lnTo>
                <a:close/>
              </a:path>
              <a:path fill="darkenLess" w="46343" h="21600">
                <a:moveTo>
                  <a:pt x="46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43" y="20200"/>
                </a:lnTo>
                <a:close/>
              </a:path>
              <a:path fill="lighten" w="46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43" h="21600">
                <a:moveTo>
                  <a:pt x="23171" y="3837"/>
                </a:moveTo>
                <a:lnTo>
                  <a:pt x="25748" y="6448"/>
                </a:lnTo>
                <a:lnTo>
                  <a:pt x="25748" y="4707"/>
                </a:lnTo>
                <a:lnTo>
                  <a:pt x="27523" y="4707"/>
                </a:lnTo>
                <a:lnTo>
                  <a:pt x="27523" y="8224"/>
                </a:lnTo>
                <a:lnTo>
                  <a:pt x="30134" y="10800"/>
                </a:lnTo>
                <a:lnTo>
                  <a:pt x="28481" y="10800"/>
                </a:lnTo>
                <a:lnTo>
                  <a:pt x="28481" y="17989"/>
                </a:lnTo>
                <a:lnTo>
                  <a:pt x="17862" y="17989"/>
                </a:lnTo>
                <a:lnTo>
                  <a:pt x="17862" y="10800"/>
                </a:lnTo>
                <a:lnTo>
                  <a:pt x="16209" y="10800"/>
                </a:lnTo>
                <a:close/>
              </a:path>
              <a:path fill="darkenLess" w="46343" h="21600">
                <a:moveTo>
                  <a:pt x="25748" y="6448"/>
                </a:moveTo>
                <a:lnTo>
                  <a:pt x="25748" y="4707"/>
                </a:lnTo>
                <a:lnTo>
                  <a:pt x="27523" y="4707"/>
                </a:lnTo>
                <a:lnTo>
                  <a:pt x="27523" y="8224"/>
                </a:lnTo>
                <a:close/>
              </a:path>
              <a:path fill="darkenLess" w="46343" h="21600">
                <a:moveTo>
                  <a:pt x="22249" y="14299"/>
                </a:moveTo>
                <a:lnTo>
                  <a:pt x="24094" y="14299"/>
                </a:lnTo>
                <a:lnTo>
                  <a:pt x="24094" y="17989"/>
                </a:lnTo>
                <a:lnTo>
                  <a:pt x="28481" y="17989"/>
                </a:lnTo>
                <a:lnTo>
                  <a:pt x="28481" y="10800"/>
                </a:lnTo>
                <a:lnTo>
                  <a:pt x="17862" y="10800"/>
                </a:lnTo>
                <a:lnTo>
                  <a:pt x="17862" y="17989"/>
                </a:lnTo>
                <a:lnTo>
                  <a:pt x="22249" y="17989"/>
                </a:lnTo>
                <a:close/>
              </a:path>
            </a:pathLst>
          </a:custGeom>
          <a:gradFill rotWithShape="0">
            <a:gsLst>
              <a:gs pos="0">
                <a:srgbClr val="5e7676"/>
              </a:gs>
              <a:gs pos="50000">
                <a:srgbClr val="ccffff"/>
              </a:gs>
              <a:gs pos="100000">
                <a:srgbClr val="5e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33"/>
          <p:cNvGrpSpPr/>
          <p:nvPr/>
        </p:nvGrpSpPr>
        <p:grpSpPr>
          <a:xfrm>
            <a:off x="9453240" y="1989000"/>
            <a:ext cx="6351840" cy="2880000"/>
            <a:chOff x="9453240" y="1989000"/>
            <a:chExt cx="6351840" cy="2880000"/>
          </a:xfrm>
        </p:grpSpPr>
        <p:pic>
          <p:nvPicPr>
            <p:cNvPr id="66" name="Picture 9" descr="73[1]"/>
            <p:cNvPicPr/>
            <p:nvPr/>
          </p:nvPicPr>
          <p:blipFill>
            <a:blip r:embed="rId4"/>
            <a:stretch/>
          </p:blipFill>
          <p:spPr>
            <a:xfrm flipH="1">
              <a:off x="9453240" y="1989000"/>
              <a:ext cx="2974680" cy="21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13" descr="76"/>
            <p:cNvPicPr/>
            <p:nvPr/>
          </p:nvPicPr>
          <p:blipFill>
            <a:blip r:embed="rId5"/>
            <a:stretch/>
          </p:blipFill>
          <p:spPr>
            <a:xfrm>
              <a:off x="14422320" y="3436920"/>
              <a:ext cx="1382760" cy="14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29" descr="275[1]"/>
            <p:cNvPicPr/>
            <p:nvPr/>
          </p:nvPicPr>
          <p:blipFill>
            <a:blip r:embed="rId6"/>
            <a:stretch/>
          </p:blipFill>
          <p:spPr>
            <a:xfrm>
              <a:off x="12406320" y="2421000"/>
              <a:ext cx="2232000" cy="1871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776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Разнообразие современных рептил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-то было 16 отрядов рептилий, известных по ископаемым остаткам, только четыре дожили до настоящего времен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класс Пресмыкающихся немногочислен, включает около 6000 видов и подразделяется на 4 отряда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шуйчаты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щерицы, зме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пах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кодилы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воголовы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вид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ттер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ая обитает в Новой Зеланди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776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8" descr="4b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589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13"/>
          <p:cNvPicPr/>
          <p:nvPr/>
        </p:nvPicPr>
        <p:blipFill>
          <a:blip r:embed="rId2"/>
          <a:stretch/>
        </p:blipFill>
        <p:spPr>
          <a:xfrm>
            <a:off x="136440" y="115920"/>
            <a:ext cx="8899560" cy="667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26"/>
          <p:cNvPicPr/>
          <p:nvPr/>
        </p:nvPicPr>
        <p:blipFill>
          <a:blip r:embed="rId3"/>
          <a:stretch/>
        </p:blipFill>
        <p:spPr>
          <a:xfrm>
            <a:off x="179280" y="115920"/>
            <a:ext cx="8785440" cy="6589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11"/>
          <p:cNvPicPr/>
          <p:nvPr/>
        </p:nvPicPr>
        <p:blipFill>
          <a:blip r:embed="rId4"/>
          <a:stretch/>
        </p:blipFill>
        <p:spPr>
          <a:xfrm>
            <a:off x="179280" y="189000"/>
            <a:ext cx="8785440" cy="6377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9"/>
          <p:cNvPicPr/>
          <p:nvPr/>
        </p:nvPicPr>
        <p:blipFill>
          <a:blip r:embed="rId5"/>
          <a:stretch/>
        </p:blipFill>
        <p:spPr>
          <a:xfrm>
            <a:off x="108000" y="189000"/>
            <a:ext cx="88567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7640" y="70920"/>
            <a:ext cx="280836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Ящериц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4392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вляются хищник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мею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 конечности с коготкам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уб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говой покр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ухую кож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вижные ве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м свойственно явление регенер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76560" y="2362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ывают безногие (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веретениц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ывают двуногие (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айоло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которые меняют окраску в зависимости от времени суток, под влиянием беспокойства или испуга (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хамелео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21"/>
          <p:cNvPicPr/>
          <p:nvPr/>
        </p:nvPicPr>
        <p:blipFill>
          <a:blip r:embed="rId1"/>
          <a:stretch/>
        </p:blipFill>
        <p:spPr>
          <a:xfrm>
            <a:off x="6443640" y="189000"/>
            <a:ext cx="24382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двугоногое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28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5" dur="1" fill="hold"/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7T12:11:17Z</dcterms:created>
  <dc:creator> </dc:creator>
  <dc:description/>
  <dc:language>en-US</dc:language>
  <cp:lastModifiedBy>Admin</cp:lastModifiedBy>
  <dcterms:modified xsi:type="dcterms:W3CDTF">2012-06-25T08:19:11Z</dcterms:modified>
  <cp:revision>65</cp:revision>
  <dc:subject/>
  <dc:title>Презентация PowerPoint</dc:title>
</cp:coreProperties>
</file>