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4.gif" ContentType="image/gif"/>
  <Override PartName="/ppt/media/image3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10.gif" ContentType="image/gif"/>
  <Override PartName="/ppt/media/image37.jpeg" ContentType="image/jpeg"/>
  <Override PartName="/ppt/media/image13.gif" ContentType="image/gif"/>
  <Override PartName="/ppt/media/image34.jpeg" ContentType="image/jpeg"/>
  <Override PartName="/ppt/media/image24.jpeg" ContentType="image/jpeg"/>
  <Override PartName="/ppt/media/image3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16.jpeg" ContentType="image/jpeg"/>
  <Override PartName="/ppt/media/image9.gif" ContentType="image/gif"/>
  <Override PartName="/ppt/media/image39.jpeg" ContentType="image/jpeg"/>
  <Override PartName="/ppt/media/image8.jpeg" ContentType="image/jpeg"/>
  <Override PartName="/ppt/media/image28.jpeg" ContentType="image/jpeg"/>
  <Override PartName="/ppt/media/whoosh.wav" ContentType="audio/x-wav"/>
  <Override PartName="/ppt/media/image11.gif" ContentType="image/gif"/>
  <Override PartName="/ppt/media/explode.wav" ContentType="audio/x-wav"/>
  <Override PartName="/ppt/media/image5.jpeg" ContentType="image/jpeg"/>
  <Override PartName="/ppt/media/image26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5A5-C43E-42DA-96AD-20D5F8B9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8DB-544B-45D7-AF83-3963C3EF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7A1-243B-4271-84BC-A1B27E70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ADC-2389-409E-9F99-E22A7328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7F0-F0BF-427A-8CA6-DCBD7F81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2CB-3109-4844-8965-FFBDE4A0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E59-4081-46A0-BE37-12247FA5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453-07CA-4821-8244-4B3BB921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5C9-70FA-471F-8335-C5A21056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E4F-1EC2-4531-9F0F-BD1617C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1B3-C53B-4740-A899-CBE1C75D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415-273C-4B09-9321-89A6BB0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AC4-CBBA-4566-BF19-8D41288986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8.jpeg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5"/>
          <p:cNvSpPr txBox="1"/>
          <p:nvPr/>
        </p:nvSpPr>
        <p:spPr>
          <a:xfrm>
            <a:off x="826920" y="404640"/>
            <a:ext cx="7696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смыкающиеся</a:t>
            </a:r>
            <a:endParaRPr b="0" lang="en-US" sz="2400" spc="1" strike="noStrike">
              <a:ln w="381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8"/>
          <p:cNvSpPr txBox="1"/>
          <p:nvPr/>
        </p:nvSpPr>
        <p:spPr>
          <a:xfrm>
            <a:off x="1979640" y="2852640"/>
            <a:ext cx="50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щая характерис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WordArt 20"/>
          <p:cNvSpPr txBox="1"/>
          <p:nvPr/>
        </p:nvSpPr>
        <p:spPr>
          <a:xfrm>
            <a:off x="2124000" y="3500280"/>
            <a:ext cx="5086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Древние пресмыкающиес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WordArt 21"/>
          <p:cNvSpPr txBox="1"/>
          <p:nvPr/>
        </p:nvSpPr>
        <p:spPr>
          <a:xfrm>
            <a:off x="2149560" y="4292640"/>
            <a:ext cx="5086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азнообразие современны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рептил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WordArt 22"/>
          <p:cNvSpPr txBox="1"/>
          <p:nvPr/>
        </p:nvSpPr>
        <p:spPr>
          <a:xfrm>
            <a:off x="2124000" y="5516640"/>
            <a:ext cx="50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Наступление челове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3857760" y="0"/>
            <a:ext cx="214308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Зме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481040"/>
            <a:ext cx="4606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сутствуют коне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вигаются за счет изгибания туловищ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меют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 внутреннего уха и звуки воспринимаются брюшной поверхно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ют термолока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йственна линь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2"/>
          <p:cNvPicPr/>
          <p:nvPr/>
        </p:nvPicPr>
        <p:blipFill>
          <a:blip r:embed="rId1"/>
          <a:stretch/>
        </p:blipFill>
        <p:spPr>
          <a:xfrm>
            <a:off x="5148360" y="292428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144[1]"/>
          <p:cNvPicPr/>
          <p:nvPr/>
        </p:nvPicPr>
        <p:blipFill>
          <a:blip r:embed="rId2"/>
          <a:stretch/>
        </p:blipFill>
        <p:spPr>
          <a:xfrm>
            <a:off x="6372360" y="549360"/>
            <a:ext cx="18748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 способу питания змеи деля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17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672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Ядовит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гадюка, коб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Удав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питон, анакон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Ужеподобн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полоз, уж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10"/>
          <p:cNvPicPr/>
          <p:nvPr/>
        </p:nvPicPr>
        <p:blipFill>
          <a:blip r:embed="rId2"/>
          <a:stretch/>
        </p:blipFill>
        <p:spPr>
          <a:xfrm>
            <a:off x="228600" y="2590920"/>
            <a:ext cx="4343400" cy="337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20"/>
          <p:cNvPicPr/>
          <p:nvPr/>
        </p:nvPicPr>
        <p:blipFill>
          <a:blip r:embed="rId3"/>
          <a:stretch/>
        </p:blipFill>
        <p:spPr>
          <a:xfrm>
            <a:off x="228600" y="259092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145[1]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8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Неуязвимые черепах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22"/>
          <p:cNvPicPr/>
          <p:nvPr/>
        </p:nvPicPr>
        <p:blipFill>
          <a:blip r:embed="rId1"/>
          <a:stretch/>
        </p:blipFill>
        <p:spPr>
          <a:xfrm>
            <a:off x="647640" y="4005360"/>
            <a:ext cx="3780000" cy="2835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720" y="1125000"/>
            <a:ext cx="4535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и тяжеловесен панцирь, но именно он помог черепахам успешно просуществовать долгих 175 мл.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а панциря зависит от способа существования вида. У морских панцирь тоньше, поэтому они самые быстроходные рептил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19"/>
          <p:cNvPicPr/>
          <p:nvPr/>
        </p:nvPicPr>
        <p:blipFill>
          <a:blip r:embed="rId2"/>
          <a:stretch/>
        </p:blipFill>
        <p:spPr>
          <a:xfrm>
            <a:off x="647640" y="112536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49[1]"/>
          <p:cNvPicPr/>
          <p:nvPr/>
        </p:nvPicPr>
        <p:blipFill>
          <a:blip r:embed="rId3"/>
          <a:stretch/>
        </p:blipFill>
        <p:spPr>
          <a:xfrm>
            <a:off x="755640" y="260280"/>
            <a:ext cx="1457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7640" y="11592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наземных черепах панцирь легкий и тонкий, он хорошо защищает от врагов и потери вла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чности приспособлены для хо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11"/>
          <p:cNvPicPr/>
          <p:nvPr/>
        </p:nvPicPr>
        <p:blipFill>
          <a:blip r:embed="rId1"/>
          <a:stretch/>
        </p:blipFill>
        <p:spPr>
          <a:xfrm>
            <a:off x="4648320" y="208440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2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373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6"/>
          <p:cNvPicPr/>
          <p:nvPr/>
        </p:nvPicPr>
        <p:blipFill>
          <a:blip r:embed="rId3"/>
          <a:stretch/>
        </p:blipFill>
        <p:spPr>
          <a:xfrm>
            <a:off x="4191120" y="1523880"/>
            <a:ext cx="4673520" cy="3633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3"/>
          <p:cNvPicPr/>
          <p:nvPr/>
        </p:nvPicPr>
        <p:blipFill>
          <a:blip r:embed="rId4"/>
          <a:stretch/>
        </p:blipFill>
        <p:spPr>
          <a:xfrm>
            <a:off x="395280" y="4149720"/>
            <a:ext cx="3529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43920"/>
            <a:ext cx="61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Гигантские крокодил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1"/>
          <p:cNvPicPr/>
          <p:nvPr/>
        </p:nvPicPr>
        <p:blipFill>
          <a:blip r:embed="rId1"/>
          <a:stretch/>
        </p:blipFill>
        <p:spPr>
          <a:xfrm>
            <a:off x="4572000" y="1008000"/>
            <a:ext cx="4510080" cy="5805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5370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кодилы – вторичноводные животные предки, которых обитали на су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амые крупные и высокоорганизованные репти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88720" y="545760"/>
            <a:ext cx="867564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Times New Roman"/>
              </a:rPr>
              <a:t>Среди крокодилов встречаю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ильск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крокод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ина более 5-ти мет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Индийский гавиа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имеет длину до 6,5 метров и самую узкую и длинную среди всех крокодилов мор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Южно-американский кайм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 длина 2-4 метра. Способен издавать разнообразные звуки – от рычания и карканья до храпа и фыркань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6000" y="261720"/>
            <a:ext cx="5076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ллигатор или крокодил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аллигатора более широкая и округлая морда, а зубы верхней челюсти при закрытой пасти располагаются снару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рокодила морда более заостренная, а зубы верхней и нижней челюстей находятся на одной ли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" descr="r00011[1]"/>
          <p:cNvPicPr/>
          <p:nvPr/>
        </p:nvPicPr>
        <p:blipFill>
          <a:blip r:embed="rId1"/>
          <a:stretch/>
        </p:blipFill>
        <p:spPr>
          <a:xfrm>
            <a:off x="6093000" y="368280"/>
            <a:ext cx="2727000" cy="363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r00007[1]"/>
          <p:cNvPicPr/>
          <p:nvPr/>
        </p:nvPicPr>
        <p:blipFill>
          <a:blip r:embed="rId2"/>
          <a:stretch/>
        </p:blipFill>
        <p:spPr>
          <a:xfrm>
            <a:off x="5292720" y="40957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889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Избранница судь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882880"/>
            <a:ext cx="871380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ттер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туатар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ственный вид, оставшийся от отряда клювоголов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итают они в Новой Зеланд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 животные способны жить в прохладном клима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ладают настоящим голосом, их печальное пение можно услышать туманными ноч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гатерия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2f1800"/>
              </a:gs>
              <a:gs pos="50000">
                <a:srgbClr val="663300"/>
              </a:gs>
              <a:gs pos="100000">
                <a:srgbClr val="2f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ступление человека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20320"/>
            <a:ext cx="41716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тилии и человек всегда много значили друг для д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жние времена это  была естественная экологическая связь, теперь же, когда мы являемся властелинами Земли, наше влияние на жизнь рептилий возросл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00720" y="1125360"/>
            <a:ext cx="4495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история человека навсегда сохранила следы тесных отношений с этими холоднокровными животны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рептилий нашла отражение в духовой культуре всех народов в мифологических образах и религ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3244680"/>
            <a:ext cx="41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ологии азиатских народов часто упоминаются черепахи и зме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йская мифология – сказочные змеи. Они отличались крутым нравом и безответственным пове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24280" y="333360"/>
            <a:ext cx="3810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Египте крокодил священное живот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геральдика отводила ведущее место гремучей зм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7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25"/>
          <p:cNvPicPr/>
          <p:nvPr/>
        </p:nvPicPr>
        <p:blipFill>
          <a:blip r:embed="rId2"/>
          <a:stretch/>
        </p:blipFill>
        <p:spPr>
          <a:xfrm>
            <a:off x="4284720" y="3292560"/>
            <a:ext cx="4716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смыкающиеся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– это позвоночные животные, которые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йчатый покров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шат атмосферным воздухом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адывают яйца, покрытые кожистой или плотной известковой оболочкой 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ют постоянной температуры тел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3"/>
          <p:cNvGrpSpPr/>
          <p:nvPr/>
        </p:nvGrpSpPr>
        <p:grpSpPr>
          <a:xfrm>
            <a:off x="9360" y="0"/>
            <a:ext cx="5714640" cy="6857640"/>
            <a:chOff x="9360" y="0"/>
            <a:chExt cx="5714640" cy="6857640"/>
          </a:xfrm>
        </p:grpSpPr>
        <p:pic>
          <p:nvPicPr>
            <p:cNvPr id="122" name="Picture 34" descr="P6270004"/>
            <p:cNvPicPr/>
            <p:nvPr/>
          </p:nvPicPr>
          <p:blipFill>
            <a:blip r:embed="rId1"/>
            <a:stretch/>
          </p:blipFill>
          <p:spPr>
            <a:xfrm>
              <a:off x="9360" y="0"/>
              <a:ext cx="5714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35"/>
            <p:cNvSpPr/>
            <p:nvPr/>
          </p:nvSpPr>
          <p:spPr>
            <a:xfrm>
              <a:off x="9360" y="94680"/>
              <a:ext cx="52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ластины из панциря черепа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36"/>
          <p:cNvGrpSpPr/>
          <p:nvPr/>
        </p:nvGrpSpPr>
        <p:grpSpPr>
          <a:xfrm>
            <a:off x="1219320" y="0"/>
            <a:ext cx="7924320" cy="6857640"/>
            <a:chOff x="1219320" y="0"/>
            <a:chExt cx="7924320" cy="6857640"/>
          </a:xfrm>
        </p:grpSpPr>
        <p:pic>
          <p:nvPicPr>
            <p:cNvPr id="125" name="Picture 37" descr="P6270003"/>
            <p:cNvPicPr/>
            <p:nvPr/>
          </p:nvPicPr>
          <p:blipFill>
            <a:blip r:embed="rId2"/>
            <a:stretch/>
          </p:blipFill>
          <p:spPr>
            <a:xfrm>
              <a:off x="1219320" y="0"/>
              <a:ext cx="792432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38"/>
            <p:cNvSpPr/>
            <p:nvPr/>
          </p:nvSpPr>
          <p:spPr>
            <a:xfrm>
              <a:off x="3026520" y="839520"/>
              <a:ext cx="500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ребень из панциря черепах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времена, когда человек активно использует рептилий в питании, изготовлении различных поделок, отлавливает их в природе, нарушая нормальное воспроизведение «экзотических домашних животных», это очень неблагоприятно влияет на их жизн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из них находятся на грани вымирания или исчезли с лица Земли, и в этом главная вина человека перед удивительными животными, о которых сегодня была реч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30"/>
          <p:cNvGrpSpPr/>
          <p:nvPr/>
        </p:nvGrpSpPr>
        <p:grpSpPr>
          <a:xfrm>
            <a:off x="3581280" y="0"/>
            <a:ext cx="5562360" cy="6857640"/>
            <a:chOff x="3581280" y="0"/>
            <a:chExt cx="5562360" cy="6857640"/>
          </a:xfrm>
        </p:grpSpPr>
        <p:pic>
          <p:nvPicPr>
            <p:cNvPr id="129" name="Picture 31" descr="P6270002"/>
            <p:cNvPicPr/>
            <p:nvPr/>
          </p:nvPicPr>
          <p:blipFill>
            <a:blip r:embed="rId3"/>
            <a:stretch/>
          </p:blipFill>
          <p:spPr>
            <a:xfrm>
              <a:off x="3581280" y="0"/>
              <a:ext cx="556236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2"/>
            <p:cNvSpPr/>
            <p:nvPr/>
          </p:nvSpPr>
          <p:spPr>
            <a:xfrm>
              <a:off x="3976920" y="772560"/>
              <a:ext cx="49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аза из хвоста крокоди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790560" y="0"/>
            <a:ext cx="8353440" cy="6286680"/>
            <a:chOff x="790560" y="0"/>
            <a:chExt cx="8353440" cy="6286680"/>
          </a:xfrm>
        </p:grpSpPr>
        <p:pic>
          <p:nvPicPr>
            <p:cNvPr id="132" name="Picture 40" descr="P6260008"/>
            <p:cNvPicPr/>
            <p:nvPr/>
          </p:nvPicPr>
          <p:blipFill>
            <a:blip r:embed="rId4"/>
            <a:stretch/>
          </p:blipFill>
          <p:spPr>
            <a:xfrm>
              <a:off x="790560" y="0"/>
              <a:ext cx="8353440" cy="62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1"/>
            <p:cNvSpPr/>
            <p:nvPr/>
          </p:nvSpPr>
          <p:spPr>
            <a:xfrm>
              <a:off x="5119200" y="5486400"/>
              <a:ext cx="40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зделие из змеиной кож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27"/>
          <p:cNvGrpSpPr/>
          <p:nvPr/>
        </p:nvGrpSpPr>
        <p:grpSpPr>
          <a:xfrm>
            <a:off x="9360" y="-27000"/>
            <a:ext cx="7010280" cy="6848280"/>
            <a:chOff x="9360" y="-27000"/>
            <a:chExt cx="7010280" cy="6848280"/>
          </a:xfrm>
        </p:grpSpPr>
        <p:pic>
          <p:nvPicPr>
            <p:cNvPr id="135" name="Picture 28" descr="P6260007"/>
            <p:cNvPicPr/>
            <p:nvPr/>
          </p:nvPicPr>
          <p:blipFill>
            <a:blip r:embed="rId5"/>
            <a:stretch/>
          </p:blipFill>
          <p:spPr>
            <a:xfrm>
              <a:off x="9360" y="-27000"/>
              <a:ext cx="6852960" cy="68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9"/>
            <p:cNvSpPr/>
            <p:nvPr/>
          </p:nvSpPr>
          <p:spPr>
            <a:xfrm>
              <a:off x="875520" y="285840"/>
              <a:ext cx="61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зделие из крокодиловой кож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7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5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Тревожные перспект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643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 из сложнейших задач современности – проблема замедления процесса уничтожения живой прир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птилии – неотъемлемая часть животного населения Земли. Допустить их исчезновение – значит признаться, что мы готовы расстаться со всей живой природ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15"/>
          <p:cNvPicPr/>
          <p:nvPr/>
        </p:nvPicPr>
        <p:blipFill>
          <a:blip r:embed="rId1"/>
          <a:stretch/>
        </p:blipFill>
        <p:spPr>
          <a:xfrm>
            <a:off x="4284720" y="836640"/>
            <a:ext cx="4680000" cy="327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d_75m"/>
          <p:cNvPicPr/>
          <p:nvPr/>
        </p:nvPicPr>
        <p:blipFill>
          <a:blip r:embed="rId2"/>
          <a:stretch/>
        </p:blipFill>
        <p:spPr>
          <a:xfrm>
            <a:off x="4284720" y="4292640"/>
            <a:ext cx="4680000" cy="21733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41" name="AutoShape 12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2f1800"/>
              </a:gs>
              <a:gs pos="50000">
                <a:srgbClr val="663300"/>
              </a:gs>
              <a:gs pos="100000">
                <a:srgbClr val="2f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 всем мире ныне существует лишь пять групп животных, которые удовлетворяют такой характеристик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583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па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ме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ттерия – внешне очень похожая на ящериц, но в действительности им не родственн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142[1]"/>
          <p:cNvPicPr/>
          <p:nvPr/>
        </p:nvPicPr>
        <p:blipFill>
          <a:blip r:embed="rId1"/>
          <a:stretch/>
        </p:blipFill>
        <p:spPr>
          <a:xfrm>
            <a:off x="3995640" y="2060640"/>
            <a:ext cx="117180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146"/>
          <p:cNvPicPr/>
          <p:nvPr/>
        </p:nvPicPr>
        <p:blipFill>
          <a:blip r:embed="rId2"/>
          <a:stretch/>
        </p:blipFill>
        <p:spPr>
          <a:xfrm>
            <a:off x="7308720" y="3789360"/>
            <a:ext cx="1617840" cy="1409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7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119640" cy="72072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«Золотой» век рептили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23036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мыкающиеся происходят от древних палеозойских земноводных – стегоцеф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явление рептилий на нашей планете было одним из величайших событий. Будучи первыми истинно наземными позвоночными, древние рептилии достигли поразительн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знообраз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d_12m"/>
          <p:cNvPicPr/>
          <p:nvPr/>
        </p:nvPicPr>
        <p:blipFill>
          <a:blip r:embed="rId1"/>
          <a:stretch/>
        </p:blipFill>
        <p:spPr>
          <a:xfrm>
            <a:off x="6443640" y="189000"/>
            <a:ext cx="240048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uzzle"/>
          <p:cNvPicPr/>
          <p:nvPr/>
        </p:nvPicPr>
        <p:blipFill>
          <a:blip r:embed="rId2"/>
          <a:stretch/>
        </p:blipFill>
        <p:spPr>
          <a:xfrm>
            <a:off x="252360" y="4611600"/>
            <a:ext cx="187164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zast_fst"/>
          <p:cNvPicPr/>
          <p:nvPr/>
        </p:nvPicPr>
        <p:blipFill>
          <a:blip r:embed="rId3"/>
          <a:stretch/>
        </p:blipFill>
        <p:spPr>
          <a:xfrm>
            <a:off x="2124000" y="5218200"/>
            <a:ext cx="1752840" cy="145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0" descr="d_75m"/>
          <p:cNvPicPr/>
          <p:nvPr/>
        </p:nvPicPr>
        <p:blipFill>
          <a:blip r:embed="rId4"/>
          <a:stretch/>
        </p:blipFill>
        <p:spPr>
          <a:xfrm>
            <a:off x="4788000" y="4851360"/>
            <a:ext cx="4038480" cy="18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Line 21"/>
          <p:cNvSpPr/>
          <p:nvPr/>
        </p:nvSpPr>
        <p:spPr>
          <a:xfrm>
            <a:off x="0" y="6858000"/>
            <a:ext cx="55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1[1]"/>
          <p:cNvPicPr/>
          <p:nvPr/>
        </p:nvPicPr>
        <p:blipFill>
          <a:blip r:embed="rId1"/>
          <a:stretch/>
        </p:blipFill>
        <p:spPr>
          <a:xfrm>
            <a:off x="9394920" y="4508640"/>
            <a:ext cx="3241440" cy="198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276[1]"/>
          <p:cNvPicPr/>
          <p:nvPr/>
        </p:nvPicPr>
        <p:blipFill>
          <a:blip r:embed="rId2"/>
          <a:stretch/>
        </p:blipFill>
        <p:spPr>
          <a:xfrm>
            <a:off x="6659640" y="4292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72[1]"/>
          <p:cNvPicPr/>
          <p:nvPr/>
        </p:nvPicPr>
        <p:blipFill>
          <a:blip r:embed="rId3"/>
          <a:stretch/>
        </p:blipFill>
        <p:spPr>
          <a:xfrm>
            <a:off x="-2052720" y="6813720"/>
            <a:ext cx="2048040" cy="216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144360" y="189000"/>
            <a:ext cx="8820360" cy="136836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«Золотой» век рептилий глазами современных художник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8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33"/>
          <p:cNvGrpSpPr/>
          <p:nvPr/>
        </p:nvGrpSpPr>
        <p:grpSpPr>
          <a:xfrm>
            <a:off x="9453240" y="1989000"/>
            <a:ext cx="6351840" cy="2880000"/>
            <a:chOff x="9453240" y="1989000"/>
            <a:chExt cx="6351840" cy="2880000"/>
          </a:xfrm>
        </p:grpSpPr>
        <p:pic>
          <p:nvPicPr>
            <p:cNvPr id="66" name="Picture 9" descr="73[1]"/>
            <p:cNvPicPr/>
            <p:nvPr/>
          </p:nvPicPr>
          <p:blipFill>
            <a:blip r:embed="rId4"/>
            <a:stretch/>
          </p:blipFill>
          <p:spPr>
            <a:xfrm flipH="1">
              <a:off x="9453240" y="1989000"/>
              <a:ext cx="2974680" cy="21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3" descr="76"/>
            <p:cNvPicPr/>
            <p:nvPr/>
          </p:nvPicPr>
          <p:blipFill>
            <a:blip r:embed="rId5"/>
            <a:stretch/>
          </p:blipFill>
          <p:spPr>
            <a:xfrm>
              <a:off x="14422320" y="3436920"/>
              <a:ext cx="138276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9" descr="275[1]"/>
            <p:cNvPicPr/>
            <p:nvPr/>
          </p:nvPicPr>
          <p:blipFill>
            <a:blip r:embed="rId6"/>
            <a:stretch/>
          </p:blipFill>
          <p:spPr>
            <a:xfrm>
              <a:off x="12406320" y="2421000"/>
              <a:ext cx="2232000" cy="18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азнообразие современных рептил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то было 16 отрядов рептилий, известных по ископаемым остаткам, только четыре дожили до настоящего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класс Пресмыкающихся немногочислен, включает около 6000 видов и подразделяется на 4 отряд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уйчаты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, зме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воголовы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ви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ттер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обитает в Новой Зеланд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4b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89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13"/>
          <p:cNvPicPr/>
          <p:nvPr/>
        </p:nvPicPr>
        <p:blipFill>
          <a:blip r:embed="rId2"/>
          <a:stretch/>
        </p:blipFill>
        <p:spPr>
          <a:xfrm>
            <a:off x="136440" y="115920"/>
            <a:ext cx="8899560" cy="667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26"/>
          <p:cNvPicPr/>
          <p:nvPr/>
        </p:nvPicPr>
        <p:blipFill>
          <a:blip r:embed="rId3"/>
          <a:stretch/>
        </p:blipFill>
        <p:spPr>
          <a:xfrm>
            <a:off x="179280" y="115920"/>
            <a:ext cx="8785440" cy="6589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11"/>
          <p:cNvPicPr/>
          <p:nvPr/>
        </p:nvPicPr>
        <p:blipFill>
          <a:blip r:embed="rId4"/>
          <a:stretch/>
        </p:blipFill>
        <p:spPr>
          <a:xfrm>
            <a:off x="179280" y="189000"/>
            <a:ext cx="8785440" cy="637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9"/>
          <p:cNvPicPr/>
          <p:nvPr/>
        </p:nvPicPr>
        <p:blipFill>
          <a:blip r:embed="rId5"/>
          <a:stretch/>
        </p:blipFill>
        <p:spPr>
          <a:xfrm>
            <a:off x="108000" y="18900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640" y="70920"/>
            <a:ext cx="28083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Ящер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ются хищни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ю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конечности с коготк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уб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говой пок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хую кож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ижные ве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 свойственно явление реген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65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вают безногие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еретен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вают двуногие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айол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которые меняют окраску в зависимости от времени суток, под влиянием беспокойства или испуга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хамеле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21"/>
          <p:cNvPicPr/>
          <p:nvPr/>
        </p:nvPicPr>
        <p:blipFill>
          <a:blip r:embed="rId1"/>
          <a:stretch/>
        </p:blipFill>
        <p:spPr>
          <a:xfrm>
            <a:off x="6443640" y="189000"/>
            <a:ext cx="2438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двугоного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2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5" dur="1" fill="hold"/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11:17Z</dcterms:created>
  <dc:creator> </dc:creator>
  <dc:description/>
  <dc:language>en-US</dc:language>
  <cp:lastModifiedBy>Admin</cp:lastModifiedBy>
  <dcterms:modified xsi:type="dcterms:W3CDTF">2012-06-25T08:19:11Z</dcterms:modified>
  <cp:revision>65</cp:revision>
  <dc:subject/>
  <dc:title>Презентация PowerPoint</dc:title>
</cp:coreProperties>
</file>