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9.gif" ContentType="image/gif"/>
  <Override PartName="/ppt/media/image7.gif" ContentType="image/gif"/>
  <Override PartName="/ppt/media/image6.jpeg" ContentType="image/jpeg"/>
  <Override PartName="/ppt/media/image5.gif" ContentType="image/gif"/>
  <Override PartName="/ppt/media/image14.jpeg" ContentType="image/jpeg"/>
  <Override PartName="/ppt/media/image13.gif" ContentType="image/gif"/>
  <Override PartName="/ppt/media/image8.gif" ContentType="image/gif"/>
  <Override PartName="/ppt/media/image18.jpeg" ContentType="image/jpeg"/>
  <Override PartName="/ppt/media/image24.gif" ContentType="image/gif"/>
  <Override PartName="/ppt/media/image23.jpeg" ContentType="image/jpeg"/>
  <Override PartName="/ppt/media/image20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3.jpeg" ContentType="image/jpeg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60A-4072-453A-955D-709366F3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CEC-F050-49FF-AF35-4959E13C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F75-0F4E-4F59-A1EA-94623665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471-942B-4EF6-BE99-53B0855D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E10D-7AAB-4127-92F9-FC2A98A5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D361-5C92-437D-BEE5-8DC2ECE6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32C3-8436-40A7-83F2-4378F0E1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6DC9-923E-46D3-86E3-4AB0A6AE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4BD2-9701-46F7-9394-5DFA3371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359F-83C9-4EC5-9213-02EBAAA3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DE53-EF9A-495E-8D64-29443BEA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932-8A68-4247-8617-EE51B0EC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982D-F1A2-43AB-869D-C7E87509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511D-1251-48C6-AFC4-9E3B34A9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1159-6F3B-4B18-90C8-A3EEB790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A791-E9C3-444B-AFF3-6F930EC4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2F8C-D54C-4B7D-B1D4-544F24F2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76B2-7420-4F9F-A2CE-26A04A2E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6DC-AD46-4029-8111-44CA8C23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6D7-EE44-4CE0-8BE2-1FF33644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4E7-972A-456B-82DC-6EBED12C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95D-586C-464B-89A0-EFEDFCD4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1F43-D473-4565-AB88-571DF0F5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7B05-EFBC-461C-8713-85B1E9BE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0037-0B11-42E0-8950-36BE5199902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53E6-8CFB-4171-93A0-81A6B894AC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heladmin.ru/content/5254" TargetMode="External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85760" y="1571760"/>
            <a:ext cx="498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c0c0"/>
                </a:solidFill>
                <a:latin typeface="Arial"/>
              </a:rPr>
              <a:t>Правила </a:t>
            </a:r>
            <a:br>
              <a:rPr sz="5400"/>
            </a:br>
            <a:r>
              <a:rPr b="0" lang="ru-RU" sz="5400" spc="-1" strike="noStrike">
                <a:solidFill>
                  <a:srgbClr val="c0c0c0"/>
                </a:solidFill>
                <a:latin typeface="Arial"/>
              </a:rPr>
              <a:t>поведения </a:t>
            </a:r>
            <a:br>
              <a:rPr sz="5400"/>
            </a:br>
            <a:r>
              <a:rPr b="0" lang="ru-RU" sz="5400" spc="-1" strike="noStrike">
                <a:solidFill>
                  <a:srgbClr val="c0c0c0"/>
                </a:solidFill>
                <a:latin typeface="Arial"/>
              </a:rPr>
              <a:t>на воде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0012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пчий Ирина Викто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основ здоров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рожской гимназии №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Рисунок 100" descr="http://www.mambulus.ru/card/92/92_61.jpg"/>
          <p:cNvPicPr/>
          <p:nvPr/>
        </p:nvPicPr>
        <p:blipFill>
          <a:blip r:embed="rId1"/>
          <a:stretch/>
        </p:blipFill>
        <p:spPr>
          <a:xfrm>
            <a:off x="225360" y="225360"/>
            <a:ext cx="3780000" cy="387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13840" y="285480"/>
            <a:ext cx="8643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вы плохо плаваете, держитесь поближе к берегу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Так, чтобы в любой момент можно было коснуться ногами дна. И не поддавайтесь на уговоры друзей, плавающих лучше вас. Им – забава,  а  вы  рискуете наглотаться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лько учитесь плавать? -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гда  не заходите глубж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по поя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Рисунок 94" descr="http://www.mambulus.ru/card/92/92_63.jpg"/>
          <p:cNvPicPr/>
          <p:nvPr/>
        </p:nvPicPr>
        <p:blipFill>
          <a:blip r:embed="rId1"/>
          <a:stretch/>
        </p:blipFill>
        <p:spPr>
          <a:xfrm>
            <a:off x="6143760" y="3357720"/>
            <a:ext cx="2214360" cy="3381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D:\Семейная\Ирина\Анимашки\плавание 1 gif"/>
          <p:cNvPicPr/>
          <p:nvPr/>
        </p:nvPicPr>
        <p:blipFill>
          <a:blip r:embed="rId2"/>
          <a:stretch/>
        </p:blipFill>
        <p:spPr>
          <a:xfrm>
            <a:off x="1000080" y="5143680"/>
            <a:ext cx="2143080" cy="1357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42920" y="356760"/>
            <a:ext cx="858672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стали плавать? – отдохнит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От перенапряжения могут начаться судороги. И не старайтесь установить рекорд по плаванию. Мирового рекорда вам все равно не побить.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D:\Семейная\Ирина\Анимашки\прав купан 5"/>
          <p:cNvPicPr/>
          <p:nvPr/>
        </p:nvPicPr>
        <p:blipFill>
          <a:blip r:embed="rId1"/>
          <a:stretch/>
        </p:blipFill>
        <p:spPr>
          <a:xfrm>
            <a:off x="4000680" y="3214800"/>
            <a:ext cx="4429080" cy="2928960"/>
          </a:xfrm>
          <a:prstGeom prst="rect">
            <a:avLst/>
          </a:prstGeom>
          <a:ln w="0">
            <a:noFill/>
          </a:ln>
        </p:spPr>
      </p:pic>
      <p:sp>
        <p:nvSpPr>
          <p:cNvPr id="243" name="Содержимое 2"/>
          <p:cNvSpPr/>
          <p:nvPr/>
        </p:nvSpPr>
        <p:spPr>
          <a:xfrm>
            <a:off x="4000680" y="4500720"/>
            <a:ext cx="4429080" cy="2214360"/>
          </a:xfrm>
          <a:prstGeom prst="rect">
            <a:avLst/>
          </a:prstGeom>
          <a:solidFill>
            <a:srgbClr val="64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Если в воде вам стало плох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сохраняйте  спокойствие.  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положении  на  спине  вы  д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плывёте  до  берега   с  мин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мальными затра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D:\Семейная\Ирина\Анимашки\плавание gif"/>
          <p:cNvPicPr/>
          <p:nvPr/>
        </p:nvPicPr>
        <p:blipFill>
          <a:blip r:embed="rId2"/>
          <a:stretch/>
        </p:blipFill>
        <p:spPr>
          <a:xfrm>
            <a:off x="1000080" y="4429080"/>
            <a:ext cx="196704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0" y="214200"/>
            <a:ext cx="88581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конец, последнее: не купайтесь подолгу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Какой бы теплой ни казалась вода, переохладиться и заболеть – проще простого. Как только вы начали покрываться “гусиной кожей”, а зубы стали отбивать чечетку, немедленно выходите из воды. После этого вытри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сь насухо и вытряси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у из ушей.   Хорош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ейтесь, поиграй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яч, побегайте и тольк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ом идите купаться сн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Рисунок 97" descr="http://www.mambulus.ru/card/92/92_62.jpg"/>
          <p:cNvPicPr/>
          <p:nvPr/>
        </p:nvPicPr>
        <p:blipFill>
          <a:blip r:embed="rId1"/>
          <a:stretch/>
        </p:blipFill>
        <p:spPr>
          <a:xfrm>
            <a:off x="5857920" y="3286080"/>
            <a:ext cx="307188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3840" y="1000080"/>
            <a:ext cx="857268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я простые меры предосто-рожности и прислушиваясь к советам специалистов, вы обезопасите себя от несчастных случаев на в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9" descr="D:\Семейная\Ирина\Анимашки\прав купан 7"/>
          <p:cNvPicPr/>
          <p:nvPr/>
        </p:nvPicPr>
        <p:blipFill>
          <a:blip r:embed="rId1"/>
          <a:stretch/>
        </p:blipFill>
        <p:spPr>
          <a:xfrm>
            <a:off x="4357800" y="3214800"/>
            <a:ext cx="4638600" cy="2928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D:\Семейная\Ирина\Анимашки\прав купан 6"/>
          <p:cNvPicPr/>
          <p:nvPr/>
        </p:nvPicPr>
        <p:blipFill>
          <a:blip r:embed="rId2"/>
          <a:stretch/>
        </p:blipFill>
        <p:spPr>
          <a:xfrm>
            <a:off x="214200" y="3214800"/>
            <a:ext cx="4000680" cy="2928960"/>
          </a:xfrm>
          <a:prstGeom prst="rect">
            <a:avLst/>
          </a:prstGeom>
          <a:ln w="0">
            <a:noFill/>
          </a:ln>
        </p:spPr>
      </p:pic>
      <p:sp>
        <p:nvSpPr>
          <p:cNvPr id="251" name="Содержимое 2"/>
          <p:cNvSpPr/>
          <p:nvPr/>
        </p:nvSpPr>
        <p:spPr>
          <a:xfrm>
            <a:off x="214200" y="5214960"/>
            <a:ext cx="4000680" cy="1500120"/>
          </a:xfrm>
          <a:prstGeom prst="rect">
            <a:avLst/>
          </a:prstGeom>
          <a:solidFill>
            <a:srgbClr val="09b1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Не входите в воду разгорячёнными, лучше выждать какое-то врем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Содержимое 2"/>
          <p:cNvSpPr/>
          <p:nvPr/>
        </p:nvSpPr>
        <p:spPr>
          <a:xfrm>
            <a:off x="4357800" y="5429160"/>
            <a:ext cx="4643280" cy="1285920"/>
          </a:xfrm>
          <a:prstGeom prst="rect">
            <a:avLst/>
          </a:prstGeom>
          <a:solidFill>
            <a:srgbClr val="09b1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Будьте осторожны в в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Не переоценивайте сво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54a"/>
                </a:solidFill>
                <a:latin typeface="Arial"/>
              </a:rPr>
              <a:t>сил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Использованные источники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cheladmin.ru/content/525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biogames.ru/p21aa1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onegid.com/2009/05/03/page/2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sunhome.ru/cards/172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animo2.ucoz.ru/photo/mir_animashek_letnego_nastroenija/otdykh_na_more_puteshestvija/animacija_more_7/44-0-21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D:\Семейная\Ирина\Анимашки\дельфин .gif"/>
          <p:cNvPicPr/>
          <p:nvPr/>
        </p:nvPicPr>
        <p:blipFill>
          <a:blip r:embed="rId2"/>
          <a:stretch/>
        </p:blipFill>
        <p:spPr>
          <a:xfrm>
            <a:off x="285840" y="5286240"/>
            <a:ext cx="5724360" cy="533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D:\Семейная\Ирина\Анимашки\дельфин .gif"/>
          <p:cNvPicPr/>
          <p:nvPr/>
        </p:nvPicPr>
        <p:blipFill>
          <a:blip r:embed="rId3"/>
          <a:stretch/>
        </p:blipFill>
        <p:spPr>
          <a:xfrm flipH="1">
            <a:off x="1357200" y="5929200"/>
            <a:ext cx="5724720" cy="533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D:\Семейная\Ирина\Анимашки\пляж 4.gif"/>
          <p:cNvPicPr/>
          <p:nvPr/>
        </p:nvPicPr>
        <p:blipFill>
          <a:blip r:embed="rId4"/>
          <a:stretch/>
        </p:blipFill>
        <p:spPr>
          <a:xfrm>
            <a:off x="7215120" y="4572000"/>
            <a:ext cx="192888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4071960" cy="2857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c0c0"/>
                </a:solidFill>
                <a:latin typeface="Arial"/>
              </a:rPr>
              <a:t>Топчий </a:t>
            </a:r>
            <a:br>
              <a:rPr sz="3600"/>
            </a:br>
            <a:r>
              <a:rPr b="1" lang="ru-RU" sz="3600" spc="-1" strike="noStrike">
                <a:solidFill>
                  <a:srgbClr val="c0c0c0"/>
                </a:solidFill>
                <a:latin typeface="Arial"/>
              </a:rPr>
              <a:t>Ирина Викторовна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56760" y="4214520"/>
            <a:ext cx="442908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высшей категор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-методи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орожской гимназии №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rcRect l="2633" t="1533" r="0" b="1533"/>
          <a:stretch/>
        </p:blipFill>
        <p:spPr>
          <a:xfrm>
            <a:off x="5572080" y="1643040"/>
            <a:ext cx="2857680" cy="4071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D:\Семейная\Ирина\Анимашки\дельфин gif"/>
          <p:cNvPicPr/>
          <p:nvPr/>
        </p:nvPicPr>
        <p:blipFill>
          <a:blip r:embed="rId2"/>
          <a:stretch/>
        </p:blipFill>
        <p:spPr>
          <a:xfrm>
            <a:off x="1285920" y="50004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D:\Семейная\Ирина\Анимашки\дельфин gif"/>
          <p:cNvPicPr/>
          <p:nvPr/>
        </p:nvPicPr>
        <p:blipFill>
          <a:blip r:embed="rId3"/>
          <a:stretch/>
        </p:blipFill>
        <p:spPr>
          <a:xfrm>
            <a:off x="2000160" y="500040"/>
            <a:ext cx="962280" cy="952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D:\Семейная\Ирина\Анимашки\дельфин gif"/>
          <p:cNvPicPr/>
          <p:nvPr/>
        </p:nvPicPr>
        <p:blipFill>
          <a:blip r:embed="rId4"/>
          <a:stretch/>
        </p:blipFill>
        <p:spPr>
          <a:xfrm>
            <a:off x="500040" y="50004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D:\Семейная\Ирина\Анимашки\дельфин gif"/>
          <p:cNvPicPr/>
          <p:nvPr/>
        </p:nvPicPr>
        <p:blipFill>
          <a:blip r:embed="rId5"/>
          <a:stretch/>
        </p:blipFill>
        <p:spPr>
          <a:xfrm>
            <a:off x="2714760" y="500040"/>
            <a:ext cx="961920" cy="952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D:\Семейная\Ирина\Анимашки\дельфин gif"/>
          <p:cNvPicPr/>
          <p:nvPr/>
        </p:nvPicPr>
        <p:blipFill>
          <a:blip r:embed="rId6"/>
          <a:stretch/>
        </p:blipFill>
        <p:spPr>
          <a:xfrm>
            <a:off x="3429000" y="500040"/>
            <a:ext cx="96192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100"/>
                            </p:stCondLst>
                            <p:childTnLst>
                              <p:par>
                                <p:cTn id="3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850"/>
                            </p:stCondLst>
                            <p:childTnLst>
                              <p:par>
                                <p:cTn id="3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ть методические материалы, объясняющие правила поведения на в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Рисунок 79" descr="http://www.mambulus.ru/card/92/92_55.jpg"/>
          <p:cNvPicPr/>
          <p:nvPr/>
        </p:nvPicPr>
        <p:blipFill>
          <a:blip r:embed="rId1"/>
          <a:stretch/>
        </p:blipFill>
        <p:spPr>
          <a:xfrm>
            <a:off x="4572000" y="28576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42560" y="428760"/>
            <a:ext cx="86439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за летний отдых без купания? Тоска, да и только. Особенно когда солнышко припекает, а прохладная вода пруда или речки, озера или моря так и манит, так и приглашает окуну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Рисунок 82" descr="http://www.mambulus.ru/card/92/92_54.jpg"/>
          <p:cNvPicPr/>
          <p:nvPr/>
        </p:nvPicPr>
        <p:blipFill>
          <a:blip r:embed="rId1"/>
          <a:stretch/>
        </p:blipFill>
        <p:spPr>
          <a:xfrm>
            <a:off x="1928880" y="3143160"/>
            <a:ext cx="5715000" cy="3441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85480" y="571680"/>
            <a:ext cx="8643960" cy="57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унуться и поплавать – это хорошо, даже полезно. А еще лучше купаться с комфортом. То есть с удобствами. Думаете, я посоветую купаться только в бассейне или джакузи? Вовсе нет! Но мелочи (а на самом деле – очень даже крупности), о которых вы не подумали могут испортить все удовольств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вот какие!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D:\Семейная\Ирина\Анимашки\купание .gif"/>
          <p:cNvPicPr/>
          <p:nvPr/>
        </p:nvPicPr>
        <p:blipFill>
          <a:blip r:embed="rId1"/>
          <a:stretch/>
        </p:blipFill>
        <p:spPr>
          <a:xfrm>
            <a:off x="5929200" y="4929120"/>
            <a:ext cx="2000520" cy="1357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85840" y="214200"/>
            <a:ext cx="8501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ежде всего спросите у взрослы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 стоит ли вообще купаться в этом озере (реке, пруду) – достаточно ли чистая там вода. А то еще подхватите какую-нибудь инфекцию и будете лечиться все оставшееся лето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Рисунок 115" descr="http://www.mambulus.ru/card/92/92_59.jpg"/>
          <p:cNvPicPr/>
          <p:nvPr/>
        </p:nvPicPr>
        <p:blipFill>
          <a:blip r:embed="rId1"/>
          <a:stretch/>
        </p:blipFill>
        <p:spPr>
          <a:xfrm>
            <a:off x="4429080" y="3000240"/>
            <a:ext cx="4222800" cy="352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42920" y="356760"/>
            <a:ext cx="87868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икогда не купайтесь в одиночку в незнакомом мест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Впрочем, в знакомом тоже. И никогда не заплывайте  далеко от берега – только с друзьями, которые плавают не хуже вас. Мало ли что... Да и скучно одному, правда? А вообще запомните, что безопаснее всего купаться в зоне, огороженной буйками или поплавками. Поверьте, их не просто так устанавливают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6" descr="D:\Семейная\Ирина\Анимашки\плавание 3gif"/>
          <p:cNvPicPr/>
          <p:nvPr/>
        </p:nvPicPr>
        <p:blipFill>
          <a:blip r:embed="rId1"/>
          <a:stretch/>
        </p:blipFill>
        <p:spPr>
          <a:xfrm>
            <a:off x="5857920" y="5572080"/>
            <a:ext cx="2762280" cy="676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85840" y="356760"/>
            <a:ext cx="84009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 холодную воду заходите медлен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особенно если это первое ваше купание в этом сезоне. Иначе может свести ногу. Или голова закружится.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D:\Семейная\Ирина\Анимашки\пляж 1.gif"/>
          <p:cNvPicPr/>
          <p:nvPr/>
        </p:nvPicPr>
        <p:blipFill>
          <a:blip r:embed="rId1"/>
          <a:stretch/>
        </p:blipFill>
        <p:spPr>
          <a:xfrm>
            <a:off x="1357200" y="407196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D:\Семейная\Ирина\Анимашки\прав купан 8"/>
          <p:cNvPicPr/>
          <p:nvPr/>
        </p:nvPicPr>
        <p:blipFill>
          <a:blip r:embed="rId2"/>
          <a:stretch/>
        </p:blipFill>
        <p:spPr>
          <a:xfrm>
            <a:off x="3929040" y="3000240"/>
            <a:ext cx="4633920" cy="3119400"/>
          </a:xfrm>
          <a:prstGeom prst="rect">
            <a:avLst/>
          </a:prstGeom>
          <a:ln w="0">
            <a:noFill/>
          </a:ln>
        </p:spPr>
      </p:pic>
      <p:sp>
        <p:nvSpPr>
          <p:cNvPr id="228" name="Содержимое 2"/>
          <p:cNvSpPr/>
          <p:nvPr/>
        </p:nvSpPr>
        <p:spPr>
          <a:xfrm>
            <a:off x="3929040" y="5286240"/>
            <a:ext cx="4643640" cy="1071720"/>
          </a:xfrm>
          <a:prstGeom prst="rect">
            <a:avLst/>
          </a:prstGeom>
          <a:solidFill>
            <a:srgbClr val="6e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54a"/>
                </a:solidFill>
                <a:latin typeface="Arial"/>
              </a:rPr>
              <a:t>Входите в воду не сраз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54a"/>
                </a:solidFill>
                <a:latin typeface="Arial"/>
              </a:rPr>
              <a:t>а постепен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85480" y="428400"/>
            <a:ext cx="86439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е ныряйте и не прыгайте с обрыва в вод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 если вы не уверены, что дно чистое. Сначала поплавайте, а еще лучше – узнайте у местных ребят, нет ли под водой затопленных бревен или арматуры – ржавых    железок,   о    которые   можно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аниться.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" descr="D:\Семейная\Ирина\Анимашки\волны .gif"/>
          <p:cNvPicPr/>
          <p:nvPr/>
        </p:nvPicPr>
        <p:blipFill>
          <a:blip r:embed="rId1"/>
          <a:stretch/>
        </p:blipFill>
        <p:spPr>
          <a:xfrm>
            <a:off x="357120" y="5643720"/>
            <a:ext cx="1714680" cy="933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D:\Семейная\Ирина\Анимашки\волны .gif"/>
          <p:cNvPicPr/>
          <p:nvPr/>
        </p:nvPicPr>
        <p:blipFill>
          <a:blip r:embed="rId2"/>
          <a:stretch/>
        </p:blipFill>
        <p:spPr>
          <a:xfrm>
            <a:off x="2071800" y="5643720"/>
            <a:ext cx="1714320" cy="933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D:\Семейная\Ирина\Анимашки\волны .gif"/>
          <p:cNvPicPr/>
          <p:nvPr/>
        </p:nvPicPr>
        <p:blipFill>
          <a:blip r:embed="rId3"/>
          <a:stretch/>
        </p:blipFill>
        <p:spPr>
          <a:xfrm>
            <a:off x="3786120" y="5643720"/>
            <a:ext cx="1714680" cy="933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D:\Семейная\Ирина\Анимашки\прав купан 9"/>
          <p:cNvPicPr/>
          <p:nvPr/>
        </p:nvPicPr>
        <p:blipFill>
          <a:blip r:embed="rId4"/>
          <a:stretch/>
        </p:blipFill>
        <p:spPr>
          <a:xfrm>
            <a:off x="4429080" y="3429000"/>
            <a:ext cx="4367160" cy="2786040"/>
          </a:xfrm>
          <a:prstGeom prst="rect">
            <a:avLst/>
          </a:prstGeom>
          <a:ln w="0">
            <a:noFill/>
          </a:ln>
        </p:spPr>
      </p:pic>
      <p:sp>
        <p:nvSpPr>
          <p:cNvPr id="234" name="Содержимое 2"/>
          <p:cNvSpPr/>
          <p:nvPr/>
        </p:nvSpPr>
        <p:spPr>
          <a:xfrm>
            <a:off x="4429080" y="5643720"/>
            <a:ext cx="4429080" cy="928440"/>
          </a:xfrm>
          <a:prstGeom prst="rect">
            <a:avLst/>
          </a:prstGeom>
          <a:solidFill>
            <a:srgbClr val="6ed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54a"/>
                </a:solidFill>
                <a:latin typeface="Arial"/>
              </a:rPr>
              <a:t>Перед купанием   проверьте д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-360" y="356760"/>
            <a:ext cx="89298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е купайтесь в реке, по которой плавают катера или суд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Или, по крайней мере, держитесь от них подальше. Волна от катера может накрыть вас с головой –весьма сомнительное и небезопасное удовольствие.    А   ес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 подплывёте слиш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изко    к   судну,   ва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затяну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 винты. 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Рисунок 91" descr="http://www.mambulus.ru/card/92/92_64.jpg"/>
          <p:cNvPicPr/>
          <p:nvPr/>
        </p:nvPicPr>
        <p:blipFill>
          <a:blip r:embed="rId1"/>
          <a:stretch/>
        </p:blipFill>
        <p:spPr>
          <a:xfrm>
            <a:off x="5786280" y="2928960"/>
            <a:ext cx="2806920" cy="3809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D:\Семейная\Ирина\Анимашки\скутер .gif"/>
          <p:cNvPicPr/>
          <p:nvPr/>
        </p:nvPicPr>
        <p:blipFill>
          <a:blip r:embed="rId2"/>
          <a:stretch/>
        </p:blipFill>
        <p:spPr>
          <a:xfrm>
            <a:off x="642960" y="5715000"/>
            <a:ext cx="154296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7:00:27Z</dcterms:created>
  <dc:creator>Tanya</dc:creator>
  <dc:description/>
  <dc:language>en-US</dc:language>
  <cp:lastModifiedBy>Denis</cp:lastModifiedBy>
  <dcterms:modified xsi:type="dcterms:W3CDTF">2011-02-24T14:37:20Z</dcterms:modified>
  <cp:revision>35</cp:revision>
  <dc:subject/>
  <dc:title>Презентация на тему:  "Энергетические напитки" ученицы 10-Б класса Фомицкой Татьяны</dc:title>
</cp:coreProperties>
</file>