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9.gif" ContentType="image/gif"/>
  <Override PartName="/ppt/media/image7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3.gif" ContentType="image/gif"/>
  <Override PartName="/ppt/media/image8.gif" ContentType="image/gif"/>
  <Override PartName="/ppt/media/image18.jpeg" ContentType="image/jpeg"/>
  <Override PartName="/ppt/media/image24.gif" ContentType="image/gif"/>
  <Override PartName="/ppt/media/image23.jpeg" ContentType="image/jpeg"/>
  <Override PartName="/ppt/media/image20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8B8-B849-43B1-B916-9F16612D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0C0-16AD-42E9-9962-13EEC40D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D5B-ACC0-41E3-92FF-0B38BD75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673-95F7-45BB-A2B9-006532E2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928D-1BF1-4CAE-9C53-55B97472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AE50-E641-494B-B463-240B5A3B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0A99-FC07-44B4-9C61-92596126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5EC2-3BBB-4D78-886C-C23AEFFE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CA9E-EE58-4619-A9AE-6B7C2E3B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C37D-F1C1-43F5-94E7-4A87153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B268-774C-456E-B015-186B1FE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A30-037A-4583-AF23-19BBFDE0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894A-6A25-44C6-B637-1AB874DE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A68D-290F-4A8B-B927-67E90BA0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2074-CAAF-414D-8DB2-CD58A953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14E1-98FA-498E-B2A6-12748DC0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297B-7EE5-4F88-90CB-335364D6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4C5-DE06-4280-A434-B6B5900C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667-943A-4744-82F6-A265671D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FD4-750A-4B08-B191-D9884530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D16-2220-4272-B87F-B65C6135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E51-7909-4483-B3FF-744811FA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115-1FF5-4931-BE5F-0493152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C7B-442E-4DC6-9914-B38D87D5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A711-9645-4A9F-9C86-A18CD42030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B39D-DDD4-4FE8-9249-A87BACDBAC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ladmin.ru/content/5254" TargetMode="Externa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5760" y="1571760"/>
            <a:ext cx="498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равила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оведения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на воде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0012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пчий Ирин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основ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00" descr="http://www.mambulus.ru/card/92/92_61.jpg"/>
          <p:cNvPicPr/>
          <p:nvPr/>
        </p:nvPicPr>
        <p:blipFill>
          <a:blip r:embed="rId1"/>
          <a:stretch/>
        </p:blipFill>
        <p:spPr>
          <a:xfrm>
            <a:off x="225360" y="225360"/>
            <a:ext cx="378000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1384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ы плохо плаваете, держитесь поближе к берег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Так, чтобы в любой момент можно было коснуться ногами дна. И не поддавайтесь на уговоры друзей, плавающих лучше вас. Им – забава,  а  вы  рискуете наглотаться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учитесь плавать? 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гда  не заходите глубж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 поя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94" descr="http://www.mambulus.ru/card/92/92_63.jpg"/>
          <p:cNvPicPr/>
          <p:nvPr/>
        </p:nvPicPr>
        <p:blipFill>
          <a:blip r:embed="rId1"/>
          <a:stretch/>
        </p:blipFill>
        <p:spPr>
          <a:xfrm>
            <a:off x="6143760" y="3357720"/>
            <a:ext cx="2214360" cy="3381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D:\Семейная\Ирина\Анимашки\плавание 1 gif"/>
          <p:cNvPicPr/>
          <p:nvPr/>
        </p:nvPicPr>
        <p:blipFill>
          <a:blip r:embed="rId2"/>
          <a:stretch/>
        </p:blipFill>
        <p:spPr>
          <a:xfrm>
            <a:off x="1000080" y="5143680"/>
            <a:ext cx="21430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42920" y="356760"/>
            <a:ext cx="858672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стали плавать? – отдохнит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От перенапряжения могут начаться судороги. И не старайтесь установить рекорд по плаванию. Мирового рекорда вам все равно не побить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D:\Семейная\Ирина\Анимашки\прав купан 5"/>
          <p:cNvPicPr/>
          <p:nvPr/>
        </p:nvPicPr>
        <p:blipFill>
          <a:blip r:embed="rId1"/>
          <a:stretch/>
        </p:blipFill>
        <p:spPr>
          <a:xfrm>
            <a:off x="4000680" y="3214800"/>
            <a:ext cx="4429080" cy="2928960"/>
          </a:xfrm>
          <a:prstGeom prst="rect">
            <a:avLst/>
          </a:prstGeom>
          <a:ln w="0">
            <a:noFill/>
          </a:ln>
        </p:spPr>
      </p:pic>
      <p:sp>
        <p:nvSpPr>
          <p:cNvPr id="243" name="Содержимое 2"/>
          <p:cNvSpPr/>
          <p:nvPr/>
        </p:nvSpPr>
        <p:spPr>
          <a:xfrm>
            <a:off x="4000680" y="4500720"/>
            <a:ext cx="4429080" cy="2214360"/>
          </a:xfrm>
          <a:prstGeom prst="rect">
            <a:avLst/>
          </a:prstGeom>
          <a:solidFill>
            <a:srgbClr val="64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Если в воде вам стало плох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охраняйте  спокойствие.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оложении  на  спине  вы  д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лывёте  до  берега   с  мин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мальными затр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D:\Семейная\Ирина\Анимашки\плавание gif"/>
          <p:cNvPicPr/>
          <p:nvPr/>
        </p:nvPicPr>
        <p:blipFill>
          <a:blip r:embed="rId2"/>
          <a:stretch/>
        </p:blipFill>
        <p:spPr>
          <a:xfrm>
            <a:off x="1000080" y="4429080"/>
            <a:ext cx="19670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214200"/>
            <a:ext cx="885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конец, последнее: не купайтесь подолгу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Какой бы теплой ни казалась вода, переохладиться и заболеть – проще простого. Как только вы начали покрываться “гусиной кожей”, а зубы стали отбивать чечетку, немедленно выходите из воды. После этого вытр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ь насухо и вытряси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у из ушей.   Хорош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ейтесь, поигр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яч, побегайте и толь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 идите купаться сн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97" descr="http://www.mambulus.ru/card/92/92_62.jpg"/>
          <p:cNvPicPr/>
          <p:nvPr/>
        </p:nvPicPr>
        <p:blipFill>
          <a:blip r:embed="rId1"/>
          <a:stretch/>
        </p:blipFill>
        <p:spPr>
          <a:xfrm>
            <a:off x="5857920" y="3286080"/>
            <a:ext cx="30718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3840" y="1000080"/>
            <a:ext cx="857268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я простые меры предосто-рожности и прислушиваясь к советам специалистов, вы обезопасите себя от несчастных случаев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9" descr="D:\Семейная\Ирина\Анимашки\прав купан 7"/>
          <p:cNvPicPr/>
          <p:nvPr/>
        </p:nvPicPr>
        <p:blipFill>
          <a:blip r:embed="rId1"/>
          <a:stretch/>
        </p:blipFill>
        <p:spPr>
          <a:xfrm>
            <a:off x="4357800" y="3214800"/>
            <a:ext cx="4638600" cy="29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D:\Семейная\Ирина\Анимашки\прав купан 6"/>
          <p:cNvPicPr/>
          <p:nvPr/>
        </p:nvPicPr>
        <p:blipFill>
          <a:blip r:embed="rId2"/>
          <a:stretch/>
        </p:blipFill>
        <p:spPr>
          <a:xfrm>
            <a:off x="214200" y="3214800"/>
            <a:ext cx="4000680" cy="2928960"/>
          </a:xfrm>
          <a:prstGeom prst="rect">
            <a:avLst/>
          </a:prstGeom>
          <a:ln w="0">
            <a:noFill/>
          </a:ln>
        </p:spPr>
      </p:pic>
      <p:sp>
        <p:nvSpPr>
          <p:cNvPr id="251" name="Содержимое 2"/>
          <p:cNvSpPr/>
          <p:nvPr/>
        </p:nvSpPr>
        <p:spPr>
          <a:xfrm>
            <a:off x="214200" y="5214960"/>
            <a:ext cx="4000680" cy="15001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входите в воду разгорячёнными, лучше выждать какое-то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одержимое 2"/>
          <p:cNvSpPr/>
          <p:nvPr/>
        </p:nvSpPr>
        <p:spPr>
          <a:xfrm>
            <a:off x="4357800" y="5429160"/>
            <a:ext cx="4643280" cy="12859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Будьте осторожны в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переоценивайте сво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ил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ованные источник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cheladmin.ru/content/52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iogames.ru/p21aa1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onegid.com/2009/05/03/page/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unhome.ru/cards/172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animo2.ucoz.ru/photo/mir_animashek_letnego_nastroenija/otdykh_na_more_puteshestvija/animacija_more_7/44-0-21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D:\Семейная\Ирина\Анимашки\дельфин .gif"/>
          <p:cNvPicPr/>
          <p:nvPr/>
        </p:nvPicPr>
        <p:blipFill>
          <a:blip r:embed="rId2"/>
          <a:stretch/>
        </p:blipFill>
        <p:spPr>
          <a:xfrm>
            <a:off x="285840" y="5286240"/>
            <a:ext cx="5724360" cy="533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D:\Семейная\Ирина\Анимашки\дельфин .gif"/>
          <p:cNvPicPr/>
          <p:nvPr/>
        </p:nvPicPr>
        <p:blipFill>
          <a:blip r:embed="rId3"/>
          <a:stretch/>
        </p:blipFill>
        <p:spPr>
          <a:xfrm flipH="1">
            <a:off x="1357200" y="5929200"/>
            <a:ext cx="5724720" cy="533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D:\Семейная\Ирина\Анимашки\пляж 4.gif"/>
          <p:cNvPicPr/>
          <p:nvPr/>
        </p:nvPicPr>
        <p:blipFill>
          <a:blip r:embed="rId4"/>
          <a:stretch/>
        </p:blipFill>
        <p:spPr>
          <a:xfrm>
            <a:off x="7215120" y="4572000"/>
            <a:ext cx="19288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2857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Топчий </a:t>
            </a:r>
            <a:br>
              <a:rPr sz="3600"/>
            </a:b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Ирина Викторовна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6760" y="4214520"/>
            <a:ext cx="442908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высшей категор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-метод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5572080" y="1643040"/>
            <a:ext cx="2857680" cy="4071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D:\Семейная\Ирина\Анимашки\дельфин gif"/>
          <p:cNvPicPr/>
          <p:nvPr/>
        </p:nvPicPr>
        <p:blipFill>
          <a:blip r:embed="rId2"/>
          <a:stretch/>
        </p:blipFill>
        <p:spPr>
          <a:xfrm>
            <a:off x="128592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D:\Семейная\Ирина\Анимашки\дельфин gif"/>
          <p:cNvPicPr/>
          <p:nvPr/>
        </p:nvPicPr>
        <p:blipFill>
          <a:blip r:embed="rId3"/>
          <a:stretch/>
        </p:blipFill>
        <p:spPr>
          <a:xfrm>
            <a:off x="2000160" y="500040"/>
            <a:ext cx="962280" cy="95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D:\Семейная\Ирина\Анимашки\дельфин gif"/>
          <p:cNvPicPr/>
          <p:nvPr/>
        </p:nvPicPr>
        <p:blipFill>
          <a:blip r:embed="rId4"/>
          <a:stretch/>
        </p:blipFill>
        <p:spPr>
          <a:xfrm>
            <a:off x="50004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D:\Семейная\Ирина\Анимашки\дельфин gif"/>
          <p:cNvPicPr/>
          <p:nvPr/>
        </p:nvPicPr>
        <p:blipFill>
          <a:blip r:embed="rId5"/>
          <a:stretch/>
        </p:blipFill>
        <p:spPr>
          <a:xfrm>
            <a:off x="271476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:\Семейная\Ирина\Анимашки\дельфин gif"/>
          <p:cNvPicPr/>
          <p:nvPr/>
        </p:nvPicPr>
        <p:blipFill>
          <a:blip r:embed="rId6"/>
          <a:stretch/>
        </p:blipFill>
        <p:spPr>
          <a:xfrm>
            <a:off x="3429000" y="500040"/>
            <a:ext cx="9619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00"/>
                            </p:stCondLst>
                            <p:childTnLst>
                              <p:par>
                                <p:cTn id="3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85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методические материалы, объясняющие правила поведения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79" descr="http://www.mambulus.ru/card/92/92_55.jpg"/>
          <p:cNvPicPr/>
          <p:nvPr/>
        </p:nvPicPr>
        <p:blipFill>
          <a:blip r:embed="rId1"/>
          <a:stretch/>
        </p:blipFill>
        <p:spPr>
          <a:xfrm>
            <a:off x="457200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42560" y="42876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а летний отдых без купания? Тоска, да и только. Особенно когда солнышко припекает, а прохладная вода пруда или речки, озера или моря так и манит, так и приглашает окуну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82" descr="http://www.mambulus.ru/card/92/92_54.jpg"/>
          <p:cNvPicPr/>
          <p:nvPr/>
        </p:nvPicPr>
        <p:blipFill>
          <a:blip r:embed="rId1"/>
          <a:stretch/>
        </p:blipFill>
        <p:spPr>
          <a:xfrm>
            <a:off x="1928880" y="3143160"/>
            <a:ext cx="5715000" cy="3441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480" y="571680"/>
            <a:ext cx="864396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унуться и поплавать – это хорошо, даже полезно. А еще лучше купаться с комфортом. То есть с удобствами. Думаете, я посоветую купаться только в бассейне или джакузи? Вовсе нет! Но мелочи (а на самом деле – очень даже крупности), о которых вы не подумали могут испортить все удовольств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вот какие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D:\Семейная\Ирина\Анимашки\купание .gif"/>
          <p:cNvPicPr/>
          <p:nvPr/>
        </p:nvPicPr>
        <p:blipFill>
          <a:blip r:embed="rId1"/>
          <a:stretch/>
        </p:blipFill>
        <p:spPr>
          <a:xfrm>
            <a:off x="5929200" y="4929120"/>
            <a:ext cx="200052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85840" y="214200"/>
            <a:ext cx="8501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ежде всего спросите у взросл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стоит ли вообще купаться в этом озере (реке, пруду) – достаточно ли чистая там вода. А то еще подхватите какую-нибудь инфекцию и будете лечиться все оставшееся лето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115" descr="http://www.mambulus.ru/card/92/92_59.jpg"/>
          <p:cNvPicPr/>
          <p:nvPr/>
        </p:nvPicPr>
        <p:blipFill>
          <a:blip r:embed="rId1"/>
          <a:stretch/>
        </p:blipFill>
        <p:spPr>
          <a:xfrm>
            <a:off x="4429080" y="3000240"/>
            <a:ext cx="4222800" cy="352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42920" y="356760"/>
            <a:ext cx="8786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икогда не купайтесь в одиночку в незнакомом мест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прочем, в знакомом тоже. И никогда не заплывайте  далеко от берега – только с друзьями, которые плавают не хуже вас. Мало ли что... Да и скучно одному, правда? А вообще запомните, что безопаснее всего купаться в зоне, огороженной буйками или поплавками. Поверьте, их не просто так устанавливают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6" descr="D:\Семейная\Ирина\Анимашки\плавание 3gif"/>
          <p:cNvPicPr/>
          <p:nvPr/>
        </p:nvPicPr>
        <p:blipFill>
          <a:blip r:embed="rId1"/>
          <a:stretch/>
        </p:blipFill>
        <p:spPr>
          <a:xfrm>
            <a:off x="5857920" y="5572080"/>
            <a:ext cx="2762280" cy="67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840" y="356760"/>
            <a:ext cx="8400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холодную воду заходите медл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собенно если это первое ваше купание в этом сезоне. Иначе может свести ногу. Или голова закружится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D:\Семейная\Ирина\Анимашки\пляж 1.gif"/>
          <p:cNvPicPr/>
          <p:nvPr/>
        </p:nvPicPr>
        <p:blipFill>
          <a:blip r:embed="rId1"/>
          <a:stretch/>
        </p:blipFill>
        <p:spPr>
          <a:xfrm>
            <a:off x="1357200" y="407196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D:\Семейная\Ирина\Анимашки\прав купан 8"/>
          <p:cNvPicPr/>
          <p:nvPr/>
        </p:nvPicPr>
        <p:blipFill>
          <a:blip r:embed="rId2"/>
          <a:stretch/>
        </p:blipFill>
        <p:spPr>
          <a:xfrm>
            <a:off x="3929040" y="3000240"/>
            <a:ext cx="4633920" cy="3119400"/>
          </a:xfrm>
          <a:prstGeom prst="rect">
            <a:avLst/>
          </a:prstGeom>
          <a:ln w="0">
            <a:noFill/>
          </a:ln>
        </p:spPr>
      </p:pic>
      <p:sp>
        <p:nvSpPr>
          <p:cNvPr id="228" name="Содержимое 2"/>
          <p:cNvSpPr/>
          <p:nvPr/>
        </p:nvSpPr>
        <p:spPr>
          <a:xfrm>
            <a:off x="3929040" y="5286240"/>
            <a:ext cx="4643640" cy="107172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Входите в воду не сраз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а постеп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480" y="428400"/>
            <a:ext cx="8643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ныряйте и не прыгайте с обрыва в в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если вы не уверены, что дно чистое. Сначала поплавайте, а еще лучше – узнайте у местных ребят, нет ли под водой затопленных бревен или арматуры – ржавых    железок,   о    которые   можн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аниться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D:\Семейная\Ирина\Анимашки\волны .gif"/>
          <p:cNvPicPr/>
          <p:nvPr/>
        </p:nvPicPr>
        <p:blipFill>
          <a:blip r:embed="rId1"/>
          <a:stretch/>
        </p:blipFill>
        <p:spPr>
          <a:xfrm>
            <a:off x="357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D:\Семейная\Ирина\Анимашки\волны .gif"/>
          <p:cNvPicPr/>
          <p:nvPr/>
        </p:nvPicPr>
        <p:blipFill>
          <a:blip r:embed="rId2"/>
          <a:stretch/>
        </p:blipFill>
        <p:spPr>
          <a:xfrm>
            <a:off x="2071800" y="5643720"/>
            <a:ext cx="1714320" cy="93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Семейная\Ирина\Анимашки\волны .gif"/>
          <p:cNvPicPr/>
          <p:nvPr/>
        </p:nvPicPr>
        <p:blipFill>
          <a:blip r:embed="rId3"/>
          <a:stretch/>
        </p:blipFill>
        <p:spPr>
          <a:xfrm>
            <a:off x="3786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D:\Семейная\Ирина\Анимашки\прав купан 9"/>
          <p:cNvPicPr/>
          <p:nvPr/>
        </p:nvPicPr>
        <p:blipFill>
          <a:blip r:embed="rId4"/>
          <a:stretch/>
        </p:blipFill>
        <p:spPr>
          <a:xfrm>
            <a:off x="4429080" y="3429000"/>
            <a:ext cx="4367160" cy="2786040"/>
          </a:xfrm>
          <a:prstGeom prst="rect">
            <a:avLst/>
          </a:prstGeom>
          <a:ln w="0">
            <a:noFill/>
          </a:ln>
        </p:spPr>
      </p:pic>
      <p:sp>
        <p:nvSpPr>
          <p:cNvPr id="234" name="Содержимое 2"/>
          <p:cNvSpPr/>
          <p:nvPr/>
        </p:nvSpPr>
        <p:spPr>
          <a:xfrm>
            <a:off x="4429080" y="5643720"/>
            <a:ext cx="4429080" cy="92844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Перед купанием   проверьте д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360" y="356760"/>
            <a:ext cx="89298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купайтесь в реке, по которой плавают катера или суд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ли, по крайней мере, держитесь от них подальше. Волна от катера может накрыть вас с головой –весьма сомнительное и небезопасное удовольствие.    А   ес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 подплывёте слиш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изко    к   судну,   в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затяну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 винты. 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91" descr="http://www.mambulus.ru/card/92/92_64.jpg"/>
          <p:cNvPicPr/>
          <p:nvPr/>
        </p:nvPicPr>
        <p:blipFill>
          <a:blip r:embed="rId1"/>
          <a:stretch/>
        </p:blipFill>
        <p:spPr>
          <a:xfrm>
            <a:off x="5786280" y="2928960"/>
            <a:ext cx="280692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D:\Семейная\Ирина\Анимашки\скутер .gif"/>
          <p:cNvPicPr/>
          <p:nvPr/>
        </p:nvPicPr>
        <p:blipFill>
          <a:blip r:embed="rId2"/>
          <a:stretch/>
        </p:blipFill>
        <p:spPr>
          <a:xfrm>
            <a:off x="642960" y="5715000"/>
            <a:ext cx="15429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00:27Z</dcterms:created>
  <dc:creator>Tanya</dc:creator>
  <dc:description/>
  <dc:language>en-US</dc:language>
  <cp:lastModifiedBy>Denis</cp:lastModifiedBy>
  <dcterms:modified xsi:type="dcterms:W3CDTF">2011-02-24T14:37:20Z</dcterms:modified>
  <cp:revision>35</cp:revision>
  <dc:subject/>
  <dc:title>Презентация на тему:  "Энергетические напитки" ученицы 10-Б класса Фомицкой Татьяны</dc:title>
</cp:coreProperties>
</file>