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F02-8E00-44B0-B384-BEA83D77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3EE-327D-4B99-AB2D-0697FECC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407-4C7C-4256-8B60-95FBF97A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642-1269-4CE0-B225-1EB90D61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066-3FE8-49E6-9876-AF5A9EC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5ED-0FEC-45C5-96F3-E0A2988C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2DB-EAD0-4D7D-9958-D5E83609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4BC-3B3B-4A18-AF64-87D05576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F7F-177B-49A0-991C-EE4F7182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2F5-B526-431D-8635-F842624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8F1-5B5F-4E31-9F15-E9721D5C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E37-DC95-4356-B461-ADB1FF83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34B-A3E6-439B-AB43-E0214E80F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авила перевозки пассажиров на транспортных средств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ования ПДД к перевозке пассажиров на транспорт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безопасного поведения пассажиров в Д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2"/>
          <p:cNvSpPr/>
          <p:nvPr/>
        </p:nvSpPr>
        <p:spPr>
          <a:xfrm>
            <a:off x="3059280" y="3213000"/>
            <a:ext cx="3097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возка пассажиров на транспортных сред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419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правила перевозки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IMAGE0006"/>
          <p:cNvPicPr/>
          <p:nvPr/>
        </p:nvPicPr>
        <p:blipFill>
          <a:blip r:embed="rId1">
            <a:lum bright="6000"/>
          </a:blip>
          <a:srcRect l="52" t="0" r="0" b="0"/>
          <a:stretch/>
        </p:blipFill>
        <p:spPr>
          <a:xfrm>
            <a:off x="6588000" y="4724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IMAGE000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501336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AGE0004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72360" y="1700280"/>
            <a:ext cx="2016000" cy="97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IMAGE000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1413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IMAGE0002"/>
          <p:cNvPicPr/>
          <p:nvPr/>
        </p:nvPicPr>
        <p:blipFill>
          <a:blip r:embed="rId5"/>
          <a:stretch/>
        </p:blipFill>
        <p:spPr>
          <a:xfrm>
            <a:off x="3564000" y="981000"/>
            <a:ext cx="1944720" cy="85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6"/>
          <a:stretch/>
        </p:blipFill>
        <p:spPr>
          <a:xfrm>
            <a:off x="3708360" y="530064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50920" y="83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десь пассажиром может быть лицо старше 1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3492360" y="2205000"/>
            <a:ext cx="21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следует проводить посадку и высадку пассажи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6948360" y="836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мни безопасности оправдываю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372360" y="335772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знавательный знак «Перевозка детей» обязателен в дан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3276720" y="422100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ссажиров не должно быть сверх мест, предназначенных для их перево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24000" y="364500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узове грузового автомобиля перевозка детей запрещена в любом слу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1042920" y="1557360"/>
            <a:ext cx="2890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>
            <a:off x="1547640" y="4581360"/>
            <a:ext cx="43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7451640" y="134136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H="1" flipV="1">
            <a:off x="4211280" y="1916280"/>
            <a:ext cx="431640" cy="28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284720" y="5084640"/>
            <a:ext cx="14292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7596360" y="4221000"/>
            <a:ext cx="14436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ПАССАЖИРОВ ПРИ НЕИЗБЕЖНОСТИ ДОРОЖНО - ТРАНСПОРТНОГО ПРОИС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341360"/>
          <a:ext cx="8424720" cy="5237280"/>
        </p:xfrm>
        <a:graphic>
          <a:graphicData uri="http://schemas.openxmlformats.org/drawingml/2006/table">
            <a:tbl>
              <a:tblPr/>
              <a:tblGrid>
                <a:gridCol w="1522440"/>
                <a:gridCol w="1501560"/>
                <a:gridCol w="503280"/>
                <a:gridCol w="4897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Д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пассаж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защ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б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упереться в переднюю пане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ереться плечом в спинку переднего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одок прижать к груди, а руками защитить голо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схватиться за переднее си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ий у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киды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10"/>
          <p:cNvSpPr/>
          <p:nvPr/>
        </p:nvSpPr>
        <p:spPr>
          <a:xfrm>
            <a:off x="-5505840" y="90360"/>
            <a:ext cx="201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урок будет интересен учителям, активно применяющим в своей работе технологии КСО, различные методы мотивации и стимулирования деятельности учащихся. Урок показывает, каким образом можно реализовать интерактивные методы и приемы обучения в рамках предмета ОБ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Энциклопедия Аванта+ «Личная безопасность», 200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традь по ПДД, 1-4 класс. Издательство «Просвещение»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Личные рисунк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2"/>
          <p:cNvSpPr/>
          <p:nvPr/>
        </p:nvSpPr>
        <p:spPr>
          <a:xfrm>
            <a:off x="5796000" y="4724280"/>
            <a:ext cx="30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989000"/>
            <a:ext cx="151272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56360" y="119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79640" y="1773360"/>
            <a:ext cx="3024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цо, кроме водителя, находящееся в транспортном средстве, а также лицо, которое входит или выходит из транспортного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2124000" y="21337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5076720" y="220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4797360"/>
            <a:ext cx="16570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867280" y="4724280"/>
            <a:ext cx="28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, предназначенное для перевозки по дорогам  людей, грузов или оборудования, установленного на 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2454480" cy="1514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9"/>
          <p:cNvSpPr/>
          <p:nvPr/>
        </p:nvSpPr>
        <p:spPr>
          <a:xfrm>
            <a:off x="529272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34000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2305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27280" y="620640"/>
            <a:ext cx="244980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анспортное средство, приводимое в движение мускульной силой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2708280"/>
            <a:ext cx="1584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372360" y="2349360"/>
            <a:ext cx="230328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08908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6372360" y="234936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ухколесное механическое транспортное средство с боковым прицепом или без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449440" cy="153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250920" y="4941720"/>
            <a:ext cx="1944720" cy="93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796000" y="4508640"/>
            <a:ext cx="295272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796000" y="4581360"/>
            <a:ext cx="30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бытие, возникшее в процессе движения по дороге транспортного средства и с его участием, при котором погибли или ранены люди, а также повреждены сами транспор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Мерседес-Бенц"/>
          <p:cNvPicPr/>
          <p:nvPr/>
        </p:nvPicPr>
        <p:blipFill>
          <a:blip r:embed="rId3"/>
          <a:stretch/>
        </p:blipFill>
        <p:spPr>
          <a:xfrm>
            <a:off x="3059280" y="4508640"/>
            <a:ext cx="2233440" cy="1692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0"/>
          <p:cNvSpPr/>
          <p:nvPr/>
        </p:nvSpPr>
        <p:spPr>
          <a:xfrm>
            <a:off x="212400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543564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2"/>
          <p:cNvSpPr/>
          <p:nvPr/>
        </p:nvSpPr>
        <p:spPr>
          <a:xfrm>
            <a:off x="5651640" y="2852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2195640" y="29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5364000" y="5229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2411280" y="530064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140360" y="4292640"/>
            <a:ext cx="485640" cy="718920"/>
          </a:xfrm>
          <a:prstGeom prst="upArrow">
            <a:avLst>
              <a:gd name="adj1" fmla="val 50000"/>
              <a:gd name="adj2" fmla="val 37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1128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иться в автомобиль и выходить из него можно только со стороны проезжей части или обочины и обязательно после его полной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AGE00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4211640" y="458136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03280" y="189000"/>
            <a:ext cx="6048360" cy="4319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826920" y="5157720"/>
            <a:ext cx="7777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мотоцикле тем, кому еще нет 12 лет разрешено ехать только в коляске, и лишь после 12 лет – на заднем сидении за водителем. Причем пассажиров не должно быть сверх мест, предназначенных для их перевозки. В любом случае – наденьте на голову мотош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2195640" y="1197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380360" y="4941720"/>
            <a:ext cx="485640" cy="400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844640"/>
            <a:ext cx="3671640" cy="23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16360" y="2060640"/>
            <a:ext cx="3529080" cy="2679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826920" y="333360"/>
            <a:ext cx="7490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12 – летнего возраста в легковом автомобиле ваше место на заднем си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258920" y="566100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лишь с 12 лет можно располагаться рядом с водителем, но при этом обязательно пристегнуться ремнем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ОНОЛОГИЯ ПОСЛЕДСТВИЙ ДТП ДЛЯ ВОДИТЕЛЯ И ПАССАЖ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263600"/>
          <a:ext cx="7920000" cy="4546800"/>
        </p:xfrm>
        <a:graphic>
          <a:graphicData uri="http://schemas.openxmlformats.org/drawingml/2006/table">
            <a:tbl>
              <a:tblPr/>
              <a:tblGrid>
                <a:gridCol w="2521080"/>
                <a:gridCol w="539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ОТ МОМЕНТА СТОЛ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26 секу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авливается бампер до линии передних си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ассажиры со скоростью 80 км/ч продолжают движение в са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39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вместе с передним сидением передвигается вперед на 15 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44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н грудной клеткой ломает р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50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всех пассажиров начинает действовать сила, в 80 раз превышающая их собственный в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68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с силой в 9 тонн ударяется о приборный щит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92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и сидящий рядом пассажир врезаются головами в переднее ветровое стекло и получают смертельные повреждения чере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висший на руле водитель отбрасывается назад, он уже м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1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мобиль начинает откатываться наз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 113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дящий за рулем водитель сталкивается с пассажиром сзади, нанося ему смертельные пов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ЧЕМ ЗА 0,2 СЕКУНДЫ ВСЕ О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83664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 автомобиля при столкнов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ы, аналогичные падению с выс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 (одно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 (семи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ределение элементов оборудования автомобиля по частоте причиняемых ими травм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496800" y="1643040"/>
          <a:ext cx="40482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43040"/>
                    <a:ext cx="40482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4653000" y="1687680"/>
          <a:ext cx="4025880" cy="47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687680"/>
                    <a:ext cx="4025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AutoShape 6"/>
          <p:cNvSpPr/>
          <p:nvPr/>
        </p:nvSpPr>
        <p:spPr>
          <a:xfrm>
            <a:off x="4140360" y="177336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КарМаН</cp:lastModifiedBy>
  <dcterms:modified xsi:type="dcterms:W3CDTF">2012-03-02T12:18:47Z</dcterms:modified>
  <cp:revision>13</cp:revision>
  <dc:subject/>
  <dc:title>Слайд 1</dc:title>
</cp:coreProperties>
</file>