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0815-C7A6-4514-A035-A592E2EC8F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48CF-37A7-4C1D-820F-B2FF3E7315E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9F51-210E-4F98-9159-4987026A9A0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82E9-D712-4D83-B1AC-6326B3E32B6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6BEE-9544-4848-89EF-E68903E6583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CD5A-AC3A-4835-BAC2-E27CFC80898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B789-9829-4F5E-80DD-59AECE882CE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D5E4-1699-49B8-89F4-91E0D3C313E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A9C3-5D67-4BC4-A674-3C3D11A502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C5CC-E51D-4266-9980-DBB7E1812F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5887-AFAE-4F4C-A5C8-288CA670197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88F7-C694-478C-99E0-0445086FAC6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804F-91FF-460A-AD46-3EB462C499F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3D9D-6821-4479-9F61-DFABF10FA63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C9B9-A701-4BC6-9943-F8B91B56AC4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FE48-CDF9-405A-AC92-55359570FE3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D843-76EE-43E7-8E16-54C32F6EDC0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C820-23CE-4F1F-AAF9-4C91401C584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E480-14E8-4DCC-983F-0A6886D2D59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1C57-AA23-49F5-BBB1-6F1BE78308D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8C5A-EFF3-4AB1-817C-DA923B88519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71ED-E21C-4F75-B1DA-7C410105F70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468D-F039-48C1-81E5-6EEC51A4833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0958-AD50-4888-9EE3-663F2C2E32A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62FE-B3ED-43E6-87AE-264AC2D5688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B11A-FD43-40A6-84DE-AED41B1C91D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4442-533D-468D-8B60-6794487AE24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1E46-14CE-48F4-A482-4D1ACE62966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4626-4F4D-472C-A595-F011A4DFFE9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B95A-E2A2-486E-A157-1A1D08708B0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9D29-4D00-4C7E-9E99-44938C8399A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878-0347-4C7A-A803-58BCE764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AC3-E0ED-4DB8-812A-CAD673A0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BAC67-5BA0-476E-AF3B-2CEEF0C5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48718-DEAB-4D6A-AB9F-4B390FF7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D6EF7-CC5A-4046-8790-804A691B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DE53B-4BFE-4354-A690-7B043806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C4250-EEBA-4082-8D91-BD8C904C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270A8-10E4-4876-861F-3CA3EFEB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12651-D2C2-4AB7-80CA-CC4987BC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E67F5-74E9-4E1C-8ACC-5FECBD2B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05F26-D193-42B0-8FEB-8E57DCA9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11E5D-8197-42ED-8BF6-9090F842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8F2-38A8-4DF1-9FCF-BC4BDD89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2F77E-A3E1-4C4A-BE6A-3701908D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76BCA-D58C-4EAA-B479-67CC5894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A6E6C-2DAF-428D-9B18-04DDF31E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9B4EB-9CC6-4F4C-8AC4-F33156BC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2F058-E4BD-4C57-8E9A-F040477D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E7495-4A5A-44FC-9D55-3E0647A6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C1B46-2E4B-471A-8DF9-8E345B6C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0A7E4-04C1-47F1-9BD3-4C5E2E9F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16F48-8C1A-4977-88C0-632C6E68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627E7-CF3D-41B3-9CD3-D368FAAF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56C6-2DD5-4DC6-8801-A620861E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DF42D-451F-49CF-A6E6-3DCDC131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86BAE-9E9D-47E0-B96A-08B297E6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98770-8D27-4D21-B9B8-6AA8156E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CA10B-31DD-4D40-A069-DC54BC9D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EB7D6-2BD6-4F8D-9BF8-4D06406F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83DC1-0E52-40EF-997E-2680F425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AB241-3730-45DC-AE7A-4796198B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23D22-04D7-4340-8E8F-000C5A27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8F0FF-A74F-4FFF-9506-953F3384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9FFE0-E08E-420B-BD73-5D5D1B0C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4E1B-E859-4C2A-9B5A-115B121F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C493D-73C3-4EC7-B4E1-94EC4BE2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2D88F-603B-4039-AA4E-60DB6E60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E6D3F-48EB-4D46-B821-65907534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9CFB4-1DEC-471E-A997-EBF3E7A4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E68E8-C753-41AE-B035-19D655B1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BD118-0A1D-40C8-B001-BCAAACD4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BC3F0-85D0-4A58-9EF6-D91A9824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6C36C-02EF-44AD-AA09-B5FEFF19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FCEBF-61BB-4E7F-871F-AD1389E1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E64FD-A07B-405E-9DAE-C9E9C38D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AC6C-8179-4732-B725-70D78BF2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EAAEE-39A0-4444-A8C1-D1CBC44E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F7AFF-804F-4B02-BDA6-72B61718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71C44-F590-44B4-B84B-E7D5F08B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22063-44A7-438C-9532-E60D5A83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D1E14-FF93-4146-AC54-9D6E9C15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B746-5523-47C1-B1C2-90820F17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8801-C8D7-4CFD-B053-98D74264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60D2-78EA-465B-A237-5A983E91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D18E-98A0-47B8-A876-BC2701D9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E0A1-74F5-4CFD-9D5A-4C7ED8D1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7B8-2B44-4901-A166-B26072F2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CEC2-8DC8-4EC9-85EA-12455231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B7A7-D542-4DB5-B75F-211D3340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D6E2-C257-43A7-ABC6-CCA4050C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B419-4C88-43E2-81C3-8175A181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1C52-B147-4D4E-B9BF-AA81EA06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4D2C3-8EA2-4A7C-8DE1-487664D0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8044-033D-4ACD-96FB-BFA6E7D9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0CC3B-ABA7-4BBA-AA5F-DFE121DA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C8A6F-7C07-4B52-B756-989FF4DD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800A1-050E-47AA-9763-7F5B20B8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0E0-099A-4E28-B2E5-ABA7776C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ED540-DAA2-47B8-B0F0-C4F50FDF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67BE-F4F5-4504-95DB-8B4AE1D1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1A641-7E04-4440-94F7-B81932ED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67468-EAA4-41E4-A995-77E18697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6123B-26F8-4A06-A3E2-BB902E06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76BD-1E8D-4660-B3C5-9F08608D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AA865-64E9-4AB9-896A-648139A4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6B0FB-A751-4FF7-AAC6-782D66FF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BAEE5-F604-40B2-A665-C68FBA77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1B358-E207-4EA6-A800-AFF9CA14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B62-B170-45CF-836D-D48912AB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5B0D7-1B7D-4DB2-ADC7-F92EF6C1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EDE27-A8AA-4180-A46B-90DB7AA1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38946-4238-4C69-B4CD-E59C6CFB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CCA6E-201B-4950-B38F-805FD694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6A3FD-E35F-4F94-9C40-72BD0C6E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EB3A5-30DF-4071-8581-8445B1F9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17056-53AB-4A52-84EF-C2EEFC10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2EECC-B4E5-4BE4-87AD-A6D38782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C6E33-0EFC-4C5C-9283-4ABE53E9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A2EA9-446F-411C-B674-6F7A064E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05D-9962-4A2A-9000-50A63B51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B99C2-E075-44F3-8478-09544E41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A8457-70D2-44B1-93F2-8B4150B5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C7E50-36CC-4264-B305-107412AE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9B04D-9114-4756-AFE2-E2620A39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4B52B-916D-4768-A24B-1342FE12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40351-A7E9-4E8D-9812-7FC7B645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1AE52-876F-4383-BFD4-D669734F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815A8-C149-4361-B7AD-587653D8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1D81E-36BD-4530-B52C-502E1F57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BDBE9-7253-4620-93E2-B85FB6BC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7D0-0751-4FAA-BBC3-B6BA2DEF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8B201-C3B9-4963-A498-61A54CEA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FBBC1-59DA-401C-806A-82E3A602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FFA66-2D29-4642-8CCA-24A8972D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D14F5-44ED-4F2A-9FB8-CA45BEAE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00A4E-67B1-4E92-8E88-CC0C63F0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B774B-8823-408D-9399-B0B5ECCD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AE115-EB17-4AED-A967-3F086D15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882CD-E5BE-492A-B57D-04FCD6B2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7A903-B7E4-40DD-905E-826D25F0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BDD6E-8335-45E9-890B-2879AC8D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9FF-3B0C-453D-9A15-572B35F4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67307-6176-4E4F-8560-03C92D41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91952-6CA8-4D9C-AE3D-1470D090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32D69-C516-416E-8A0F-EF21632B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5BC3A-9E66-4B65-A9DB-55CDEC47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7B036-60C4-479B-9B81-561AB6EC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C22E5-50CA-44AE-8446-749466FC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7DE22-971E-4178-8811-9CE8DE51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7BF97-EF60-42DC-9899-73837F94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75153-C122-456B-9F39-7AB2E7B8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07D2F-BAA8-47C7-9FC6-60C431C0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853-D33C-4133-836C-75A9CBD6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BE1BB-6D53-4459-8A11-CF80AE16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B53FC-F754-4D57-8CA3-DFE9D4F4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EB8A3-881D-4EA4-8A68-8CC3B116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2AFD0-FE7D-46AF-914D-0444622B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1F764-FFC0-4807-A2C7-84AD3344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103F4-CBB5-4A93-82D7-13031E0D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447EE-3040-4390-AA0A-4245904E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FD86D-AC1F-4FC3-A781-9E36866F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FCCE3-E137-4980-938F-54A63AEF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B31C5-9BF9-4CA0-9A10-19684E12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D67E-7FC4-46E6-B551-70EF2445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23C5F-13DA-4E27-8016-0151C776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3F5B3-B7E1-4677-B948-530C5EAB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D6F3B-673B-4E97-83AF-F7E450C5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9BC83-4364-409C-83BE-37A652E1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2108E-83D7-4B84-AF1F-63C0A5DD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856E1-4871-410D-AEB1-328CBE2C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663B1-0462-4098-A117-1E031A31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C86C4-4BB4-4F5F-9700-73F73654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B732B-02BD-4E57-B6BA-8AFBA9D8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F91F3-B4D5-4D7F-B9CF-4C4170F1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E3FE-82B3-47BF-8147-B2E68454A8DE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421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425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429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F7C2-BB46-4556-9666-59C88D16B1B3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152E-EEE3-48DE-969D-0DC47629B331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E30A-5A47-4D1F-866E-F0E7ABF59D65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977A-99D4-4401-B6C5-2DAB094DA464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42F8-A0F3-493C-AFD1-675B77648554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A660-1272-48CB-9C9E-88E918AA9F14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F981-A016-477C-929F-C23693E6D2F4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AA08-01EE-4009-ACA2-E89EE7747736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947E-567C-4937-AC94-B3BBB545F469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10E8-EA72-45C9-ADC3-EE545492C97F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9DB3-C1F7-42DA-BA8E-0591D7D5EBEE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ulenspiegel.od.ua/rozhdenie-prometeja" TargetMode="External"/><Relationship Id="rId2" Type="http://schemas.openxmlformats.org/officeDocument/2006/relationships/hyperlink" Target="http://ulenspiegel.od.ua/rozhdenie-prometeja" TargetMode="External"/><Relationship Id="rId3" Type="http://schemas.openxmlformats.org/officeDocument/2006/relationships/hyperlink" Target="http://spirovopch52.ucoz.ru/publ/stikhi_o_pozharnykh/3" TargetMode="External"/><Relationship Id="rId4" Type="http://schemas.openxmlformats.org/officeDocument/2006/relationships/hyperlink" Target="http://spirovopch52.ucoz.ru/publ/stikhi_o_pozharnykh/3" TargetMode="External"/><Relationship Id="rId5" Type="http://schemas.openxmlformats.org/officeDocument/2006/relationships/hyperlink" Target="http://lukoshko.net/marshak/marsh6.shtml" TargetMode="External"/><Relationship Id="rId6" Type="http://schemas.openxmlformats.org/officeDocument/2006/relationships/hyperlink" Target="http://lukoshko.net/marshak/marsh6.shtml" TargetMode="External"/><Relationship Id="rId7" Type="http://schemas.openxmlformats.org/officeDocument/2006/relationships/hyperlink" Target="http://www.zanimatika.narod.ru/OBJ3.htm" TargetMode="External"/><Relationship Id="rId8" Type="http://schemas.openxmlformats.org/officeDocument/2006/relationships/hyperlink" Target="http://www.zanimatika.narod.ru/OBJ3.htm" TargetMode="Externa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1408.ru/Image/image013(1).jpg" TargetMode="External"/><Relationship Id="rId2" Type="http://schemas.openxmlformats.org/officeDocument/2006/relationships/hyperlink" Target="http://umm4.com/wp-content/uploads/2011/06/stixi-dlya-detejpravila-pozharnoj-bezopasnosti-3.jpg" TargetMode="External"/><Relationship Id="rId3" Type="http://schemas.openxmlformats.org/officeDocument/2006/relationships/hyperlink" Target="http://ogneborec.com/wpcontent/uploads/2012/10/330026694634_667165_detsky-10.jpg" TargetMode="External"/><Relationship Id="rId4" Type="http://schemas.openxmlformats.org/officeDocument/2006/relationships/hyperlink" Target="http://ogneborec.com/wpcontent/uploads/2012/10/330026694634_666943_detsky-15.jpg" TargetMode="External"/><Relationship Id="rId5" Type="http://schemas.openxmlformats.org/officeDocument/2006/relationships/hyperlink" Target="http://upload.wikimedia.org/wikipedia/commons/thumb/5/5b/Heinrich_fueger_1817_prometheus_brings_fire_to_mankind.jpg/300px-Heinrich_fueger_1817_prometheus_brings_fire_to_mankind.jpg" TargetMode="External"/><Relationship Id="rId6" Type="http://schemas.openxmlformats.org/officeDocument/2006/relationships/hyperlink" Target="http://upload.wikimedia.org/wikipedia/commons/thumb/5/5b/Heinrich_fueger_1817_prometheus_brings_fire_to_mankind.jpg/300px-Heinrich_fueger_1817_prometheus_brings_fire_to_mankind.jpg" TargetMode="External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4)Огон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зентация внеклассного мероприятия по ОБЖ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00008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жар – опасная чрезвычайная ситуац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Times New Roman"/>
                <a:ea typeface="Dotum"/>
              </a:rPr>
              <a:t>Учитель начальных класс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Times New Roman"/>
                <a:ea typeface="Dotum"/>
              </a:rPr>
              <a:t>МБОУ «СОШ № 69» г. Кемеров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Times New Roman"/>
                <a:ea typeface="Tahoma"/>
              </a:rPr>
              <a:t>Волкова Ирина Виктор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6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6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6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6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 лет назад пожары обнаруживали с каланчи – высокой башни над зданием пожарной команды. Она была самым высоким сооружением в старых русских городах.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87" name="Picture 5" descr="http://farm1.static.flickr.com/107/400149786_491b74bc0e.jpg"/>
          <p:cNvPicPr/>
          <p:nvPr/>
        </p:nvPicPr>
        <p:blipFill>
          <a:blip r:embed="rId1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85716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пожарной части было два этажа. На втором этаже жили пожарные с семьями. На первом стояли повозки с бочками с водой, баграми, лестницами. Но самое главное здесь – лошади – самые лучшие, самые резвы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11120" indent="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жарная часть, выезжающая в те времена на пожар, представляла собой довольно солидную процессию. Впереди на лихом коне – трубач, громкими звуками предупреждающий прохожих о том, что пожарные с большой скоростью едут на пожар. Отсюда и пошло выражение: «Летит, как на пожар». Но дом зачастую не успевали спа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11120" indent="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http://pda.mchsmedia.ru/files/r_800_h/olosh_20126201039.png"/>
          <p:cNvPicPr/>
          <p:nvPr/>
        </p:nvPicPr>
        <p:blipFill>
          <a:blip r:embed="rId2"/>
          <a:stretch/>
        </p:blipFill>
        <p:spPr>
          <a:xfrm>
            <a:off x="2143080" y="-12600"/>
            <a:ext cx="4586400" cy="6870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Прямоугольник 3"/>
          <p:cNvSpPr/>
          <p:nvPr/>
        </p:nvSpPr>
        <p:spPr>
          <a:xfrm>
            <a:off x="1071720" y="1857240"/>
            <a:ext cx="757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смену лошадям пришли мощные машины, а труба явилась родоначальницей сирен, которые устанавливаются на современных пожарных автомобил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checke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97" name="Содержимое 3" descr="http://www.autoreview.ru/new_site/year2001/n18/fire/800/newschool_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714240" y="1356840"/>
            <a:ext cx="5718240" cy="9781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42000"/>
          </a:bodyPr>
          <a:p>
            <a:pPr marL="2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Verdana"/>
              </a:rPr>
              <a:t>ПОЖАР</a:t>
            </a:r>
            <a:r>
              <a:rPr b="0" i="1" lang="en-US" sz="6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5400" spc="-1" strike="noStrike">
                <a:solidFill>
                  <a:srgbClr val="0070c0"/>
                </a:solidFill>
                <a:latin typeface="Verdana"/>
              </a:rPr>
              <a:t>–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2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Verdana"/>
              </a:rPr>
              <a:t>чрезвычайная               ситуация </a:t>
            </a:r>
            <a:r>
              <a:rPr b="0" i="1" lang="en-US" sz="5400" spc="-1" strike="noStrike">
                <a:solidFill>
                  <a:srgbClr val="ff0000"/>
                </a:solidFill>
                <a:latin typeface="Verdana"/>
              </a:rPr>
              <a:t>(ЧС)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4f1da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928800" y="1714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1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простой  номер  его  всякий  запомни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1</a:t>
            </a:r>
            <a:r>
              <a:rPr b="1" i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короткий  номер , при  пожаре  дорога  каждая  мину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1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удобный  номер , его  легко  набрать  даже  в  темнот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Verdana"/>
              </a:rPr>
              <a:t>Пусть знает каждый гражданин –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Verdana"/>
              </a:rPr>
              <a:t>Пожарный номер -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200" spc="-1" strike="noStrike">
                <a:solidFill>
                  <a:srgbClr val="ff0000"/>
                </a:solidFill>
                <a:latin typeface="Verdana"/>
              </a:rPr>
              <a:t>01</a:t>
            </a:r>
            <a:endParaRPr b="0" lang="en-US" sz="2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ИТ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ЕВИЗОР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бесточить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акрыть влажной тканью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и необходимости позвонить «01» и вызвать пожарный наряд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Цели</a:t>
            </a:r>
            <a:r>
              <a:rPr b="1" i="1" lang="en-US" sz="4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48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спомнить роль огня в жизни человека: как положительную, так и отрицательную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крепить правила правильного поведения при пожаре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ставить памятку «Как вести себя при пожаре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ТЕБЕ ГОРИТ ОДЕЖДА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-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до упасть на пол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акрыться влажной тканью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бежать нельзя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b0f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2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2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2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2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ИТ  ЧЕЛОВЕК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Verdana"/>
              </a:rPr>
              <a:t>-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гнать, накрыть тканью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уронить на пол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ушить огнетушителем нельзя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НАДО ПРЕОДОЛЕВАТЬ ЗАДЫМЛЁННОЕ ПОМЕЩЕНИЕ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755640" y="2781360"/>
            <a:ext cx="7772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игнувшись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задержать дыхание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использовать мокрое полотенц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Verdana"/>
              </a:rPr>
              <a:t>ПАМЯТКА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857160" y="1428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гонь нельзя оставлять без присмот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увидишь пламя–зови на помощь взрослы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зывай пожарных по телефону 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 огня нельзя прятать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горящего помещения  надо быстро уй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асней всего при пожаре д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615" name="Содержимое 3" descr="http://umm4.com/wp-content/uploads/2011/06/stixi-dlya-detej-pravila-pozharnoj-bezopasnosti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617" name="Содержимое 3" descr="http://ogneborec.com/wp-content/uploads/2012/10/330026694634_667165_detsky-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619" name="il_fi" descr="http://1.bp.blogspot.com/-yDR9s1D_l5I/TclDeGgMhDI/AAAAAAAAAa8/hYYOl2bRNac/s1600/Kids_PPB_13.jpg"/>
          <p:cNvPicPr/>
          <p:nvPr/>
        </p:nvPicPr>
        <p:blipFill>
          <a:blip r:embed="rId1"/>
          <a:srcRect l="-2579" t="18182" r="0" b="29202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621" name="il_fi" descr="http://2.bp.blogspot.com/-bk1Q4s0vqXo/TclDjQe9tLI/AAAAAAAAAbA/2ibA1ZacxD4/s1600/Kids_PPB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623" name="Содержимое 3" descr="http://ogneborec.com/wp-content/uploads/2012/10/330026694634_666943_detsky-15.jpg"/>
          <p:cNvPicPr/>
          <p:nvPr/>
        </p:nvPicPr>
        <p:blipFill>
          <a:blip r:embed="rId1"/>
          <a:srcRect l="-1048" t="13212" r="0" b="22540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706320" y="1350720"/>
            <a:ext cx="8437680" cy="52210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ulenspiegel.od.ua/rozhdenie-prometej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Стихи о пожарных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pirovopch52.ucoz.ru/publ/stikhi_o_pozharnykh/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С.Маршак «Пожар»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lukoshko.net/marshak/marsh6.sht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Школа пожарной безопасност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www.zanimatika.narod.ru/OBJ3.ht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ые ссылки на страницы материалов в Интернете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Золотой век. Рождение Прометея.:</a:t>
            </a:r>
            <a:endParaRPr b="0" lang="en-US" sz="2400" spc="-1" strike="noStrike">
              <a:solidFill>
                <a:srgbClr val="f4f1da"/>
              </a:solidFill>
              <a:latin typeface="Verdana"/>
            </a:endParaRPr>
          </a:p>
        </p:txBody>
      </p:sp>
    </p:spTree>
  </p:cSld>
  <p:transition spd="slow" advTm="2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никновение огня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785520" y="1143000"/>
            <a:ext cx="79009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авние времена, когда всем миром правил Зевс, люди, только-только расселившиеся на земле, были слабыми, бессильными, пугливыми. Они не умели ни думать, ни понимать того, что видели вокруг. С ужасом смотрели они на грозовые тучи, палящее солнце, бескрайнее море и высокие горы. От всего, что их пугало, люди прятались в пещеры. Не было у них тогда ни жилья, ни семейного очага: люди не варили пищу, не грелись около огня. И была такая жизнь жалким существованием. Пожалел людей своим большим сердцем титан Прометей, и смело нарушил запрет Зевса: не давать людям огня. Пробравшись во дворец, титан взял небольшую искру огня и, спрятав её в пустом стебле тростника, принёс людям на земл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11120" indent="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0" y="356760"/>
            <a:ext cx="91440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1408.ru/Image/image013(1)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umm4.com/wp-content/uploads/2011/06/stixi-dlya-detejpravila-pozharnoj-bezopasnosti-3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ogneborec.com/wpcontent/uploads/2012/10/330026694634_667165_detsky-10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ogneborec.com/wpcontent/uploads/2012/10/330026694634_666943_detsky-15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тей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upload.wikimedia.org/wikipedia/commons/thumb/5/5b/Heinrich_fueger_1817_prometheus_brings_fire_to_mankind.jpg/300px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inrich_fueger_1817_prometheus_brings_fire_to_mankind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ная машин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autoreview.ru/new_site/year2001/n18/fire/800/newschool_03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old.morfish.ru/student/articles/2005pal_USA/popov/pic/46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orld.fedpress.ru/sites/fedpress/files/didenko/news/afiny_0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upload.wikimedia.org/wikipedia/commons/thumb/9/95/FirePhotography.jpg/250px-FirePhotography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mk.ru/upload/iblock_mk/photoreport/new/c2/ae/e8/495_12171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ок использованных источников:</a:t>
            </a:r>
            <a:r>
              <a:rPr b="0" lang="en-US" sz="2400" spc="-1" strike="noStrike">
                <a:solidFill>
                  <a:srgbClr val="f4f1da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4f1da"/>
                </a:solidFill>
                <a:latin typeface="Times New Roman"/>
                <a:ea typeface="Times New Roman"/>
              </a:rPr>
              <a:t>Иллюстрации:</a:t>
            </a:r>
            <a:br>
              <a:rPr sz="1800"/>
            </a:br>
            <a:endParaRPr b="0" lang="en-US" sz="1800" spc="-1" strike="noStrike">
              <a:solidFill>
                <a:srgbClr val="f4f1da"/>
              </a:solidFill>
              <a:latin typeface="Verdana"/>
            </a:endParaRPr>
          </a:p>
        </p:txBody>
      </p:sp>
    </p:spTree>
  </p:cSld>
  <p:transition spd="slow" advTm="2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571" name="Содержимое 3" descr="001.jpg"/>
          <p:cNvPicPr/>
          <p:nvPr/>
        </p:nvPicPr>
        <p:blipFill>
          <a:blip r:embed="rId2"/>
          <a:stretch/>
        </p:blipFill>
        <p:spPr>
          <a:xfrm>
            <a:off x="2571840" y="0"/>
            <a:ext cx="480384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 advTm="2000">
    <p:checke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тех пор засияли яркие огоньки костров на земле. Около них собирались люди целыми семьями, жарили мясо, грелись, танцевали. Теперь люди зажили веселее и дружнее, и титан Прометей искренне этому радовался. Он научил людей укрощать огонь, плавить медь, ковать оружие. Благодаря Прометею люди научились думать и, наверное, впервые почувствовать себя людь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4" descr="1)пожа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19000"/>
          </a:bodyPr>
          <a:p>
            <a:pPr marL="10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ворим – огонь нам друг!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врагом он станет вдруг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мы о нём забудем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омстит он сразу людя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жалеете о т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 в сражении с огнё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т он страшен и суров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от дома куча др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4f1da"/>
              </a:solidFill>
              <a:latin typeface="Verdana"/>
            </a:endParaRPr>
          </a:p>
        </p:txBody>
      </p:sp>
    </p:spTree>
  </p:cSld>
  <p:transition spd="slow" advTm="2000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78" name="Picture 5" descr="http://www.webpark.ru/uploads54/100809/California_16.jpg"/>
          <p:cNvPicPr/>
          <p:nvPr/>
        </p:nvPicPr>
        <p:blipFill>
          <a:blip r:embed="rId1"/>
          <a:stretch/>
        </p:blipFill>
        <p:spPr>
          <a:xfrm>
            <a:off x="-158760" y="0"/>
            <a:ext cx="9510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80" name="Picture 4" descr="6)Пожар в квартир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3" name="Picture 6" descr="http://www.mk.ru/upload/iblock_mk/photoreport/new/c2/ae/e8/495_121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7:20:08Z</dcterms:created>
  <dc:creator>Пользователь Windows</dc:creator>
  <dc:description/>
  <dc:language>en-US</dc:language>
  <cp:lastModifiedBy>Мама</cp:lastModifiedBy>
  <dcterms:modified xsi:type="dcterms:W3CDTF">2013-03-02T13:28:02Z</dcterms:modified>
  <cp:revision>370</cp:revision>
  <dc:subject/>
  <dc:title>Твои действия при пожаре</dc:title>
</cp:coreProperties>
</file>