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0C3E3-7FFA-4DFF-B6E7-675622F44F6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AC628-98BB-4877-914C-C8DB293F750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69468-B998-4D9A-A9AF-9F39B825D76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CB414-1A22-4596-B9AC-7AA01EBA42D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2BF30-396C-49D4-887A-17E7A42C40B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A7719-F10D-4765-8B57-B1DF9B5E6D6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2D7E9-3683-4765-880A-106F98F4F0E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57EC6-7B5A-4AAF-929C-2AF2FE8721E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924FA-49D8-4A64-98FE-334868D1BCF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6C6E2-85B3-4EBD-BF06-6DDC30DA3A6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E4865-1F41-4BB8-8ED7-4E5200B4485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5E795-37C4-4E29-A65F-CC64FC7D829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6C01D-129D-4766-8104-E0E209027DF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C6B2A-C754-4359-9057-7E44DF9B293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602ED-120D-4748-8D59-92EC76B5EB5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D240D-EFD6-408A-9B79-3A8F4A4F263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57308-5522-4115-8323-27148DA003A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C6716-8E5C-4262-8391-5ECC9625E6B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FD360-C428-41CB-BC65-8A2AFBB0E85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0FADE-1316-43C6-B1AB-46138DEDA60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89892-A7E5-43C7-93AB-D530F63DF1E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8ECA9-0E91-4E51-9996-0FB826E6C41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CE8D5-13EC-4FB5-8EE0-8B97701270F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C630C-4002-434C-B204-E5A1243020B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5C078-573A-405A-BBA7-288F44DFAA4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D4DBE-ABF2-4245-8118-FEC3C0A5D2F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E95E7-3C86-4D40-B2C7-D5A1F627A5C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0E798-1667-452B-B63A-C77BF89752A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75F46-DB93-43C9-9AA0-A9C552BE5EA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55A4A-A250-48A5-9D36-236BBA6311D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7C4AB-A066-4C05-B6B3-7CA68E2886D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2C51-02FF-4E80-9464-0691058DC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D018-C95D-42C2-862B-7EA0E9424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BB32CC-A7F2-4276-A836-A07A62D58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FA40F5-F7E6-4520-B626-03352050A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8FF2FB-ECFC-4FED-9531-BBBE4BA25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6E47CE-B629-418C-8F95-5831BE315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BB2C07-0505-41A3-B518-894B96D6F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E12759-BF3C-46AE-A237-A3B32E78D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8536A0-4C57-4C1B-8078-639874E82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049A34-223F-4B89-8B74-F0CB84540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3BF8B6-0C89-47E8-ADC6-027F3FECF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D67C03-0B1E-4474-A9BF-0B3311109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A187-FB83-4B68-BC5F-FB091659B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A3A5C6-4BB7-4768-A930-B4CC83A8D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41759B-BE32-41E1-875E-42604C2F9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49EC7F-1CF4-4313-9490-BC94E39D9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498894-0094-4443-BFFB-D34F666CC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DD7AF1-CEFF-4124-BCE3-C8BD40E8F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0753D5-2CD4-4476-A49E-62C4DCCEF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18A0C3-1ADC-4FEB-ABC1-9A1A89674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E1FCC5-C085-44E6-9EF5-BB6B9409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06049D-AA27-44CB-A340-8AB2D9F83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5AB118-86B3-4D6E-890E-0DF8AE12C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F46F-36F8-4549-9D0A-DAA63D49D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477B60-E1C9-4BFD-B1B1-927D5E092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55A480-D435-4935-8133-F6564C356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B1D044-E79E-44DE-9DAE-7B5E9D054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1AF650-3265-48A9-9F37-711088146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6E9099-AD18-48A0-A4D2-A8CEF4F00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20DD72-524D-4338-87C4-CC0006115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A05D04-6FFE-42A9-9EAB-C5EC42C62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AA4C5F-65E6-41AA-BC5F-908A0A99C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BF951E-23BB-424D-AEB0-49D233F6E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DF21CB-F335-428A-A85D-D49BB0E8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DF14C-A34C-46F4-8F97-43343AC8A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4117D3-8C34-4DB5-A1D4-98685F43D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679A42-FFED-4A7C-81A2-2E75A1270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B0C513-DD00-460C-9164-BA78CC9FF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F9FAB6-B933-474E-9717-FE995CEA5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D49ABE-FD28-4131-A8D1-1A0491707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9F2808-C460-4896-A9A1-FF5EB597F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0548AC-6B13-474F-85C7-4924CF3A9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C1875D-CBDB-4A4E-8A7F-F88D1ED3D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351735-498B-4833-BF17-99E3440F8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D675F4-9A24-4370-BA08-4E685FDFD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FE71B-1920-4B1F-A2B3-533C8A1A5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DA5621-FE48-404B-9EE3-0BB9EFBAE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8C4B83-8421-440F-8535-533B9C309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3560CA-91AE-4B49-B648-39167274B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4FEDBB-DFB5-4193-A8E7-A0C06311D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719F02-01BB-4361-A65D-C9100F47D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F723F-D712-4AF3-92DC-7C2372154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371EA-C3E2-4861-AE74-67C20AAE5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846B4-14E6-46BB-B42F-3D330FD57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9B952-BE92-449C-9E85-316DA2463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3F5C2-B511-4B17-87C7-685C765E8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8B07-153D-4ABD-BED1-5CC8C4CC6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9A8FA-0468-4E5F-837A-51A010E3B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65806-9BCF-4569-BB1F-4EB74492F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50018-A23D-413A-8185-3854F6FD4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A4497-1A0D-49C7-BC01-21F94687A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D5743-A60B-469A-BC88-32945DABA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830A9-3799-4B0A-ABDD-A2CBE2B86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F0121-D07D-45B9-B711-CD2DCDEB7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91B8E-8EE3-4207-A071-DD1935920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62BCF-911C-461E-8C4F-59347516A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AD291-627F-478B-9AA5-764C3A368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51C2-C13A-4D9D-8346-E353E8C5D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D9C28-5DAD-42A9-9069-B013E325E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F1F9A-1766-4DDC-96F6-A3E38922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60CA3-272F-4206-8ECA-0BEB661CB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1E6ED-3569-4F7E-B436-902F86CAE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FC452-5A69-4C2F-B28C-222C5B3A3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1E87D-B637-4003-9B9D-FC0D5CFD6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69C8E-1991-43FD-9DAE-C3BD6020D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0A0E5-D935-4C40-98F9-70CA9DAB3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68914-C2B4-4911-AFCD-DE8CCBBF5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25A9B-3BD6-4BC6-83CE-CEEA47CBF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7756-4C49-4490-B5A1-2C98CBC18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5E420-DEA2-4272-BB44-4504811DF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3B310-A24C-43B9-A2B2-AEA6C57DA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90E5F-5E2B-4D6D-B6F5-CC5CED9E5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3F9D5-D4C7-4116-AEF9-F1DFCBF9E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BD0A4-EA0B-4E26-AB4C-F26F36C7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82B5F-DD67-4304-900C-7A562D4F9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89FB5-BF2E-4126-BD5D-A76F64D9C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266AC-48B4-479E-A101-5AAA049EF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EBA79-4F91-4A71-9DEB-284CA6E65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BBB6EF-ADDC-462C-B1FB-59E714C44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D9A0-B648-46DD-959B-DFB7D2B9C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BD400-B5C0-4B2A-98F0-4C35A0284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C908E5-7AE7-4201-8C28-2A7B8A776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989700-6727-40BD-800E-AA6528B2B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F57AD6-5AFA-40B3-9AD2-14A58F8A1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6DBA41-12D4-4093-B2B2-894091FA5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CC85C9-D6EC-4742-A001-366365B43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88FD1-C34B-4616-ADD4-30C0E576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8DD564-415F-4553-BA4B-B56D16F3E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D435F-8D21-4D45-A039-5E9C10D73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F0DE4-897D-4DE6-B02E-B789FF23F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60B0-CABC-4460-9F21-E1574605C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FDB02-1321-43C6-A2C8-B1901AD8A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DA7522-C30A-4424-8CE6-4E4D997AD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727A7E-7BBD-4B28-A434-1DA92908C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67D37-DBF4-4373-95D3-824D620E3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87873-D08B-498F-9A17-B3D4941D1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3BE777-067C-4574-AFE8-73762E5FD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135ED5-20E2-436C-9DB2-8F613C733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DA13AF-0638-4F93-8E4C-2FA38C11C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395927-1F54-46EE-80EA-7544329A9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6C63DB-7FF6-49A2-94BC-959922B4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B9DA-781B-4369-A2D4-2B4978E4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94BFF8-9818-4155-B1DB-8CAFE814B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0DD254-684F-4874-9C14-279F2FF01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7D8A83-3905-4FA0-94D6-102B2E715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97E1AB-1B1D-455E-85CD-CEB73FA40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8701B4-6D37-4B4B-BFFF-F2EAE80E4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88528D-245D-4C30-8C66-BE4B2B2A9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01D317-6A32-48AF-9B72-C9A83914F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D63870-4AF6-4C88-BCD0-FAA49638B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DAEABF-3B1B-4FA1-9FAF-8F668CE0E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ACA031-E2BE-4E30-BDB4-1F0EF19B1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AF29-24AB-4A58-AAD7-095976908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C9A64F-3A41-457E-8852-3095D55B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0099C0-41A2-4316-8A6B-72F859FAF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266478-638F-4A04-A0D9-DA448F0E8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E657B8-658D-48EB-8715-831CD00E3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14E899-2694-41E8-8ECC-7CA6286C9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5B0D78-E21E-4982-9021-7D62A1BA1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159AA9-97A0-4658-AE02-9D7D6BF48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E5D0FB-F5E7-4374-93DD-D92A6325A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1C21CB-D6B8-4150-90B1-6517EA476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E8B1FD-695B-4AED-9D59-E0FC46F6A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7EBF-967A-4DAC-AD79-129FDECD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AF8909-4DE7-4D44-B910-075537EDA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5CDE1B-71F2-424F-8977-689DA91F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731CC1-D4B5-4113-ACCE-D3B6CBE2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620366-4060-455F-966D-71747C97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26091F-2784-4EBE-A878-AF8D07132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B39658-AD54-4B40-872B-B7A171374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A62511-9A72-4E52-A920-631E7160B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8BE94E-F6C9-4E8F-BBDF-E047750D7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CF5181-DEDE-46F9-8845-A374C9953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B9B9D5-09A9-4747-96FD-0E2A52EBA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eece1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eece1"/>
                </a:solidFill>
                <a:latin typeface="Verdana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eece1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2FB58-8B83-494C-B427-8EC1CD41FC9F}" type="slidenum">
              <a:rPr b="0" lang="en-US" sz="1200" spc="-1" strike="noStrike">
                <a:solidFill>
                  <a:srgbClr val="eeece1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0" name="Группа 19"/>
          <p:cNvGrpSpPr/>
          <p:nvPr/>
        </p:nvGrpSpPr>
        <p:grpSpPr>
          <a:xfrm>
            <a:off x="8516880" y="1217520"/>
            <a:ext cx="128520" cy="131400"/>
            <a:chOff x="8516880" y="1217520"/>
            <a:chExt cx="128520" cy="131400"/>
          </a:xfrm>
        </p:grpSpPr>
        <p:sp>
          <p:nvSpPr>
            <p:cNvPr id="421" name="Прямая соединительная линия 20"/>
            <p:cNvSpPr/>
            <p:nvPr/>
          </p:nvSpPr>
          <p:spPr>
            <a:xfrm>
              <a:off x="8575920" y="1217520"/>
              <a:ext cx="694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Прямая соединительная линия 23"/>
            <p:cNvSpPr/>
            <p:nvPr/>
          </p:nvSpPr>
          <p:spPr>
            <a:xfrm>
              <a:off x="8516880" y="1282680"/>
              <a:ext cx="982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Прямая соединительная линия 24"/>
            <p:cNvSpPr/>
            <p:nvPr/>
          </p:nvSpPr>
          <p:spPr>
            <a:xfrm flipV="1">
              <a:off x="8575920" y="1282320"/>
              <a:ext cx="694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4" name="Группа 25"/>
          <p:cNvGrpSpPr/>
          <p:nvPr/>
        </p:nvGrpSpPr>
        <p:grpSpPr>
          <a:xfrm>
            <a:off x="8669160" y="1370160"/>
            <a:ext cx="128880" cy="131400"/>
            <a:chOff x="8669160" y="1370160"/>
            <a:chExt cx="128880" cy="131400"/>
          </a:xfrm>
        </p:grpSpPr>
        <p:sp>
          <p:nvSpPr>
            <p:cNvPr id="425" name="Прямая соединительная линия 26"/>
            <p:cNvSpPr/>
            <p:nvPr/>
          </p:nvSpPr>
          <p:spPr>
            <a:xfrm>
              <a:off x="8728200" y="1370160"/>
              <a:ext cx="698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Прямая соединительная линия 27"/>
            <p:cNvSpPr/>
            <p:nvPr/>
          </p:nvSpPr>
          <p:spPr>
            <a:xfrm>
              <a:off x="8669160" y="1435320"/>
              <a:ext cx="986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Прямая соединительная линия 28"/>
            <p:cNvSpPr/>
            <p:nvPr/>
          </p:nvSpPr>
          <p:spPr>
            <a:xfrm flipV="1">
              <a:off x="8728200" y="1434960"/>
              <a:ext cx="698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8" name="Группа 29"/>
          <p:cNvGrpSpPr/>
          <p:nvPr/>
        </p:nvGrpSpPr>
        <p:grpSpPr>
          <a:xfrm>
            <a:off x="8321760" y="1473120"/>
            <a:ext cx="128520" cy="131400"/>
            <a:chOff x="8321760" y="1473120"/>
            <a:chExt cx="128520" cy="131400"/>
          </a:xfrm>
        </p:grpSpPr>
        <p:sp>
          <p:nvSpPr>
            <p:cNvPr id="429" name="Прямая соединительная линия 30"/>
            <p:cNvSpPr/>
            <p:nvPr/>
          </p:nvSpPr>
          <p:spPr>
            <a:xfrm>
              <a:off x="8380800" y="1473120"/>
              <a:ext cx="694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Прямая соединительная линия 31"/>
            <p:cNvSpPr/>
            <p:nvPr/>
          </p:nvSpPr>
          <p:spPr>
            <a:xfrm>
              <a:off x="8321760" y="1538280"/>
              <a:ext cx="982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Прямая соединительная линия 32"/>
            <p:cNvSpPr/>
            <p:nvPr/>
          </p:nvSpPr>
          <p:spPr>
            <a:xfrm flipV="1">
              <a:off x="8380800" y="1537920"/>
              <a:ext cx="694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28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eece1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eece1"/>
                </a:solidFill>
                <a:latin typeface="Verdana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29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0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eece1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C82FC-CDD6-4140-A522-37CC10EBDAB8}" type="slidenum">
              <a:rPr b="0" lang="en-US" sz="1200" spc="-1" strike="noStrike">
                <a:solidFill>
                  <a:srgbClr val="eeece1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3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eece1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eece1"/>
                </a:solidFill>
                <a:latin typeface="Verdana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3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3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eece1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D05F8-29A0-489E-A7BD-84BCF4AB2F3E}" type="slidenum">
              <a:rPr b="0" lang="en-US" sz="1200" spc="-1" strike="noStrike">
                <a:solidFill>
                  <a:srgbClr val="eeece1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3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eece1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eece1"/>
                </a:solidFill>
                <a:latin typeface="Verdana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3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3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eece1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FDA94-52C3-4AE4-A51C-DDAD9AB8C6BF}" type="slidenum">
              <a:rPr b="0" lang="en-US" sz="1200" spc="-1" strike="noStrike">
                <a:solidFill>
                  <a:srgbClr val="eeece1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eece1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eece1"/>
                </a:solidFill>
                <a:latin typeface="Verdana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eece1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47658-2CBC-4DC5-B3B0-95444F01BDFE}" type="slidenum">
              <a:rPr b="0" lang="en-US" sz="1200" spc="-1" strike="noStrike">
                <a:solidFill>
                  <a:srgbClr val="eeece1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eece1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eece1"/>
                </a:solidFill>
                <a:latin typeface="Verdana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eece1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071EC-C211-4CFD-BA85-926F5FC30A1B}" type="slidenum">
              <a:rPr b="0" lang="en-US" sz="1200" spc="-1" strike="noStrike">
                <a:solidFill>
                  <a:srgbClr val="eeece1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олилиния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c0504d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Полилиния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c0504d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Полилиния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2d58a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Полилиния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Полилиния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Полилиния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Полилиния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Полилиния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Полилиния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Полилиния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Полилиния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Полилиния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Полилиния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Полилиния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Полилиния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2d58a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2d58a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eece1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eece1"/>
                </a:solidFill>
                <a:latin typeface="Verdana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eece1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7DB0B-72B9-4C61-A1D0-CD2811414AE1}" type="slidenum">
              <a:rPr b="0" lang="en-US" sz="1200" spc="-1" strike="noStrike">
                <a:solidFill>
                  <a:srgbClr val="eeece1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eece1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eece1"/>
                </a:solidFill>
                <a:latin typeface="Verdana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eece1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E62AC-0F63-4365-B5CF-BCBEDFEB61C6}" type="slidenum">
              <a:rPr b="0" lang="en-US" sz="1200" spc="-1" strike="noStrike">
                <a:solidFill>
                  <a:srgbClr val="eeece1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2d58a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eece1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eece1"/>
                </a:solidFill>
                <a:latin typeface="Verdana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eece1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69451-6226-4BF3-9A09-07EFC88A3131}" type="slidenum">
              <a:rPr b="0" lang="en-US" sz="1200" spc="-1" strike="noStrike">
                <a:solidFill>
                  <a:srgbClr val="eeece1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9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eece1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eece1"/>
                </a:solidFill>
                <a:latin typeface="Verdana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0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1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eece1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E62A9-0249-417E-B0B0-ACA360023DFC}" type="slidenum">
              <a:rPr b="0" lang="en-US" sz="1200" spc="-1" strike="noStrike">
                <a:solidFill>
                  <a:srgbClr val="eeece1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2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eece1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eece1"/>
                </a:solidFill>
                <a:latin typeface="Verdana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3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4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eece1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F65B4-C7B6-437E-BD22-71ACA4C8B32D}" type="slidenum">
              <a:rPr b="0" lang="en-US" sz="1200" spc="-1" strike="noStrike">
                <a:solidFill>
                  <a:srgbClr val="eeece1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5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eece1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eece1"/>
                </a:solidFill>
                <a:latin typeface="Verdana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6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7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eece1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057CD-7EB1-4EC1-873A-A240777E8558}" type="slidenum">
              <a:rPr b="0" lang="en-US" sz="1200" spc="-1" strike="noStrike">
                <a:solidFill>
                  <a:srgbClr val="eeece1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ulenspiegel.od.ua/rozhdenie-prometeja" TargetMode="External"/><Relationship Id="rId2" Type="http://schemas.openxmlformats.org/officeDocument/2006/relationships/hyperlink" Target="http://ulenspiegel.od.ua/rozhdenie-prometeja" TargetMode="External"/><Relationship Id="rId3" Type="http://schemas.openxmlformats.org/officeDocument/2006/relationships/hyperlink" Target="http://spirovopch52.ucoz.ru/publ/stikhi_o_pozharnykh/3" TargetMode="External"/><Relationship Id="rId4" Type="http://schemas.openxmlformats.org/officeDocument/2006/relationships/hyperlink" Target="http://spirovopch52.ucoz.ru/publ/stikhi_o_pozharnykh/3" TargetMode="External"/><Relationship Id="rId5" Type="http://schemas.openxmlformats.org/officeDocument/2006/relationships/hyperlink" Target="http://lukoshko.net/marshak/marsh6.shtml" TargetMode="External"/><Relationship Id="rId6" Type="http://schemas.openxmlformats.org/officeDocument/2006/relationships/hyperlink" Target="http://lukoshko.net/marshak/marsh6.shtml" TargetMode="External"/><Relationship Id="rId7" Type="http://schemas.openxmlformats.org/officeDocument/2006/relationships/hyperlink" Target="http://www.zanimatika.narod.ru/OBJ3.htm" TargetMode="External"/><Relationship Id="rId8" Type="http://schemas.openxmlformats.org/officeDocument/2006/relationships/hyperlink" Target="http://www.zanimatika.narod.ru/OBJ3.htm" TargetMode="External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1408.ru/Image/image013(1).jpg" TargetMode="External"/><Relationship Id="rId2" Type="http://schemas.openxmlformats.org/officeDocument/2006/relationships/hyperlink" Target="http://umm4.com/wp-content/uploads/2011/06/stixi-dlya-detejpravila-pozharnoj-bezopasnosti-3.jpg" TargetMode="External"/><Relationship Id="rId3" Type="http://schemas.openxmlformats.org/officeDocument/2006/relationships/hyperlink" Target="http://ogneborec.com/wpcontent/uploads/2012/10/330026694634_667165_detsky-10.jpg" TargetMode="External"/><Relationship Id="rId4" Type="http://schemas.openxmlformats.org/officeDocument/2006/relationships/hyperlink" Target="http://ogneborec.com/wpcontent/uploads/2012/10/330026694634_666943_detsky-15.jpg" TargetMode="External"/><Relationship Id="rId5" Type="http://schemas.openxmlformats.org/officeDocument/2006/relationships/hyperlink" Target="http://upload.wikimedia.org/wikipedia/commons/thumb/5/5b/Heinrich_fueger_1817_prometheus_brings_fire_to_mankind.jpg/300px-Heinrich_fueger_1817_prometheus_brings_fire_to_mankind.jpg" TargetMode="External"/><Relationship Id="rId6" Type="http://schemas.openxmlformats.org/officeDocument/2006/relationships/hyperlink" Target="http://upload.wikimedia.org/wikipedia/commons/thumb/5/5b/Heinrich_fueger_1817_prometheus_brings_fire_to_mankind.jpg/300px-Heinrich_fueger_1817_prometheus_brings_fire_to_mankind.jpg" TargetMode="External"/><Relationship Id="rId7" Type="http://schemas.openxmlformats.org/officeDocument/2006/relationships/slideLayout" Target="../slideLayouts/slideLayout85.xml"/><Relationship Id="rId8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Picture 4" descr="4)Огонь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928800" y="5000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езентация внеклассного мероприятия по ОБЖ</a:t>
            </a: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1000080" y="178596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11120" indent="-342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жар – опасная чрезвычайная ситуация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411120" indent="-34272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11120" indent="-34272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b0f0"/>
                </a:solidFill>
                <a:latin typeface="Times New Roman"/>
                <a:ea typeface="Dotum"/>
              </a:rPr>
              <a:t>Учитель начальных классов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11120" indent="-34272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b0f0"/>
                </a:solidFill>
                <a:latin typeface="Times New Roman"/>
                <a:ea typeface="Dotum"/>
              </a:rPr>
              <a:t>МБОУ «СОШ № 69» г. Кемерово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11120" indent="-34272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b0f0"/>
                </a:solidFill>
                <a:latin typeface="Times New Roman"/>
                <a:ea typeface="Tahoma"/>
              </a:rPr>
              <a:t>Волкова Ирина Викторовн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11120" indent="-3427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96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16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3600"/>
                            </p:stCondLst>
                            <p:childTnLst>
                              <p:par>
                                <p:cTn id="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5600"/>
                            </p:stCondLst>
                            <p:childTnLst>
                              <p:par>
                                <p:cTn id="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00 лет назад пожары обнаруживали с каланчи – высокой башни над зданием пожарной команды. Она была самым высоким сооружением в старых русских городах.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 thruBlk="true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pic>
        <p:nvPicPr>
          <p:cNvPr id="587" name="Picture 5" descr="http://farm1.static.flickr.com/107/400149786_491b74bc0e.jpg"/>
          <p:cNvPicPr/>
          <p:nvPr/>
        </p:nvPicPr>
        <p:blipFill>
          <a:blip r:embed="rId1"/>
          <a:stretch/>
        </p:blipFill>
        <p:spPr>
          <a:xfrm>
            <a:off x="228600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857160" y="157176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 пожарной части было два этажа. На втором этаже жили пожарные с семьями. На первом стояли повозки с бочками с водой, баграми, лестницами. Но самое главное здесь – лошади – самые лучшие, самые резвые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11120" indent="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жарная часть, выезжающая в те времена на пожар, представляла собой довольно солидную процессию. Впереди на лихом коне – трубач, громкими звуками предупреждающий прохожих о том, что пожарные с большой скоростью едут на пожар. Отсюда и пошло выражение: «Летит, как на пожар». Но дом зачастую не успевали спаст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11120" indent="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 thruBlk="true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914400" y="1784520"/>
            <a:ext cx="7772400" cy="457200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8" descr="http://pda.mchsmedia.ru/files/r_800_h/olosh_20126201039.png"/>
          <p:cNvPicPr/>
          <p:nvPr/>
        </p:nvPicPr>
        <p:blipFill>
          <a:blip r:embed="rId2"/>
          <a:stretch/>
        </p:blipFill>
        <p:spPr>
          <a:xfrm>
            <a:off x="2143080" y="-12600"/>
            <a:ext cx="4586400" cy="68706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5" name="Прямоугольник 3"/>
          <p:cNvSpPr/>
          <p:nvPr/>
        </p:nvSpPr>
        <p:spPr>
          <a:xfrm>
            <a:off x="1071720" y="1857240"/>
            <a:ext cx="7572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 смену лошадям пришли мощные машины, а труба явилась родоначальницей сирен, которые устанавливаются на современных пожарных автомобилях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">
    <p:checker dir="vert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pic>
        <p:nvPicPr>
          <p:cNvPr id="597" name="Содержимое 3" descr="http://www.autoreview.ru/new_site/year2001/n18/fire/800/newschool_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/>
          </p:nvPr>
        </p:nvSpPr>
        <p:spPr>
          <a:xfrm>
            <a:off x="714240" y="1356840"/>
            <a:ext cx="5718240" cy="97812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 fontScale="42000"/>
          </a:bodyPr>
          <a:p>
            <a:pPr marL="22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0000"/>
                </a:solidFill>
                <a:latin typeface="Verdana"/>
              </a:rPr>
              <a:t>ПОЖАР</a:t>
            </a:r>
            <a:r>
              <a:rPr b="0" i="1" lang="en-US" sz="6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n-US" sz="5400" spc="-1" strike="noStrike">
                <a:solidFill>
                  <a:srgbClr val="0070c0"/>
                </a:solidFill>
                <a:latin typeface="Verdana"/>
              </a:rPr>
              <a:t>– 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22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00"/>
                </a:solidFill>
                <a:latin typeface="Verdana"/>
              </a:rPr>
              <a:t>чрезвычайная               ситуация </a:t>
            </a:r>
            <a:r>
              <a:rPr b="0" i="1" lang="en-US" sz="5400" spc="-1" strike="noStrike">
                <a:solidFill>
                  <a:srgbClr val="ff0000"/>
                </a:solidFill>
                <a:latin typeface="Verdana"/>
              </a:rPr>
              <a:t>(ЧС)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4f1da"/>
              </a:solidFill>
              <a:latin typeface="Verdana"/>
            </a:endParaRPr>
          </a:p>
        </p:txBody>
      </p:sp>
    </p:spTree>
  </p:cSld>
  <p:transition spd="slow">
    <p:fade thruBlk="true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000"/>
                            </p:stCondLst>
                            <p:childTnLst>
                              <p:par>
                                <p:cTn id="1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928800" y="1714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1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 простой  номер  его  всякий  запомнит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1</a:t>
            </a:r>
            <a:r>
              <a:rPr b="1" i="1" lang="en-US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– короткий  номер , при  пожаре  дорога  каждая  минут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1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 удобный  номер , его  легко  набрать  даже  в  темноте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 thruBlk="true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Verdana"/>
              </a:rPr>
              <a:t>Пусть знает каждый гражданин –</a:t>
            </a:r>
            <a:br>
              <a:rPr sz="4000"/>
            </a:br>
            <a:r>
              <a:rPr b="0" i="1" lang="en-US" sz="4000" spc="-1" strike="noStrike">
                <a:solidFill>
                  <a:srgbClr val="ffff00"/>
                </a:solidFill>
                <a:latin typeface="Verdana"/>
              </a:rPr>
              <a:t>Пожарный номер -</a:t>
            </a: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200" spc="-1" strike="noStrike">
                <a:solidFill>
                  <a:srgbClr val="ff0000"/>
                </a:solidFill>
                <a:latin typeface="Verdana"/>
              </a:rPr>
              <a:t>01</a:t>
            </a:r>
            <a:endParaRPr b="0" lang="en-US" sz="2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 thruBlk="true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ОРИТ</a:t>
            </a:r>
            <a:r>
              <a:rPr b="0" i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ЛЕВИЗОР</a:t>
            </a: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обесточить;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накрыть влажной тканью;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при необходимости позвонить «01» и вызвать пожарный наряд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 thruBlk="true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928800" y="5000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Arial"/>
                <a:ea typeface="Arial"/>
              </a:rPr>
              <a:t>Цели</a:t>
            </a:r>
            <a:r>
              <a:rPr b="1" i="1" lang="en-US" sz="4800" spc="-1" strike="noStrike">
                <a:solidFill>
                  <a:srgbClr val="ff0000"/>
                </a:solidFill>
                <a:latin typeface="Verdana"/>
              </a:rPr>
              <a:t>:</a:t>
            </a:r>
            <a:endParaRPr b="0" lang="en-US" sz="48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вспомнить роль огня в жизни человека: как положительную, так и отрицательную;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11120" indent="-342720" algn="just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закрепить правила правильного поведения при пожаре;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11120" indent="-342720" algn="just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составить памятку «Как вести себя при пожаре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 thruBlk="true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 ТЕБЕ ГОРИТ ОДЕЖДА</a:t>
            </a: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- </a:t>
            </a:r>
            <a:r>
              <a:rPr b="0" i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до упасть на пол;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накрыться влажной тканью;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бежать нельзя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b0f0"/>
                </a:solidFill>
                <a:latin typeface="Verdana"/>
              </a:rPr>
              <a:t>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 thruBlk="true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200"/>
                            </p:stCondLst>
                            <p:childTnLst>
                              <p:par>
                                <p:cTn id="2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6200"/>
                            </p:stCondLst>
                            <p:childTnLst>
                              <p:par>
                                <p:cTn id="2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200"/>
                            </p:stCondLst>
                            <p:childTnLst>
                              <p:par>
                                <p:cTn id="2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8200"/>
                            </p:stCondLst>
                            <p:childTnLst>
                              <p:par>
                                <p:cTn id="2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ОРИТ  ЧЕЛОВЕК</a:t>
            </a: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00"/>
                </a:solidFill>
                <a:latin typeface="Verdana"/>
              </a:rPr>
              <a:t>- </a:t>
            </a:r>
            <a:r>
              <a:rPr b="0" i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огнать, накрыть тканью;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уронить на пол;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тушить огнетушителем нельзя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 thruBlk="true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 НАДО ПРЕОДОЛЕВАТЬ ЗАДЫМЛЁННОЕ ПОМЕЩЕНИЕ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755640" y="2781360"/>
            <a:ext cx="7772400" cy="27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пригнувшись;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задержать дыхание;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использовать мокрое полотенце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 thruBlk="true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Verdana"/>
              </a:rPr>
              <a:t>ПАМЯТКА</a:t>
            </a: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857160" y="142884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910080" indent="-483480" algn="just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гонь нельзя оставлять без присмотр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910080" indent="-483480" algn="just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сли увидишь пламя–зови на помощь взрослых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910080" indent="-483480" algn="just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ызывай пожарных по телефону 01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910080" indent="-483480" algn="just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т огня нельзя прятатьс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910080" indent="-483480" algn="just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з горящего помещения  надо быстро уйт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910080" indent="-483480" algn="just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пасней всего при пожаре ды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910080" indent="-483480" algn="just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 thruBlk="true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3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3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3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6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6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6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pic>
        <p:nvPicPr>
          <p:cNvPr id="615" name="Содержимое 3" descr="http://umm4.com/wp-content/uploads/2011/06/stixi-dlya-detej-pravila-pozharnoj-bezopasnosti-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pic>
        <p:nvPicPr>
          <p:cNvPr id="617" name="Содержимое 3" descr="http://ogneborec.com/wp-content/uploads/2012/10/330026694634_667165_detsky-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pic>
        <p:nvPicPr>
          <p:cNvPr id="619" name="il_fi" descr="http://1.bp.blogspot.com/-yDR9s1D_l5I/TclDeGgMhDI/AAAAAAAAAa8/hYYOl2bRNac/s1600/Kids_PPB_13.jpg"/>
          <p:cNvPicPr/>
          <p:nvPr/>
        </p:nvPicPr>
        <p:blipFill>
          <a:blip r:embed="rId1"/>
          <a:srcRect l="-2579" t="18182" r="0" b="29202"/>
          <a:stretch/>
        </p:blipFill>
        <p:spPr>
          <a:xfrm>
            <a:off x="-357120" y="0"/>
            <a:ext cx="95011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pic>
        <p:nvPicPr>
          <p:cNvPr id="621" name="il_fi" descr="http://2.bp.blogspot.com/-bk1Q4s0vqXo/TclDjQe9tLI/AAAAAAAAAbA/2ibA1ZacxD4/s1600/Kids_PPB_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pic>
        <p:nvPicPr>
          <p:cNvPr id="623" name="Содержимое 3" descr="http://ogneborec.com/wp-content/uploads/2012/10/330026694634_666943_detsky-15.jpg"/>
          <p:cNvPicPr/>
          <p:nvPr/>
        </p:nvPicPr>
        <p:blipFill>
          <a:blip r:embed="rId1"/>
          <a:srcRect l="-1048" t="13212" r="0" b="22540"/>
          <a:stretch/>
        </p:blipFill>
        <p:spPr>
          <a:xfrm>
            <a:off x="-285840" y="0"/>
            <a:ext cx="94298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/>
          </p:nvPr>
        </p:nvSpPr>
        <p:spPr>
          <a:xfrm>
            <a:off x="706320" y="1350720"/>
            <a:ext cx="8437680" cy="522108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/>
          </a:bodyPr>
          <a:p>
            <a:pPr marL="5400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ulenspiegel.od.ua/rozhdenie-prometej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4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Стихи о пожарных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400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http://spirovopch52.ucoz.ru/publ/stikhi_o_pozharnykh/3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4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С.Маршак «Пожар»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400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http://lukoshko.net/marshak/marsh6.shtm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4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Школа пожарной безопасности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400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"/>
              </a:rPr>
              <a:t>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8"/>
              </a:rPr>
              <a:t>http://www.zanimatika.narod.ru/OBJ3.ht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4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ктивные ссылки на страницы материалов в Интернете.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 Золотой век. Рождение Прометея.:</a:t>
            </a:r>
            <a:endParaRPr b="0" lang="en-US" sz="2400" spc="-1" strike="noStrike">
              <a:solidFill>
                <a:srgbClr val="f4f1da"/>
              </a:solidFill>
              <a:latin typeface="Verdana"/>
            </a:endParaRPr>
          </a:p>
        </p:txBody>
      </p:sp>
    </p:spTree>
  </p:cSld>
  <p:transition spd="slow" advTm="2000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57160" y="5000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зникновение огня</a:t>
            </a: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785520" y="1143000"/>
            <a:ext cx="7900920" cy="521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давние времена, когда всем миром правил Зевс, люди, только-только расселившиеся на земле, были слабыми, бессильными, пугливыми. Они не умели ни думать, ни понимать того, что видели вокруг. С ужасом смотрели они на грозовые тучи, палящее солнце, бескрайнее море и высокие горы. От всего, что их пугало, люди прятались в пещеры. Не было у них тогда ни жилья, ни семейного очага: люди не варили пищу, не грелись около огня. И была такая жизнь жалким существованием. Пожалел людей своим большим сердцем титан Прометей, и смело нарушил запрет Зевса: не давать людям огня. Пробравшись во дворец, титан взял небольшую искру огня и, спрятав её в пустом стебле тростника, принёс людям на землю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11120" indent="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 thruBlk="true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/>
          </p:nvPr>
        </p:nvSpPr>
        <p:spPr>
          <a:xfrm>
            <a:off x="0" y="356760"/>
            <a:ext cx="9144000" cy="12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2000"/>
          </a:bodyPr>
          <a:p>
            <a:pPr marL="90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90360" indent="-7524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://www.1408.ru/Image/image013(1).jp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90360" indent="-7524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umm4.com/wp-content/uploads/2011/06/stixi-dlya-detejpravila-pozharnoj-bezopasnosti-3.jp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90360" indent="-7524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http://ogneborec.com/wpcontent/uploads/2012/10/330026694634_667165_detsky-10.jp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90360" indent="-7524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http://ogneborec.com/wpcontent/uploads/2012/10/330026694634_666943_detsky-15.jp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90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метей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90360" indent="-7524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http://upload.wikimedia.org/wikipedia/commons/thumb/5/5b/Heinrich_fueger_1817_prometheus_brings_fire_to_mankind.jpg/300px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einrich_fueger_1817_prometheus_brings_fire_to_mankind.jp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90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жарная машина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90360" indent="-7524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autoreview.ru/new_site/year2001/n18/fire/800/newschool_03.jp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90360" indent="-7524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old.morfish.ru/student/articles/2005pal_USA/popov/pic/46.jp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90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тографи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90360" indent="-7524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ttp://world.fedpress.ru/sites/fedpress/files/didenko/news/afiny_0.jp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90360" indent="-7524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ttp://upload.wikimedia.org/wikipedia/commons/thumb/9/95/FirePhotography.jpg/250px-FirePhotography.jp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90360" indent="-7524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ttp://www.mk.ru/upload/iblock_mk/photoreport/new/c2/ae/e8/495_12171.jp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90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90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90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90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исок использованных источников:</a:t>
            </a:r>
            <a:r>
              <a:rPr b="0" lang="en-US" sz="2400" spc="-1" strike="noStrike">
                <a:solidFill>
                  <a:srgbClr val="f4f1da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lang="en-US" sz="1800" spc="-1" strike="noStrike">
                <a:solidFill>
                  <a:srgbClr val="f4f1da"/>
                </a:solidFill>
                <a:latin typeface="Times New Roman"/>
                <a:ea typeface="Times New Roman"/>
              </a:rPr>
              <a:t>Иллюстрации:</a:t>
            </a:r>
            <a:br>
              <a:rPr sz="1800"/>
            </a:br>
            <a:endParaRPr b="0" lang="en-US" sz="1800" spc="-1" strike="noStrike">
              <a:solidFill>
                <a:srgbClr val="f4f1da"/>
              </a:solidFill>
              <a:latin typeface="Verdana"/>
            </a:endParaRPr>
          </a:p>
        </p:txBody>
      </p:sp>
    </p:spTree>
  </p:cSld>
  <p:transition spd="slow" advTm="2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914400" y="1784520"/>
            <a:ext cx="7772400" cy="4572000"/>
          </a:xfrm>
          <a:prstGeom prst="rect">
            <a:avLst/>
          </a:prstGeom>
          <a:ln w="0">
            <a:noFill/>
          </a:ln>
        </p:spPr>
      </p:pic>
      <p:pic>
        <p:nvPicPr>
          <p:cNvPr id="571" name="Содержимое 3" descr="001.jpg"/>
          <p:cNvPicPr/>
          <p:nvPr/>
        </p:nvPicPr>
        <p:blipFill>
          <a:blip r:embed="rId2"/>
          <a:stretch/>
        </p:blipFill>
        <p:spPr>
          <a:xfrm>
            <a:off x="2571840" y="0"/>
            <a:ext cx="4803840" cy="6858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 spd="slow" advTm="2000">
    <p:checker dir="ver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 тех пор засияли яркие огоньки костров на земле. Около них собирались люди целыми семьями, жарили мясо, грелись, танцевали. Теперь люди зажили веселее и дружнее, и титан Прометей искренне этому радовался. Он научил людей укрощать огонь, плавить медь, ковать оружие. Благодаря Прометею люди научились думать и, наверное, впервые почувствовать себя людьм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 advTm="2000">
    <p:fade thruBlk="true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Picture 4" descr="1)пожар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706320" y="1351080"/>
            <a:ext cx="5718240" cy="97776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 fontScale="19000"/>
          </a:bodyPr>
          <a:p>
            <a:pPr marL="10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10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оворим – огонь нам друг!     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0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о врагом он станет вдруг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0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сли мы о нём забудем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0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омстит он сразу людям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0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0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жалеете о то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0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 в сражении с огнём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0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ут он страшен и суров –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0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от дома куча дров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0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0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4f1da"/>
              </a:solidFill>
              <a:latin typeface="Verdana"/>
            </a:endParaRPr>
          </a:p>
        </p:txBody>
      </p:sp>
    </p:spTree>
  </p:cSld>
  <p:transition spd="slow" advTm="2000">
    <p:fade thruBlk="true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pic>
        <p:nvPicPr>
          <p:cNvPr id="578" name="Picture 5" descr="http://www.webpark.ru/uploads54/100809/California_16.jpg"/>
          <p:cNvPicPr/>
          <p:nvPr/>
        </p:nvPicPr>
        <p:blipFill>
          <a:blip r:embed="rId1"/>
          <a:stretch/>
        </p:blipFill>
        <p:spPr>
          <a:xfrm>
            <a:off x="-158760" y="0"/>
            <a:ext cx="95108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pic>
        <p:nvPicPr>
          <p:cNvPr id="580" name="Picture 4" descr="6)Пожар в квартир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Verdana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83" name="Picture 6" descr="http://www.mk.ru/upload/iblock_mk/photoreport/new/c2/ae/e8/495_1217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17:20:08Z</dcterms:created>
  <dc:creator>Пользователь Windows</dc:creator>
  <dc:description/>
  <dc:language>en-US</dc:language>
  <cp:lastModifiedBy>Мама</cp:lastModifiedBy>
  <dcterms:modified xsi:type="dcterms:W3CDTF">2013-03-02T13:28:02Z</dcterms:modified>
  <cp:revision>370</cp:revision>
  <dc:subject/>
  <dc:title>Твои действия при пожаре</dc:title>
</cp:coreProperties>
</file>