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4f1da"/>
                </a:solidFill>
                <a:latin typeface="Verdana"/>
              </a:rPr>
              <a:t>Click to move the slide</a:t>
            </a:r>
            <a:endParaRPr b="0" lang="en-US" sz="4000" spc="-1" strike="noStrike">
              <a:solidFill>
                <a:srgbClr val="f4f1da"/>
              </a:solidFill>
              <a:latin typeface="Verdan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F3F15-6FFD-447A-88C8-30E5EBAB57D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DC3B7-8414-489F-81A2-82A1986BA70F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3AC79-B0FA-4A89-9E10-0C4A69FBBC6C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BAAC6-E89D-429E-8E33-A763095EFB1D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AD667-6ABF-4940-8970-C0490CDD054B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4384A-7E0B-4DB2-AD81-01D1AB1AC4B8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30B72-3855-4C37-917A-27F71B5048A5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0426C-2AC6-49A4-89D9-29B50E0DBC1D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CB231-5A6A-4276-8891-7D234CC91538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4A0FE-9E08-41B1-B370-27671F57EB4C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C1152-2C4F-474C-AFE6-4B00BA483D01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E18A7-C92E-4158-81C7-E8C4DF42A52D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AF886-BBB2-441A-B5B7-192F114F4ED1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F3056-73DD-451D-842B-3480C397ACCD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CE016-8C35-48B7-988E-36FB402F4736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78F51-377E-4563-A076-BAF527A7CE23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95098-4BFA-4DAA-ACCB-90DB237D66D6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14956-5BD8-4760-B3D6-B5A1AD1B6DB8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CC076-5AE0-4A46-B544-FB1A0FFD22E7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D6A75-DC52-4891-B87C-58F8CB877D2F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A2A88-FB5B-464F-87B1-1CC080414CE0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58113-1323-4801-8599-78AC7C7ECD3A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F7C7C-5566-41CD-A75D-C8EA5973693B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1A159-1B90-4854-923B-B4CB2B7319D3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0E99F-CEB8-45C7-8589-0C8650349FF2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045C1-38C8-46DC-BDB0-83D8B123569B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B88DC-C77E-42BD-A6D5-71D39E8CA044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8B3DC-C5B0-4C8D-A028-9ECC68E35EBF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0E356-4B6F-42B6-AAD8-277FC4CD95D1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877D1-897F-4E67-AC45-D02F6520F516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053AE-277F-4FAC-B73F-17F47AE1941C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18715-18F1-4B85-9C79-35C98B6B2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8C727-81FA-40E8-BF9F-56DA4669E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Verdan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89D46D-05D9-434B-AD0D-A36DD8895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3071D6-B46B-4A88-BDA9-B536FE632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EEB8B9-FEED-4B9F-B780-AF5D03956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Verdan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E3BF69-787B-45F7-AF8F-BF6283FD4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Verdan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F294D7-0AC2-4BDA-B5CE-A77B228D7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Verdan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0DA5A0-B1E1-4AFD-A6C3-D0B0FBFA1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Verdan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CB3ED1-E565-440E-979E-B0F18C0E1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Verdan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A5F0C3-3C39-4E38-8830-DFD301351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Verdan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696E30-970B-4DCC-BE72-ED6593DC1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8B0B95-02DC-42F6-A17C-396346510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353A5-4196-49A1-9046-841ED0643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Verdan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6859C7-26FF-419D-A049-C3C2035E9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Verdan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623363-F4E8-4A25-B1B3-3B05D942D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Verdana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B2C0B8-83DA-4E90-B098-30C724A7A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35E1FC-E335-4EB4-8996-FC363E966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E5053C-A5A4-4C2E-9DDD-6F61158DF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Verdana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EE75E0-F28B-45AE-9D62-2C62EEEC7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Verdan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96365B-0F6D-4810-81EF-3F7931F21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Verdan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909039-F0E1-45D5-A1DB-637C65C0A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Verdan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0F08DE-6172-430B-9A63-F9300C00A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Verdan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CBE1CB-3695-4EDD-98F3-329B40C3F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18335-906D-4B3E-A846-353A68D44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Verdan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D55CC2-DE86-45BB-8BA4-8E13C37FE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A3DA27-439D-4D46-803E-C7A7ADB0F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BC8988-C6C6-4B3D-9AC0-42C24A487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Verdan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745D99-CEC3-4D27-89EA-3DC1CDF56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Verdana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1CC344-B74F-42AE-B30A-8382F9955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4BDB39-4999-4A26-89FC-E106C41AB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35B41F-2D38-49BF-8ACE-E9DD028B0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Verdan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837F7B-0EC7-4256-B124-C01D2F4BF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Verdan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12D7EA-A13F-4B69-8FAE-919DC5034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Verdana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1A49B1-6500-4B22-AD57-E8C54D9B9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DDE50-81CF-4779-8A0D-6EB89599C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Verdan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9C4D3A-1C00-4977-9E15-778B3E069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Verdana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549DEE-9937-4D2F-9D16-3AD3D949B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Verdana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5946D2-379F-4D43-A03A-EF55105A7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A1D333-75DF-4C14-8AFA-DE8B856CE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Verdan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971A73-6459-4B65-A220-6399D67B0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Verdan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D51993-B5BD-4617-860F-53F0DE52E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Verdan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E61A98-0B46-4861-86B0-96CA65452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E0ADD1-5E90-453D-A79A-2C7B7B3BC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8D71BC-5C8F-42A8-9D1A-64BC85D90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Verdan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D3E076-A8C6-463E-A327-E9823129F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3327D-CE68-4191-846D-7DCA8F1EF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Verdana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BE810E-9336-41ED-B019-06147AAF7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Verdana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C42C28-4E7F-423C-A1E1-E3D62606D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Verdana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56152B-A512-4316-B720-69A52E58C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Verdan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147A37-7463-42CC-859A-AE7A08D13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Verdan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3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4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D84360-1AB3-432F-8A93-03780F5D1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AADF0-DD57-4BA3-B02D-620411D7D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9EBE0-0B77-47E9-AECB-92C9F0542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D4D8A-5895-44ED-B04E-1EC7C83E6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F9996-C71D-4293-93DC-E2283812C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62261-DB53-4903-B307-0A8B955C9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AA859-1A3C-4D8D-AF6E-5B7C9BDDF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801A6-6509-4902-A03B-7D88F3F6F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BAD36-B1EE-491D-9BA0-1159E3128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56073-79FC-42FB-8816-1B477A084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9FC65-35A3-4A6D-9C1C-0AC18A2B1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46FD2-62B6-4341-BB79-E72C3FF27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D2FB2C-F7B0-49E2-9060-4A5611612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A17DFC-F17F-420A-82E4-9B9CF5C1F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0BBE4B-57EA-4EF8-A63B-961AE7455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E7FFEC-CB0C-4095-B31C-DE45880AB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A4050F-BB8F-4FE3-B686-A18F2C365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88F26-1C2E-437E-A8CD-D16CB724A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6C3709-21B9-4F86-8F88-FFAC4F1C8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8E1B4F-0A7E-45FB-9100-6E0AC460E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9864B0-5164-4FB9-8361-5C215401A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2878A4-BCB0-405C-B2F5-EBACFC55C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3D1941-7099-40D8-9ED4-D20906789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E1A846-6FFF-4778-A621-4FCA49A4F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E17273-7A54-4714-B714-CACE1F4FA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DEEC0E-6810-479C-9335-2D1F880EA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60B780-328F-412E-B5CC-C96473356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D27F7A-B345-4BDF-ABBD-74384905C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6A158-4AB0-4EC8-871D-F86D7E23B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C05D5B-DD41-4E80-A7DB-4E999CCCC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3AA51E-6D22-4423-8771-B4D890EBF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A5B9FD-B777-4BA0-80F3-CF895C68D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A6188C-0069-490C-938B-FDCBC0FE4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EC39C1-E693-44F0-AA6E-04EC8E867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6CF704-E5D7-45C8-9BD1-30A56CC23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2A841B-6138-496D-9973-C5CF21666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820009-CA2A-482D-B656-31EFFB8E2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1F7783-9F04-49F7-8D27-4B8E5F78B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DF0B3A-BB8D-4304-B34C-87928D5F8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274AE-E6EE-422F-B05A-350D1AE0B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4602D2-59E0-4FF6-88BD-7884C79B8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C8F782-19EE-468C-85FA-009E0C0CD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636C74-3543-4B15-88E4-633325F4B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FB10FD-9780-44B4-8A6D-ABA97D864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87E61D-E6CF-45D8-B92D-A6F91EDD1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0A6711-1DCA-4A7D-89C2-0A506A67A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C70A13-AB71-4CCD-A478-3F66F4DB8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602D6F-2C2A-4917-9408-BE5ED15F0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78F777-D15D-4FB8-BA35-06C963E7C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1F5929-F79D-4E64-BE3F-8661938E4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DAE0F-D504-498F-89E8-325E641B9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A0C0C3-2B64-46FB-AF71-95FABC153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B3215C-590B-460A-ACE7-D9FC31E0A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1CAF5E-BC39-4BCA-98D6-D37C284CD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A3C614-188E-4102-8862-911FE0450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FAD85E-B81E-4313-97AF-E1BFF3BD0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59F9C4-3562-4E8F-B59C-1A3943E46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19D85D-68C1-4B17-B5A2-B8EB56BAC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326513-F067-482C-9FF8-7256678BE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7BDA2E-3A30-42A4-B678-FA5BE1F28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14961C-9841-42D2-88A5-128E99D47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D4728-9BE3-497E-8CCF-AFB15DBFE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736A34-CAC9-42E2-8012-03DC2910E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86AE55-E966-426E-AA46-A26053874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AB1F85-F60D-427B-92DC-67A6A50BA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63D2C5-A746-47DA-A947-8F99CC6C2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769209-7920-48B2-A4EE-0AC7F6B1F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Verdan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11985F-9D9D-4D24-814D-98AB0B2C5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Verdan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A8ED15-D0ED-478B-9107-AAA778434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9949A0-3A51-4183-8F01-309A5CA12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1881C8-27BB-4F0E-B433-01D6C0072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A61881-EFC4-496C-9A0B-2AC7FA60D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B3F19-F1F5-4D99-83E6-805825182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Verdan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89790A-8116-42C0-91AA-2538D6E95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Verdan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BFA5BD-8F9D-468E-95EA-4A276C78A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FA4106-9EEE-449B-AC08-D0071FB6F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08BCE5-3DD9-44E5-A016-7C7793019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8C4F86-D921-43B7-B475-C3A11C406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FCE093-F7D6-4245-86FB-485FA3591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Verdan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E66554-41F5-47EA-8041-D73A99613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Verdan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D1AE43-DBFD-48C4-9531-A3DBC62A9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AF49A2-9FB4-46DE-A89F-10214170D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2576EA-7208-46BA-9B8F-2C3268257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AC21D-918B-4197-BA18-3FC4467EA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489300-AF15-4412-9B99-AF5A712B3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Verdan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E93E59-85CF-471D-AC65-75DA034C3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Verdan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A1CBC4-D323-4E46-9616-D0D7E4D7B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Verdan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43B063-EFF4-4FB3-A9D7-168825DC2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Verdan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8A200E-70ED-446F-8485-D11E77657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Verdan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141476-7093-4D60-9F7E-D9ACFB0CF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Verdan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2DC311-6382-4C64-9DD0-79A2DC685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D31EBD-686C-401F-AD4A-F7532D28B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Verdan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663FAB-CFF4-43E5-BE3C-C5B99D2BE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Verdan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31BBF1-15A6-49E4-A4F8-4279CBCB0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f5d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4f1da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f4f1da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1" marL="739800" indent="-285840">
              <a:spcBef>
                <a:spcPts val="700"/>
              </a:spcBef>
              <a:buClr>
                <a:srgbClr val="c0504d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2" marL="995400" indent="-228600">
              <a:spcBef>
                <a:spcPts val="700"/>
              </a:spcBef>
              <a:buClr>
                <a:srgbClr val="c0504d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3" marL="1260360" indent="-228600">
              <a:spcBef>
                <a:spcPts val="700"/>
              </a:spcBef>
              <a:buClr>
                <a:srgbClr val="9bbb59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4" marL="1481040" indent="-209520">
              <a:spcBef>
                <a:spcPts val="700"/>
              </a:spcBef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eeece1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eeece1"/>
                </a:solidFill>
                <a:latin typeface="Verdana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eece1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C8A42-771E-47A9-8C31-FBB037057D17}" type="slidenum">
              <a:rPr b="0" lang="en-US" sz="1200" spc="-1" strike="noStrike">
                <a:solidFill>
                  <a:srgbClr val="eeece1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f5d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Прямоугольник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Прямая соединительная линия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0" name="Группа 19"/>
          <p:cNvGrpSpPr/>
          <p:nvPr/>
        </p:nvGrpSpPr>
        <p:grpSpPr>
          <a:xfrm>
            <a:off x="8516880" y="1217520"/>
            <a:ext cx="128520" cy="131400"/>
            <a:chOff x="8516880" y="1217520"/>
            <a:chExt cx="128520" cy="131400"/>
          </a:xfrm>
        </p:grpSpPr>
        <p:sp>
          <p:nvSpPr>
            <p:cNvPr id="421" name="Прямая соединительная линия 20"/>
            <p:cNvSpPr/>
            <p:nvPr/>
          </p:nvSpPr>
          <p:spPr>
            <a:xfrm>
              <a:off x="8575920" y="1217520"/>
              <a:ext cx="6948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Прямая соединительная линия 23"/>
            <p:cNvSpPr/>
            <p:nvPr/>
          </p:nvSpPr>
          <p:spPr>
            <a:xfrm>
              <a:off x="8516880" y="1282680"/>
              <a:ext cx="982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Прямая соединительная линия 24"/>
            <p:cNvSpPr/>
            <p:nvPr/>
          </p:nvSpPr>
          <p:spPr>
            <a:xfrm flipV="1">
              <a:off x="8575920" y="1282320"/>
              <a:ext cx="6948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24" name="Группа 25"/>
          <p:cNvGrpSpPr/>
          <p:nvPr/>
        </p:nvGrpSpPr>
        <p:grpSpPr>
          <a:xfrm>
            <a:off x="8669160" y="1370160"/>
            <a:ext cx="128880" cy="131400"/>
            <a:chOff x="8669160" y="1370160"/>
            <a:chExt cx="128880" cy="131400"/>
          </a:xfrm>
        </p:grpSpPr>
        <p:sp>
          <p:nvSpPr>
            <p:cNvPr id="425" name="Прямая соединительная линия 26"/>
            <p:cNvSpPr/>
            <p:nvPr/>
          </p:nvSpPr>
          <p:spPr>
            <a:xfrm>
              <a:off x="8728200" y="1370160"/>
              <a:ext cx="6984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Прямая соединительная линия 27"/>
            <p:cNvSpPr/>
            <p:nvPr/>
          </p:nvSpPr>
          <p:spPr>
            <a:xfrm>
              <a:off x="8669160" y="1435320"/>
              <a:ext cx="9864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Прямая соединительная линия 28"/>
            <p:cNvSpPr/>
            <p:nvPr/>
          </p:nvSpPr>
          <p:spPr>
            <a:xfrm flipV="1">
              <a:off x="8728200" y="1434960"/>
              <a:ext cx="6984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28" name="Группа 29"/>
          <p:cNvGrpSpPr/>
          <p:nvPr/>
        </p:nvGrpSpPr>
        <p:grpSpPr>
          <a:xfrm>
            <a:off x="8321760" y="1473120"/>
            <a:ext cx="128520" cy="131400"/>
            <a:chOff x="8321760" y="1473120"/>
            <a:chExt cx="128520" cy="131400"/>
          </a:xfrm>
        </p:grpSpPr>
        <p:sp>
          <p:nvSpPr>
            <p:cNvPr id="429" name="Прямая соединительная линия 30"/>
            <p:cNvSpPr/>
            <p:nvPr/>
          </p:nvSpPr>
          <p:spPr>
            <a:xfrm>
              <a:off x="8380800" y="1473120"/>
              <a:ext cx="6948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Прямая соединительная линия 31"/>
            <p:cNvSpPr/>
            <p:nvPr/>
          </p:nvSpPr>
          <p:spPr>
            <a:xfrm>
              <a:off x="8321760" y="1538280"/>
              <a:ext cx="982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Прямая соединительная линия 32"/>
            <p:cNvSpPr/>
            <p:nvPr/>
          </p:nvSpPr>
          <p:spPr>
            <a:xfrm flipV="1">
              <a:off x="8380800" y="1537920"/>
              <a:ext cx="6948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4f1da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f4f1da"/>
              </a:solidFill>
              <a:latin typeface="Verdan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1" marL="739800" indent="-285840">
              <a:spcBef>
                <a:spcPts val="700"/>
              </a:spcBef>
              <a:buClr>
                <a:srgbClr val="c0504d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2" marL="995400" indent="-228600">
              <a:spcBef>
                <a:spcPts val="700"/>
              </a:spcBef>
              <a:buClr>
                <a:srgbClr val="c0504d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3" marL="1260360" indent="-228600">
              <a:spcBef>
                <a:spcPts val="700"/>
              </a:spcBef>
              <a:buClr>
                <a:srgbClr val="9bbb59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4" marL="1481040" indent="-209520">
              <a:spcBef>
                <a:spcPts val="700"/>
              </a:spcBef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 type="dt" idx="28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eeece1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eeece1"/>
                </a:solidFill>
                <a:latin typeface="Verdana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 type="ftr" idx="29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 type="sldNum" idx="30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eece1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79297-D81A-4FC6-BCC4-F9065E38ECCE}" type="slidenum">
              <a:rPr b="0" lang="en-US" sz="1200" spc="-1" strike="noStrike">
                <a:solidFill>
                  <a:srgbClr val="eeece1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f5d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4f1da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f4f1da"/>
              </a:solidFill>
              <a:latin typeface="Verdana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1" marL="739800" indent="-285840">
              <a:spcBef>
                <a:spcPts val="700"/>
              </a:spcBef>
              <a:buClr>
                <a:srgbClr val="c0504d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2" marL="995400" indent="-228600">
              <a:spcBef>
                <a:spcPts val="700"/>
              </a:spcBef>
              <a:buClr>
                <a:srgbClr val="c0504d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3" marL="1260360" indent="-228600">
              <a:spcBef>
                <a:spcPts val="700"/>
              </a:spcBef>
              <a:buClr>
                <a:srgbClr val="9bbb59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4" marL="1481040" indent="-209520">
              <a:spcBef>
                <a:spcPts val="700"/>
              </a:spcBef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3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eeece1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eeece1"/>
                </a:solidFill>
                <a:latin typeface="Verdana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3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3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eece1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89F99-EAC6-4F2C-82DA-BDF982BF5095}" type="slidenum">
              <a:rPr b="0" lang="en-US" sz="1200" spc="-1" strike="noStrike">
                <a:solidFill>
                  <a:srgbClr val="eeece1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f5d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4f1da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f4f1da"/>
              </a:solidFill>
              <a:latin typeface="Verdana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1" marL="739800" indent="-285840">
              <a:spcBef>
                <a:spcPts val="700"/>
              </a:spcBef>
              <a:buClr>
                <a:srgbClr val="c0504d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2" marL="995400" indent="-228600">
              <a:spcBef>
                <a:spcPts val="700"/>
              </a:spcBef>
              <a:buClr>
                <a:srgbClr val="c0504d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3" marL="1260360" indent="-228600">
              <a:spcBef>
                <a:spcPts val="700"/>
              </a:spcBef>
              <a:buClr>
                <a:srgbClr val="9bbb59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4" marL="1481040" indent="-209520">
              <a:spcBef>
                <a:spcPts val="700"/>
              </a:spcBef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 type="dt" idx="3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eeece1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eeece1"/>
                </a:solidFill>
                <a:latin typeface="Verdana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 type="ftr" idx="3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 type="sldNum" idx="3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eece1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A541A-754E-4534-96D6-9EB64DACE557}" type="slidenum">
              <a:rPr b="0" lang="en-US" sz="1200" spc="-1" strike="noStrike">
                <a:solidFill>
                  <a:srgbClr val="eeece1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f5d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Прямоугольник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Прямоугольник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Прямоугольник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Прямоугольник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Прямоугольник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Прямоугольник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Прямоугольник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4f1da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f4f1da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1" marL="739800" indent="-285840">
              <a:spcBef>
                <a:spcPts val="700"/>
              </a:spcBef>
              <a:buClr>
                <a:srgbClr val="c0504d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2" marL="995400" indent="-228600">
              <a:spcBef>
                <a:spcPts val="700"/>
              </a:spcBef>
              <a:buClr>
                <a:srgbClr val="c0504d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3" marL="1260360" indent="-228600">
              <a:spcBef>
                <a:spcPts val="700"/>
              </a:spcBef>
              <a:buClr>
                <a:srgbClr val="9bbb59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4" marL="1481040" indent="-209520">
              <a:spcBef>
                <a:spcPts val="700"/>
              </a:spcBef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eeece1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eeece1"/>
                </a:solidFill>
                <a:latin typeface="Verdana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eece1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4B40F-56C5-411A-B1C8-17E9BC24C7B8}" type="slidenum">
              <a:rPr b="0" lang="en-US" sz="1200" spc="-1" strike="noStrike">
                <a:solidFill>
                  <a:srgbClr val="eeece1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f5d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4f1da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f4f1da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1" marL="739800" indent="-285840">
              <a:spcBef>
                <a:spcPts val="700"/>
              </a:spcBef>
              <a:buClr>
                <a:srgbClr val="c0504d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2" marL="995400" indent="-228600">
              <a:spcBef>
                <a:spcPts val="700"/>
              </a:spcBef>
              <a:buClr>
                <a:srgbClr val="c0504d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3" marL="1260360" indent="-228600">
              <a:spcBef>
                <a:spcPts val="700"/>
              </a:spcBef>
              <a:buClr>
                <a:srgbClr val="9bbb59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4" marL="1481040" indent="-209520">
              <a:spcBef>
                <a:spcPts val="700"/>
              </a:spcBef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eeece1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eeece1"/>
                </a:solidFill>
                <a:latin typeface="Verdana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eece1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C95B2-8A40-4D68-A310-51BC97D1AD0A}" type="slidenum">
              <a:rPr b="0" lang="en-US" sz="1200" spc="-1" strike="noStrike">
                <a:solidFill>
                  <a:srgbClr val="eeece1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f5d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Полилиния 17"/>
          <p:cNvSpPr/>
          <p:nvPr/>
        </p:nvSpPr>
        <p:spPr>
          <a:xfrm>
            <a:off x="4829040" y="1073160"/>
            <a:ext cx="4321440" cy="5791320"/>
          </a:xfrm>
          <a:prstGeom prst="pie">
            <a:avLst/>
          </a:prstGeom>
          <a:noFill/>
          <a:ln w="3240">
            <a:solidFill>
              <a:srgbClr val="c0504d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Полилиния 18"/>
          <p:cNvSpPr/>
          <p:nvPr/>
        </p:nvSpPr>
        <p:spPr>
          <a:xfrm>
            <a:off x="374760" y="0"/>
            <a:ext cx="5513400" cy="6615000"/>
          </a:xfrm>
          <a:prstGeom prst="pie">
            <a:avLst/>
          </a:prstGeom>
          <a:noFill/>
          <a:ln w="3240">
            <a:solidFill>
              <a:srgbClr val="c0504d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Полилиния 19"/>
          <p:cNvSpPr/>
          <p:nvPr/>
        </p:nvSpPr>
        <p:spPr>
          <a:xfrm rot="5236200">
            <a:off x="4461120" y="1483200"/>
            <a:ext cx="4114800" cy="1189080"/>
          </a:xfrm>
          <a:prstGeom prst="pie">
            <a:avLst/>
          </a:prstGeom>
          <a:solidFill>
            <a:srgbClr val="2d58a2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Полилиния 20"/>
          <p:cNvSpPr/>
          <p:nvPr/>
        </p:nvSpPr>
        <p:spPr>
          <a:xfrm>
            <a:off x="5943600" y="0"/>
            <a:ext cx="2743200" cy="4267080"/>
          </a:xfrm>
          <a:prstGeom prst="pie">
            <a:avLst/>
          </a:prstGeom>
          <a:solidFill>
            <a:srgbClr val="2756a8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Полилиния 23"/>
          <p:cNvSpPr/>
          <p:nvPr/>
        </p:nvSpPr>
        <p:spPr>
          <a:xfrm>
            <a:off x="5943600" y="4267080"/>
            <a:ext cx="3200400" cy="1143000"/>
          </a:xfrm>
          <a:prstGeom prst="pie">
            <a:avLst/>
          </a:prstGeom>
          <a:solidFill>
            <a:srgbClr val="2756a8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Полилиния 24"/>
          <p:cNvSpPr/>
          <p:nvPr/>
        </p:nvSpPr>
        <p:spPr>
          <a:xfrm>
            <a:off x="5943600" y="0"/>
            <a:ext cx="1371600" cy="4267080"/>
          </a:xfrm>
          <a:prstGeom prst="pie">
            <a:avLst/>
          </a:prstGeom>
          <a:solidFill>
            <a:srgbClr val="2756a8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Полилиния 25"/>
          <p:cNvSpPr/>
          <p:nvPr/>
        </p:nvSpPr>
        <p:spPr>
          <a:xfrm>
            <a:off x="5948280" y="4246560"/>
            <a:ext cx="2090880" cy="2611440"/>
          </a:xfrm>
          <a:prstGeom prst="pie">
            <a:avLst/>
          </a:prstGeom>
          <a:solidFill>
            <a:srgbClr val="2756a8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Полилиния 26"/>
          <p:cNvSpPr/>
          <p:nvPr/>
        </p:nvSpPr>
        <p:spPr>
          <a:xfrm>
            <a:off x="5943600" y="4267080"/>
            <a:ext cx="1600200" cy="2590920"/>
          </a:xfrm>
          <a:prstGeom prst="pie">
            <a:avLst/>
          </a:prstGeom>
          <a:solidFill>
            <a:srgbClr val="2756a8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Полилиния 27"/>
          <p:cNvSpPr/>
          <p:nvPr/>
        </p:nvSpPr>
        <p:spPr>
          <a:xfrm>
            <a:off x="5943600" y="1371600"/>
            <a:ext cx="3200400" cy="2895480"/>
          </a:xfrm>
          <a:prstGeom prst="pie">
            <a:avLst/>
          </a:prstGeom>
          <a:solidFill>
            <a:srgbClr val="2756a8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Полилиния 28"/>
          <p:cNvSpPr/>
          <p:nvPr/>
        </p:nvSpPr>
        <p:spPr>
          <a:xfrm>
            <a:off x="5943600" y="1752480"/>
            <a:ext cx="3200400" cy="2514600"/>
          </a:xfrm>
          <a:prstGeom prst="pie">
            <a:avLst/>
          </a:prstGeom>
          <a:solidFill>
            <a:srgbClr val="2756a8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Полилиния 29"/>
          <p:cNvSpPr/>
          <p:nvPr/>
        </p:nvSpPr>
        <p:spPr>
          <a:xfrm>
            <a:off x="990720" y="4267080"/>
            <a:ext cx="4952880" cy="2590920"/>
          </a:xfrm>
          <a:prstGeom prst="pie">
            <a:avLst/>
          </a:prstGeom>
          <a:solidFill>
            <a:srgbClr val="2756a8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Полилиния 30"/>
          <p:cNvSpPr/>
          <p:nvPr/>
        </p:nvSpPr>
        <p:spPr>
          <a:xfrm>
            <a:off x="533520" y="4267080"/>
            <a:ext cx="5333760" cy="2590920"/>
          </a:xfrm>
          <a:prstGeom prst="pie">
            <a:avLst/>
          </a:prstGeom>
          <a:solidFill>
            <a:srgbClr val="2756a8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Полилиния 31"/>
          <p:cNvSpPr/>
          <p:nvPr/>
        </p:nvSpPr>
        <p:spPr>
          <a:xfrm>
            <a:off x="366840" y="2438280"/>
            <a:ext cx="5638680" cy="1828800"/>
          </a:xfrm>
          <a:prstGeom prst="pie">
            <a:avLst/>
          </a:prstGeom>
          <a:solidFill>
            <a:srgbClr val="2756a8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Полилиния 32"/>
          <p:cNvSpPr/>
          <p:nvPr/>
        </p:nvSpPr>
        <p:spPr>
          <a:xfrm>
            <a:off x="366840" y="2133720"/>
            <a:ext cx="5638680" cy="2133360"/>
          </a:xfrm>
          <a:prstGeom prst="pie">
            <a:avLst/>
          </a:prstGeom>
          <a:solidFill>
            <a:srgbClr val="2756a8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Полилиния 33"/>
          <p:cNvSpPr/>
          <p:nvPr/>
        </p:nvSpPr>
        <p:spPr>
          <a:xfrm>
            <a:off x="4572000" y="4267080"/>
            <a:ext cx="1371600" cy="2590920"/>
          </a:xfrm>
          <a:prstGeom prst="pie">
            <a:avLst/>
          </a:prstGeom>
          <a:solidFill>
            <a:srgbClr val="2d58a2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Прямоугольник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2d58a2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Прямоугольник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Прямоугольник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Прямоугольник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Прямоугольник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Прямоугольник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4f1da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f4f1da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1" marL="739800" indent="-285840">
              <a:spcBef>
                <a:spcPts val="700"/>
              </a:spcBef>
              <a:buClr>
                <a:srgbClr val="c0504d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2" marL="995400" indent="-228600">
              <a:spcBef>
                <a:spcPts val="700"/>
              </a:spcBef>
              <a:buClr>
                <a:srgbClr val="c0504d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3" marL="1260360" indent="-228600">
              <a:spcBef>
                <a:spcPts val="700"/>
              </a:spcBef>
              <a:buClr>
                <a:srgbClr val="9bbb59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4" marL="1481040" indent="-209520">
              <a:spcBef>
                <a:spcPts val="700"/>
              </a:spcBef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eeece1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eeece1"/>
                </a:solidFill>
                <a:latin typeface="Verdana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eece1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A35F2-6306-4047-980F-5F1303931A98}" type="slidenum">
              <a:rPr b="0" lang="en-US" sz="1200" spc="-1" strike="noStrike">
                <a:solidFill>
                  <a:srgbClr val="eeece1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f5d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4f1da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f4f1da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1" marL="739800" indent="-285840">
              <a:spcBef>
                <a:spcPts val="700"/>
              </a:spcBef>
              <a:buClr>
                <a:srgbClr val="c0504d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2" marL="995400" indent="-228600">
              <a:spcBef>
                <a:spcPts val="700"/>
              </a:spcBef>
              <a:buClr>
                <a:srgbClr val="c0504d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3" marL="1260360" indent="-228600">
              <a:spcBef>
                <a:spcPts val="700"/>
              </a:spcBef>
              <a:buClr>
                <a:srgbClr val="9bbb59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4" marL="1481040" indent="-209520">
              <a:spcBef>
                <a:spcPts val="700"/>
              </a:spcBef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eeece1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eeece1"/>
                </a:solidFill>
                <a:latin typeface="Verdana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eece1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9670A-3A3E-4BCB-BCBC-6DC03BE4C841}" type="slidenum">
              <a:rPr b="0" lang="en-US" sz="1200" spc="-1" strike="noStrike">
                <a:solidFill>
                  <a:srgbClr val="eeece1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f5d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Прямоугольник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2d58a2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Прямоугольник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Прямоугольник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Прямоугольник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Прямоугольник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Прямоугольник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Прямоугольник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Прямоугольник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Прямоугольник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Прямоугольник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4f1da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f4f1da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1" marL="739800" indent="-285840">
              <a:spcBef>
                <a:spcPts val="700"/>
              </a:spcBef>
              <a:buClr>
                <a:srgbClr val="c0504d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2" marL="995400" indent="-228600">
              <a:spcBef>
                <a:spcPts val="700"/>
              </a:spcBef>
              <a:buClr>
                <a:srgbClr val="c0504d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3" marL="1260360" indent="-228600">
              <a:spcBef>
                <a:spcPts val="700"/>
              </a:spcBef>
              <a:buClr>
                <a:srgbClr val="9bbb59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4" marL="1481040" indent="-209520">
              <a:spcBef>
                <a:spcPts val="700"/>
              </a:spcBef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eeece1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eeece1"/>
                </a:solidFill>
                <a:latin typeface="Verdana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eece1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24DD4-F942-495B-8E29-BF1F9DB52DD9}" type="slidenum">
              <a:rPr b="0" lang="en-US" sz="1200" spc="-1" strike="noStrike">
                <a:solidFill>
                  <a:srgbClr val="eeece1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f5d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4f1da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f4f1da"/>
              </a:solidFill>
              <a:latin typeface="Verdan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1" marL="739800" indent="-285840">
              <a:spcBef>
                <a:spcPts val="700"/>
              </a:spcBef>
              <a:buClr>
                <a:srgbClr val="c0504d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2" marL="995400" indent="-228600">
              <a:spcBef>
                <a:spcPts val="700"/>
              </a:spcBef>
              <a:buClr>
                <a:srgbClr val="c0504d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3" marL="1260360" indent="-228600">
              <a:spcBef>
                <a:spcPts val="700"/>
              </a:spcBef>
              <a:buClr>
                <a:srgbClr val="9bbb59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4" marL="1481040" indent="-209520">
              <a:spcBef>
                <a:spcPts val="700"/>
              </a:spcBef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19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eeece1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eeece1"/>
                </a:solidFill>
                <a:latin typeface="Verdana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ftr" idx="20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sldNum" idx="21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eece1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7A050-5910-4DF1-BE99-47985F6B328F}" type="slidenum">
              <a:rPr b="0" lang="en-US" sz="1200" spc="-1" strike="noStrike">
                <a:solidFill>
                  <a:srgbClr val="eeece1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f5d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4f1da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f4f1da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1" marL="739800" indent="-285840">
              <a:spcBef>
                <a:spcPts val="700"/>
              </a:spcBef>
              <a:buClr>
                <a:srgbClr val="c0504d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2" marL="995400" indent="-228600">
              <a:spcBef>
                <a:spcPts val="700"/>
              </a:spcBef>
              <a:buClr>
                <a:srgbClr val="c0504d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3" marL="1260360" indent="-228600">
              <a:spcBef>
                <a:spcPts val="700"/>
              </a:spcBef>
              <a:buClr>
                <a:srgbClr val="9bbb59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4" marL="1481040" indent="-209520">
              <a:spcBef>
                <a:spcPts val="700"/>
              </a:spcBef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dt" idx="22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eeece1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eeece1"/>
                </a:solidFill>
                <a:latin typeface="Verdana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ftr" idx="23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 type="sldNum" idx="24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eece1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93D51-BC51-4329-A50C-78D22C3E20B1}" type="slidenum">
              <a:rPr b="0" lang="en-US" sz="1200" spc="-1" strike="noStrike">
                <a:solidFill>
                  <a:srgbClr val="eeece1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f5d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4f1da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f4f1da"/>
              </a:solidFill>
              <a:latin typeface="Verdan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1" marL="739800" indent="-285840">
              <a:spcBef>
                <a:spcPts val="700"/>
              </a:spcBef>
              <a:buClr>
                <a:srgbClr val="c0504d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2" marL="995400" indent="-228600">
              <a:spcBef>
                <a:spcPts val="700"/>
              </a:spcBef>
              <a:buClr>
                <a:srgbClr val="c0504d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3" marL="1260360" indent="-228600">
              <a:spcBef>
                <a:spcPts val="700"/>
              </a:spcBef>
              <a:buClr>
                <a:srgbClr val="9bbb59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4" marL="1481040" indent="-209520">
              <a:spcBef>
                <a:spcPts val="700"/>
              </a:spcBef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 type="dt" idx="25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eeece1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eeece1"/>
                </a:solidFill>
                <a:latin typeface="Verdana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 type="ftr" idx="26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 type="sldNum" idx="27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eece1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3ACD0-B3B8-41DA-83B5-8F785C36DE8A}" type="slidenum">
              <a:rPr b="0" lang="en-US" sz="1200" spc="-1" strike="noStrike">
                <a:solidFill>
                  <a:srgbClr val="eeece1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ulenspiegel.od.ua/rozhdenie-prometeja" TargetMode="External"/><Relationship Id="rId2" Type="http://schemas.openxmlformats.org/officeDocument/2006/relationships/hyperlink" Target="http://ulenspiegel.od.ua/rozhdenie-prometeja" TargetMode="External"/><Relationship Id="rId3" Type="http://schemas.openxmlformats.org/officeDocument/2006/relationships/hyperlink" Target="http://spirovopch52.ucoz.ru/publ/stikhi_o_pozharnykh/3" TargetMode="External"/><Relationship Id="rId4" Type="http://schemas.openxmlformats.org/officeDocument/2006/relationships/hyperlink" Target="http://spirovopch52.ucoz.ru/publ/stikhi_o_pozharnykh/3" TargetMode="External"/><Relationship Id="rId5" Type="http://schemas.openxmlformats.org/officeDocument/2006/relationships/hyperlink" Target="http://lukoshko.net/marshak/marsh6.shtml" TargetMode="External"/><Relationship Id="rId6" Type="http://schemas.openxmlformats.org/officeDocument/2006/relationships/hyperlink" Target="http://lukoshko.net/marshak/marsh6.shtml" TargetMode="External"/><Relationship Id="rId7" Type="http://schemas.openxmlformats.org/officeDocument/2006/relationships/hyperlink" Target="http://www.zanimatika.narod.ru/OBJ3.htm" TargetMode="External"/><Relationship Id="rId8" Type="http://schemas.openxmlformats.org/officeDocument/2006/relationships/hyperlink" Target="http://www.zanimatika.narod.ru/OBJ3.htm" TargetMode="External"/><Relationship Id="rId9" Type="http://schemas.openxmlformats.org/officeDocument/2006/relationships/slideLayout" Target="../slideLayouts/slideLayout37.xml"/><Relationship Id="rId10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http://www.1408.ru/Image/image013(1).jpg" TargetMode="External"/><Relationship Id="rId2" Type="http://schemas.openxmlformats.org/officeDocument/2006/relationships/hyperlink" Target="http://umm4.com/wp-content/uploads/2011/06/stixi-dlya-detejpravila-pozharnoj-bezopasnosti-3.jpg" TargetMode="External"/><Relationship Id="rId3" Type="http://schemas.openxmlformats.org/officeDocument/2006/relationships/hyperlink" Target="http://ogneborec.com/wpcontent/uploads/2012/10/330026694634_667165_detsky-10.jpg" TargetMode="External"/><Relationship Id="rId4" Type="http://schemas.openxmlformats.org/officeDocument/2006/relationships/hyperlink" Target="http://ogneborec.com/wpcontent/uploads/2012/10/330026694634_666943_detsky-15.jpg" TargetMode="External"/><Relationship Id="rId5" Type="http://schemas.openxmlformats.org/officeDocument/2006/relationships/hyperlink" Target="http://upload.wikimedia.org/wikipedia/commons/thumb/5/5b/Heinrich_fueger_1817_prometheus_brings_fire_to_mankind.jpg/300px-Heinrich_fueger_1817_prometheus_brings_fire_to_mankind.jpg" TargetMode="External"/><Relationship Id="rId6" Type="http://schemas.openxmlformats.org/officeDocument/2006/relationships/hyperlink" Target="http://upload.wikimedia.org/wikipedia/commons/thumb/5/5b/Heinrich_fueger_1817_prometheus_brings_fire_to_mankind.jpg/300px-Heinrich_fueger_1817_prometheus_brings_fire_to_mankind.jpg" TargetMode="External"/><Relationship Id="rId7" Type="http://schemas.openxmlformats.org/officeDocument/2006/relationships/slideLayout" Target="../slideLayouts/slideLayout85.xml"/><Relationship Id="rId8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f5d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2" name="Picture 4" descr="4)Огонь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928800" y="5000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резентация внеклассного мероприятия по ОБЖ</a:t>
            </a:r>
            <a:endParaRPr b="0" lang="en-US" sz="4000" spc="-1" strike="noStrike">
              <a:solidFill>
                <a:srgbClr val="f4f1da"/>
              </a:solidFill>
              <a:latin typeface="Verdana"/>
            </a:endParaRPr>
          </a:p>
        </p:txBody>
      </p:sp>
      <p:sp>
        <p:nvSpPr>
          <p:cNvPr id="564" name=""/>
          <p:cNvSpPr txBox="1"/>
          <p:nvPr/>
        </p:nvSpPr>
        <p:spPr>
          <a:xfrm>
            <a:off x="1000080" y="178596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11120" indent="-3427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ожар – опасная чрезвычайная ситуация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411120" indent="-34272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411120" indent="-34272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b0f0"/>
                </a:solidFill>
                <a:latin typeface="Times New Roman"/>
                <a:ea typeface="Dotum"/>
              </a:rPr>
              <a:t>Учитель начальных классов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411120" indent="-34272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b0f0"/>
                </a:solidFill>
                <a:latin typeface="Times New Roman"/>
                <a:ea typeface="Dotum"/>
              </a:rPr>
              <a:t>МБОУ «СОШ № 69» г. Кемерово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411120" indent="-34272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b0f0"/>
                </a:solidFill>
                <a:latin typeface="Times New Roman"/>
                <a:ea typeface="Tahoma"/>
              </a:rPr>
              <a:t>Волкова Ирина Викторовн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411120" indent="-34272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9600"/>
                            </p:stCondLst>
                            <p:childTnLst>
                              <p:par>
                                <p:cTn id="1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5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5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5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1600"/>
                            </p:stCondLst>
                            <p:childTnLst>
                              <p:par>
                                <p:cTn id="1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5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5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5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3600"/>
                            </p:stCondLst>
                            <p:childTnLst>
                              <p:par>
                                <p:cTn id="2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5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5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5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5600"/>
                            </p:stCondLst>
                            <p:childTnLst>
                              <p:par>
                                <p:cTn id="2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5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5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5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1f5d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Verdana"/>
            </a:endParaRPr>
          </a:p>
        </p:txBody>
      </p:sp>
      <p:sp>
        <p:nvSpPr>
          <p:cNvPr id="585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       </a:t>
            </a:r>
            <a:r>
              <a:rPr b="0" i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00 лет назад пожары обнаруживали с каланчи – высокой башни над зданием пожарной команды. Она была самым высоким сооружением в старых русских городах. 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fade thruBlk="true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f5d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Verdana"/>
            </a:endParaRPr>
          </a:p>
        </p:txBody>
      </p:sp>
      <p:pic>
        <p:nvPicPr>
          <p:cNvPr id="587" name="Picture 5" descr="http://farm1.static.flickr.com/107/400149786_491b74bc0e.jpg"/>
          <p:cNvPicPr/>
          <p:nvPr/>
        </p:nvPicPr>
        <p:blipFill>
          <a:blip r:embed="rId1"/>
          <a:stretch/>
        </p:blipFill>
        <p:spPr>
          <a:xfrm>
            <a:off x="228600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1f5d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Verdana"/>
            </a:endParaRPr>
          </a:p>
        </p:txBody>
      </p:sp>
      <p:sp>
        <p:nvSpPr>
          <p:cNvPr id="589" name=""/>
          <p:cNvSpPr txBox="1"/>
          <p:nvPr/>
        </p:nvSpPr>
        <p:spPr>
          <a:xfrm>
            <a:off x="857160" y="157176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3430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        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У пожарной части было два этажа. На втором этаже жили пожарные с семьями. На первом стояли повозки с бочками с водой, баграми, лестницами. Но самое главное здесь – лошади – самые лучшие, самые резвые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11120" indent="3430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ожарная часть, выезжающая в те времена на пожар, представляла собой довольно солидную процессию. Впереди на лихом коне – трубач, громкими звуками предупреждающий прохожих о том, что пожарные с большой скоростью едут на пожар. Отсюда и пошло выражение: «Летит, как на пожар». Но дом зачастую не успевали спасти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11120" indent="3430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fade thruBlk="true"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5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5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5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f5d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Verdana"/>
            </a:endParaRPr>
          </a:p>
        </p:txBody>
      </p:sp>
      <p:pic>
        <p:nvPicPr>
          <p:cNvPr id="591" name="" descr=""/>
          <p:cNvPicPr/>
          <p:nvPr/>
        </p:nvPicPr>
        <p:blipFill>
          <a:blip r:embed="rId1"/>
          <a:stretch/>
        </p:blipFill>
        <p:spPr>
          <a:xfrm>
            <a:off x="914400" y="1784520"/>
            <a:ext cx="7772400" cy="4572000"/>
          </a:xfrm>
          <a:prstGeom prst="rect">
            <a:avLst/>
          </a:prstGeom>
          <a:ln w="0">
            <a:noFill/>
          </a:ln>
        </p:spPr>
      </p:pic>
      <p:pic>
        <p:nvPicPr>
          <p:cNvPr id="592" name="Picture 8" descr="http://pda.mchsmedia.ru/files/r_800_h/olosh_20126201039.png"/>
          <p:cNvPicPr/>
          <p:nvPr/>
        </p:nvPicPr>
        <p:blipFill>
          <a:blip r:embed="rId2"/>
          <a:stretch/>
        </p:blipFill>
        <p:spPr>
          <a:xfrm>
            <a:off x="2143080" y="-12600"/>
            <a:ext cx="4586400" cy="687060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f5d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Verdana"/>
            </a:endParaRPr>
          </a:p>
        </p:txBody>
      </p:sp>
      <p:sp>
        <p:nvSpPr>
          <p:cNvPr id="594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5" name="Прямоугольник 3"/>
          <p:cNvSpPr/>
          <p:nvPr/>
        </p:nvSpPr>
        <p:spPr>
          <a:xfrm>
            <a:off x="1071720" y="1857240"/>
            <a:ext cx="75722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i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На смену лошадям пришли мощные машины, а труба явилась родоначальницей сирен, которые устанавливаются на современных пожарных автомобилях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">
    <p:checker dir="vert"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f5d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Verdana"/>
            </a:endParaRPr>
          </a:p>
        </p:txBody>
      </p:sp>
      <p:pic>
        <p:nvPicPr>
          <p:cNvPr id="597" name="Содержимое 3" descr="http://www.autoreview.ru/new_site/year2001/n18/fire/800/newschool_0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1f5d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/>
          </p:nvPr>
        </p:nvSpPr>
        <p:spPr>
          <a:xfrm>
            <a:off x="714240" y="1356840"/>
            <a:ext cx="5718240" cy="978120"/>
          </a:xfrm>
          <a:prstGeom prst="rect">
            <a:avLst/>
          </a:prstGeom>
          <a:noFill/>
          <a:ln w="0">
            <a:noFill/>
          </a:ln>
        </p:spPr>
        <p:txBody>
          <a:bodyPr lIns="82440" bIns="0" anchor="t">
            <a:normAutofit fontScale="42000"/>
          </a:bodyPr>
          <a:p>
            <a:pPr marL="226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0" spc="-1" strike="noStrike">
                <a:solidFill>
                  <a:srgbClr val="ff0000"/>
                </a:solidFill>
                <a:latin typeface="Verdana"/>
              </a:rPr>
              <a:t>ПОЖАР</a:t>
            </a:r>
            <a:r>
              <a:rPr b="0" i="1" lang="en-US" sz="6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i="1" lang="en-US" sz="5400" spc="-1" strike="noStrike">
                <a:solidFill>
                  <a:srgbClr val="0070c0"/>
                </a:solidFill>
                <a:latin typeface="Verdana"/>
              </a:rPr>
              <a:t>– 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  <a:p>
            <a:pPr marL="226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ffff00"/>
                </a:solidFill>
                <a:latin typeface="Verdana"/>
              </a:rPr>
              <a:t>чрезвычайная               ситуация </a:t>
            </a:r>
            <a:r>
              <a:rPr b="0" i="1" lang="en-US" sz="5400" spc="-1" strike="noStrike">
                <a:solidFill>
                  <a:srgbClr val="ff0000"/>
                </a:solidFill>
                <a:latin typeface="Verdana"/>
              </a:rPr>
              <a:t>(ЧС)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 type="title"/>
          </p:nvPr>
        </p:nvSpPr>
        <p:spPr>
          <a:xfrm>
            <a:off x="705960" y="512280"/>
            <a:ext cx="8156520" cy="7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4f1da"/>
              </a:solidFill>
              <a:latin typeface="Verdana"/>
            </a:endParaRPr>
          </a:p>
        </p:txBody>
      </p:sp>
    </p:spTree>
  </p:cSld>
  <p:transition spd="slow">
    <p:fade thruBlk="true"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3000"/>
                            </p:stCondLst>
                            <p:childTnLst>
                              <p:par>
                                <p:cTn id="15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5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5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5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f5d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Verdana"/>
            </a:endParaRPr>
          </a:p>
        </p:txBody>
      </p:sp>
      <p:sp>
        <p:nvSpPr>
          <p:cNvPr id="601" name=""/>
          <p:cNvSpPr txBox="1"/>
          <p:nvPr/>
        </p:nvSpPr>
        <p:spPr>
          <a:xfrm>
            <a:off x="928800" y="17146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01 </a:t>
            </a:r>
            <a:r>
              <a:rPr b="1" i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  простой  номер  его  всякий  запомнит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01</a:t>
            </a:r>
            <a:r>
              <a:rPr b="1" i="1" lang="en-US" sz="32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 </a:t>
            </a:r>
            <a:r>
              <a:rPr b="1" i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– короткий  номер , при  пожаре  дорога  каждая  минут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01 </a:t>
            </a:r>
            <a:r>
              <a:rPr b="1" i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  удобный  номер , его  легко  набрать  даже  в  темноте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fade thruBlk="true"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6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6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6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6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6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6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f5d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00"/>
                </a:solidFill>
                <a:latin typeface="Verdana"/>
              </a:rPr>
              <a:t>Пусть знает каждый гражданин –</a:t>
            </a:r>
            <a:br>
              <a:rPr sz="4000"/>
            </a:br>
            <a:r>
              <a:rPr b="0" i="1" lang="en-US" sz="4000" spc="-1" strike="noStrike">
                <a:solidFill>
                  <a:srgbClr val="ffff00"/>
                </a:solidFill>
                <a:latin typeface="Verdana"/>
              </a:rPr>
              <a:t>Пожарный номер -</a:t>
            </a:r>
            <a:endParaRPr b="0" lang="en-US" sz="4000" spc="-1" strike="noStrike">
              <a:solidFill>
                <a:srgbClr val="f4f1da"/>
              </a:solidFill>
              <a:latin typeface="Verdana"/>
            </a:endParaRPr>
          </a:p>
        </p:txBody>
      </p:sp>
      <p:sp>
        <p:nvSpPr>
          <p:cNvPr id="603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200" spc="-1" strike="noStrike">
                <a:solidFill>
                  <a:srgbClr val="ff0000"/>
                </a:solidFill>
                <a:latin typeface="Verdana"/>
              </a:rPr>
              <a:t>01</a:t>
            </a:r>
            <a:endParaRPr b="0" lang="en-US" sz="2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fade thruBlk="true"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f5d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ОРИТ</a:t>
            </a:r>
            <a:r>
              <a:rPr b="0" i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ЕЛЕВИЗОР</a:t>
            </a:r>
            <a:endParaRPr b="0" lang="en-US" sz="4000" spc="-1" strike="noStrike">
              <a:solidFill>
                <a:srgbClr val="f4f1da"/>
              </a:solidFill>
              <a:latin typeface="Verdana"/>
            </a:endParaRPr>
          </a:p>
        </p:txBody>
      </p:sp>
      <p:sp>
        <p:nvSpPr>
          <p:cNvPr id="605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 обесточить;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 накрыть влажной тканью;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 при необходимости позвонить «01» и вызвать пожарный наряд.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 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fade thruBlk="true"/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20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6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6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6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6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6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6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6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6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6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f5d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928800" y="5000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0000"/>
                </a:solidFill>
                <a:latin typeface="Arial"/>
                <a:ea typeface="Arial"/>
              </a:rPr>
              <a:t>Цели</a:t>
            </a:r>
            <a:r>
              <a:rPr b="1" i="1" lang="en-US" sz="4800" spc="-1" strike="noStrike">
                <a:solidFill>
                  <a:srgbClr val="ff0000"/>
                </a:solidFill>
                <a:latin typeface="Verdana"/>
              </a:rPr>
              <a:t>:</a:t>
            </a:r>
            <a:endParaRPr b="0" lang="en-US" sz="4800" spc="-1" strike="noStrike">
              <a:solidFill>
                <a:srgbClr val="f4f1da"/>
              </a:solidFill>
              <a:latin typeface="Verdana"/>
            </a:endParaRPr>
          </a:p>
        </p:txBody>
      </p:sp>
      <p:sp>
        <p:nvSpPr>
          <p:cNvPr id="566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 algn="just">
              <a:lnSpc>
                <a:spcPct val="100000"/>
              </a:lnSpc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вспомнить роль огня в жизни человека: как положительную, так и отрицательную;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11120" indent="-342720" algn="just">
              <a:lnSpc>
                <a:spcPct val="100000"/>
              </a:lnSpc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закрепить правила правильного поведения при пожаре;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11120" indent="-342720" algn="just">
              <a:lnSpc>
                <a:spcPct val="100000"/>
              </a:lnSpc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составить памятку «Как вести себя при пожаре.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fade thruBlk="true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5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5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5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5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5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5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f5d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 ТЕБЕ ГОРИТ ОДЕЖДА</a:t>
            </a:r>
            <a:endParaRPr b="0" lang="en-US" sz="4000" spc="-1" strike="noStrike">
              <a:solidFill>
                <a:srgbClr val="f4f1da"/>
              </a:solidFill>
              <a:latin typeface="Verdana"/>
            </a:endParaRPr>
          </a:p>
        </p:txBody>
      </p:sp>
      <p:sp>
        <p:nvSpPr>
          <p:cNvPr id="607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- </a:t>
            </a:r>
            <a:r>
              <a:rPr b="0" i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надо упасть на пол;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 накрыться влажной тканью;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 бежать нельзя.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b0f0"/>
                </a:solidFill>
                <a:latin typeface="Verdana"/>
              </a:rPr>
              <a:t> 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fade thruBlk="true"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20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2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2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5200"/>
                            </p:stCondLst>
                            <p:childTnLst>
                              <p:par>
                                <p:cTn id="24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6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6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6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6200"/>
                            </p:stCondLst>
                            <p:childTnLst>
                              <p:par>
                                <p:cTn id="25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6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6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6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200"/>
                            </p:stCondLst>
                            <p:childTnLst>
                              <p:par>
                                <p:cTn id="26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6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6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6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8200"/>
                            </p:stCondLst>
                            <p:childTnLst>
                              <p:par>
                                <p:cTn id="26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6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6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6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f5d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ОРИТ  ЧЕЛОВЕК</a:t>
            </a:r>
            <a:endParaRPr b="0" lang="en-US" sz="4000" spc="-1" strike="noStrike">
              <a:solidFill>
                <a:srgbClr val="f4f1da"/>
              </a:solidFill>
              <a:latin typeface="Verdana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00"/>
                </a:solidFill>
                <a:latin typeface="Verdana"/>
              </a:rPr>
              <a:t>- </a:t>
            </a:r>
            <a:r>
              <a:rPr b="0" i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огнать, накрыть тканью;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 уронить на пол;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 тушить огнетушителем нельзя.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fade thruBlk="true"/>
  </p:transition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0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20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2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2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6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6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6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6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6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6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f5d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АК НАДО ПРЕОДОЛЕВАТЬ ЗАДЫМЛЁННОЕ ПОМЕЩЕНИЕ</a:t>
            </a:r>
            <a:br>
              <a:rPr sz="4400"/>
            </a:br>
            <a:br>
              <a:rPr sz="4400"/>
            </a:br>
            <a:br>
              <a:rPr sz="4400"/>
            </a:br>
            <a:endParaRPr b="0" lang="en-US" sz="4000" spc="-1" strike="noStrike">
              <a:solidFill>
                <a:srgbClr val="f4f1da"/>
              </a:solidFill>
              <a:latin typeface="Verdana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755640" y="2781360"/>
            <a:ext cx="7772400" cy="27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 пригнувшись;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 задержать дыхание;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 использовать мокрое полотенце.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fade thruBlk="true"/>
  </p:transition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0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20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20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20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1000"/>
                                        <p:tgtEl>
                                          <p:spTgt spid="6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6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6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6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6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6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f5d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Verdana"/>
              </a:rPr>
              <a:t>ПАМЯТКА</a:t>
            </a:r>
            <a:endParaRPr b="0" lang="en-US" sz="4000" spc="-1" strike="noStrike">
              <a:solidFill>
                <a:srgbClr val="f4f1da"/>
              </a:solidFill>
              <a:latin typeface="Verdana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857160" y="142884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lvl="1" marL="910080" indent="-483480" algn="just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9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гонь нельзя оставлять без присмотра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910080" indent="-483480" algn="just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9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Если увидишь пламя–зови на помощь взрослых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910080" indent="-483480" algn="just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9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ызывай пожарных по телефону 01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910080" indent="-483480" algn="just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9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т огня нельзя прятаться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910080" indent="-483480" algn="just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9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з горящего помещения  надо быстро уйти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910080" indent="-483480" algn="just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9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пасней всего при пожаре дым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910080" indent="-483480" algn="just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90000"/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fade thruBlk="true"/>
  </p:transition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0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30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9" dur="30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30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1000"/>
                                        <p:tgtEl>
                                          <p:spTgt spid="6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6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6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1000"/>
                                        <p:tgtEl>
                                          <p:spTgt spid="6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6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6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1000"/>
                                        <p:tgtEl>
                                          <p:spTgt spid="6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6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6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1000"/>
                                        <p:tgtEl>
                                          <p:spTgt spid="6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6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6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1000"/>
                                        <p:tgtEl>
                                          <p:spTgt spid="6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6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6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f5d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Verdana"/>
            </a:endParaRPr>
          </a:p>
        </p:txBody>
      </p:sp>
      <p:pic>
        <p:nvPicPr>
          <p:cNvPr id="615" name="Содержимое 3" descr="http://umm4.com/wp-content/uploads/2011/06/stixi-dlya-detej-pravila-pozharnoj-bezopasnosti-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fade thruBlk="true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f5d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Verdana"/>
            </a:endParaRPr>
          </a:p>
        </p:txBody>
      </p:sp>
      <p:pic>
        <p:nvPicPr>
          <p:cNvPr id="617" name="Содержимое 3" descr="http://ogneborec.com/wp-content/uploads/2012/10/330026694634_667165_detsky-1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fade thruBlk="true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f5d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Verdana"/>
            </a:endParaRPr>
          </a:p>
        </p:txBody>
      </p:sp>
      <p:pic>
        <p:nvPicPr>
          <p:cNvPr id="619" name="il_fi" descr="http://1.bp.blogspot.com/-yDR9s1D_l5I/TclDeGgMhDI/AAAAAAAAAa8/hYYOl2bRNac/s1600/Kids_PPB_13.jpg"/>
          <p:cNvPicPr/>
          <p:nvPr/>
        </p:nvPicPr>
        <p:blipFill>
          <a:blip r:embed="rId1"/>
          <a:srcRect l="-2579" t="18182" r="0" b="29202"/>
          <a:stretch/>
        </p:blipFill>
        <p:spPr>
          <a:xfrm>
            <a:off x="-357120" y="0"/>
            <a:ext cx="950112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fade thruBlk="true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f5d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Verdana"/>
            </a:endParaRPr>
          </a:p>
        </p:txBody>
      </p:sp>
      <p:pic>
        <p:nvPicPr>
          <p:cNvPr id="621" name="il_fi" descr="http://2.bp.blogspot.com/-bk1Q4s0vqXo/TclDjQe9tLI/AAAAAAAAAbA/2ibA1ZacxD4/s1600/Kids_PPB_1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fade thruBlk="true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f5d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Verdana"/>
            </a:endParaRPr>
          </a:p>
        </p:txBody>
      </p:sp>
      <p:pic>
        <p:nvPicPr>
          <p:cNvPr id="623" name="Содержимое 3" descr="http://ogneborec.com/wp-content/uploads/2012/10/330026694634_666943_detsky-15.jpg"/>
          <p:cNvPicPr/>
          <p:nvPr/>
        </p:nvPicPr>
        <p:blipFill>
          <a:blip r:embed="rId1"/>
          <a:srcRect l="-1048" t="13212" r="0" b="22540"/>
          <a:stretch/>
        </p:blipFill>
        <p:spPr>
          <a:xfrm>
            <a:off x="-285840" y="0"/>
            <a:ext cx="942984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fade thruBlk="true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1f5d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/>
          </p:nvPr>
        </p:nvSpPr>
        <p:spPr>
          <a:xfrm>
            <a:off x="706320" y="1350720"/>
            <a:ext cx="8437680" cy="5221080"/>
          </a:xfrm>
          <a:prstGeom prst="rect">
            <a:avLst/>
          </a:prstGeom>
          <a:noFill/>
          <a:ln w="0">
            <a:noFill/>
          </a:ln>
        </p:spPr>
        <p:txBody>
          <a:bodyPr lIns="82440" bIns="0" anchor="t">
            <a:normAutofit/>
          </a:bodyPr>
          <a:p>
            <a:pPr marL="54000">
              <a:lnSpc>
                <a:spcPct val="100000"/>
              </a:lnSpc>
              <a:spcBef>
                <a:spcPts val="700"/>
              </a:spcBef>
              <a:buClr>
                <a:srgbClr val="eeece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"/>
              </a:rPr>
              <a:t>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2"/>
              </a:rPr>
              <a:t>http://ulenspiegel.od.ua/rozhdenie-prometej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4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 Стихи о пожарных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4000">
              <a:lnSpc>
                <a:spcPct val="100000"/>
              </a:lnSpc>
              <a:spcBef>
                <a:spcPts val="700"/>
              </a:spcBef>
              <a:buClr>
                <a:srgbClr val="eeece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3"/>
              </a:rPr>
              <a:t>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4"/>
              </a:rPr>
              <a:t>http://spirovopch52.ucoz.ru/publ/stikhi_o_pozharnykh/3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4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 С.Маршак «Пожар»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4000">
              <a:lnSpc>
                <a:spcPct val="100000"/>
              </a:lnSpc>
              <a:spcBef>
                <a:spcPts val="700"/>
              </a:spcBef>
              <a:buClr>
                <a:srgbClr val="eeece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5"/>
              </a:rPr>
              <a:t>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6"/>
              </a:rPr>
              <a:t>http://lukoshko.net/marshak/marsh6.shtm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4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 Школа пожарной безопасности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4000">
              <a:lnSpc>
                <a:spcPct val="100000"/>
              </a:lnSpc>
              <a:spcBef>
                <a:spcPts val="700"/>
              </a:spcBef>
              <a:buClr>
                <a:srgbClr val="eeece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7"/>
              </a:rPr>
              <a:t>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8"/>
              </a:rPr>
              <a:t>http://www.zanimatika.narod.ru/OBJ3.htm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4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 type="title"/>
          </p:nvPr>
        </p:nvSpPr>
        <p:spPr>
          <a:xfrm>
            <a:off x="705960" y="512280"/>
            <a:ext cx="8156520" cy="7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408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ктивные ссылки на страницы материалов в Интернете.</a:t>
            </a: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  Золотой век. Рождение Прометея.:</a:t>
            </a:r>
            <a:endParaRPr b="0" lang="en-US" sz="2400" spc="-1" strike="noStrike">
              <a:solidFill>
                <a:srgbClr val="f4f1da"/>
              </a:solidFill>
              <a:latin typeface="Verdana"/>
            </a:endParaRPr>
          </a:p>
        </p:txBody>
      </p:sp>
    </p:spTree>
  </p:cSld>
  <p:transition spd="slow" advTm="2000">
    <p:checke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f5d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857160" y="5000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озникновение огня</a:t>
            </a:r>
            <a:endParaRPr b="0" lang="en-US" sz="4000" spc="-1" strike="noStrike">
              <a:solidFill>
                <a:srgbClr val="f4f1da"/>
              </a:solidFill>
              <a:latin typeface="Verdana"/>
            </a:endParaRPr>
          </a:p>
        </p:txBody>
      </p:sp>
      <p:sp>
        <p:nvSpPr>
          <p:cNvPr id="568" name=""/>
          <p:cNvSpPr txBox="1"/>
          <p:nvPr/>
        </p:nvSpPr>
        <p:spPr>
          <a:xfrm>
            <a:off x="785520" y="1143000"/>
            <a:ext cx="7900920" cy="521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Verdana"/>
              </a:rPr>
              <a:t>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давние времена, когда всем миром правил Зевс, люди, только-только расселившиеся на земле, были слабыми, бессильными, пугливыми. Они не умели ни думать, ни понимать того, что видели вокруг. С ужасом смотрели они на грозовые тучи, палящее солнце, бескрайнее море и высокие горы. От всего, что их пугало, люди прятались в пещеры. Не было у них тогда ни жилья, ни семейного очага: люди не варили пищу, не грелись около огня. И была такая жизнь жалким существованием. Пожалел людей своим большим сердцем титан Прометей, и смело нарушил запрет Зевса: не давать людям огня. Пробравшись во дворец, титан взял небольшую искру огня и, спрятав её в пустом стебле тростника, принёс людям на землю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11120" indent="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fade thruBlk="true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000"/>
                            </p:stCondLst>
                            <p:childTnLst>
                              <p:par>
                                <p:cTn id="7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f5d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/>
          </p:nvPr>
        </p:nvSpPr>
        <p:spPr>
          <a:xfrm>
            <a:off x="0" y="356760"/>
            <a:ext cx="9144000" cy="12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22000"/>
          </a:bodyPr>
          <a:p>
            <a:pPr marL="90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90360" indent="-75240">
              <a:lnSpc>
                <a:spcPct val="100000"/>
              </a:lnSpc>
              <a:spcBef>
                <a:spcPts val="700"/>
              </a:spcBef>
              <a:buClr>
                <a:srgbClr val="eeece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"/>
              </a:rPr>
              <a:t>http://www.1408.ru/Image/image013(1).jpg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90360" indent="-75240">
              <a:lnSpc>
                <a:spcPct val="100000"/>
              </a:lnSpc>
              <a:spcBef>
                <a:spcPts val="700"/>
              </a:spcBef>
              <a:buClr>
                <a:srgbClr val="eeece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2"/>
              </a:rPr>
              <a:t>http://umm4.com/wp-content/uploads/2011/06/stixi-dlya-detejpravila-pozharnoj-bezopasnosti-3.jpg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90360" indent="-75240">
              <a:lnSpc>
                <a:spcPct val="100000"/>
              </a:lnSpc>
              <a:spcBef>
                <a:spcPts val="700"/>
              </a:spcBef>
              <a:buClr>
                <a:srgbClr val="eeece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3"/>
              </a:rPr>
              <a:t>http://ogneborec.com/wpcontent/uploads/2012/10/330026694634_667165_detsky-10.jpg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90360" indent="-75240">
              <a:lnSpc>
                <a:spcPct val="100000"/>
              </a:lnSpc>
              <a:spcBef>
                <a:spcPts val="700"/>
              </a:spcBef>
              <a:buClr>
                <a:srgbClr val="eeece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4"/>
              </a:rPr>
              <a:t>http://ogneborec.com/wpcontent/uploads/2012/10/330026694634_666943_detsky-15.jpg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90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метей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90360" indent="-75240">
              <a:lnSpc>
                <a:spcPct val="100000"/>
              </a:lnSpc>
              <a:spcBef>
                <a:spcPts val="700"/>
              </a:spcBef>
              <a:buClr>
                <a:srgbClr val="eeece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5"/>
              </a:rPr>
              <a:t>http://upload.wikimedia.org/wikipedia/commons/thumb/5/5b/Heinrich_fueger_1817_prometheus_brings_fire_to_mankind.jpg/300px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6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einrich_fueger_1817_prometheus_brings_fire_to_mankind.jpg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90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жарная машина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90360" indent="-75240">
              <a:lnSpc>
                <a:spcPct val="100000"/>
              </a:lnSpc>
              <a:spcBef>
                <a:spcPts val="700"/>
              </a:spcBef>
              <a:buClr>
                <a:srgbClr val="eeece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www.autoreview.ru/new_site/year2001/n18/fire/800/newschool_03.jpg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90360" indent="-75240">
              <a:lnSpc>
                <a:spcPct val="100000"/>
              </a:lnSpc>
              <a:spcBef>
                <a:spcPts val="700"/>
              </a:spcBef>
              <a:buClr>
                <a:srgbClr val="eeece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old.morfish.ru/student/articles/2005pal_USA/popov/pic/46.jpg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90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отографии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90360" indent="-75240">
              <a:lnSpc>
                <a:spcPct val="100000"/>
              </a:lnSpc>
              <a:spcBef>
                <a:spcPts val="700"/>
              </a:spcBef>
              <a:buClr>
                <a:srgbClr val="eeece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ttp://world.fedpress.ru/sites/fedpress/files/didenko/news/afiny_0.jpg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90360" indent="-75240">
              <a:lnSpc>
                <a:spcPct val="100000"/>
              </a:lnSpc>
              <a:spcBef>
                <a:spcPts val="700"/>
              </a:spcBef>
              <a:buClr>
                <a:srgbClr val="eeece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ttp://upload.wikimedia.org/wikipedia/commons/thumb/9/95/FirePhotography.jpg/250px-FirePhotography.jpg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90360" indent="-75240">
              <a:lnSpc>
                <a:spcPct val="100000"/>
              </a:lnSpc>
              <a:spcBef>
                <a:spcPts val="700"/>
              </a:spcBef>
              <a:buClr>
                <a:srgbClr val="eeece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ttp://www.mk.ru/upload/iblock_mk/photoreport/new/c2/ae/e8/495_12171.jpg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90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90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90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90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                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писок использованных источников:</a:t>
            </a:r>
            <a:r>
              <a:rPr b="0" lang="en-US" sz="2400" spc="-1" strike="noStrike">
                <a:solidFill>
                  <a:srgbClr val="f4f1da"/>
                </a:solidFill>
                <a:latin typeface="Times New Roman"/>
                <a:ea typeface="Times New Roman"/>
              </a:rPr>
              <a:t> </a:t>
            </a:r>
            <a:br>
              <a:rPr sz="2400"/>
            </a:br>
            <a:r>
              <a:rPr b="0" lang="en-US" sz="1800" spc="-1" strike="noStrike">
                <a:solidFill>
                  <a:srgbClr val="f4f1da"/>
                </a:solidFill>
                <a:latin typeface="Times New Roman"/>
                <a:ea typeface="Times New Roman"/>
              </a:rPr>
              <a:t>Иллюстрации:</a:t>
            </a:r>
            <a:br>
              <a:rPr sz="1800"/>
            </a:br>
            <a:endParaRPr b="0" lang="en-US" sz="1800" spc="-1" strike="noStrike">
              <a:solidFill>
                <a:srgbClr val="f4f1da"/>
              </a:solidFill>
              <a:latin typeface="Verdana"/>
            </a:endParaRPr>
          </a:p>
        </p:txBody>
      </p:sp>
    </p:spTree>
  </p:cSld>
  <p:transition spd="slow" advTm="200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f5d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Verdana"/>
            </a:endParaRPr>
          </a:p>
        </p:txBody>
      </p:sp>
      <p:pic>
        <p:nvPicPr>
          <p:cNvPr id="570" name="" descr=""/>
          <p:cNvPicPr/>
          <p:nvPr/>
        </p:nvPicPr>
        <p:blipFill>
          <a:blip r:embed="rId1"/>
          <a:stretch/>
        </p:blipFill>
        <p:spPr>
          <a:xfrm>
            <a:off x="914400" y="1784520"/>
            <a:ext cx="7772400" cy="4572000"/>
          </a:xfrm>
          <a:prstGeom prst="rect">
            <a:avLst/>
          </a:prstGeom>
          <a:ln w="0">
            <a:noFill/>
          </a:ln>
        </p:spPr>
      </p:pic>
      <p:pic>
        <p:nvPicPr>
          <p:cNvPr id="571" name="Содержимое 3" descr="001.jpg"/>
          <p:cNvPicPr/>
          <p:nvPr/>
        </p:nvPicPr>
        <p:blipFill>
          <a:blip r:embed="rId2"/>
          <a:stretch/>
        </p:blipFill>
        <p:spPr>
          <a:xfrm>
            <a:off x="2571840" y="0"/>
            <a:ext cx="4803840" cy="68580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p:transition spd="slow" advTm="2000">
    <p:checker dir="vert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f5d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Verdana"/>
            </a:endParaRPr>
          </a:p>
        </p:txBody>
      </p:sp>
      <p:sp>
        <p:nvSpPr>
          <p:cNvPr id="573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 тех пор засияли яркие огоньки костров на земле. Около них собирались люди целыми семьями, жарили мясо, грелись, танцевали. Теперь люди зажили веселее и дружнее, и титан Прометей искренне этому радовался. Он научил людей укрощать огонь, плавить медь, ковать оружие. Благодаря Прометею люди научились думать и, наверное, впервые почувствовать себя людьми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 advTm="2000">
    <p:fade thruBlk="true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1f5d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4" name="Picture 4" descr="1)пожар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5" name="PlaceHolder 1"/>
          <p:cNvSpPr>
            <a:spLocks noGrp="1"/>
          </p:cNvSpPr>
          <p:nvPr>
            <p:ph/>
          </p:nvPr>
        </p:nvSpPr>
        <p:spPr>
          <a:xfrm>
            <a:off x="706320" y="1351080"/>
            <a:ext cx="5718240" cy="977760"/>
          </a:xfrm>
          <a:prstGeom prst="rect">
            <a:avLst/>
          </a:prstGeom>
          <a:noFill/>
          <a:ln w="0">
            <a:noFill/>
          </a:ln>
        </p:spPr>
        <p:txBody>
          <a:bodyPr lIns="82440" bIns="0" anchor="t">
            <a:normAutofit fontScale="19000"/>
          </a:bodyPr>
          <a:p>
            <a:pPr marL="10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10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Говорим – огонь нам друг!         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10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о врагом он станет вдруг,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10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сли мы о нём забудем,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10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томстит он сразу людям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10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10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жалеете о том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10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ы в сражении с огнём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10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ут он страшен и суров –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10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 от дома куча дров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10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10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title"/>
          </p:nvPr>
        </p:nvSpPr>
        <p:spPr>
          <a:xfrm>
            <a:off x="705960" y="512280"/>
            <a:ext cx="8156520" cy="7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4f1da"/>
              </a:solidFill>
              <a:latin typeface="Verdana"/>
            </a:endParaRPr>
          </a:p>
        </p:txBody>
      </p:sp>
    </p:spTree>
  </p:cSld>
  <p:transition spd="slow" advTm="2000">
    <p:fade thruBlk="true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f5d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Verdana"/>
            </a:endParaRPr>
          </a:p>
        </p:txBody>
      </p:sp>
      <p:pic>
        <p:nvPicPr>
          <p:cNvPr id="578" name="Picture 5" descr="http://www.webpark.ru/uploads54/100809/California_16.jpg"/>
          <p:cNvPicPr/>
          <p:nvPr/>
        </p:nvPicPr>
        <p:blipFill>
          <a:blip r:embed="rId1"/>
          <a:stretch/>
        </p:blipFill>
        <p:spPr>
          <a:xfrm>
            <a:off x="-158760" y="0"/>
            <a:ext cx="951084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f5d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Verdana"/>
            </a:endParaRPr>
          </a:p>
        </p:txBody>
      </p:sp>
      <p:pic>
        <p:nvPicPr>
          <p:cNvPr id="580" name="Picture 4" descr="6)Пожар в квартире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f5d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Verdana"/>
            </a:endParaRPr>
          </a:p>
        </p:txBody>
      </p:sp>
      <p:sp>
        <p:nvSpPr>
          <p:cNvPr id="582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83" name="Picture 6" descr="http://www.mk.ru/upload/iblock_mk/photoreport/new/c2/ae/e8/495_1217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0T17:20:08Z</dcterms:created>
  <dc:creator>Пользователь Windows</dc:creator>
  <dc:description/>
  <dc:language>en-US</dc:language>
  <cp:lastModifiedBy>Мама</cp:lastModifiedBy>
  <dcterms:modified xsi:type="dcterms:W3CDTF">2013-03-02T13:28:02Z</dcterms:modified>
  <cp:revision>370</cp:revision>
  <dc:subject/>
  <dc:title>Твои действия при пожаре</dc:title>
</cp:coreProperties>
</file>