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4FD-D5A2-471F-9074-06F11D97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38C-EA33-465A-961C-B52D4941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F1F-00BE-4ED4-BA71-E62AA71E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36E-A135-41FD-9A13-1ED4F0B1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49F-0FF3-4FE1-BBDE-CB5A45D2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AD8-EDC7-41D7-B9F5-AECF98E2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34E-8724-46A5-9A94-71815D8D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DDB-B4E1-4472-B97C-9AA716F5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40E-0258-4901-997C-14CFA3E5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909-4C53-4C56-9EA0-7945179D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4EA-8421-429F-942E-73A6BD06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A37-2465-4754-B159-25B8B6F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7D6D-7B04-4D95-AA5A-D5B312C73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90520" y="1413000"/>
            <a:ext cx="67629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овторяем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аблицу умнож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47640" y="2852640"/>
            <a:ext cx="59040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Устный сч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836640"/>
            <a:ext cx="7323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коробке 5 карандашей. Сколько карандашей в 5 таких короб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ти посадили 8 рядов яблонь по 9 яблонь в каждом ря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колько всего яблонь посадили д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 чаю подали 5 тарелок с пирожками по 7 на каж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колько всего пирожков подали7 к чаю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02160" y="1889280"/>
            <a:ext cx="533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чи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1 : 3 х 6 – (18+14) : 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63 : (3 х 3) + (8х7-2): 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206064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еш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Х х 20=160                Х : 7=42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40 :  Х=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7280" y="476280"/>
            <a:ext cx="61059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еши  пример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8 : 8+7 х ( 72 : 8) – 6 х 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 х 7 + (2 х 9) : 3 – 81 : (16 -7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9 х 4 ) : 6 – 27  : (12 -9) : 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35+7) : 6 х 8+49 : (16-9) х9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13-8) х 6 – 16 : (8 : 2 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20 : 4) х 5 + ( 3 х 9 + 6 х 3) : 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193680"/>
            <a:ext cx="73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иц турни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ниге 56 страниц. Коля читал каждый день по 8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сколько дней он прочитал книг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ервой книге 9 страниц. Это в 3 раза меньше, чем во втор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страниц во второй книг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дной книге 40 страниц, а в другой – в 5 раз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страниц в двух книг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ервой книге 30 страниц, а во второй – на 24 страницы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во второй книге меньше страниц чем в пер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549360"/>
            <a:ext cx="882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ядя Фёдор решил отправить папе и маме в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 кг яблок, 7 кг орехов и 4 кг сушеных грибов. В од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ылку можно положить только 5 кг. Сколько посы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уется отправить Дяде Фёдо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 Матроскин надоил за неделю от своей коровы 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ра молока. За один день вместе с дядей Фёд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Шариком они выпивают 5 л молока, а из ост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ка они делают творог, сметану и масло.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ров молока осталось у Матроскина за эту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мет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ворог и ма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40400" y="234792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машнее задание :  стр. 40 №6 (б,в) , №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06:56:06Z</dcterms:created>
  <dc:creator>User</dc:creator>
  <dc:description/>
  <dc:language>en-US</dc:language>
  <cp:lastModifiedBy>User</cp:lastModifiedBy>
  <dcterms:modified xsi:type="dcterms:W3CDTF">2013-10-01T07:06:13Z</dcterms:modified>
  <cp:revision>2</cp:revision>
  <dc:subject/>
  <dc:title>Слайд 1</dc:title>
</cp:coreProperties>
</file>