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3FB-43EE-40D5-BC48-0B5CE72B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CB1-6707-473D-98FA-29A242A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54E-7660-4DBD-B35E-C25B4AC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A14-E150-4EF2-A200-8CCEF638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B8C-2ABC-4EA1-8DCE-60E6972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262-A0CB-4A57-ABE5-33CA8CE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14D-DC6B-42BC-8754-09F13746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2C6-1DF0-4A09-96E1-1D3C9BF3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9B2-749B-452D-9950-96DDABA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D51-C70C-4B57-8EA7-BB5BB844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BF0-07F8-4736-B0BA-4AE79D6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1F3-26C6-4AC8-B923-3BB5861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6EB-CC0A-46BD-920E-71D4F1DF6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90520" y="1413000"/>
            <a:ext cx="67629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торяе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аблицу умнож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47640" y="2852640"/>
            <a:ext cx="5904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Устный сч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32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робке 5 карандашей. Сколько карандашей в 5 таких короб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ти посадили 8 рядов яблонь по 9 яблонь в каждом ря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лько всего яблонь посадили д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чаю подали 5 тарелок с пирожками по 7 на каж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лько всего пирожков подали7 к ча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02160" y="1889280"/>
            <a:ext cx="533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1 : 3 х 6 – (18+14) : 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3 : (3 х 3) + (8х7-2): 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206064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ш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 х 20=160                Х : 7=42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40 :  Х=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7280" y="476280"/>
            <a:ext cx="6105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еши  приме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8 : 8+7 х ( 72 : 8) – 6 х 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 х 7 + (2 х 9) : 3 – 81 : (16 -7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9 х 4 ) : 6 – 27  : (12 -9) : 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35+7) : 6 х 8+49 : (16-9) х9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13-8) х 6 – 16 : (8 : 2 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20 : 4) х 5 + ( 3 х 9 + 6 х 3) : 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93680"/>
            <a:ext cx="73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иц турни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ниге 56 страниц. Коля читал каждый день по 8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колько дней он прочитал книг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ой книге 9 страниц. Это в 3 раза меньше, чем во втор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траниц во второй кни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дной книге 40 страниц, а в другой – в 5 раз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траниц в двух книг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ой книге 30 страниц, а во второй – на 24 страницы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во второй книге меньше страниц чем в 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549360"/>
            <a:ext cx="882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ядя Фёдор решил отправить папе и маме в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 кг яблок, 7 кг орехов и 4 кг сушеных грибов. В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ылку можно положить только 5 кг. Сколько посы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уется отправить Дяде Фёдо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 Матроскин надоил за неделю от своей коровы 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ра молока. За один день вместе с дядей Фёд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Шариком они выпивают 5 л молока, а из ост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а они делают творог, сметану и масло.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ров молока осталось у Матроскина за эту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мет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ворог и ма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&amp;Fcy;&amp;ocy;&amp;ncy;&amp;ycy; &amp;dcy;&amp;lcy;&amp;yacy; &amp;pcy;&amp;rcy;&amp;iecy;&amp;zcy;&amp;iecy;&amp;ncy;&amp;tcy;&amp;acy;&amp;tscy;&amp;icy;&amp;jcy; &amp;Bcy;&amp;ucy;&amp;m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40400" y="23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машнее задание :  стр. 40 №6 (б,в) , №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6:56:06Z</dcterms:created>
  <dc:creator>User</dc:creator>
  <dc:description/>
  <dc:language>en-US</dc:language>
  <cp:lastModifiedBy>User</cp:lastModifiedBy>
  <dcterms:modified xsi:type="dcterms:W3CDTF">2013-10-01T07:06:13Z</dcterms:modified>
  <cp:revision>2</cp:revision>
  <dc:subject/>
  <dc:title>Слайд 1</dc:title>
</cp:coreProperties>
</file>