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F5A-8BD8-47BD-BF0C-0E952C59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677-243D-4D88-8090-729EEE7B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56B-0F7F-43C0-B3AD-2082F619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5B1-6301-41B9-9117-A2DD0660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A16-F9EF-4B41-B72E-E33FB058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230-67E5-463A-8966-68D0B847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C97-BB79-42DE-9AA7-B43D10D6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AA4-815F-4F92-8738-EB404657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8FBB-21C6-488F-97A6-52DCC0A7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5FD-FD33-4C54-BD7B-DD6A6A10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146-583C-4147-9BB0-64FE7A44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A2D-7545-4D33-A13E-A1EE1E0E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1B29-BB77-447D-B87D-982E47A8C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90520" y="1413000"/>
            <a:ext cx="67629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овторяем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аблицу умнож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547640" y="2852640"/>
            <a:ext cx="59040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Устный сч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836640"/>
            <a:ext cx="7323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коробке 5 карандашей. Сколько карандашей в 5 таких короб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ти посадили 8 рядов яблонь по 9 яблонь в каждом ря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колько всего яблонь посадили д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 чаю подали 5 тарелок с пирожками по 7 на каж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колько всего пирожков подали7 к чаю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02160" y="1889280"/>
            <a:ext cx="5336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чи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1 : 3 х 6 – (18+14) : 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63 : (3 х 3) + (8х7-2): 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206064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еш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Х х 20=160                Х : 7=42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40 :  Х=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7280" y="476280"/>
            <a:ext cx="61059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еши  пример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8 : 8+7 х ( 72 : 8) – 6 х 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 х 7 + (2 х 9) : 3 – 81 : (16 -7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9 х 4 ) : 6 – 27  : (12 -9) : 9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35+7) : 6 х 8+49 : (16-9) х9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13-8) х 6 – 16 : (8 : 2 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20 : 4) х 5 + ( 3 х 9 + 6 х 3) : 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193680"/>
            <a:ext cx="73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иц турни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ниге 56 страниц. Коля читал каждый день по 8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сколько дней он прочитал книг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ервой книге 9 страниц. Это в 3 раза меньше, чем во втор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страниц во второй книг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дной книге 40 страниц, а в другой – в 5 раз ме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страниц в двух книг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ервой книге 30 страниц, а во второй – на 24 страницы ме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во второй книге меньше страниц чем в пер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549360"/>
            <a:ext cx="882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ядя Фёдор решил отправить папе и маме в Мос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 кг яблок, 7 кг орехов и 4 кг сушеных грибов. В од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ылку можно положить только 5 кг. Сколько посы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уется отправить Дяде Фёдо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 Матроскин надоил за неделю от своей коровы 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ра молока. За один день вместе с дядей Фёд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Шариком они выпивают 5 л молока, а из ост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ка они делают творог, сметану и масло.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ров молока осталось у Матроскина за эту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мет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творог и ма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40400" y="234792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машнее задание :  стр. 40 №6 (б,в) , №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06:56:06Z</dcterms:created>
  <dc:creator>User</dc:creator>
  <dc:description/>
  <dc:language>en-US</dc:language>
  <cp:lastModifiedBy>User</cp:lastModifiedBy>
  <dcterms:modified xsi:type="dcterms:W3CDTF">2013-10-01T07:06:13Z</dcterms:modified>
  <cp:revision>2</cp:revision>
  <dc:subject/>
  <dc:title>Слайд 1</dc:title>
</cp:coreProperties>
</file>