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978-77B5-4114-8B9B-10A5BAD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AAD-20F3-41BB-BB7F-A45F74E3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3B4-5AFE-4E92-96A2-87DA7B1B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846-60C3-4DDB-BFB3-5D5F6F1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23A5-78CE-4E40-ADEF-FB3317D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C10D-D0D3-45CE-A60D-3B0BD645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5879-10C9-4678-9DD5-10E54F49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8900-0E23-4944-A8A1-3705413D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1BF9-70B7-48D4-8BA4-B793BA8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85F-A536-4C0B-8888-D2881F8F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F94-8C67-42DA-8C88-6E47C57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F78-8014-48D2-AEA2-8B7EB94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4490-8940-4BB7-9251-B14553B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7E9-5107-464D-B62A-5F15D7B4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C321-FF0B-4BEF-AA33-6CEBA771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6F81-B10B-43B1-A403-072DE1E9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4DC-C949-48A2-AEF5-4753E249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13F-A238-4908-B3C8-B9ACC21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A9D-6233-4943-B12D-1E96298F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B50-0B2E-4F26-8ED5-B50F45D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F9A-7384-407F-AB4C-EBA9BB4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FB0-5DC9-445E-A5A6-6576CF7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B5D-67B8-4B96-9F08-50DCAFA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E8-BAF1-45CD-9CE8-4EFEC579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FA33-2BB3-4281-8748-346F754B46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D08-3308-4F7C-A24F-0C701B22E7A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Построение правильного шестиугольн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9 класс, геомет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Урок изучения новой 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Формирование компетенции в построении правильных многоугольников на примере шестиугольника</a:t>
            </a:r>
            <a:r>
              <a:rPr b="0" i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наблюдательности, развитие умения анализировать, развитие умения свободно пользоваться инструментами (циркулем, линейко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самостоятельности учащихся при выполнении заданий исследовательского и практического плана</a:t>
            </a:r>
            <a:r>
              <a:rPr b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Georgia"/>
              </a:rPr>
              <a:t>Структура урок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Актуализация зна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Изуч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Закрепл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Подведение итогов уро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Средства и 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286080" cy="31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2286000"/>
            <a:ext cx="43434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Использование интерактивной модели «Построение правильного вписанного шестиуголь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позволит учащимся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  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выработать алгоритм по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выполнить 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построение на бума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Принцип использования интерактивной мод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уроке создается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проблем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итуация: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учащие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амостоятельно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 составляют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алгоритм постр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шестиугольника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осно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просмотра  действия мод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3680" y="140328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28600"/>
            <a:ext cx="750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Технологическая к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для составления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7160" y="208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81080"/>
          <a:ext cx="7696440" cy="4611960"/>
        </p:xfrm>
        <a:graphic>
          <a:graphicData uri="http://schemas.openxmlformats.org/drawingml/2006/table">
            <a:tbl>
              <a:tblPr/>
              <a:tblGrid>
                <a:gridCol w="2359080"/>
                <a:gridCol w="2136960"/>
                <a:gridCol w="3200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752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60680" y="1219320"/>
            <a:ext cx="36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Georgia"/>
              </a:rPr>
              <a:t>Задана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80880"/>
            <a:ext cx="827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Ответьте на вопросы по итогам работы технологической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834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1.Какие инструменты используются в ходе постро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2.Какие особенности вы заме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3.В каком порядке вы будете строить многоуго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467480" y="5410080"/>
            <a:ext cx="1295640" cy="106704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6226" h="21600">
                <a:moveTo>
                  <a:pt x="0" y="0"/>
                </a:moveTo>
                <a:lnTo>
                  <a:pt x="26226" y="0"/>
                </a:lnTo>
                <a:lnTo>
                  <a:pt x="26226" y="21600"/>
                </a:lnTo>
                <a:lnTo>
                  <a:pt x="0" y="21600"/>
                </a:lnTo>
                <a:close/>
              </a:path>
              <a:path fill="lightenLess" w="26226" h="21600">
                <a:moveTo>
                  <a:pt x="0" y="0"/>
                </a:moveTo>
                <a:lnTo>
                  <a:pt x="26226" y="0"/>
                </a:lnTo>
                <a:lnTo>
                  <a:pt x="24826" y="1400"/>
                </a:lnTo>
                <a:lnTo>
                  <a:pt x="1400" y="1400"/>
                </a:lnTo>
                <a:close/>
              </a:path>
              <a:path fill="darken" w="26226" h="21600">
                <a:moveTo>
                  <a:pt x="26226" y="0"/>
                </a:moveTo>
                <a:lnTo>
                  <a:pt x="26226" y="21600"/>
                </a:lnTo>
                <a:lnTo>
                  <a:pt x="24826" y="20200"/>
                </a:lnTo>
                <a:lnTo>
                  <a:pt x="24826" y="1400"/>
                </a:lnTo>
                <a:close/>
              </a:path>
              <a:path fill="darkenLess" w="26226" h="21600">
                <a:moveTo>
                  <a:pt x="26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6" y="20200"/>
                </a:lnTo>
                <a:close/>
              </a:path>
              <a:path fill="lighten" w="26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6" h="21600">
                <a:moveTo>
                  <a:pt x="13113" y="3837"/>
                </a:moveTo>
                <a:lnTo>
                  <a:pt x="15689" y="6448"/>
                </a:ln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lnTo>
                  <a:pt x="20076" y="10800"/>
                </a:lnTo>
                <a:lnTo>
                  <a:pt x="18422" y="10800"/>
                </a:lnTo>
                <a:lnTo>
                  <a:pt x="18422" y="17989"/>
                </a:lnTo>
                <a:lnTo>
                  <a:pt x="7804" y="17989"/>
                </a:lnTo>
                <a:lnTo>
                  <a:pt x="7804" y="10800"/>
                </a:lnTo>
                <a:lnTo>
                  <a:pt x="6150" y="10800"/>
                </a:lnTo>
                <a:close/>
              </a:path>
              <a:path fill="darkenLess" w="26226" h="21600">
                <a:moveTo>
                  <a:pt x="15689" y="6448"/>
                </a:move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close/>
              </a:path>
              <a:path fill="darkenLess" w="26226" h="21600">
                <a:moveTo>
                  <a:pt x="12190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2" y="17989"/>
                </a:lnTo>
                <a:lnTo>
                  <a:pt x="18422" y="10800"/>
                </a:lnTo>
                <a:lnTo>
                  <a:pt x="7804" y="10800"/>
                </a:lnTo>
                <a:lnTo>
                  <a:pt x="7804" y="17989"/>
                </a:lnTo>
                <a:lnTo>
                  <a:pt x="12190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3:39:29Z</dcterms:created>
  <dc:creator>user430</dc:creator>
  <dc:description/>
  <dc:language>en-US</dc:language>
  <cp:lastModifiedBy>Vladimir</cp:lastModifiedBy>
  <dcterms:modified xsi:type="dcterms:W3CDTF">2008-04-06T08:17:01Z</dcterms:modified>
  <cp:revision>4</cp:revision>
  <dc:subject/>
  <dc:title>Построение правильного шестиугольника</dc:title>
</cp:coreProperties>
</file>