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443-4579-43AB-9109-9EC2E2E5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02F-35D2-4D30-A3DC-AD1DE2F7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AEE-9D89-45CD-AFDB-B8E32866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FEC-E9F4-4DA8-A172-C2FD7FA7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20BF-2889-49C5-9D7D-B5FA61BF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B7F9-1C18-44A3-94F1-F8708020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1E85-C64E-47DC-99DB-B5AA791D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BA1A-303D-4ABB-84E4-7CC8823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A0CD-D03E-4041-8A9D-0E6807CD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6C4C-945E-4216-B87E-64EF8C7E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075A-E975-4077-A277-9CF9054D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531-1763-4944-B333-8E6C254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0F2A-7938-4246-974F-88114293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4A2-6C25-4986-94A1-B3B8C330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77F5-A666-4D32-98C6-91E4643E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BE03-D253-4B00-9E27-CD585163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BEFE-9C70-4B78-A726-236A64CA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DDE-3F49-4530-8B63-3F6AFE2F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563-77E4-4009-BB16-7E09984F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6DD-4CA6-48E5-8CBE-AF7F7AA1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818-28BF-4F05-9357-EE1DBA24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77A-55C2-4EE9-B83A-11A6C70B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F41-AE26-4856-AB95-033A833B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35B-38BD-49B2-843D-FE77E827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0B1B-5AE2-48F2-9E2C-C0128FADEF2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655C-211C-4847-BF1E-7AA87E44AF7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eorgia"/>
              </a:rPr>
              <a:t>Построение правильного шестиугольни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9 класс, геометр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Урок изучения новой 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96ff"/>
                </a:solidFill>
                <a:latin typeface="Georgia"/>
              </a:rPr>
              <a:t>Формирование компетенции в построении правильных многоугольников на примере шестиугольника</a:t>
            </a:r>
            <a:r>
              <a:rPr b="0" i="1" lang="en-US" sz="2400" spc="-1" strike="noStrike">
                <a:solidFill>
                  <a:srgbClr val="4f96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96ff"/>
                </a:solidFill>
                <a:latin typeface="Georgia"/>
              </a:rPr>
              <a:t>Развитие наблюдательности, развитие умения анализировать, развитие умения свободно пользоваться инструментами (циркулем, линейко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96ff"/>
                </a:solidFill>
                <a:latin typeface="Georgia"/>
              </a:rPr>
              <a:t>Развитие самостоятельности учащихся при выполнении заданий исследовательского и практического плана</a:t>
            </a:r>
            <a:r>
              <a:rPr b="1" lang="en-US" sz="2400" spc="-1" strike="noStrike">
                <a:solidFill>
                  <a:srgbClr val="4f96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Georgia"/>
              </a:rPr>
              <a:t>Структура урока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Актуализация знан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Изучение нового материа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Закрепление нового материа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Подведение итогов урок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Средства и актуаль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3286080" cy="3171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2286000"/>
            <a:ext cx="43434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Использование интерактивной модели «Построение правильного вписанного шестиуголь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позволит учащимся</a:t>
            </a:r>
            <a:r>
              <a:rPr b="1" i="1" lang="en-US" sz="2000" spc="-1" strike="noStrike" u="sng">
                <a:solidFill>
                  <a:srgbClr val="255fb5"/>
                </a:solidFill>
                <a:uFillTx/>
                <a:latin typeface="Georgia"/>
              </a:rPr>
              <a:t>  самостоятельно</a:t>
            </a: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 выработать алгоритм постр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выполнить </a:t>
            </a:r>
            <a:r>
              <a:rPr b="1" i="1" lang="en-US" sz="2000" spc="-1" strike="noStrike" u="sng">
                <a:solidFill>
                  <a:srgbClr val="255fb5"/>
                </a:solidFill>
                <a:uFillTx/>
                <a:latin typeface="Georgia"/>
              </a:rPr>
              <a:t>самостоятельно</a:t>
            </a: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 построение на бума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Принцип использования интерактивной моде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На уроке создается</a:t>
            </a: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 проблем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ситуация: 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учащие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самостоятельно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 составляют</a:t>
            </a: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алгоритм постро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шестиугольника 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на основ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просмотра  действия мод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03680" y="140328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28600"/>
            <a:ext cx="750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Технологическая кар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для составления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27160" y="208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981080"/>
          <a:ext cx="7696440" cy="4611960"/>
        </p:xfrm>
        <a:graphic>
          <a:graphicData uri="http://schemas.openxmlformats.org/drawingml/2006/table">
            <a:tbl>
              <a:tblPr/>
              <a:tblGrid>
                <a:gridCol w="2359080"/>
                <a:gridCol w="2136960"/>
                <a:gridCol w="32004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752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60680" y="1219320"/>
            <a:ext cx="36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Georgia"/>
              </a:rPr>
              <a:t>Задана окру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380880"/>
            <a:ext cx="827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Georgia"/>
              </a:rPr>
              <a:t>Ответьте на вопросы по итогам работы технологической к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09680"/>
            <a:ext cx="834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b210f"/>
                </a:solidFill>
                <a:latin typeface="Georgia"/>
              </a:rPr>
              <a:t>1.Какие инструменты используются в ходе постро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b210f"/>
                </a:solidFill>
                <a:latin typeface="Georgia"/>
              </a:rPr>
              <a:t>2.Какие особенности вы замет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b210f"/>
                </a:solidFill>
                <a:latin typeface="Georgia"/>
              </a:rPr>
              <a:t>3.В каком порядке вы будете строить многоуголь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467480" y="5410080"/>
            <a:ext cx="1295640" cy="106704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6226" h="21600">
                <a:moveTo>
                  <a:pt x="0" y="0"/>
                </a:moveTo>
                <a:lnTo>
                  <a:pt x="26226" y="0"/>
                </a:lnTo>
                <a:lnTo>
                  <a:pt x="26226" y="21600"/>
                </a:lnTo>
                <a:lnTo>
                  <a:pt x="0" y="21600"/>
                </a:lnTo>
                <a:close/>
              </a:path>
              <a:path fill="lightenLess" w="26226" h="21600">
                <a:moveTo>
                  <a:pt x="0" y="0"/>
                </a:moveTo>
                <a:lnTo>
                  <a:pt x="26226" y="0"/>
                </a:lnTo>
                <a:lnTo>
                  <a:pt x="24826" y="1400"/>
                </a:lnTo>
                <a:lnTo>
                  <a:pt x="1400" y="1400"/>
                </a:lnTo>
                <a:close/>
              </a:path>
              <a:path fill="darken" w="26226" h="21600">
                <a:moveTo>
                  <a:pt x="26226" y="0"/>
                </a:moveTo>
                <a:lnTo>
                  <a:pt x="26226" y="21600"/>
                </a:lnTo>
                <a:lnTo>
                  <a:pt x="24826" y="20200"/>
                </a:lnTo>
                <a:lnTo>
                  <a:pt x="24826" y="1400"/>
                </a:lnTo>
                <a:close/>
              </a:path>
              <a:path fill="darkenLess" w="26226" h="21600">
                <a:moveTo>
                  <a:pt x="26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6" y="20200"/>
                </a:lnTo>
                <a:close/>
              </a:path>
              <a:path fill="lighten" w="26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6" h="21600">
                <a:moveTo>
                  <a:pt x="13113" y="3837"/>
                </a:moveTo>
                <a:lnTo>
                  <a:pt x="15689" y="6448"/>
                </a:lnTo>
                <a:lnTo>
                  <a:pt x="15689" y="4707"/>
                </a:lnTo>
                <a:lnTo>
                  <a:pt x="17465" y="4707"/>
                </a:lnTo>
                <a:lnTo>
                  <a:pt x="17465" y="8224"/>
                </a:lnTo>
                <a:lnTo>
                  <a:pt x="20076" y="10800"/>
                </a:lnTo>
                <a:lnTo>
                  <a:pt x="18422" y="10800"/>
                </a:lnTo>
                <a:lnTo>
                  <a:pt x="18422" y="17989"/>
                </a:lnTo>
                <a:lnTo>
                  <a:pt x="7804" y="17989"/>
                </a:lnTo>
                <a:lnTo>
                  <a:pt x="7804" y="10800"/>
                </a:lnTo>
                <a:lnTo>
                  <a:pt x="6150" y="10800"/>
                </a:lnTo>
                <a:close/>
              </a:path>
              <a:path fill="darkenLess" w="26226" h="21600">
                <a:moveTo>
                  <a:pt x="15689" y="6448"/>
                </a:moveTo>
                <a:lnTo>
                  <a:pt x="15689" y="4707"/>
                </a:lnTo>
                <a:lnTo>
                  <a:pt x="17465" y="4707"/>
                </a:lnTo>
                <a:lnTo>
                  <a:pt x="17465" y="8224"/>
                </a:lnTo>
                <a:close/>
              </a:path>
              <a:path fill="darkenLess" w="26226" h="21600">
                <a:moveTo>
                  <a:pt x="12190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2" y="17989"/>
                </a:lnTo>
                <a:lnTo>
                  <a:pt x="18422" y="10800"/>
                </a:lnTo>
                <a:lnTo>
                  <a:pt x="7804" y="10800"/>
                </a:lnTo>
                <a:lnTo>
                  <a:pt x="7804" y="17989"/>
                </a:lnTo>
                <a:lnTo>
                  <a:pt x="12190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3:39:29Z</dcterms:created>
  <dc:creator>user430</dc:creator>
  <dc:description/>
  <dc:language>en-US</dc:language>
  <cp:lastModifiedBy>Vladimir</cp:lastModifiedBy>
  <dcterms:modified xsi:type="dcterms:W3CDTF">2008-04-06T08:17:01Z</dcterms:modified>
  <cp:revision>4</cp:revision>
  <dc:subject/>
  <dc:title>Построение правильного шестиугольника</dc:title>
</cp:coreProperties>
</file>