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AA1-81C5-4334-A567-BB8320FB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94B-6EFE-4B40-9CF3-58D13DCE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6E8-A319-419A-B868-2148C56E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9A0-1C6C-4420-B7AB-28DAA571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378E-8B19-4C55-9450-8241F0BB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D9EF-FD89-4876-A55F-DF70F97C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0D03-63C7-446E-8CFB-9E4D979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30D-6CC8-4D47-B819-33C867C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6F29-7EF9-498D-B765-DEE90D1C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C169-F6BB-4DF8-8F14-C0DF681F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B9D0-0102-41AA-8F75-A533804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6A4-AE9C-4EFA-B249-ABAD132A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23A5-7EB6-491C-BA2C-38CE4B5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3735-216E-4F5A-9856-1E66883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0EE5-3490-46C9-91CC-5C770D43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45C6-9BE0-4437-9F37-5395741C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74F8-4ACB-4AA0-A01B-EAB46690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6B0-8EBF-4AA3-B539-BA3AAA06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8B0-435A-4024-AEE8-474DCF0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161-B776-45C5-A1BF-117E22D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B54-CDDB-468D-998F-CFCF421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0E2-5749-43BE-A0E7-2ABD990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865-0131-4837-8F12-6FC8E86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77D-49A7-4EC8-ACF9-F7B41FE8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798-BC19-4CCB-9673-AC022C250AE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7FD-B100-4ACA-8179-969B434D911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eorgia"/>
              </a:rPr>
              <a:t>Построение правильного шестиугольн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9 класс, геомет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Урок изучения новой 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Формирование компетенции в построении правильных многоугольников на примере шестиугольника</a:t>
            </a:r>
            <a:r>
              <a:rPr b="0" i="1" lang="en-US" sz="2400" spc="-1" strike="noStrike">
                <a:solidFill>
                  <a:srgbClr val="4f96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Развитие наблюдательности, развитие умения анализировать, развитие умения свободно пользоваться инструментами (циркулем, линейко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96ff"/>
                </a:solidFill>
                <a:latin typeface="Georgia"/>
              </a:rPr>
              <a:t>Развитие самостоятельности учащихся при выполнении заданий исследовательского и практического плана</a:t>
            </a:r>
            <a:r>
              <a:rPr b="1" lang="en-US" sz="2400" spc="-1" strike="noStrike">
                <a:solidFill>
                  <a:srgbClr val="4f96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Georgia"/>
              </a:rPr>
              <a:t>Структура урок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Актуализация знан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Изучение нов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Закрепление нового матери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96ff"/>
                </a:solidFill>
                <a:latin typeface="Georgia"/>
              </a:rPr>
              <a:t>Подведение итогов уро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Средства и акт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286080" cy="317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2286000"/>
            <a:ext cx="43434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Использование интерактивной модели «Построение правильного вписанного шестиуголь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позволит учащимся</a:t>
            </a:r>
            <a:r>
              <a:rPr b="1" i="1" lang="en-US" sz="2000" spc="-1" strike="noStrike" u="sng">
                <a:solidFill>
                  <a:srgbClr val="255fb5"/>
                </a:solidFill>
                <a:uFillTx/>
                <a:latin typeface="Georgia"/>
              </a:rPr>
              <a:t>  самостоятельно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выработать алгоритм по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выполнить </a:t>
            </a:r>
            <a:r>
              <a:rPr b="1" i="1" lang="en-US" sz="2000" spc="-1" strike="noStrike" u="sng">
                <a:solidFill>
                  <a:srgbClr val="255fb5"/>
                </a:solidFill>
                <a:uFillTx/>
                <a:latin typeface="Georgia"/>
              </a:rPr>
              <a:t>самостоятельно</a:t>
            </a:r>
            <a:r>
              <a:rPr b="1" i="1" lang="en-US" sz="2000" spc="-1" strike="noStrike">
                <a:solidFill>
                  <a:srgbClr val="255fb5"/>
                </a:solidFill>
                <a:latin typeface="Georgia"/>
              </a:rPr>
              <a:t> построение на бума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Принцип использования интерактивной мод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На уроке создается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проблем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ситуация: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учащие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самостоятельно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 составляют</a:t>
            </a: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алгоритм постр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b210f"/>
                </a:solidFill>
                <a:latin typeface="Georgia"/>
              </a:rPr>
              <a:t>шестиугольника </a:t>
            </a: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на осно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просмотра  действия мод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03680" y="140328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28600"/>
            <a:ext cx="750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Технологическая ка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для составления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7160" y="208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81080"/>
          <a:ext cx="7696440" cy="4611960"/>
        </p:xfrm>
        <a:graphic>
          <a:graphicData uri="http://schemas.openxmlformats.org/drawingml/2006/table">
            <a:tbl>
              <a:tblPr/>
              <a:tblGrid>
                <a:gridCol w="2359080"/>
                <a:gridCol w="2136960"/>
                <a:gridCol w="3200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Шаг №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Инстр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4f96ff"/>
                          </a:solidFill>
                          <a:latin typeface="Georg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752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60680" y="1219320"/>
            <a:ext cx="36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Georgia"/>
              </a:rPr>
              <a:t>Задана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80880"/>
            <a:ext cx="827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Ответьте на вопросы по итогам работы технологической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834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1.Какие инструменты используются в ходе постро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2.Какие особенности вы замет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210f"/>
                </a:solidFill>
                <a:latin typeface="Georgia"/>
              </a:rPr>
              <a:t>3.В каком порядке вы будете строить многоуго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467480" y="5410080"/>
            <a:ext cx="1295640" cy="106704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6226" h="21600">
                <a:moveTo>
                  <a:pt x="0" y="0"/>
                </a:moveTo>
                <a:lnTo>
                  <a:pt x="26226" y="0"/>
                </a:lnTo>
                <a:lnTo>
                  <a:pt x="26226" y="21600"/>
                </a:lnTo>
                <a:lnTo>
                  <a:pt x="0" y="21600"/>
                </a:lnTo>
                <a:close/>
              </a:path>
              <a:path fill="lightenLess" w="26226" h="21600">
                <a:moveTo>
                  <a:pt x="0" y="0"/>
                </a:moveTo>
                <a:lnTo>
                  <a:pt x="26226" y="0"/>
                </a:lnTo>
                <a:lnTo>
                  <a:pt x="24826" y="1400"/>
                </a:lnTo>
                <a:lnTo>
                  <a:pt x="1400" y="1400"/>
                </a:lnTo>
                <a:close/>
              </a:path>
              <a:path fill="darken" w="26226" h="21600">
                <a:moveTo>
                  <a:pt x="26226" y="0"/>
                </a:moveTo>
                <a:lnTo>
                  <a:pt x="26226" y="21600"/>
                </a:lnTo>
                <a:lnTo>
                  <a:pt x="24826" y="20200"/>
                </a:lnTo>
                <a:lnTo>
                  <a:pt x="24826" y="1400"/>
                </a:lnTo>
                <a:close/>
              </a:path>
              <a:path fill="darkenLess" w="26226" h="21600">
                <a:moveTo>
                  <a:pt x="26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6" y="20200"/>
                </a:lnTo>
                <a:close/>
              </a:path>
              <a:path fill="lighten" w="26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6" h="21600">
                <a:moveTo>
                  <a:pt x="13113" y="3837"/>
                </a:moveTo>
                <a:lnTo>
                  <a:pt x="15689" y="6448"/>
                </a:lnTo>
                <a:lnTo>
                  <a:pt x="15689" y="4707"/>
                </a:lnTo>
                <a:lnTo>
                  <a:pt x="17465" y="4707"/>
                </a:lnTo>
                <a:lnTo>
                  <a:pt x="17465" y="8224"/>
                </a:lnTo>
                <a:lnTo>
                  <a:pt x="20076" y="10800"/>
                </a:lnTo>
                <a:lnTo>
                  <a:pt x="18422" y="10800"/>
                </a:lnTo>
                <a:lnTo>
                  <a:pt x="18422" y="17989"/>
                </a:lnTo>
                <a:lnTo>
                  <a:pt x="7804" y="17989"/>
                </a:lnTo>
                <a:lnTo>
                  <a:pt x="7804" y="10800"/>
                </a:lnTo>
                <a:lnTo>
                  <a:pt x="6150" y="10800"/>
                </a:lnTo>
                <a:close/>
              </a:path>
              <a:path fill="darkenLess" w="26226" h="21600">
                <a:moveTo>
                  <a:pt x="15689" y="6448"/>
                </a:moveTo>
                <a:lnTo>
                  <a:pt x="15689" y="4707"/>
                </a:lnTo>
                <a:lnTo>
                  <a:pt x="17465" y="4707"/>
                </a:lnTo>
                <a:lnTo>
                  <a:pt x="17465" y="8224"/>
                </a:lnTo>
                <a:close/>
              </a:path>
              <a:path fill="darkenLess" w="26226" h="21600">
                <a:moveTo>
                  <a:pt x="12190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2" y="17989"/>
                </a:lnTo>
                <a:lnTo>
                  <a:pt x="18422" y="10800"/>
                </a:lnTo>
                <a:lnTo>
                  <a:pt x="7804" y="10800"/>
                </a:lnTo>
                <a:lnTo>
                  <a:pt x="7804" y="17989"/>
                </a:lnTo>
                <a:lnTo>
                  <a:pt x="12190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3:39:29Z</dcterms:created>
  <dc:creator>user430</dc:creator>
  <dc:description/>
  <dc:language>en-US</dc:language>
  <cp:lastModifiedBy>Vladimir</cp:lastModifiedBy>
  <dcterms:modified xsi:type="dcterms:W3CDTF">2008-04-06T08:17:01Z</dcterms:modified>
  <cp:revision>4</cp:revision>
  <dc:subject/>
  <dc:title>Построение правильного шестиугольника</dc:title>
</cp:coreProperties>
</file>