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25640" y="725040"/>
            <a:ext cx="4836960" cy="362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DAE9-91B2-42B0-9703-720B03F317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E16B-FD51-45A2-AFCB-62EAA31259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6960" cy="36291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9080" y="4597200"/>
            <a:ext cx="505008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36720" y="2178000"/>
            <a:ext cx="35211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316-36BA-4348-B38A-34257AA5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C66-C45E-4491-95C9-2D1CDF5C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B3C-A9AD-4C4C-8ADB-11C8F840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06D-7F74-42B8-97A8-5B38D9E0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516-6330-4A5D-BE49-098C409F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91E-267E-41CC-B7DE-B853DFC9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975E-281E-4071-B09E-E19FF007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95E-330A-4F68-93A6-202BE841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CAA-0752-44D6-A887-A1DBD36A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224-2747-4BDC-81F7-04DBA0CF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B9B-23FA-4043-A499-E1E09A81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27E-FDC4-4173-8543-E8429E7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5D84-B768-4E05-8452-8F4E169B1D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209520"/>
            <a:ext cx="50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28840"/>
            <a:ext cx="52578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ражающие факторы ядерного оруж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 ОБЖ  Кировской  СОШ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нельникова  Марина  Михайлов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6156360" y="333360"/>
          <a:ext cx="2808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333360"/>
                    <a:ext cx="2808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Характеристика зон РЗ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680400" y="4508640"/>
            <a:ext cx="7360560" cy="1760400"/>
            <a:chOff x="680400" y="4508640"/>
            <a:chExt cx="7360560" cy="1760400"/>
          </a:xfrm>
        </p:grpSpPr>
        <p:sp>
          <p:nvSpPr>
            <p:cNvPr id="98" name="Text Box 5"/>
            <p:cNvSpPr/>
            <p:nvPr/>
          </p:nvSpPr>
          <p:spPr>
            <a:xfrm>
              <a:off x="743040" y="4508640"/>
              <a:ext cx="72979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мечания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.Уровни загрязнения местности снижаются примерно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 раз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через отрезки времени , кратные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680400" y="4941720"/>
              <a:ext cx="273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 через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часов –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раз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 через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часов –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раз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754200" y="5445000"/>
              <a:ext cx="406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 Площади зон в % к площади всей зоны загрязнения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70-80)%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8-10)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%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0920" y="1484280"/>
            <a:ext cx="8394480" cy="3025800"/>
            <a:chOff x="250920" y="1484280"/>
            <a:chExt cx="8394480" cy="3025800"/>
          </a:xfrm>
        </p:grpSpPr>
        <p:sp>
          <p:nvSpPr>
            <p:cNvPr id="102" name="Rectangle 9"/>
            <p:cNvSpPr/>
            <p:nvPr/>
          </p:nvSpPr>
          <p:spPr>
            <a:xfrm>
              <a:off x="250920" y="1555560"/>
              <a:ext cx="2519280" cy="863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2770200" y="1555560"/>
              <a:ext cx="1584360" cy="863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1"/>
            <p:cNvSpPr/>
            <p:nvPr/>
          </p:nvSpPr>
          <p:spPr>
            <a:xfrm>
              <a:off x="4354560" y="1555560"/>
              <a:ext cx="2016000" cy="863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2"/>
            <p:cNvSpPr/>
            <p:nvPr/>
          </p:nvSpPr>
          <p:spPr>
            <a:xfrm>
              <a:off x="6370560" y="1555560"/>
              <a:ext cx="2160720" cy="57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6370560" y="2131920"/>
              <a:ext cx="2160720" cy="287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4"/>
            <p:cNvSpPr/>
            <p:nvPr/>
          </p:nvSpPr>
          <p:spPr>
            <a:xfrm>
              <a:off x="7667640" y="270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250920" y="2420640"/>
              <a:ext cx="251928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250920" y="3429000"/>
              <a:ext cx="2519280" cy="57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>
              <a:off x="250920" y="2923920"/>
              <a:ext cx="251928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8"/>
            <p:cNvSpPr/>
            <p:nvPr/>
          </p:nvSpPr>
          <p:spPr>
            <a:xfrm>
              <a:off x="250920" y="4005000"/>
              <a:ext cx="251928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2770200" y="2420640"/>
              <a:ext cx="1584360" cy="505080"/>
            </a:xfrm>
            <a:prstGeom prst="rect">
              <a:avLst/>
            </a:prstGeom>
            <a:solidFill>
              <a:srgbClr val="5191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синий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0"/>
            <p:cNvSpPr/>
            <p:nvPr/>
          </p:nvSpPr>
          <p:spPr>
            <a:xfrm>
              <a:off x="2770200" y="2923920"/>
              <a:ext cx="1584360" cy="505080"/>
            </a:xfrm>
            <a:prstGeom prst="rect">
              <a:avLst/>
            </a:prstGeom>
            <a:solidFill>
              <a:srgbClr val="4eae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1"/>
            <p:cNvSpPr/>
            <p:nvPr/>
          </p:nvSpPr>
          <p:spPr>
            <a:xfrm>
              <a:off x="2770200" y="4005000"/>
              <a:ext cx="1584360" cy="505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(черный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2770200" y="3429000"/>
              <a:ext cx="1584360" cy="5760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(коричневый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4354560" y="2420640"/>
              <a:ext cx="201600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4"/>
            <p:cNvSpPr/>
            <p:nvPr/>
          </p:nvSpPr>
          <p:spPr>
            <a:xfrm>
              <a:off x="4354560" y="2923920"/>
              <a:ext cx="201600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5"/>
            <p:cNvSpPr/>
            <p:nvPr/>
          </p:nvSpPr>
          <p:spPr>
            <a:xfrm>
              <a:off x="4354560" y="4005000"/>
              <a:ext cx="201600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4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в середине 7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6"/>
            <p:cNvSpPr/>
            <p:nvPr/>
          </p:nvSpPr>
          <p:spPr>
            <a:xfrm>
              <a:off x="4354560" y="3429000"/>
              <a:ext cx="2016000" cy="57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27"/>
            <p:cNvSpPr/>
            <p:nvPr/>
          </p:nvSpPr>
          <p:spPr>
            <a:xfrm>
              <a:off x="6370560" y="2420640"/>
              <a:ext cx="216072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28"/>
            <p:cNvSpPr/>
            <p:nvPr/>
          </p:nvSpPr>
          <p:spPr>
            <a:xfrm>
              <a:off x="6370560" y="2923920"/>
              <a:ext cx="216072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9"/>
            <p:cNvSpPr/>
            <p:nvPr/>
          </p:nvSpPr>
          <p:spPr>
            <a:xfrm>
              <a:off x="6370560" y="3429000"/>
              <a:ext cx="2160720" cy="57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30"/>
            <p:cNvSpPr/>
            <p:nvPr/>
          </p:nvSpPr>
          <p:spPr>
            <a:xfrm>
              <a:off x="6370560" y="4005000"/>
              <a:ext cx="216072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320040" y="1771560"/>
              <a:ext cx="21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именование зо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2"/>
            <p:cNvSpPr/>
            <p:nvPr/>
          </p:nvSpPr>
          <p:spPr>
            <a:xfrm>
              <a:off x="2914560" y="1771560"/>
              <a:ext cx="1325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декс зо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цвет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33"/>
            <p:cNvSpPr/>
            <p:nvPr/>
          </p:nvSpPr>
          <p:spPr>
            <a:xfrm>
              <a:off x="4356000" y="1699920"/>
              <a:ext cx="169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оза до полног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спада РВ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   ,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306000" y="2512800"/>
              <a:ext cx="21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меренного 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398520" y="2995560"/>
              <a:ext cx="19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ильного 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376920" y="3520800"/>
              <a:ext cx="196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пасного 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37"/>
            <p:cNvSpPr/>
            <p:nvPr/>
          </p:nvSpPr>
          <p:spPr>
            <a:xfrm>
              <a:off x="398160" y="4005000"/>
              <a:ext cx="2040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Чрезвычайно опасног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3132000" y="2995560"/>
              <a:ext cx="9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зеленый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39"/>
            <p:cNvSpPr/>
            <p:nvPr/>
          </p:nvSpPr>
          <p:spPr>
            <a:xfrm>
              <a:off x="6303600" y="1484280"/>
              <a:ext cx="2341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ощность доз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уровень радиации) Р</a:t>
              </a: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д\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40"/>
            <p:cNvSpPr/>
            <p:nvPr/>
          </p:nvSpPr>
          <p:spPr>
            <a:xfrm>
              <a:off x="7451640" y="213192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41"/>
            <p:cNvSpPr/>
            <p:nvPr/>
          </p:nvSpPr>
          <p:spPr>
            <a:xfrm>
              <a:off x="7451640" y="40050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42"/>
            <p:cNvSpPr/>
            <p:nvPr/>
          </p:nvSpPr>
          <p:spPr>
            <a:xfrm>
              <a:off x="6445800" y="2060280"/>
              <a:ext cx="80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на 1 час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осле  Я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43"/>
            <p:cNvSpPr/>
            <p:nvPr/>
          </p:nvSpPr>
          <p:spPr>
            <a:xfrm>
              <a:off x="7524000" y="2060280"/>
              <a:ext cx="941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на 10 часов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осле Я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44"/>
            <p:cNvSpPr/>
            <p:nvPr/>
          </p:nvSpPr>
          <p:spPr>
            <a:xfrm>
              <a:off x="6856200" y="2490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45"/>
            <p:cNvSpPr/>
            <p:nvPr/>
          </p:nvSpPr>
          <p:spPr>
            <a:xfrm>
              <a:off x="6347880" y="2922480"/>
              <a:ext cx="83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46"/>
            <p:cNvSpPr/>
            <p:nvPr/>
          </p:nvSpPr>
          <p:spPr>
            <a:xfrm>
              <a:off x="6568560" y="3570120"/>
              <a:ext cx="69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7"/>
            <p:cNvSpPr/>
            <p:nvPr/>
          </p:nvSpPr>
          <p:spPr>
            <a:xfrm>
              <a:off x="6638760" y="409716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48"/>
            <p:cNvSpPr/>
            <p:nvPr/>
          </p:nvSpPr>
          <p:spPr>
            <a:xfrm>
              <a:off x="6639480" y="4074840"/>
              <a:ext cx="60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49"/>
            <p:cNvSpPr/>
            <p:nvPr/>
          </p:nvSpPr>
          <p:spPr>
            <a:xfrm>
              <a:off x="7576200" y="2490480"/>
              <a:ext cx="59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50"/>
            <p:cNvSpPr/>
            <p:nvPr/>
          </p:nvSpPr>
          <p:spPr>
            <a:xfrm>
              <a:off x="7577280" y="29224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51"/>
            <p:cNvSpPr/>
            <p:nvPr/>
          </p:nvSpPr>
          <p:spPr>
            <a:xfrm>
              <a:off x="7792560" y="3570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52"/>
            <p:cNvSpPr/>
            <p:nvPr/>
          </p:nvSpPr>
          <p:spPr>
            <a:xfrm>
              <a:off x="7863840" y="4003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арактеристика зон РЗМ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1052640"/>
          <a:ext cx="8785440" cy="5348160"/>
        </p:xfrm>
        <a:graphic>
          <a:graphicData uri="http://schemas.openxmlformats.org/drawingml/2006/table">
            <a:tbl>
              <a:tblPr/>
              <a:tblGrid>
                <a:gridCol w="2521080"/>
                <a:gridCol w="2421000"/>
                <a:gridCol w="1827000"/>
                <a:gridCol w="2016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з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а до пол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ада Р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адиации,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час после ЯВ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0 час после Я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мерен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иль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Опас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2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резвычайно опас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250920" y="83664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Уровни загрязнения местности снижаются примерно в 10 раз через отрезки времени , кратные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40258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через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часов – в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аз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через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49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часов – в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33336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Действия личного состава НАСФ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ru-RU" sz="3600" spc="-1" strike="noStrike" u="sng">
                <a:solidFill>
                  <a:srgbClr val="3333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3333ff"/>
                </a:solidFill>
                <a:latin typeface="Arial"/>
              </a:rPr>
              <a:t>В </a:t>
            </a:r>
            <a:r>
              <a:rPr b="1" lang="ru-RU" sz="3000" spc="-1" strike="noStrike" u="sng">
                <a:solidFill>
                  <a:srgbClr val="3333ff"/>
                </a:solidFill>
                <a:uFillTx/>
                <a:latin typeface="Arial"/>
              </a:rPr>
              <a:t>зоне А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3000" spc="-1" strike="noStrike" u="sng">
                <a:solidFill>
                  <a:srgbClr val="00cc00"/>
                </a:solidFill>
                <a:uFillTx/>
                <a:latin typeface="Arial"/>
              </a:rPr>
              <a:t>зоне Б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ДНР проводить на технике с высоким коэффициентами радиационной защищенност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000" spc="-1" strike="noStrike" u="sng">
                <a:solidFill>
                  <a:srgbClr val="993300"/>
                </a:solidFill>
                <a:uFillTx/>
                <a:latin typeface="Arial"/>
              </a:rPr>
              <a:t>В зоне В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АСДНР используется радиационно-устойчивая, радиоуправляемая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хника (робототехнические средства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В зоне Г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АСДНР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 планируются. Ждать, когда спадут уровни радиации.</a:t>
            </a:r>
            <a:r>
              <a:rPr b="1" lang="ru-RU" sz="3000" spc="-1" strike="noStrike">
                <a:solidFill>
                  <a:srgbClr val="f1113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24000" y="1484280"/>
            <a:ext cx="8820000" cy="60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0 Рад (Р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однократное 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облучение   (до 4-х суток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00 Рад (Р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44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течение 1 мес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00 Рад (Р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течение 3-х мес.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00 Рад  (Р)</a:t>
            </a:r>
            <a:r>
              <a:rPr b="1" lang="ru-RU" sz="4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течение 1 года     </a:t>
            </a:r>
            <a:r>
              <a:rPr b="1" lang="ru-RU" sz="35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68360" y="228600"/>
            <a:ext cx="83707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зы облучения при ядерном взрыве, не приводящие к снижению работоспособности людей (не более):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50920" y="20808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иды доз облучени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112536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1.Экспозиционна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-  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24000" y="213372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2. Поглощенна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Гр = 100 РА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4000" y="321300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3. Эквивалентна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Зв = 100 БЭ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24000" y="429264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4. Эффективна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Э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485080" y="5445000"/>
            <a:ext cx="41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Р = 1 РАД = 1 БЭ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50920" y="2095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апы развития лучевой болез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907920"/>
          <a:ext cx="8713800" cy="5616720"/>
        </p:xfrm>
        <a:graphic>
          <a:graphicData uri="http://schemas.openxmlformats.org/drawingml/2006/table">
            <a:tbl>
              <a:tblPr/>
              <a:tblGrid>
                <a:gridCol w="2592360"/>
                <a:gridCol w="3216240"/>
                <a:gridCol w="2905200"/>
              </a:tblGrid>
              <a:tr h="25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-200 бэр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Б 1-й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егкой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ая лейкемия, иногда рвота в первые сут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олучное состояние, смертельные исходы отсутствую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0-400 бэр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Б 2-й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</a:t>
                      </a:r>
                      <a:r>
                        <a:rPr b="1" i="1" lang="ru-RU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едней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шнота, рвота в первые сутки, лейкемия, подкожные кровоизлия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20% случаев возможен смертельный исход, спустя 2-6 недель после обл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50920" y="2095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апы развития лучевой болез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907920"/>
          <a:ext cx="8713800" cy="5762880"/>
        </p:xfrm>
        <a:graphic>
          <a:graphicData uri="http://schemas.openxmlformats.org/drawingml/2006/table">
            <a:tbl>
              <a:tblPr/>
              <a:tblGrid>
                <a:gridCol w="2376720"/>
                <a:gridCol w="3431880"/>
                <a:gridCol w="290520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0-600 бэр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ЛБ 3-й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тяжелой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шнота, рвота, лейкемия, подкожные кровоизлияния (язвы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50% случаев возможен смертельный исход, в течение месяца после обл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ее 600 бэр -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ЛБ 4-й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райне тяжелой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вота. Исчезают лейкоциты, подкожные кровоизлияния, кровяной пон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00% - смерть (от инфекционных заболеваний или кровоизлияний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РЕПЛЕНИЕ.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Назовите  поражающие  факторы  ядерного  взрыв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аковы  последствия  воздействия  ударной  волн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 урока: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комить  учащихся  с  поражающими  факторами  ядерного  оруж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50920" y="28116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ды ядерных взрыв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9280" y="2297160"/>
            <a:ext cx="8785440" cy="3749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1.Воздушн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2.Наземный (надводный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.Подземный (подводный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895480" y="-380880"/>
            <a:ext cx="3810240" cy="76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300" spc="-1" strike="noStrike">
                <a:solidFill>
                  <a:srgbClr val="ffccff"/>
                </a:solidFill>
                <a:latin typeface="Arial"/>
              </a:rPr>
              <a:t>?</a:t>
            </a:r>
            <a:endParaRPr b="0" lang="en-US" sz="4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5560" y="98280"/>
            <a:ext cx="9299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73080"/>
            <a:ext cx="9299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600200" y="1905120"/>
            <a:ext cx="609912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454560" y="5130720"/>
            <a:ext cx="556560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578400" y="5562720"/>
            <a:ext cx="556560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28600" y="279360"/>
            <a:ext cx="8686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ражающие факторы ядерного оруж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Ударная волн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етовое излуч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никающая радиац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Радиоактивное загрязнение мест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Химическое заражени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ктромагнитный импуль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79280" y="152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АЖАЮЩИЕ ФАКТОРЫ ЯДЕРНОГО  ОРУЖ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419640" y="765000"/>
            <a:ext cx="5400360" cy="113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дарная волна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% энергии взры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2133720"/>
            <a:ext cx="5689800" cy="5814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ветовое излучение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843280" y="2997360"/>
            <a:ext cx="5978520" cy="5814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никающая радиация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419640" y="3933720"/>
            <a:ext cx="5473440" cy="10688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диоактивное загрязнение местност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419640" y="5300640"/>
            <a:ext cx="5473440" cy="10688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лектромагнитный импульс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116676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1"/>
          <p:cNvGraphicFramePr/>
          <p:nvPr/>
        </p:nvGraphicFramePr>
        <p:xfrm>
          <a:off x="250920" y="692280"/>
          <a:ext cx="2808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2808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12"/>
          <p:cNvSpPr/>
          <p:nvPr/>
        </p:nvSpPr>
        <p:spPr>
          <a:xfrm>
            <a:off x="909720" y="2419200"/>
            <a:ext cx="12614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7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380880" y="2362320"/>
          <a:ext cx="21337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21337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3"/>
          <p:cNvGraphicFramePr/>
          <p:nvPr/>
        </p:nvGraphicFramePr>
        <p:xfrm>
          <a:off x="250920" y="649440"/>
          <a:ext cx="8381880" cy="601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649440"/>
                    <a:ext cx="838188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4"/>
          <p:cNvSpPr/>
          <p:nvPr/>
        </p:nvSpPr>
        <p:spPr>
          <a:xfrm>
            <a:off x="216000" y="165240"/>
            <a:ext cx="860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оны поражения во фронте УВ при наземном ЯВ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539640" y="907920"/>
          <a:ext cx="1828800" cy="27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907920"/>
                    <a:ext cx="182880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22"/>
          <p:cNvSpPr/>
          <p:nvPr/>
        </p:nvSpPr>
        <p:spPr>
          <a:xfrm>
            <a:off x="2441160" y="3200400"/>
            <a:ext cx="959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468360" y="404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ды зон ядерного поражения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692360" y="17002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ных разруш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763640" y="2565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льных разруш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03280" y="37162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Средних разрушений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332000" y="486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Слабых разрушени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1700280"/>
            <a:ext cx="85341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ff"/>
                </a:solidFill>
                <a:latin typeface="Arial"/>
                <a:ea typeface="Times New Roman"/>
              </a:rPr>
              <a:t>-</a:t>
            </a:r>
            <a:r>
              <a:rPr b="0" lang="ru-RU" sz="3000" spc="-1" strike="noStrike">
                <a:solidFill>
                  <a:srgbClr val="f11136"/>
                </a:solidFill>
                <a:latin typeface="Arial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продукты деления ядерных взрывчатых веществ (</a:t>
            </a:r>
            <a:r>
              <a:rPr b="1" lang="en-US" sz="3000" spc="-1" strike="noStrike">
                <a:solidFill>
                  <a:srgbClr val="f11136"/>
                </a:solidFill>
                <a:latin typeface="Arial"/>
              </a:rPr>
              <a:t>Pu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-239; </a:t>
            </a:r>
            <a:r>
              <a:rPr b="1" lang="en-US" sz="3000" spc="-1" strike="noStrike">
                <a:solidFill>
                  <a:srgbClr val="f11136"/>
                </a:solidFill>
                <a:latin typeface="Arial"/>
              </a:rPr>
              <a:t>U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-235;    </a:t>
            </a:r>
            <a:r>
              <a:rPr b="1" lang="en-US" sz="3000" spc="-1" strike="noStrike">
                <a:solidFill>
                  <a:srgbClr val="f11136"/>
                </a:solidFill>
                <a:latin typeface="Arial"/>
              </a:rPr>
              <a:t>U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238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  <a:ea typeface="Times New Roman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радиоизотопы (радионуклиды), образующиеся в грунте и др. материалах под воздействием нейтронов, создающих наведенную активност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  <a:ea typeface="Times New Roman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неразделившаяся часть ядерного заря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0880" y="404640"/>
            <a:ext cx="82234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ИСТОЧНИКИ    РАДИОАКТИВНОГО        ЗАГРЯЗ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Схема РЗ местности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85800" y="2630520"/>
            <a:ext cx="3809880" cy="281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95280" y="6165720"/>
            <a:ext cx="849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6018120"/>
            <a:ext cx="9144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Зона А - умеренного загряз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Зона Б - сильного загряз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она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 - опасного загряз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Зона Г- чрезвычайно опасного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ряз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Схема РЗ местности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250920" y="3881520"/>
            <a:ext cx="21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250920" y="-171360"/>
          <a:ext cx="3419280" cy="568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-171360"/>
                    <a:ext cx="341928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4T20:20:44Z</dcterms:modified>
  <cp:revision>67</cp:revision>
  <dc:subject/>
  <dc:title>PowerPoint Presentation</dc:title>
</cp:coreProperties>
</file>