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FDC-CD3E-4A41-83D8-D12A509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DC0-D2FB-44EA-8BB3-5C1EF36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F44-42A1-45CE-BBE6-74F28A10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EDC-BFA9-4C96-81E9-198DED9A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B018-C74C-4218-87E8-2F8291CC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E48-EEAE-40B4-98B8-7D0065B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215F-A61D-41C9-8F1A-1B8F194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E355-6ACE-440B-9231-B43FDE5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7A0-A39E-4259-A5FF-AE348E7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05D8-0D2D-4A85-B8F4-7B1FDF8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99ED-4EAC-4031-B5DC-A7907035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6DF-40B6-4893-8254-9AE99CF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849-AC28-4016-961C-2A49A96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CDB-C7B1-43B4-9AB1-67870538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36F-C2D0-4827-9F11-F77D8DFC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8F5-D7CA-4820-8B7E-20272E68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6195-FA63-4E58-A281-A69C5D8F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1E2-80DC-4975-8602-3B479AFF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175-F85E-4C27-8F1A-6D75FF6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236-F500-434B-96BD-1A8D6AF8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A0A-56EB-40E6-B812-448746B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840-9294-41C8-BB90-94E4641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EC7-97DA-4500-9137-28D5103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19-BA5B-4795-87D6-896F850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3311-8A2A-499C-851A-293F68687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255-5823-4C59-9BED-3A00988611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Урок биологии 7 клас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М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166920" y="3146400"/>
            <a:ext cx="574380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ы тел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И.В. Литвинов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У Петраковская СОШ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00200" y="304920"/>
          <a:ext cx="624996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3506760"/>
              </a:tblGrid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истематическое положе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троение покровов те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ростейш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ружная клеточная мембрана у организмов с постоянной формой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ишечнополос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тод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лоски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ругл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ольчат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ский эпите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Моллю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тикула (с накопленной известью в верхних сло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Членистоно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тинизорованная многослойная кутикула поверх покровной ткан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ракообразных кутикула пропитывается изве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19320" y="609480"/>
          <a:ext cx="7313400" cy="4876920"/>
        </p:xfrm>
        <a:graphic>
          <a:graphicData uri="http://schemas.openxmlformats.org/drawingml/2006/table">
            <a:tbl>
              <a:tblPr/>
              <a:tblGrid>
                <a:gridCol w="3209760"/>
                <a:gridCol w="41036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Хорд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Ланце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Ры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костные чешуи, одн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Земнов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мног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ресмык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чешу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пе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Млекопита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потовые, сальные, млечные пахучие железы. Волосяной пок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волюция покровов тела шла по пути увеличения числа их слоёв и появления в них все новых и новых образований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Verdana"/>
              </a:rPr>
              <a:t>РЕСНИЧЕК, ЖГУТИКОВ, ЖЕЛЕЗ, ИЗВЕСТКОВЫХ И ХИТИНОВЫХ ПОКРОВОВ, ЧЕШУИ, КОГТЕЙ, ВОЛОС, РОГОВ, КОПЫТ, НО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828800" y="4572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ЗАПИСЬ ТЕРМИНОВ В ТЕТРАД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КУТИКУЛ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плотное неклеточное образование, выполняющее защитную и опорную функ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ЭПИДЕРМИ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наружный многоклеточный сл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СОБСТВЕННО КОЖ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из нее развивается кожные роговые образования: когти, сальные и потовые железы, корни воло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йдите в учебники ответ на вопро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Какую роль играет подкожная жировая клетчатка хордовых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ое значение имеют для млекопитающих сальные и потовые железы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81080" y="6858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Trebuchet MS"/>
              </a:rPr>
              <a:t>ИЗУЧЕНИЕ ОСОБЕННОСТЕЙ ПОКРОВОВ ТЕЛ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219320" y="304920"/>
            <a:ext cx="72388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бораторная работа №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ОБОРУДОВАНИЕ: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1.Рыба, птица, млекопитающие, дождевой червь, ракообразные, насекомо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2. Спички, препаровальная игл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3. чешуя, перо, шерсть, волос, р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.192 учебника №1, 2, 3, 4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рисовать покровы тела хордовых, или покровы тела плоского червя-турбеляр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76720" y="838080"/>
            <a:ext cx="5105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1066680" y="5335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3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тветить на вопросы с. 193, термины знать наизу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81080" y="457200"/>
            <a:ext cx="65534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2666880"/>
            <a:ext cx="731340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9480" y="25909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ыявить сходство и различие в покровах тела животны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роследить совершенствование строения и функций покровов те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у изученных типов живот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Анализ контрольной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роверка зна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Изучение нового материа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Закрепление изучен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Лабораторная работа №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Домашнее зад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666880" y="533520"/>
            <a:ext cx="4953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д уро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чем проявляется влияние млекопитающих на рост, развитие, распространенность растений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ово значение млекопитающих в почвообразовательных процесс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человек использует млекопитающих в медицин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33720" y="6858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Verdana"/>
              </a:rPr>
              <a:t>МИНИ-ВИКТОРИН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В Древнем Риме это африканское животное называли «гиппотигр», или лошадь-тиг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ЗЕБР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Так называются и жук, и птица, и крупное африканское млекопитающе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НОСОРОГ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«Ищи» - «шерш», «стой» - «табу», «принеси» - «апорт», «хватай» -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«ФАС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ет организм от проникновения в него инородных тел и веществ, других организмов, излишков влаг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т механических поврежд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ируют температуру те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рганизм от потери во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аствуют в обмене вещест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43000" y="457200"/>
            <a:ext cx="746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покрова тел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НЕШНИЕ ПОКРОВЫ ТЕЛ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502920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327636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2895120"/>
            <a:ext cx="7313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 одноклеточных                      У многоклеточ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животных  -                               животных 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чная                                      пло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олочка                                    эпител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761760"/>
            <a:ext cx="73134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СРАВНИТЕЛЬНАЯ ХАРАКТЕРИСТИКА ПОКРОВОВ ТЕЛА ОСНОВНЫХ ТИПОВ БЕСПОЗВОНОЧНЫХ И ОСНОВНЫХ КЛАССОВ ТИПА ХОРДОВ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2898720" cy="256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68022"/>
          <p:cNvPicPr/>
          <p:nvPr/>
        </p:nvPicPr>
        <p:blipFill>
          <a:blip r:embed="rId2"/>
          <a:stretch/>
        </p:blipFill>
        <p:spPr>
          <a:xfrm>
            <a:off x="3200400" y="38862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DC10591"/>
          <p:cNvPicPr/>
          <p:nvPr/>
        </p:nvPicPr>
        <p:blipFill>
          <a:blip r:embed="rId3"/>
          <a:stretch/>
        </p:blipFill>
        <p:spPr>
          <a:xfrm>
            <a:off x="5915160" y="2895480"/>
            <a:ext cx="3228840" cy="206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SDC10574"/>
          <p:cNvPicPr/>
          <p:nvPr/>
        </p:nvPicPr>
        <p:blipFill>
          <a:blip r:embed="rId4"/>
          <a:stretch/>
        </p:blipFill>
        <p:spPr>
          <a:xfrm>
            <a:off x="380880" y="2895480"/>
            <a:ext cx="284796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DC10583"/>
          <p:cNvPicPr/>
          <p:nvPr/>
        </p:nvPicPr>
        <p:blipFill>
          <a:blip r:embed="rId5"/>
          <a:stretch/>
        </p:blipFill>
        <p:spPr>
          <a:xfrm>
            <a:off x="838080" y="15228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8T17:00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