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39F-37D1-4380-B084-EE47686B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803-F66B-498E-BDA4-322D58A2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308-8796-47BF-9B9D-7FA31292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70B-9B1E-4326-87CA-A4652A7B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0AF8-E557-4E23-912B-D26202F5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D574-BD69-471D-AE0F-5BAF0B89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4049-6977-4857-9993-20025489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435A-6D98-4273-BF04-7678E21A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7C82-33BC-44E6-ACFC-99EFACBC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C72F-2C9E-4EBA-BE77-85F52731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4037-1F45-44FA-8A8E-93EA51C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F95-4907-4A3F-9FD2-F6D76A9E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3221-5796-4E0D-B399-BD651E8A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4CCE-D74A-447D-9D41-98303A9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E602-B847-4AED-8BC5-ECF75A94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3C90-817B-4ABB-9B47-7BE78996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3EBF-E574-4E11-8674-AA7A509F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43C-D825-4CAA-8D06-6C0B6329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D89-DDF2-4300-BC95-53802F53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CBA-C2D2-4A97-8E47-93D76269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019-15F0-4347-921D-33560003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69E-8C95-4CC3-9574-B2842FC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F81-7FF0-40D8-A203-0CB30E5A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2D6-9D5C-4FF9-88B1-2921CDA7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CA7C-1240-4A80-A2FD-BFCE151763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C26F-F72C-481F-A031-386F761B5F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Урок биологии 7 класс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М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3166920" y="3146400"/>
            <a:ext cx="574380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кровы тела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: И.В. Литвинова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У Петраковская СОШ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600200" y="304920"/>
          <a:ext cx="6249960" cy="5864040"/>
        </p:xfrm>
        <a:graphic>
          <a:graphicData uri="http://schemas.openxmlformats.org/drawingml/2006/table">
            <a:tbl>
              <a:tblPr/>
              <a:tblGrid>
                <a:gridCol w="2743200"/>
                <a:gridCol w="3506760"/>
              </a:tblGrid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истематическое положени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троение покровов те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Простейш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ружная клеточная мембрана у организмов с постоянной формой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Кишечнополос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тоде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Плоские че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Круглые че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Кольчатые че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оский эпите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Моллю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тикула (с накопленной известью в верхних сло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 Членистоно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тинизорованная многослойная кутикула поверх покровной ткан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 ракообразных кутикула пропитывается изве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19320" y="609480"/>
          <a:ext cx="7313400" cy="4876920"/>
        </p:xfrm>
        <a:graphic>
          <a:graphicData uri="http://schemas.openxmlformats.org/drawingml/2006/table">
            <a:tbl>
              <a:tblPr/>
              <a:tblGrid>
                <a:gridCol w="3209760"/>
                <a:gridCol w="410364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                               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Хорд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Ланце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Ры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, костные чешуи, одноклеточные слизистые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Земново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, многоклеточные слизистые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Пресмыкаю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 сухая, роговые чешу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Пт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 сухая, роговые пер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 Млекопита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жа, потовые, сальные, млечные пахучие железы. Волосяной пок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волюция покровов тела шла по пути увеличения числа их слоёв и появления в них все новых и новых образований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Verdana"/>
              </a:rPr>
              <a:t>РЕСНИЧЕК, ЖГУТИКОВ, ЖЕЛЕЗ, ИЗВЕСТКОВЫХ И ХИТИНОВЫХ ПОКРОВОВ, ЧЕШУИ, КОГТЕЙ, ВОЛОС, РОГОВ, КОПЫТ, НО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828800" y="4572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ЗАПИСЬ ТЕРМИНОВ В ТЕТРАД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КУТИКУЛ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плотное неклеточное образование, выполняющее защитную и опорную функ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ЭПИДЕРМИС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наружный многоклеточный сло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СОБСТВЕННО КОЖ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из нее развивается кожные роговые образования: когти, сальные и потовые железы, корни воло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йдите в учебники ответ на вопро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Какую роль играет подкожная жировая клетчатка хордовых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кое значение имеют для млекопитающих сальные и потовые железы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981080" y="68580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66"/>
                </a:solidFill>
                <a:latin typeface="Trebuchet MS"/>
              </a:rPr>
              <a:t>ИЗУЧЕНИЕ ОСОБЕННОСТЕЙ ПОКРОВОВ ТЕЛ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219320" y="304920"/>
            <a:ext cx="723888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абораторная работа №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ОБОРУДОВАНИЕ: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Times New Roman"/>
              </a:rPr>
              <a:t>1.Рыба, птица, млекопитающие, дождевой червь, ракообразные, насекомое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Times New Roman"/>
              </a:rPr>
              <a:t>2. Спички, препаровальная игла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Times New Roman"/>
              </a:rPr>
              <a:t>3. чешуя, перо, шерсть, волос, ро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.192 учебника №1, 2, 3, 4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рисовать покровы тела хордовых, или покровы тела плоского червя-турбеляр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76720" y="838080"/>
            <a:ext cx="5105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д работы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1066680" y="5335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3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тветить на вопросы с. 193, термины знать наизус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981080" y="457200"/>
            <a:ext cx="655344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1376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2666880"/>
            <a:ext cx="7313400" cy="32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9480" y="25909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выявить сходство и различие в покровах тела животных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проследить совершенствование строения и функций покровов те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у изученных типов живот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Анализ контрольной работ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Проверка зна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Изучение нового материа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Закрепление изученн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Лабораторная работа №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Домашнее зад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666880" y="533520"/>
            <a:ext cx="4953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д уро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чем проявляется влияние млекопитающих на рост, развитие, распространенность растений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ово значение млекопитающих в почвообразовательных процессах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к человек использует млекопитающих в медицин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133720" y="68580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ка зна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3300"/>
                </a:solidFill>
                <a:latin typeface="Verdana"/>
              </a:rPr>
              <a:t>МИНИ-ВИКТОРИН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В Древнем Риме это африканское животное называли «гиппотигр», или лошадь-тигр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(ЗЕБРА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Так называются и жук, и птица, и крупное африканское млекопитающе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(НОСОРОГ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«Ищи» - «шерш», «стой» - «табу», «принеси» - «апорт», «хватай» -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(«ФАС»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ка зна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храняет организм от проникновения в него инородных тел и веществ, других организмов, излишков влаг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храняют от механических поврежде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ируют температуру тел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храняют организм от потери во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частвуют в обмене вещест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143000" y="457200"/>
            <a:ext cx="746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ункции покрова тел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НЕШНИЕ ПОКРОВЫ ТЕЛ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5029200" y="17524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3276360" y="17524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2895120"/>
            <a:ext cx="7313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 одноклеточных                      У многоклеточ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животных  -                               животных -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чная                                      пло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олочка                                    эпител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761760"/>
            <a:ext cx="73134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СРАВНИТЕЛЬНАЯ ХАРАКТЕРИСТИКА ПОКРОВОВ ТЕЛА ОСНОВНЫХ ТИПОВ БЕСПОЗВОНОЧНЫХ И ОСНОВНЫХ КЛАССОВ ТИПА ХОРДОВЫ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2898720" cy="256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68022"/>
          <p:cNvPicPr/>
          <p:nvPr/>
        </p:nvPicPr>
        <p:blipFill>
          <a:blip r:embed="rId2"/>
          <a:stretch/>
        </p:blipFill>
        <p:spPr>
          <a:xfrm>
            <a:off x="3200400" y="388620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DC10591"/>
          <p:cNvPicPr/>
          <p:nvPr/>
        </p:nvPicPr>
        <p:blipFill>
          <a:blip r:embed="rId3"/>
          <a:stretch/>
        </p:blipFill>
        <p:spPr>
          <a:xfrm>
            <a:off x="5915160" y="2895480"/>
            <a:ext cx="3228840" cy="206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SDC10574"/>
          <p:cNvPicPr/>
          <p:nvPr/>
        </p:nvPicPr>
        <p:blipFill>
          <a:blip r:embed="rId4"/>
          <a:stretch/>
        </p:blipFill>
        <p:spPr>
          <a:xfrm>
            <a:off x="380880" y="2895480"/>
            <a:ext cx="2847960" cy="295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DC10583"/>
          <p:cNvPicPr/>
          <p:nvPr/>
        </p:nvPicPr>
        <p:blipFill>
          <a:blip r:embed="rId5"/>
          <a:stretch/>
        </p:blipFill>
        <p:spPr>
          <a:xfrm>
            <a:off x="838080" y="15228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28T17:00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