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9F8A-9497-4606-B628-30E6561D1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D8A5-6153-4346-834C-9EF84D73F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7E67-CD0C-4EC0-ADDF-606A04023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FBEB-4BF5-4AD5-BB6E-BC43854B6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31895-E9C7-4981-AFB4-489635A36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75C45-1956-4754-B96D-F2A7B8CF6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65736-CBB1-4716-BA29-87FB8DD43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F0DBD-D821-4069-82F5-3D1612025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C95DE-A900-413A-836A-65A75F677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35D7B-3B83-4E0D-A572-3CD9B0906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C3EA7-08AF-4FD9-A559-1FEF1084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83FD-3526-4984-A6FA-61F64141F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5F33D-0AC2-4BDB-A7B0-94809592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2165F-01E5-4122-A6B3-C0A6D6A9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5609D-13F8-446B-A45E-5ED82DBF5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5727E-3339-4068-AA86-146842B7F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78018-01B4-43B3-A81C-A16B68674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3F76-B70A-457D-B06D-003D00CD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AA28-890D-42DB-9401-34C2698BB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E68B-61DC-4882-948D-690F674AF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40F1-F8A6-49EB-88F8-0B0633CB4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1208-2621-4D85-BE57-BC1AA8A7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5D61-FEFA-4ACA-9C28-5F43E0DF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0655-C6F3-4434-9A5F-1FAD49BC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CDDA7-D97C-49FC-946F-BCD068635CD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66091-1560-421D-A6FC-E3DB6ABA84C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Урок биологии 7 класс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ТЕМА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WordArt 4"/>
          <p:cNvSpPr txBox="1"/>
          <p:nvPr/>
        </p:nvSpPr>
        <p:spPr>
          <a:xfrm>
            <a:off x="3166920" y="3146400"/>
            <a:ext cx="5743800" cy="270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кровы тела</a:t>
            </a:r>
            <a:endParaRPr b="0" lang="en-US" sz="44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читель: И.В. Литвинова</a:t>
            </a:r>
            <a:endParaRPr b="0" lang="en-US" sz="44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У Петраковская СОШ</a:t>
            </a:r>
            <a:endParaRPr b="0" lang="en-US" sz="44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1600200" y="304920"/>
          <a:ext cx="6249960" cy="5864040"/>
        </p:xfrm>
        <a:graphic>
          <a:graphicData uri="http://schemas.openxmlformats.org/drawingml/2006/table">
            <a:tbl>
              <a:tblPr/>
              <a:tblGrid>
                <a:gridCol w="2743200"/>
                <a:gridCol w="3506760"/>
              </a:tblGrid>
              <a:tr h="85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Систематическое положение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Строение покровов тел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ип Простейш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ружная клеточная мембрана у организмов с постоянной формой те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ип Кишечнополост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ктодер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9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ип Плоские черв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ип Круглые черв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ип Кольчатые черв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лоский эпител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ип Моллюс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утикула (с накопленной известью в верхних слоях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0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ип Членистоног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Хитинизорованная многослойная кутикула поверх покровной ткани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 ракообразных кутикула пропитывается известь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1219320" y="609480"/>
          <a:ext cx="7313400" cy="4876920"/>
        </p:xfrm>
        <a:graphic>
          <a:graphicData uri="http://schemas.openxmlformats.org/drawingml/2006/table">
            <a:tbl>
              <a:tblPr/>
              <a:tblGrid>
                <a:gridCol w="3209760"/>
                <a:gridCol w="4103640"/>
              </a:tblGrid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                                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Ти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Хордов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ласс Ланцетн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ж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ласс Рыб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жа, костные чешуи, одноклеточные слизистые желез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ласс Земновод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жа, многоклеточные слизистые желез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ласс Пресмыкающие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жа сухая, роговые чешу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ласс Птиц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жа сухая, роговые перь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ласс Млекопитающ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жа, потовые, сальные, млечные пахучие железы. Волосяной покр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Эволюция покровов тела шла по пути увеличения числа их слоёв и появления в них все новых и новых образований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cc"/>
                </a:solidFill>
                <a:latin typeface="Verdana"/>
              </a:rPr>
              <a:t>РЕСНИЧЕК, ЖГУТИКОВ, ЖЕЛЕЗ, ИЗВЕСТКОВЫХ И ХИТИНОВЫХ ПОКРОВОВ, ЧЕШУИ, КОГТЕЙ, ВОЛОС, РОГОВ, КОПЫТ, НОГ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WordArt 4"/>
          <p:cNvSpPr txBox="1"/>
          <p:nvPr/>
        </p:nvSpPr>
        <p:spPr>
          <a:xfrm>
            <a:off x="1828800" y="457200"/>
            <a:ext cx="5410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ывод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cccc"/>
                </a:solidFill>
                <a:latin typeface="Arial"/>
              </a:rPr>
              <a:t>ЗАПИСЬ ТЕРМИНОВ В ТЕТРАДЬ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3300"/>
                </a:solidFill>
                <a:latin typeface="Verdana"/>
              </a:rPr>
              <a:t>КУТИКУЛА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– плотное неклеточное образование, выполняющее защитную и опорную функци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3300"/>
                </a:solidFill>
                <a:latin typeface="Verdana"/>
              </a:rPr>
              <a:t>ЭПИДЕРМИС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– наружный многоклеточный слой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3300"/>
                </a:solidFill>
                <a:latin typeface="Verdana"/>
              </a:rPr>
              <a:t>СОБСТВЕННО КОЖА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– из нее развивается кожные роговые образования: когти, сальные и потовые железы, корни волос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9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9" dur="2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Найдите в учебники ответ на вопрос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- Какую роль играет подкожная жировая клетчатка хордовых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Какое значение имеют для млекопитающих сальные и потовые железы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WordArt 4"/>
          <p:cNvSpPr txBox="1"/>
          <p:nvPr/>
        </p:nvSpPr>
        <p:spPr>
          <a:xfrm>
            <a:off x="1981080" y="685800"/>
            <a:ext cx="5715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опросы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3366"/>
                </a:solidFill>
                <a:latin typeface="Trebuchet MS"/>
              </a:rPr>
              <a:t>ИЗУЧЕНИЕ ОСОБЕННОСТЕЙ ПОКРОВОВ ТЕЛА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WordArt 4"/>
          <p:cNvSpPr txBox="1"/>
          <p:nvPr/>
        </p:nvSpPr>
        <p:spPr>
          <a:xfrm>
            <a:off x="1219320" y="304920"/>
            <a:ext cx="7238880" cy="164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Лабораторная работа № 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6666"/>
                </a:solidFill>
                <a:latin typeface="Arial"/>
              </a:rPr>
              <a:t>ОБОРУДОВАНИЕ:</a:t>
            </a:r>
            <a:endParaRPr b="0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9933"/>
                </a:solidFill>
                <a:latin typeface="Times New Roman"/>
              </a:rPr>
              <a:t>1.Рыба, птица, млекопитающие, дождевой червь, ракообразные, насекомое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9933"/>
                </a:solidFill>
                <a:latin typeface="Times New Roman"/>
              </a:rPr>
              <a:t>2. Спички, препаровальная игла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9933"/>
                </a:solidFill>
                <a:latin typeface="Times New Roman"/>
              </a:rPr>
              <a:t>3. чешуя, перо, шерсть, волос, рог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.192 учебника №1, 2, 3, 4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№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5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Зарисовать покровы тела хордовых, или покровы тела плоского червя-турбеляри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WordArt 4"/>
          <p:cNvSpPr txBox="1"/>
          <p:nvPr/>
        </p:nvSpPr>
        <p:spPr>
          <a:xfrm>
            <a:off x="3276720" y="838080"/>
            <a:ext cx="5105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од работы: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0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3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Picture 4" descr="сканирование0002"/>
          <p:cNvPicPr/>
          <p:nvPr/>
        </p:nvPicPr>
        <p:blipFill>
          <a:blip r:embed="rId1"/>
          <a:stretch/>
        </p:blipFill>
        <p:spPr>
          <a:xfrm>
            <a:off x="1066680" y="533520"/>
            <a:ext cx="7543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9" dur="2000" fill="hold"/>
                                        <p:tgtEl>
                                          <p:spTgt spid="13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§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 36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Ответить на вопросы с. 193, термины знать наизусть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WordArt 4"/>
          <p:cNvSpPr txBox="1"/>
          <p:nvPr/>
        </p:nvSpPr>
        <p:spPr>
          <a:xfrm>
            <a:off x="1981080" y="457200"/>
            <a:ext cx="6553440" cy="90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Домашнее зад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0" dur="2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2" dur="2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731376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66"/>
                </a:solidFill>
                <a:latin typeface="Arial"/>
              </a:rPr>
              <a:t>Цель: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69800" y="2666880"/>
            <a:ext cx="7313400" cy="32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609480" y="2590920"/>
            <a:ext cx="7772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выявить сходство и различие в покровах тела животных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проследить совершенствование строения и функций покровов тел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у изученных типов животны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Анализ контрольной работы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Проверка знаний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II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Изучение нового материал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V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Закрепление изученного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Лабораторная работа №9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I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Домашнее задание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WordArt 4"/>
          <p:cNvSpPr txBox="1"/>
          <p:nvPr/>
        </p:nvSpPr>
        <p:spPr>
          <a:xfrm>
            <a:off x="2666880" y="533520"/>
            <a:ext cx="4953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Ход урок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Опрос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В чем проявляется влияние млекопитающих на рост, развитие, распространенность растений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Каково значение млекопитающих в почвообразовательных процессах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Как человек использует млекопитающих в медицине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WordArt 4"/>
          <p:cNvSpPr txBox="1"/>
          <p:nvPr/>
        </p:nvSpPr>
        <p:spPr>
          <a:xfrm>
            <a:off x="2133720" y="685800"/>
            <a:ext cx="57909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оверка знаний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3300"/>
                </a:solidFill>
                <a:latin typeface="Verdana"/>
              </a:rPr>
              <a:t>МИНИ-ВИКТОРИНА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1.В Древнем Риме это африканское животное называли «гиппотигр», или лошадь-тигр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                                       </a:t>
            </a:r>
            <a:r>
              <a:rPr b="1" i="1" lang="ru-RU" sz="2500" spc="-1" strike="noStrike">
                <a:solidFill>
                  <a:srgbClr val="000000"/>
                </a:solidFill>
                <a:latin typeface="Verdana"/>
              </a:rPr>
              <a:t>(ЗЕБРА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2.Так называются и жук, и птица, и крупное африканское млекопитающее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                                    </a:t>
            </a:r>
            <a:r>
              <a:rPr b="1" i="1" lang="ru-RU" sz="2500" spc="-1" strike="noStrike">
                <a:solidFill>
                  <a:srgbClr val="000000"/>
                </a:solidFill>
                <a:latin typeface="Verdana"/>
              </a:rPr>
              <a:t>(НОСОРОГ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3. «Ищи» - «шерш», «стой» - «табу», «принеси» - «апорт», «хватай» - …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i="1" lang="ru-RU" sz="2500" spc="-1" strike="noStrike">
                <a:solidFill>
                  <a:srgbClr val="000000"/>
                </a:solidFill>
                <a:latin typeface="Verdana"/>
              </a:rPr>
              <a:t>(«ФАС»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WordArt 4"/>
          <p:cNvSpPr txBox="1"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оверка знаний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редохраняет организм от проникновения в него инородных тел и веществ, других организмов, излишков влаг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редохраняют от механических повреждений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Регулируют температуру тела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редохраняют организм от потери воды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Участвуют в обмене веществ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WordArt 4"/>
          <p:cNvSpPr txBox="1"/>
          <p:nvPr/>
        </p:nvSpPr>
        <p:spPr>
          <a:xfrm>
            <a:off x="1143000" y="457200"/>
            <a:ext cx="7467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Функции покрова тела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ВНЕШНИЕ ПОКРОВЫ ТЕЛА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Line 4"/>
          <p:cNvSpPr/>
          <p:nvPr/>
        </p:nvSpPr>
        <p:spPr>
          <a:xfrm>
            <a:off x="5029200" y="1752480"/>
            <a:ext cx="1600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Line 5"/>
          <p:cNvSpPr/>
          <p:nvPr/>
        </p:nvSpPr>
        <p:spPr>
          <a:xfrm flipH="1">
            <a:off x="3276360" y="1752480"/>
            <a:ext cx="1600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2895120"/>
            <a:ext cx="73134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У одноклеточных                      У многоклеточны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животных  -                               животных -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рочная                                      плос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Оболочка                                    эпител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3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9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2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369800" y="761760"/>
            <a:ext cx="7313400" cy="51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00"/>
                </a:solidFill>
                <a:latin typeface="Verdana"/>
              </a:rPr>
              <a:t>СРАВНИТЕЛЬНАЯ ХАРАКТЕРИСТИКА ПОКРОВОВ ТЕЛА ОСНОВНЫХ ТИПОВ БЕСПОЗВОНОЧНЫХ И ОСНОВНЫХ КЛАССОВ ТИПА ХОРДОВЫХ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4952880" y="228600"/>
            <a:ext cx="2898720" cy="25606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268022"/>
          <p:cNvPicPr/>
          <p:nvPr/>
        </p:nvPicPr>
        <p:blipFill>
          <a:blip r:embed="rId2"/>
          <a:stretch/>
        </p:blipFill>
        <p:spPr>
          <a:xfrm>
            <a:off x="3200400" y="3886200"/>
            <a:ext cx="3505320" cy="2743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SDC10591"/>
          <p:cNvPicPr/>
          <p:nvPr/>
        </p:nvPicPr>
        <p:blipFill>
          <a:blip r:embed="rId3"/>
          <a:stretch/>
        </p:blipFill>
        <p:spPr>
          <a:xfrm>
            <a:off x="5915160" y="2895480"/>
            <a:ext cx="3228840" cy="2067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SDC10574"/>
          <p:cNvPicPr/>
          <p:nvPr/>
        </p:nvPicPr>
        <p:blipFill>
          <a:blip r:embed="rId4"/>
          <a:stretch/>
        </p:blipFill>
        <p:spPr>
          <a:xfrm>
            <a:off x="380880" y="2895480"/>
            <a:ext cx="2847960" cy="2952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SDC10583"/>
          <p:cNvPicPr/>
          <p:nvPr/>
        </p:nvPicPr>
        <p:blipFill>
          <a:blip r:embed="rId5"/>
          <a:stretch/>
        </p:blipFill>
        <p:spPr>
          <a:xfrm>
            <a:off x="838080" y="152280"/>
            <a:ext cx="3200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5-28T17:00:10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