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8A7-42EF-4470-8E3F-2A702682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071-324A-4F0D-B7E7-0679C8BC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C87-3060-4C4E-9F56-51CAF684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51B-1464-42AF-8C92-40844514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FA9C-F30C-49F8-B321-0AA8627C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0BD-6F22-47B7-854F-1D615F71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A195-F6B6-492C-A7A1-70E56E1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8548-8C41-49EB-9A22-D75EB88E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7293-524B-4C87-8C53-AEF4D3D6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467-1E07-4E2D-B7C8-DF5EB0F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06E4-3D7B-48E5-8F9B-433CD7A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3E7-5476-4804-A460-56BD4AB2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8CCC-4B7F-45C9-9795-70D8A46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10A-9AFD-4D23-BD9F-3937E05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849-B449-47F3-A80C-850EDA7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9AA0-9BA7-4099-A924-2969338A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2DDB-EED7-4A91-AEEA-DD7E1C2E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DB7-19BD-4E2B-93C9-69B095A0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271-51C6-483D-B9D7-C73ED648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6F5-15D5-4404-8D5D-C5EA20C7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522-A3FD-4D80-8214-70AF0BC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D44-74AD-4A07-A3D5-3D5683D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D84-CE6B-4E29-BB50-B9282D2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C5D-5682-4EE1-BA31-3770C4A7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427-5BC3-4042-8CB3-66823DA4878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52A-577B-4AA0-A9A8-4110CC00F58A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одобие треугольни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Решение задач по готовым чертеж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952880" y="380880"/>
            <a:ext cx="396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I кв.категории РМОУ Обская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янова Е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R ~ </a:t>
            </a: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Y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           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1828800" y="5715000"/>
            <a:ext cx="396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1828800" y="3809880"/>
            <a:ext cx="533412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5791320" y="3809880"/>
            <a:ext cx="137160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5791320" y="4343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rc 13"/>
          <p:cNvSpPr/>
          <p:nvPr/>
        </p:nvSpPr>
        <p:spPr>
          <a:xfrm>
            <a:off x="2438280" y="5486400"/>
            <a:ext cx="763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rc 14"/>
          <p:cNvSpPr/>
          <p:nvPr/>
        </p:nvSpPr>
        <p:spPr>
          <a:xfrm>
            <a:off x="5791320" y="5334120"/>
            <a:ext cx="228600" cy="759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2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2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BCD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- трапе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C ~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   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590920" y="32767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1676520" y="3276720"/>
            <a:ext cx="9144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590920" y="3276720"/>
            <a:ext cx="47242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8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4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6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4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46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3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BCD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- трапе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оказать: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C ~ </a:t>
            </a:r>
            <a:r>
              <a:rPr b="1" i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   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пропорциональные отре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2590920" y="32767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1676520" y="3276720"/>
            <a:ext cx="9144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rc 10"/>
          <p:cNvSpPr/>
          <p:nvPr/>
        </p:nvSpPr>
        <p:spPr>
          <a:xfrm flipV="1">
            <a:off x="2514600" y="3276000"/>
            <a:ext cx="3049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rc 13"/>
          <p:cNvSpPr/>
          <p:nvPr/>
        </p:nvSpPr>
        <p:spPr>
          <a:xfrm flipH="1" flipV="1" rot="21450600">
            <a:off x="5105160" y="3432240"/>
            <a:ext cx="457200" cy="759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4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4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D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||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                                   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                                                                          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2 см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1676520" y="3276720"/>
            <a:ext cx="365760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3962520" y="411480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334120" y="3276720"/>
            <a:ext cx="198108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8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76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.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KM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||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FH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                        M                                         L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3657600" y="3885840"/>
            <a:ext cx="129528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46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6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АВ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2286000" y="3885840"/>
            <a:ext cx="266688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rc 8"/>
          <p:cNvSpPr/>
          <p:nvPr/>
        </p:nvSpPr>
        <p:spPr>
          <a:xfrm>
            <a:off x="2590920" y="4343400"/>
            <a:ext cx="75960" cy="15228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rc 9"/>
          <p:cNvSpPr/>
          <p:nvPr/>
        </p:nvSpPr>
        <p:spPr>
          <a:xfrm flipH="1">
            <a:off x="6781680" y="5257800"/>
            <a:ext cx="76320" cy="2286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6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7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ВD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                                        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5 с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см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С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1676520" y="5486400"/>
            <a:ext cx="5638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H="1">
            <a:off x="1676160" y="2971800"/>
            <a:ext cx="190476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2286000" y="3885840"/>
            <a:ext cx="266688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581280" y="2971800"/>
            <a:ext cx="37339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10"/>
          <p:cNvSpPr/>
          <p:nvPr/>
        </p:nvSpPr>
        <p:spPr>
          <a:xfrm>
            <a:off x="1981080" y="5181480"/>
            <a:ext cx="152640" cy="2286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rc 11"/>
          <p:cNvSpPr/>
          <p:nvPr/>
        </p:nvSpPr>
        <p:spPr>
          <a:xfrm flipH="1">
            <a:off x="4419000" y="3657600"/>
            <a:ext cx="75960" cy="30492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6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2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бие треуг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Задача 8.  АВСD - параллелограм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айти: В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                                                 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6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2 с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8 см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F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905120" y="2971800"/>
            <a:ext cx="5562360" cy="2666880"/>
          </a:xfrm>
          <a:prstGeom prst="parallelogram">
            <a:avLst>
              <a:gd name="adj" fmla="val 5214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3276720" y="2971800"/>
            <a:ext cx="0" cy="266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276720" y="2971800"/>
            <a:ext cx="335268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3124080" y="5486400"/>
            <a:ext cx="152640" cy="1522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 rot="1882200">
            <a:off x="6400440" y="4571640"/>
            <a:ext cx="158760" cy="152280"/>
          </a:xfrm>
          <a:prstGeom prst="rect">
            <a:avLst/>
          </a:prstGeom>
          <a:solidFill>
            <a:srgbClr val="00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2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98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5-19T13:41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