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5F7B-DF2E-426C-A99E-B270A9730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047B-8A65-472B-B49B-FD464332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8A7A-E45A-4925-AE00-80D495C75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DA1D-2317-4259-89B4-0F2D8EC76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3322-F383-4F32-A0B6-F1C214913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C9EE-8582-47E4-A23D-A8858A6B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0F3D-858D-48DA-B0FB-0D5CC31C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D64C-ED16-42DB-A939-8B60224E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9A30-1AE4-4DA6-B647-F423127E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2E80-4CF0-456A-8ABD-8ACF4084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ED8B-9F03-417A-83FC-4E22A650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60A4-08A7-492E-8BBA-3507386A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22FF-87EC-4D12-A52E-0B1A1193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A0B5-3F09-4697-9857-A0BCE861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4A0D-E054-4BB3-8DCD-82162F48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B278-94CA-43D1-8EDF-ECD9A3CD1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88FB-EF39-4D71-83C7-23E421B7F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8941-FB50-4037-BE98-762CD9D3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BFE8-58FE-4840-8E06-FAF211B5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F4C9-ADC0-4865-835A-713A583B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F05B-834D-457D-AE51-18CEB6D4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2646-2B08-4988-912B-AE58464E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C546-FCF2-46E8-B4D6-ED3EE259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370B-E18C-40E6-86D1-20B84571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Group 14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Rectangle 15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5A92-7130-44F7-A59C-30ADCBECDA2D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Rectangle 22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2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Group 6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3" name="Rectangle 7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8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9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0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1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2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Group 13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0" name="Rectangle 14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5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16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17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18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19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Rectangle 20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21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2691-AE26-48EB-97EC-6F11B4CF8EC7}" type="slidenum">
              <a:rPr b="1" lang="ru-RU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Подобие треугольников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ff"/>
                </a:solidFill>
                <a:latin typeface="Times New Roman"/>
              </a:rPr>
              <a:t>Решение задач по готовым чертежа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ff"/>
                </a:solidFill>
                <a:latin typeface="Times New Roman"/>
              </a:rPr>
              <a:t>8 клас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4952880" y="380880"/>
            <a:ext cx="39625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математики I кв.категории РМОУ Обская О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дянова Е.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70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6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9907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Подобие треуголь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Задача 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Доказать: </a:t>
            </a:r>
            <a:r>
              <a:rPr b="1" i="1" lang="el-GR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Δ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Х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ZR ~ </a:t>
            </a:r>
            <a:r>
              <a:rPr b="1" i="1" lang="el-GR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Δ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YZ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                   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                                 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0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X             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0°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1828800" y="5715000"/>
            <a:ext cx="3962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9"/>
          <p:cNvSpPr/>
          <p:nvPr/>
        </p:nvSpPr>
        <p:spPr>
          <a:xfrm flipV="1">
            <a:off x="1828800" y="3809880"/>
            <a:ext cx="5334120" cy="1905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0"/>
          <p:cNvSpPr/>
          <p:nvPr/>
        </p:nvSpPr>
        <p:spPr>
          <a:xfrm flipH="1">
            <a:off x="5791320" y="3809880"/>
            <a:ext cx="1371600" cy="1905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1"/>
          <p:cNvSpPr/>
          <p:nvPr/>
        </p:nvSpPr>
        <p:spPr>
          <a:xfrm flipV="1">
            <a:off x="5791320" y="434340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rc 13"/>
          <p:cNvSpPr/>
          <p:nvPr/>
        </p:nvSpPr>
        <p:spPr>
          <a:xfrm>
            <a:off x="2438280" y="5486400"/>
            <a:ext cx="76320" cy="228600"/>
          </a:xfrm>
          <a:prstGeom prst="pie">
            <a:avLst/>
          </a:pr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rc 14"/>
          <p:cNvSpPr/>
          <p:nvPr/>
        </p:nvSpPr>
        <p:spPr>
          <a:xfrm>
            <a:off x="5791320" y="5334120"/>
            <a:ext cx="228600" cy="75960"/>
          </a:xfrm>
          <a:prstGeom prst="pie">
            <a:avLst/>
          </a:pr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36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120"/>
                            </p:stCondLst>
                            <p:childTnLst>
                              <p:par>
                                <p:cTn id="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65e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9907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Подобие треуголь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Задача 2.    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ABCD 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- трапе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Доказать: </a:t>
            </a:r>
            <a:r>
              <a:rPr b="1" i="1" lang="el-GR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Δ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OC ~ </a:t>
            </a:r>
            <a:r>
              <a:rPr b="1" i="1" lang="el-GR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Δ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O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                                        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                                                                           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2590920" y="3276720"/>
            <a:ext cx="2743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1676520" y="5486400"/>
            <a:ext cx="5638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14"/>
          <p:cNvSpPr/>
          <p:nvPr/>
        </p:nvSpPr>
        <p:spPr>
          <a:xfrm flipH="1">
            <a:off x="1676520" y="3276720"/>
            <a:ext cx="914400" cy="220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5334120" y="3276720"/>
            <a:ext cx="1981080" cy="220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2590920" y="3276720"/>
            <a:ext cx="4724280" cy="220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7"/>
          <p:cNvSpPr/>
          <p:nvPr/>
        </p:nvSpPr>
        <p:spPr>
          <a:xfrm flipH="1">
            <a:off x="1676520" y="3276720"/>
            <a:ext cx="3657600" cy="220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380"/>
                            </p:stCondLst>
                            <p:childTnLst>
                              <p:par>
                                <p:cTn id="1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140"/>
                            </p:stCondLst>
                            <p:childTnLst>
                              <p:par>
                                <p:cTn id="1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260"/>
                            </p:stCondLst>
                            <p:childTnLst>
                              <p:par>
                                <p:cTn id="1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340"/>
                            </p:stCondLst>
                            <p:childTnLst>
                              <p:par>
                                <p:cTn id="1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460"/>
                            </p:stCondLst>
                            <p:childTnLst>
                              <p:par>
                                <p:cTn id="1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4920" y="9907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Подобие треуголь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Задача 3.    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ABCD 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- трапе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Доказать: </a:t>
            </a:r>
            <a:r>
              <a:rPr b="1" i="1" lang="el-GR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Δ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C ~ </a:t>
            </a:r>
            <a:r>
              <a:rPr b="1" i="1" lang="el-GR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Δ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С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                                        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                                                                           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зовите пропорциональные отрез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2590920" y="3276720"/>
            <a:ext cx="2743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5"/>
          <p:cNvSpPr/>
          <p:nvPr/>
        </p:nvSpPr>
        <p:spPr>
          <a:xfrm>
            <a:off x="1676520" y="5486400"/>
            <a:ext cx="5638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6"/>
          <p:cNvSpPr/>
          <p:nvPr/>
        </p:nvSpPr>
        <p:spPr>
          <a:xfrm flipH="1">
            <a:off x="1676520" y="3276720"/>
            <a:ext cx="914400" cy="220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5334120" y="3276720"/>
            <a:ext cx="1981080" cy="220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9"/>
          <p:cNvSpPr/>
          <p:nvPr/>
        </p:nvSpPr>
        <p:spPr>
          <a:xfrm flipH="1">
            <a:off x="1676520" y="3276720"/>
            <a:ext cx="3657600" cy="220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rc 10"/>
          <p:cNvSpPr/>
          <p:nvPr/>
        </p:nvSpPr>
        <p:spPr>
          <a:xfrm flipV="1">
            <a:off x="2514600" y="3276000"/>
            <a:ext cx="304920" cy="228600"/>
          </a:xfrm>
          <a:prstGeom prst="pie">
            <a:avLst/>
          </a:pr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rc 13"/>
          <p:cNvSpPr/>
          <p:nvPr/>
        </p:nvSpPr>
        <p:spPr>
          <a:xfrm flipH="1" flipV="1" rot="21450600">
            <a:off x="5105160" y="3432240"/>
            <a:ext cx="457200" cy="75960"/>
          </a:xfrm>
          <a:prstGeom prst="pie">
            <a:avLst/>
          </a:pr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380"/>
                            </p:stCondLst>
                            <p:childTnLst>
                              <p:par>
                                <p:cTn id="1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14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14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6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4920" y="9907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Подобие треуголь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Задача 4.    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BD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 ||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AF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Найти: 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;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В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м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                                    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 с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                                                                           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2 см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Line 5"/>
          <p:cNvSpPr/>
          <p:nvPr/>
        </p:nvSpPr>
        <p:spPr>
          <a:xfrm>
            <a:off x="1676520" y="5486400"/>
            <a:ext cx="5638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 flipH="1">
            <a:off x="1676520" y="3276720"/>
            <a:ext cx="3657600" cy="220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1"/>
          <p:cNvSpPr/>
          <p:nvPr/>
        </p:nvSpPr>
        <p:spPr>
          <a:xfrm>
            <a:off x="3962520" y="4114800"/>
            <a:ext cx="2133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5334120" y="3276720"/>
            <a:ext cx="1981080" cy="220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100"/>
                            </p:stCondLst>
                            <p:childTnLst>
                              <p:par>
                                <p:cTn id="2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80"/>
                            </p:stCondLst>
                            <p:childTnLst>
                              <p:par>
                                <p:cTn id="2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765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94920" y="9907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Подобие треуголь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Задача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5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.    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KM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 ||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F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Найти: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FH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м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K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7 см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5 см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                        M                                         L         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Line 4"/>
          <p:cNvSpPr/>
          <p:nvPr/>
        </p:nvSpPr>
        <p:spPr>
          <a:xfrm>
            <a:off x="1676520" y="5486400"/>
            <a:ext cx="5638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5"/>
          <p:cNvSpPr/>
          <p:nvPr/>
        </p:nvSpPr>
        <p:spPr>
          <a:xfrm flipH="1">
            <a:off x="1676160" y="2971800"/>
            <a:ext cx="1904760" cy="251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6"/>
          <p:cNvSpPr/>
          <p:nvPr/>
        </p:nvSpPr>
        <p:spPr>
          <a:xfrm flipV="1">
            <a:off x="3657600" y="3885840"/>
            <a:ext cx="129528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3581280" y="2971800"/>
            <a:ext cx="3733920" cy="251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10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460"/>
                            </p:stCondLst>
                            <p:childTnLst>
                              <p:par>
                                <p:cTn id="3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94920" y="9907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Подобие треуголь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Задача 6.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Найти: АВ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м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м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                                         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5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м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0 см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                         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        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Line 4"/>
          <p:cNvSpPr/>
          <p:nvPr/>
        </p:nvSpPr>
        <p:spPr>
          <a:xfrm>
            <a:off x="1676520" y="5486400"/>
            <a:ext cx="5638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5"/>
          <p:cNvSpPr/>
          <p:nvPr/>
        </p:nvSpPr>
        <p:spPr>
          <a:xfrm flipH="1">
            <a:off x="1676160" y="2971800"/>
            <a:ext cx="1904760" cy="251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6"/>
          <p:cNvSpPr/>
          <p:nvPr/>
        </p:nvSpPr>
        <p:spPr>
          <a:xfrm flipV="1">
            <a:off x="2286000" y="3885840"/>
            <a:ext cx="2666880" cy="7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7"/>
          <p:cNvSpPr/>
          <p:nvPr/>
        </p:nvSpPr>
        <p:spPr>
          <a:xfrm>
            <a:off x="3581280" y="2971800"/>
            <a:ext cx="3733920" cy="251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rc 8"/>
          <p:cNvSpPr/>
          <p:nvPr/>
        </p:nvSpPr>
        <p:spPr>
          <a:xfrm>
            <a:off x="2590920" y="4343400"/>
            <a:ext cx="75960" cy="152280"/>
          </a:xfrm>
          <a:prstGeom prst="pie">
            <a:avLst/>
          </a:pr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rc 9"/>
          <p:cNvSpPr/>
          <p:nvPr/>
        </p:nvSpPr>
        <p:spPr>
          <a:xfrm flipH="1">
            <a:off x="6781680" y="5257800"/>
            <a:ext cx="76320" cy="228600"/>
          </a:xfrm>
          <a:prstGeom prst="pie">
            <a:avLst/>
          </a:pr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860"/>
                            </p:stCondLst>
                            <p:childTnLst>
                              <p:par>
                                <p:cTn id="4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220"/>
                            </p:stCondLst>
                            <p:childTnLst>
                              <p:par>
                                <p:cTn id="4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67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94920" y="9907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Подобие треуголь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Задача 7.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Найти: ВD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м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                                          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5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5 см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см                                   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                         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С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Line 4"/>
          <p:cNvSpPr/>
          <p:nvPr/>
        </p:nvSpPr>
        <p:spPr>
          <a:xfrm>
            <a:off x="1676520" y="5486400"/>
            <a:ext cx="5638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5"/>
          <p:cNvSpPr/>
          <p:nvPr/>
        </p:nvSpPr>
        <p:spPr>
          <a:xfrm flipH="1">
            <a:off x="1676160" y="2971800"/>
            <a:ext cx="1904760" cy="251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 flipV="1">
            <a:off x="2286000" y="3885840"/>
            <a:ext cx="2666880" cy="7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7"/>
          <p:cNvSpPr/>
          <p:nvPr/>
        </p:nvSpPr>
        <p:spPr>
          <a:xfrm>
            <a:off x="3581280" y="2971800"/>
            <a:ext cx="3733920" cy="251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rc 10"/>
          <p:cNvSpPr/>
          <p:nvPr/>
        </p:nvSpPr>
        <p:spPr>
          <a:xfrm>
            <a:off x="1981080" y="5181480"/>
            <a:ext cx="152640" cy="228600"/>
          </a:xfrm>
          <a:prstGeom prst="pie">
            <a:avLst/>
          </a:pr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rc 11"/>
          <p:cNvSpPr/>
          <p:nvPr/>
        </p:nvSpPr>
        <p:spPr>
          <a:xfrm flipH="1">
            <a:off x="4419000" y="3657600"/>
            <a:ext cx="75960" cy="304920"/>
          </a:xfrm>
          <a:prstGeom prst="pie">
            <a:avLst/>
          </a:pr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860"/>
                            </p:stCondLst>
                            <p:childTnLst>
                              <p:par>
                                <p:cTn id="5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220"/>
                            </p:stCondLst>
                            <p:childTnLst>
                              <p:par>
                                <p:cTn id="5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4920" y="9907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Подобие треуголь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Задача 8.  АВСD - параллелограмм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Найти: В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                 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В                                                  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16 с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12 с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                        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8 см      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                            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А            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R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                                   F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AutoShape 10"/>
          <p:cNvSpPr/>
          <p:nvPr/>
        </p:nvSpPr>
        <p:spPr>
          <a:xfrm>
            <a:off x="1905120" y="2971800"/>
            <a:ext cx="5562360" cy="2666880"/>
          </a:xfrm>
          <a:prstGeom prst="parallelogram">
            <a:avLst>
              <a:gd name="adj" fmla="val 52143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1"/>
          <p:cNvSpPr/>
          <p:nvPr/>
        </p:nvSpPr>
        <p:spPr>
          <a:xfrm>
            <a:off x="3276720" y="2971800"/>
            <a:ext cx="0" cy="2666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12"/>
          <p:cNvSpPr/>
          <p:nvPr/>
        </p:nvSpPr>
        <p:spPr>
          <a:xfrm>
            <a:off x="3276720" y="2971800"/>
            <a:ext cx="335268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15"/>
          <p:cNvSpPr/>
          <p:nvPr/>
        </p:nvSpPr>
        <p:spPr>
          <a:xfrm>
            <a:off x="3124080" y="5486400"/>
            <a:ext cx="152640" cy="1522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16"/>
          <p:cNvSpPr/>
          <p:nvPr/>
        </p:nvSpPr>
        <p:spPr>
          <a:xfrm rot="1882200">
            <a:off x="6400440" y="4571640"/>
            <a:ext cx="158760" cy="152280"/>
          </a:xfrm>
          <a:prstGeom prst="rect">
            <a:avLst/>
          </a:prstGeom>
          <a:solidFill>
            <a:srgbClr val="00cc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620"/>
                            </p:stCondLst>
                            <p:childTnLst>
                              <p:par>
                                <p:cTn id="5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3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980"/>
                            </p:stCondLst>
                            <p:childTnLst>
                              <p:par>
                                <p:cTn id="5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05-19T13:41:4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