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157-4342-461F-9A8A-6F66000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489-8AC6-4533-AB66-5B2021B9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DE1-8B4D-47FD-AF1B-7A71C2ED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C8A-72C9-477D-8E29-B11FB153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C452-AC8A-4F1F-A460-9C6BB64D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2BDF-F50F-4170-A4C4-B78DF63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399-E77D-4F2B-9D2B-BBF7E789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B768-46A4-485C-9C9B-64E5C76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86CB-8511-4F37-9427-2497AFB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E7A-F900-4572-A112-6FF20A5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21E4-95E9-43A4-86EC-B3A0B0E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B84-9A3D-4E9D-AA91-81D3A40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F2F-55ED-4433-BAB4-BC51429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1DB-93E3-467A-BED4-2E2877C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0AD5-8EAC-4437-9F71-0807A3F7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8F48-8CD3-4362-9502-C33F0B6C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5937-CCB9-43A6-AFB8-843A573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7EA-CF27-4DE6-BC25-9996297F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522-435C-4B04-A637-1B901C7C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BEA-84A6-4764-A323-BB515037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AA0-02F9-4D38-BDE6-72D2758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F7B-A3A5-46F1-A006-36BBFCB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BA0-0002-4ED5-BB36-0FD536C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7B5-FC7A-443C-ABEE-EF29775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CEC3-413A-4AAB-9FED-1CE3A86851A7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20F-8AC3-488C-B482-AE4ACCEE28BB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добие треугольни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Решение задач по готовым чертеж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952880" y="380880"/>
            <a:ext cx="396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I кв.категории РМОУ Обская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янова Е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R ~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Y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1828800" y="57150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1828800" y="3809880"/>
            <a:ext cx="533412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5791320" y="3809880"/>
            <a:ext cx="137160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5791320" y="4343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rc 13"/>
          <p:cNvSpPr/>
          <p:nvPr/>
        </p:nvSpPr>
        <p:spPr>
          <a:xfrm>
            <a:off x="2438280" y="54864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rc 14"/>
          <p:cNvSpPr/>
          <p:nvPr/>
        </p:nvSpPr>
        <p:spPr>
          <a:xfrm>
            <a:off x="5791320" y="5334120"/>
            <a:ext cx="2286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2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2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590920" y="3276720"/>
            <a:ext cx="47242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8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4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6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4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46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3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пропорциональные отре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rc 10"/>
          <p:cNvSpPr/>
          <p:nvPr/>
        </p:nvSpPr>
        <p:spPr>
          <a:xfrm flipV="1">
            <a:off x="2514600" y="3276000"/>
            <a:ext cx="3049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rc 13"/>
          <p:cNvSpPr/>
          <p:nvPr/>
        </p:nvSpPr>
        <p:spPr>
          <a:xfrm flipH="1" flipV="1" rot="21450600">
            <a:off x="5105160" y="3432240"/>
            <a:ext cx="4572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4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4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 см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3962520" y="41148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8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6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              M                                         L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3657600" y="3885840"/>
            <a:ext cx="12952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46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6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rc 8"/>
          <p:cNvSpPr/>
          <p:nvPr/>
        </p:nvSpPr>
        <p:spPr>
          <a:xfrm>
            <a:off x="2590920" y="4343400"/>
            <a:ext cx="75960" cy="1522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rc 9"/>
          <p:cNvSpPr/>
          <p:nvPr/>
        </p:nvSpPr>
        <p:spPr>
          <a:xfrm flipH="1">
            <a:off x="6781680" y="52578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6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7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см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С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10"/>
          <p:cNvSpPr/>
          <p:nvPr/>
        </p:nvSpPr>
        <p:spPr>
          <a:xfrm>
            <a:off x="1981080" y="5181480"/>
            <a:ext cx="152640" cy="2286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rc 11"/>
          <p:cNvSpPr/>
          <p:nvPr/>
        </p:nvSpPr>
        <p:spPr>
          <a:xfrm flipH="1">
            <a:off x="4419000" y="3657600"/>
            <a:ext cx="75960" cy="30492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6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2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8.  АВСD - параллелограм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                                                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6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2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8 см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F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905120" y="2971800"/>
            <a:ext cx="5562360" cy="2666880"/>
          </a:xfrm>
          <a:prstGeom prst="parallelogram">
            <a:avLst>
              <a:gd name="adj" fmla="val 5214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3276720" y="2971800"/>
            <a:ext cx="0" cy="266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276720" y="2971800"/>
            <a:ext cx="335268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124080" y="5486400"/>
            <a:ext cx="152640" cy="1522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 rot="1882200">
            <a:off x="6400440" y="4571640"/>
            <a:ext cx="158760" cy="152280"/>
          </a:xfrm>
          <a:prstGeom prst="rect">
            <a:avLst/>
          </a:prstGeom>
          <a:solidFill>
            <a:srgbClr val="00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2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98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5-19T13:41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