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844-DFCA-4FDD-9D38-57B9D68A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416-0374-4A37-B98B-9A7B1B91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520DB-EFF1-493D-B7C7-07459AED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04817-B8A8-40CB-B316-A76A6EA4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06569-9BB7-4402-9F2E-4F347877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8C71E-61E2-46B2-ACCB-2B733E2F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647F7-714F-4E66-9FCB-10EAC9CB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590EE-9CEF-4ADE-9C67-D2927186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ACB51-EEF9-4E4B-8679-DA8EBC61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FF5B4-D6D7-4DBB-A396-F98F3E00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E85B4-859B-4E05-A1D7-775A6B72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389E0-4F2F-4801-B467-2020B263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F64-DD97-42C3-AD59-96B42798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E8947-6904-4013-ABE9-14C5A0C0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338DE-74E1-4C3E-9123-583DC85C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5C265-F513-4AB6-AD99-A0F308C9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5E519-2E50-48AA-BCCA-28A3895F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939C2-B415-4267-A73E-77A806FD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7362F-DF4D-4BD6-BEBB-06525169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56490-1595-4301-8A10-BC5DC2B8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E9011-A8D9-4E75-828E-63D08E49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46550-00DF-4C50-A3F4-4F60DD25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76092-31BB-42B7-94EA-1C4D5F13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692-941A-420C-BF98-8D32F9CB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720F0-F3BE-4A4D-B4F5-9A242154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23DC-9F75-4966-87EC-5B93AD02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F3B1-A825-4E0B-B11A-1BEA1F3E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03BF-BFCC-4B3E-AD44-A6E722C8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9807-8206-48B0-B1B8-86261B9D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8496-D7E0-4FF0-8776-2A294310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1677-8314-4771-A11A-59A2C5C0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862D-3BF5-4661-B63E-FBCA06EA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48F-61ED-439B-8847-B311BBD3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ECD7-1F2E-405C-A22F-4286B5A4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779B-8711-4A5E-B2D1-DDFAA2AD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99B5-2C12-4DB5-873C-34A2994B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586C-E20A-4A24-A5CA-977FBA1A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F326-571F-49D8-84F5-4B9C3C35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C8B8E-7F85-43F8-BB5F-A475C113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5B86A-3942-4812-8D54-69C4EE0E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E2E88-0F66-493A-A20C-FB79A2A7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A63ED-A135-476C-A922-E309D9BC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7DF4F-447C-443B-8283-D0E84FF9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FD1-94D1-440C-8E5D-3E6CCDFB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E0C33-39C7-4EAF-B1F9-101FE78E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253C0-FBE1-4F14-BDDC-91EA1EFD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CBF3-F2E1-4866-9D3E-08DADB3E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CBD32-B3D7-4131-9AC0-64DC01B2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53C22-A0C5-468A-A2F6-D2080AC6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A1D0D-06FD-40BF-B152-F6D4507B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9D15B-FDCA-41F4-B083-2EFE8081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EFE4C-E07E-4ECD-9221-5F7F6FC1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47154-31D6-49D3-8821-53108055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BCA03-4B13-4B56-8057-CC9990F8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18C-2A3F-45CE-9081-32BECD63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E4676-39FE-4BA3-8E63-9534E126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5FB5F-6C49-4C7D-B44F-62578176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F3619-5C8E-4057-835F-E1C61E3F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07B58-833E-4E07-9124-2AF0DCE1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51289-61AD-447C-A67D-235B0AA2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F5DAE-5BBF-42CB-8A04-98063877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EE135-344F-4E0B-A2B7-AFD1534E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9A7F1-BD9E-4BEE-AB5D-8715149E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1620F-A860-44BF-85C0-6998E8DB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4F898-C63D-4ACD-B72E-752BD90A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A7A-81FF-4E61-BC64-D8931AE5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54FDB-6165-448C-A26B-CF4DC5C3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A5E06-BD46-42BD-8A56-34C37194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5CB13-142F-406B-BCCA-9A0C2874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985CA-BEC2-4147-8DB7-0AD8B16D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E3B1C-F55C-4375-BFC3-EF97EDC7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D5F03-F836-43C5-AFA2-1248EFAD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37FC7-1AED-4E65-B002-2CF259E8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A25F2-E996-4454-9E56-5D7F1096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394B9-86E0-43CD-AE3A-7F2FAE90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003AC-BE48-45B7-A20E-EC8C5348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778-D8DE-40E1-AC8E-C21688F9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423E3-8DF8-4ED4-98E2-AB53540F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13E9F-6235-478B-8A37-7A9CBCF5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E6806-8F1D-4245-B17F-10C0240F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29159-0A13-4B75-B6A9-3C5B0BBD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061C4-8C95-45B1-A6AA-D850B4D2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60565-83DA-4C17-BC8E-7A3B688F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90E46-3DC1-468C-8DB8-81D3A154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E88F5-EF2B-45BF-90C1-08A2B45A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8C5CF-2EC4-4D70-AC1E-A30B159E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699F1-2944-4A49-AFE1-1CF93A35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116-02B7-4777-8859-96513B85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E58FF-DE52-48DE-A2B5-3C097938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30250-0039-4331-82BE-9546A510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A8C23-06F3-49F3-A3A9-B8300B64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23F84-8E00-4477-A46A-0466EA22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C4202-B462-42A6-A111-B359D17E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9FC6C-A784-476E-A110-DDCB511D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6E3AF-36F5-4A3D-B10A-2C669C53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A49B3-A6B4-45B3-855F-FBB3BE62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39DBE-C7D2-4A5C-B7B8-1058144A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86490-D2C9-4E5F-8B2A-5CA9745A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6E1-7F1F-4C21-8C0E-5F592F77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3DF21-A0A9-47CF-A723-A3A6E5BC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776EF-3405-47B5-843C-4CB49EB1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63FC7-2C70-42FA-B035-65D084B9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A1AAA-7478-4344-ABBA-FF138652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DA46A-5DFA-4F4E-8807-17E2D731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81CFA-5846-4986-A59D-1CBDAFD5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FEBA2-A8F9-4A2D-AD89-223697C9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F21C5-277C-478A-9F35-9084CF37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6D62C-663A-42EB-94D4-3282DB7A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708EA-B6CA-4829-9305-F5FC7BBA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BE0-49D9-4FCE-8D3B-72C621BC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4FABE-EDF7-46E7-B193-974B3CA3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862C9-3672-4DE3-9BF7-475E88AB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CB018-1748-4DC3-B45D-1CBFBB3B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C3A44-022E-4800-BCE5-F264C66F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A62AD-622A-474A-97B6-A900B576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400FE-B6D3-452C-B0B9-35269571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3EC5A-DF13-4E20-BFE3-4EF02876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F91BC-CF5E-4A0A-B038-83AB446D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8EDFE-CF1A-4BB9-B914-83443E1C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758FB-8EAF-4B44-98C9-764B9988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CD3F-D8FA-4F6A-89CD-C06BD3386D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0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82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A5B2-C173-4F49-9F6F-38B4D29C9E9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4887-D676-47FB-8CDB-52BA4DD195EB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E0AA-128E-48BB-A0CF-EDFA6E5B45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8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440B-C5BD-49CB-93D3-8951B1319CA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5BEF-143A-4266-A33B-304117DB861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2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4E39-A175-4D22-9E17-945594C9B36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7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7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8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8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30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193C-66BF-4B73-B37A-BB3438E554D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675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E1B5-B240-4125-9298-860CA3D452C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1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2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4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0EDE-9D7C-49FE-8655-96FF9F04608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Площадь четырёхугольника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пова Татьяна Андр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лощадь прямоугольн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орема о площади прямоуголь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и в – рациональные чис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"/>
          <p:cNvSpPr/>
          <p:nvPr/>
        </p:nvSpPr>
        <p:spPr>
          <a:xfrm>
            <a:off x="1692360" y="4292640"/>
            <a:ext cx="3024000" cy="18730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897640" y="38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241640" y="51768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площад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лощадь квадрата со стороной 1 равна 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лощадь фигуры равна сумме площадей её частей из которых она состои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вные фигуры имеют равные площад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2698920" y="4581360"/>
            <a:ext cx="72720" cy="7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419640" y="4724280"/>
            <a:ext cx="1512720" cy="72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276720" y="4653000"/>
            <a:ext cx="1800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лощадь параллелограмм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лощадь параллелограмма равна произведению её стороны на высоту проведённую к этой сторон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"/>
          <p:cNvSpPr/>
          <p:nvPr/>
        </p:nvSpPr>
        <p:spPr>
          <a:xfrm>
            <a:off x="3203640" y="4365720"/>
            <a:ext cx="3025800" cy="1368360"/>
          </a:xfrm>
          <a:prstGeom prst="parallelogram">
            <a:avLst>
              <a:gd name="adj" fmla="val 55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995640" y="43657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851280" y="58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84328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760920" y="4024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210720" y="40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418360" y="575316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97692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76928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282000" y="4960800"/>
            <a:ext cx="7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лощадь трапе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щадь трапеции равна произведению полусуммы длин её оснований на высот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"/>
          <p:cNvSpPr/>
          <p:nvPr/>
        </p:nvSpPr>
        <p:spPr>
          <a:xfrm>
            <a:off x="1763640" y="3789360"/>
            <a:ext cx="1513080" cy="1295280"/>
          </a:xfrm>
          <a:custGeom>
            <a:avLst/>
            <a:gdLst>
              <a:gd name="textAreaLeft" fmla="*/ 332640 w 1513080"/>
              <a:gd name="textAreaRight" fmla="*/ 1180440 w 151308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436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394000" y="33764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 flipV="1">
            <a:off x="2123640" y="3789360"/>
            <a:ext cx="7164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05092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066760" y="44258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066760" y="4354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30400" y="428292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74760" y="428292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034000" y="38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429080" y="393372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=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+в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Задачи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найдите сторону квадрата, площадь которого равна площади прямоугольника со сторонами 8 см и 18 с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Стороны параллелограмма равны 4,2 см и 5,6 см . Высота, проведённая к большей стороне, равна 3,3 см. Вычислите вторую высоту этого параллелограмм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7:28:11Z</dcterms:created>
  <dc:creator>intel3</dc:creator>
  <dc:description/>
  <dc:language>en-US</dc:language>
  <cp:lastModifiedBy>Pavel Naumov</cp:lastModifiedBy>
  <dcterms:modified xsi:type="dcterms:W3CDTF">2005-06-09T19:27:19Z</dcterms:modified>
  <cp:revision>10</cp:revision>
  <dc:subject/>
  <dc:title>Площадь четырёхугольника</dc:title>
</cp:coreProperties>
</file>