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370-0F09-4CA3-A521-6E532269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2DC-16AB-4D9F-A689-163A15C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C895-D268-4784-8C55-94568F1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57302-482A-434C-BE5F-AF94F4AD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7C57-8C95-48B0-89F7-9ADA4CD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2DFBA-6743-4635-ABFC-018796B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A373-FA7D-40EE-8651-AD4B84A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3B4A-D0B4-4A8F-9F89-FEBC0C5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0FC43-D2C2-4DE3-A8F2-E2CC2FA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76C81-EC0A-4593-983F-7FF507BB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8EDF4-A5F6-4F1A-94CA-CBC1E4CC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AB32-FD28-46C4-8F3F-6ADACE8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4C2-F7ED-4F63-B0C4-2BCA8683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05203-279A-4572-ABB3-4379DFB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6B72-4ECA-4C67-BF94-7F989BD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206E2-21A2-44F4-84B0-F10F091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361B9-5161-43CC-9532-93298B4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35F66-4018-49FD-B0F8-215408C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2F4DB-AA0F-49CC-BFD9-8494695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74ACB-3E05-4CF1-9F6A-91C2836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C783-30D4-473B-879C-9635E16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C6C3F-7023-4838-9D72-EB719C4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C43D9-34D1-48C8-AF9C-7F77BFF3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E9E-43F1-4FD7-B614-71C6276C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307A4-DE28-4172-A110-2BBE1E3E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1A0-1396-427D-A009-E539612E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F899-EC9A-457E-BF73-443F33AC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BDEC-1563-4130-A97F-A9BDC68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D1A-CA5C-404F-BD7B-978E3399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A5B8-16CC-4023-BDF3-F36627BE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FA6-8120-4DD7-A424-4052B34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C2E4-4A4B-447C-AB43-B89F0C7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AAB-6827-433E-B5F8-CFA4E05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4C1E-2D29-4C9E-BEFA-76B9F8D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C0FC-5051-4818-B892-461076F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838F-E3CA-41FB-A9AA-4FC9CFE6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2BE-6AD8-41AA-8F19-EB651D39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E78-6BF7-4CED-A17C-713D129B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725E-E8E4-4E6A-87D1-AC0C9033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2404-4FD1-45E8-8D99-A13F13C0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A694-E4AB-4C78-AF02-C4D760C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D0DB-B672-4A58-BE92-1BCB9E9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3E80-1328-4733-994D-3E1C983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C40-79E8-47B8-AA11-4F4EC06A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82AC-1525-451A-96B1-08F028A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0CF1-0FF0-4323-8A98-47B3F7E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D99D-1777-409D-A519-601C858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AB4F-F576-46F8-8FF0-7F67C3D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4425-E3D6-4CCB-BCFD-BA1397BB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A17E-344A-4DA2-852B-66EC4F9F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DA94-07E3-4BB1-A55F-452D86C3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E39E-486D-4FCC-9463-C0AEE060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E28E-CA30-4565-822D-9C9CCB72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F029-9D9D-4C92-8462-61ED814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F2C-5F21-4673-B416-175FBC0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02B7-E959-4596-A2BD-17D70DB5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0CCF-159B-4429-9B85-DF46797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D7FB-FE0A-4B08-89B9-340A1F4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70B53-A670-413B-90AA-3517C7A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E6E3-5786-46CD-98A2-86BF2CC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8364-1898-47D7-AB6E-014BD53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4A51-BA16-4922-9187-77766ECB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B47C-6B5C-4BE4-AE12-2FBC6736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6A73-4C36-46BA-83FD-40AED808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239F-AB60-4172-9A03-27F2BFF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6C2-6738-4A9B-AB24-4F2C9BB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1DA0D-737E-488F-B5AF-109490A8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83C7-C053-4642-A664-8E9FCA0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0595-12DE-402C-8F82-099F1A10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5BD3-F551-4997-9D39-26E8860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A549-AA92-4F4F-AC10-9FD04854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E7B6-E9D5-4BB2-B693-B001A0E6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7138-6EEC-4517-859B-8F70B87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130A-4385-4A7E-A5DA-D752E9C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A62F-10A8-4C16-871E-17E7A28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04CC-B3EE-443C-8DD8-A1279E7B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CC4-8253-4BD6-A8D8-D0DDB440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0C45-68B9-4B50-AC38-F05969B3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9E2D-81F0-4378-8A9F-58C6AF68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00A5-86D2-4263-B1EE-87672F37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EA24-F791-4924-B65A-04794A1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F5A6-62A4-45CF-8C34-0BB5129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64E8-8772-4EFD-A05F-CFF756B8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9575-C5D5-4537-A74E-9C63EE4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68FF-26CD-42FB-B811-296BC54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24A3-A79D-4E97-A8A7-C2210E3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3B8B-3003-4AB1-AF26-191ABE6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3F9-771E-4D2A-9C46-8DE34AC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F79F-8CF2-472E-A070-18B8F86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9895-C1F6-449F-A302-62518FFE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38BF5-BD26-4860-895C-90141699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2822-C0D4-468C-9D12-C4C4571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3167-86DF-40A0-A374-08B6633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F7C9B-4E07-484C-8B45-92CC5C0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EA507-ACB5-471A-8404-D12D6DD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BBD4-AFAE-4C7B-8BF7-482CA99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1400-74AC-4D8A-AD90-ADDA98F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2919-ADF1-4BA3-8F63-024DAF6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F79-0A6A-42A2-B8D0-D14F421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58E4-9828-4AFA-85CA-A47C4773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4A1EE-0ACB-4C9B-BB8D-12AA72E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19981-1C42-4B50-8DE7-0DE92644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D25A-F75B-4180-8ADF-A2CA0409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7DF9-F9E1-4F83-A1B8-AE740F3D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2EB3-0076-4611-AA02-C00636F2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D91E1-8993-40AE-A341-B9B2AB4B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FDCD0-D9F1-4CBE-9FDB-9992CD8A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F2DF-23F3-466A-B6EA-5240DBD8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9522-A958-4895-8269-549F0E5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3C0-B2A3-4A15-85E3-CCC963D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EC4F-3AF8-4C4B-9661-C4CA7D6C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2DD5-F26F-4922-8E37-A9218EE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7F8EE-1B6C-45CB-9BC3-7601CA7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B1F8-811D-4F9C-8FB2-CC06397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217CE-EFE1-47ED-B8FA-5D5D9CD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19E6-23F9-4AE7-A7FE-A9C760CC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B07A-E542-4842-AA27-425DA0C3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EEEF2-1113-46BF-BB4F-8C28ECFA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D980E-48EF-41EC-97CA-CCE8952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7E533-816B-4C1D-ABEE-14F81202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0FA-D71D-4C13-838A-926B65788C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0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BBA-582B-4296-8A72-79AA1B6A480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FA2-12CF-45D0-BE48-EEFB80EE5ECA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05AB-6F33-4158-A300-F16302E793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9AEB-87AE-4738-A41D-2C37861B8BE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BAE-58C0-4D6D-9999-D29F4CFE31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648-878C-42E1-95F8-307C48E6740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3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F4E-7F1F-48A3-A1EE-5AB35DBC2B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7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899-A1E5-4AE8-8E66-473FCF5413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1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FAA-A859-4139-90BE-2781C345661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Площадь четырёхугольни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пова Татьяна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ощадь прямоугольн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ма о площади прямоуг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и в – рациональные чи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"/>
          <p:cNvSpPr/>
          <p:nvPr/>
        </p:nvSpPr>
        <p:spPr>
          <a:xfrm>
            <a:off x="1692360" y="4292640"/>
            <a:ext cx="3024000" cy="1873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897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41640" y="51768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лоща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квадрата со стороной 1 равна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ощадь фигуры равна сумме площадей её частей из которых она состо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вные фигуры имеют равные площ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698920" y="4581360"/>
            <a:ext cx="72720" cy="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419640" y="4724280"/>
            <a:ext cx="151272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653000"/>
            <a:ext cx="1800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ощадь параллелограм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лощадь параллелограмма равна произведению её стороны на высоту проведённую к этой сторон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"/>
          <p:cNvSpPr/>
          <p:nvPr/>
        </p:nvSpPr>
        <p:spPr>
          <a:xfrm>
            <a:off x="3203640" y="4365720"/>
            <a:ext cx="3025800" cy="1368360"/>
          </a:xfrm>
          <a:prstGeom prst="parallelogram">
            <a:avLst>
              <a:gd name="adj" fmla="val 55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99564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5128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4328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6092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21072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8360" y="57531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7692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769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282000" y="4960800"/>
            <a:ext cx="7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ощадь трапе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щадь трапеции равна произведению полусуммы длин её оснований на высо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"/>
          <p:cNvSpPr/>
          <p:nvPr/>
        </p:nvSpPr>
        <p:spPr>
          <a:xfrm>
            <a:off x="1763640" y="3789360"/>
            <a:ext cx="1513080" cy="1295280"/>
          </a:xfrm>
          <a:custGeom>
            <a:avLst/>
            <a:gdLst>
              <a:gd name="textAreaLeft" fmla="*/ 332640 w 1513080"/>
              <a:gd name="textAreaRight" fmla="*/ 1180440 w 15130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436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4000" y="33764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123640" y="3789360"/>
            <a:ext cx="71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09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66760" y="4425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66760" y="435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3040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74760" y="4282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3400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29080" y="39337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=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+в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Задач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найдите сторону квадрата, площадь которого равна площади прямоугольника со сторонами 8 см и 18 с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тороны параллелограмма равны 4,2 см и 5,6 см . Высота, проведённая к большей стороне, равна 3,3 см. Вычислите вторую высоту этого параллелограм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28:11Z</dcterms:created>
  <dc:creator>intel3</dc:creator>
  <dc:description/>
  <dc:language>en-US</dc:language>
  <cp:lastModifiedBy>Pavel Naumov</cp:lastModifiedBy>
  <dcterms:modified xsi:type="dcterms:W3CDTF">2005-06-09T19:27:19Z</dcterms:modified>
  <cp:revision>10</cp:revision>
  <dc:subject/>
  <dc:title>Площадь четырёхугольника</dc:title>
</cp:coreProperties>
</file>