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EE3-26B0-406C-95EB-C3A1782E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6A9-C6B7-433B-AE12-EBA0B75A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E5DFA-6726-4558-8790-4749CE85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5EACA-D3A3-458E-B239-F449EC64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D8066-428B-4180-BDF5-E56FEA54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2CB18-62D8-4738-B6A3-3B001B0C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A11B4-7EC5-44C0-8439-73A74314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74F9D-5413-4AA9-8B73-4B67E883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1302F-A541-401E-8BF5-758998D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2C14E-03DB-4DA8-A155-40666840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52D3B-AA24-4CF0-928B-DF9296EE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F12FD-7E0D-404D-AA9C-E030C1CA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09E-926C-4449-8351-9A06048D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FBD59-5290-4400-AC50-6041B06E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87473-2D11-4862-B0C3-5A3F7906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1B138-079A-4DB4-8EDA-2A690192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AFD9F-58AB-471F-AD1C-3F7A6C1F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FFF3C-8E9C-4EE3-B89F-4DFF69D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DC342-E459-4C23-903B-86A336A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428D1-5BA7-4918-B456-BD199117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028F7-E27E-4611-B7F5-851084C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CF315-FD5D-45B7-9094-FC0E38B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92DE8-A358-4E18-AA52-322E0C5C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8B2-87B4-4F01-9DB0-B3BF3DDC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EB1DB-BFB1-428E-B4FF-DFAEF8E7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224F-CA0D-4626-BFDA-950AB274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B955-EDAA-4679-924C-20CE80B7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84DD-6D60-433F-AF02-937A35C8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9BF1-E766-411C-A26A-8E310246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8767-D6A8-48B1-B5D3-F36B26E9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6361-597C-45FC-845E-639A58F7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B7F0-F544-4965-B9F0-99CF2BD2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602-EA47-48C5-A633-B08C56BC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6933-43C8-4AA5-8C3D-93816ACC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903C-4243-4B68-AD92-383BA656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812F-8428-4A2F-AEA3-7A0F8A1C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0263-DB15-4B89-BF4F-63D77CB1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5D2D-DB90-4B80-8C5B-0AC9797E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3FEA-2D76-4796-AF7D-ED8536E2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B6948-ACC9-4212-B276-B780570D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78F2-8A80-4875-A601-81DD8AF2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0CE0-1085-45DB-9497-02C78EC5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49FB-A671-44E7-B9E9-AAA2B475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703-4758-4A32-B935-84A5E503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5334-2849-4E3C-BEA1-D32A8398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874D-B244-4566-AC70-48C57BB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40B6-E9CA-472E-A5F8-0BCBC81F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F1ED6-737F-4F21-B109-07AF5B5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E474-342F-4F59-B54A-CD188BD5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A760-2DA0-4B1F-8116-B1340CA9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09E2-74A8-48FE-A1D2-F5A72AB3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B795-C69A-4DFC-A527-6A080998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C442F-30B9-4845-836C-FD3D72B9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880D-1BCF-4E78-96B4-A96AFA49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F57-B3FA-40E4-85A5-E9C10017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E1D3-752F-4FD8-A122-402A2187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78D2-240E-440F-B748-583B68FB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E9CC-1207-41B0-AE2C-895C479B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8C02-BEDA-4D45-9F15-22C37CC3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5456-405B-4C9C-8DA2-22B8E54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C4F4-5AEA-4AAC-B31A-67368D3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1DF6-612C-45D5-953F-69A563F5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EE6AD-BD65-48FA-AA12-3741401E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306F3-9EC9-451B-81C9-B4EECD04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500D-E5C4-4D26-9979-918BED46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122-4E1B-4A76-8298-B206719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697DE-B820-42D1-B84D-FCD7ED6E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AC15D-78D9-43FE-958B-FBED78B7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1A40E-E405-4AAF-A568-ADE41198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B290-483E-4227-8786-9FFD0F94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D5DD-C796-40E6-B558-0E4BB2EB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8C18A-40C1-4984-BC15-1177A628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82AA-B78F-492B-AB6A-BDC14B8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A2CE5-5B14-4FA3-B18B-0812D5B3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C9FC6-FEF2-4E92-8AD3-D0CA6A2B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78978-8E4C-4045-9311-D5DEEFE5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8D2-360E-479C-A241-933BFAF9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D804A-AC76-495A-9C72-669913B2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B2DB-B8BD-44DB-A997-1C5A7564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3CD6-1376-4564-BF69-D315DE07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0E7E-37D7-4936-A2BB-E37A97E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7BC77-5E2E-4507-B260-42D1BDA1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F5CFF-79CB-459C-AE45-4D1A69F5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53B72-92E2-460E-AEA4-DCCDC5D7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DA6BD-2693-4D8B-AE20-6082F8B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DF1E4-1B28-476C-A378-FABAE9B6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A6E1-607B-42ED-BB66-AA9F6D3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50A-3488-431B-AB59-F7AB7F6B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581B0-1E49-49C3-90D5-03C88981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18274-8030-4AF2-8CF4-14A6CCF1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4BA39-F499-49AE-B236-3B966CFE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5FB0A-CAF1-4C94-AF46-6575711E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DB735-E801-42B5-BD9D-DF2813E7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39667-EE89-4150-8394-34F5E03E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3B4B3-3D15-4B48-AFBE-9602FF8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C2BB7-03B4-4176-ACB8-F6439C89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6E955-8D93-4D76-B8C8-30751452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BCCE2-5A55-49F7-A1CE-DBCF40C5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346-A80E-40C5-8049-30BAEB44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68AB-8EF9-4DFF-9D0B-6EF8058D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B37D-092A-4F68-BDBC-AB0DB97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ADC6D-5AFD-4B38-AA8E-7DF79448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33467-47B4-406E-B309-C6E8A635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A20BF-EF6F-4F1E-9F10-6FEB87E2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F94CA-F34D-4BEA-A32D-5561992D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6A614-68B8-412B-BCE5-C24ADCC7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15BCA-01D4-4198-9133-42F6E36C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D329D-2576-42A8-9A5C-F4CF4FB8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1126-43F2-4AEB-BD90-F4655B9D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9AC-293C-4D4C-B95F-88F726E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E887B-DDF5-4D68-B08B-0F82FE23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F3872-85D7-4EC2-9B0E-38D991C0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8CB8D-DABA-4582-91ED-E5983CF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1306F-5FDC-431C-9063-C9C62648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3805D-84D7-4687-8804-B135031D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C6A88-C0D6-4459-8AF3-C96F0E09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1AA6F-9846-46AE-A1A4-E09E5E90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49471-4DE4-4EB1-B894-B9869759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C594D-DB2F-4A84-BD5E-41153D14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3AB8D-3BEF-4479-A2C6-0F758447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2CA3-EA4A-4E36-9FE3-12C57294AF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0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6D0A-2D7A-40D1-B630-624A68D28BA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49F8-FC5C-46D1-8A52-EB6B170766F7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C774-7DB5-40C8-B999-7656B782CC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2B1F-F69E-43AE-93E8-EA5174938EA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F10-19AC-457F-8F21-DE3FFEB8F53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2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BBFA-5194-4D62-BF3A-A8AC97162BE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7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8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8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3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DBFF-595C-4BB2-9935-D752829E3A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67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7FE1-B9D5-4E53-A548-40FAA13E015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1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2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4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A219-008E-4B7F-8CFF-CA0C100485C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Площадь четырёхугольни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пова Татьяна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лощадь прямоугольн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орема о площади прямоуго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и в – рациональные чис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"/>
          <p:cNvSpPr/>
          <p:nvPr/>
        </p:nvSpPr>
        <p:spPr>
          <a:xfrm>
            <a:off x="1692360" y="4292640"/>
            <a:ext cx="3024000" cy="1873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89764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41640" y="51768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площа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ощадь квадрата со стороной 1 равна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ощадь фигуры равна сумме площадей её частей из которых она состои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вные фигуры имеют равные площа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2698920" y="4581360"/>
            <a:ext cx="72720" cy="7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419640" y="4724280"/>
            <a:ext cx="151272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276720" y="4653000"/>
            <a:ext cx="1800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лощадь параллелограмм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лощадь параллелограмма равна произведению её стороны на высоту проведённую к этой сторон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"/>
          <p:cNvSpPr/>
          <p:nvPr/>
        </p:nvSpPr>
        <p:spPr>
          <a:xfrm>
            <a:off x="3203640" y="4365720"/>
            <a:ext cx="3025800" cy="1368360"/>
          </a:xfrm>
          <a:prstGeom prst="parallelogram">
            <a:avLst>
              <a:gd name="adj" fmla="val 55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995640" y="4365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5128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4328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60920" y="402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21072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418360" y="575316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97692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769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282000" y="4960800"/>
            <a:ext cx="7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ощадь трапе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щадь трапеции равна произведению полусуммы длин её оснований на высот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"/>
          <p:cNvSpPr/>
          <p:nvPr/>
        </p:nvSpPr>
        <p:spPr>
          <a:xfrm>
            <a:off x="1763640" y="3789360"/>
            <a:ext cx="1513080" cy="1295280"/>
          </a:xfrm>
          <a:custGeom>
            <a:avLst/>
            <a:gdLst>
              <a:gd name="textAreaLeft" fmla="*/ 332640 w 1513080"/>
              <a:gd name="textAreaRight" fmla="*/ 1180440 w 15130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436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394000" y="33764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2123640" y="3789360"/>
            <a:ext cx="716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05092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066760" y="4425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66760" y="4354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30400" y="4282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74760" y="4282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3400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429080" y="39337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=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+в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Задачи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найдите сторону квадрата, площадь которого равна площади прямоугольника со сторонами 8 см и 18 с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Стороны параллелограмма равны 4,2 см и 5,6 см . Высота, проведённая к большей стороне, равна 3,3 см. Вычислите вторую высоту этого параллелограм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28:11Z</dcterms:created>
  <dc:creator>intel3</dc:creator>
  <dc:description/>
  <dc:language>en-US</dc:language>
  <cp:lastModifiedBy>Pavel Naumov</cp:lastModifiedBy>
  <dcterms:modified xsi:type="dcterms:W3CDTF">2005-06-09T19:27:19Z</dcterms:modified>
  <cp:revision>10</cp:revision>
  <dc:subject/>
  <dc:title>Площадь четырёхугольника</dc:title>
</cp:coreProperties>
</file>