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5.jpeg" ContentType="image/jpe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35.gif" ContentType="image/gif"/>
  <Override PartName="/ppt/media/image28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5E2-AF55-420B-9DAE-6C6E6510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D00-B103-4EDD-9815-58E7B72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2E8-8D06-468D-995B-BA955E2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443-FDD4-4CE3-BCA8-1123506A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A10-8D27-4F6D-981F-B82203D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801-6712-4C77-A6DB-D8C0EE66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CF7-AFC8-4C8D-9071-5206A298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670-41A7-4092-9FA6-6770E007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B8F-716F-4294-B0C8-8343635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7A0-1446-4331-AA79-2A0F4B8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603-0463-443D-965F-B7714931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69F-E597-4B28-99F8-2A5F1AC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8058-3426-4174-97C1-77517318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ramed.ru/uploads/images/1114674239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medicine/021176844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19280" y="515880"/>
            <a:ext cx="5737320" cy="5715000"/>
            <a:chOff x="1619280" y="515880"/>
            <a:chExt cx="5737320" cy="5715000"/>
          </a:xfrm>
        </p:grpSpPr>
        <p:sp>
          <p:nvSpPr>
            <p:cNvPr id="42" name=""/>
            <p:cNvSpPr/>
            <p:nvPr/>
          </p:nvSpPr>
          <p:spPr>
            <a:xfrm>
              <a:off x="1619280" y="515880"/>
              <a:ext cx="5737320" cy="57150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009960" y="1171440"/>
              <a:ext cx="2878200" cy="843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ГОУ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Ц С Т А и П 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2700360" y="4797360"/>
              <a:ext cx="36003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"Академический"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ЮЗОУО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268360" y="4149720"/>
              <a:ext cx="4607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ервая доврачебная помощ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330640" cy="25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0" y="321300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76720" y="907560"/>
            <a:ext cx="5616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Этот способ дает возможност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дготовиться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к основательному прекращению кровотечения, подготовить жгут, закрутк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ижимать артерии к костным выступам лучше всего в определенных, наиболее удобных для этог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чках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где хорошо прощупывается 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жат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артерию можно большим пальцем, ладонью, ребром ладони, кул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414440"/>
            <a:ext cx="2016000" cy="4821120"/>
            <a:chOff x="468360" y="1414440"/>
            <a:chExt cx="2016000" cy="48211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68360" y="1414440"/>
              <a:ext cx="2016000" cy="2016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68360" y="4076640"/>
              <a:ext cx="1996920" cy="2158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39" name="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льцевое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рижатие кровоточащего сос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240360" cy="30812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240000" cy="21733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"/>
          <p:cNvSpPr/>
          <p:nvPr/>
        </p:nvSpPr>
        <p:spPr>
          <a:xfrm>
            <a:off x="4211640" y="4365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шее и голове</a:t>
            </a:r>
            <a:r>
              <a:rPr b="1" lang="ru-RU" sz="2800" spc="-1" strike="noStrike">
                <a:solidFill>
                  <a:srgbClr val="f4997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чка прижатия артерии должна бы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иже раны или в ра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052640"/>
            <a:ext cx="511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конеч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чка прижатия артерии должна быть выше места крово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очки</a:t>
            </a:r>
            <a:r>
              <a:rPr b="1" lang="en-US" sz="2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рижати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терий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 при кровоте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6335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8" name=""/>
          <p:cNvSpPr/>
          <p:nvPr/>
        </p:nvSpPr>
        <p:spPr>
          <a:xfrm>
            <a:off x="4284720" y="1557360"/>
            <a:ext cx="43196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- вис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 - наружной челю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- локт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 - лучевой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 - плеч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 - подмыш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 - бедр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8 - задней больше-берцовой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9 - передней большеберц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0 - правой с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1 - подключичной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211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606"/>
                </a:solidFill>
                <a:latin typeface="Arial"/>
              </a:rPr>
              <a:t>Максимальное сгибание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981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изводят в суставе выше раны и фиксируют конечность бинтами ( подручными средствами) в таком положении. Максимальное сгибание конечности можно сохран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 более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229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ранении плечевой артерии ее прижимают пальцем к кости по внутреннему краю двуглавой мыш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530064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едренную артерию прижимают к бедренной кости по внутреннему краю четырехглавой мыш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592360" cy="25905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808000" cy="25128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06728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836640"/>
            <a:ext cx="5689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e41606"/>
                </a:solidFill>
                <a:latin typeface="Arial"/>
              </a:rPr>
              <a:t>Кровотечение из бедренной  артери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навливают сгибанием нижней конечности в тазобедренном суставе, предварительно поместив в паховую область валик. После остановки кровотечения бедро фиксируют ремнем к туловищу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751120" cy="26146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3851280" y="33321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2801880" cy="26128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1" name=""/>
          <p:cNvSpPr/>
          <p:nvPr/>
        </p:nvSpPr>
        <p:spPr>
          <a:xfrm>
            <a:off x="3203640" y="4005360"/>
            <a:ext cx="54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овотечение из ран ниже колена</a:t>
            </a: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навливают уложи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страдавшего на спину, а  в подколенную область помещают ватно-марлевый валик, бедро приводят к животу, а голень сгибают и фиксируют к бедру бинтом или рем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958840" cy="2484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4" name=""/>
          <p:cNvSpPr/>
          <p:nvPr/>
        </p:nvSpPr>
        <p:spPr>
          <a:xfrm>
            <a:off x="3564000" y="476280"/>
            <a:ext cx="53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овотечение из верхней части плеча и подключичной области останавл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заводят оба плеча за спину со сгибанием в локтевых суставах, после чего их связывают с помощью бинта (ремня и т.п.). В этом случае сдавливаются артерии с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884320" cy="24066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"/>
          <p:cNvSpPr/>
          <p:nvPr/>
        </p:nvSpPr>
        <p:spPr>
          <a:xfrm>
            <a:off x="3564000" y="3573360"/>
            <a:ext cx="54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вотечение из ран предплечья и кисти останавл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 сгибательную  поверхность локтевого сустава укладывают ватно-марлевый валик  (валик из материи), затем руку максимально сгибают в локте, притягивая с помощью бинта или ремня предплечье к плечу. В таком положении руку фиксируют бинтом (ремн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наложения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овоостанавливающего жг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836640"/>
            <a:ext cx="53290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кладывать жгут только на одежду (если одежды нет - подложить под  жгут тк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гут затягивать только до остановки кровотечения, далее затягивание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 ранении кисти, предплечья, локтевой области - жгут накладывать в верхней трети пл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 ранении нижней конечности - жгут накладывать в средней трети бе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 жгут положить записку с указанием   времени и даты  его на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гут может находиться на конечности  не более чем  1,5 - 2 часа, а в холодное время года – 0,5 - 1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иодически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ерез 30 - 60 мину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гут следует ослабить  на несколько минут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на это время пережать сосуд выше жгута пальцем),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ложить вновь, но уже с большим натя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0920" y="836640"/>
            <a:ext cx="2808360" cy="5761080"/>
            <a:chOff x="250920" y="836640"/>
            <a:chExt cx="2808360" cy="5761080"/>
          </a:xfrm>
        </p:grpSpPr>
        <p:grpSp>
          <p:nvGrpSpPr>
            <p:cNvPr id="171" name=""/>
            <p:cNvGrpSpPr/>
            <p:nvPr/>
          </p:nvGrpSpPr>
          <p:grpSpPr>
            <a:xfrm>
              <a:off x="250920" y="4005360"/>
              <a:ext cx="2808360" cy="2592360"/>
              <a:chOff x="250920" y="4005360"/>
              <a:chExt cx="2808360" cy="259236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005360"/>
                <a:ext cx="2808360" cy="259236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73" name=""/>
              <p:cNvSpPr/>
              <p:nvPr/>
            </p:nvSpPr>
            <p:spPr>
              <a:xfrm>
                <a:off x="395280" y="6093000"/>
                <a:ext cx="25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ксирование жгут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50920" y="836640"/>
              <a:ext cx="2808360" cy="2868480"/>
              <a:chOff x="250920" y="836640"/>
              <a:chExt cx="2808360" cy="286848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836640"/>
                <a:ext cx="2808360" cy="272556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76" name=""/>
              <p:cNvSpPr/>
              <p:nvPr/>
            </p:nvSpPr>
            <p:spPr>
              <a:xfrm>
                <a:off x="468360" y="2997360"/>
                <a:ext cx="24480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астягивание жгут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372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35280" y="765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1125360"/>
            <a:ext cx="4537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ля предупреждения ущемления кожи под жгут подложить одежду (или тк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вести жгут за поврежденную конечность выше раны и растянуть с максимальным усил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жать первый тур жгута и убедиться в отсутствии пульса на артерии,  ниже наложенного жг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следующие туры жгута с меньшим усил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жгут затягивать только до остановки кровотечения, далее затягивание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ернуть петлю–застежку вокруг жг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ттянуть петлю и завести под свободный конец жг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 жгут положить записку с указанием   времени  его наложения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Техника на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овоостанавливающего жг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005360"/>
            <a:ext cx="4356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ПОМ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 правильно наложенном жгу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ровотечение из раны прекращ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чезает пуль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леднеют кожные покровы ниже места его налож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87640" cy="2546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3492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Подручные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5261400">
            <a:off x="5774040" y="2577240"/>
            <a:ext cx="3271680" cy="1346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1268280"/>
            <a:ext cx="64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 отсутствии фабричного жг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го можно заменить импровизированны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зиновой труб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алсту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м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ясом, платком, бинт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ледует использовать</a:t>
            </a:r>
            <a:r>
              <a:rPr b="1" lang="en-US" sz="2400" spc="-1" strike="noStrike">
                <a:solidFill>
                  <a:srgbClr val="f68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л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 rot="5261400">
            <a:off x="6906960" y="2965320"/>
            <a:ext cx="3224160" cy="982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5732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395280" y="5229360"/>
            <a:ext cx="7632720" cy="1233360"/>
            <a:chOff x="395280" y="5229360"/>
            <a:chExt cx="7632720" cy="1233360"/>
          </a:xfrm>
        </p:grpSpPr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395280" y="5229360"/>
              <a:ext cx="3168720" cy="1224000"/>
            </a:xfrm>
            <a:prstGeom prst="rect">
              <a:avLst/>
            </a:prstGeom>
            <a:ln w="28440">
              <a:solidFill>
                <a:srgbClr val="f49974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4859280" y="5229360"/>
              <a:ext cx="3168720" cy="1233360"/>
            </a:xfrm>
            <a:prstGeom prst="rect">
              <a:avLst/>
            </a:prstGeom>
            <a:ln w="28440">
              <a:solidFill>
                <a:srgbClr val="f49974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92" name=""/>
            <p:cNvSpPr/>
            <p:nvPr/>
          </p:nvSpPr>
          <p:spPr>
            <a:xfrm>
              <a:off x="1353960" y="5310360"/>
              <a:ext cx="11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алсту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0360" y="531036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с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3924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5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5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Остановка кровотечения с помощью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друч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5013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ясного ремн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 качестве жгута:   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а, б, в, г – этапы наложения жгута;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 д, е – подготовка двойной пет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941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кру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 - сделав узел, в который просовывают палку, закручивают до остановки кровоте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 -фиксиру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219640" y="1341360"/>
            <a:ext cx="3456000" cy="3456000"/>
          </a:xfrm>
          <a:prstGeom prst="rect">
            <a:avLst/>
          </a:prstGeom>
          <a:ln w="2844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5280" y="1341360"/>
            <a:ext cx="3456000" cy="3600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ed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157720"/>
            <a:ext cx="82090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ая доврачебная помощь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мплекс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простых, срочных, но, тем не менее, очень эффективных мероприятий, которые следует проводить сразу после происшествия  в порядке сам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заимопомощ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04640"/>
            <a:ext cx="8219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ы   оказания</a:t>
            </a:r>
            <a:endParaRPr b="0" lang="en-US" sz="4800" spc="1" strike="noStrike">
              <a:ln w="1908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4160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й  доврачебной  помощи</a:t>
            </a:r>
            <a:endParaRPr b="0" lang="en-US" sz="4800" spc="1" strike="noStrike">
              <a:ln w="1908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4160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832040" cy="25192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325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3a2b"/>
                </a:solidFill>
                <a:latin typeface="Arial"/>
              </a:rPr>
              <a:t>Первая помощь 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пр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ужных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 кровоте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052640"/>
            <a:ext cx="59770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капиллярн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обычную бинтовую повяз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поднять поврежденную конечность выше уровня тул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венозн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жать кровоточащий сосуд паль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фиксировать конечность в определенн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давящую пов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поднять поврежденную конечность выше уровня тул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артериальном:</a:t>
            </a:r>
            <a:r>
              <a:rPr b="0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уются  все известные способы временной остановки кровотечений, но окончательным будет  наложение 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кровоостанавливающего жгут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56360" y="5013360"/>
            <a:ext cx="2519280" cy="1625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156996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519280" cy="155412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07672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148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1606"/>
                </a:solidFill>
                <a:latin typeface="Arial"/>
              </a:rPr>
              <a:t>Смешанное кровотечение</a:t>
            </a:r>
            <a:br>
              <a:rPr sz="4000"/>
            </a:br>
            <a:r>
              <a:rPr b="1" lang="en-US" sz="4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меет признаки как артериального, так и веноз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34136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деле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ови через ро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может быть связано с кровотечением из легких, верхних дыхательных путей, глотки, пищевода и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деление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нистой алой крови изо рт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характерно для легочного кровотечения, возникшего, например, при туберкулезе лег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Кровавая рвота»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часто возникает при язвенной болезни желудка и двенадцатиперстной кишки, если язвенный процесс разрушил кровеносный сосуд; иногда желудочное кровотечение может осложнять течение острого гастрита, опухолей желу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полне достоверным признаком кровотечения из желудка и двенадцатиперстной кишки явля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вота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держимым,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поминающим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офейную гущу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озможна рвота свежей и свернувшейся кровью; через некоторое время появля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егтеобразный стул со зловонным запахом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ич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ови в моч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свидетельствует о кровотечении из почек, мочевого пузы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211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туацио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0920" y="1413000"/>
            <a:ext cx="8497800" cy="2449440"/>
            <a:chOff x="250920" y="1413000"/>
            <a:chExt cx="8497800" cy="2449440"/>
          </a:xfrm>
        </p:grpSpPr>
        <p:sp>
          <p:nvSpPr>
            <p:cNvPr id="212" name=""/>
            <p:cNvSpPr/>
            <p:nvPr/>
          </p:nvSpPr>
          <p:spPr>
            <a:xfrm>
              <a:off x="250920" y="1413000"/>
              <a:ext cx="8497800" cy="2449440"/>
            </a:xfrm>
            <a:prstGeom prst="roundRect">
              <a:avLst>
                <a:gd name="adj" fmla="val 10889"/>
              </a:avLst>
            </a:prstGeom>
            <a:solidFill>
              <a:srgbClr val="e7f4f5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39640" y="1844640"/>
              <a:ext cx="1079640" cy="1800000"/>
              <a:chOff x="539640" y="1844640"/>
              <a:chExt cx="1079640" cy="1800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39640" y="1844640"/>
                <a:ext cx="1079640" cy="1800000"/>
              </a:xfrm>
              <a:custGeom>
                <a:avLst/>
                <a:gdLst>
                  <a:gd name="textAreaLeft" fmla="*/ 37440 w 1079640"/>
                  <a:gd name="textAreaRight" fmla="*/ 1042200 w 1079640"/>
                  <a:gd name="textAreaTop" fmla="*/ 37440 h 1800000"/>
                  <a:gd name="textAreaBottom" fmla="*/ 1762560 h 1800000"/>
                </a:gdLst>
                <a:ahLst/>
                <a:rect l="textAreaLeft" t="textAreaTop" r="textAreaRight" b="textAreaBottom"/>
                <a:pathLst>
                  <a:path w="21600" h="36007">
                    <a:moveTo>
                      <a:pt x="2575" y="0"/>
                    </a:moveTo>
                    <a:arcTo wR="2575" hR="2575" stAng="16200000" swAng="-5400000"/>
                    <a:lnTo>
                      <a:pt x="0" y="33432"/>
                    </a:lnTo>
                    <a:arcTo wR="2575" hR="2575" stAng="10800000" swAng="-5400000"/>
                    <a:lnTo>
                      <a:pt x="19025" y="36007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68d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4080" y="1955160"/>
                <a:ext cx="539640" cy="900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aae2"/>
                  </a:gs>
                  <a:gs pos="50000">
                    <a:srgbClr val="0066cc">
                      <a:alpha val="0"/>
                    </a:srgbClr>
                  </a:gs>
                  <a:gs pos="100000">
                    <a:srgbClr val="73aa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826920" y="2492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8000" y="1484280"/>
              <a:ext cx="6769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Упавшее стекло нанесло резаную рану на передн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оверхности предплечья. Из раны струей вытек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венозная кровь. Специальных  приспособлений для остановки кровотечения нет. Нет стерильного материала. Имеется носовой платок, электрический утюг, кипящий чайник на плит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ова последовательность действий при оказании первой помощи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50920" y="4221000"/>
            <a:ext cx="8497800" cy="2376720"/>
            <a:chOff x="250920" y="4221000"/>
            <a:chExt cx="8497800" cy="2376720"/>
          </a:xfrm>
        </p:grpSpPr>
        <p:sp>
          <p:nvSpPr>
            <p:cNvPr id="219" name=""/>
            <p:cNvSpPr/>
            <p:nvPr/>
          </p:nvSpPr>
          <p:spPr>
            <a:xfrm>
              <a:off x="250920" y="4221000"/>
              <a:ext cx="8497800" cy="2376720"/>
            </a:xfrm>
            <a:prstGeom prst="roundRect">
              <a:avLst>
                <a:gd name="adj" fmla="val 10889"/>
              </a:avLst>
            </a:prstGeom>
            <a:solidFill>
              <a:srgbClr val="e7f4f5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9640" y="4653000"/>
              <a:ext cx="1079640" cy="1800000"/>
              <a:chOff x="539640" y="4653000"/>
              <a:chExt cx="1079640" cy="1800000"/>
            </a:xfrm>
          </p:grpSpPr>
          <p:sp>
            <p:nvSpPr>
              <p:cNvPr id="221" name=""/>
              <p:cNvSpPr/>
              <p:nvPr/>
            </p:nvSpPr>
            <p:spPr>
              <a:xfrm>
                <a:off x="539640" y="4653000"/>
                <a:ext cx="1079640" cy="1800000"/>
              </a:xfrm>
              <a:custGeom>
                <a:avLst/>
                <a:gdLst>
                  <a:gd name="textAreaLeft" fmla="*/ 37440 w 1079640"/>
                  <a:gd name="textAreaRight" fmla="*/ 1042200 w 1079640"/>
                  <a:gd name="textAreaTop" fmla="*/ 37440 h 1800000"/>
                  <a:gd name="textAreaBottom" fmla="*/ 1762560 h 1800000"/>
                </a:gdLst>
                <a:ahLst/>
                <a:rect l="textAreaLeft" t="textAreaTop" r="textAreaRight" b="textAreaBottom"/>
                <a:pathLst>
                  <a:path w="21600" h="36007">
                    <a:moveTo>
                      <a:pt x="2575" y="0"/>
                    </a:moveTo>
                    <a:arcTo wR="2575" hR="2575" stAng="16200000" swAng="-5400000"/>
                    <a:lnTo>
                      <a:pt x="0" y="33432"/>
                    </a:lnTo>
                    <a:arcTo wR="2575" hR="2575" stAng="10800000" swAng="-5400000"/>
                    <a:lnTo>
                      <a:pt x="19025" y="36007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a6a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3000" y="4761360"/>
                <a:ext cx="539640" cy="900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9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26920" y="530064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79640" y="4724280"/>
              <a:ext cx="662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Внезапно из носовых ходов началось обильное выделение крови. Больной обеспокоен, сморкается, сплёвывает кровь, частично её проглатывает.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 остановить носовое кровотечение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ое положение следует придать больно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4140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6048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туацио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1413000"/>
            <a:ext cx="8497800" cy="2305080"/>
            <a:chOff x="250920" y="1413000"/>
            <a:chExt cx="8497800" cy="2305080"/>
          </a:xfrm>
        </p:grpSpPr>
        <p:grpSp>
          <p:nvGrpSpPr>
            <p:cNvPr id="229" name=""/>
            <p:cNvGrpSpPr/>
            <p:nvPr/>
          </p:nvGrpSpPr>
          <p:grpSpPr>
            <a:xfrm>
              <a:off x="250920" y="1413000"/>
              <a:ext cx="8497800" cy="2305080"/>
              <a:chOff x="250920" y="1413000"/>
              <a:chExt cx="8497800" cy="2305080"/>
            </a:xfrm>
          </p:grpSpPr>
          <p:sp>
            <p:nvSpPr>
              <p:cNvPr id="230" name=""/>
              <p:cNvSpPr/>
              <p:nvPr/>
            </p:nvSpPr>
            <p:spPr>
              <a:xfrm>
                <a:off x="250920" y="1413000"/>
                <a:ext cx="8497800" cy="2305080"/>
              </a:xfrm>
              <a:prstGeom prst="roundRect">
                <a:avLst>
                  <a:gd name="adj" fmla="val 10889"/>
                </a:avLst>
              </a:prstGeom>
              <a:solidFill>
                <a:srgbClr val="e7f4f5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66560" y="1557360"/>
                <a:ext cx="1079640" cy="1800000"/>
                <a:chOff x="466560" y="1557360"/>
                <a:chExt cx="1079640" cy="1800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66560" y="1557360"/>
                  <a:ext cx="1079640" cy="1800000"/>
                </a:xfrm>
                <a:custGeom>
                  <a:avLst/>
                  <a:gdLst>
                    <a:gd name="textAreaLeft" fmla="*/ 37440 w 1079640"/>
                    <a:gd name="textAreaRight" fmla="*/ 1042200 w 1079640"/>
                    <a:gd name="textAreaTop" fmla="*/ 37440 h 1800000"/>
                    <a:gd name="textAreaBottom" fmla="*/ 1762560 h 1800000"/>
                  </a:gdLst>
                  <a:ahLst/>
                  <a:rect l="textAreaLeft" t="textAreaTop" r="textAreaRight" b="textAreaBottom"/>
                  <a:pathLst>
                    <a:path w="21600" h="36007">
                      <a:moveTo>
                        <a:pt x="2575" y="0"/>
                      </a:moveTo>
                      <a:arcTo wR="2575" hR="2575" stAng="16200000" swAng="-5400000"/>
                      <a:lnTo>
                        <a:pt x="0" y="33432"/>
                      </a:lnTo>
                      <a:arcTo wR="2575" hR="2575" stAng="10800000" swAng="-5400000"/>
                      <a:lnTo>
                        <a:pt x="19025" y="36007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100000">
                      <a:srgbClr val="00468d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31000" y="1667880"/>
                  <a:ext cx="539640" cy="9003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3aae2"/>
                    </a:gs>
                    <a:gs pos="50000">
                      <a:srgbClr val="0066cc">
                        <a:alpha val="0"/>
                      </a:srgbClr>
                    </a:gs>
                    <a:gs pos="100000">
                      <a:srgbClr val="73aa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55640" y="2133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1763640" y="1700280"/>
              <a:ext cx="676908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В результате ножевого ранения возникло сильное артериальное кровотечение из подколенной артерии. Никаких инструментов и перевязочного материала нет, кроме собственной одежды и брючного ремн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99"/>
                  </a:solidFill>
                  <a:latin typeface="Arial"/>
                </a:rPr>
                <a:t>Какова последовательность оказания первой помощи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0920" y="4005360"/>
            <a:ext cx="8642160" cy="2448000"/>
            <a:chOff x="250920" y="4005360"/>
            <a:chExt cx="8642160" cy="2448000"/>
          </a:xfrm>
        </p:grpSpPr>
        <p:grpSp>
          <p:nvGrpSpPr>
            <p:cNvPr id="237" name=""/>
            <p:cNvGrpSpPr/>
            <p:nvPr/>
          </p:nvGrpSpPr>
          <p:grpSpPr>
            <a:xfrm>
              <a:off x="250920" y="4005360"/>
              <a:ext cx="8642160" cy="2448000"/>
              <a:chOff x="250920" y="4005360"/>
              <a:chExt cx="8642160" cy="244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50920" y="4005360"/>
                <a:ext cx="8642160" cy="2448000"/>
              </a:xfrm>
              <a:prstGeom prst="roundRect">
                <a:avLst>
                  <a:gd name="adj" fmla="val 10889"/>
                </a:avLst>
              </a:prstGeom>
              <a:solidFill>
                <a:srgbClr val="d9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468360" y="4365720"/>
                <a:ext cx="1079280" cy="1871280"/>
                <a:chOff x="468360" y="4365720"/>
                <a:chExt cx="1079280" cy="1871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68360" y="4365720"/>
                  <a:ext cx="1079280" cy="1871280"/>
                </a:xfrm>
                <a:custGeom>
                  <a:avLst/>
                  <a:gdLst>
                    <a:gd name="textAreaLeft" fmla="*/ 37440 w 1079280"/>
                    <a:gd name="textAreaRight" fmla="*/ 1041840 w 1079280"/>
                    <a:gd name="textAreaTop" fmla="*/ 37440 h 1871280"/>
                    <a:gd name="textAreaBottom" fmla="*/ 1833840 h 1871280"/>
                  </a:gdLst>
                  <a:ahLst/>
                  <a:rect l="textAreaLeft" t="textAreaTop" r="textAreaRight" b="textAreaBottom"/>
                  <a:pathLst>
                    <a:path w="21600" h="37445">
                      <a:moveTo>
                        <a:pt x="2575" y="0"/>
                      </a:moveTo>
                      <a:arcTo wR="2575" hR="2575" stAng="16200000" swAng="-5400000"/>
                      <a:lnTo>
                        <a:pt x="0" y="34870"/>
                      </a:lnTo>
                      <a:arcTo wR="2575" hR="2575" stAng="10800000" swAng="-5400000"/>
                      <a:lnTo>
                        <a:pt x="19025" y="37445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006a6a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1720" y="4478040"/>
                  <a:ext cx="539280" cy="93600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92d2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755640" y="501336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763640" y="4149720"/>
              <a:ext cx="6697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ри отпиливании куска доски пила неожиданно выскочила из руки столяра и поранила ногу ниже колена. Из раны в голени вытекает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ульсирующей струёй кровь алого цвета</a:t>
              </a: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ите вид кровотечения и дайте его характеристик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Перечислите последовательность оказания первой помощи</a:t>
              </a:r>
              <a:r>
                <a:rPr b="0" lang="ru-RU" sz="1800" spc="-1" strike="noStrike">
                  <a:solidFill>
                    <a:srgbClr val="c06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40360" y="645336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21130" y="3837"/>
                </a:moveTo>
                <a:lnTo>
                  <a:pt x="23706" y="6448"/>
                </a:ln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lnTo>
                  <a:pt x="28093" y="10800"/>
                </a:lnTo>
                <a:lnTo>
                  <a:pt x="26439" y="10800"/>
                </a:lnTo>
                <a:lnTo>
                  <a:pt x="26439" y="17989"/>
                </a:lnTo>
                <a:lnTo>
                  <a:pt x="15820" y="17989"/>
                </a:lnTo>
                <a:lnTo>
                  <a:pt x="15820" y="10800"/>
                </a:lnTo>
                <a:lnTo>
                  <a:pt x="14167" y="10800"/>
                </a:lnTo>
                <a:close/>
              </a:path>
              <a:path fill="darkenLess" w="42259" h="21600">
                <a:moveTo>
                  <a:pt x="23706" y="6448"/>
                </a:move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close/>
              </a:path>
              <a:path fill="darkenLess" w="42259" h="21600">
                <a:moveTo>
                  <a:pt x="20207" y="14299"/>
                </a:moveTo>
                <a:lnTo>
                  <a:pt x="22052" y="14299"/>
                </a:lnTo>
                <a:lnTo>
                  <a:pt x="22052" y="17989"/>
                </a:lnTo>
                <a:lnTo>
                  <a:pt x="26439" y="17989"/>
                </a:lnTo>
                <a:lnTo>
                  <a:pt x="26439" y="10800"/>
                </a:lnTo>
                <a:lnTo>
                  <a:pt x="15820" y="10800"/>
                </a:lnTo>
                <a:lnTo>
                  <a:pt x="15820" y="17989"/>
                </a:lnTo>
                <a:lnTo>
                  <a:pt x="20207" y="17989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264680"/>
            <a:ext cx="87854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рекратить воздействие повреждающи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влечь из-под завалов или воды, вынести из горящего помещения, извлечь из машины, вагона и т. д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Быстро и правильно оценить состояние пострадав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установить, жив пострадавший или мёр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Определить тяжесть травмы, по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 наличие кровотечения, переломов и т. д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риступить к  оказанию первой медицинской помощ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одготови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адавшего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к транспортир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Быстро достави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адавшего в лечебное за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птимальный срок оказания первой доврачебной помощи - до 30 мин. после получения трав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следовательность оказания</a:t>
            </a:r>
            <a:br>
              <a:rPr sz="2800"/>
            </a:b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 первой доврачебной 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4797000"/>
            <a:ext cx="77058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1606"/>
                </a:solidFill>
                <a:latin typeface="Arial"/>
              </a:rPr>
              <a:t>Истечение крови из поврежденного кровеносного с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836640"/>
            <a:ext cx="66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ВОТЕ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" name="" descr="Картинка 50 из 1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3933720"/>
            <a:ext cx="1258920" cy="24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24640" y="549360"/>
            <a:ext cx="1463760" cy="194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Виды кровот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4360" y="2133720"/>
            <a:ext cx="3454200" cy="4249440"/>
            <a:chOff x="684360" y="2133720"/>
            <a:chExt cx="3454200" cy="4249440"/>
          </a:xfrm>
        </p:grpSpPr>
        <p:sp>
          <p:nvSpPr>
            <p:cNvPr id="65" name=""/>
            <p:cNvSpPr/>
            <p:nvPr/>
          </p:nvSpPr>
          <p:spPr>
            <a:xfrm>
              <a:off x="684360" y="2133720"/>
              <a:ext cx="3454200" cy="179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5640" y="2349360"/>
              <a:ext cx="338292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Наруж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(истечение крови на поверхность тел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60" y="4437000"/>
              <a:ext cx="3382920" cy="194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4360" y="4581360"/>
              <a:ext cx="331128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Внутренн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( истечение крови во внутренние органы, полости и ткани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93236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зависимости от того, какой сосуд кровоточит, кровотечение може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2349360"/>
            <a:ext cx="3097080" cy="3886200"/>
            <a:chOff x="5508720" y="2349360"/>
            <a:chExt cx="3097080" cy="3886200"/>
          </a:xfrm>
        </p:grpSpPr>
        <p:sp>
          <p:nvSpPr>
            <p:cNvPr id="71" name=""/>
            <p:cNvSpPr/>
            <p:nvPr/>
          </p:nvSpPr>
          <p:spPr>
            <a:xfrm>
              <a:off x="5508720" y="4365720"/>
              <a:ext cx="3095640" cy="792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3357720"/>
              <a:ext cx="3095640" cy="720720"/>
            </a:xfrm>
            <a:prstGeom prst="rect">
              <a:avLst/>
            </a:prstGeom>
            <a:gradFill rotWithShape="0">
              <a:gsLst>
                <a:gs pos="0">
                  <a:srgbClr val="d9edef"/>
                </a:gs>
                <a:gs pos="5000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720" y="2349360"/>
              <a:ext cx="3095640" cy="648000"/>
            </a:xfrm>
            <a:prstGeom prst="rect">
              <a:avLst/>
            </a:prstGeom>
            <a:gradFill rotWithShape="0">
              <a:gsLst>
                <a:gs pos="0">
                  <a:srgbClr val="d9edef"/>
                </a:gs>
                <a:gs pos="5000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1640" y="242100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веноз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08720" y="3429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артериаль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24360" y="4437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капилляр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08720" y="5445000"/>
              <a:ext cx="3097080" cy="79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0360" y="5589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смешан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4920" y="836640"/>
            <a:ext cx="8498160" cy="5184720"/>
            <a:chOff x="394920" y="836640"/>
            <a:chExt cx="8498160" cy="5184720"/>
          </a:xfrm>
        </p:grpSpPr>
        <p:sp>
          <p:nvSpPr>
            <p:cNvPr id="80" name=""/>
            <p:cNvSpPr/>
            <p:nvPr/>
          </p:nvSpPr>
          <p:spPr>
            <a:xfrm>
              <a:off x="395280" y="5805360"/>
              <a:ext cx="289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5280" y="3284640"/>
              <a:ext cx="289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532360" y="6021360"/>
              <a:ext cx="360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4920" y="836640"/>
              <a:ext cx="8498160" cy="5184720"/>
              <a:chOff x="394920" y="836640"/>
              <a:chExt cx="8498160" cy="5184720"/>
            </a:xfrm>
          </p:grpSpPr>
          <p:sp>
            <p:nvSpPr>
              <p:cNvPr id="84" name=""/>
              <p:cNvSpPr/>
              <p:nvPr/>
            </p:nvSpPr>
            <p:spPr>
              <a:xfrm>
                <a:off x="8748720" y="907920"/>
                <a:ext cx="14436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394920" y="836640"/>
                <a:ext cx="8498160" cy="5184720"/>
                <a:chOff x="394920" y="836640"/>
                <a:chExt cx="8498160" cy="5184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893080" y="907920"/>
                  <a:ext cx="0" cy="511344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394920" y="836640"/>
                  <a:ext cx="8498160" cy="5184720"/>
                  <a:chOff x="394920" y="836640"/>
                  <a:chExt cx="8498160" cy="518472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H="1">
                    <a:off x="394920" y="836640"/>
                    <a:ext cx="180036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95280" y="836640"/>
                    <a:ext cx="0" cy="4968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877080" y="907920"/>
                    <a:ext cx="187164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68360" y="3284640"/>
                    <a:ext cx="142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95280" y="5805360"/>
                    <a:ext cx="14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8604360" y="263700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8675640" y="3716280"/>
                    <a:ext cx="21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8675640" y="4653000"/>
                    <a:ext cx="21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8675280" y="6021360"/>
                    <a:ext cx="14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427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Характеристика  кровотеч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Капиллярное :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лки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судов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чится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вномерно по  всей  поверхности раны (как из губ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Венозное: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 темно – вишневого цвета  вытекает из раны непрерывно, споко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16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Артериальное: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 алого цвета  и вытекает пульсирующей струей (выбросы крови соответствуют ритму сердечных сокращ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Смешанное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арактеризуется признаками артериального и венозного 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11640" y="1484280"/>
            <a:ext cx="4753080" cy="5424840"/>
            <a:chOff x="4211640" y="1484280"/>
            <a:chExt cx="4753080" cy="5424840"/>
          </a:xfrm>
        </p:grpSpPr>
        <p:sp>
          <p:nvSpPr>
            <p:cNvPr id="101" name=""/>
            <p:cNvSpPr/>
            <p:nvPr/>
          </p:nvSpPr>
          <p:spPr>
            <a:xfrm>
              <a:off x="4211640" y="6093000"/>
              <a:ext cx="47530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А - артериальное;   Б - венозное;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4643280" y="1484280"/>
              <a:ext cx="4284720" cy="430704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3708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2066760" y="2651040"/>
            <a:ext cx="6148440" cy="1512720"/>
          </a:xfrm>
          <a:prstGeom prst="rect">
            <a:avLst/>
          </a:prstGeom>
          <a:gradFill rotWithShape="0">
            <a:gsLst>
              <a:gs pos="0">
                <a:srgbClr val="ffb8a7"/>
              </a:gs>
              <a:gs pos="50000">
                <a:srgbClr val="ffffff"/>
              </a:gs>
              <a:gs pos="100000">
                <a:srgbClr val="ffb8a7"/>
              </a:gs>
            </a:gsLst>
            <a:lin ang="10800000"/>
          </a:gradFill>
          <a:ln w="38160">
            <a:solidFill>
              <a:srgbClr val="ffb8a7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ОСОБЫ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ременной остановки крово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404640"/>
            <a:ext cx="6840360" cy="6120000"/>
            <a:chOff x="1835280" y="404640"/>
            <a:chExt cx="6840360" cy="6120000"/>
          </a:xfrm>
        </p:grpSpPr>
        <p:grpSp>
          <p:nvGrpSpPr>
            <p:cNvPr id="106" name=""/>
            <p:cNvGrpSpPr/>
            <p:nvPr/>
          </p:nvGrpSpPr>
          <p:grpSpPr>
            <a:xfrm>
              <a:off x="3203640" y="4365720"/>
              <a:ext cx="5471640" cy="936360"/>
              <a:chOff x="3203640" y="4365720"/>
              <a:chExt cx="5471640" cy="936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3640" y="4365720"/>
                <a:ext cx="5471640" cy="9363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8520" y="4582800"/>
                <a:ext cx="531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Максимальное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сгибание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конечнос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03640" y="1773360"/>
              <a:ext cx="5471640" cy="1008720"/>
              <a:chOff x="3203640" y="1773360"/>
              <a:chExt cx="5471640" cy="1008720"/>
            </a:xfrm>
          </p:grpSpPr>
          <p:sp>
            <p:nvSpPr>
              <p:cNvPr id="110" name=""/>
              <p:cNvSpPr/>
              <p:nvPr/>
            </p:nvSpPr>
            <p:spPr>
              <a:xfrm>
                <a:off x="3203640" y="1773360"/>
                <a:ext cx="5471640" cy="1006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29720" y="1773360"/>
                <a:ext cx="5020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99"/>
                    </a:solidFill>
                    <a:latin typeface="Arial"/>
                  </a:rPr>
                  <a:t>Прижатие кровоточащего сосуда  в месте повреждения  при помощи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давящей повязк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203640" y="5661000"/>
              <a:ext cx="5471640" cy="863640"/>
              <a:chOff x="3203640" y="5661000"/>
              <a:chExt cx="5471640" cy="863640"/>
            </a:xfrm>
          </p:grpSpPr>
          <p:sp>
            <p:nvSpPr>
              <p:cNvPr id="113" name=""/>
              <p:cNvSpPr/>
              <p:nvPr/>
            </p:nvSpPr>
            <p:spPr>
              <a:xfrm>
                <a:off x="3203640" y="5661000"/>
                <a:ext cx="5471640" cy="863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8080" y="5732640"/>
                <a:ext cx="5315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Наложение кровоостанавливающего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жгу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203640" y="3141720"/>
              <a:ext cx="5472000" cy="865080"/>
              <a:chOff x="3203640" y="3141720"/>
              <a:chExt cx="5472000" cy="86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3203640" y="3141720"/>
                <a:ext cx="5472000" cy="865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03640" y="3286080"/>
                <a:ext cx="5329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альцевое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прижатие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кровоточащего сосуд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03640" y="404640"/>
              <a:ext cx="5471640" cy="1008720"/>
              <a:chOff x="3203640" y="404640"/>
              <a:chExt cx="5471640" cy="10087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3640" y="404640"/>
                <a:ext cx="5471640" cy="1008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1600" y="404640"/>
                <a:ext cx="5175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ридание поврежденной части тела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возвышенного</a:t>
                </a:r>
                <a:r>
                  <a:rPr b="1" lang="en-US" sz="2000" spc="-1" strike="noStrike">
                    <a:solidFill>
                      <a:srgbClr val="ff6d4b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оложения по  отношению к туловищ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835280" y="83664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35280" y="220500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280" y="350028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35280" y="472428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5280" y="602136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212400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Придание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врежденной конечности 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возвышенного положения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  отношению к тулови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879640" cy="453708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Картинка 115 из 129">
            <a:hlinkClick r:id="rId1"/>
          </p:cNvPr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763640" y="1484280"/>
            <a:ext cx="5689800" cy="295272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1258920" y="4724280"/>
            <a:ext cx="6481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 - кровотечение из 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 - прижатие кровоточащего сос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- давящая повязка (поверх раны накладывают несколько слоев марли, плотный комок ваты и туго бинту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60280"/>
            <a:ext cx="8364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жатие кровоточащего сосуда  в месте повреждения  при помощи 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давящей повя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7:15:58Z</dcterms:created>
  <dc:creator>Андре</dc:creator>
  <dc:description/>
  <dc:language>en-US</dc:language>
  <cp:lastModifiedBy>k50-01</cp:lastModifiedBy>
  <dcterms:modified xsi:type="dcterms:W3CDTF">2010-09-24T11:00:09Z</dcterms:modified>
  <cp:revision>159</cp:revision>
  <dc:subject/>
  <dc:title>мед</dc:title>
</cp:coreProperties>
</file>