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BB5F-ED70-43A0-A4AE-F768DC9F96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0EE6-04A1-4638-BB54-4E5222242C7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A066-6BB8-48F1-B303-7333174AB6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0B07-9450-49F6-9E40-31D3DA0D95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EEBF-AA2E-4923-BAB4-16417B4E90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A872-2BFC-415B-B7BF-0154D596FE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8D45-328D-4D1E-A8F5-20AED579D33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9E5D-6AA8-4746-82E5-C7A375E1CE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958-CFDF-44A5-8344-4FDF9357B2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BD9-D3AD-4041-8589-BE2B1BD80D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5F7-1E4E-4F34-A717-68D81B26D3C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43A4-5C45-4283-882D-00A65C5076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C67E-731B-41AF-A58D-C48230981D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98F-DAF5-40A3-BCBC-55DC2042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CA3-33F0-4430-86E9-78EBF14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65D-D0C5-49F7-94AC-7E2F185C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75E-8772-4CE6-8DE5-EEB67BA0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189-85A4-461C-8782-64A7480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EE9-0900-4997-99A1-B2651D68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FE2-1576-4A1A-AA36-7E7DB184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1BB-73FB-4E76-9FCB-0F045C6B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D4B-594B-4A2F-84AA-27242CCC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6A6-D4B4-48F7-8D44-14B80A2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248-7F14-497D-9849-AF3EBB44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002-7F7C-4EA8-BD05-F850D3DA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3607-3A36-4D84-AFCD-055AC8416B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360" y="1341360"/>
            <a:ext cx="374328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Е ЧЕЛОВЕ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СОБЕННОСТИ ЖИЗНЕОБЕСПЕЧ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ИЛИЩ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00320" y="4385880"/>
            <a:ext cx="39574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резентация к уроку ОБЖ в 5 классе преподавателя-организатора ОБЖ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Погребняка Сергея Федоровича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МОУ СОШ №1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Нижегородской области, г. Бор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4" descr="0d2aea9ee10c.jpg"/>
          <p:cNvPicPr/>
          <p:nvPr/>
        </p:nvPicPr>
        <p:blipFill>
          <a:blip r:embed="rId1"/>
          <a:srcRect l="14998" t="0" r="26249" b="0"/>
          <a:stretch/>
        </p:blipFill>
        <p:spPr>
          <a:xfrm>
            <a:off x="0" y="-4680"/>
            <a:ext cx="44244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643720" y="6429240"/>
            <a:ext cx="221436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Овальная выноска 13"/>
          <p:cNvSpPr/>
          <p:nvPr/>
        </p:nvSpPr>
        <p:spPr>
          <a:xfrm>
            <a:off x="3071880" y="1428840"/>
            <a:ext cx="500040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аша задача сейчас, разбившись на группы, перечислить как можно больше опасных ситуаций, которые могут возникнуть у нас до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00200" y="100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ПАСНЫЕ СИТУАЦИИ В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1571760"/>
          <a:ext cx="6095880" cy="4214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ухня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Ванн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Комната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Овальная выноска 13"/>
          <p:cNvSpPr/>
          <p:nvPr/>
        </p:nvSpPr>
        <p:spPr>
          <a:xfrm>
            <a:off x="785880" y="2286000"/>
            <a:ext cx="5000400" cy="1214280"/>
          </a:xfrm>
          <a:prstGeom prst="wedgeEllipseCallout">
            <a:avLst>
              <a:gd name="adj1" fmla="val 59472"/>
              <a:gd name="adj2" fmla="val 77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вайте систематизируем наши знания и заполним таблиц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857160" y="10717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ЧНИКИ ОПАСНЫХ СИТУАЦИЙ В ЖИЛИЩЕ И ИХ ПРИЧИ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42960" y="1714680"/>
          <a:ext cx="5857920" cy="4143240"/>
        </p:xfrm>
        <a:graphic>
          <a:graphicData uri="http://schemas.openxmlformats.org/drawingml/2006/table">
            <a:tbl>
              <a:tblPr/>
              <a:tblGrid>
                <a:gridCol w="2114640"/>
                <a:gridCol w="3743280"/>
              </a:tblGrid>
              <a:tr h="7822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точники опасных ситуаций в жилищ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х причи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1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1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6"/>
          <p:cNvSpPr/>
          <p:nvPr/>
        </p:nvSpPr>
        <p:spPr>
          <a:xfrm>
            <a:off x="785880" y="263196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жа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42960" y="309708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ажение электрическим то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42960" y="374976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42960" y="4332240"/>
            <a:ext cx="20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топл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42960" y="479736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равление (газом или химическими веществ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42960" y="53420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ение строительных констру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786040" y="25416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ая электропроводка, техника, неосторожное обращение с огнем, утечка г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4"/>
          <p:cNvSpPr/>
          <p:nvPr/>
        </p:nvSpPr>
        <p:spPr>
          <a:xfrm>
            <a:off x="2786040" y="310212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соблюдение инструкций, неисправность в электротехни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786040" y="3643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исправность газовой плиты, невыключенная плита, оставление рабочий плиты без присмотр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6"/>
          <p:cNvSpPr/>
          <p:nvPr/>
        </p:nvSpPr>
        <p:spPr>
          <a:xfrm>
            <a:off x="2786040" y="4214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ыв трубы, батареи; стиральная машина, оставленная без присмотра; незакрытый к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2786040" y="478620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сторожное обращение, нарушение инструкций, нарушение правил хранения, халат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8"/>
          <p:cNvSpPr/>
          <p:nvPr/>
        </p:nvSpPr>
        <p:spPr>
          <a:xfrm>
            <a:off x="2786040" y="5357880"/>
            <a:ext cx="36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рыв, землетрясение, аварии в подземных коммуникац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Овальная выноска 13"/>
          <p:cNvSpPr/>
          <p:nvPr/>
        </p:nvSpPr>
        <p:spPr>
          <a:xfrm>
            <a:off x="3000240" y="1285920"/>
            <a:ext cx="5000760" cy="221436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умывались ли вы раньше о том, сколько опасных ситуаций может возникнуть у нас под боком, в нашем жилищ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TextBox 8"/>
          <p:cNvSpPr/>
          <p:nvPr/>
        </p:nvSpPr>
        <p:spPr>
          <a:xfrm>
            <a:off x="4143240" y="16286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9"/>
          <p:cNvSpPr/>
          <p:nvPr/>
        </p:nvSpPr>
        <p:spPr>
          <a:xfrm>
            <a:off x="3857760" y="3071880"/>
            <a:ext cx="4143240" cy="64296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3857760" y="3857760"/>
            <a:ext cx="4143240" cy="6429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3857760" y="4714920"/>
            <a:ext cx="4143240" cy="64296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Овальная выноска 13"/>
          <p:cNvSpPr/>
          <p:nvPr/>
        </p:nvSpPr>
        <p:spPr>
          <a:xfrm>
            <a:off x="3071880" y="2214720"/>
            <a:ext cx="5000400" cy="1357200"/>
          </a:xfrm>
          <a:prstGeom prst="wedgeEllipseCallout">
            <a:avLst>
              <a:gd name="adj1" fmla="val -57319"/>
              <a:gd name="adj2" fmla="val 49745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ъясните пословицы и попробуйте проиллюстрировать ее приме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5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Box 8"/>
          <p:cNvSpPr/>
          <p:nvPr/>
        </p:nvSpPr>
        <p:spPr>
          <a:xfrm>
            <a:off x="2571840" y="1285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929120" y="38685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1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3392640" y="429264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Выиграешь секунду – потеряешь жиз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4932360" y="4797360"/>
            <a:ext cx="19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6d9f1"/>
                </a:solidFill>
                <a:latin typeface="Calibri"/>
              </a:rPr>
              <a:t>2 вариан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6"/>
          <p:cNvSpPr/>
          <p:nvPr/>
        </p:nvSpPr>
        <p:spPr>
          <a:xfrm>
            <a:off x="3419640" y="5229360"/>
            <a:ext cx="500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«Беда вымучит, беда и вылечи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85880" y="1285920"/>
            <a:ext cx="75009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А.Т.Смирнов, Б.О. Хренников; под общей редакцией А.Т.Смирнова. – 5-е изд. – М.: - Просвещение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новы безопасности жизнедеятельности: учебник для 5 классов общеобразовательных учреждений / М.П.Фролов, Е.Н.Литвинов, А.Т.Смирнов и др.; под общей редакцией Ю.Л.Воробьева. – 2-е изд. , испр. и дополн.– М.: АСТ: Астрель, 2007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p://s59.radikal.ru/i166/0906/6f/0d2aea9ee10c.jp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ancienthistory.spb.ru/images/pervobyt/264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moda-history.ru/files/perv_costume/110209/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vokrugmira.com/images/foto/2006/08/01/0000000409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ob.ru/upimg/issue/202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allday.ru/uploads/posts/1181786626_551029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hkolazhizni.ru/img/content/i11/11964_or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irc.lv/images/qna/428699_373972.jpe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tarinism.ru/shop/products_pictures/sp_iron007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sar-roo.ru/cvr/graf/3/hist2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goodclipart.ru/files/preview/BUILDINGS_CITY/REALEST2/RL1610.p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sdvk.ru/i/Gustavsberg/Basic-390392/00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legrand-rozetki.ru/images/valena/old/images_valena/legrand_valena_77442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ww.hifinews.ru/image/tema/pdp550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techguru.ru/foto/music_centers/lg_lm-k6530x_1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214280" y="50004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ЛИТЕРАТУРА 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000000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нова с вами я -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, наверное, помните, что на прошлом уроке мы говорили о городе и его опасностях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огда я вам предлагаю ответить на вопросы маленького тес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86040" y="1643040"/>
          <a:ext cx="5595840" cy="4214880"/>
        </p:xfrm>
        <a:graphic>
          <a:graphicData uri="http://schemas.openxmlformats.org/drawingml/2006/table">
            <a:tbl>
              <a:tblPr/>
              <a:tblGrid>
                <a:gridCol w="2798640"/>
                <a:gridCol w="2797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Источники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dce6f2"/>
                          </a:solidFill>
                          <a:latin typeface="Arial"/>
                          <a:ea typeface="Arial"/>
                        </a:rPr>
                        <a:t>Зоны повышенной 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7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58" name="TextBox 9"/>
          <p:cNvSpPr/>
          <p:nvPr/>
        </p:nvSpPr>
        <p:spPr>
          <a:xfrm>
            <a:off x="3214800" y="2587680"/>
            <a:ext cx="1785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3071880" y="3249720"/>
            <a:ext cx="207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Железные дорог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071880" y="38718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мышленное производств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071880" y="454500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грязнение окружающей сред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071880" y="5222880"/>
            <a:ext cx="20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я правонаруш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715000" y="244944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Стадионы, места массовых развлечен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5816520" y="3254400"/>
            <a:ext cx="23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Вокзалы, рынк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5929200" y="38322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Дворы, пустыри,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заброшенные дома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857920" y="465444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Автомобильные трасс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5429160" y="5164200"/>
            <a:ext cx="2954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ереходы через железнодорожные 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рамвайные пут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у, а теперь, разделившись на команды, попробуйте отгадать мою шараду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едложенных слов составьте предложение и запишите его в тетрад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ИМ ТЕМУ ПРОШЛОГО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9"/>
          <p:cNvSpPr/>
          <p:nvPr/>
        </p:nvSpPr>
        <p:spPr>
          <a:xfrm>
            <a:off x="307188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ТУ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307188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ЕДВИД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4929120" y="2928960"/>
            <a:ext cx="1714680" cy="5000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А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4929120" y="3571920"/>
            <a:ext cx="1714680" cy="5000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>
            <a:off x="6786720" y="2928960"/>
            <a:ext cx="1714320" cy="50004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14"/>
          <p:cNvSpPr/>
          <p:nvPr/>
        </p:nvSpPr>
        <p:spPr>
          <a:xfrm>
            <a:off x="6786720" y="3571920"/>
            <a:ext cx="1714320" cy="50004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УЖ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347E-006 C 0.0151 -0.04859 0.03038 -0.09718 0.00069 -0.11777 C -0.029 -0.1386 -0.14393 -0.14392 -0.17796 -0.12402 C -0.21181 -0.10389 -0.20782 -0.05114 -0.20348 0.00208 E">
                                      <p:cBhvr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0.00208 C -0.00277 -0.0324 -0.0052 -0.06688 0.00365 -0.08841 C 0.01251 -0.10993 0.02101 -0.12034 0.05313 -0.12682 C 0.08525 -0.1333 0.17101 -0.14927 0.19636 -0.12798 C 0.22171 -0.10669 0.20365 -0.02037 0.20521 0.00116 E">
                                      <p:cBhvr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0347 C -0.0125 -0.07288 -0.02257 -0.14924 0.004 -0.18626 C 0.03056 -0.22328 0.12292 -0.23554 0.15677 -0.21934 C 0.19063 -0.20315 0.19879 -0.14623 0.20712 -0.08931 E">
                                      <p:cBhvr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94633E-006 C 0.01007 0.06917 0.02014 0.13833 -0.00174 0.1728 C -0.02361 0.20727 -0.07135 0.20056 -0.13125 0.20634 C -0.19115 0.21213 -0.31441 0.22554 -0.36076 0.2075 C -0.40712 0.18946 -0.40833 0.14389 -0.40955 0.09855 E">
                                      <p:cBhvr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579 C 0.01336 0.0391 0.02708 0.07264 -0.00209 0.08929 C -0.03125 0.10595 -0.14115 0.11983 -0.175 0.10549 C -0.20886 0.09114 -0.2073 0.04719 -0.20556 0.00347 E">
                                      <p:cBhvr>
                                        <p:cTn id="172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0.00486 C -0.01649 0.04141 -0.02951 0.07819 0.00625 0.09762 C 0.04202 0.11705 0.14775 0.11913 0.21146 0.12191 C 0.27518 0.12469 0.35591 0.13325 0.38889 0.11381 C 0.42188 0.09438 0.40625 0.02406 0.40973 0.00602 E">
                                      <p:cBhvr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Овальная выноска 4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лично справились с заданием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теперь послушайте стихи и ответьте мне – о чем сегодня пойдет реч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 ЧЕМ ЭТИ СТИХИ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86040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2" name="Овальная выноска 9"/>
          <p:cNvSpPr/>
          <p:nvPr/>
        </p:nvSpPr>
        <p:spPr>
          <a:xfrm>
            <a:off x="3214800" y="2000160"/>
            <a:ext cx="5072040" cy="2500560"/>
          </a:xfrm>
          <a:prstGeom prst="wedgeEllipseCallout">
            <a:avLst>
              <a:gd name="adj1" fmla="val -57574"/>
              <a:gd name="adj2" fmla="val 5555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т мой дом, моя кварти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есь учусь, играю, спл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 ответьте мне, ребя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безопасности жив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22640" y="1522080"/>
            <a:ext cx="342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МА УРОК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Рисунок 2" descr="ad3a789759de.png"/>
          <p:cNvPicPr/>
          <p:nvPr/>
        </p:nvPicPr>
        <p:blipFill>
          <a:blip r:embed="rId2"/>
          <a:stretch/>
        </p:blipFill>
        <p:spPr>
          <a:xfrm>
            <a:off x="32400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6" name="TextBox 6"/>
          <p:cNvSpPr/>
          <p:nvPr/>
        </p:nvSpPr>
        <p:spPr>
          <a:xfrm>
            <a:off x="3446640" y="2682720"/>
            <a:ext cx="465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Е ЧЕЛОВЕ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И ОСОБЕН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ЗНЕОБЕСПЕ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  <a:ea typeface="Tahoma"/>
              </a:rPr>
              <a:t>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8" descr="00000004091.jpg"/>
          <p:cNvPicPr/>
          <p:nvPr/>
        </p:nvPicPr>
        <p:blipFill>
          <a:blip r:embed="rId2"/>
          <a:stretch/>
        </p:blipFill>
        <p:spPr>
          <a:xfrm>
            <a:off x="2071800" y="2055960"/>
            <a:ext cx="4929120" cy="30877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Рисунок 5" descr="человек.gif"/>
          <p:cNvPicPr/>
          <p:nvPr/>
        </p:nvPicPr>
        <p:blipFill>
          <a:blip r:embed="rId3"/>
          <a:stretch/>
        </p:blipFill>
        <p:spPr>
          <a:xfrm>
            <a:off x="539640" y="1341360"/>
            <a:ext cx="2571840" cy="43210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Рисунок 2" descr="ad3a789759de.png"/>
          <p:cNvPicPr/>
          <p:nvPr/>
        </p:nvPicPr>
        <p:blipFill>
          <a:blip r:embed="rId4"/>
          <a:stretch/>
        </p:blipFill>
        <p:spPr>
          <a:xfrm>
            <a:off x="5572080" y="278604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TextBox 6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ДРЕВНЕГО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8" descr="11964_or.jpg"/>
          <p:cNvPicPr/>
          <p:nvPr/>
        </p:nvPicPr>
        <p:blipFill>
          <a:blip r:embed="rId2"/>
          <a:stretch/>
        </p:blipFill>
        <p:spPr>
          <a:xfrm>
            <a:off x="1785960" y="2033640"/>
            <a:ext cx="4929120" cy="35528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10" descr="утюг.gif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11280" y="1125360"/>
            <a:ext cx="1571400" cy="16495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Рисунок 9" descr="лампа.gif"/>
          <p:cNvPicPr/>
          <p:nvPr/>
        </p:nvPicPr>
        <p:blipFill>
          <a:blip r:embed="rId4"/>
          <a:stretch/>
        </p:blipFill>
        <p:spPr>
          <a:xfrm>
            <a:off x="611280" y="2886120"/>
            <a:ext cx="1382760" cy="294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6" name="Рисунок 2" descr="ad3a789759de.png"/>
          <p:cNvPicPr/>
          <p:nvPr/>
        </p:nvPicPr>
        <p:blipFill>
          <a:blip r:embed="rId5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TextBox 11"/>
          <p:cNvSpPr/>
          <p:nvPr/>
        </p:nvSpPr>
        <p:spPr>
          <a:xfrm>
            <a:off x="2357280" y="128592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ЧЕЛОВЕКА НАЧАЛА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XX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6" descr="2022.jpg"/>
          <p:cNvPicPr/>
          <p:nvPr/>
        </p:nvPicPr>
        <p:blipFill>
          <a:blip r:embed="rId2"/>
          <a:stretch/>
        </p:blipFill>
        <p:spPr>
          <a:xfrm>
            <a:off x="1947960" y="1752480"/>
            <a:ext cx="5214960" cy="38023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Рисунок 2" descr="ad3a789759de.png"/>
          <p:cNvPicPr/>
          <p:nvPr/>
        </p:nvPicPr>
        <p:blipFill>
          <a:blip r:embed="rId3"/>
          <a:stretch/>
        </p:blipFill>
        <p:spPr>
          <a:xfrm>
            <a:off x="55483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Рисунок 8" descr="ТЕЛЕВИЗОР.gif"/>
          <p:cNvPicPr/>
          <p:nvPr/>
        </p:nvPicPr>
        <p:blipFill>
          <a:blip r:embed="rId4"/>
          <a:stretch/>
        </p:blipFill>
        <p:spPr>
          <a:xfrm>
            <a:off x="1785960" y="4429080"/>
            <a:ext cx="2143080" cy="150012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TextBox 9"/>
          <p:cNvSpPr/>
          <p:nvPr/>
        </p:nvSpPr>
        <p:spPr>
          <a:xfrm>
            <a:off x="2000160" y="10717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ЫТ  СОВРЕМЕННОГО 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Рисунок 10" descr="УМЫВАЛЬНИК.gif"/>
          <p:cNvPicPr/>
          <p:nvPr/>
        </p:nvPicPr>
        <p:blipFill>
          <a:blip r:embed="rId5"/>
          <a:stretch/>
        </p:blipFill>
        <p:spPr>
          <a:xfrm>
            <a:off x="5045040" y="4686480"/>
            <a:ext cx="1123920" cy="1218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11" descr="ПЛИТА.gif"/>
          <p:cNvPicPr/>
          <p:nvPr/>
        </p:nvPicPr>
        <p:blipFill>
          <a:blip r:embed="rId6"/>
          <a:stretch/>
        </p:blipFill>
        <p:spPr>
          <a:xfrm>
            <a:off x="4324320" y="4624560"/>
            <a:ext cx="906480" cy="13269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12" descr="УНИТАЗ.gif"/>
          <p:cNvPicPr/>
          <p:nvPr/>
        </p:nvPicPr>
        <p:blipFill>
          <a:blip r:embed="rId7"/>
          <a:stretch/>
        </p:blipFill>
        <p:spPr>
          <a:xfrm>
            <a:off x="3683160" y="4624560"/>
            <a:ext cx="736560" cy="13460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7" descr="человек 2.gif"/>
          <p:cNvPicPr/>
          <p:nvPr/>
        </p:nvPicPr>
        <p:blipFill>
          <a:blip r:embed="rId8"/>
          <a:stretch/>
        </p:blipFill>
        <p:spPr>
          <a:xfrm>
            <a:off x="539640" y="1628640"/>
            <a:ext cx="2286000" cy="433080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198360" y="285840"/>
            <a:ext cx="8778960" cy="621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Овальная выноска 13"/>
          <p:cNvSpPr/>
          <p:nvPr/>
        </p:nvSpPr>
        <p:spPr>
          <a:xfrm>
            <a:off x="3357720" y="2214720"/>
            <a:ext cx="2714400" cy="2071440"/>
          </a:xfrm>
          <a:prstGeom prst="wedgeEllipseCallout">
            <a:avLst>
              <a:gd name="adj1" fmla="val 64268"/>
              <a:gd name="adj2" fmla="val 713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всегда ли мы выполняем обязательные правила безопасност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2" descr="ad3a789759de.png"/>
          <p:cNvPicPr/>
          <p:nvPr/>
        </p:nvPicPr>
        <p:blipFill>
          <a:blip r:embed="rId2"/>
          <a:stretch/>
        </p:blipFill>
        <p:spPr>
          <a:xfrm>
            <a:off x="5580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5" descr="замок.gif"/>
          <p:cNvPicPr/>
          <p:nvPr/>
        </p:nvPicPr>
        <p:blipFill>
          <a:blip r:embed="rId3"/>
          <a:stretch/>
        </p:blipFill>
        <p:spPr>
          <a:xfrm>
            <a:off x="785880" y="1158840"/>
            <a:ext cx="250020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TextBox 6"/>
          <p:cNvSpPr/>
          <p:nvPr/>
        </p:nvSpPr>
        <p:spPr>
          <a:xfrm>
            <a:off x="3286080" y="1428840"/>
            <a:ext cx="50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14:22Z</dcterms:created>
  <dc:creator>WETER</dc:creator>
  <dc:description/>
  <dc:language>en-US</dc:language>
  <cp:lastModifiedBy>Admin</cp:lastModifiedBy>
  <dcterms:modified xsi:type="dcterms:W3CDTF">2012-08-30T12:34:05Z</dcterms:modified>
  <cp:revision>106</cp:revision>
  <dc:subject/>
  <dc:title>ЖИЛИЩЕ ЧЕЛОВЕКА  ОСОБЕННОСТИ ЖИЗНЕОБЕСПЕЧЕНИЯ  ЖИЛИЩА</dc:title>
</cp:coreProperties>
</file>