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EEB3-2C22-4B79-9876-DA3638069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B98-C3DE-4420-A235-C0469B1709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F95C-A337-42B6-9C01-3101D0F2BE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1620-79CA-400B-843B-87CC73D647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8270-6CE9-49D1-A6AA-BE5A1B764E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409D-B163-4EF7-8A87-93BD8B7DFE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88F-2BE6-4B17-A2D1-451A9E359F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948-FB62-4085-822F-638EFB33D2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0F3E-0994-45F0-B4BE-D9894AAA8E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073-45C6-4E17-A66E-DED3D28CFD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A6D2-DF38-4E86-B26A-C65403241A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D8BF-E37E-4D30-9DA4-EB31709090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339C-85B8-470C-A570-AF2549F82E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BA9-C8A5-4312-96D4-30338FFD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8EA-B02B-4F8E-B468-2313F30F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5CC-4226-4BE5-9263-A9C90E0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DA6-D86D-4724-97E2-3972FC37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B89-F798-445A-A1EB-BC07F00C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20B-395F-44E4-8599-538A1699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4F4-7638-4373-B725-CFA00E3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C77-9A01-4D4C-BF5D-F2EC78F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E29-0EC7-48E2-8C77-ADE7D31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1B9-0144-4AA7-AD3B-3687D4A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B8E-1367-4BA6-90C1-240F68D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6AE-6F1B-476C-A0D5-B12EEB6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B1EC-1C89-4A29-811A-9D6E690088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643720" y="6429240"/>
            <a:ext cx="221436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8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Admin</cp:lastModifiedBy>
  <dcterms:modified xsi:type="dcterms:W3CDTF">2012-08-30T12:34:05Z</dcterms:modified>
  <cp:revision>106</cp:revision>
  <dc:subject/>
  <dc:title>ЖИЛИЩЕ ЧЕЛОВЕКА  ОСОБЕННОСТИ ЖИЗНЕОБЕСПЕЧЕНИЯ  ЖИЛИЩА</dc:title>
</cp:coreProperties>
</file>