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0836-E8C4-4A08-9CEE-8BCBCFF6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C84E-D59F-45CA-84E5-676E97A9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5A27-846B-4885-A08D-FC66BDA7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89FB-03F3-4A6B-8EB6-50F4E7FA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A292-62F5-4BB7-B853-B4462CAD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CC09-0849-4372-BC55-7B8D551A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9EF6-5D84-4A54-A51E-47D7A0F0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B67F-F9E5-4DB3-86EC-72826432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507E-C970-458E-B9F1-7C64D703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9C37-5E9F-464B-92A1-E9549F9E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3D4F-6D01-4A5B-97A4-5F343EA3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B8A2-C037-4FE4-B874-DCFBED09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BE2A-E4BE-4E8F-82B7-D672D47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EF27-42AA-42C6-A7B0-DAD8B213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83DF-A293-4AFB-B556-7D9F9384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1897-6133-4009-BA6C-A114B746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A67E-5735-401B-9D1A-6876EF2F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2F20-C6D9-45C2-BDF5-408F19A6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033A1-4FAF-4ECE-B023-CE29F805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D27D-D2F8-4C06-9DC5-22C232C1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DBCC-FD46-4285-AFC4-0B6F6EDF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4A43-A33A-42EE-AADA-B06007AD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EDA2-50DC-4F66-AE68-D7235EBD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00B0-A890-4BED-BC35-67F4D5D6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361F-0C2C-4598-A1BF-B087347864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63C2-D83A-4991-9CE0-6C125864C3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1143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Особенности размножения рыб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00120" y="571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resC4DDE42B-0A01-022A-0096-D6B449435412"/>
          <p:cNvPicPr/>
          <p:nvPr/>
        </p:nvPicPr>
        <p:blipFill>
          <a:blip r:embed="rId1"/>
          <a:stretch/>
        </p:blipFill>
        <p:spPr>
          <a:xfrm>
            <a:off x="500040" y="2928960"/>
            <a:ext cx="845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известно, рыбы постоянно движутся в воде в одиночку и группами. Многие рыбы перемещаются на большие расстояния. Такие перемещения животных носят название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миграци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ывают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ормовы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миграции. Так, сельди перемещаются в океане вслед за планктоном, служащим им пищей, за сельдями движутся акулы, которые охотятся на них. Интересны миграции, связанные с размножение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о в том, что места с обильным кормом часто не подходят рыбам для размножения, так как икру необходимо откладывать в чистую воду, богатую кислородом, прогреваемую солнечными луч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т и движутся рыбы, преодолевая сотни и даже тысячи километров, от мест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гул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к местам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ерест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размножения). Так поступают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лосос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Дальнем Востоке, на севере Европы или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сетр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Каспийского моря. За такие миграции этих рыб называют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оходным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resC4DDE430-0A01-022A-019D-A18A1EFE6469"/>
          <p:cNvPicPr/>
          <p:nvPr/>
        </p:nvPicPr>
        <p:blipFill>
          <a:blip r:embed="rId1"/>
          <a:stretch/>
        </p:blipFill>
        <p:spPr>
          <a:xfrm>
            <a:off x="900000" y="404640"/>
            <a:ext cx="7417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рослые особи дальневосточного лосося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горбуш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рис. 123) после нереста обречены на гибель. Инстинкт оставить после себя потомство у них так силен, что в пути они ничего не едят и приходят к местам нереста изнуренными голодовкой, откладывают икру, оплодотворяют ее и погибаю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ыбы – раздельнополые животные. Размножаются в воде: самки выметывают икру, самцы выделяют на икру семенную жидкость. Большинство рыб выметывает множество икринок и после оплодотворения оставляет их без присмотра. Много икринок гибнет. У заботящихся о потомстве рыб бывает немного икринок, однако большая часть их благополучно развивается в мальк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Назовите основные части скелета рыбы. Какую функцию они выполняют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Из каких органов состоит опорно-двигательная, дыхательная, кровеносная, центральная нервная системы рыб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Перечислите характерные черты внутреннего строения рыб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Объясните значение плавательного пузыря в жизни костных рыб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Органы размножени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бы, как правило,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раздельнополы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животные. Органы размножения самок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яични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см. рис. 119), в них созревают яйцеклетки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икрин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Органы размножения самцов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еменни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молоки). В них созревают сперматозои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мки выметывают икринки в воду. Самцы обливают яйцеклетки семенной жидкостью со сперматозоидами. Посл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оплодотво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то есть слияния сперматозоида с яйцеклеткой, из оплодотворенной икринки развиваются мальки ры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аще всего рыбы выметывают икру в воду и впоследствии не проявляют заботу о потомстве. При таком способе размножения бывает очень много икринок – сотни, тысячи, сотни тысяч, даже миллионы, так как многие из них погибают: часть поедают хищник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ругие попадают в неблагоприятные условия, поражаются плесенью, паразитами либо гибнут по другим причинам. Например, треска выметывает до 10 млн икринок. В нашей стране среди пресноводных рыб наиболее плодовиты сазан (до 1,5 млн икринок) и щука (до 1 млн икринок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ако есть среди рыб и те, кто заботится о потомстве. Они откладывают икру в углубления дна (лососи), строят гнезда (колюшка), носят икру во рту (тилапия) (рис. 122) или на теле (рыба-игла, морской конек). А есть и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живородящ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рыбы. Среди хрящевых рыб большинство акул рождают акуля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ечно, при заботе о потомстве число икринок, отложенных одной самкой, и рожденных детенышей сокращается до десятков и единиц. В заботе о потомстве проявляются сложные формы поведения рыб. Например, самец колюшки ревностно охраняет свое гнездо от хищников, а тропический сом, выносив икру во рту, впоследствии прячет там и потомство, если ему угрожает опас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resC4DDE42B-0A01-022A-0096-D6B449435412"/>
          <p:cNvPicPr/>
          <p:nvPr/>
        </p:nvPicPr>
        <p:blipFill>
          <a:blip r:embed="rId1"/>
          <a:stretch/>
        </p:blipFill>
        <p:spPr>
          <a:xfrm>
            <a:off x="324000" y="1989000"/>
            <a:ext cx="845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2:38:24Z</dcterms:created>
  <dc:creator>54</dc:creator>
  <dc:description/>
  <dc:language>en-US</dc:language>
  <cp:lastModifiedBy>Николай</cp:lastModifiedBy>
  <dcterms:modified xsi:type="dcterms:W3CDTF">2013-01-09T11:01:00Z</dcterms:modified>
  <cp:revision>6</cp:revision>
  <dc:subject/>
  <dc:title>33. Особенности размножения рыб</dc:title>
</cp:coreProperties>
</file>