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4496-5300-4873-A87D-33868C9C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E063-9F82-413B-A469-B17D579E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0ADE-4F3F-44DE-9A8B-638CC6FB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2929-A813-43ED-A50A-F5B7C1F6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657A-2726-4C55-9197-1A340C8C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DCF0-6D27-4D23-B174-92CF1D4E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4701-AA5D-4B5A-B52C-020278AF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5E6D-C130-4D99-A09F-A6AFE4BC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E007-2EAB-42E0-8F69-3DA2DD82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9AB2-D7C8-4E84-9FE1-82A1D473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4C80-04B2-4237-8F6A-775CF941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1165-025B-42F6-95E3-15E9D4DC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3561-2971-424D-A075-456ACE8D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B736-6021-4A8B-90E6-0705772B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BC46-CDA7-4905-921C-732B70E1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CB54-629F-4184-BFAA-0C3FEE14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556F-218A-40B5-995B-6FC1A70A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450B-5163-433C-B96D-7B744E76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A04E-5F89-40A3-BBCA-C0F7D1E0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6D48-7EA6-42A7-9A84-6A77D0FB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C8D3-4C56-4E27-B4CF-09EEFEBD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B992-FDD4-454D-913B-64C178DE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65BB-2420-49E5-8A89-E5D3D66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3012-B3B1-445A-976E-E0CC5C70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CA42-F174-40B6-86D1-663426A363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BBA0-647C-4C03-AD9E-FB9216906B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1143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Особенности размножения рыб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00120" y="571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resC4DDE42B-0A01-022A-0096-D6B449435412"/>
          <p:cNvPicPr/>
          <p:nvPr/>
        </p:nvPicPr>
        <p:blipFill>
          <a:blip r:embed="rId1"/>
          <a:stretch/>
        </p:blipFill>
        <p:spPr>
          <a:xfrm>
            <a:off x="500040" y="2928960"/>
            <a:ext cx="845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известно, рыбы постоянно движутся в воде в одиночку и группами. Многие рыбы перемещаются на большие расстояния. Такие перемещения животных носят название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миграци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ывают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ормовы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миграции. Так, сельди перемещаются в океане вслед за планктоном, служащим им пищей, за сельдями движутся акулы, которые охотятся на них. Интересны миграции, связанные с размножение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о в том, что места с обильным кормом часто не подходят рыбам для размножения, так как икру необходимо откладывать в чистую воду, богатую кислородом, прогреваемую солнечными луч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т и движутся рыбы, преодолевая сотни и даже тысячи километров, от мест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гул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к местам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ерест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размножения). Так поступают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лосос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Дальнем Востоке, на севере Европы или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сетр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Каспийского моря. За такие миграции этих рыб называют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оходным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resC4DDE430-0A01-022A-019D-A18A1EFE6469"/>
          <p:cNvPicPr/>
          <p:nvPr/>
        </p:nvPicPr>
        <p:blipFill>
          <a:blip r:embed="rId1"/>
          <a:stretch/>
        </p:blipFill>
        <p:spPr>
          <a:xfrm>
            <a:off x="900000" y="404640"/>
            <a:ext cx="7417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рослые особи дальневосточного лосося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горбуш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рис. 123) после нереста обречены на гибель. Инстинкт оставить после себя потомство у них так силен, что в пути они ничего не едят и приходят к местам нереста изнуренными голодовкой, откладывают икру, оплодотворяют ее и погибаю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ыбы – раздельнополые животные. Размножаются в воде: самки выметывают икру, самцы выделяют на икру семенную жидкость. Большинство рыб выметывает множество икринок и после оплодотворения оставляет их без присмотра. Много икринок гибнет. У заботящихся о потомстве рыб бывает немного икринок, однако большая часть их благополучно развивается в мальк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Назовите основные части скелета рыбы. Какую функцию они выполняют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Из каких органов состоит опорно-двигательная, дыхательная, кровеносная, центральная нервная системы рыб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Перечислите характерные черты внутреннего строения рыб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Объясните значение плавательного пузыря в жизни костных рыб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Органы размножени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бы, как правило,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раздельнополы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животные. Органы размножения самок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яични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см. рис. 119), в них созревают яйцеклетки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икрин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Органы размножения самцов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еменни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молоки). В них созревают сперматозои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мки выметывают икринки в воду. Самцы обливают яйцеклетки семенной жидкостью со сперматозоидами. Посл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оплодотво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то есть слияния сперматозоида с яйцеклеткой, из оплодотворенной икринки развиваются мальки ры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аще всего рыбы выметывают икру в воду и впоследствии не проявляют заботу о потомстве. При таком способе размножения бывает очень много икринок – сотни, тысячи, сотни тысяч, даже миллионы, так как многие из них погибают: часть поедают хищник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ругие попадают в неблагоприятные условия, поражаются плесенью, паразитами либо гибнут по другим причинам. Например, треска выметывает до 10 млн икринок. В нашей стране среди пресноводных рыб наиболее плодовиты сазан (до 1,5 млн икринок) и щука (до 1 млн икринок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ако есть среди рыб и те, кто заботится о потомстве. Они откладывают икру в углубления дна (лососи), строят гнезда (колюшка), носят икру во рту (тилапия) (рис. 122) или на теле (рыба-игла, морской конек). А есть и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живородящ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рыбы. Среди хрящевых рыб большинство акул рождают акуля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ечно, при заботе о потомстве число икринок, отложенных одной самкой, и рожденных детенышей сокращается до десятков и единиц. В заботе о потомстве проявляются сложные формы поведения рыб. Например, самец колюшки ревностно охраняет свое гнездо от хищников, а тропический сом, выносив икру во рту, впоследствии прячет там и потомство, если ему угрожает опас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resC4DDE42B-0A01-022A-0096-D6B449435412"/>
          <p:cNvPicPr/>
          <p:nvPr/>
        </p:nvPicPr>
        <p:blipFill>
          <a:blip r:embed="rId1"/>
          <a:stretch/>
        </p:blipFill>
        <p:spPr>
          <a:xfrm>
            <a:off x="324000" y="1989000"/>
            <a:ext cx="845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2:38:24Z</dcterms:created>
  <dc:creator>54</dc:creator>
  <dc:description/>
  <dc:language>en-US</dc:language>
  <cp:lastModifiedBy>Николай</cp:lastModifiedBy>
  <dcterms:modified xsi:type="dcterms:W3CDTF">2013-01-09T11:01:00Z</dcterms:modified>
  <cp:revision>6</cp:revision>
  <dc:subject/>
  <dc:title>33. Особенности размножения рыб</dc:title>
</cp:coreProperties>
</file>