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DBF6-7F65-4684-AEBB-D0FCB0A7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4E852-ABC1-4CE4-8240-45451AF4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4378A-219E-4FE5-BFD4-3ED81D0B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0AE93-8646-4423-A724-CB60B4DA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6D13-87C9-4745-A7E0-46032B62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6692-BCE7-4814-85AB-F8831292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619B-57E2-4731-BBB2-D10D084C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8EDA-80B2-4597-A2E8-06172C43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41E1-FD38-4FEB-9D62-F4CA1A6B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E1D6-7D52-4D79-B578-79969DD3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89CF-9E65-409C-BC4C-74E3325F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2CB0-F1A6-4DDB-A44D-D99A77A4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3926-35A2-472F-AD76-75A843C9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ACB7-F6A5-4DC4-9DBF-E5E6191A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D810-7886-4E1C-8633-9DAF07DB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36E4-6BA4-4651-9702-1C135B1E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5381-2CEA-4D98-920F-8C90D53F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D4B7-0788-4569-A3E7-0293DACE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BFCDF-D094-4249-B0A7-0779133A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86525-C048-4D63-A294-0AB627F3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1984-A245-4F69-BA71-65522B75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9165-2A0F-420B-9778-B5436BAE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23FA-82FD-473E-A20A-CBC97289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6F53-5070-45CA-9569-8BE3C9BD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E9C0-4E30-4553-89DF-46C633D2C6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7018-C3E3-4B4B-BD9B-FD474FAB2C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7160" y="1143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Особенности размножения рыб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00120" y="571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5" descr="resC4DDE42B-0A01-022A-0096-D6B449435412"/>
          <p:cNvPicPr/>
          <p:nvPr/>
        </p:nvPicPr>
        <p:blipFill>
          <a:blip r:embed="rId1"/>
          <a:stretch/>
        </p:blipFill>
        <p:spPr>
          <a:xfrm>
            <a:off x="500040" y="2928960"/>
            <a:ext cx="845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Мигр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 известно, рыбы постоянно движутся в воде в одиночку и группами. Многие рыбы перемещаются на большие расстояния. Такие перемещения животных носят название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миграци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ывают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кормовы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миграции. Так, сельди перемещаются в океане вслед за планктоном, служащим им пищей, за сельдями движутся акулы, которые охотятся на них. Интересны миграции, связанные с размножение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Мигр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ло в том, что места с обильным кормом часто не подходят рыбам для размножения, так как икру необходимо откладывать в чистую воду, богатую кислородом, прогреваемую солнечными луч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Мигр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т и движутся рыбы, преодолевая сотни и даже тысячи километров, от мест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агул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к местам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ерест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размножения). Так поступают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лосос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Дальнем Востоке, на севере Европы или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сетр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Каспийского моря. За такие миграции этих рыб называют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роходным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resC4DDE430-0A01-022A-019D-A18A1EFE6469"/>
          <p:cNvPicPr/>
          <p:nvPr/>
        </p:nvPicPr>
        <p:blipFill>
          <a:blip r:embed="rId1"/>
          <a:stretch/>
        </p:blipFill>
        <p:spPr>
          <a:xfrm>
            <a:off x="900000" y="404640"/>
            <a:ext cx="7417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Мигр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зрослые особи дальневосточного лосося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горбуш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рис. 123) после нереста обречены на гибель. Инстинкт оставить после себя потомство у них так силен, что в пути они ничего не едят и приходят к местам нереста изнуренными голодовкой, откладывают икру, оплодотворяют ее и погибаю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ыбы – раздельнополые животные. Размножаются в воде: самки выметывают икру, самцы выделяют на икру семенную жидкость. Большинство рыб выметывает множество икринок и после оплодотворения оставляет их без присмотра. Много икринок гибнет. У заботящихся о потомстве рыб бывает немного икринок, однако большая часть их благополучно развивается в мальк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прос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Назовите основные части скелета рыбы. Какую функцию они выполняют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Из каких органов состоит опорно-двигательная, дыхательная, кровеносная, центральная нервная системы рыб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Перечислите характерные черты внутреннего строения рыб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Объясните значение плавательного пузыря в жизни костных рыб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Органы размножени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бы, как правило,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раздельнополы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животные. Органы размножения самок –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яичник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см. рис. 119), в них созревают яйцеклетки –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икринк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Органы размножения самцов –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семенник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молоки). В них созревают сперматозои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азмножение рыб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мки выметывают икринки в воду. Самцы обливают яйцеклетки семенной жидкостью со сперматозоидами. После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оплодотвор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то есть слияния сперматозоида с яйцеклеткой, из оплодотворенной икринки развиваются мальки рыб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азмножение рыб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аще всего рыбы выметывают икру в воду и впоследствии не проявляют заботу о потомстве. При таком способе размножения бывает очень много икринок – сотни, тысячи, сотни тысяч, даже миллионы, так как многие из них погибают: часть поедают хищник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азмножение рыб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ругие попадают в неблагоприятные условия, поражаются плесенью, паразитами либо гибнут по другим причинам. Например, треска выметывает до 10 млн икринок. В нашей стране среди пресноводных рыб наиболее плодовиты сазан (до 1,5 млн икринок) и щука (до 1 млн икринок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азмножение рыб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днако есть среди рыб и те, кто заботится о потомстве. Они откладывают икру в углубления дна (лососи), строят гнезда (колюшка), носят икру во рту (тилапия) (рис. 122) или на теле (рыба-игла, морской конек). А есть и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живородящи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рыбы. Среди хрящевых рыб большинство акул рождают акулят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азмножение рыб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ечно, при заботе о потомстве число икринок, отложенных одной самкой, и рожденных детенышей сокращается до десятков и единиц. В заботе о потомстве проявляются сложные формы поведения рыб. Например, самец колюшки ревностно охраняет свое гнездо от хищников, а тропический сом, выносив икру во рту, впоследствии прячет там и потомство, если ему угрожает опас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resC4DDE42B-0A01-022A-0096-D6B449435412"/>
          <p:cNvPicPr/>
          <p:nvPr/>
        </p:nvPicPr>
        <p:blipFill>
          <a:blip r:embed="rId1"/>
          <a:stretch/>
        </p:blipFill>
        <p:spPr>
          <a:xfrm>
            <a:off x="324000" y="1989000"/>
            <a:ext cx="845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2:38:24Z</dcterms:created>
  <dc:creator>54</dc:creator>
  <dc:description/>
  <dc:language>en-US</dc:language>
  <cp:lastModifiedBy>Николай</cp:lastModifiedBy>
  <dcterms:modified xsi:type="dcterms:W3CDTF">2013-01-09T11:01:00Z</dcterms:modified>
  <cp:revision>6</cp:revision>
  <dc:subject/>
  <dc:title>33. Особенности размножения рыб</dc:title>
</cp:coreProperties>
</file>