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5FF-0ED3-4FAF-BB40-AD870F1A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7730-FA2F-4FC1-8383-72F55347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841-182F-46C4-B5AA-9146082A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2777-706F-45F1-8882-E8751C5F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6282-6677-4338-B92B-9B8ED55E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29E9-42C8-410D-8E55-2331E088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141A-2629-4167-B558-D241DE9A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F262-3EE0-4530-9B6B-AF2356AB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D801-C084-467A-AF14-01D21ED1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3CCA-459D-4125-85A7-6DC6EF11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5BD2-D194-4FD4-8711-FC6A8AEA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AD4F-C107-442F-BBBB-C2B2F901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DE4E-3B8E-40CC-B10E-7E1D244FF3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город 056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енние и зимние явления в жизни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797800" y="5300280"/>
            <a:ext cx="221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-состав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ков С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Рамка 6"/>
          <p:cNvSpPr/>
          <p:nvPr/>
        </p:nvSpPr>
        <p:spPr>
          <a:xfrm>
            <a:off x="3786120" y="6357960"/>
            <a:ext cx="2786040" cy="500040"/>
          </a:xfrm>
          <a:prstGeom prst="pie">
            <a:avLst/>
          </a:prstGeom>
          <a:solidFill>
            <a:srgbClr val="def6f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f6f1"/>
                </a:solidFill>
                <a:latin typeface="Arial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ro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80000" y="5805360"/>
            <a:ext cx="48448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Фото В. Берб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24000" y="4005360"/>
            <a:ext cx="4762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се наши деревья и кустарники сбрасывают на зиму листья. Зимнезелеными сохраняются хвойные: сосна, ель, можжевель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15550007"/>
          <p:cNvPicPr/>
          <p:nvPr/>
        </p:nvPicPr>
        <p:blipFill>
          <a:blip r:embed="rId1"/>
          <a:stretch/>
        </p:blipFill>
        <p:spPr>
          <a:xfrm>
            <a:off x="395280" y="333360"/>
            <a:ext cx="2338560" cy="352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22320027"/>
          <p:cNvPicPr/>
          <p:nvPr/>
        </p:nvPicPr>
        <p:blipFill>
          <a:blip r:embed="rId2"/>
          <a:stretch/>
        </p:blipFill>
        <p:spPr>
          <a:xfrm>
            <a:off x="3564000" y="355680"/>
            <a:ext cx="5184720" cy="3438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Рисунок10"/>
          <p:cNvPicPr/>
          <p:nvPr/>
        </p:nvPicPr>
        <p:blipFill>
          <a:blip r:embed="rId3"/>
          <a:stretch/>
        </p:blipFill>
        <p:spPr>
          <a:xfrm>
            <a:off x="468360" y="4076640"/>
            <a:ext cx="33829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642920" y="3716280"/>
            <a:ext cx="40388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незелеными сохраняются и ряд кустарничков: вереск, багульник, брусника, клюква, водяника 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Рисунок12"/>
          <p:cNvPicPr/>
          <p:nvPr/>
        </p:nvPicPr>
        <p:blipFill>
          <a:blip r:embed="rId1"/>
          <a:stretch/>
        </p:blipFill>
        <p:spPr>
          <a:xfrm>
            <a:off x="395280" y="404640"/>
            <a:ext cx="3816360" cy="3157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Рисунок13"/>
          <p:cNvPicPr/>
          <p:nvPr/>
        </p:nvPicPr>
        <p:blipFill>
          <a:blip r:embed="rId2"/>
          <a:stretch/>
        </p:blipFill>
        <p:spPr>
          <a:xfrm>
            <a:off x="395280" y="3573360"/>
            <a:ext cx="3816360" cy="2957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Рисунок14"/>
          <p:cNvPicPr/>
          <p:nvPr/>
        </p:nvPicPr>
        <p:blipFill>
          <a:blip r:embed="rId3"/>
          <a:stretch/>
        </p:blipFill>
        <p:spPr>
          <a:xfrm>
            <a:off x="4788000" y="404640"/>
            <a:ext cx="38876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P1020017"/>
          <p:cNvPicPr/>
          <p:nvPr/>
        </p:nvPicPr>
        <p:blipFill>
          <a:blip r:embed="rId1"/>
          <a:stretch/>
        </p:blipFill>
        <p:spPr>
          <a:xfrm>
            <a:off x="2195640" y="333360"/>
            <a:ext cx="4537080" cy="3402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378936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воя и листья зимнезеленых растений обладают способностью переносить значительные морозы. Опасность засохнуть зимой от чрезмерного испарения у большинства наших зимнезеленых деревьев и кустарничков предотвращается резким сокращением листовой поверхности. Примером может служить иглоподобная хвоя сосен и елей, мелкие чешуеподобные листья вереска и водя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DSC05943"/>
          <p:cNvPicPr/>
          <p:nvPr/>
        </p:nvPicPr>
        <p:blipFill>
          <a:blip r:embed="rId1"/>
          <a:stretch/>
        </p:blipFill>
        <p:spPr>
          <a:xfrm>
            <a:off x="395280" y="260280"/>
            <a:ext cx="4373640" cy="58327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42920" y="404280"/>
            <a:ext cx="40388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окие листья у некоторых зимнезеленых растений (брусника, подбел, грушанки и др.) сохраняются лишь в том случае, если они зимуют под защитой снежного покров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427280" y="475920"/>
            <a:ext cx="4259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и листья зимнезеленых растений, готовясь к перезимовке, испытывают серьезные изменения. Внешне это проявляется в изменении их окраски. Хвоя елей и сосен темнеет, становится тусклой. У вереска, багульника, болотного вереска листья буреют. Весной перезимовавшая хвоя и листья вновь приобретают обычную зеленую окра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P1020056"/>
          <p:cNvPicPr/>
          <p:nvPr/>
        </p:nvPicPr>
        <p:blipFill>
          <a:blip r:embed="rId1"/>
          <a:stretch/>
        </p:blipFill>
        <p:spPr>
          <a:xfrm>
            <a:off x="324000" y="404640"/>
            <a:ext cx="3941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22330067"/>
          <p:cNvPicPr/>
          <p:nvPr/>
        </p:nvPicPr>
        <p:blipFill>
          <a:blip r:embed="rId1"/>
          <a:stretch/>
        </p:blipFill>
        <p:spPr>
          <a:xfrm>
            <a:off x="0" y="0"/>
            <a:ext cx="9325080" cy="68515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000" y="2997360"/>
            <a:ext cx="800244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рассеиваются семена  у видов с сухими плодами. После установления снежного покрова заканчивается рассеивание семян у березы, серой ольхи, обыкновенного ясеня, мелколистной липы. Большинство семян или плодов этих видов снабжены придатками — «крыльями», способствующими их распространению ветром по снежному па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-360" y="2924280"/>
            <a:ext cx="47163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211280" y="404280"/>
            <a:ext cx="4475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 полно приспособление к зимнему рассеиванию семян выражено у ели. Семена ели созревают осенью но, сохраняются на деревьях до предвесенья, когда, под влиянием усиливающегося солнечного освещения шишечные чешуи подсыхают и растопыриваются. Семена освобождаются и падают на снег. Ветер далеко разносит семена-летучки ели по гладкому позднезимнему на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DSCN6301"/>
          <p:cNvPicPr/>
          <p:nvPr/>
        </p:nvPicPr>
        <p:blipFill>
          <a:blip r:embed="rId1"/>
          <a:stretch/>
        </p:blipFill>
        <p:spPr>
          <a:xfrm>
            <a:off x="395280" y="476280"/>
            <a:ext cx="3889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PICT0059"/>
          <p:cNvPicPr/>
          <p:nvPr/>
        </p:nvPicPr>
        <p:blipFill>
          <a:blip r:embed="rId1"/>
          <a:stretch/>
        </p:blipFill>
        <p:spPr>
          <a:xfrm>
            <a:off x="1619280" y="425520"/>
            <a:ext cx="5977080" cy="4483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51573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логия рассеивания семян сосны иная. У сосны семена рассеиваются через год после цветения в конце весны — начале л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у многих деревьев и кустарников наблюдается рассеивание семян. У некоторых из них, обладающих сочными плодами (рябина, боярышник, калина, можжевельник и др.), нередко часть плодов долго сохраняется на ветв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_Зимние краски"/>
          <p:cNvPicPr/>
          <p:nvPr/>
        </p:nvPicPr>
        <p:blipFill>
          <a:blip r:embed="rId1"/>
          <a:stretch/>
        </p:blipFill>
        <p:spPr>
          <a:xfrm>
            <a:off x="395280" y="404640"/>
            <a:ext cx="40766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театр 016"/>
          <p:cNvPicPr/>
          <p:nvPr/>
        </p:nvPicPr>
        <p:blipFill>
          <a:blip r:embed="rId1"/>
          <a:stretch/>
        </p:blipFill>
        <p:spPr>
          <a:xfrm>
            <a:off x="395280" y="620640"/>
            <a:ext cx="3941640" cy="5256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0" y="691920"/>
            <a:ext cx="4186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данным Северодвинского городского краеведческого музея Зима в Северодвинске -Первая декада ноября – 2 декада м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суточная температура воздуха ниже 0 граду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бласти 171–234 дня, в Северодвинске 183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Рисунок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539640" y="5516640"/>
            <a:ext cx="820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плоды служат пищей зимующим птицам, которые способствуют широкому рассеиванию сем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Рисунок23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Ягоды можжеве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кончанию листопада осенью и зимой древесные ветви голые. В биологическом отношении наибольший интерес представляют защитные приспособления почек в виде наружных кожистых чешуй, волосистого покрова, клейких смолистых веществ, выделений воска и т. п. С точки зрения приспособления растений к перенесению зимы все высшие наземные растения можно разделить на пять главных экологических групп. Главным критерием для этого разделения является высота положения почек возобновления, из которых в неблагоприятное время года появятся новые побе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тип (фанерофиты) составляют деревья и кустарники, почки которых располагаются на ветвях выше снежного покрова. Находясь на открытом воздухе, подвергаясь действию ветра и т. д., они наделены соответствующими приспособлениями против опасности потери воды испа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город 010"/>
          <p:cNvPicPr/>
          <p:nvPr/>
        </p:nvPicPr>
        <p:blipFill>
          <a:blip r:embed="rId1"/>
          <a:stretch/>
        </p:blipFill>
        <p:spPr>
          <a:xfrm>
            <a:off x="324000" y="765000"/>
            <a:ext cx="4464000" cy="33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348000" y="333360"/>
            <a:ext cx="5472000" cy="684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тип (хамефиты) —кустарнички и травянистые растения, почки возобновления которых находятся на небольшом расстоянии от почвы и зимуют в толще снежного покрова. Почки этих растений покрыты более нежными и зелеными чешуями. Покрытые снегом, растения этой группы могут сохранять часть своей листвы. Этот тип включает вечнозеленые кустарнички: бруснику, багульник, и др. Из травянистых растений, одни перезимовывают только с почками, другие с листьями. Среди этих растений есть стелющиеся по земле, есть сохраняющие на зиму наряду с листьями и цв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DSC05932"/>
          <p:cNvPicPr/>
          <p:nvPr/>
        </p:nvPicPr>
        <p:blipFill>
          <a:blip r:embed="rId1"/>
          <a:stretch/>
        </p:blipFill>
        <p:spPr>
          <a:xfrm>
            <a:off x="324000" y="404640"/>
            <a:ext cx="3130560" cy="41752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1296000" y="547704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е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48320" y="476280"/>
            <a:ext cx="40384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тип (гемикриптофиты) составляют растения, почки возобновления которых лежат на одном уровне с землей, а поднимающиеся над землей части их отмирают на зиму. Обычно эти растения образуют на почве зимующую розетку листьев, в центре которой рас полагается нежная зеленая почка. Таковы, например, маргаритка, первоцвет, медуница, манжетка, подорож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Рисунок26"/>
          <p:cNvPicPr/>
          <p:nvPr/>
        </p:nvPicPr>
        <p:blipFill>
          <a:blip r:embed="rId1"/>
          <a:stretch/>
        </p:blipFill>
        <p:spPr>
          <a:xfrm>
            <a:off x="395280" y="620640"/>
            <a:ext cx="4248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растительность города17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К гемикриптофитам относятся такж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одуванчик, чистотел, коровяк, сурепка, щавель конский, чертополох  и др. Стелющиеся по земле растения, смотря по степени пригибания почек к земле, могут быть отнесены и к этой группе и к предшествующ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новая дача 032"/>
          <p:cNvPicPr/>
          <p:nvPr/>
        </p:nvPicPr>
        <p:blipFill>
          <a:blip r:embed="rId1"/>
          <a:stretch/>
        </p:blipFill>
        <p:spPr>
          <a:xfrm>
            <a:off x="1692360" y="260280"/>
            <a:ext cx="5327640" cy="3997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4365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вертый тип (геофиты) — растения, сохраняющиеся на зиму лишь в подземных частях — в виде клуб луковиц, корневищ — и, следовательно, имеющие почки возобновления уже под поверхностью почвы. Например, мать-и-мач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5444640"/>
            <a:ext cx="33116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стушья сум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56000" y="475920"/>
            <a:ext cx="44640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тый тип (терофиты) составляют растения однолетние, нацело теряющие все свои части и переносящие зиму в виде семян, хорошо защищенных плотными оболочками от резких колебаний температуры и от потери воды. Сюда относится большинство сорняков, произрастающих среди наших культурных растений – мокрица, ярутка, пастушья сумка, лебеда, крапива жгуч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Рисунок29"/>
          <p:cNvPicPr/>
          <p:nvPr/>
        </p:nvPicPr>
        <p:blipFill>
          <a:blip r:embed="rId1"/>
          <a:stretch/>
        </p:blipFill>
        <p:spPr>
          <a:xfrm>
            <a:off x="250920" y="765000"/>
            <a:ext cx="40384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обую группу выделяются  поселяющиеся на древесных стволах низшие растения — лишайники, некоторые водоросли, мхи. Не будучи ничем защищены, они, однако, стойко переносят зимнюю стужу. Эту стойкость, по всей вероятности, мы должны отнести за счет свойств цитоплазмы этих растений. В заключение подчеркнем, что для многих наших растений воздействие низких температур зимой представляет обязательное условие для нормальн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427280" y="475920"/>
            <a:ext cx="4259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летние растения, принесшие семена, осенью заканчивают свой жизненный цикл. Двулетние и многолетние растения осенью погружаются в покой. В покоящихся органах основные проявления их жизнедеятельности сохраняются и могут быть обнаружены. В  начале зимы в деревьях запасы крахмала исчезают, заменяясь сахаром что имеет большое значение для увеличения морозостойкости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71"/>
          <p:cNvPicPr/>
          <p:nvPr/>
        </p:nvPicPr>
        <p:blipFill>
          <a:blip r:embed="rId1"/>
          <a:stretch/>
        </p:blipFill>
        <p:spPr>
          <a:xfrm>
            <a:off x="395280" y="549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5300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ногие однолетники из водных растений перезимовывают в виде семян. Некоторые перезимовывают в виде корневищ: рдест плаваю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Рисунок1"/>
          <p:cNvPicPr/>
          <p:nvPr/>
        </p:nvPicPr>
        <p:blipFill>
          <a:blip r:embed="rId1"/>
          <a:stretch/>
        </p:blipFill>
        <p:spPr>
          <a:xfrm>
            <a:off x="1476360" y="422280"/>
            <a:ext cx="61912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8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58560" y="475920"/>
            <a:ext cx="742788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f6f1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Перезимовывают в виде корневищ: кувш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284720" y="692280"/>
            <a:ext cx="4402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й распространенный способ зимовки водных растений — в виде побегов с сильно скрученными и укороченными листьями, или в виде зимующих почек, образующихся в конце вегетационного периода. Наполняясь крахмалом и получая высокий удельный вес они осенью опускаются на дно. Зимующие почки образуются, например, у водокраса, роголистника, пузырчатк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конференция 2007 049"/>
          <p:cNvPicPr/>
          <p:nvPr/>
        </p:nvPicPr>
        <p:blipFill>
          <a:blip r:embed="rId1"/>
          <a:stretch/>
        </p:blipFill>
        <p:spPr>
          <a:xfrm>
            <a:off x="324000" y="765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4868640"/>
            <a:ext cx="8229600" cy="14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из водных растений перезимовывают без специальных приспособлений на дне водоема, как ряска (фото), болотники, некоторые рде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Рисунок4"/>
          <p:cNvPicPr/>
          <p:nvPr/>
        </p:nvPicPr>
        <p:blipFill>
          <a:blip r:embed="rId1"/>
          <a:stretch/>
        </p:blipFill>
        <p:spPr>
          <a:xfrm>
            <a:off x="1619280" y="372960"/>
            <a:ext cx="61214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янский И. И. Ботанические экскурсии. Пособие для учителей. – М.: Просвещение, 196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Рисунок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000" y="5373720"/>
            <a:ext cx="800244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К весне крахмал в растении снова появляетс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 зимнего покоя вызывается различными причинами, в соответствии с чем можно различать покой глубокий и вынужденный. Первый, по-видимому, связан с физико-химическими изменениями цитоплазмы клеток, с накоплением в ней веществ, тормозящих рост. Второй непосредственно обусловливается внешними воздействиями. Прекращение роста побегов у наших деревьев начинается тогда, когда внешняя температура еще достаточна для вегетативных процессов. Но уже в январе  ветки и растения в теплом помещении энергично пробуждаются: почки распускаются и дают побеги, весенние растения зацветают. Значит, в это время их покой в природе является «вынужденным», обусловленным внешними факторами, главным образом низкой температурой з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780000" y="620280"/>
            <a:ext cx="490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большинства древесных растений переход в состояние покоя выражается осенним листопадом, которому предшествует осенняя окраска листьев. Листья берез  становятся светло-желтыми; рябины — пунцово-красными; осины — оранжевыми; ольхи — мутного буро-зеленого оттенка. Осенняя перемена окраски листьев распространяется также на кустарники к некоторые тр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Золото осени"/>
          <p:cNvPicPr/>
          <p:nvPr/>
        </p:nvPicPr>
        <p:blipFill>
          <a:blip r:embed="rId1"/>
          <a:stretch/>
        </p:blipFill>
        <p:spPr>
          <a:xfrm>
            <a:off x="395280" y="620640"/>
            <a:ext cx="33415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859280" y="764640"/>
            <a:ext cx="38275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, листья голубики и сныти принимают фиолетовый оттенок, черники — ярко-желтый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Рисунок6"/>
          <p:cNvPicPr/>
          <p:nvPr/>
        </p:nvPicPr>
        <p:blipFill>
          <a:blip r:embed="rId1"/>
          <a:stretch/>
        </p:blipFill>
        <p:spPr>
          <a:xfrm>
            <a:off x="468360" y="765000"/>
            <a:ext cx="431964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2920" y="549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лед за переменой окраски листьев наступает листопад, имеющий в первую очередь значение предохранительного средства от засыхания деревьев зимой, так как испарение воды через громадную листовую поверхность продолжалось бы и с прекращением всасывания из охлажденной поч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Рисунок7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333360"/>
            <a:ext cx="3790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имо от перекрашивания и других изменений в тканях пластинок листьев, происходит подготовка к сбрасыванию. В черешках появляется так называемый разделительный слой клеток, где и про исходит отделение под влиянием легкого дуновения ветра и даже под собственной тяже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7:58:40Z</dcterms:created>
  <dc:creator>Большаков</dc:creator>
  <dc:description/>
  <dc:language>en-US</dc:language>
  <cp:lastModifiedBy>Admin</cp:lastModifiedBy>
  <dcterms:modified xsi:type="dcterms:W3CDTF">2012-05-12T21:58:49Z</dcterms:modified>
  <cp:revision>15</cp:revision>
  <dc:subject/>
  <dc:title>Осенние и зимние явления в жизни растений</dc:title>
</cp:coreProperties>
</file>