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BF4-F01C-4D49-8BF5-12ACA23D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7FF-9BA5-47E5-A792-99E99495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E63-A4A3-40FB-A68F-86E60AE2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703-429B-42DF-8BD4-7AB3DCC1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5A3-91DA-4341-A614-5B2588EA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D1F-7496-4C30-862C-746EBFA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80B-9BDF-4757-B5BD-C086C874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8CE-220B-4FC9-83CD-34C71CC6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BC1-85CE-4BC0-AF89-823B6AC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876-AFE0-48F7-ABCD-B218401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E14-1A71-4631-94DE-187FCCE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7E8-3615-464A-A03A-72F4137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22E3-5B52-4A9A-A719-AAEE2CFE1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город 05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ние и зимние явления в жиз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797800" y="5300280"/>
            <a:ext cx="22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-сост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ков С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Рамка 6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f6f1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0" y="5805360"/>
            <a:ext cx="4844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Фото В. Берб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4000" y="4005360"/>
            <a:ext cx="4762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се наши деревья и кустарники сбрасывают на зиму листья. Зимнезелеными сохраняются хвойные: сосна, ель, можжеве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15550007"/>
          <p:cNvPicPr/>
          <p:nvPr/>
        </p:nvPicPr>
        <p:blipFill>
          <a:blip r:embed="rId1"/>
          <a:stretch/>
        </p:blipFill>
        <p:spPr>
          <a:xfrm>
            <a:off x="395280" y="333360"/>
            <a:ext cx="233856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22320027"/>
          <p:cNvPicPr/>
          <p:nvPr/>
        </p:nvPicPr>
        <p:blipFill>
          <a:blip r:embed="rId2"/>
          <a:stretch/>
        </p:blipFill>
        <p:spPr>
          <a:xfrm>
            <a:off x="3564000" y="355680"/>
            <a:ext cx="5184720" cy="343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Рисунок10"/>
          <p:cNvPicPr/>
          <p:nvPr/>
        </p:nvPicPr>
        <p:blipFill>
          <a:blip r:embed="rId3"/>
          <a:stretch/>
        </p:blipFill>
        <p:spPr>
          <a:xfrm>
            <a:off x="468360" y="4076640"/>
            <a:ext cx="3382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42920" y="3716280"/>
            <a:ext cx="4038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езелеными сохраняются и ряд кустарничков: вереск, багульник, брусника, клюква, водяника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Рисунок12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315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3"/>
          <p:cNvPicPr/>
          <p:nvPr/>
        </p:nvPicPr>
        <p:blipFill>
          <a:blip r:embed="rId2"/>
          <a:stretch/>
        </p:blipFill>
        <p:spPr>
          <a:xfrm>
            <a:off x="395280" y="3573360"/>
            <a:ext cx="3816360" cy="295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Рисунок14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P1020017"/>
          <p:cNvPicPr/>
          <p:nvPr/>
        </p:nvPicPr>
        <p:blipFill>
          <a:blip r:embed="rId1"/>
          <a:stretch/>
        </p:blipFill>
        <p:spPr>
          <a:xfrm>
            <a:off x="2195640" y="333360"/>
            <a:ext cx="4537080" cy="3402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оя и листья зимнезеленых растений обладают способностью переносить значительные морозы. Опасность засохнуть зимой от чрезмерного испарения у большинства наших зимнезеленых деревьев и кустарничков предотвращается резким сокращением листовой поверхности. Примером может служить иглоподобная хвоя сосен и елей, мелкие чешуеподобные листья вереска и вод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DSC05943"/>
          <p:cNvPicPr/>
          <p:nvPr/>
        </p:nvPicPr>
        <p:blipFill>
          <a:blip r:embed="rId1"/>
          <a:stretch/>
        </p:blipFill>
        <p:spPr>
          <a:xfrm>
            <a:off x="395280" y="260280"/>
            <a:ext cx="4373640" cy="5832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2920" y="404280"/>
            <a:ext cx="40388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ие листья у некоторых зимнезеленых растений (брусника, подбел, грушанки и др.) сохраняются лишь в том случае, если они зимуют под защитой снежного покро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листья зимнезеленых растений, готовясь к перезимовке, испытывают серьезные изменения. Внешне это проявляется в изменении их окраски. Хвоя елей и сосен темнеет, становится тусклой. У вереска, багульника, болотного вереска листья буреют. Весной перезимовавшая хвоя и листья вновь приобретают обычную зеленую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P1020056"/>
          <p:cNvPicPr/>
          <p:nvPr/>
        </p:nvPicPr>
        <p:blipFill>
          <a:blip r:embed="rId1"/>
          <a:stretch/>
        </p:blipFill>
        <p:spPr>
          <a:xfrm>
            <a:off x="324000" y="404640"/>
            <a:ext cx="394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2330067"/>
          <p:cNvPicPr/>
          <p:nvPr/>
        </p:nvPicPr>
        <p:blipFill>
          <a:blip r:embed="rId1"/>
          <a:stretch/>
        </p:blipFill>
        <p:spPr>
          <a:xfrm>
            <a:off x="0" y="0"/>
            <a:ext cx="932508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2997360"/>
            <a:ext cx="8002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рассеиваются семена  у видов с сухими плодами. После установления снежного покрова заканчивается рассеивание семян у березы, серой ольхи, обыкновенного ясеня, мелколистной липы. Большинство семян или плодов этих видов снабжены придатками — «крыльями», способствующими их распространению ветром по снежному п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360" y="2924280"/>
            <a:ext cx="471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11280" y="404280"/>
            <a:ext cx="4475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полно приспособление к зимнему рассеиванию семян выражено у ели. Семена ели созревают осенью но, сохраняются на деревьях до предвесенья, когда, под влиянием усиливающегося солнечного освещения шишечные чешуи подсыхают и растопыриваются. Семена освобождаются и падают на снег. Ветер далеко разносит семена-летучки ели по гладкому позднезимнему н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DSCN6301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PICT0059"/>
          <p:cNvPicPr/>
          <p:nvPr/>
        </p:nvPicPr>
        <p:blipFill>
          <a:blip r:embed="rId1"/>
          <a:stretch/>
        </p:blipFill>
        <p:spPr>
          <a:xfrm>
            <a:off x="1619280" y="42552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рассеивания семян сосны иная. У сосны семена рассеиваются через год после цветения в конце весны — начале 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у многих деревьев и кустарников наблюдается рассеивание семян. У некоторых из них, обладающих сочными плодами (рябина, боярышник, калина, можжевельник и др.), нередко часть плодов долго сохраняется на ветв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_Зимние краски"/>
          <p:cNvPicPr/>
          <p:nvPr/>
        </p:nvPicPr>
        <p:blipFill>
          <a:blip r:embed="rId1"/>
          <a:stretch/>
        </p:blipFill>
        <p:spPr>
          <a:xfrm>
            <a:off x="395280" y="404640"/>
            <a:ext cx="4076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театр 016"/>
          <p:cNvPicPr/>
          <p:nvPr/>
        </p:nvPicPr>
        <p:blipFill>
          <a:blip r:embed="rId1"/>
          <a:stretch/>
        </p:blipFill>
        <p:spPr>
          <a:xfrm>
            <a:off x="395280" y="620640"/>
            <a:ext cx="3941640" cy="525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0" y="691920"/>
            <a:ext cx="4186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Северодвинского городского краеведческого музея Зима в Северодвинске -Первая декада ноября – 2 декада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суточная температура воздуха ниже 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ласти 171–234 дня, в Северодвинске 18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39640" y="5516640"/>
            <a:ext cx="820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плоды служат пищей зимующим птицам, которые способствуют широкому рассеиванию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Ягоды можжеве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ю листопада осенью и зимой древесные ветви голые. В биологическом отношении наибольший интерес представляют защитные приспособления почек в виде наружных кожистых чешуй, волосистого покрова, клейких смолистых веществ, выделений воска и т. п. С точки зрения приспособления растений к перенесению зимы все высшие наземные растения можно разделить на пять главных экологических групп. Главным критерием для этого разделения является высота положения почек возобновления, из которых в неблагоприятное время года появятся новые поб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тип (фанерофиты) составляют деревья и кустарники, почки которых располагаются на ветвях выше снежного покрова. Находясь на открытом воздухе, подвергаясь действию ветра и т. д., они наделены соответствующими приспособлениями против опасности потери воды исп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город 010"/>
          <p:cNvPicPr/>
          <p:nvPr/>
        </p:nvPicPr>
        <p:blipFill>
          <a:blip r:embed="rId1"/>
          <a:stretch/>
        </p:blipFill>
        <p:spPr>
          <a:xfrm>
            <a:off x="324000" y="765000"/>
            <a:ext cx="446400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472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тип (хамефиты) —кустарнички и травянистые растения, почки возобновления которых находятся на небольшом расстоянии от почвы и зимуют в толще снежного покрова. Почки этих растений покрыты более нежными и зелеными чешуями. Покрытые снегом, растения этой группы могут сохранять часть своей листвы. Этот тип включает вечнозеленые кустарнички: бруснику, багульник, и др. Из травянистых растений, одни перезимовывают только с почками, другие с листьями. Среди этих растений есть стелющиеся по земле, есть сохраняющие на зиму наряду с листьями и ц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DSC05932"/>
          <p:cNvPicPr/>
          <p:nvPr/>
        </p:nvPicPr>
        <p:blipFill>
          <a:blip r:embed="rId1"/>
          <a:stretch/>
        </p:blipFill>
        <p:spPr>
          <a:xfrm>
            <a:off x="324000" y="404640"/>
            <a:ext cx="3130560" cy="4175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296000" y="54770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е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тип (гемикриптофиты) составляют растения, почки возобновления которых лежат на одном уровне с землей, а поднимающиеся над землей части их отмирают на зиму. Обычно эти растения образуют на почве зимующую розетку листьев, в центре которой рас полагается нежная зеленая почка. Таковы, например, маргаритка, первоцвет, медуница, манжетка, подоро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Рисунок26"/>
          <p:cNvPicPr/>
          <p:nvPr/>
        </p:nvPicPr>
        <p:blipFill>
          <a:blip r:embed="rId1"/>
          <a:stretch/>
        </p:blipFill>
        <p:spPr>
          <a:xfrm>
            <a:off x="395280" y="620640"/>
            <a:ext cx="42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растительность города1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гемикриптофитам относятся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одуванчик, чистотел, коровяк, сурепка, щавель конский, чертополох  и др. Стелющиеся по земле растения, смотря по степени пригибания почек к земле, могут быть отнесены и к этой группе и к предшествую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новая дача 032"/>
          <p:cNvPicPr/>
          <p:nvPr/>
        </p:nvPicPr>
        <p:blipFill>
          <a:blip r:embed="rId1"/>
          <a:stretch/>
        </p:blipFill>
        <p:spPr>
          <a:xfrm>
            <a:off x="1692360" y="260280"/>
            <a:ext cx="5327640" cy="3997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тый тип (геофиты) — растения, сохраняющиеся на зиму лишь в подземных частях — в виде клуб луковиц, корневищ — и, следовательно, имеющие почки возобновления уже под поверхностью почвы. Например, мать-и-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5444640"/>
            <a:ext cx="3311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тушья су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56000" y="475920"/>
            <a:ext cx="446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тый тип (терофиты) составляют растения однолетние, нацело теряющие все свои части и переносящие зиму в виде семян, хорошо защищенных плотными оболочками от резких колебаний температуры и от потери воды. Сюда относится большинство сорняков, произрастающих среди наших культурных растений – мокрица, ярутка, пастушья сумка, лебеда, крапива жг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Рисунок29"/>
          <p:cNvPicPr/>
          <p:nvPr/>
        </p:nvPicPr>
        <p:blipFill>
          <a:blip r:embed="rId1"/>
          <a:stretch/>
        </p:blipFill>
        <p:spPr>
          <a:xfrm>
            <a:off x="250920" y="765000"/>
            <a:ext cx="40384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обую группу выделяются  поселяющиеся на древесных стволах низшие растения — лишайники, некоторые водоросли, мхи. Не будучи ничем защищены, они, однако, стойко переносят зимнюю стужу. Эту стойкость, по всей вероятности, мы должны отнести за счет свойств цитоплазмы этих растений. В заключение подчеркнем, что для многих наших растений воздействие низких температур зимой представляет обязательное условие для норма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летние растения, принесшие семена, осенью заканчивают свой жизненный цикл. Двулетние и многолетние растения осенью погружаются в покой. В покоящихся органах основные проявления их жизнедеятельности сохраняются и могут быть обнаружены. В  начале зимы в деревьях запасы крахмала исчезают, заменяясь сахаром что имеет большое значение для увеличения морозостойкост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71"/>
          <p:cNvPicPr/>
          <p:nvPr/>
        </p:nvPicPr>
        <p:blipFill>
          <a:blip r:embed="rId1"/>
          <a:stretch/>
        </p:blipFill>
        <p:spPr>
          <a:xfrm>
            <a:off x="395280" y="5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ие однолетники из водных растений перезимовывают в виде семян. Некоторые перезимовывают в виде корневищ: рдест пла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Рисунок1"/>
          <p:cNvPicPr/>
          <p:nvPr/>
        </p:nvPicPr>
        <p:blipFill>
          <a:blip r:embed="rId1"/>
          <a:stretch/>
        </p:blipFill>
        <p:spPr>
          <a:xfrm>
            <a:off x="1476360" y="422280"/>
            <a:ext cx="61912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560" y="475920"/>
            <a:ext cx="7427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Перезимовывают в виде корневищ: кувш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4720" y="692280"/>
            <a:ext cx="4402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распространенный способ зимовки водных растений — в виде побегов с сильно скрученными и укороченными листьями, или в виде зимующих почек, образующихся в конце вегетационного периода. Наполняясь крахмалом и получая высокий удельный вес они осенью опускаются на дно. Зимующие почки образуются, например, у водокраса, роголистника, пузырчат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онференция 2007 049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з водных растений перезимовывают без специальных приспособлений на дне водоема, как ряска (фото), болотники, некоторые рд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Рисунок4"/>
          <p:cNvPicPr/>
          <p:nvPr/>
        </p:nvPicPr>
        <p:blipFill>
          <a:blip r:embed="rId1"/>
          <a:stretch/>
        </p:blipFill>
        <p:spPr>
          <a:xfrm>
            <a:off x="1619280" y="372960"/>
            <a:ext cx="6121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нский И. И. Ботанические экскурсии. Пособие для учителей. – М.: Просвещение, 19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000" y="5373720"/>
            <a:ext cx="80024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весне крахмал в растении снова появляе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зимнего покоя вызывается различными причинами, в соответствии с чем можно различать покой глубокий и вынужденный. Первый, по-видимому, связан с физико-химическими изменениями цитоплазмы клеток, с накоплением в ней веществ, тормозящих рост. Второй непосредственно обусловливается внешними воздействиями. Прекращение роста побегов у наших деревьев начинается тогда, когда внешняя температура еще достаточна для вегетативных процессов. Но уже в январе  ветки и растения в теплом помещении энергично пробуждаются: почки распускаются и дают побеги, весенние растения зацветают. Значит, в это время их покой в природе является «вынужденным», обусловленным внешними факторами, главным образом низкой температур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80000" y="620280"/>
            <a:ext cx="490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древесных растений переход в состояние покоя выражается осенним листопадом, которому предшествует осенняя окраска листьев. Листья берез  становятся светло-желтыми; рябины — пунцово-красными; осины — оранжевыми; ольхи — мутного буро-зеленого оттенка. Осенняя перемена окраски листьев распространяется также на кустарники к некоторые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Золото осени"/>
          <p:cNvPicPr/>
          <p:nvPr/>
        </p:nvPicPr>
        <p:blipFill>
          <a:blip r:embed="rId1"/>
          <a:stretch/>
        </p:blipFill>
        <p:spPr>
          <a:xfrm>
            <a:off x="395280" y="620640"/>
            <a:ext cx="334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3827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листья голубики и сныти принимают фиолетовый оттенок, черники — ярко-желтый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Рисунок6"/>
          <p:cNvPicPr/>
          <p:nvPr/>
        </p:nvPicPr>
        <p:blipFill>
          <a:blip r:embed="rId1"/>
          <a:stretch/>
        </p:blipFill>
        <p:spPr>
          <a:xfrm>
            <a:off x="468360" y="765000"/>
            <a:ext cx="431964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2920" y="549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 за переменой окраски листьев наступает листопад, имеющий в первую очередь значение предохранительного средства от засыхания деревьев зимой, так как испарение воды через громадную листовую поверхность продолжалось бы и с прекращением всасывания из охлажденной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Рисунок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333360"/>
            <a:ext cx="3790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перекрашивания и других изменений в тканях пластинок листьев, происходит подготовка к сбрасыванию. В черешках появляется так называемый разделительный слой клеток, где и про исходит отделение под влиянием легкого дуновения ветра и даже под собственной тяж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58:40Z</dcterms:created>
  <dc:creator>Большаков</dc:creator>
  <dc:description/>
  <dc:language>en-US</dc:language>
  <cp:lastModifiedBy>Admin</cp:lastModifiedBy>
  <dcterms:modified xsi:type="dcterms:W3CDTF">2012-05-12T21:58:49Z</dcterms:modified>
  <cp:revision>15</cp:revision>
  <dc:subject/>
  <dc:title>Осенние и зимние явления в жизни растений</dc:title>
</cp:coreProperties>
</file>