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4B9-6142-4C72-8FAC-8C099368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8C8-0ED8-41A3-A744-105F3AD2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D6D-94F5-4C91-9950-F02F8543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9F3-2499-4F53-93A5-6073438D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9F26-7177-42D4-8F06-416E60B7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BBA3-40BE-4A3A-BDA1-0C1926E8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54EB-9B31-43BE-BA9F-0F0F29A4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2EB7-E470-4CD1-817D-FA6AF61E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CB8C-1100-4EB4-9A17-93E0932E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C043-B597-41F4-B959-78D9F2C8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85DD-EFD8-4532-9B2B-5D8AF6F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E04-6778-4105-A9F2-F6164177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84BA-50DD-496C-A3FA-5C86AA7E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034F-2646-4559-BAE3-2FC7FE0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069E-DAC3-4C8E-92E0-7C536BE6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E4EC-7553-44B2-A17C-63D91B94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1E43-20DF-41A2-94CF-18AAE1F6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D63-C075-4E46-93C7-0140DD3C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2CA-6E6F-4413-9760-66B52789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27C-8677-44AF-9DDA-7413ACB6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DFC-0A53-445F-B7EC-36BBA9DE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BE4-72F6-4F5F-81D1-EDC48C6E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B47-ED8E-47EF-8E47-A7CE4AF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A53-37D0-4110-8865-4994E7D6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759F-975E-4E27-86FD-1016BA8D3E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EB88-AA5E-481F-803A-3BC753AE07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imes New Roman"/>
              </a:rPr>
              <a:t>Методика определения биологического возраста </a:t>
            </a:r>
            <a:br>
              <a:rPr sz="6800"/>
            </a:br>
            <a:br>
              <a:rPr sz="6800"/>
            </a:b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1752480"/>
            <a:ext cx="67816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нкета (опросник)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самооценке здоровья содержит следующие вопросы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.Беспокоит ли Вас головная боль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. Можно ли сказать, что Вы легко просыпаетесь от любого шума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. Беспокоит ли Вас боль в области сердца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. Считаете ли Вы, что у Вас ухудшился слух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. Считаете ли Вы, что у Вас ухудшилось зрение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. Стараетесь ли Вы пить только кипяченую воду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. Уступают ли Вам младшие место в городском транспорте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6960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8. Беспокоит ли Вас боль в суставах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. Влияет ли на Ваше самочувствие перемена погоды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0. Бывают ли у Вас периоды , когда из-за волнения Вы теряете сон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1. Беспокоит ли Вас запор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2. Беспокоит ли Вас боль в области печен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 в правом подреберье)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3. Бывают ли у Вас головокружения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4. Стало ли Вам в настоящее время сосредоточиваться труднее, чем в прошлые годы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5. Беспокоит ли Вас ослабление памяти, забывчивость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6. Ощущаете ли Вы в различных местах тела жжение, покалывание,«ползание мурашек»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7. Беспокоит ли Вас шум или звон в ушах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8. Держите ли Вы для себя в домашней аптечке, при себе, один из следующих медикаментов: валидол, нитроглицерин, сердечные капли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9. Бывают ли у Вас отеки на ногах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0. Пришлось ли Вам отказаться от некоторых блюд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1. Бывает ли у Вас одышка при быстрой ходьбе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2. Беспокоит ли Вас боль в области поясницы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3. Приходится ли Вам употреблять в лечебных целях какую-нибудь минеральную воду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4. Можно ли сказать, что вы стали плаксивым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5. Бываете ли Вы на пляже? т.е. можно ли вам загорат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6. Считаете ли Вы, что сейчас так же работоспособны , как прежде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7. Бывают ли у Вас такие периоды когда Вы чувствуете себя радостно возбужденным, счастливым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8.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Как Вы оцениваете состояние своего здоровья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456840"/>
            <a:ext cx="76960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Мужчины</a:t>
            </a:r>
            <a:r>
              <a:rPr b="0" lang="ru-RU" sz="3100" spc="-1" strike="noStrike">
                <a:solidFill>
                  <a:srgbClr val="999900"/>
                </a:solidFill>
                <a:latin typeface="Arial"/>
              </a:rPr>
              <a:t>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БВ= 27,0 + 0,22 х АДс – 0,15 х ЗДв + 0,72 х СОЗ – 0,15 х С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Женщины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БВ = 1,46+0,42 х АДп + 0,25 х МТ + 0,70 х СОЗ – 0,14 х С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Мужчины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ДБВ = 0,629 х КВ + 18,6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Женщины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ДБВ = 0,581 х КВ + 17,3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03480" y="304920"/>
            <a:ext cx="542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Здоровья Вам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и вашим детя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ненко</cp:lastModifiedBy>
  <dcterms:modified xsi:type="dcterms:W3CDTF">2008-03-16T00:07:1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