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2F3-C33B-4FD6-A582-58FA6357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DD8-556E-4C15-A283-311CA837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953-D78D-406B-B2BF-8D437CDA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EDB-F94E-405D-A9DF-D412B029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DDC1-143F-493C-A24A-4D8AD473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BEA9-2EBB-43A5-A7DD-ECE8BD80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A655-944E-4A6F-A446-3355EDF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D1FE-FC50-4298-899B-B408750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DAC-086E-4962-88E1-A79F131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CF2F-5435-48E1-9495-FB3202F3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494-2E25-4A7E-87FC-53C6C91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8DD-B95E-4074-AAFF-08E9799D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A928-26A3-4554-83D2-3F70D28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DE01-430B-4458-8DA5-47B090B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33C2-42EF-4384-9C3A-396B54F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A8AD-815E-4336-9B46-4741286A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EB6-7A83-4E40-963C-7CA94FA3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591-30B8-4E7E-85AA-ACFE344B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EBA-6ED8-4C72-9371-E9A5FBCF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F4E-4060-4AD5-96D9-5C0D0F35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1E9-FB54-47C0-ADC4-39E9D468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772-DC0A-4037-9984-EE3BA90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134-5B94-4580-8518-4161D22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AF5-238A-4E5E-859C-FE2351B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DD54-F9D8-4696-8BB8-F919F470BC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CD1-B9D4-4FEF-8C5B-DD6EB9F229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imes New Roman"/>
              </a:rPr>
              <a:t>Методика определения биологического возраста </a:t>
            </a:r>
            <a:br>
              <a:rPr sz="6800"/>
            </a:br>
            <a:br>
              <a:rPr sz="6800"/>
            </a:b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752480"/>
            <a:ext cx="67816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нкета (опросник)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самооценке здоровья содержит следующие вопросы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.Беспокоит ли Вас головная боль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. Можно ли сказать, что Вы легко просыпаетесь от любого шума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. Беспокоит ли Вас боль в области сердца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. Считаете ли Вы, что у Вас ухудшился слух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. Считаете ли Вы, что у Вас ухудшилось зрение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. Стараетесь ли Вы пить только кипяченую воду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. Уступают ли Вам младшие место в городском транспорте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6960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8. Беспокоит ли Вас боль в сустав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. Влияет ли на Ваше самочувствие перемена погод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0. Бывают ли у Вас периоды , когда из-за волнения Вы теряете сон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1. Беспокоит ли Вас запор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2. Беспокоит ли Вас боль в области печен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 в правом подреберье)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3. Бывают ли у Вас головокружения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4. Стало ли Вам в настоящее время сосредоточиваться труднее, чем в прошлые год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5. Беспокоит ли Вас ослабление памяти, забывчивост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6. Ощущаете ли Вы в различных местах тела жжение, покалывание,«ползание мурашек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. Беспокоит ли Вас шум или звон в уш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. Держите ли Вы для себя в домашней аптечке, при себе, один из следующих медикаментов: валидол, нитроглицерин, сердечные капли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. Бывают ли у Вас отеки на ног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0. Пришлось ли Вам отказаться от некоторых блюд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1. Бывает ли у Вас одышка при быстрой ходьб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2. Беспокоит ли Вас боль в области поясниц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3. Приходится ли Вам употреблять в лечебных целях какую-нибудь минеральную воду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4. Можно ли сказать, что вы стали плаксивым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5. Бываете ли Вы на пляже? т.е. можно ли вам загорат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6. Считаете ли Вы, что сейчас так же работоспособны , как прежд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7. Бывают ли у Вас такие периоды когда Вы чувствуете себя радостно возбужденным, счастливым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8.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Как Вы оцениваете состояние своего здоровья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6960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Мужчины</a:t>
            </a:r>
            <a:r>
              <a:rPr b="0" lang="ru-RU" sz="3100" spc="-1" strike="noStrike">
                <a:solidFill>
                  <a:srgbClr val="999900"/>
                </a:solidFill>
                <a:latin typeface="Arial"/>
              </a:rPr>
              <a:t>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БВ= 27,0 + 0,22 х АДс – 0,15 х ЗДв + 0,72 х СОЗ – 0,15 х С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Женщ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БВ = 1,46+0,42 х АДп + 0,25 х МТ + 0,70 х СОЗ – 0,14 х С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Мужч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ДБВ = 0,629 х КВ + 18,6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Женщ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ДБВ = 0,581 х КВ + 17,3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03480" y="304920"/>
            <a:ext cx="542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Здоровья Вам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и вашим детя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ненко</cp:lastModifiedBy>
  <dcterms:modified xsi:type="dcterms:W3CDTF">2008-03-16T00:07:1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