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E6A-D3EC-44E8-A7AB-5CDC2F4B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E97-6517-4D8F-887F-D6066268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E09-B964-4A92-9CC9-EF92D2EE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B65-99E4-4DCB-9C8D-EFB744A2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E16C-22C4-45DD-A7FC-C3370163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FBC7-C306-4AF9-A075-91D639D2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0D7B-02C2-45C2-90BC-73C94F75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8337-3558-4EA3-8E14-A03E2314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AC2E-CBB2-4BE0-B7BF-8289430C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ED3F-1CBB-4D6C-BF0B-74A64087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1DC7-A724-434A-8C3A-383621E6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643-47DF-4159-904F-BC3A4280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8F42-109F-4DBA-8BD5-7CCD3A2A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1655-5C80-485D-8A0D-509E5921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D8F6-5F09-4DE9-88A7-A4517767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F1E5-D616-4176-A5BA-2D54FCE1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E1B3-538F-45CE-884F-3AFD1522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7FA-4ECD-4B9D-99AF-B763DB73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1CC-E8B9-4A39-92B3-61715E69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553-D45E-4B96-8920-347FC77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3FC-C49C-4A54-B298-98BB0F48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F0F-43C8-44D7-8264-0F2FE3B6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A8C-9824-4B51-B9DC-94BE7639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81A-54ED-45D9-B371-05B050EC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6F82-4AB5-448B-B9A8-04E169765E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4600-F3D2-4ABE-9C32-7822974230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imes New Roman"/>
              </a:rPr>
              <a:t>Методика определения биологического возраста </a:t>
            </a:r>
            <a:br>
              <a:rPr sz="6800"/>
            </a:br>
            <a:br>
              <a:rPr sz="6800"/>
            </a:br>
            <a:endParaRPr b="0" lang="en-US" sz="6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1752480"/>
            <a:ext cx="67816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нкета (опросник)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самооценке здоровья содержит следующие вопросы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.Беспокоит ли Вас головная боль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. Можно ли сказать, что Вы легко просыпаетесь от любого шума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. Беспокоит ли Вас боль в области сердца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. Считаете ли Вы, что у Вас ухудшился слух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. Считаете ли Вы, что у Вас ухудшилось зрение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6. Стараетесь ли Вы пить только кипяченую воду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. Уступают ли Вам младшие место в городском транспорте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6960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8. Беспокоит ли Вас боль в суставах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. Влияет ли на Ваше самочувствие перемена погоды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0. Бывают ли у Вас периоды , когда из-за волнения Вы теряете сон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1. Беспокоит ли Вас запор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2. Беспокоит ли Вас боль в области печен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 в правом подреберье)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3. Бывают ли у Вас головокружения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4. Стало ли Вам в настоящее время сосредоточиваться труднее, чем в прошлые годы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5. Беспокоит ли Вас ослабление памяти, забывчивость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6. Ощущаете ли Вы в различных местах тела жжение, покалывание,«ползание мурашек»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7. Беспокоит ли Вас шум или звон в ушах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8. Держите ли Вы для себя в домашней аптечке, при себе, один из следующих медикаментов: валидол, нитроглицерин, сердечные капли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9. Бывают ли у Вас отеки на ногах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0. Пришлось ли Вам отказаться от некоторых блюд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1. Бывает ли у Вас одышка при быстрой ходьбе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2. Беспокоит ли Вас боль в области поясницы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3. Приходится ли Вам употреблять в лечебных целях какую-нибудь минеральную воду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4. Можно ли сказать, что вы стали плаксивым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5. Бываете ли Вы на пляже? т.е. можно ли вам загорат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6. Считаете ли Вы, что сейчас так же работоспособны , как прежде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7. Бывают ли у Вас такие периоды когда Вы чувствуете себя радостно возбужденным, счастливым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8.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Как Вы оцениваете состояние своего здоровья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456840"/>
            <a:ext cx="76960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Мужчины</a:t>
            </a:r>
            <a:r>
              <a:rPr b="0" lang="ru-RU" sz="3100" spc="-1" strike="noStrike">
                <a:solidFill>
                  <a:srgbClr val="999900"/>
                </a:solidFill>
                <a:latin typeface="Arial"/>
              </a:rPr>
              <a:t>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БВ= 27,0 + 0,22 х АДс – 0,15 х ЗДв + 0,72 х СОЗ – 0,15 х СБ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Женщины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БВ = 1,46+0,42 х АДп + 0,25 х МТ + 0,70 х СОЗ – 0,14 х СБ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Мужчины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ДБВ = 0,629 х КВ + 18,6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Женщины: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ДБВ = 0,581 х КВ + 17,3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03480" y="304920"/>
            <a:ext cx="542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Здоровья Вам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и вашим детям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ненко</cp:lastModifiedBy>
  <dcterms:modified xsi:type="dcterms:W3CDTF">2008-03-16T00:07:1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