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5.jpeg" ContentType="image/jpeg"/>
  <Override PartName="/ppt/media/image27.png" ContentType="image/png"/>
  <Override PartName="/ppt/media/image12.wmf" ContentType="image/x-wmf"/>
  <Override PartName="/ppt/media/image13.wmf" ContentType="image/x-wmf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33.png" ContentType="image/png"/>
  <Override PartName="/ppt/media/image3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21.wmf" ContentType="image/x-wmf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29.png" ContentType="image/png"/>
  <Override PartName="/ppt/media/image32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D0A-4851-45C7-B38D-67BB0EC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E3D-B15A-4302-8E98-14C6B819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631B1-521A-4DB0-9423-DA48474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6B276-129F-4ADE-9601-8ACAAF5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96842-8CF5-4FFB-9E26-EBF2C13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CC5A8-91D6-4218-8D35-08ABD4CF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4DF0-A39D-4E57-89E3-E49DD7C9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CC982-6CB5-4A95-8936-DB9A3E8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108DC-84A7-4A68-8DB5-7CFE7EE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981F4-EA0D-41BB-B699-1EF61534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6EDE-EE3A-47A0-8751-AB66220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843E3-6F9A-4414-BFCF-C307676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2F4-3322-401F-A70F-F87D380B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608E8-B0A8-47B6-A80A-E8AFB8E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99213-425B-419E-B86C-3440A74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CDC89-EE34-4DEC-B847-7A910773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DC770-782A-4542-806B-6651702A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15A8-EA4D-4C0B-8883-116A0CA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5BAF-E0FA-4CFD-9C1C-10F80F6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13F40-08C9-4EE7-8CDA-C395507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B1AB7-063D-483C-BDC1-E6FEE3C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47882-CE86-4AEB-B64D-85A1160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5CBDA-8C80-4AD8-9FE7-09BB8BEF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47D-119F-43A4-AD83-1E889C77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11A0-17EB-4069-80B6-912DFB19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CA74-D457-40BE-8C78-789D766E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2083-C78D-4B1E-8ED1-1C05A2BB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645BA-9E4D-47B5-AC90-964E40D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1F90E-E8E8-44EB-8934-144B91D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BED1-09D7-46C3-BEEC-B0AF0BB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9F46-3A44-49CB-923E-F223F895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5CFF2-C6BE-44BD-9443-EA24B190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A2192-0853-49B9-8980-E6E9BF7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D628-F89A-4D37-B924-611B9F9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D6F6-706A-46FC-A6BE-AE7FA86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50F4D-9C12-4F86-8221-C443BE7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E878-0684-4206-8922-3A9CD91D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E68E5-1AC2-462C-9AAB-938DEF99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C404-2913-4E98-8B88-FB1C535F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802EA-6075-4789-ACD7-B82810C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B3E00-6531-4845-9C3A-42D8763F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F8FE4-81F2-4EEA-A7F0-906C17A8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9823-F464-4A4E-B53C-95D60A36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837F-F21D-459F-B6B5-728EBE85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A9AB7-CA33-476F-B81C-CD580BD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DEEC-1497-4E88-B559-765B286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4F886-332D-4886-960C-5F0CC7C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84122-A1A6-43BA-B69C-2750ABA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9E940-A33C-4190-ADEC-61FD738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8C277-1DBA-4B40-9116-E555F769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3808D-DE39-4F94-B72C-BC0B8ED6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4E71E-FEDA-454E-B761-AF2E353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FDD0D-D8ED-4163-B6A7-2A8DCEDB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0282B-0DC6-477C-A8EC-29177C0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8A3BE-E94E-4149-9AD5-0ADB842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BF95B-0703-4717-B8E6-0EDEA602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24F-1F5B-4DB5-BC38-8D74361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50F4C-7035-403C-BDDA-A1B6451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ADC06-DA26-4E18-8AF9-7711AB3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BE841-DF17-4818-9661-39259BF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A6B3C-D08D-4809-8E1D-9ECAC5C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B2EE0-BAE3-4DB9-9C11-4CBA076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4537A-9783-4E44-A666-88EBB852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ED55F-B6BC-4AB6-BFA0-3468065E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32E29-F58A-44B9-8902-BC0F5DE1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78CC6-634A-4D61-B2EF-F5A38BE6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55FB0-37D4-4944-9C85-0D8D348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C7EA-1CF8-4873-B283-5B2CFE8F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4B602-0B22-4B84-BDD6-695DE8E5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51849-9B08-4149-8449-DDF22010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C5DAE-460D-4C9D-8045-6758CB1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E602B-5B9D-4E56-BDB3-C5B99FC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11B3B-B7F3-4C2B-B564-B3A7D5A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2E3E9-3CBC-4C0E-A1A9-6DFAF10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7E281-C647-4C3E-AC10-A2042C1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89349-C582-4CC9-BBBB-B5C54C4A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6B384-B0B1-4661-9AB5-19E1A61E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0F22F-22A0-45E5-8A9F-FCE7A0D4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4FFA-F3C2-44DA-8E33-B58CCD38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60659-AA6B-45F4-BEF4-0C482318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02ADE-3506-499C-8B87-0259F92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CFDDF-B968-42E6-9338-83CD833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B5C29-E6FC-405B-8A67-3D8E757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0FC91-1276-40E4-BCD6-5C543A6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86D03-D14F-471C-8F3F-773B4B6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00EAD-62D5-4F39-B6EE-8D34BFCF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C23B1-0D62-4521-AAED-E0D739C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9AF89-3C17-4A0F-877E-11213D4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9FE6A-2A30-4052-84D8-900B99C2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10BC-4B2D-47E8-9BA6-443D7DF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AF927-136A-4EA0-9859-1F0EC598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2B17C-D30C-4E4B-BD0E-9F1240D9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3981D-C5D9-4056-BDE3-52AC5F14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19809-682D-421E-A728-73E7A65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3A196-4C69-4F02-875E-C10995A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84836-70BC-45C6-A51C-B2A4905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AB998-E467-4440-8516-CDA23013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836C2-10A4-44F2-8A23-3544F48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B47BA-EF6E-4EA2-B0DF-F3628DC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083CD-47C3-473A-A2F0-A66279C4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ABF6-4541-44B0-9387-110D880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0E72E-7E92-4EF5-954D-8ADBB78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795E3-0CAB-456D-8CC4-E7B94BB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DE3EA-CFB1-4C82-A8D3-A8BDA6B8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E4E92-14D9-417E-BB9C-6487EFCF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917A5-1B0F-419F-AB8E-56BEA7A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04AC1-47CE-4854-9D04-EE23D8D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3A948-9B6D-4AFF-93B8-8F51A91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7F9C1-A0EB-474F-8D63-349B0FA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2854F-CBC6-44F9-BB8F-36B60C1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93AD7-33F7-479F-9D87-2960142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365-FE30-4614-8F0D-1E6B7F0B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3BF-8717-4EB2-8866-569BBB1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9E0FF-B2FE-4176-82E2-83D63CF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FFF1F-DD14-467C-8277-24A28C5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85E56-3898-4DC3-B17C-16D8259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98A61-B040-42A9-BEC8-FF9EBCF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2B32E-CB14-4A70-970C-2CBEB30F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51546-F97A-4657-B8BD-BA3F4EE3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38618-0ADE-4478-8F38-BAE8F5F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9EE63-7A0A-4EE3-8B63-FAE542B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14271-D132-47BE-AE2C-2630B34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26A99-819F-4B46-AF6B-A3AE296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844-B3D9-459D-8029-A102FC4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6A914-8993-4874-BF06-B45667C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72628-9A33-48E1-AF19-B7DE3FC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45A5D-5293-4655-A00B-4D973E5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B38B0-62BE-42A4-9EDF-8AA8257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AC559-CA32-40FC-9221-667E2AE9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C3939-3ACF-4C57-B9B1-C7A88A1B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2FB20-D0AF-4137-A164-5B4F5BBD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742-6757-4D5F-84CE-B9A95E21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E7AB-6327-4F2E-BF34-8405104A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3967-B5DF-4EEA-A567-D1437C25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82C7-C3CF-4DBD-8952-07526EB0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ACF0-5112-412E-8244-94F5E16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DD61-5AB6-4716-A429-70A125E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B461-4D6D-4D21-BB26-A3156E5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0A07-15E7-462D-B928-357C319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AF5-3083-4F63-9C8E-928CE7A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3CB6-FEC5-45B7-A9FC-8F23E93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E2C7-4BEC-4C73-BC3C-DC2C73F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A765-8B0D-4B6B-85BB-22A2FCD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5D32-EECA-4C9D-8F23-EC1CD6E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AE6D-6F7B-41A0-ADAD-9EADEE9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2690-3969-43AE-8EF4-AF8F9024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D836-54DE-427D-89A0-24AB05B2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425B-09FB-4AE1-9D30-08C976AA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BBA8-E86B-4F65-B0F1-17ECF0E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FB33-54BB-4B28-A9AE-4E9E5121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9DE-1EC5-431E-99DC-B5E2503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1C89-7E21-42B9-B553-2977773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C0D4-E4DF-48E2-A3BD-13CD3DF4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08DA-4C03-4AAE-80E1-7403BB15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D5C9-E2A5-4857-8F9B-B65F59B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E01E-5658-4FE7-9EE8-E063F0C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680F-572B-4F58-A8F0-8FD347F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3DAD-406C-4634-BD7C-009B2B6A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56A1-274D-44C6-B915-E472BBA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5954-F7C9-46AE-8DD2-78E2AFFB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FB323-4EA2-4264-85F2-CC0EFB73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888-0E25-4140-A99B-416683C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7A75-BB3E-4C7F-A588-9C90C9A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14CD-F399-45AE-B86E-59E46EC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B559-84D4-4BB1-8AA4-557F3E91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0B4F-68D4-44C2-BDB3-955F77B3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219D-B9F6-42A6-93E4-88B4EC8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979C-2DD2-4979-B697-DB28852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8480-3FBD-411D-B1FE-94E5C1C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F520-2B3A-4AE9-93D5-7C2B727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4AF8-2802-4E37-A46C-1F9EC5C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CA71-87CE-4223-8C50-DC700F08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FCA-9216-46B5-8F30-3EAB473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10BF-D6D2-4C5B-9D61-427E040A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5767-3C28-457E-96AF-42FB3976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6251-C69A-4D1E-B583-D970084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0A21-2531-49FD-AC8F-C7A9638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847C-6D9D-406B-8674-9FA98B0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C4140-5149-4B27-9E5A-7296D7B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C98E-851F-41FA-8923-AC77B68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9FEF-A12E-45E5-8209-F3737ACA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705EA-40A9-4528-8C8A-4035BD9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5AF9-A23E-4E01-9089-E869781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8B6-D52D-4B31-AA2D-48BCC6B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6F96-CD60-4410-9D88-65F32D2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A99F-7B24-474E-8075-326DCDEB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3EAA-F52B-4656-90D9-FEBF01DC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F9A7-9410-47FA-9299-647E7038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8707-BED8-4530-A91C-D749AC0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9188-D25D-4F9A-93FA-F4F6D2A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EA08-A143-470D-8922-5EEC15EC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938C7-7592-42C9-A59B-944A0F2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D364-BBA0-4B0E-9AE1-AF07437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29C0-C768-44CB-997A-16CC5F4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BA7-1AD9-42B2-A2CF-8DAD0FF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E532-F719-47B2-8451-BB37837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D749-7B9E-4492-A88C-0794764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8D4C-C29D-440C-B4AE-2A13289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A871-315D-4E76-AD74-EDCCFB9C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0FC66-79DB-43A7-9172-716B77E4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6212-599C-4AFE-8D3D-199EC09F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D924-101A-43A4-87AA-91A2BCEE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8F08-8681-4921-B965-A2D4C93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E155-EDE2-4036-9D69-E200D3F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4DD4-9843-45F7-B8AB-2F963F49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DCB-F3BE-40EB-9701-C89AE04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2E78-0847-4B50-8104-A973AAB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6473-BA32-44AA-B819-9C6F27C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3595-14FC-4882-B2CB-BD02430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C853-7C95-4F1F-AA6C-FBF1AC1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8D35-F91F-4BA1-8C4D-9E1A5672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5EED-0F77-4B60-9382-0494645C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E0E3-91C8-416D-AD00-8D582E6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72AF5-1012-454E-8FB6-2B1A1124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BD450-C12D-4B48-ADB0-E3F21F7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C71C-F229-44F5-8290-92D9AE8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AB8-8DE2-47B2-977F-A7A61F03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45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79640" y="6244920"/>
            <a:ext cx="540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F43-06CC-493E-A96E-8A81794AF12A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08280"/>
            <a:ext cx="585720" cy="47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187280" y="6308280"/>
            <a:ext cx="676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172000" y="630828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8613-DF75-4684-B6C6-634264654BB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201-C5E5-4AF8-B89E-3B6CA978A54D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332000" y="624492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0280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CB5A-79B6-4A7C-A0D6-0BF444913D40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258560" y="6244920"/>
            <a:ext cx="669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634-EEFA-4F47-B1B5-B751368E04CC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115640" y="6244920"/>
            <a:ext cx="698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244000" y="624492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D966-AD94-40D1-BD07-B333456BF296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4C9-823B-4650-BBCF-4FCE2400491C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7200" y="6524640"/>
            <a:ext cx="7300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1331640" y="6524640"/>
            <a:ext cx="684036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244000" y="6524640"/>
            <a:ext cx="4428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BCC9-AC94-4E2C-8FFA-8840BB179ED4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1258560" y="624492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B05-139C-41F8-A4F5-89A46EF3398F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BF44-C724-48C4-A9BC-116B38A6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A28-4D1F-4887-80B8-91C04471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5058-B4ED-436A-93C9-2B487213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F90-DBEE-4CD2-BD20-D9F206E9F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7AD-1610-4E38-B05F-C5EA21CF5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22D-8458-4A27-AFA6-2816AE42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85B-3F9B-4AB2-B450-4744CD7E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B866-EDBC-41CB-8FC8-4C63B405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svetlov@timacad.ru" TargetMode="External"/><Relationship Id="rId3" Type="http://schemas.openxmlformats.org/officeDocument/2006/relationships/hyperlink" Target="http://svetlov.timacad.ru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vetlov.timacad.ru/umk8/umk.htm" TargetMode="External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Скругленный прямоугольник 3"/>
          <p:cNvGrpSpPr/>
          <p:nvPr/>
        </p:nvGrpSpPr>
        <p:grpSpPr>
          <a:xfrm>
            <a:off x="2170080" y="-36360"/>
            <a:ext cx="7029360" cy="4254480"/>
            <a:chOff x="2170080" y="-36360"/>
            <a:chExt cx="7029360" cy="4254480"/>
          </a:xfrm>
        </p:grpSpPr>
        <p:pic>
          <p:nvPicPr>
            <p:cNvPr id="73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170080" y="-36360"/>
              <a:ext cx="702936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232000" y="0"/>
              <a:ext cx="6912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3157560"/>
            <a:ext cx="835344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Математическое моделирование и проект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533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лов Николай Михайлови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svetlov@timaca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http://svetlov.timacad.r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1" name="Содержимое 5" descr=""/>
          <p:cNvPicPr/>
          <p:nvPr/>
        </p:nvPicPr>
        <p:blipFill>
          <a:blip r:embed="rId2"/>
          <a:stretch/>
        </p:blipFill>
        <p:spPr>
          <a:xfrm>
            <a:off x="-6480" y="1590840"/>
            <a:ext cx="10534680" cy="463860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B5DE-1CB2-4809-B847-03F3DAA64632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1A06-F6A5-43A8-848D-8C0C6E0869E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96960"/>
            <a:ext cx="83343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CD4A-1406-46A3-A256-97A987FB4BE5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3516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Моделирование минерального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2708280"/>
            <a:ext cx="8507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объёмов внесения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минимального и максимального количества действующего вещества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одержания действующего вещества в единице удобрения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цен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продуктивность культуры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ин. и макс. количество действующего вещества при продуктивности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цена продукции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C17-18E3-4678-92FB-5D9AC2E720E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6" name="Object 2"/>
          <p:cNvGraphicFramePr/>
          <p:nvPr/>
        </p:nvGraphicFramePr>
        <p:xfrm>
          <a:off x="444600" y="1628640"/>
          <a:ext cx="848196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628640"/>
                    <a:ext cx="848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Операции над векторами и матрицам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97B-8161-4D0C-99B6-0FEC4EA43BB3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1312920" y="1770120"/>
          <a:ext cx="73213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1770120"/>
                    <a:ext cx="73213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Содержимое 9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4511880" cy="438336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Содержимое 10" descr=""/>
          <p:cNvPicPr/>
          <p:nvPr/>
        </p:nvPicPr>
        <p:blipFill>
          <a:blip r:embed="rId2"/>
          <a:stretch/>
        </p:blipFill>
        <p:spPr>
          <a:xfrm>
            <a:off x="4059360" y="2139840"/>
            <a:ext cx="5091120" cy="4383360"/>
          </a:xfrm>
          <a:prstGeom prst="rect">
            <a:avLst/>
          </a:prstGeom>
          <a:ln w="0">
            <a:noFill/>
          </a:ln>
        </p:spPr>
      </p:pic>
      <p:sp>
        <p:nvSpPr>
          <p:cNvPr id="808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FC3-6D96-4D6E-90B9-159E5337A7E0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1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81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C1C-C062-4E97-B3EB-DF14EFB5131A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Моделирование сочетания куль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253224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товарн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кормов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выручк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производственных затрат на товарные/кормовые культуры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648320" y="303480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(1,1,…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лощадь пашн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потребности в предшествен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пособности быть предшественником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выхода корм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отребности в корм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983-707B-46A4-AA2D-65ABB8445B1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Группа 9"/>
          <p:cNvGrpSpPr/>
          <p:nvPr/>
        </p:nvGrpSpPr>
        <p:grpSpPr>
          <a:xfrm>
            <a:off x="574560" y="1700280"/>
            <a:ext cx="8015400" cy="720720"/>
            <a:chOff x="574560" y="1700280"/>
            <a:chExt cx="8015400" cy="720720"/>
          </a:xfrm>
        </p:grpSpPr>
        <p:graphicFrame>
          <p:nvGraphicFramePr>
            <p:cNvPr id="820" name="Object 2"/>
            <p:cNvGraphicFramePr/>
            <p:nvPr/>
          </p:nvGraphicFramePr>
          <p:xfrm>
            <a:off x="574560" y="1700280"/>
            <a:ext cx="8015400" cy="333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560" y="1700280"/>
                      <a:ext cx="80154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Правая фигурная скобка 6" descr=""/>
            <p:cNvPicPr/>
            <p:nvPr/>
          </p:nvPicPr>
          <p:blipFill>
            <a:blip r:embed="rId4"/>
            <a:stretch/>
          </p:blipFill>
          <p:spPr>
            <a:xfrm>
              <a:off x="4273200" y="1997280"/>
              <a:ext cx="110952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Правая фигурная скобка 7" descr=""/>
            <p:cNvPicPr/>
            <p:nvPr/>
          </p:nvPicPr>
          <p:blipFill>
            <a:blip r:embed="rId5"/>
            <a:stretch/>
          </p:blipFill>
          <p:spPr>
            <a:xfrm>
              <a:off x="5461920" y="1997280"/>
              <a:ext cx="156060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Правая фигурная скобка 8" descr=""/>
            <p:cNvPicPr/>
            <p:nvPr/>
          </p:nvPicPr>
          <p:blipFill>
            <a:blip r:embed="rId6"/>
            <a:stretch/>
          </p:blipFill>
          <p:spPr>
            <a:xfrm>
              <a:off x="7077600" y="1997280"/>
              <a:ext cx="1341000" cy="42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5. Моделирование сочетания культу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051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потребности в предшественниках (при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Содержимое 20" descr=""/>
          <p:cNvPicPr/>
          <p:nvPr/>
        </p:nvPicPr>
        <p:blipFill>
          <a:blip r:embed="rId1"/>
          <a:stretch/>
        </p:blipFill>
        <p:spPr>
          <a:xfrm>
            <a:off x="384120" y="2103480"/>
            <a:ext cx="5187960" cy="41814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651280" y="1534680"/>
            <a:ext cx="3035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рица способности быть предшествен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Содержимое 21" descr=""/>
          <p:cNvPicPr/>
          <p:nvPr/>
        </p:nvPicPr>
        <p:blipFill>
          <a:blip r:embed="rId2"/>
          <a:stretch/>
        </p:blipFill>
        <p:spPr>
          <a:xfrm>
            <a:off x="5578560" y="2103480"/>
            <a:ext cx="3181320" cy="4181400"/>
          </a:xfrm>
          <a:prstGeom prst="rect">
            <a:avLst/>
          </a:prstGeom>
          <a:ln w="0">
            <a:noFill/>
          </a:ln>
        </p:spPr>
      </p:pic>
      <p:sp>
        <p:nvSpPr>
          <p:cNvPr id="830" name="Нижний колонтитул 3"/>
          <p:cNvSpPr/>
          <p:nvPr/>
        </p:nvSpPr>
        <p:spPr>
          <a:xfrm>
            <a:off x="1116000" y="6245280"/>
            <a:ext cx="698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Номер слайда 4"/>
          <p:cNvSpPr/>
          <p:nvPr/>
        </p:nvSpPr>
        <p:spPr>
          <a:xfrm>
            <a:off x="8244000" y="6245280"/>
            <a:ext cx="442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5D9-E5D7-466B-94B0-B8C8D8AE5853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ижний колонтитул 3"/>
          <p:cNvSpPr/>
          <p:nvPr/>
        </p:nvSpPr>
        <p:spPr>
          <a:xfrm>
            <a:off x="1187280" y="643572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78920" y="4579920"/>
            <a:ext cx="45370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площадей сельскохозяйственных культур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вектор поголовья сельскохозяйственных животных основного (маточного) стада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о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распределения удобрений по культура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он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толбец матрицы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выручки от реализации продукции растениеводства (животноводства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 руб./г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растениеводстве (без удобрений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животноводстве (без кормов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затрат на приобретение и внесение удобрен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использования сельскохозяйственных угодий под культуры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лощадей сельскохозяйственных угод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трица потребности в предшественниках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рица способности быть предшественнико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317-03EB-4F6C-A3ED-492A2BFA43F2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7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ли и содержание курс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тодика препода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ипология математических моделей, применяемых в агрономии, и методов их исследо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минерального питания раст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очетания культу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истемы земледел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в исследовательской и проектной деятельности агроном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7B71-37CC-4499-8B20-122DD304FAA6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8920" y="457992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выхода кормов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матрица потребности животных в кормах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ол.основного стад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толбцы = виды животных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 скотомест для содержания основного стада животных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ектор минимального (максимального) внесения действующего вещества под культуру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г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содержания действующего вещества в каждом удобрении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виды удобрений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ы затрат оборотных средств в растениеводстве (животноводстве, на приобретение удобрений) в период их наибольшего дефицита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размер оборотных средств в период их наибольшего дефицита (учитывая возможности получения кредита)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 руб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ществуют и другие постановки этой задачи (с оптимизацией рационов, кредитов, использования труда и т.п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2C1-B61E-406D-85BF-D9FCEB8B18D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7. Моделирование в исследовательской и проектной деятельности агроном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47" name="Содержимое 6" descr=""/>
          <p:cNvPicPr/>
          <p:nvPr/>
        </p:nvPicPr>
        <p:blipFill>
          <a:blip r:embed="rId2"/>
          <a:stretch/>
        </p:blipFill>
        <p:spPr>
          <a:xfrm>
            <a:off x="347760" y="1517760"/>
            <a:ext cx="8454960" cy="2773080"/>
          </a:xfrm>
          <a:prstGeom prst="rect">
            <a:avLst/>
          </a:prstGeom>
          <a:ln w="0">
            <a:noFill/>
          </a:ln>
        </p:spPr>
      </p:pic>
      <p:sp>
        <p:nvSpPr>
          <p:cNvPr id="848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516-D48A-4C8A-BF69-AA938380EC4D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Схема 7" descr=""/>
          <p:cNvPicPr/>
          <p:nvPr/>
        </p:nvPicPr>
        <p:blipFill>
          <a:blip r:embed="rId3"/>
          <a:stretch/>
        </p:blipFill>
        <p:spPr>
          <a:xfrm>
            <a:off x="463680" y="4297320"/>
            <a:ext cx="8242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8" name="Содержимое 5" descr=""/>
          <p:cNvPicPr/>
          <p:nvPr/>
        </p:nvPicPr>
        <p:blipFill>
          <a:blip r:embed="rId2"/>
          <a:stretch/>
        </p:blipFill>
        <p:spPr>
          <a:xfrm>
            <a:off x="450720" y="1407960"/>
            <a:ext cx="8699760" cy="4980240"/>
          </a:xfrm>
          <a:prstGeom prst="rect">
            <a:avLst/>
          </a:prstGeom>
          <a:ln w="0">
            <a:noFill/>
          </a:ln>
        </p:spPr>
      </p:pic>
      <p:sp>
        <p:nvSpPr>
          <p:cNvPr id="74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096-BE14-4402-B97C-883D0CCF747B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Нижний колонтитул 2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2F9-7B7E-4947-B68F-900BE974C61D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755640" y="1459080"/>
            <a:ext cx="74883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068-8333-463D-8B42-CF371A38483F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1042920" y="1490760"/>
          <a:ext cx="6985080" cy="1073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90760"/>
                    <a:ext cx="6985080" cy="1073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9E9-8EA2-420E-A922-5324F98F6523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576360" y="1341360"/>
          <a:ext cx="776916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341360"/>
                    <a:ext cx="776916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66" name="Содержимое 5" descr=""/>
          <p:cNvPicPr/>
          <p:nvPr/>
        </p:nvPicPr>
        <p:blipFill>
          <a:blip r:embed="rId1"/>
          <a:stretch/>
        </p:blipFill>
        <p:spPr>
          <a:xfrm>
            <a:off x="396720" y="1554120"/>
            <a:ext cx="8375760" cy="4651560"/>
          </a:xfrm>
          <a:prstGeom prst="rect">
            <a:avLst/>
          </a:prstGeom>
          <a:ln w="0">
            <a:noFill/>
          </a:ln>
        </p:spPr>
      </p:pic>
      <p:sp>
        <p:nvSpPr>
          <p:cNvPr id="76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8B04-DF65-43C4-AE4F-9513D2FFB3F7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24000" y="217476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Франс Дж., Торнли Дж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Математические модели в сельском хозяйстве. М.: Агропромиздат, 1987. – 400 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ое моделирование экономических процессов в сельском хозяйстве /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атаулин А.М., Гаврилов Г.В., Сорокина Т.М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др. СПб.: ИТК ГРАНИТ, 200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чебные материалы в сети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42728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http://svetlov.timacad.ru/umk8/umk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чая программа учебной дисцип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ные презентации к лек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я к лабораторным рабо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C36-2CF8-46F7-B67C-FCAE47FCAB47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5E4A-E0E4-41C1-9908-A213F972CCB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3200"/>
            <a:ext cx="8340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56:07Z</dcterms:created>
  <dc:creator>Н. Светлов</dc:creator>
  <dc:description/>
  <cp:keywords>моделирование системы земледелия моделирование минерального питания растений моделирование сочетания культур в растениеводстве</cp:keywords>
  <dc:language>en-US</dc:language>
  <cp:lastModifiedBy>Коля</cp:lastModifiedBy>
  <dcterms:modified xsi:type="dcterms:W3CDTF">2013-07-31T15:54:05Z</dcterms:modified>
  <cp:revision>38</cp:revision>
  <dc:subject/>
  <dc:title>Математическое моделирование и проектирование</dc:title>
</cp:coreProperties>
</file>