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5.jpeg" ContentType="image/jpeg"/>
  <Override PartName="/ppt/media/image27.png" ContentType="image/png"/>
  <Override PartName="/ppt/media/image12.wmf" ContentType="image/x-wmf"/>
  <Override PartName="/ppt/media/image13.wmf" ContentType="image/x-wmf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33.png" ContentType="image/png"/>
  <Override PartName="/ppt/media/image3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21.wmf" ContentType="image/x-wmf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29.png" ContentType="image/png"/>
  <Override PartName="/ppt/media/image32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145-5651-4A08-AB0F-840851CD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1CE-151E-4861-BE39-CB53A79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F5B50-3972-4ED0-A654-71DD2BB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5E968-D879-48E4-BEC3-B94E06D9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50CBB-2550-4874-9628-413145F4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0280D-9D6C-4BCC-A65F-0F73630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36FC6-DF91-419A-A7FE-DC29B84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5BFA2-5409-4FD8-9801-9D15622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E6C73-6103-4F5E-9DA1-26CE735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09DB5-2482-4173-84ED-0E71A739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C07AA-F025-4CDE-A4EC-B16F0C26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AA9E6-51E5-408A-BB3F-83AF9292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162-9D3F-4763-9FFF-9B912C69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74647-05BA-424C-B802-BA1A478E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47234-D113-4CAA-859B-2D2C9F2F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F6A91-0701-49AA-B217-805607D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D818B-B632-432A-B1A9-75E66B40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B2B15-FE45-4525-A030-03FD379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0232E-D42F-494A-AD0B-5E52E5A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0F876-892C-4B9C-89D3-4EFE575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7B2D1-62B4-443A-A72C-B2805C8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127CC-6047-4511-B5FA-5905B30B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0193-460F-456D-AB8F-6E019A7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052-0A33-4C2B-9115-7D26BFC1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3A22C-2C91-4919-AC8F-9A778AE9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1D5E-C00E-4096-83E7-379E029B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9D5F-9270-4435-9B29-E909CF1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25FD-C7AA-4CF7-929A-E9C2261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4E70A-4057-4D86-8935-87E3EA41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F199-E439-4328-BB1A-D727AAC0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8692-9387-4EDE-A995-63318E0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7B7B-458F-4B9E-9EA7-A34DD77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D4183-A35C-437A-BD8C-104756D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2FE90-6289-4A36-96C9-13699C7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8EC5-2076-48DD-952D-7E27DBC4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A27E-0B05-474C-B138-273E458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458A-E48A-408F-A5A1-A6D10285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B3DC8-C2AB-4DE6-A0C2-0A87C4E1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0A434-B26C-4246-9C73-749AA586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B941A-2DA8-4348-862F-F200570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5E72-2575-4549-BB5D-05F89DEE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913B0-10E6-46A8-B00D-1EB2EDC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81847-BC66-4C9E-B61C-8A6002C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9E44C-AD3D-472F-9A72-6153FC39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BF3DD-0B29-4F23-BA56-EBBA900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D70C-0222-4254-A1FA-6318B23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35E34-C555-4C39-B114-7864F78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F1C6-970B-4365-81B4-2CB2D67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0CFEC-99FD-41CA-A9A3-7310367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E5344-12FF-4A9F-A673-D63BDE64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95DAE-A5E4-47BB-83D8-DBE5DF18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34F49-9F25-4DF3-9B1C-6F27055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C03D0-BFD3-4E68-A6F7-5B9909D6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6BE31-B5EC-49DA-8B28-A6FA8EF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4E936-1954-464C-AE13-FC9A820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EC88B-2908-43F2-9018-21D77463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3444-E79B-4536-AFB4-AF1B49E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F4EEE-0349-47D3-A7F6-05B8F4B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53EC9-4E99-4DEB-A888-E1A7943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4AA25-0818-4614-9D63-51430A6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5D92C-305A-4875-8AE4-337FAAC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3971A-8F75-49C4-A337-E4C4BC55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412B3-02B1-436C-890C-171FFD8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BCAAA-6B02-4DF4-9009-69B3E0B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3A573-C7DF-4D0E-A803-4DD6AFC0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D5239-14BD-415F-84B7-2555B56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4DAE0-A438-49B9-842F-BA3042C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ED7-0E1A-4C0F-AA7A-7B6414F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51A10-3191-43C8-9C9A-A5F2BCE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7EA6A-1C5B-4AF6-97DC-D64F5B1F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518C5-BA8F-47B5-8C28-E80CD40A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EA1ED-DDFB-4BBA-B7F2-0CC8BEF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C8DBB-EC45-4A97-A3F0-A2C1094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DDB11-6D8D-4093-8F54-EBC6A53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C5CE9-B1BE-4AB6-8981-568613C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95EC4-1194-4443-809F-4D97F15D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230D5-8099-40C9-A3D9-04F01B5B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E9959-B93A-456B-A525-A21D26E4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4C7-EE6A-40E4-BCB8-375365A9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CFA36-743F-46B0-ADF1-F4C7A734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4432A-9FD5-4CB7-AF8A-365A1EAD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33815-C5AF-4E69-8C83-7DA5069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1E93F-588A-4D34-A734-903070C0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86CBA-51D5-44B1-8416-6033240F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F5BE8-F361-4820-90B3-DF7A623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C013B-56D9-4D97-AC64-5E60B4C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D85E2-A2B0-4D08-A31E-00897AC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6D08D-FAD7-49B0-8EEC-F5BBD07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AA49C-E849-42D0-878B-0164F372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9CD-0ACA-47C8-8F08-829599C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459D7-7D07-47D5-8DB6-9507771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4F91C-5101-4D9E-9546-E11D2275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19725-F39F-44B4-8FFC-EF9F8B3F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28F01-FAED-490E-B440-7B4120C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505A0-F24A-463C-B2F5-C8DEF46C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D7580-C3B5-4B89-9C80-46E75F5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984F5-4ED7-4220-890B-0FA4AF1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D80F5-76B9-409C-AC36-F90DDD5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C4988-39BA-41E7-8F7A-4998B84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0449C-DA19-417A-B65C-DCD3484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A02C-FB28-47DE-86D9-2CCDD5E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5E7F9-8805-4135-BA06-93FA8D6A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7AC25-1FEF-4AE1-A5F0-13470E40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CB835-0581-4F2D-AF27-15DD37D1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163F5-DBD4-4214-B358-5EBCCF0D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EFBCF-7C8B-4C7B-8349-55BC2BA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6DA00-324E-4E67-87DD-AFB5AE7A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0B61D-9714-409D-80A7-29D8A21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4F325-6407-4F2E-A30A-827D32F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29B41-9095-4FA6-91D8-4CB059A3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EE761-CA1B-420B-8973-25B82E1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460-A84C-489F-A21A-7E90AD5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AE7-EFDA-4D94-AAC3-6435BAFF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8A9AC-2428-49BC-A326-2D6DFF5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EA32B-86DF-47FE-AF5D-5B36185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BF66C-4DF9-4150-B18B-09E8AFD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3E84F-4EBE-46D4-835F-FEE9C04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8219E-6850-4C5A-8C5A-2BDFCF35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DFBB3-B2BE-4EAA-AC1E-DB3EF0A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86AB7-ACFD-4566-8718-5912AA0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6EA47-3500-459B-B0FD-5C7F2F8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4D6F8-0417-4F8F-9980-8C622A9E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87B4D-8849-40FF-9D9F-B3D8075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4225-556D-4E37-A4AD-074293A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0BE7C-540C-452E-889F-280D6B7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2A66E-D01C-41F7-AC58-A53FDEA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0EA74-430A-45FE-81AF-1B62F29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2129F-1063-47FC-A4C6-53F7E39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9BC17-135E-405F-A414-0815317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0D2BE-FB61-427A-A61B-05803BD8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88EFA-2521-451E-8D1A-F00705BB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0DF-57F2-4012-9249-5F98AF0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F5B-6751-4333-A6CB-025D7918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5A7E-0934-4F68-9626-1717BB00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9695-5B3C-421C-BDF5-7C1119A6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380E-F42F-4879-B694-5C0C295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360C-C9CD-4ABC-A254-134C202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EBCA-4DA7-481D-9491-E30E1BE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0055-D068-45A5-9811-D75A89A2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2F7-952C-405E-BEC9-34AE78A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CA9C-D238-4503-A1AA-B807105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1CBA-3FB8-40CB-A47A-C677C1F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9527-81B5-4801-B121-234B4C1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7B4E-2504-4559-80DE-F76D713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A339-D620-4810-9C83-7961F436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087F-6961-4D31-A8D1-F12E81FF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AA5E-71CC-4DE4-B05A-33210F37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1221-36FA-43A0-920F-8A1AFBC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209D-0DBA-42FE-A4F5-585B137C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8D07-3F7F-4211-97C6-988BCE6F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F9F-67C0-496D-8925-B5F41FE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D9C7-73D2-4243-9B0B-990E94F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7A88-47BF-4C30-85CB-32EDEB6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B63B-6A26-4722-9C6B-B9E4C417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21D5-FAEA-4885-A64A-5254CF3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90BC-83FD-4BD5-B93D-C4A3CB1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A9CC-BE57-40C4-989C-977EC53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BFF0-5A7F-4526-BAB9-9633AD2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3153-3254-4609-BADC-D956CB1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A54F-ADAA-4C9B-80F5-99D7163B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42EB-B8A6-4153-8BA7-E2487A3B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A6D-A118-4C24-9C05-AEA8DA3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4236-572D-4C7B-AD45-01BB360D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E3B77-CEB3-4529-A095-E24FB0BB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C8DE-BA9A-425B-A47B-1C24097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EE1A-90D3-4E0C-9698-C4AFBE5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DC3A-AC25-465F-A928-2A7F49ED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F208-6998-46CD-A519-98305A5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673A-D8ED-4E42-9786-F35C9DA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7F10-2A1D-45E9-9532-DB8F901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A542-BBE6-43EE-9080-1DD4CEA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AD75-B48F-4178-BF61-25AD3516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3E8-42F8-45C3-BF79-77302FB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3F2F-1FE1-4DF4-B0A0-BDA7FFAF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339F-C31E-49CC-80FE-8069B067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ED32-A601-439D-8B0B-F7746EBD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18D0-503F-4DBB-8065-968AC2E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9E51-0316-40B0-A4E0-E23B206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D29D-2724-4273-A345-56865AB5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9D85-0992-4A2F-A80A-0720AC4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A89B-A3D8-45D0-ACAC-87A81AB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6D4E-A579-4EFD-B54B-28AB787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1D8B-336D-4423-9562-D7723A1A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85A-131F-4F3B-8663-CDB3802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E5E5-1C5E-43E0-A95B-F9C68DD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0712-2B39-4F1A-8F43-6022EE90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FAD8-0F0A-4026-BD2A-64062D00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FD9C3-4E7E-4BC1-834C-57DAE5D2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BE2E9-8257-4F0D-8352-0FBDFBA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046B-417A-4E2D-A688-302B8640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F4A26-1ADB-4039-A7C2-587D766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57B4B-3191-40BA-AA0A-55B9DE8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0F92-60E0-43A3-864B-C8C693F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C6E2-6E46-44DC-A835-729FD04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34B-001E-4E16-9C9A-A1D3833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A7C4-F7FB-4521-BBF2-3DA7D72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9508-3E50-47D7-95A8-E083E1A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F5C1-78A2-4D9D-95FD-03D2DFA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07F1-2A2D-4F0C-9D03-85065CF2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5F1D-C1DD-425D-984D-1CB72404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312F-F9C0-460B-93DF-1750BE3B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DAFED-9411-44FF-8D71-57D481F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2267-BE3E-4CF0-9EC7-07FBDE1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5118-C808-40B0-9FA7-611D3572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DC2C-6ABA-4E6D-AF61-762F9D70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153-256B-433E-9A5E-5718058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965C-B063-4732-B17E-E7AF19B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0263-C7CD-4DB8-9496-494C160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EA68-92BF-4730-BA1F-818419E4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697BB-C521-45C3-BE53-4CE8BEB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C9B1C-149E-4E75-93F4-C1F3C06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5944-ED76-4339-BFD8-9FC91C06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48B0-EA85-4C0C-ABA4-2F1D1ADB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B2DCD-0BEB-46E6-B0A1-34F6F0F1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3662-DBF0-4744-97A2-0CC3B083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E5439-EDCA-4840-AADC-5B47C029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763-91FA-4914-AB16-D74C60CC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45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79640" y="6244920"/>
            <a:ext cx="540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4A2-C66F-4329-B53F-E3E622049849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08280"/>
            <a:ext cx="585720" cy="47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187280" y="6308280"/>
            <a:ext cx="676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172000" y="630828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CD29-7D05-420C-8339-7544AAF6F2FC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BAB-101F-4772-A286-1C752A182E83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332000" y="624492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0280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4FC-97FD-4E6A-AEA4-12B9C4964881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258560" y="6244920"/>
            <a:ext cx="669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A46-3E35-47C6-92B2-ABC52F3FC806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115640" y="6244920"/>
            <a:ext cx="698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244000" y="624492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740-9843-4F3F-8F0C-8951CC853A2E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4B3-5779-4D53-9580-04188A8C3283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7200" y="6524640"/>
            <a:ext cx="7300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1331640" y="6524640"/>
            <a:ext cx="684036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244000" y="6524640"/>
            <a:ext cx="4428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789-C069-4001-AFFC-57A7024B7F95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1258560" y="624492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B0E-826E-4A96-B63F-A6C1C6019F6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4CD-C606-4F80-BACE-56C9AEA9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B12-02E5-47E3-A8F2-F308675A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9B8-3D03-4C4E-9270-A95A01FA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2C0-E373-4E2C-830D-5CF6BFDB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E48C-7994-4FA0-895C-7AA2A0B6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EE6-187F-49F3-945C-FFFC03A97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DA4C-6857-4E46-B37F-2A81C5CE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2EE-CDC5-4AAD-8A42-B2DFF43CF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svetlov@timacad.ru" TargetMode="External"/><Relationship Id="rId3" Type="http://schemas.openxmlformats.org/officeDocument/2006/relationships/hyperlink" Target="http://svetlov.timacad.ru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vetlov.timacad.ru/umk8/umk.htm" TargetMode="External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Скругленный прямоугольник 3"/>
          <p:cNvGrpSpPr/>
          <p:nvPr/>
        </p:nvGrpSpPr>
        <p:grpSpPr>
          <a:xfrm>
            <a:off x="2170080" y="-36360"/>
            <a:ext cx="7029360" cy="4254480"/>
            <a:chOff x="2170080" y="-36360"/>
            <a:chExt cx="7029360" cy="4254480"/>
          </a:xfrm>
        </p:grpSpPr>
        <p:pic>
          <p:nvPicPr>
            <p:cNvPr id="73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170080" y="-36360"/>
              <a:ext cx="702936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232000" y="0"/>
              <a:ext cx="6912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3157560"/>
            <a:ext cx="835344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Математическое моделирование и проект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533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лов Николай Михайлови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svetlov@timaca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http://svetlov.timacad.r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1" name="Содержимое 5" descr=""/>
          <p:cNvPicPr/>
          <p:nvPr/>
        </p:nvPicPr>
        <p:blipFill>
          <a:blip r:embed="rId2"/>
          <a:stretch/>
        </p:blipFill>
        <p:spPr>
          <a:xfrm>
            <a:off x="-6480" y="1590840"/>
            <a:ext cx="10534680" cy="463860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4B3C-A52A-4022-AD1D-AD11C8CEF36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6D7-C220-47B5-A47E-2A072B038187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96960"/>
            <a:ext cx="83343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A83-D026-4428-BC2C-F77E119678B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3516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Моделирование минерального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2708280"/>
            <a:ext cx="8507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объёмов внесения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минимального и максимального количества действующего вещества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одержания действующего вещества в единице удобрения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цен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продуктивность культуры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ин. и макс. количество действующего вещества при продуктивности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цена продукции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646-BCB9-4A3F-94B2-48AD403E607E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6" name="Object 2"/>
          <p:cNvGraphicFramePr/>
          <p:nvPr/>
        </p:nvGraphicFramePr>
        <p:xfrm>
          <a:off x="444600" y="1628640"/>
          <a:ext cx="848196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628640"/>
                    <a:ext cx="848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Операции над векторами и матрицам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585-4381-4589-9EE2-D22E6B26ACB8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1312920" y="1770120"/>
          <a:ext cx="73213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1770120"/>
                    <a:ext cx="73213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Содержимое 9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4511880" cy="438336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Содержимое 10" descr=""/>
          <p:cNvPicPr/>
          <p:nvPr/>
        </p:nvPicPr>
        <p:blipFill>
          <a:blip r:embed="rId2"/>
          <a:stretch/>
        </p:blipFill>
        <p:spPr>
          <a:xfrm>
            <a:off x="4059360" y="2139840"/>
            <a:ext cx="5091120" cy="4383360"/>
          </a:xfrm>
          <a:prstGeom prst="rect">
            <a:avLst/>
          </a:prstGeom>
          <a:ln w="0">
            <a:noFill/>
          </a:ln>
        </p:spPr>
      </p:pic>
      <p:sp>
        <p:nvSpPr>
          <p:cNvPr id="808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F31-F6DB-4609-A327-326F83FF9F51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1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81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36EB-3D3A-4749-8789-2B12596F755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Моделирование сочетания куль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253224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товарн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кормов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выручк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производственных затрат на товарные/кормовые культуры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648320" y="303480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(1,1,…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лощадь пашн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потребности в предшествен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пособности быть предшественником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выхода корм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отребности в корм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74CF-BDBB-4E8D-9AB4-C52A26707092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Группа 9"/>
          <p:cNvGrpSpPr/>
          <p:nvPr/>
        </p:nvGrpSpPr>
        <p:grpSpPr>
          <a:xfrm>
            <a:off x="574560" y="1700280"/>
            <a:ext cx="8015400" cy="720720"/>
            <a:chOff x="574560" y="1700280"/>
            <a:chExt cx="8015400" cy="720720"/>
          </a:xfrm>
        </p:grpSpPr>
        <p:graphicFrame>
          <p:nvGraphicFramePr>
            <p:cNvPr id="820" name="Object 2"/>
            <p:cNvGraphicFramePr/>
            <p:nvPr/>
          </p:nvGraphicFramePr>
          <p:xfrm>
            <a:off x="574560" y="1700280"/>
            <a:ext cx="8015400" cy="333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560" y="1700280"/>
                      <a:ext cx="80154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Правая фигурная скобка 6" descr=""/>
            <p:cNvPicPr/>
            <p:nvPr/>
          </p:nvPicPr>
          <p:blipFill>
            <a:blip r:embed="rId4"/>
            <a:stretch/>
          </p:blipFill>
          <p:spPr>
            <a:xfrm>
              <a:off x="4273200" y="1997280"/>
              <a:ext cx="110952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Правая фигурная скобка 7" descr=""/>
            <p:cNvPicPr/>
            <p:nvPr/>
          </p:nvPicPr>
          <p:blipFill>
            <a:blip r:embed="rId5"/>
            <a:stretch/>
          </p:blipFill>
          <p:spPr>
            <a:xfrm>
              <a:off x="5461920" y="1997280"/>
              <a:ext cx="156060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Правая фигурная скобка 8" descr=""/>
            <p:cNvPicPr/>
            <p:nvPr/>
          </p:nvPicPr>
          <p:blipFill>
            <a:blip r:embed="rId6"/>
            <a:stretch/>
          </p:blipFill>
          <p:spPr>
            <a:xfrm>
              <a:off x="7077600" y="1997280"/>
              <a:ext cx="1341000" cy="42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5. Моделирование сочетания культу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051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потребности в предшественниках (при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Содержимое 20" descr=""/>
          <p:cNvPicPr/>
          <p:nvPr/>
        </p:nvPicPr>
        <p:blipFill>
          <a:blip r:embed="rId1"/>
          <a:stretch/>
        </p:blipFill>
        <p:spPr>
          <a:xfrm>
            <a:off x="384120" y="2103480"/>
            <a:ext cx="5187960" cy="41814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651280" y="1534680"/>
            <a:ext cx="3035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рица способности быть предшествен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Содержимое 21" descr=""/>
          <p:cNvPicPr/>
          <p:nvPr/>
        </p:nvPicPr>
        <p:blipFill>
          <a:blip r:embed="rId2"/>
          <a:stretch/>
        </p:blipFill>
        <p:spPr>
          <a:xfrm>
            <a:off x="5578560" y="2103480"/>
            <a:ext cx="3181320" cy="4181400"/>
          </a:xfrm>
          <a:prstGeom prst="rect">
            <a:avLst/>
          </a:prstGeom>
          <a:ln w="0">
            <a:noFill/>
          </a:ln>
        </p:spPr>
      </p:pic>
      <p:sp>
        <p:nvSpPr>
          <p:cNvPr id="830" name="Нижний колонтитул 3"/>
          <p:cNvSpPr/>
          <p:nvPr/>
        </p:nvSpPr>
        <p:spPr>
          <a:xfrm>
            <a:off x="1116000" y="6245280"/>
            <a:ext cx="698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Номер слайда 4"/>
          <p:cNvSpPr/>
          <p:nvPr/>
        </p:nvSpPr>
        <p:spPr>
          <a:xfrm>
            <a:off x="8244000" y="6245280"/>
            <a:ext cx="442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3FA-0E4B-4E45-A7C3-DB5434E0A13C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ижний колонтитул 3"/>
          <p:cNvSpPr/>
          <p:nvPr/>
        </p:nvSpPr>
        <p:spPr>
          <a:xfrm>
            <a:off x="1187280" y="643572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78920" y="4579920"/>
            <a:ext cx="45370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площадей сельскохозяйственных культур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вектор поголовья сельскохозяйственных животных основного (маточного) стада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о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распределения удобрений по культура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он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толбец матрицы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выручки от реализации продукции растениеводства (животноводства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 руб./г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растениеводстве (без удобрений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животноводстве (без кормов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затрат на приобретение и внесение удобрен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использования сельскохозяйственных угодий под культуры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лощадей сельскохозяйственных угод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трица потребности в предшественниках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рица способности быть предшественнико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873-FB99-4641-B11B-656DAA441C46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7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ли и содержание курс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тодика препода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ипология математических моделей, применяемых в агрономии, и методов их исследо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минерального питания раст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очетания культу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истемы земледел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в исследовательской и проектной деятельности агроном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9D4D-0EB3-4908-9BC1-3E223B7804E6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8920" y="457992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выхода кормов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матрица потребности животных в кормах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ол.основного стад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толбцы = виды животных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 скотомест для содержания основного стада животных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ектор минимального (максимального) внесения действующего вещества под культуру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г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содержания действующего вещества в каждом удобрении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виды удобрений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ы затрат оборотных средств в растениеводстве (животноводстве, на приобретение удобрений) в период их наибольшего дефицита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размер оборотных средств в период их наибольшего дефицита (учитывая возможности получения кредита)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 руб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ществуют и другие постановки этой задачи (с оптимизацией рационов, кредитов, использования труда и т.п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6299-8C92-4582-ADBD-DAD43A07FE29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7. Моделирование в исследовательской и проектной деятельности агроном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47" name="Содержимое 6" descr=""/>
          <p:cNvPicPr/>
          <p:nvPr/>
        </p:nvPicPr>
        <p:blipFill>
          <a:blip r:embed="rId2"/>
          <a:stretch/>
        </p:blipFill>
        <p:spPr>
          <a:xfrm>
            <a:off x="347760" y="1517760"/>
            <a:ext cx="8454960" cy="2773080"/>
          </a:xfrm>
          <a:prstGeom prst="rect">
            <a:avLst/>
          </a:prstGeom>
          <a:ln w="0">
            <a:noFill/>
          </a:ln>
        </p:spPr>
      </p:pic>
      <p:sp>
        <p:nvSpPr>
          <p:cNvPr id="848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9B8-807E-4C10-9E7C-F80F5258962A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Схема 7" descr=""/>
          <p:cNvPicPr/>
          <p:nvPr/>
        </p:nvPicPr>
        <p:blipFill>
          <a:blip r:embed="rId3"/>
          <a:stretch/>
        </p:blipFill>
        <p:spPr>
          <a:xfrm>
            <a:off x="463680" y="4297320"/>
            <a:ext cx="8242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8" name="Содержимое 5" descr=""/>
          <p:cNvPicPr/>
          <p:nvPr/>
        </p:nvPicPr>
        <p:blipFill>
          <a:blip r:embed="rId2"/>
          <a:stretch/>
        </p:blipFill>
        <p:spPr>
          <a:xfrm>
            <a:off x="450720" y="1407960"/>
            <a:ext cx="8699760" cy="4980240"/>
          </a:xfrm>
          <a:prstGeom prst="rect">
            <a:avLst/>
          </a:prstGeom>
          <a:ln w="0">
            <a:noFill/>
          </a:ln>
        </p:spPr>
      </p:pic>
      <p:sp>
        <p:nvSpPr>
          <p:cNvPr id="74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1B5-D25F-49A8-A0B2-21D585454AE0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Нижний колонтитул 2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702-C55F-42C4-9092-443BEE7F1D58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755640" y="1459080"/>
            <a:ext cx="74883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3BE-AA9B-4D24-8633-58BD0D40F388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1042920" y="1490760"/>
          <a:ext cx="6985080" cy="1073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90760"/>
                    <a:ext cx="6985080" cy="1073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7B4-E79F-469F-AAD4-B640A2BBA9A0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576360" y="1341360"/>
          <a:ext cx="776916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341360"/>
                    <a:ext cx="776916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66" name="Содержимое 5" descr=""/>
          <p:cNvPicPr/>
          <p:nvPr/>
        </p:nvPicPr>
        <p:blipFill>
          <a:blip r:embed="rId1"/>
          <a:stretch/>
        </p:blipFill>
        <p:spPr>
          <a:xfrm>
            <a:off x="396720" y="1554120"/>
            <a:ext cx="8375760" cy="4651560"/>
          </a:xfrm>
          <a:prstGeom prst="rect">
            <a:avLst/>
          </a:prstGeom>
          <a:ln w="0">
            <a:noFill/>
          </a:ln>
        </p:spPr>
      </p:pic>
      <p:sp>
        <p:nvSpPr>
          <p:cNvPr id="76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7CF-28CF-4A45-BE3F-D70F66FD5478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24000" y="217476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Франс Дж., Торнли Дж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Математические модели в сельском хозяйстве. М.: Агропромиздат, 1987. – 400 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ое моделирование экономических процессов в сельском хозяйстве /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атаулин А.М., Гаврилов Г.В., Сорокина Т.М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др. СПб.: ИТК ГРАНИТ, 200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чебные материалы в сети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42728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http://svetlov.timacad.ru/umk8/umk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чая программа учебной дисцип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ные презентации к лек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я к лабораторным рабо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3C8-576B-4724-B079-27C54F997B8A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0ABF-477F-41F3-B90F-6BF6DA4F845C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3200"/>
            <a:ext cx="8340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56:07Z</dcterms:created>
  <dc:creator>Н. Светлов</dc:creator>
  <dc:description/>
  <cp:keywords>моделирование системы земледелия моделирование минерального питания растений моделирование сочетания культур в растениеводстве</cp:keywords>
  <dc:language>en-US</dc:language>
  <cp:lastModifiedBy>Коля</cp:lastModifiedBy>
  <dcterms:modified xsi:type="dcterms:W3CDTF">2013-07-31T15:54:05Z</dcterms:modified>
  <cp:revision>38</cp:revision>
  <dc:subject/>
  <dc:title>Математическое моделирование и проектирование</dc:title>
</cp:coreProperties>
</file>