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4.jpeg" ContentType="image/jpeg"/>
  <Override PartName="/ppt/media/image5.jpeg" ContentType="image/jpeg"/>
  <Override PartName="/ppt/media/image27.png" ContentType="image/png"/>
  <Override PartName="/ppt/media/image12.wmf" ContentType="image/x-wmf"/>
  <Override PartName="/ppt/media/image13.wmf" ContentType="image/x-wmf"/>
  <Override PartName="/ppt/media/image8.jpeg" ContentType="image/jpeg"/>
  <Override PartName="/ppt/media/image28.png" ContentType="image/png"/>
  <Override PartName="/ppt/media/image31.wmf" ContentType="image/x-wmf"/>
  <Override PartName="/ppt/media/image7.jpeg" ContentType="image/jpeg"/>
  <Override PartName="/ppt/media/image11.png" ContentType="image/png"/>
  <Override PartName="/ppt/media/image9.jpeg" ContentType="image/jpeg"/>
  <Override PartName="/ppt/media/image33.png" ContentType="image/png"/>
  <Override PartName="/ppt/media/image34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5.wmf" ContentType="image/x-wmf"/>
  <Override PartName="/ppt/media/image21.wmf" ContentType="image/x-wmf"/>
  <Override PartName="/ppt/media/image18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14.wmf" ContentType="image/x-wmf"/>
  <Override PartName="/ppt/media/image29.png" ContentType="image/png"/>
  <Override PartName="/ppt/media/image32.wmf" ContentType="image/x-wmf"/>
  <Override PartName="/ppt/media/image16.png" ContentType="image/png"/>
  <Override PartName="/ppt/media/image20.wmf" ContentType="image/x-wmf"/>
  <Override PartName="/ppt/media/image17.png" ContentType="image/png"/>
  <Override PartName="/ppt/media/image19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A14E-415E-4BF5-966C-B7B6DDC8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FDDA-483B-45F7-8815-C8CF0E10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233AB-4205-4257-AAEB-C0BFB348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E7575-A343-47E8-BBF5-C7B9AB91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AE0B5-AD51-426F-BFF8-16066E5F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77895-EE19-4A78-A2BA-360CE8CA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7E7C3-37B6-41E4-B95E-58570E9A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56C2D-60CE-40E0-BE06-966300BE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CB174-4AD1-4308-9EC9-75DA1D86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35568-0194-4F02-9941-86785FF9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A7A37-4302-4EDE-9D0C-381D9EE9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616D0-A5A6-48C7-BC0A-2C5BD93D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4358-6DC3-4AF2-8E43-0407E998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D4F2C-A5FB-4BA5-AC35-9FFE9739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FCF88-6CFA-49AC-85D2-CF36D24F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62EB5-4354-40D0-8325-2BA773FE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7C5C2-0CD4-4A3A-9C43-BD290CD2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53CE5-D477-4E21-9579-DE217700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A797C-9ADE-472A-B155-D0CFA1E1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49A70-562E-47FC-8695-42B2F9EA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DDB75-2646-4DE3-8153-797C4ADB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F4829-789E-4FD4-A00C-09E96054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7E2CE-C2DA-4E6A-8C6E-A868476D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32A4-8EFF-4D16-803E-BFD1897E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F881D-B6E5-4F58-8CB9-8EF76085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3E22A-C6A8-4E78-9FDC-9698DEE3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98F49-7596-483F-A67E-2C45A95C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FFEE8-6A20-42A7-825C-979BF52A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B8BB9-BE36-4758-AA6F-E6591749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7F587-FF33-41A3-B03F-39A4E646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E3E28-1B79-4FD9-8CB6-ACD4EE66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E4587-5AFE-4F8E-9335-2BE2B78B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64783-F8DC-408A-8177-E6B148B4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FB754-2EA5-4AAF-B848-5CB245BD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207C-F7EB-4D0A-B47E-52DE4715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B2756-2051-4530-92AD-8F26FE63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B52DD-1369-4C83-B5F2-B7D9B480C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44678-686E-4FAA-9A00-F22042AE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70BE3-1068-473B-AB5A-2B88B9A0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06A0D-2045-4026-8869-AE20C4EB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47341-BC4F-4978-BA98-5EBDDD27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2C159-2ECF-4869-BD1B-D7730452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3F627-10DB-479F-8A8B-5303F0F2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72235-D167-4D45-9B95-6FC9B793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8EA32-F401-40C2-BD0F-F00AB2B5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D01C-9F86-46C6-A326-FA7354F1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FCD67-BAAB-4548-91BC-AF44D60F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74500-D0B1-4779-973B-D08F51B8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7EACA-2CD2-4049-BF80-4733F623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FEB0B-AA4D-4EEF-8048-D86BF295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011AA-D50A-445A-B0F4-46F6B049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BFA6B2-E613-40B2-83BB-C81D573C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71AFA8-0CFC-465A-81E7-8E673895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B1AEBA-B106-4948-A5D1-710A2D69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485487-D3D5-4008-A85E-0D5F5DAE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EA611F-29A5-4D49-BEED-F98494FF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1489-A6C3-479F-8F68-780C5BCD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94DE1E-9150-4BB4-AE14-D9C800CA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24E407-1801-4EA8-A5F6-042200A6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5719B-31BC-4B31-BF69-DE050F76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A86DC0-4D55-43AA-B312-24CE5CC2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C8094B-838C-40F7-BCFB-A3C1D087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8156C9-DE25-4DFB-B70A-79972CDA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2DA3FB-02A5-406D-BB39-78D1438D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9B9DE0-F9E5-47E7-9F8A-30BB641B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42DC07-E10D-4682-8A08-C391338A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1C7CD2-BDDE-44B4-B609-7565347F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2917-B484-4C54-A2AA-6149A889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6D109A-4CBD-4990-98E6-538A4C28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367C36-19C5-4381-80ED-BB5B59FB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41B383-9E06-4D80-85AC-43BB8297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DBF582-4047-4E11-9939-5380590C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9ED4C5-F851-4E5E-A069-2C72FA98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E824A6-B0C7-46B4-8FB1-3135F340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641B1B-FBCE-490C-97FF-3E77560E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7EB703-3F1B-4F97-9771-9615D8CC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79D000-ED78-45F7-9964-5BE396DF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790C74-07A0-46DA-8595-A0B14D34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2DA5-4650-455C-8215-769A8601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A6CA21-31CB-4301-BC24-5201A579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667ACD-F77D-47C0-A26E-FAB8AC2F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1B6F0C-0EFF-4353-935D-88FEEEF5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80E0B0-E0BF-4E93-A61D-C884FC2C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75B1E6-D0F6-4C3D-A43A-8B2B4CB4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246D56-C46C-41D3-9089-7CC59110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1724CD-7859-4483-BC57-BFE3A50F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B58574-73BD-4C9F-B382-61962103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CD21D3-82DF-4C2C-A001-09F203E3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076D6B-D074-4668-8329-38A06739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C01F-3206-40C1-A5DB-4231A257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0B9704-61FA-44C9-A4CE-84204A65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DBD48E-DE83-4E69-9DAC-08A92BE9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CDAE43-C9CA-46BD-9C5F-246CF2C9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AD88FE-3A4B-4CAB-8B3C-B0456C8B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C8375F-38DB-406C-B7F6-0BE649F3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F2C82E-392A-4F4E-BD13-E56E9C43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CE241D-2AB4-4440-B44D-319DC432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FE55A5-E0F6-4B3D-A1EE-3FA7D7DE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C8BB5A-6CE9-46FC-B87A-111F5C5F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3158FD-4D15-4C44-B0D5-B9D5AE58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AD25-5D1F-4209-91C8-25DF62FA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39954D-8577-406F-A20C-D423416A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BEA430-AC80-490C-9CBD-4BB4D468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8959F4-3BD9-4ACD-AF6B-E74B73B8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A1C761-8855-4979-9ED5-4A95450C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19F287-E97A-400C-8E17-B990282A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48AE03-EFD4-448B-858A-B2031D3F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FA4E26-BA3A-41C1-9026-DA4D309B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60C7FE-AE9B-4862-8888-61FF3962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65AE1D-4728-4210-9010-F04C3757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7EFFF2-6E04-4929-BF3D-503980C2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AD7B-18BE-474B-B0DF-55D08FF0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C427-9049-49CF-A7A6-767513DE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AEB312-B422-4644-8F42-8E30F536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2C5336-25F7-4335-9843-E043E339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46236C-156E-412A-B114-8C258A93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291C3A-4AD1-4EAA-89F2-206261F7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F7DA30-750E-410C-99D7-4A599F15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8F55A9-7766-4005-ADEA-8B1BEE31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281746-09C0-4547-AA7A-05C8B252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843918-359A-409D-BA0A-0A15245E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0B10D2-F8BD-46FF-9E26-A876D284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A3198A-A5C7-435D-A7EB-98C2F63A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AC89-FFD0-4668-8DF1-94512DA3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870847-BE9F-42F2-920B-F5A78A36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522CB1-903C-4EA3-9D06-DB958605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EE3CC6-6169-4F98-AEC2-F9869609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A5F58E-CCBE-417C-A589-E557658E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D6C517-9C05-410F-BAAE-6B7B327F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77D0AB-EC7A-4BE2-99B5-F5030362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9D2940-FA98-4962-A8C4-B87B2447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41C2-4A74-4AF1-989F-8FD5EC55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E8E7-A2DC-4A71-BB21-D7DF8D3C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774D-21CB-493A-B204-383EAE9C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1F3EC-9CD3-47DC-9A67-FEE8D224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103AF-F35B-4A0F-995B-90AA6D5F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6CEE1-DC88-4DD9-A15F-97597C8A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7FEF0-CDA3-4CDF-8464-D0A50559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620B3-04CE-4DB7-B9DA-DED5F95F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99D2-CDC8-461D-A4E5-27C191A6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1D4AD-5BAF-47A8-9CC5-983E526B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62635-2E04-433A-A561-4866AE4B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0B4FA-A483-4B1B-850B-D934D3B0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00B8F-203D-4010-972E-9FDD7DFB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2A998-E76A-424A-B8F5-807EACAD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A070C-61F8-4832-B945-6DD52324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BFEF6-CF8C-4FF1-8D5D-4095738A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BD497-5207-44DD-8959-51A51696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777DF-B2AE-4590-B53D-9D099AC2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A9D22-D45E-4401-B7BD-8DC38466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112D-2479-412A-9FAE-419323BF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120B5-E26C-4512-A519-1CDA029F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F7AAE-9443-425D-AE47-B12978D1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56400-972F-4163-B1F5-A037DFFB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D8126-4A3C-4D68-8E22-A5AB8426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C90FD-86D7-400B-BF4A-5E5C6AC0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57B44-6473-4F03-861E-C75F22BF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21C81-D4B5-4674-A2B0-9F63F9E7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4A1CF-6675-4D7C-A57A-F9F0D2CA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B40A8-EB77-4B70-B91E-A21839D1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4C4DD-6442-4764-89E1-7CBA0B59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6CFE-B1E6-46E2-A36B-C857E59B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A89D7-CED1-472D-98AE-24F281FC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60047-BBB9-4A2D-AEA2-A0991F42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E4A7F-0AB7-4A62-85CA-FAA99FD9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854A4-B1B1-4C46-9E08-7244CB4C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13937-13F6-46A3-81F7-C8349506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32928-B966-4B4D-87FB-652EA460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65C24-1535-47FB-A899-CF361B68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39225-923C-41F8-AF27-F7030CBB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0E7BE-70AA-42D7-9674-1CA2E656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5CD90-C017-4F1D-8B9F-37CDBEC3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A0B6-86ED-4FFE-BF89-013A4527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21799-45CA-4993-94DF-3794198F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57E0F-7A83-4470-B69E-3035A40C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37CA1-5D17-4CBB-9FBD-8BD3CFA2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CD983-AF7E-4287-AB2C-E189F63F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804DB-B244-44A8-B3E3-F6286431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EF68B-D262-4088-8610-0C68D063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FE23C-B139-41D8-8B51-B511F6A2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5D8B6-B74D-4762-8275-3D578622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C51DC-1A4D-4340-AF0C-700F3534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4984B-327A-4416-AC5A-CE4ADAE9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2872-FAAD-433A-A801-8989056F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0F80B-E5BE-4DA3-A358-B7DC82E7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C1DFF-62D9-4B17-85DB-416CF3F47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7DDAE-54A2-424A-9FCA-46511E86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83120-E930-4B39-AD04-158F9211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02826-CCFD-4A63-AD1F-475EC139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75EE3-8DC4-476F-B1CD-AE206FDA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9FAD5-F53E-479D-A6B1-6A55CBC1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D47F8-23A7-4F66-AD6C-55C59138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B0D63-5BFC-4BB0-A295-E5C4819A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DC465-D16C-4039-ACAB-E8B5D717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11F4-CC00-4339-81AF-4C73E2C0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2E314-14CF-432C-B1D7-EBA35223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55CC6-4AB0-4851-9F4C-F49BD5CC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0D367-CAA5-4F06-AC85-140052E9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617EF-CBF3-4396-9239-C410A805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55F9E-A0CD-4A73-BFA4-4782E5B1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DD4FB-319B-4E4D-93B7-A04383D5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3D1D8-A8E7-4D44-B956-D7536935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29BF7-3CD0-4ADE-8EFD-A474524A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7B434-8FB6-4E24-A772-311349FD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B2FF8-1FC9-448C-9C01-C54DC267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2B22-11EA-43DF-8C57-0FB502F0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4BD22-16BE-44A6-83B2-FF6AA930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FDF78-430A-48E2-B08D-7EC6E7AB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D31EC-7EA1-4311-8DC6-BA4841FC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C3830-ABC8-4B73-A28F-28196DA6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F17E6-5F2F-49DC-832C-84052D33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01893-C624-438A-A024-3F37B59F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856B1-414F-42DD-8F83-3D1B142E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C7BDF-9C90-4772-9681-C5AAD574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F22E4-2BBB-4A1F-A590-7F4D9DA5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D3E09-B4EA-4F40-81C6-5AFD7D7B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519E-2F3F-450D-B7A2-B2157CE4F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7200" y="6244920"/>
            <a:ext cx="1450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1979640" y="6244920"/>
            <a:ext cx="540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a6a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172000" y="6244920"/>
            <a:ext cx="514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6a6a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7703-24AC-4EAD-9A02-806B59A8AC86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08280"/>
            <a:ext cx="585720" cy="476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1187280" y="6308280"/>
            <a:ext cx="676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a6a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172000" y="6308280"/>
            <a:ext cx="514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6a6a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2DF4-0EDD-4809-B68B-6C823FFCF27D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7200" y="624492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1187280" y="6244920"/>
            <a:ext cx="684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AFDF-D571-4FF0-9FE9-E8EFC2E71EBE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7200" y="624492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1332000" y="6244920"/>
            <a:ext cx="648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028000" y="624492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3879-297A-434C-B800-85062CA54815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7200" y="624492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1258560" y="6244920"/>
            <a:ext cx="669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6B14-624C-43CA-8F3A-0EBB2DBD7982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1115640" y="6244920"/>
            <a:ext cx="698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8244000" y="6244920"/>
            <a:ext cx="442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2934-F9CC-4BA8-870D-0A106F725574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7200" y="624492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1187280" y="6244920"/>
            <a:ext cx="684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0442-49F3-4D73-BB06-DBA1CBEFCA47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7200" y="6524640"/>
            <a:ext cx="73008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1331640" y="6524640"/>
            <a:ext cx="684036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8244000" y="6524640"/>
            <a:ext cx="44280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09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A041-8BA4-4ED8-B11B-CB7A1500FA0E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7200" y="624492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1258560" y="6244920"/>
            <a:ext cx="6769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a6a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8172000" y="6244920"/>
            <a:ext cx="514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6a6a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346D-3B09-411F-A027-1F0DEDB395A4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6915-BA2C-4A6A-9206-CB4C36BFD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28B3-040C-4A73-A94C-1B2DA6854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07BB-A2EF-4926-9FF6-D92BD860F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D780-A18B-4ED2-813C-88875B031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C842-6892-42B6-B398-FB528B193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F88D-8CE4-439E-875D-4F4CB0246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DC1A-7D84-4AF6-BAF6-F9126A789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BC5F-F834-4B06-8752-3B73F3593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mailto:svetlov@timacad.ru" TargetMode="External"/><Relationship Id="rId3" Type="http://schemas.openxmlformats.org/officeDocument/2006/relationships/hyperlink" Target="http://svetlov.timacad.ru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vetlov.timacad.ru/umk8/umk.htm" TargetMode="External"/><Relationship Id="rId3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Скругленный прямоугольник 3"/>
          <p:cNvGrpSpPr/>
          <p:nvPr/>
        </p:nvGrpSpPr>
        <p:grpSpPr>
          <a:xfrm>
            <a:off x="2170080" y="-36360"/>
            <a:ext cx="7029360" cy="4254480"/>
            <a:chOff x="2170080" y="-36360"/>
            <a:chExt cx="7029360" cy="4254480"/>
          </a:xfrm>
        </p:grpSpPr>
        <p:pic>
          <p:nvPicPr>
            <p:cNvPr id="73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2170080" y="-36360"/>
              <a:ext cx="7029360" cy="42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"/>
            <p:cNvSpPr/>
            <p:nvPr/>
          </p:nvSpPr>
          <p:spPr>
            <a:xfrm>
              <a:off x="2232000" y="0"/>
              <a:ext cx="6912000" cy="41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95280" y="3157560"/>
            <a:ext cx="8353440" cy="14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Математическое моделирование и проектировани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1371600" y="5330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етлов Николай Михайлович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-mail 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svetlov@timacad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  <a:hlinkClick r:id="rId3"/>
              </a:rPr>
              <a:t>http://svetlov.timacad.r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3. Типология математических модел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81" name="Содержимое 5" descr=""/>
          <p:cNvPicPr/>
          <p:nvPr/>
        </p:nvPicPr>
        <p:blipFill>
          <a:blip r:embed="rId2"/>
          <a:stretch/>
        </p:blipFill>
        <p:spPr>
          <a:xfrm>
            <a:off x="-6480" y="1590840"/>
            <a:ext cx="10534680" cy="4638600"/>
          </a:xfrm>
          <a:prstGeom prst="rect">
            <a:avLst/>
          </a:prstGeom>
          <a:ln w="0">
            <a:noFill/>
          </a:ln>
        </p:spPr>
      </p:pic>
      <p:sp>
        <p:nvSpPr>
          <p:cNvPr id="782" name="Нижний колонтитул 3"/>
          <p:cNvSpPr/>
          <p:nvPr/>
        </p:nvSpPr>
        <p:spPr>
          <a:xfrm>
            <a:off x="1979640" y="6245280"/>
            <a:ext cx="54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Номер слайда 4"/>
          <p:cNvSpPr/>
          <p:nvPr/>
        </p:nvSpPr>
        <p:spPr>
          <a:xfrm>
            <a:off x="8172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744F-2D06-4A84-973B-FFA5A8F7C4A0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3. Типология математических модел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5" name="Нижний колонтитул 3"/>
          <p:cNvSpPr/>
          <p:nvPr/>
        </p:nvSpPr>
        <p:spPr>
          <a:xfrm>
            <a:off x="1979640" y="6245280"/>
            <a:ext cx="54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Номер слайда 4"/>
          <p:cNvSpPr/>
          <p:nvPr/>
        </p:nvSpPr>
        <p:spPr>
          <a:xfrm>
            <a:off x="8172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CC45-E862-466F-B367-1737C5FA7F26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7" name="Содержимое 7" descr=""/>
          <p:cNvPicPr/>
          <p:nvPr/>
        </p:nvPicPr>
        <p:blipFill>
          <a:blip r:embed="rId2"/>
          <a:stretch/>
        </p:blipFill>
        <p:spPr>
          <a:xfrm>
            <a:off x="401760" y="1596960"/>
            <a:ext cx="833436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3. Типология математических модел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9" name="Нижний колонтитул 3"/>
          <p:cNvSpPr/>
          <p:nvPr/>
        </p:nvSpPr>
        <p:spPr>
          <a:xfrm>
            <a:off x="1979640" y="6245280"/>
            <a:ext cx="54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Номер слайда 4"/>
          <p:cNvSpPr/>
          <p:nvPr/>
        </p:nvSpPr>
        <p:spPr>
          <a:xfrm>
            <a:off x="8172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2AE9-15F4-4813-B068-9FB1972D6140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1" name="Содержимое 7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3516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4. Моделирование минерального пит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7200" y="2708280"/>
            <a:ext cx="850752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вектор объёмов внесения удобрений (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/г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екторы минимального и максимального количества действующего вещества (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.д.в./г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матрица содержания действующего вещества в единице удобрения (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.д.в./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ектор цен удобрений (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ыс.руб./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продуктивность культуры (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/г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мин. и макс. количество действующего вещества при продуктивности </a:t>
            </a:r>
            <a:r>
              <a:rPr b="0" i="1" lang="ru-RU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.д.в./г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цена продукции (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ыс.руб./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Нижний колонтитул 3"/>
          <p:cNvSpPr/>
          <p:nvPr/>
        </p:nvSpPr>
        <p:spPr>
          <a:xfrm>
            <a:off x="1979640" y="6245280"/>
            <a:ext cx="54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Номер слайда 4"/>
          <p:cNvSpPr/>
          <p:nvPr/>
        </p:nvSpPr>
        <p:spPr>
          <a:xfrm>
            <a:off x="8172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7BA0-50B3-4942-9CC2-17F2EEEBD5E7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6" name="Object 2"/>
          <p:cNvGraphicFramePr/>
          <p:nvPr/>
        </p:nvGraphicFramePr>
        <p:xfrm>
          <a:off x="444600" y="1628640"/>
          <a:ext cx="8481960" cy="86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600" y="1628640"/>
                    <a:ext cx="84819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Операции над векторами и матрицами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Нижний колонтитул 3"/>
          <p:cNvSpPr/>
          <p:nvPr/>
        </p:nvSpPr>
        <p:spPr>
          <a:xfrm>
            <a:off x="1187280" y="6245280"/>
            <a:ext cx="684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Номер слайда 4"/>
          <p:cNvSpPr/>
          <p:nvPr/>
        </p:nvSpPr>
        <p:spPr>
          <a:xfrm>
            <a:off x="8101080" y="6245280"/>
            <a:ext cx="58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5321-160C-4E48-B1EC-A89DCCD44D9D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1" name="Object 2"/>
          <p:cNvGraphicFramePr/>
          <p:nvPr/>
        </p:nvGraphicFramePr>
        <p:xfrm>
          <a:off x="1312920" y="1770120"/>
          <a:ext cx="732132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2920" y="1770120"/>
                    <a:ext cx="732132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4. Моделирование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минерального пита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мод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5" name="Содержимое 9" descr=""/>
          <p:cNvPicPr/>
          <p:nvPr/>
        </p:nvPicPr>
        <p:blipFill>
          <a:blip r:embed="rId1"/>
          <a:stretch/>
        </p:blipFill>
        <p:spPr>
          <a:xfrm>
            <a:off x="-6480" y="2139840"/>
            <a:ext cx="4511880" cy="4383360"/>
          </a:xfrm>
          <a:prstGeom prst="rect">
            <a:avLst/>
          </a:prstGeom>
          <a:ln w="0">
            <a:noFill/>
          </a:ln>
        </p:spPr>
      </p:pic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ая мод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7" name="Содержимое 10" descr=""/>
          <p:cNvPicPr/>
          <p:nvPr/>
        </p:nvPicPr>
        <p:blipFill>
          <a:blip r:embed="rId2"/>
          <a:stretch/>
        </p:blipFill>
        <p:spPr>
          <a:xfrm>
            <a:off x="4059360" y="2139840"/>
            <a:ext cx="5091120" cy="4383360"/>
          </a:xfrm>
          <a:prstGeom prst="rect">
            <a:avLst/>
          </a:prstGeom>
          <a:ln w="0">
            <a:noFill/>
          </a:ln>
        </p:spPr>
      </p:pic>
      <p:sp>
        <p:nvSpPr>
          <p:cNvPr id="808" name="Нижний колонтитул 3"/>
          <p:cNvSpPr/>
          <p:nvPr/>
        </p:nvSpPr>
        <p:spPr>
          <a:xfrm>
            <a:off x="1187280" y="6245280"/>
            <a:ext cx="684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Номер слайда 4"/>
          <p:cNvSpPr/>
          <p:nvPr/>
        </p:nvSpPr>
        <p:spPr>
          <a:xfrm>
            <a:off x="8101080" y="6245280"/>
            <a:ext cx="58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8E90-B0E3-439D-915E-477F86DAA306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. Моделирование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минерального пита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811" name="Содержимое 5" descr=""/>
          <p:cNvPicPr/>
          <p:nvPr/>
        </p:nvPicPr>
        <p:blipFill>
          <a:blip r:embed="rId1"/>
          <a:stretch/>
        </p:blipFill>
        <p:spPr>
          <a:xfrm>
            <a:off x="450720" y="1566720"/>
            <a:ext cx="8242560" cy="4632480"/>
          </a:xfrm>
          <a:prstGeom prst="rect">
            <a:avLst/>
          </a:prstGeom>
          <a:ln w="0">
            <a:noFill/>
          </a:ln>
        </p:spPr>
      </p:pic>
      <p:sp>
        <p:nvSpPr>
          <p:cNvPr id="812" name="Нижний колонтитул 3"/>
          <p:cNvSpPr/>
          <p:nvPr/>
        </p:nvSpPr>
        <p:spPr>
          <a:xfrm>
            <a:off x="1979640" y="6245280"/>
            <a:ext cx="54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Номер слайда 4"/>
          <p:cNvSpPr/>
          <p:nvPr/>
        </p:nvSpPr>
        <p:spPr>
          <a:xfrm>
            <a:off x="8172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EC9A-659D-4D7F-ADD5-1615B609FB61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5. Моделирование сочетания культу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2532240"/>
            <a:ext cx="403848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ектор площадей пашни под товарными культурами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ектор площадей пашни под кормовыми культурами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вектор выручки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уб./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екторы производственных затрат на товарные/кормовые культуры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уб./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4648320" y="3034800"/>
            <a:ext cx="403848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(1,1,…,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лощадь пашни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матрица потребности в предшественниках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а/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матрица способности быть предшественником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а/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матрица выхода кормов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/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ектор потребности в кормах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Нижний колонтитул 3"/>
          <p:cNvSpPr/>
          <p:nvPr/>
        </p:nvSpPr>
        <p:spPr>
          <a:xfrm>
            <a:off x="1187280" y="6308640"/>
            <a:ext cx="676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Номер слайда 4"/>
          <p:cNvSpPr/>
          <p:nvPr/>
        </p:nvSpPr>
        <p:spPr>
          <a:xfrm>
            <a:off x="8172360" y="630864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EFE4-560D-40C8-8C11-F77009074188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9" name="Группа 9"/>
          <p:cNvGrpSpPr/>
          <p:nvPr/>
        </p:nvGrpSpPr>
        <p:grpSpPr>
          <a:xfrm>
            <a:off x="574560" y="1700280"/>
            <a:ext cx="8015400" cy="720720"/>
            <a:chOff x="574560" y="1700280"/>
            <a:chExt cx="8015400" cy="720720"/>
          </a:xfrm>
        </p:grpSpPr>
        <p:graphicFrame>
          <p:nvGraphicFramePr>
            <p:cNvPr id="820" name="Object 2"/>
            <p:cNvGraphicFramePr/>
            <p:nvPr/>
          </p:nvGraphicFramePr>
          <p:xfrm>
            <a:off x="574560" y="1700280"/>
            <a:ext cx="8015400" cy="333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21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4560" y="1700280"/>
                      <a:ext cx="8015400" cy="3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22" name="Правая фигурная скобка 6" descr=""/>
            <p:cNvPicPr/>
            <p:nvPr/>
          </p:nvPicPr>
          <p:blipFill>
            <a:blip r:embed="rId4"/>
            <a:stretch/>
          </p:blipFill>
          <p:spPr>
            <a:xfrm>
              <a:off x="4273200" y="1997280"/>
              <a:ext cx="1109520" cy="39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" name="Правая фигурная скобка 7" descr=""/>
            <p:cNvPicPr/>
            <p:nvPr/>
          </p:nvPicPr>
          <p:blipFill>
            <a:blip r:embed="rId5"/>
            <a:stretch/>
          </p:blipFill>
          <p:spPr>
            <a:xfrm>
              <a:off x="5461920" y="1997280"/>
              <a:ext cx="1560600" cy="4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Правая фигурная скобка 8" descr=""/>
            <p:cNvPicPr/>
            <p:nvPr/>
          </p:nvPicPr>
          <p:blipFill>
            <a:blip r:embed="rId6"/>
            <a:stretch/>
          </p:blipFill>
          <p:spPr>
            <a:xfrm>
              <a:off x="7077600" y="1997280"/>
              <a:ext cx="1341000" cy="423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5. Моделирование сочетания культур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50515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рица потребности в предшественниках (прим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Содержимое 20" descr=""/>
          <p:cNvPicPr/>
          <p:nvPr/>
        </p:nvPicPr>
        <p:blipFill>
          <a:blip r:embed="rId1"/>
          <a:stretch/>
        </p:blipFill>
        <p:spPr>
          <a:xfrm>
            <a:off x="384120" y="2103480"/>
            <a:ext cx="5187960" cy="4181400"/>
          </a:xfrm>
          <a:prstGeom prst="rect">
            <a:avLst/>
          </a:prstGeom>
          <a:ln w="0">
            <a:noFill/>
          </a:ln>
        </p:spPr>
      </p:pic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651280" y="1534680"/>
            <a:ext cx="30351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рица способности быть предшественни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Содержимое 21" descr=""/>
          <p:cNvPicPr/>
          <p:nvPr/>
        </p:nvPicPr>
        <p:blipFill>
          <a:blip r:embed="rId2"/>
          <a:stretch/>
        </p:blipFill>
        <p:spPr>
          <a:xfrm>
            <a:off x="5578560" y="2103480"/>
            <a:ext cx="3181320" cy="4181400"/>
          </a:xfrm>
          <a:prstGeom prst="rect">
            <a:avLst/>
          </a:prstGeom>
          <a:ln w="0">
            <a:noFill/>
          </a:ln>
        </p:spPr>
      </p:pic>
      <p:sp>
        <p:nvSpPr>
          <p:cNvPr id="830" name="Нижний колонтитул 3"/>
          <p:cNvSpPr/>
          <p:nvPr/>
        </p:nvSpPr>
        <p:spPr>
          <a:xfrm>
            <a:off x="1116000" y="6245280"/>
            <a:ext cx="6985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Номер слайда 4"/>
          <p:cNvSpPr/>
          <p:nvPr/>
        </p:nvSpPr>
        <p:spPr>
          <a:xfrm>
            <a:off x="8244000" y="6245280"/>
            <a:ext cx="442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2EFB-6F4F-4E0A-8DE4-DD099927B2E9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Нижний колонтитул 3"/>
          <p:cNvSpPr/>
          <p:nvPr/>
        </p:nvSpPr>
        <p:spPr>
          <a:xfrm>
            <a:off x="1187280" y="6435720"/>
            <a:ext cx="676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6. Моделирование системы земледел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178920" y="4579920"/>
            <a:ext cx="4537080" cy="22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  (</a:t>
            </a:r>
            <a:r>
              <a:rPr b="0" i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1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…,</a:t>
            </a:r>
            <a:r>
              <a:rPr b="0" i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i="1" lang="ru-RU" sz="16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…</a:t>
            </a:r>
            <a:r>
              <a:rPr b="0" i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i="1" lang="ru-RU" sz="16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– вектор площадей сельскохозяйственных культур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г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вектор поголовья сельскохозяйственных животных основного (маточного) стада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гол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  (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3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…,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i="1" lang="ru-RU" sz="16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…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i="1" lang="ru-RU" sz="16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– матрица распределения удобрений по культурам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тонн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столбцы = культур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3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32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|…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i="1" lang="ru-RU" sz="16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i="1" lang="ru-RU" sz="1600" spc="-1" strike="noStrike" baseline="-25000">
                <a:solidFill>
                  <a:srgbClr val="ffff00"/>
                </a:solidFill>
                <a:latin typeface="Arial"/>
              </a:rPr>
              <a:t>j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столбец матрицы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4648320" y="1599840"/>
            <a:ext cx="43876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– вектор выручки от реализации продукции растениеводства (животноводства)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тыс. руб./г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тыс.руб./го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ктор производственных затрат в растениеводстве (без удобрений и амортизации)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тыс.руб./г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ктор производственных затрат в животноводстве (без кормов и амортизации)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тыс.руб./го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ктор затрат на приобретение и внесение удобрений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тыс.руб./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– матрица использования сельскохозяйственных угодий под культуры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га/г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ктор площадей сельскохозяйственных угодий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г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матрица потребности в предшественниках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га/г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трица способности быть предшественником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га/г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Номер слайда 4"/>
          <p:cNvSpPr/>
          <p:nvPr/>
        </p:nvSpPr>
        <p:spPr>
          <a:xfrm>
            <a:off x="8172360" y="630864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813E-3A21-4B7E-B9B8-67AB767FB969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7" name="Object 2"/>
          <p:cNvGraphicFramePr/>
          <p:nvPr/>
        </p:nvGraphicFramePr>
        <p:xfrm>
          <a:off x="179280" y="1484280"/>
          <a:ext cx="4391280" cy="29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484280"/>
                    <a:ext cx="43912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Цели и содержание курс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Методика преподавани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Типология математических моделей, применяемых в агрономии, и методов их исследовани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Моделирование минерального питания растений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Моделирование сочетания культур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Моделирование системы земледели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Моделирование в исследовательской и проектной деятельности агроном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Нижний колонтитул 3"/>
          <p:cNvSpPr/>
          <p:nvPr/>
        </p:nvSpPr>
        <p:spPr>
          <a:xfrm>
            <a:off x="1979640" y="6245280"/>
            <a:ext cx="54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Номер слайда 4"/>
          <p:cNvSpPr/>
          <p:nvPr/>
        </p:nvSpPr>
        <p:spPr>
          <a:xfrm>
            <a:off x="8172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D7A2-F12E-4D0D-8412-C28CC0BA5D8D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Нижний колонтитул 3"/>
          <p:cNvSpPr/>
          <p:nvPr/>
        </p:nvSpPr>
        <p:spPr>
          <a:xfrm>
            <a:off x="1187280" y="6308640"/>
            <a:ext cx="676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6. Моделирование системы земледел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178920" y="4579920"/>
            <a:ext cx="4537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матрица выхода кормов, 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т/га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(столбцы = культуры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– матрица потребности животных в кормах 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т/гол.основного стада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столбцы = виды животных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– вектор скотомест для содержания основного стада животных, 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гол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4648320" y="1599840"/>
            <a:ext cx="43876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ru-RU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i="1" lang="ru-RU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–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ектор минимального (максимального) внесения действующего вещества под культуру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тонн д.в./г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матрица содержания действующего вещества в каждом удобрении, 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тонн д.в./т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(столбцы = виды удобрений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– векторы затрат оборотных средств в растениеводстве (животноводстве, на приобретение удобрений) в период их наибольшего дефицита, 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тыс.руб./га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тыс.руб./гол.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тыс.руб./т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– размер оборотных средств в период их наибольшего дефицита (учитывая возможности получения кредита), 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тыс. руб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уществуют и другие постановки этой задачи (с оптимизацией рационов, кредитов, использования труда и т.п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Номер слайда 4"/>
          <p:cNvSpPr/>
          <p:nvPr/>
        </p:nvSpPr>
        <p:spPr>
          <a:xfrm>
            <a:off x="8172360" y="630864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C024-84F8-419F-8A7D-984686D9998C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4" name="Object 2"/>
          <p:cNvGraphicFramePr/>
          <p:nvPr/>
        </p:nvGraphicFramePr>
        <p:xfrm>
          <a:off x="179280" y="1484280"/>
          <a:ext cx="4391280" cy="29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484280"/>
                    <a:ext cx="43912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7. Моделирование в исследовательской и проектной деятельности агроном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847" name="Содержимое 6" descr=""/>
          <p:cNvPicPr/>
          <p:nvPr/>
        </p:nvPicPr>
        <p:blipFill>
          <a:blip r:embed="rId2"/>
          <a:stretch/>
        </p:blipFill>
        <p:spPr>
          <a:xfrm>
            <a:off x="347760" y="1517760"/>
            <a:ext cx="8454960" cy="2773080"/>
          </a:xfrm>
          <a:prstGeom prst="rect">
            <a:avLst/>
          </a:prstGeom>
          <a:ln w="0">
            <a:noFill/>
          </a:ln>
        </p:spPr>
      </p:pic>
      <p:sp>
        <p:nvSpPr>
          <p:cNvPr id="848" name="Нижний колонтитул 3"/>
          <p:cNvSpPr/>
          <p:nvPr/>
        </p:nvSpPr>
        <p:spPr>
          <a:xfrm>
            <a:off x="1979640" y="6245280"/>
            <a:ext cx="54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Номер слайда 4"/>
          <p:cNvSpPr/>
          <p:nvPr/>
        </p:nvSpPr>
        <p:spPr>
          <a:xfrm>
            <a:off x="8172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3EC2-3887-4F1A-8792-C7C5977E3624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0" name="Схема 7" descr=""/>
          <p:cNvPicPr/>
          <p:nvPr/>
        </p:nvPicPr>
        <p:blipFill>
          <a:blip r:embed="rId3"/>
          <a:stretch/>
        </p:blipFill>
        <p:spPr>
          <a:xfrm>
            <a:off x="463680" y="4297320"/>
            <a:ext cx="82422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. Цели и содержание кур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48" name="Содержимое 5" descr=""/>
          <p:cNvPicPr/>
          <p:nvPr/>
        </p:nvPicPr>
        <p:blipFill>
          <a:blip r:embed="rId2"/>
          <a:stretch/>
        </p:blipFill>
        <p:spPr>
          <a:xfrm>
            <a:off x="450720" y="1407960"/>
            <a:ext cx="8699760" cy="4980240"/>
          </a:xfrm>
          <a:prstGeom prst="rect">
            <a:avLst/>
          </a:prstGeom>
          <a:ln w="0">
            <a:noFill/>
          </a:ln>
        </p:spPr>
      </p:pic>
      <p:sp>
        <p:nvSpPr>
          <p:cNvPr id="749" name="Нижний колонтитул 3"/>
          <p:cNvSpPr/>
          <p:nvPr/>
        </p:nvSpPr>
        <p:spPr>
          <a:xfrm>
            <a:off x="1979640" y="6245280"/>
            <a:ext cx="54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Номер слайда 4"/>
          <p:cNvSpPr/>
          <p:nvPr/>
        </p:nvSpPr>
        <p:spPr>
          <a:xfrm>
            <a:off x="8172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F5BA-9AD1-4CE0-AB0C-7A06DCD9B9EC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1. Цели и содержание курса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2" name="Нижний колонтитул 2"/>
          <p:cNvSpPr/>
          <p:nvPr/>
        </p:nvSpPr>
        <p:spPr>
          <a:xfrm>
            <a:off x="1187280" y="6245280"/>
            <a:ext cx="684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Номер слайда 3"/>
          <p:cNvSpPr/>
          <p:nvPr/>
        </p:nvSpPr>
        <p:spPr>
          <a:xfrm>
            <a:off x="8101080" y="6245280"/>
            <a:ext cx="58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BB0E-1C8B-4E0A-9D81-78C03825E054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4" name="Picture 2" descr=""/>
          <p:cNvPicPr/>
          <p:nvPr/>
        </p:nvPicPr>
        <p:blipFill>
          <a:blip r:embed="rId1"/>
          <a:stretch/>
        </p:blipFill>
        <p:spPr>
          <a:xfrm>
            <a:off x="755640" y="1459080"/>
            <a:ext cx="748836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2. Методика преподавания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Нижний колонтитул 3"/>
          <p:cNvSpPr/>
          <p:nvPr/>
        </p:nvSpPr>
        <p:spPr>
          <a:xfrm>
            <a:off x="1258920" y="6245280"/>
            <a:ext cx="669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Номер слайда 4"/>
          <p:cNvSpPr/>
          <p:nvPr/>
        </p:nvSpPr>
        <p:spPr>
          <a:xfrm>
            <a:off x="8101080" y="6245280"/>
            <a:ext cx="58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77EC-334E-4074-9DF1-0C2CA190B048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8" name="Object 2"/>
          <p:cNvGraphicFramePr/>
          <p:nvPr/>
        </p:nvGraphicFramePr>
        <p:xfrm>
          <a:off x="1042920" y="1490760"/>
          <a:ext cx="6985080" cy="1073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90760"/>
                    <a:ext cx="6985080" cy="1073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2. Методика преподавания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Нижний колонтитул 3"/>
          <p:cNvSpPr/>
          <p:nvPr/>
        </p:nvSpPr>
        <p:spPr>
          <a:xfrm>
            <a:off x="1258920" y="6245280"/>
            <a:ext cx="669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Номер слайда 4"/>
          <p:cNvSpPr/>
          <p:nvPr/>
        </p:nvSpPr>
        <p:spPr>
          <a:xfrm>
            <a:off x="8101080" y="6245280"/>
            <a:ext cx="58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20EC-3524-419E-88B4-FF7C428929A1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3" name="Object 3"/>
          <p:cNvGraphicFramePr/>
          <p:nvPr/>
        </p:nvGraphicFramePr>
        <p:xfrm>
          <a:off x="576360" y="1341360"/>
          <a:ext cx="7769160" cy="50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341360"/>
                    <a:ext cx="776916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2. Методика препода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66" name="Содержимое 5" descr=""/>
          <p:cNvPicPr/>
          <p:nvPr/>
        </p:nvPicPr>
        <p:blipFill>
          <a:blip r:embed="rId1"/>
          <a:stretch/>
        </p:blipFill>
        <p:spPr>
          <a:xfrm>
            <a:off x="396720" y="1554120"/>
            <a:ext cx="8375760" cy="4651560"/>
          </a:xfrm>
          <a:prstGeom prst="rect">
            <a:avLst/>
          </a:prstGeom>
          <a:ln w="0">
            <a:noFill/>
          </a:ln>
        </p:spPr>
      </p:pic>
      <p:sp>
        <p:nvSpPr>
          <p:cNvPr id="767" name="Нижний колонтитул 3"/>
          <p:cNvSpPr/>
          <p:nvPr/>
        </p:nvSpPr>
        <p:spPr>
          <a:xfrm>
            <a:off x="1979640" y="6245280"/>
            <a:ext cx="54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Номер слайда 4"/>
          <p:cNvSpPr/>
          <p:nvPr/>
        </p:nvSpPr>
        <p:spPr>
          <a:xfrm>
            <a:off x="8172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4BB5-0ED4-42FE-A749-63C506D28C79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2. Методика препода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24000" y="15346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324000" y="217476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Франс Дж., Торнли Дж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Математические модели в сельском хозяйстве. М.: Агропромиздат, 1987. – 400 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атематическое моделирование экономических процессов в сельском хозяйстве /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Гатаулин А.М., Гаврилов Г.В., Сорокина Т.М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и др. СПб.: ИТК ГРАНИТ, 2009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чебные материалы в сети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4427280" y="2174760"/>
            <a:ext cx="42591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http://svetlov.timacad.ru/umk8/umk.ht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чая программа учебной дисципл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ьютерные презентации к лекция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ния к лабораторным работ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Нижний колонтитул 3"/>
          <p:cNvSpPr/>
          <p:nvPr/>
        </p:nvSpPr>
        <p:spPr>
          <a:xfrm>
            <a:off x="1187280" y="6245280"/>
            <a:ext cx="684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09090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Номер слайда 4"/>
          <p:cNvSpPr/>
          <p:nvPr/>
        </p:nvSpPr>
        <p:spPr>
          <a:xfrm>
            <a:off x="8101080" y="6245280"/>
            <a:ext cx="58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9ABA-7823-4F69-94F0-4C2DB0812BF2}" type="slidenum">
              <a:rPr b="0" lang="en-US" sz="1000" spc="-1" strike="noStrike">
                <a:solidFill>
                  <a:srgbClr val="90909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3. Типология математических модел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7" name="Нижний колонтитул 3"/>
          <p:cNvSpPr/>
          <p:nvPr/>
        </p:nvSpPr>
        <p:spPr>
          <a:xfrm>
            <a:off x="1979640" y="6245280"/>
            <a:ext cx="54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a6a6"/>
                </a:solidFill>
                <a:latin typeface="Arial"/>
              </a:rPr>
              <a:t>Математическое моделирование и проектирование – © Н.М. Светлов,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Номер слайда 4"/>
          <p:cNvSpPr/>
          <p:nvPr/>
        </p:nvSpPr>
        <p:spPr>
          <a:xfrm>
            <a:off x="8172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3E8A-BFDA-4E87-B3D9-64BAA797BA2D}" type="slidenum">
              <a:rPr b="0" lang="en-US" sz="10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9" name="Содержимое 7" descr=""/>
          <p:cNvPicPr/>
          <p:nvPr/>
        </p:nvPicPr>
        <p:blipFill>
          <a:blip r:embed="rId2"/>
          <a:stretch/>
        </p:blipFill>
        <p:spPr>
          <a:xfrm>
            <a:off x="401760" y="1573200"/>
            <a:ext cx="83404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4:56:07Z</dcterms:created>
  <dc:creator>Н. Светлов</dc:creator>
  <dc:description/>
  <cp:keywords>моделирование системы земледелия моделирование минерального питания растений моделирование сочетания культур в растениеводстве</cp:keywords>
  <dc:language>en-US</dc:language>
  <cp:lastModifiedBy>Коля</cp:lastModifiedBy>
  <dcterms:modified xsi:type="dcterms:W3CDTF">2013-07-31T15:54:05Z</dcterms:modified>
  <cp:revision>38</cp:revision>
  <dc:subject/>
  <dc:title>Математическое моделирование и проектирование</dc:title>
</cp:coreProperties>
</file>