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11.wmf" ContentType="image/x-wmf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654-1823-4252-B1F0-736EA501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D53-2603-48AA-9E11-ED957A2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CCD-1480-45C3-A68D-B027A53B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4D7-A52C-456D-9C4E-4B11371B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0AA-237F-44AD-861C-62F70FE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BF6-BDD5-43A6-8573-80AA32CC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48F-1466-4ED0-B496-4B8E46E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452-530E-4EF4-AEAC-4F8392C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C18-017D-4855-8F9F-EC93587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11B-1A74-43C1-B124-C55C3C6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4D7-7667-4699-82AD-47DE71F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2FC-9942-43CE-9866-88ECFEC7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12ED-060C-4866-93C2-C203A6C4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844640"/>
            <a:ext cx="676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Курить - здоровью вредить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395240" y="3789360"/>
            <a:ext cx="47480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ла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группа учеников 5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гафонова Светла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агитации здорового образа жизни создан фильм о вреде курения, выпущена газета, обыграны ситуации: «Один день курильщика», «Ловушка», «Вредная привыч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лассе вывешиваются серии картинок-плака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ы, пословицы мудрецов об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вредной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9" descr="big.gif"/>
          <p:cNvPicPr/>
          <p:nvPr/>
        </p:nvPicPr>
        <p:blipFill>
          <a:blip r:embed="rId1"/>
          <a:stretch/>
        </p:blipFill>
        <p:spPr>
          <a:xfrm>
            <a:off x="7236000" y="495000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4356000" y="5388120"/>
            <a:ext cx="2448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G_Rooth</cp:lastModifiedBy>
  <dcterms:modified xsi:type="dcterms:W3CDTF">2012-05-27T03:14:08Z</dcterms:modified>
  <cp:revision>6</cp:revision>
  <dc:subject/>
  <dc:title>Слайд 1</dc:title>
</cp:coreProperties>
</file>