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wmf" ContentType="image/x-wmf"/>
  <Override PartName="/ppt/media/image3.gif" ContentType="image/gif"/>
  <Override PartName="/ppt/media/image11.wmf" ContentType="image/x-wmf"/>
  <Override PartName="/ppt/media/image10.png" ContentType="image/png"/>
  <Override PartName="/ppt/media/image6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958-D4D8-45B1-85D6-6A1B0810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F2A-4DD8-4B03-9FEE-2D74A884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2E7-1505-4D94-8C94-37F63E8C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227-A46F-410C-B0B0-9FC2508D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93E-4AD6-47E8-A298-DC1474C6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37B-23C3-483D-B41D-32ED163E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3CD-5F78-4F17-8838-E01CDF36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7A8-AE86-4E47-A211-B02FE05E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4D3-FB36-4F23-8057-B1893F8F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CCC0-4C2B-40C5-94D7-17F1917B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8F6-11AE-4E76-9339-47AB70AD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51D-76BC-4996-84D5-248CE29B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AE93-8118-4AF3-803E-DAD2F70D1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1844640"/>
            <a:ext cx="6769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Курить - здоровью вредить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2737080" cy="208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395240" y="3789360"/>
            <a:ext cx="474804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ила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группа учеников 5 «А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Агафонова Светла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5157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омай сигарету, 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гарета не сломала твою жиз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13440" y="2060640"/>
            <a:ext cx="4030560" cy="287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54-54\Desktop\1248379489_7.jpeg"/>
          <p:cNvPicPr/>
          <p:nvPr/>
        </p:nvPicPr>
        <p:blipFill>
          <a:blip r:embed="rId2"/>
          <a:stretch/>
        </p:blipFill>
        <p:spPr>
          <a:xfrm>
            <a:off x="0" y="1557360"/>
            <a:ext cx="489600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top smoking"/>
          <p:cNvPicPr/>
          <p:nvPr/>
        </p:nvPicPr>
        <p:blipFill>
          <a:blip r:embed="rId3"/>
          <a:stretch/>
        </p:blipFill>
        <p:spPr>
          <a:xfrm>
            <a:off x="0" y="5589720"/>
            <a:ext cx="42847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я из социологических  опросов, можно сделать вывод, что информация о вреде курения  широко распространена. Люди не до  конца оценивают последствия табакокурения, тем самым наносят себе огромный в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вообще не задумываются  на эту тему. Многие подростки не осознают всей опасности, которую таит в себе курение, в том числе пасси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сследовании была предпринята попытка выяснить уровень осведомленности подростков относительно курения, его вреда для здоровья и провоцируемых им болез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принял решение, что курение - это медленное   самоубийство и лучше не начинать, даже не пробова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агитации здорового образа жизни создан фильм о вреде курения, выпущена газета, обыграны ситуации: «Один день курильщика», «Ловушка», «Вредная привыч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лассе вывешиваются серии картинок-плакат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ы, пословицы мудрецов об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вредной привы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9" descr="big.gif"/>
          <p:cNvPicPr/>
          <p:nvPr/>
        </p:nvPicPr>
        <p:blipFill>
          <a:blip r:embed="rId1"/>
          <a:stretch/>
        </p:blipFill>
        <p:spPr>
          <a:xfrm>
            <a:off x="7236000" y="495000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104033_22526_600.jpg"/>
          <p:cNvPicPr/>
          <p:nvPr/>
        </p:nvPicPr>
        <p:blipFill>
          <a:blip r:embed="rId2"/>
          <a:stretch/>
        </p:blipFill>
        <p:spPr>
          <a:xfrm>
            <a:off x="4356000" y="5388120"/>
            <a:ext cx="244800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user\Pictures\stop-tabak.gif"/>
          <p:cNvPicPr/>
          <p:nvPr/>
        </p:nvPicPr>
        <p:blipFill>
          <a:blip r:embed="rId1"/>
          <a:srcRect l="0" t="0" r="0" b="17007"/>
          <a:stretch/>
        </p:blipFill>
        <p:spPr>
          <a:xfrm>
            <a:off x="0" y="333360"/>
            <a:ext cx="4546440" cy="652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97560" y="549360"/>
            <a:ext cx="4546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ять и доказать, что курение вредит здоровью человека, сокращает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Пропаганда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44816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187280" y="3068640"/>
            <a:ext cx="633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ъект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465300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ур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дит здо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ативно влияет на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16000" y="4076640"/>
            <a:ext cx="70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3080" y="342900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Здоровь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21844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отношение детей и взрослых к проблеме табако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анализировать науч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, к каким последствиям ведёт 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ь, что курение вредит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35280" y="333360"/>
            <a:ext cx="62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27640" y="482112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лиз науч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авн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Курение или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здоровье –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  выбирайте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2997360"/>
            <a:ext cx="830268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данны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семирной организации здравоохранения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бака умирает каждый пя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ый день в России из-за болезней, вызванных курением табака, умирает тысяча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1482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2480" y="54900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1400" y="1125360"/>
            <a:ext cx="4422600" cy="518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xpomo.com/ruskolan/images/tabak-02.jpg"/>
          <p:cNvPicPr/>
          <p:nvPr/>
        </p:nvPicPr>
        <p:blipFill>
          <a:blip r:embed="rId2"/>
          <a:stretch/>
        </p:blipFill>
        <p:spPr>
          <a:xfrm>
            <a:off x="0" y="3429000"/>
            <a:ext cx="428616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76360" y="0"/>
            <a:ext cx="648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04640"/>
            <a:ext cx="52196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свойственно подражание взрослым. Причиной курения мальчиков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8 – 9 л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лось: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лия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варищей – в 26,8% случаев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любопыт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 23,2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алов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17,8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ра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зрослым – в 16,7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и в процессе подготовки к вступлению во «взрослую жизнь» усваивают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«взрослые нормы»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 и курение. Подростки видят в курении признак самостоятельности, взрослости. Курение в компании становится своего рода обязанностью, ритуалом, средством к спло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3336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ичины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5084640"/>
            <a:ext cx="83628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Если ты не закуришь в шко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о есть вероятность, что 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не закуришь никогда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j0289289"/>
          <p:cNvPicPr/>
          <p:nvPr/>
        </p:nvPicPr>
        <p:blipFill>
          <a:blip r:embed="rId1"/>
          <a:stretch/>
        </p:blipFill>
        <p:spPr>
          <a:xfrm>
            <a:off x="0" y="1268280"/>
            <a:ext cx="5148360" cy="3443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5217480" y="1341360"/>
            <a:ext cx="39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происходит при курении: воздух при затяжке табаком нагревается до высокой температуры и извлекает из него различные вещества, которые вместе с дымом поступают в легкие. Трудно даже перечислить вредные вещества, содержащиеся в табаке, их насчитали более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83280" y="4457880"/>
            <a:ext cx="3960720" cy="240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8360" y="4435560"/>
            <a:ext cx="3456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курящих людей быстрее разрушаются зубы, желтеет зубная эмаль, а полость рта издаёт специфический з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рганизм вместе со слюной попадают ядовитые вещества которые содержатся в дыме, что приводит к болям в желудке: гастритам, к язве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ое курение сопровождается бронхитом, в итоги снижается сопротивляемость лёгких к инфекционным заболеваниям, к туберкуле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езультате поступления дыма в кровь, вместо обогащения кислородом, насыщается угарным газом. Наступает кислородное голодание в результате чего страдают нервная система и серд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икот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ключается в процессы обмена,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сходящие в организме человека,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овится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обходим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5:22:12Z</dcterms:created>
  <dc:creator>USER</dc:creator>
  <dc:description/>
  <dc:language>en-US</dc:language>
  <cp:lastModifiedBy>G_Rooth</cp:lastModifiedBy>
  <dcterms:modified xsi:type="dcterms:W3CDTF">2012-05-27T03:14:08Z</dcterms:modified>
  <cp:revision>6</cp:revision>
  <dc:subject/>
  <dc:title>Слайд 1</dc:title>
</cp:coreProperties>
</file>