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11.wmf" ContentType="image/x-wmf"/>
  <Override PartName="/ppt/media/image10.png" ContentType="image/png"/>
  <Override PartName="/ppt/media/image6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310-5205-411E-AEE7-6892C4B2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25D-2495-4BEE-AA29-E145443E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EBC-A45E-4AA5-A5FA-FF5916F3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121-7A34-46B0-A8ED-9273DB3E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06E-5BF3-40D2-B297-AC6BA92D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2BC-4D19-4076-880F-AC791EFF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349-F373-4B05-B94C-79392FC2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148-A4FB-4C6D-8663-E6E8573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C15-9CAE-42B8-ACCE-5DAEFC09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A24-F907-4471-9355-5BB7681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474-75F0-4BEE-A2CB-1F6348F4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740-418F-4410-A130-65DE1A8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16DC-F334-4AFB-89DB-517A2298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844640"/>
            <a:ext cx="6769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Курить - здоровью вредить"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395240" y="3789360"/>
            <a:ext cx="474804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ла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группа учеников 5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гафонова Светла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0" y="5157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ломай сигарету, 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игарета не сломала твою жиз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13440" y="2060640"/>
            <a:ext cx="4030560" cy="287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54-54\Desktop\1248379489_7.jpeg"/>
          <p:cNvPicPr/>
          <p:nvPr/>
        </p:nvPicPr>
        <p:blipFill>
          <a:blip r:embed="rId2"/>
          <a:stretch/>
        </p:blipFill>
        <p:spPr>
          <a:xfrm>
            <a:off x="0" y="1557360"/>
            <a:ext cx="489600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top smoking"/>
          <p:cNvPicPr/>
          <p:nvPr/>
        </p:nvPicPr>
        <p:blipFill>
          <a:blip r:embed="rId3"/>
          <a:stretch/>
        </p:blipFill>
        <p:spPr>
          <a:xfrm>
            <a:off x="0" y="5589720"/>
            <a:ext cx="428472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я из социологических  опросов, можно сделать вывод, что информация о вреде курения  широко распространена. Люди не до  конца оценивают последствия табакокурения, тем самым наносят себе огромный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и вообще не задумываются  на эту тему. Многие подростки не осознают всей опасности, которую таит в себе курение, в том числе пасси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сследовании была предпринята попытка выяснить уровень осведомленности подростков относительно курения, его вреда для здоровья и провоцируемых им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принял решение, что курение - это медленное   самоубийство и лучше не начинать, даже не пробова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агитации здорового образа жизни создан фильм о вреде курения, выпущена газета, обыграны ситуации: «Один день курильщика», «Ловушка», «Вредная привыч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лассе вывешиваются серии картинок-плакат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еты, пословицы мудрецов об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вредной привы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9" descr="big.gif"/>
          <p:cNvPicPr/>
          <p:nvPr/>
        </p:nvPicPr>
        <p:blipFill>
          <a:blip r:embed="rId1"/>
          <a:stretch/>
        </p:blipFill>
        <p:spPr>
          <a:xfrm>
            <a:off x="7236000" y="495000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04033_22526_600.jpg"/>
          <p:cNvPicPr/>
          <p:nvPr/>
        </p:nvPicPr>
        <p:blipFill>
          <a:blip r:embed="rId2"/>
          <a:stretch/>
        </p:blipFill>
        <p:spPr>
          <a:xfrm>
            <a:off x="4356000" y="5388120"/>
            <a:ext cx="24480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ser\Pictures\stop-tabak.gif"/>
          <p:cNvPicPr/>
          <p:nvPr/>
        </p:nvPicPr>
        <p:blipFill>
          <a:blip r:embed="rId1"/>
          <a:srcRect l="0" t="0" r="0" b="17007"/>
          <a:stretch/>
        </p:blipFill>
        <p:spPr>
          <a:xfrm>
            <a:off x="0" y="333360"/>
            <a:ext cx="4546440" cy="652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97560" y="549360"/>
            <a:ext cx="4546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ь и доказать, что курение вредит здоровью человека, сокращает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Пропаганда здорового образ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481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87280" y="3068640"/>
            <a:ext cx="633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ъект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4653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ур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редит здо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гативно влияет на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6000" y="4076640"/>
            <a:ext cx="70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3080" y="342900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Здоровье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18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отношение детей и взрослых к проблеме табако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анализировать науч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 каким последствиям ведёт 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ь, что курение вредит здо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35280" y="333360"/>
            <a:ext cx="62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 исследования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27640" y="482112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з науч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авн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5923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Курение или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здоровье –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  выбирайте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и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30268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данны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семирной организации здравоохранения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бака умирает каждый пят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ый день в России из-за болезней, вызванных курением табака, умирает тысяча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1482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2480" y="54900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1400" y="1125360"/>
            <a:ext cx="4422600" cy="518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xpomo.com/ruskolan/images/tabak-02.jpg"/>
          <p:cNvPicPr/>
          <p:nvPr/>
        </p:nvPicPr>
        <p:blipFill>
          <a:blip r:embed="rId2"/>
          <a:stretch/>
        </p:blipFill>
        <p:spPr>
          <a:xfrm>
            <a:off x="0" y="3429000"/>
            <a:ext cx="428616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76360" y="0"/>
            <a:ext cx="6480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4640"/>
            <a:ext cx="52196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ям свойственно подражание взрослым. Причиной курения мальчиков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8 – 9 л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лось: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ли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варищей – в 26,8% случаев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любопыт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 23,2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аловств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17,8%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ра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зрослым – в 16,7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и в процессе подготовки к вступлению во «взрослую жизнь» усваивают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«взрослые нормы»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 и курение. Подростки видят в курении признак самостоятельности, взрослости. Курение в компании становится своего рода обязанностью, ритуалом, средством к спло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3336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ичины ку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3628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Если ты не закуришь в шко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о есть вероятность, что 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не закуришь никогда!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j0289289"/>
          <p:cNvPicPr/>
          <p:nvPr/>
        </p:nvPicPr>
        <p:blipFill>
          <a:blip r:embed="rId1"/>
          <a:stretch/>
        </p:blipFill>
        <p:spPr>
          <a:xfrm>
            <a:off x="0" y="1268280"/>
            <a:ext cx="5148360" cy="3443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5217480" y="1341360"/>
            <a:ext cx="39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происходит при курении: воздух при затяжке табаком нагревается до высокой температуры и извлекает из него различные вещества, которые вместе с дымом поступают в легкие. Трудно даже перечислить вредные вещества, содержащиеся в табаке, их насчитали более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83280" y="4457880"/>
            <a:ext cx="3960720" cy="240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4435560"/>
            <a:ext cx="345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курящих людей быстрее разрушаются зубы, желтеет зубная эмаль, а полость рта издаёт специфический з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рганизм вместе со слюной попадают ядовитые вещества которые содержатся в дыме, что приводит к болям в желудке: гастритам, к язве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ое курение сопровождается бронхитом, в итоги снижается сопротивляемость лёгких к инфекционным заболеваниям, к туберкуле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результате поступления дыма в кровь, вместо обогащения кислородом, насыщается угарным газом. Наступает кислородное голодание в результате чего страдают нервная система и серд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икот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ключается в процессы обмена,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сходящие в организме человека,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овится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обходим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5:22:12Z</dcterms:created>
  <dc:creator>USER</dc:creator>
  <dc:description/>
  <dc:language>en-US</dc:language>
  <cp:lastModifiedBy>G_Rooth</cp:lastModifiedBy>
  <dcterms:modified xsi:type="dcterms:W3CDTF">2012-05-27T03:14:08Z</dcterms:modified>
  <cp:revision>6</cp:revision>
  <dc:subject/>
  <dc:title>Слайд 1</dc:title>
</cp:coreProperties>
</file>