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0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73CC-0185-41A8-B020-DAC872F86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F8A8-3169-4191-BA2B-D5397C0C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7CC9-6F62-4957-AF4D-98F5C1A99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F23D-8AD2-4214-B4CC-D79AE32E3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62B6-D8A7-4613-9DA0-3F59A7B0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25BA-B51D-448A-8FA7-C3F112ED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2CC1-C472-44CE-949A-95FBA13B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EA67-0229-493F-9CC3-D4665318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88BC-B649-4747-9986-34C3D516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1451-890E-4B61-BC81-11426D8C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346B-F413-4F1F-9391-E3FEB9E7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2C61-4BA5-456A-AA9E-0D26652C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0F35-352F-4CF3-AB3B-5B362DF903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Облако 4"/>
          <p:cNvSpPr/>
          <p:nvPr/>
        </p:nvSpPr>
        <p:spPr>
          <a:xfrm>
            <a:off x="3214800" y="4143240"/>
            <a:ext cx="5643360" cy="2286000"/>
          </a:xfrm>
          <a:prstGeom prst="pie">
            <a:avLst/>
          </a:prstGeom>
          <a:solidFill>
            <a:srgbClr val="ff0000"/>
          </a:solidFill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Monotype Corsiva"/>
              </a:rPr>
              <a:t>КАНАД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0435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Monotype Corsiva"/>
              </a:rPr>
              <a:t>Торонто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85480" y="1214280"/>
            <a:ext cx="4500360" cy="5143680"/>
          </a:xfrm>
          <a:prstGeom prst="rect">
            <a:avLst/>
          </a:prstGeom>
          <a:noFill/>
          <a:ln w="28440">
            <a:solidFill>
              <a:srgbClr val="000000"/>
            </a:solidFill>
            <a:prstDash val="lgDash"/>
            <a:miter/>
          </a:ln>
        </p:spPr>
        <p:txBody>
          <a:bodyPr anchor="t">
            <a:normAutofit fontScale="95000"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амый крупный город Канады, расположенный на пересечении водных и сухопутных путей.  Население - 2518 тыс. жителей. В Торонто и окрестностях живет около 1/3 населения Кана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4929120" y="571680"/>
            <a:ext cx="3881520" cy="5857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3" name="Облако 4"/>
          <p:cNvSpPr/>
          <p:nvPr/>
        </p:nvSpPr>
        <p:spPr>
          <a:xfrm>
            <a:off x="642960" y="214200"/>
            <a:ext cx="4000320" cy="9288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900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Монреа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14200" y="1071720"/>
            <a:ext cx="4143600" cy="5572080"/>
          </a:xfrm>
          <a:prstGeom prst="rect">
            <a:avLst/>
          </a:prstGeom>
          <a:noFill/>
          <a:ln w="28440">
            <a:solidFill>
              <a:srgbClr val="000000"/>
            </a:solidFill>
            <a:prstDash val="lgDash"/>
            <a:miter/>
          </a:ln>
        </p:spPr>
        <p:txBody>
          <a:bodyPr anchor="t">
            <a:normAutofit fontScale="96000"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амый старый город в стране и самый крупный город в провинции Квебек с населением в 1812 тыс.человек. В городе проживают в основном франко-канадцы, поэтому город называют "Французской Канадой" или "Парижем Северной Америки". Монреаль является промышленным центром страны, а также ее огромным транспортным узлом и крупным речным порт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500720" y="285840"/>
            <a:ext cx="4381200" cy="6357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7" name="Облако 6"/>
          <p:cNvSpPr/>
          <p:nvPr/>
        </p:nvSpPr>
        <p:spPr>
          <a:xfrm>
            <a:off x="1214280" y="214200"/>
            <a:ext cx="2786400" cy="78588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14400" y="213840"/>
            <a:ext cx="404316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Ванкуве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13840" y="642960"/>
            <a:ext cx="85726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асположен на юго-западе Канады, на границе с США. Население самого города — 600 000 чел. (2006 г.), но в Большом Ванкувере, если учитывать более 20 пригородов, проживает свыше 2 млн. чел. Ванкувер - крупнейший порт на западном побережье Канады, являющийся одним из крупнейших деловых, и индустриальных центров ми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71680" y="2928960"/>
            <a:ext cx="8200800" cy="3767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1" name="Облако 4"/>
          <p:cNvSpPr/>
          <p:nvPr/>
        </p:nvSpPr>
        <p:spPr>
          <a:xfrm>
            <a:off x="2928960" y="214200"/>
            <a:ext cx="3786120" cy="50004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Оттав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856800"/>
            <a:ext cx="8229600" cy="3452760"/>
          </a:xfrm>
          <a:prstGeom prst="rect">
            <a:avLst/>
          </a:prstGeom>
          <a:noFill/>
          <a:ln w="28440">
            <a:solidFill>
              <a:srgbClr val="000000"/>
            </a:solidFill>
            <a:prstDash val="lgDash"/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толица Канады. Оттава — четвёртый по величине город страны занимающий 6 место по уровню жизни в мире. Оттава расположена на берегах реки Оттава и на канале Ридо. Город основан в 1820-х годах. До 1855 г. он назывался Байтаун. С 1867 столица Канады. Население 875 тыс. жителей. Для облика Оттавы характерны обилие воды и зелени, шахматная система улиц, связанная с развитой системой парковых дорог. Жилая застройка в основном двухэтажна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9" descr="Ottawa-skyline.jpg"/>
          <p:cNvPicPr/>
          <p:nvPr/>
        </p:nvPicPr>
        <p:blipFill>
          <a:blip r:embed="rId1"/>
          <a:stretch/>
        </p:blipFill>
        <p:spPr>
          <a:xfrm>
            <a:off x="1428840" y="3643200"/>
            <a:ext cx="6572160" cy="3071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Monotype Corsiva"/>
              </a:rPr>
              <a:t>Хозяй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142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mic Sans MS"/>
              </a:rPr>
              <a:t>Канада — высокоразвитая страна с рыночной экономикой, достигшая постиндустриальной стадии развития. Она входит в состав «большой семерки» стран Запада и интеграционной группировки НАФТА. И по общим размерам ВВП, и по ВВП из расчета на душу населения Канада относится к первой десятке стран мира. Наряду с этим в мировом хозяйстве и в международном географическом разделении труда у нее есть собственное «лицо», которое определяется четырьмя группами отраслей ее международной специализаци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9" descr="800px-Maid_of_the_mist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Задание: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ользуясь текстом учебника стр. 317 охарактеризуйте группы отраслей  международной специализации Канад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Облако 6"/>
          <p:cNvSpPr/>
          <p:nvPr/>
        </p:nvSpPr>
        <p:spPr>
          <a:xfrm>
            <a:off x="214200" y="428760"/>
            <a:ext cx="8643960" cy="578628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Содержимое 4" descr="Canada_Parliament2.jpg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Monotype Corsiva"/>
              </a:rPr>
              <a:t>Внутренние различ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Внутренние различия в Канаде выражены очень отчетливо. Основная часть ее населения и хозяйства концентрируется в относительно неширокой (200—500 км) южной полосе, протянувшейся вдоль границы с США, где плотность населения колеблется в пределах от 10 до 50 человек на 1 км</a:t>
            </a:r>
            <a:r>
              <a:rPr b="1" lang="ru-RU" sz="32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Главные экономические районы Канад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71320" y="1213920"/>
            <a:ext cx="8001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ьный (южные части провинций Онтарио и Квебек) с главными городами и промышленными центрами страны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тепной (провинции Манитоба, Саскачеван и Альберта) с крупной горнодобывающей промышленностью, зерновым хозяйством и скотоводством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Тихоокеанский (провинция Британская Колумбия) — главный «лесной цех» страны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Атлантический, включающий четыре провинции, самый небольшой по площади и депрессивный по уровню социально-экономического развит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D:\mygeography\Презентации\Канада\flora2.jpg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omic Sans MS"/>
              </a:rPr>
              <a:t>Примерно 2/5 всей территории Канады занимает ее Север, слабозаселенный и слабоосвоенный, где 1 человек приходится на 100—200 км</a:t>
            </a:r>
            <a:r>
              <a:rPr b="1" lang="ru-RU" sz="30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ru-RU" sz="3000" spc="-1" strike="noStrike">
                <a:solidFill>
                  <a:srgbClr val="ffff00"/>
                </a:solidFill>
                <a:latin typeface="Comic Sans MS"/>
              </a:rPr>
              <a:t> территории. На Канадском Севере преобладает очаговый тип освоения территории, вообще характерный для районов нового освоения. Очаги хозяйственной деятельности связаны здесь в основном с добывающей промышленностью и крупнейшими ГЭ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85680" y="642960"/>
            <a:ext cx="371484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Monotype Corsiva"/>
              </a:rPr>
              <a:t>Вывод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57160" y="1714320"/>
            <a:ext cx="74296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есмотря на некоторое снижение доли Соединенных Штатов в мировом хозяйстве, они и в наши дни остаются экономически наиболее развитым государством. Вместе с Канадой эта Англо-Америка образует один из двух самых мощных экономических регионов всего ми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4038480" cy="271440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4981680" y="1600200"/>
            <a:ext cx="3733560" cy="490068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47" name="Прямоугольник 6" descr=""/>
          <p:cNvPicPr/>
          <p:nvPr/>
        </p:nvPicPr>
        <p:blipFill>
          <a:blip r:embed="rId3"/>
          <a:stretch/>
        </p:blipFill>
        <p:spPr>
          <a:xfrm>
            <a:off x="-66600" y="3071880"/>
            <a:ext cx="4827600" cy="114624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8" descr=""/>
          <p:cNvPicPr/>
          <p:nvPr/>
        </p:nvPicPr>
        <p:blipFill>
          <a:blip r:embed="rId4"/>
          <a:stretch/>
        </p:blipFill>
        <p:spPr>
          <a:xfrm>
            <a:off x="4425840" y="139680"/>
            <a:ext cx="4730760" cy="1146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Прямоугольник 5" descr=""/>
          <p:cNvPicPr/>
          <p:nvPr/>
        </p:nvPicPr>
        <p:blipFill>
          <a:blip r:embed="rId2"/>
          <a:stretch/>
        </p:blipFill>
        <p:spPr>
          <a:xfrm>
            <a:off x="933480" y="835200"/>
            <a:ext cx="7137360" cy="4479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6" descr=""/>
          <p:cNvPicPr/>
          <p:nvPr/>
        </p:nvPicPr>
        <p:blipFill>
          <a:blip r:embed="rId2"/>
          <a:stretch/>
        </p:blipFill>
        <p:spPr>
          <a:xfrm>
            <a:off x="1962000" y="2378160"/>
            <a:ext cx="6023160" cy="2297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28520" y="428760"/>
            <a:ext cx="5429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ОБЩИЕ   СВЕД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0040" y="1500120"/>
            <a:ext cx="80726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Площадь — 9976 тыс. кв. км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Население — 31 млн. человек.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Столица — Оттав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Является федеративным государством, состоящим из 10 провинций и 3 территорий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С севера на юг ее территория протягивается на 4600 км, с востока на запад — на 5100 км. Канада выходит к трем океанам, и общая протяженность ее береговой линии (около 250 тыс. км) не имеет себе равных во всем мир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ЭГП Канады в значительной мере определяется наличием очень протяженной сухопутной границы с США на юге и широких выходов к Атлантическому и Тихому океана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rcRect l="0" t="0" r="0" b="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0" y="214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Еще в 1867 г. Канада стала первым доминионом в составе Британской империи. Ныне по государствен- ному строю это вполне суверенное государство. Но поскольку Канада входит в состав Содружества, возглавляемого Великобританией, главой государства   формально считается английская королева, которая назначает генерал-губернатора Канады по рекомендации ее премьер-минист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482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НАСЕЛ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7" descr="D:\mygeography\Презентации\Канада\people.jpg"/>
          <p:cNvPicPr/>
          <p:nvPr/>
        </p:nvPicPr>
        <p:blipFill>
          <a:blip r:embed="rId1"/>
          <a:stretch/>
        </p:blipFill>
        <p:spPr>
          <a:xfrm>
            <a:off x="5237280" y="237960"/>
            <a:ext cx="3316320" cy="3170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D:\mygeography\Презентации\Канада\people2.jpg"/>
          <p:cNvPicPr/>
          <p:nvPr/>
        </p:nvPicPr>
        <p:blipFill>
          <a:blip r:embed="rId2"/>
          <a:stretch/>
        </p:blipFill>
        <p:spPr>
          <a:xfrm>
            <a:off x="4929120" y="3500280"/>
            <a:ext cx="3929040" cy="300528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61" name="Вертикальный свиток 5"/>
          <p:cNvSpPr/>
          <p:nvPr/>
        </p:nvSpPr>
        <p:spPr>
          <a:xfrm>
            <a:off x="214200" y="1143000"/>
            <a:ext cx="5000760" cy="542916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56800" y="1785600"/>
            <a:ext cx="371484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селение Канады лишь немногим превышает 30 млн. человек. В течение долгого периода колонизации страны оно только наполовину выросло за счет естественного прироста, тогда как другую половину обеспечивала массовая иммиграция, которая и теперь обеспечивает 1/3 абсолютного прироста населения стра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mic Sans MS"/>
              </a:rPr>
              <a:t>В Канаде исторически сложились две основные нации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mic Sans MS"/>
              </a:rPr>
              <a:t>англо-канадцы и франко-канадцы, </a:t>
            </a: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взаимоотношения которых, как вы уже знаете, отличаются довольно сильными противоречиями. Аборигенных жителей (эскимосов) около 1 млн. человек. Показатель средней плотности населения Канады (3 человека на 1 км</a:t>
            </a:r>
            <a:r>
              <a:rPr b="1" lang="ru-RU" sz="3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) — один из самых низких в мире, к тому же он мало характеризует реальную картину расселе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Горизонтальный свиток 4"/>
          <p:cNvSpPr/>
          <p:nvPr/>
        </p:nvSpPr>
        <p:spPr>
          <a:xfrm>
            <a:off x="357120" y="142920"/>
            <a:ext cx="8429760" cy="650088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Религ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142640" y="1143000"/>
            <a:ext cx="7543800" cy="48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Канадцы исповедуют большое количество религий. По последней переписи 77,1 % канадцев считают себя христианами, их большую часть составляют католики (43,6 % канадцев). Наиболее важная протестантская церковь — Объединённая церковь Канады (кальвинисты); примерно 17 % канадцев не связывают себя ни с какой религией, а остальное население (6,3 %) исповедует отличные от христианства религии (чаще всего ислам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500040" y="285840"/>
            <a:ext cx="8143920" cy="2286000"/>
          </a:xfrm>
          <a:prstGeom prst="rect">
            <a:avLst/>
          </a:prstGeom>
          <a:solidFill>
            <a:srgbClr val="8eb4e3"/>
          </a:solidFill>
          <a:ln w="57240">
            <a:solidFill>
              <a:srgbClr val="002060"/>
            </a:solidFill>
            <a:miter/>
          </a:ln>
        </p:spPr>
        <p:txBody>
          <a:bodyPr anchor="t">
            <a:normAutofit fontScale="94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Канада — высоко урбанизированная страна, список ее городов возглавляют Торонто, Монреаль, Ванкувер. Столица страны — Оттава, которая выполняет в основном административные функци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3:52:24Z</dcterms:created>
  <dc:creator>Томилина И.В.</dc:creator>
  <dc:description/>
  <dc:language>en-US</dc:language>
  <cp:lastModifiedBy>Санек</cp:lastModifiedBy>
  <dcterms:modified xsi:type="dcterms:W3CDTF">2011-09-10T13:18:46Z</dcterms:modified>
  <cp:revision>11</cp:revision>
  <dc:subject/>
  <dc:title>Кана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41b0000000000010243100207f6000400038000</vt:lpwstr>
  </property>
</Properties>
</file>