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B82-760E-4D00-B391-E79162AC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71A-595F-46E1-A220-F0854CC9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886-EBC2-4B55-9AC9-646A56B2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2E3-4121-48B3-9D69-7EEB0F8B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2D5-537D-49E4-B79C-49E5F714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E11-018F-4431-BC95-03546AE2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452-C1D4-4EBE-8E97-345CBFC9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A5E-DC98-419C-91F4-63E07309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EA8-1022-4E7B-A1AE-14A6F30D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9DE-51F3-467D-934D-19DCFBB1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08D-63D5-40ED-BCDD-C50C5B93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138-0D04-4AF9-AB94-43EB99FD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2778-897F-4886-9C4A-73E4FD7080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Облако 4"/>
          <p:cNvSpPr/>
          <p:nvPr/>
        </p:nvSpPr>
        <p:spPr>
          <a:xfrm>
            <a:off x="3214800" y="4143240"/>
            <a:ext cx="5643360" cy="2286000"/>
          </a:xfrm>
          <a:prstGeom prst="pie">
            <a:avLst/>
          </a:prstGeom>
          <a:solidFill>
            <a:srgbClr val="ff0000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КАНА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Торонто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480" y="1214280"/>
            <a:ext cx="4500360" cy="51436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амый крупный город Канады, расположенный на пересечении водных и сухопутных путей.  Население - 2518 тыс. жителей. В Торонто и окрестностях живет около 1/3 населения Кан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81520" cy="5857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3" name="Облако 4"/>
          <p:cNvSpPr/>
          <p:nvPr/>
        </p:nvSpPr>
        <p:spPr>
          <a:xfrm>
            <a:off x="642960" y="214200"/>
            <a:ext cx="4000320" cy="9288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00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онреа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071720"/>
            <a:ext cx="4143600" cy="5572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амый старый город в стране и самый крупный город в провинции Квебек с населением в 1812 тыс.человек. В городе проживают в основном франко-канадцы, поэтому город называют "Французской Канадой" или "Парижем Северной Америки". Монреаль является промышленным центром страны, а также ее огромным транспортным узлом и крупным речным по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381200" cy="6357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Облако 6"/>
          <p:cNvSpPr/>
          <p:nvPr/>
        </p:nvSpPr>
        <p:spPr>
          <a:xfrm>
            <a:off x="1214280" y="214200"/>
            <a:ext cx="2786400" cy="7858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14400" y="213840"/>
            <a:ext cx="404316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анкув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642960"/>
            <a:ext cx="8572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положен на юго-западе Канады, на границе с США. Население самого города — 600 000 чел. (2006 г.), но в Большом Ванкувере, если учитывать более 20 пригородов, проживает свыше 2 млн. чел. Ванкувер - крупнейший порт на западном побережье Канады, являющийся одним из крупнейших деловых, и индустриальных центров ми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2928960"/>
            <a:ext cx="8200800" cy="37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1" name="Облако 4"/>
          <p:cNvSpPr/>
          <p:nvPr/>
        </p:nvSpPr>
        <p:spPr>
          <a:xfrm>
            <a:off x="2928960" y="214200"/>
            <a:ext cx="3786120" cy="5000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тта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6800"/>
            <a:ext cx="8229600" cy="345276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олица Канады. Оттава — четвёртый по величине город страны занимающий 6 место по уровню жизни в мире. Оттава расположена на берегах реки Оттава и на канале Ридо. Город основан в 1820-х годах. До 1855 г. он назывался Байтаун. С 1867 столица Канады. Население 875 тыс. жителей. Для облика Оттавы характерны обилие воды и зелени, шахматная система улиц, связанная с развитой системой парковых дорог. Жилая застройка в основном двухэтажн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9" descr="Ottawa-skyline.jpg"/>
          <p:cNvPicPr/>
          <p:nvPr/>
        </p:nvPicPr>
        <p:blipFill>
          <a:blip r:embed="rId1"/>
          <a:stretch/>
        </p:blipFill>
        <p:spPr>
          <a:xfrm>
            <a:off x="1428840" y="3643200"/>
            <a:ext cx="6572160" cy="30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Хозя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Канада — высокоразвитая страна с рыночной экономикой, достигшая постиндустриальной стадии развития. Она входит в состав «большой семерки» стран Запада и интеграционной группировки НАФТА. И по общим размерам ВВП, и по ВВП из расчета на душу населения Канада относится к первой десятке стран мира. Наряду с этим в мировом хозяйстве и в международном географическом разделении труда у нее есть собственное «лицо», которое определяется четырьмя группами отраслей ее международной специализ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9" descr="800px-Maid_of_the_mist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: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льзуясь текстом учебника стр. 317 охарактеризуйте группы отраслей  международной специализации Канад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лако 6"/>
          <p:cNvSpPr/>
          <p:nvPr/>
        </p:nvSpPr>
        <p:spPr>
          <a:xfrm>
            <a:off x="214200" y="428760"/>
            <a:ext cx="8643960" cy="57862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4" descr="Canada_Parliament2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Monotype Corsiva"/>
              </a:rPr>
              <a:t>Внутренние различ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нутренние различия в Канаде выражены очень отчетливо. Основная часть ее населения и хозяйства концентрируется в относительно неширокой (200—500 км) южной полосе, протянувшейся вдоль границы с США, где плотность населения колеблется в пределах от 10 до 50 человек на 1 км</a:t>
            </a:r>
            <a:r>
              <a:rPr b="1" lang="ru-RU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Главные экономические районы Кана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320" y="121392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й (южные части провинций Онтарио и Квебек) с главными городами и промышленными центрами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епной (провинции Манитоба, Саскачеван и Альберта) с крупной горнодобывающей промышленностью, зерновым хозяйством и скотоводство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ихоокеанский (провинция Британская Колумбия) — главный «лесной цех»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тлантический, включающий четыре провинции, самый небольшой по площади и депрессивный по уровню социально-экономическо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D:\mygeography\Презентации\Канада\flora2.jpg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Примерно 2/5 всей территории Канады занимает ее Север, слабозаселенный и слабоосвоенный, где 1 человек приходится на 100—200 км</a:t>
            </a:r>
            <a:r>
              <a:rPr b="1" lang="ru-RU" sz="3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 территории. На Канадском Севере преобладает очаговый тип освоения территории, вообще характерный для районов нового освоения. Очаги хозяйственной деятельности связаны здесь в основном с добывающей промышленностью и крупнейшими ГЭ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85680" y="642960"/>
            <a:ext cx="37148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57160" y="171432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смотря на некоторое снижение доли Соединенных Штатов в мировом хозяйстве, они и в наши дни остаются экономически наиболее развитым государством. Вместе с Канадой эта Англо-Америка образует один из двух самых мощных экономических регионов вс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38480" cy="2714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981680" y="1600200"/>
            <a:ext cx="3733560" cy="4900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7" name="Прямоугольник 6" descr=""/>
          <p:cNvPicPr/>
          <p:nvPr/>
        </p:nvPicPr>
        <p:blipFill>
          <a:blip r:embed="rId3"/>
          <a:stretch/>
        </p:blipFill>
        <p:spPr>
          <a:xfrm>
            <a:off x="-66600" y="3071880"/>
            <a:ext cx="482760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4"/>
          <a:stretch/>
        </p:blipFill>
        <p:spPr>
          <a:xfrm>
            <a:off x="4425840" y="139680"/>
            <a:ext cx="4730760" cy="114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2"/>
          <a:stretch/>
        </p:blipFill>
        <p:spPr>
          <a:xfrm>
            <a:off x="933480" y="835200"/>
            <a:ext cx="7137360" cy="447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962000" y="2378160"/>
            <a:ext cx="6023160" cy="229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28520" y="428760"/>
            <a:ext cx="5429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БЩИЕ   СВЕ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500120"/>
            <a:ext cx="8072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лощадь — 9976 тыс. кв. к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селение — 31 млн. человек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олица — Отта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Является федеративным государством, состоящим из 10 провинций и 3 территор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 севера на юг ее территория протягивается на 4600 км, с востока на запад — на 5100 км. Канада выходит к трем океанам, и общая протяженность ее береговой линии (около 250 тыс. км) не имеет себе равных во всем мир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ГП Канады в значительной мере определяется наличием очень протяженной сухопутной границы с США на юге и широких выходов к Атлантическому и Тихому океан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0" t="0" r="0" b="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0" y="214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Еще в 1867 г. Канада стала первым доминионом в составе Британской империи. Ныне по государствен- ному строю это вполне суверенное государство. Но поскольку Канада входит в состав Содружества, возглавляемого Великобританией, главой государства   формально считается английская королева, которая назначает генерал-губернатора Канады по рекомендации ее премьер-минист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48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НАСЕ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D:\mygeography\Презентации\Канада\people.jpg"/>
          <p:cNvPicPr/>
          <p:nvPr/>
        </p:nvPicPr>
        <p:blipFill>
          <a:blip r:embed="rId1"/>
          <a:stretch/>
        </p:blipFill>
        <p:spPr>
          <a:xfrm>
            <a:off x="5237280" y="237960"/>
            <a:ext cx="3316320" cy="317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D:\mygeography\Презентации\Канада\people2.jpg"/>
          <p:cNvPicPr/>
          <p:nvPr/>
        </p:nvPicPr>
        <p:blipFill>
          <a:blip r:embed="rId2"/>
          <a:stretch/>
        </p:blipFill>
        <p:spPr>
          <a:xfrm>
            <a:off x="4929120" y="3500280"/>
            <a:ext cx="3929040" cy="30052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1" name="Вертикальный свиток 5"/>
          <p:cNvSpPr/>
          <p:nvPr/>
        </p:nvSpPr>
        <p:spPr>
          <a:xfrm>
            <a:off x="214200" y="1143000"/>
            <a:ext cx="5000760" cy="54291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56800" y="1785600"/>
            <a:ext cx="3714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селение Канады лишь немногим превышает 30 млн. человек. В течение долгого периода колонизации страны оно только наполовину выросло за счет естественного прироста, тогда как другую половину обеспечивала массовая иммиграция, которая и теперь обеспечивает 1/3 абсолютного прироста населения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В Канаде исторически сложились две основные наци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англо-канадцы и франко-канадцы,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взаимоотношения которых, как вы уже знаете, отличаются довольно сильными противоречиями. Аборигенных жителей (эскимосов) около 1 млн. человек. Показатель средней плотности населения Канады (3 человека на 1 км</a:t>
            </a:r>
            <a:r>
              <a:rPr b="1" lang="ru-RU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) — один из самых низких в мире, к тому же он мало характеризует реальную картину рассе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Горизонтальный свиток 4"/>
          <p:cNvSpPr/>
          <p:nvPr/>
        </p:nvSpPr>
        <p:spPr>
          <a:xfrm>
            <a:off x="357120" y="142920"/>
            <a:ext cx="8429760" cy="65008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Рели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42640" y="1143000"/>
            <a:ext cx="7543800" cy="48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Канадцы исповедуют большое количество религий. По последней переписи 77,1 % канадцев считают себя христианами, их большую часть составляют католики (43,6 % канадцев). Наиболее важная протестантская церковь — Объединённая церковь Канады (кальвинисты); примерно 17 % канадцев не связывают себя ни с какой религией, а остальное население (6,3 %) исповедует отличные от христианства религии (чаще всего ислам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00040" y="285840"/>
            <a:ext cx="8143920" cy="2286000"/>
          </a:xfrm>
          <a:prstGeom prst="rect">
            <a:avLst/>
          </a:prstGeom>
          <a:solidFill>
            <a:srgbClr val="8eb4e3"/>
          </a:solidFill>
          <a:ln w="57240">
            <a:solidFill>
              <a:srgbClr val="002060"/>
            </a:solidFill>
            <a:miter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Канада — высоко урбанизированная страна, список ее городов возглавляют Торонто, Монреаль, Ванкувер. Столица страны — Оттава, которая выполняет в основном административные функ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3:52:24Z</dcterms:created>
  <dc:creator>Томилина И.В.</dc:creator>
  <dc:description/>
  <dc:language>en-US</dc:language>
  <cp:lastModifiedBy>Санек</cp:lastModifiedBy>
  <dcterms:modified xsi:type="dcterms:W3CDTF">2011-09-10T13:18:46Z</dcterms:modified>
  <cp:revision>11</cp:revision>
  <dc:subject/>
  <dc:title>Кан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b0000000000010243100207f6000400038000</vt:lpwstr>
  </property>
</Properties>
</file>