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5.png" ContentType="image/png"/>
  <Override PartName="/ppt/media/image22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17.png" ContentType="image/png"/>
  <Override PartName="/ppt/media/image8.gif" ContentType="image/gif"/>
  <Override PartName="/ppt/media/image13.png" ContentType="image/png"/>
  <Override PartName="/ppt/media/image11.png" ContentType="image/png"/>
  <Override PartName="/ppt/media/image12.jpeg" ContentType="image/jpeg"/>
  <Override PartName="/ppt/media/image34.png" ContentType="image/png"/>
  <Override PartName="/ppt/media/image39.png" ContentType="image/png"/>
  <Override PartName="/ppt/media/image9.png" ContentType="image/png"/>
  <Override PartName="/ppt/media/image30.gif" ContentType="image/gif"/>
  <Override PartName="/ppt/media/image33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4.png" ContentType="image/png"/>
  <Override PartName="/ppt/media/image15.gif" ContentType="image/gif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063-DDD0-41BB-BD96-13AB44C7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41F-4354-4540-84D4-9A5B8184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44E-0BCC-4268-828E-F9A6E54C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8A1-F3E6-463A-B1FA-C9BF33C5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321-4420-4925-AEE9-D9CB47B1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AE7-99A7-487E-875F-8F7DC338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09A-3583-4508-A5B5-A5FAE057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AC0-D17F-4FBE-9DFC-46878C96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822-314E-4FDD-B3CA-3E2E75ED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CEA-8ADF-4A93-AEF3-E8149CB9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C31-01C7-43A4-AA0C-75B7DE1E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970-D03A-4A62-B23B-FE6256E9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C9E9-1382-4ADE-BCD8-E486B702D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ve.mephist.ru/show/mathege2010/view/B2/solved/" TargetMode="External"/><Relationship Id="rId2" Type="http://schemas.openxmlformats.org/officeDocument/2006/relationships/hyperlink" Target="http://mathege.ru:8080/or/ege/Main?view=Pos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838080"/>
            <a:ext cx="4176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Кожемякина И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- зам. директора по УВ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МОУ Тверская гимназия №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4100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Использованы материалы сай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ve.mephist.ru/show/mathege2010/view/B2/solve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hege.ru:8080/or/ege/Main?view=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2971800" cy="2147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4920" y="1295280"/>
            <a:ext cx="4190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-5976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показано изменение температуры воздуха на протяжении трех суток. По горизонтали указывается дата и время суток, по вертикали — значение температуры в градусах Цельсия. Определите по рисунку разность между наибольшей и наименьшей температурой воздуха 19 декаб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MA.E10.B2.106/img512743n1.png"/>
          <p:cNvPicPr/>
          <p:nvPr/>
        </p:nvPicPr>
        <p:blipFill>
          <a:blip r:embed="rId1"/>
          <a:stretch/>
        </p:blipFill>
        <p:spPr>
          <a:xfrm>
            <a:off x="1219320" y="1600200"/>
            <a:ext cx="6933960" cy="4703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53080" y="9907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057400" y="3429000"/>
            <a:ext cx="266688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4952880"/>
            <a:ext cx="1981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6216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2-(-6)=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-14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цена олова на момент закрытия биржевых торгов во все рабочие дни с 12 по 28 ноября 2007 года. По горизонтали указываются числа месяца, по вертикали — цена тонны олова в долларах США. Для наглядности жирные точки на рисунке соединены линией. Определите по рисунку, какого числа цена олова на момент закрытия торгов была наибольшей за данный пери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MA.E10.B2.245/innerimg0.png"/>
          <p:cNvPicPr/>
          <p:nvPr/>
        </p:nvPicPr>
        <p:blipFill>
          <a:blip r:embed="rId1"/>
          <a:stretch/>
        </p:blipFill>
        <p:spPr>
          <a:xfrm>
            <a:off x="380880" y="2260440"/>
            <a:ext cx="5410440" cy="4597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943600" y="2057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2004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352680"/>
            <a:ext cx="0" cy="304812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24480" y="3581280"/>
            <a:ext cx="205740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-6156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Нижнем Новгороде (Горьком) за каждый месяц 1994 года. По горизонтали указываются месяцы, по вертикали - температура в градусах Цельсия. Определите по диаграмме наименьшую среднемесячную температуру в 1994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MA.E10.B2.157/innerimg0.png"/>
          <p:cNvPicPr/>
          <p:nvPr/>
        </p:nvPicPr>
        <p:blipFill>
          <a:blip r:embed="rId1"/>
          <a:stretch/>
        </p:blipFill>
        <p:spPr>
          <a:xfrm>
            <a:off x="304920" y="1600200"/>
            <a:ext cx="5943600" cy="5172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248520" y="1143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-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6172200"/>
            <a:ext cx="3808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990720" y="617220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60958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-1080"/>
            <a:ext cx="876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среднемесячная температура воздуха в Сочи за каждый месяц 1920 года. По горизонтали указываются месяцы, по вертикали - температура в градусах Цельсия. Для наглядности жирные точки соединены линией. Определите по рисунку наименьшую среднемесячную температуру в период с мая по декабрь 1920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C832CC25041781D84DFA41947513F25B/simg1_1258043976.png"/>
          <p:cNvPicPr/>
          <p:nvPr/>
        </p:nvPicPr>
        <p:blipFill>
          <a:blip r:embed="rId1"/>
          <a:stretch/>
        </p:blipFill>
        <p:spPr>
          <a:xfrm>
            <a:off x="685800" y="2209680"/>
            <a:ext cx="7848720" cy="4457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33000" y="144792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657600" y="2209680"/>
            <a:ext cx="3809880" cy="3581640"/>
            <a:chOff x="3657600" y="2209680"/>
            <a:chExt cx="3809880" cy="3581640"/>
          </a:xfrm>
        </p:grpSpPr>
        <p:sp>
          <p:nvSpPr>
            <p:cNvPr id="122" name=""/>
            <p:cNvSpPr/>
            <p:nvPr/>
          </p:nvSpPr>
          <p:spPr>
            <a:xfrm>
              <a:off x="3657600" y="2286000"/>
              <a:ext cx="0" cy="3505320"/>
            </a:xfrm>
            <a:prstGeom prst="line">
              <a:avLst/>
            </a:prstGeom>
            <a:ln cap="rnd" w="572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67480" y="2209680"/>
              <a:ext cx="0" cy="3581640"/>
            </a:xfrm>
            <a:prstGeom prst="line">
              <a:avLst/>
            </a:prstGeom>
            <a:ln cap="rnd" w="572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781680" y="48006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523520" y="4952880"/>
            <a:ext cx="5410440" cy="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2209680"/>
            <a:ext cx="3809880" cy="3581640"/>
          </a:xfrm>
          <a:prstGeom prst="rect">
            <a:avLst/>
          </a:prstGeom>
          <a:solidFill>
            <a:srgbClr val="3366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-166320"/>
            <a:ext cx="8778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цена золота на момент закрытия биржевых торгов во все рабочие дни с 3 по 24 октября 2002 года. По горизонтали указываются числа месяца, по вертикали — цена унции золота в долларах США. Для наглядности жирные точки на рисунке соединены линией. Определите по рисунку наибольшую цену золота на момент закрытия торгов в период с 15 по 23 октября (в долларах США за унц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MA.E10.B2.273/innerimg0.png"/>
          <p:cNvPicPr/>
          <p:nvPr/>
        </p:nvPicPr>
        <p:blipFill>
          <a:blip r:embed="rId1"/>
          <a:stretch/>
        </p:blipFill>
        <p:spPr>
          <a:xfrm>
            <a:off x="228600" y="2209680"/>
            <a:ext cx="5943600" cy="4451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72200" y="2362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3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505320" y="2590920"/>
            <a:ext cx="2057400" cy="3504960"/>
            <a:chOff x="3505320" y="2590920"/>
            <a:chExt cx="2057400" cy="3504960"/>
          </a:xfrm>
        </p:grpSpPr>
        <p:sp>
          <p:nvSpPr>
            <p:cNvPr id="131" name=""/>
            <p:cNvSpPr/>
            <p:nvPr/>
          </p:nvSpPr>
          <p:spPr>
            <a:xfrm>
              <a:off x="3505320" y="2590920"/>
              <a:ext cx="0" cy="3504960"/>
            </a:xfrm>
            <a:prstGeom prst="line">
              <a:avLst/>
            </a:prstGeom>
            <a:ln w="381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62720" y="2590920"/>
              <a:ext cx="0" cy="3504960"/>
            </a:xfrm>
            <a:prstGeom prst="line">
              <a:avLst/>
            </a:prstGeom>
            <a:ln w="381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809880" y="50292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837720" y="5105520"/>
            <a:ext cx="3048120" cy="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24480" y="3352680"/>
            <a:ext cx="2590920" cy="2484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05320" y="2514600"/>
            <a:ext cx="2057400" cy="3581280"/>
          </a:xfrm>
          <a:prstGeom prst="rect">
            <a:avLst/>
          </a:prstGeom>
          <a:solidFill>
            <a:srgbClr val="ff99cc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-108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, изображенном на рисунке, представлено изменение биржевой стоимости акций нефтеперерабатывающей компании в первые две недели октября. 1 октября бизнесмен приобрел 10 акций этой компании. Три из них он продал 12 октября, а 13 октября продал остальные 7. Сколько рублей потерял бизнесмен в результате этих операци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diagnos.71"/>
          <p:cNvPicPr/>
          <p:nvPr/>
        </p:nvPicPr>
        <p:blipFill>
          <a:blip r:embed="rId1"/>
          <a:stretch/>
        </p:blipFill>
        <p:spPr>
          <a:xfrm>
            <a:off x="0" y="1752480"/>
            <a:ext cx="6934320" cy="382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34120" y="15238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2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952880"/>
            <a:ext cx="0" cy="3812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клетка: 1200:3=400(р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5943600"/>
            <a:ext cx="2667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тратил: 400*4*10=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16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57800" y="3886200"/>
            <a:ext cx="0" cy="14479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5638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*4*3=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8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6095880"/>
            <a:ext cx="396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638680" y="4190760"/>
            <a:ext cx="0" cy="1143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60958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6172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*3*7=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84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16000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4800-84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9512600">
            <a:off x="381240" y="289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Цена одной 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18288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-144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о суточное количество осадков, выпадавших в Элисте с 7 по 18 декабря 2001 года. По горизонтали указываются числа месяца, по вертикали — количество осадков, выпавших в соответствующий день, в миллиметрах. Для наглядности жирные точки на рисунке соединены линией. Определите по рисунку, сколько дней не выпадало осадков.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MA.E10.B2.195/innerimg0.png"/>
          <p:cNvPicPr/>
          <p:nvPr/>
        </p:nvPicPr>
        <p:blipFill>
          <a:blip r:embed="rId1"/>
          <a:stretch/>
        </p:blipFill>
        <p:spPr>
          <a:xfrm>
            <a:off x="609480" y="2209680"/>
            <a:ext cx="6705720" cy="4484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705720" y="167652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71600" y="5791320"/>
            <a:ext cx="4648320" cy="228600"/>
            <a:chOff x="1371600" y="5791320"/>
            <a:chExt cx="4648320" cy="228600"/>
          </a:xfrm>
        </p:grpSpPr>
        <p:sp>
          <p:nvSpPr>
            <p:cNvPr id="156" name=""/>
            <p:cNvSpPr/>
            <p:nvPr/>
          </p:nvSpPr>
          <p:spPr>
            <a:xfrm>
              <a:off x="3733920" y="5791320"/>
              <a:ext cx="228600" cy="228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0600" y="5791320"/>
              <a:ext cx="228600" cy="228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1320" y="5791320"/>
              <a:ext cx="228600" cy="228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1600" y="5943600"/>
              <a:ext cx="4572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391520" y="2743200"/>
            <a:ext cx="1457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151200"/>
            <a:ext cx="8858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о суточное количество осадков, выпадавших в Казани с 3 по 15 февраля 1909 года. По горизонтали указываются числа месяца, по вертикали — количество осадков, выпавших в соответствующий день, в миллиметрах. Для наглядности жирные точки на рисунке соединены линией. Определите по рисунку, сколько дней из данного периода выпадало более 3 миллиметров осад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MA.E10.B2.185/innerimg0.png"/>
          <p:cNvPicPr/>
          <p:nvPr/>
        </p:nvPicPr>
        <p:blipFill>
          <a:blip r:embed="rId1"/>
          <a:stretch/>
        </p:blipFill>
        <p:spPr>
          <a:xfrm>
            <a:off x="228600" y="2362320"/>
            <a:ext cx="6705720" cy="4222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80680" y="236232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572000"/>
            <a:ext cx="586728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57913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7913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57913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4114800"/>
            <a:ext cx="0" cy="175248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276720"/>
            <a:ext cx="0" cy="259056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3809880"/>
            <a:ext cx="0" cy="198144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743200"/>
            <a:ext cx="5867280" cy="1828800"/>
          </a:xfrm>
          <a:prstGeom prst="rect">
            <a:avLst/>
          </a:prstGeom>
          <a:solidFill>
            <a:srgbClr val="ff00ff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98144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9760" y="46440"/>
            <a:ext cx="8904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цена золота на момент закрытия биржевых торгов во все рабочие дни с 5 по 28 марта 1996 года. По горизонтали указываются числа месяца, по вертикали — цена унции золота в долларах США. Для наглядности жирные точки на рисунке соединены линией. Определите по рисунку наибольшую цену золота на момент закрытия торгов в указанный период (в долларах США за унцию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MA.E10.B2.265/innerimg0.png"/>
          <p:cNvPicPr/>
          <p:nvPr/>
        </p:nvPicPr>
        <p:blipFill>
          <a:blip r:embed="rId1"/>
          <a:stretch/>
        </p:blipFill>
        <p:spPr>
          <a:xfrm>
            <a:off x="457200" y="2286000"/>
            <a:ext cx="5334120" cy="4362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947920" y="1905120"/>
            <a:ext cx="28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4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281952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90720" y="2971800"/>
            <a:ext cx="396216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238880" y="4343400"/>
            <a:ext cx="9144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-61560"/>
            <a:ext cx="852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показано изменение температуры воздуха на протяжении трех суток. По горизонтали указывается дата и время суток, по вертикали — значение температуры в градусах Цельсия. Определите по рисунку наибольшую температуру воздуха 15 ию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MA.E10.B2.96/img512733n1.png"/>
          <p:cNvPicPr/>
          <p:nvPr/>
        </p:nvPicPr>
        <p:blipFill>
          <a:blip r:embed="rId1"/>
          <a:stretch/>
        </p:blipFill>
        <p:spPr>
          <a:xfrm>
            <a:off x="304920" y="1600200"/>
            <a:ext cx="7315200" cy="5010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715000" y="297180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2057400"/>
            <a:ext cx="0" cy="342900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1981080"/>
            <a:ext cx="0" cy="350532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218960" y="3048120"/>
            <a:ext cx="4724280" cy="0"/>
          </a:xfrm>
          <a:prstGeom prst="line">
            <a:avLst/>
          </a:prstGeom>
          <a:ln w="3816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8440" y="99072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45720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rial"/>
              </a:rPr>
              <a:t>Как читать график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91520" y="1676520"/>
            <a:ext cx="96660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MA.E10.B2.80/img512717n1.png"/>
          <p:cNvPicPr/>
          <p:nvPr/>
        </p:nvPicPr>
        <p:blipFill>
          <a:blip r:embed="rId3"/>
          <a:stretch/>
        </p:blipFill>
        <p:spPr>
          <a:xfrm>
            <a:off x="3581280" y="3429000"/>
            <a:ext cx="38862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15300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Екатеринбурге (Свердловске) за каждый месяц 1973 года. По горизонтали указываются месяцы, по вертикали - температура в градусах Цельсия. Определите по диаграмме, сколько было месяцев с отрицательной среднемесячной температурой.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MA.E10.B2.163/innerimg0.png"/>
          <p:cNvPicPr/>
          <p:nvPr/>
        </p:nvPicPr>
        <p:blipFill>
          <a:blip r:embed="rId1"/>
          <a:stretch/>
        </p:blipFill>
        <p:spPr>
          <a:xfrm>
            <a:off x="304920" y="1828800"/>
            <a:ext cx="5638680" cy="4933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404400" y="163368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4114800"/>
            <a:ext cx="4876920" cy="2362320"/>
          </a:xfrm>
          <a:prstGeom prst="rect">
            <a:avLst/>
          </a:prstGeom>
          <a:solidFill>
            <a:srgbClr val="99cc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90720" y="4114800"/>
            <a:ext cx="4724280" cy="380880"/>
            <a:chOff x="990720" y="4114800"/>
            <a:chExt cx="4724280" cy="38088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rcRect l="0" t="0" r="4385" b="16668"/>
            <a:stretch/>
          </p:blipFill>
          <p:spPr>
            <a:xfrm>
              <a:off x="990720" y="411480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3"/>
            <a:srcRect l="0" t="0" r="4385" b="16668"/>
            <a:stretch/>
          </p:blipFill>
          <p:spPr>
            <a:xfrm>
              <a:off x="1371600" y="411480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4"/>
            <a:srcRect l="0" t="0" r="4385" b="16668"/>
            <a:stretch/>
          </p:blipFill>
          <p:spPr>
            <a:xfrm>
              <a:off x="1752480" y="4114800"/>
              <a:ext cx="381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5"/>
            <a:srcRect l="0" t="0" r="4385" b="16668"/>
            <a:stretch/>
          </p:blipFill>
          <p:spPr>
            <a:xfrm>
              <a:off x="4952880" y="4114800"/>
              <a:ext cx="381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6"/>
            <a:srcRect l="0" t="0" r="4385" b="16668"/>
            <a:stretch/>
          </p:blipFill>
          <p:spPr>
            <a:xfrm>
              <a:off x="5334120" y="411480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1512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Санкт-Петербурге за каждый месяц 1999 года. По горизонтали указываются месяцы, по вертикали - температура в градусах Цельсия. Определите по диаграмме, сколько было месяцев, когда среднемесячная температура превышала 10 градусов Цельс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MA.E10.B2.175/innerimg0.png"/>
          <p:cNvPicPr/>
          <p:nvPr/>
        </p:nvPicPr>
        <p:blipFill>
          <a:blip r:embed="rId1"/>
          <a:stretch/>
        </p:blipFill>
        <p:spPr>
          <a:xfrm>
            <a:off x="1523880" y="1828800"/>
            <a:ext cx="5181840" cy="4829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709320" y="152388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3733920"/>
            <a:ext cx="441936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2133720"/>
            <a:ext cx="4419360" cy="1600200"/>
          </a:xfrm>
          <a:prstGeom prst="rect">
            <a:avLst/>
          </a:prstGeom>
          <a:solidFill>
            <a:srgbClr val="ff00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038480" y="3352680"/>
            <a:ext cx="1370880" cy="381240"/>
            <a:chOff x="4038480" y="3352680"/>
            <a:chExt cx="1370880" cy="38124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rcRect l="0" t="61559" r="74004" b="6339"/>
            <a:stretch/>
          </p:blipFill>
          <p:spPr>
            <a:xfrm rot="5400000">
              <a:off x="4022640" y="3368160"/>
              <a:ext cx="381240" cy="3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3"/>
            <a:srcRect l="0" t="61559" r="74004" b="6339"/>
            <a:stretch/>
          </p:blipFill>
          <p:spPr>
            <a:xfrm rot="5400000">
              <a:off x="4387320" y="3368520"/>
              <a:ext cx="38124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4"/>
            <a:srcRect l="0" t="61559" r="74004" b="6339"/>
            <a:stretch/>
          </p:blipFill>
          <p:spPr>
            <a:xfrm rot="5400000">
              <a:off x="4679280" y="3368160"/>
              <a:ext cx="381240" cy="3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5"/>
            <a:srcRect l="0" t="61559" r="74004" b="6339"/>
            <a:stretch/>
          </p:blipFill>
          <p:spPr>
            <a:xfrm rot="5400000">
              <a:off x="5043960" y="3368520"/>
              <a:ext cx="381240" cy="34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280" y="-7560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диаграмме показано количество запросов со словом СНЕГ, сделанных на поисковом сайте Yandex.ru во все месяцы с марта 2008 по октябрь 2009 года. По горизонтали указываются месяцы, по вертикали — количество запросов за данный месяц. Определите по диаграмме, сколько было таких месяцев, когда было сделано более 200 000 запросов со словом СНЕ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MA.E10.B2.290/innerimg0.png"/>
          <p:cNvPicPr/>
          <p:nvPr/>
        </p:nvPicPr>
        <p:blipFill>
          <a:blip r:embed="rId1"/>
          <a:stretch/>
        </p:blipFill>
        <p:spPr>
          <a:xfrm>
            <a:off x="380880" y="1866960"/>
            <a:ext cx="6172200" cy="4991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880680" y="167652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4648320"/>
            <a:ext cx="525780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657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2666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4038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3657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3962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191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629400" y="3352680"/>
            <a:ext cx="251460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2280" y="-106200"/>
            <a:ext cx="883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 показан процесс разогрева двигателя легкового автомобиля при температуре окружающего воздуха 10° С. На оси абсцисс откладывается время в минутах, прошедшее от запуска двигателя, на оси ординат — температура двигателя в градусах Цельсия. Когда температура достигает определенного значения, включается вентилятор, охлаждающий двигатель, и температура начинает понижаться. Определите по графику, сколько минут прошло от момента запуска двигателя до включения вентилятор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88B7E7C7791AA16D49CD49D2887753A5/img1.png"/>
          <p:cNvPicPr/>
          <p:nvPr/>
        </p:nvPicPr>
        <p:blipFill>
          <a:blip r:embed="rId1"/>
          <a:stretch/>
        </p:blipFill>
        <p:spPr>
          <a:xfrm>
            <a:off x="304920" y="2438280"/>
            <a:ext cx="6476760" cy="4329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880680" y="251460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2832120"/>
            <a:ext cx="3276720" cy="3035160"/>
          </a:xfrm>
          <a:custGeom>
            <a:avLst/>
            <a:gdLst/>
            <a:ahLst/>
            <a:rect l="l" t="t" r="r" b="b"/>
            <a:pathLst>
              <a:path w="2064" h="1912">
                <a:moveTo>
                  <a:pt x="0" y="1912"/>
                </a:moveTo>
                <a:cubicBezTo>
                  <a:pt x="76" y="1788"/>
                  <a:pt x="152" y="1664"/>
                  <a:pt x="240" y="1576"/>
                </a:cubicBezTo>
                <a:cubicBezTo>
                  <a:pt x="328" y="1488"/>
                  <a:pt x="440" y="1432"/>
                  <a:pt x="528" y="1384"/>
                </a:cubicBezTo>
                <a:cubicBezTo>
                  <a:pt x="616" y="1336"/>
                  <a:pt x="672" y="1336"/>
                  <a:pt x="768" y="1288"/>
                </a:cubicBezTo>
                <a:cubicBezTo>
                  <a:pt x="864" y="1240"/>
                  <a:pt x="1016" y="1176"/>
                  <a:pt x="1104" y="1096"/>
                </a:cubicBezTo>
                <a:cubicBezTo>
                  <a:pt x="1192" y="1016"/>
                  <a:pt x="1248" y="896"/>
                  <a:pt x="1296" y="808"/>
                </a:cubicBezTo>
                <a:cubicBezTo>
                  <a:pt x="1344" y="720"/>
                  <a:pt x="1296" y="688"/>
                  <a:pt x="1392" y="568"/>
                </a:cubicBezTo>
                <a:cubicBezTo>
                  <a:pt x="1488" y="448"/>
                  <a:pt x="1760" y="176"/>
                  <a:pt x="1872" y="88"/>
                </a:cubicBezTo>
                <a:cubicBezTo>
                  <a:pt x="1984" y="0"/>
                  <a:pt x="2032" y="48"/>
                  <a:pt x="2064" y="40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2438280"/>
            <a:ext cx="0" cy="3733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438280"/>
            <a:ext cx="0" cy="3733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6095880"/>
            <a:ext cx="32004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934320" y="3276720"/>
            <a:ext cx="220968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24280" y="2895480"/>
            <a:ext cx="1981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895480"/>
            <a:ext cx="678204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-7740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ев семян тыквы рекомендуется проводить в мае при дневной температуре воздуха не менее          ° С. На рисунке показан прогноз дневной температуры воздуха в первой и второй декадах мая. Определите, в течение скольких дней за этот период можно производить посев тыквы.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+ 12"/>
          <p:cNvPicPr/>
          <p:nvPr/>
        </p:nvPicPr>
        <p:blipFill>
          <a:blip r:embed="rId1"/>
          <a:stretch/>
        </p:blipFill>
        <p:spPr>
          <a:xfrm>
            <a:off x="4419720" y="304920"/>
            <a:ext cx="590400" cy="23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diagnos.41"/>
          <p:cNvPicPr/>
          <p:nvPr/>
        </p:nvPicPr>
        <p:blipFill>
          <a:blip r:embed="rId2"/>
          <a:stretch/>
        </p:blipFill>
        <p:spPr>
          <a:xfrm>
            <a:off x="838080" y="1523880"/>
            <a:ext cx="7925040" cy="4399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5867280"/>
            <a:ext cx="24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Ответ: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52280" y="4648320"/>
            <a:ext cx="719280" cy="99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5400000">
            <a:off x="5524200" y="506736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20"/>
                </a:lnTo>
                <a:cubicBezTo>
                  <a:pt x="10800" y="10620"/>
                  <a:pt x="16200" y="11520"/>
                  <a:pt x="21600" y="11520"/>
                </a:cubicBezTo>
                <a:cubicBezTo>
                  <a:pt x="16200" y="11520"/>
                  <a:pt x="10800" y="12420"/>
                  <a:pt x="10800" y="1332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7.84178E-007 L 1.11022E-016 0.39972 E">
                                      <p:cBhvr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6084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 показано изменение температуры воздуха в некотором населённом пункте на протяжении трех суток, начиная с 0 часов субботы. На оси абсцисс отмечается время суток в часах, на оси ординат — значение температуры в градусах Цельсия. Определите по графику наименьшую температуру воздуха в ночь с субботы на воскресенье. Ответ дайте в градусах Цельсия. 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b2.6"/>
          <p:cNvPicPr/>
          <p:nvPr/>
        </p:nvPicPr>
        <p:blipFill>
          <a:blip r:embed="rId1"/>
          <a:stretch/>
        </p:blipFill>
        <p:spPr>
          <a:xfrm>
            <a:off x="304920" y="2057400"/>
            <a:ext cx="7010280" cy="462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61560" y="2362320"/>
            <a:ext cx="278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Ответ: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87692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60958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09120" y="5029200"/>
            <a:ext cx="221004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 показано изменение температуры воздуха на протяжении трех суток, начиная с 0 часов 11 июля. На оси абсцисс отмечается время суток, на оси ординат — значение температуры в градусах. Определите по графику, до какой наибольшей температуры прогрелся воздух 13 июля. Ответ дайте в градусах Цель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80680" y="152388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b2.7"/>
          <p:cNvPicPr/>
          <p:nvPr/>
        </p:nvPicPr>
        <p:blipFill>
          <a:blip r:embed="rId1"/>
          <a:stretch/>
        </p:blipFill>
        <p:spPr>
          <a:xfrm>
            <a:off x="1523880" y="1662120"/>
            <a:ext cx="6553440" cy="51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15000" y="6172200"/>
            <a:ext cx="1981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715000" y="1905120"/>
            <a:ext cx="1981080" cy="4419360"/>
            <a:chOff x="5715000" y="1905120"/>
            <a:chExt cx="1981080" cy="4419360"/>
          </a:xfrm>
        </p:grpSpPr>
        <p:sp>
          <p:nvSpPr>
            <p:cNvPr id="68" name=""/>
            <p:cNvSpPr/>
            <p:nvPr/>
          </p:nvSpPr>
          <p:spPr>
            <a:xfrm>
              <a:off x="5715000" y="1905120"/>
              <a:ext cx="0" cy="426708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96080" y="1905120"/>
              <a:ext cx="0" cy="4419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828800" y="4038480"/>
            <a:ext cx="541008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15228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, изображенном на рисунке, представлено изменение биржевой стоимости акций газодобывающей компании в первые две недели апреля. В первую неделю апреля бизнесмен купил 14 акций, а потом продал их на второй неделе. Какую наибольшую прибыль он мог пол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371600"/>
            <a:ext cx="31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7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diagnos.61"/>
          <p:cNvPicPr/>
          <p:nvPr/>
        </p:nvPicPr>
        <p:blipFill>
          <a:blip r:embed="rId1"/>
          <a:stretch/>
        </p:blipFill>
        <p:spPr>
          <a:xfrm>
            <a:off x="152280" y="1905120"/>
            <a:ext cx="8458200" cy="4008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6019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1) 125 * 14 =1750 (р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6019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2) 625 * 14 =8750 (р);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38080" y="2971800"/>
            <a:ext cx="563904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6019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3) 8750-1750 =…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62520" y="1447920"/>
            <a:ext cx="14475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5120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среднесуточная температура воздуха в Бресте каждый день с 6 по 19 июля 1981 года. По горизонтали указываются числа месяца, по вертикали - температура в градусах Цельсия. Для наглядности жирные точки соединены линией. Определите по рисунку, какой была наименьшая среднесуточная температура за указанный период. 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031EE91CC9D5AD1F42C34AF23E174BC5/simg1_1258043240.png"/>
          <p:cNvPicPr/>
          <p:nvPr/>
        </p:nvPicPr>
        <p:blipFill>
          <a:blip r:embed="rId1"/>
          <a:stretch/>
        </p:blipFill>
        <p:spPr>
          <a:xfrm>
            <a:off x="152280" y="2209680"/>
            <a:ext cx="8077320" cy="465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98440" y="213372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563868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4400" y="5791320"/>
            <a:ext cx="495288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-15480"/>
            <a:ext cx="845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о суточное количество осадков, выпадавших в Казани с 3 по 15 февраля 1909 года. По горизонтали указываются числа месяца, по вертикали — количество осадков, выпавших в соответствующий день, в миллиметрах. Для наглядности жирные точки на рисунке соединены линией. Определите по рисунку, какого числа выпало наибольшее количество осадков. 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MA.E10.B2.187/innerimg0.png"/>
          <p:cNvPicPr/>
          <p:nvPr/>
        </p:nvPicPr>
        <p:blipFill>
          <a:blip r:embed="rId1"/>
          <a:stretch/>
        </p:blipFill>
        <p:spPr>
          <a:xfrm>
            <a:off x="380880" y="2209680"/>
            <a:ext cx="7086600" cy="4465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76160" y="167652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304812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3276720"/>
            <a:ext cx="0" cy="281916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67480" y="2438280"/>
            <a:ext cx="1676520" cy="114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10280" y="5867280"/>
            <a:ext cx="15264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-61560"/>
            <a:ext cx="873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Симферополе за каждый месяц 1988 года. По горизонтали указываются месяцы, по вертикали - температура в градусах Цельсия. Определите по диаграмме наибольшую среднемесячную температуру в 1988 году.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MA.E10.B2.177/innerimg0.png"/>
          <p:cNvPicPr/>
          <p:nvPr/>
        </p:nvPicPr>
        <p:blipFill>
          <a:blip r:embed="rId1"/>
          <a:stretch/>
        </p:blipFill>
        <p:spPr>
          <a:xfrm>
            <a:off x="1219320" y="1600200"/>
            <a:ext cx="6019560" cy="504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598440" y="83808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2133720"/>
            <a:ext cx="3812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52120" y="2133720"/>
            <a:ext cx="266724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01T07:40:5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