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3B6F-B349-4403-BD11-0E44B792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EFF3-EAAE-4EF6-91B2-680DEA3B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222F-F176-4131-85E7-8A747B84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D16C-D86A-4F24-8D36-D04069CE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CDEA-B0FC-4A21-ABBF-886D88D9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D399-8B14-46FC-A38F-7BD2E4B3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C51B-CF1A-4BD1-A488-9DD0EC09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D12A-0814-4C01-9681-C542A117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6564-F8BB-41F9-BE2D-7FD5DAB7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92B6-7A0A-4C4D-B322-93C66CAD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B803-25C0-473F-A3F9-AAAB600A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926AE-CEEB-422A-BDAE-765E5C72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447B-645B-44F6-8CEB-4DE3CAE1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14D9-B1F3-4EDE-8543-E2B9B77E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B40B-93D8-4501-8DFC-A7F0339A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2F95-87CA-436B-8A45-9BB4328E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02A0-8E51-4DDE-8F43-CCD22D70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7DDB-AE31-4447-895E-57DD1741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E82E3-19E3-4537-A642-AB351FAA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8939-1988-47BB-8209-47C71C8F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0A75-B4FB-4CC4-BAF1-9C36D619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D630-E526-4D79-86AA-1812B940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5F70-7F0E-49AC-8066-9699F63D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19EDF-443B-4517-A344-46E8B435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BFED-55CF-4D3A-AF4B-B94574F35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3A6B-AA99-49C6-8B3A-594E1A816E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40;&#1058;&#1054;" TargetMode="External"/><Relationship Id="rId2" Type="http://schemas.openxmlformats.org/officeDocument/2006/relationships/hyperlink" Target="http://ru.wikipedia.org/wiki/&#1040;&#1050;-101" TargetMode="External"/><Relationship Id="rId3" Type="http://schemas.openxmlformats.org/officeDocument/2006/relationships/hyperlink" Target="http://ru.wikipedia.org/wiki/&#1040;&#1050;-103" TargetMode="External"/><Relationship Id="rId4" Type="http://schemas.openxmlformats.org/officeDocument/2006/relationships/hyperlink" Target="http://ru.wikipedia.org/w/index.php?title=&#1040;&#1050;-102&amp;action=edit" TargetMode="External"/><Relationship Id="rId5" Type="http://schemas.openxmlformats.org/officeDocument/2006/relationships/hyperlink" Target="http://ru.wikipedia.org/w/index.php?title=&#1040;&#1050;-104&amp;action=edit" TargetMode="External"/><Relationship Id="rId6" Type="http://schemas.openxmlformats.org/officeDocument/2006/relationships/hyperlink" Target="http://ru.wikipedia.org/w/index.php?title=&#1040;&#1050;-105&amp;action=edit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План проведения урока ОБЖ по основам военной службы 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в 10 классе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Неполная разборка и сборка автомата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рядок неполной разборки автома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делить магаз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извести контрольный спуск кур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нуть пенал с принадлежност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делить шомп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нять крышку ствольной короб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нуть возвратный механиз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нуть затворную раму с затво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делить затвор от затворной ра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делить газовую трубку со ствольной наклад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борка проводиться в обратном поряд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емейство АК-47, серия 100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чале 90-х появилась новая серия автомата, получившая название «Серия 100». За основу серии был взят АК-74М, но он был переделан под патроны 5,56х45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НАТ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 7,62х39 (автоматы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АК-10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АК-103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, и/или у него был укорочен ствол (автоматы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АК-10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АК-104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6"/>
              </a:rPr>
              <a:t>АК-105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. В последних разработках применяется новая сбалансированная система автоматики (автоматы АК-107 и АК-108), которая позволяет резко снизить колебания оружия сохранив избыточную мощность газового двигателя. Характерной чертой всех автоматов 100-й серии является пластиковые цевьё и приклад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едующим принципиальным шагом в развитии модельного ряда АК стали автоматы АК-107 и АК-108. В них применена модифицированная схема автоматики перезаряжания — безударная с разделёнными массами. В этой схеме автомат имеет два газовых поршня со штоками, движущимися навстречу друг другу. Основной поршень приводит в действие автоматику, дополнительный — перемещает массивный компенсатор, движения которого компенсируют импульс затворного механизма. Это позволяет устранить тряску автомата от перемещения затвора, что повышает кучность автоматической стрельбы, в особенности из неустойчивых положений, в 1,5-2 раза. Построенные по такой схеме автоматы могут успешно конкурировать с АН-94 «Абакан» и очень близким к АК по конструкции АЕК-97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емейство АК-47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1" name="Picture 4" descr="АКC со складным металлическим прикладом 1959 года выпуска. Приклад сделан по образцу немецкого пистолета-пулемёта MP-40"/>
          <p:cNvPicPr/>
          <p:nvPr/>
        </p:nvPicPr>
        <p:blipFill>
          <a:blip r:embed="rId1"/>
          <a:stretch/>
        </p:blipFill>
        <p:spPr>
          <a:xfrm>
            <a:off x="2124000" y="2565360"/>
            <a:ext cx="4516560" cy="193536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780000" y="46670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К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емейство АК-47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4" name="Picture 4" descr="Автомат АКМ"/>
          <p:cNvPicPr/>
          <p:nvPr/>
        </p:nvPicPr>
        <p:blipFill>
          <a:blip r:embed="rId1"/>
          <a:stretch/>
        </p:blipFill>
        <p:spPr>
          <a:xfrm>
            <a:off x="1332000" y="1773360"/>
            <a:ext cx="6643440" cy="186048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394308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К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емейство АК-47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7" name="Picture 4" descr="250px-AK47"/>
          <p:cNvPicPr/>
          <p:nvPr/>
        </p:nvPicPr>
        <p:blipFill>
          <a:blip r:embed="rId1"/>
          <a:stretch/>
        </p:blipFill>
        <p:spPr>
          <a:xfrm>
            <a:off x="1403280" y="1700280"/>
            <a:ext cx="6502320" cy="205416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394308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емейство АК-47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0" name="Picture 4" descr="РПК-74"/>
          <p:cNvPicPr/>
          <p:nvPr/>
        </p:nvPicPr>
        <p:blipFill>
          <a:blip r:embed="rId1"/>
          <a:stretch/>
        </p:blipFill>
        <p:spPr>
          <a:xfrm>
            <a:off x="684360" y="1052640"/>
            <a:ext cx="76294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емейство АК-47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2" name="Picture 4" descr="ПКМ"/>
          <p:cNvPicPr/>
          <p:nvPr/>
        </p:nvPicPr>
        <p:blipFill>
          <a:blip r:embed="rId1"/>
          <a:stretch/>
        </p:blipFill>
        <p:spPr>
          <a:xfrm>
            <a:off x="395280" y="1341360"/>
            <a:ext cx="8280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емейство АК-47, серия 100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635280" y="46670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К-1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7" descr="АК-105"/>
          <p:cNvPicPr/>
          <p:nvPr/>
        </p:nvPicPr>
        <p:blipFill>
          <a:blip r:embed="rId1"/>
          <a:stretch/>
        </p:blipFill>
        <p:spPr>
          <a:xfrm>
            <a:off x="2268360" y="1268280"/>
            <a:ext cx="43484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) Схематично изобразить принцип работы автом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) Выучить боевые свойства АК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Учебник ОБЖ 10 класс параграф 8.6 стр.146-15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ИСТОРИЯ СОЗДАНИЯ И НАЗНАЧЕНИЕ АВТОМАТА КАЛАШНИКОВА. МАТЕРИАЛЬНАЯ ЧАСТЬ АВТОМ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Изучение истории создания автомата, боевых свойств и устройства АК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Развитие и закрепление навыков разборки и сборки АК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Воспитание у молодежи патриотических чувств и гордости за русское оруж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История создания автомата Калашник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Назначение и боевые свойства АК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Общее устройство и принцип работы автом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Меры безопасности при обращении с автома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Неполная разборка и сборка автом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История создания АК-47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51280" y="134136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ихаил Тимофеевич Калашнико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род. 10 ноября 1919г.) — выдающийся конструктор оружия СССР и России, генерал-лейтенант, дважды Герой Социалистического Труда, лауреат Сталинской премии (1949). В 1999г. награжден орденом святого апостола    Андрея Первозванног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7" descr="Михаил Тимофеевич Калашников"/>
          <p:cNvPicPr/>
          <p:nvPr/>
        </p:nvPicPr>
        <p:blipFill>
          <a:blip r:embed="rId1"/>
          <a:stretch/>
        </p:blipFill>
        <p:spPr>
          <a:xfrm>
            <a:off x="395280" y="1413000"/>
            <a:ext cx="340848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Биография М. Т. Калашников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5" name="Picture 4" descr="Михаил Тимофеевич Калашников"/>
          <p:cNvPicPr/>
          <p:nvPr/>
        </p:nvPicPr>
        <p:blipFill>
          <a:blip r:embed="rId1"/>
          <a:stretch/>
        </p:blipFill>
        <p:spPr>
          <a:xfrm>
            <a:off x="826920" y="1197000"/>
            <a:ext cx="2592720" cy="30240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7"/>
          <p:cNvSpPr/>
          <p:nvPr/>
        </p:nvSpPr>
        <p:spPr>
          <a:xfrm>
            <a:off x="3635280" y="1197000"/>
            <a:ext cx="45626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 2012 году исполняется 65 лет создания АК-47. Конструктором является М. Т. Калашник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. Т. Калашников родился в 1919 году. Девятнадцатилетним юношей он был призван на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ействительную военную службу, где проявил повышенный интерес к конструкции стрелкового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ооружения. Калашников сделал попытку усовершенствовать пистолет ТТ., но Великая Отечественная война нарушила его планы. Он был призван в танковые войска. В танковом бою                   под городом Брянском старший сержант М. Т. Калашников был ранен и отправлен в госпиталь города Алма-А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250920" y="4213080"/>
            <a:ext cx="86072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ле выздоровления он начал создавать пистолет-пулемёт в одной из железнодорожных мастерских и в 1942 году представил его на испытания в Артиллерийскую академию им. Ф. Э. Дзержинского. Комиссия, выявив ряд серьёзных недостатков, забраковала пистолет-пулемё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 испугавшись неудачи, М. Т. Калашников, преодолевая трудности, упорно овладева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наниями и продолжал работать. «АК-47»- так он назвал  свой автомат. Созданное им оруж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восходило многие существовавшие отечественные и зарубежные образцы. На основе «АК-47» созданы и находятся на вооружении: АКМ, АКС, АКСу, пулемёты РПК, ПКМ, ПКТ, автоматы серии 100 марки «Абакан», АЕК-971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визом М. Т. Калашникова при создании автомата было: «простота и надёжность».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Назначение и боевые свойства АКМ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мат предназначен для уничтожения живой силы противника огнём, шты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ножом, прикладом, по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вольным гранатомёт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евые свойства А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Калибр-5.4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Масса без штык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жа и патронов-3.63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Начальная скорость пули-900м/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Темп стрельбы-600 выстрелов в мину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Ёмкость магазина-30 патро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Прицельная дальность-800 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Дальность полёта пули-до 3000 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12" descr="250px-AK47"/>
          <p:cNvPicPr/>
          <p:nvPr/>
        </p:nvPicPr>
        <p:blipFill>
          <a:blip r:embed="rId1"/>
          <a:stretch/>
        </p:blipFill>
        <p:spPr>
          <a:xfrm>
            <a:off x="755640" y="4653000"/>
            <a:ext cx="570384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Общее устройство и принцип работы автомат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Автомат состоит из следующих частей и механизмо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твол со ствольной коробкой и прицельным приспособлени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рышка ствольной короб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кла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агази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Цевьё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Шомпо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уро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Штык-нож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нал с принадлежностями для чист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реводчик одиночного и автоматического огн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Газовая трубка со ствольной накладк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звратный механиз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творная рама с газовым поршн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тво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дарно-спусковой механиз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трельба ведётся одиночным и автоматическим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гнём. Автоматическое действие основано на использовании энергии пороховых газов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тводимых из канала ствола к газовому поршню затворной рам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Меры безопасности при обращении с автоматом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Без разрешения нельзя брать АКМ в ру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Нельзя направлять на лю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При разборке и сборке автомата бережно относиться к частям и механизм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Содержать автомат в чисто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Не допускать умышленной пор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5:48:49Z</dcterms:created>
  <dc:creator>Robinho</dc:creator>
  <dc:description/>
  <dc:language>en-US</dc:language>
  <cp:lastModifiedBy>Admin</cp:lastModifiedBy>
  <dcterms:modified xsi:type="dcterms:W3CDTF">2012-03-23T14:24:41Z</dcterms:modified>
  <cp:revision>20</cp:revision>
  <dc:subject/>
  <dc:title>Тема урока:</dc:title>
</cp:coreProperties>
</file>