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380B-41F1-480B-AA08-B49D136C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574E-C888-4751-A3A4-5C8F7176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8A8A-07CD-4D28-8CEA-97F40488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8478-14FA-4FC7-96D4-DDCB69F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363-786C-4BC6-8956-7890F695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AF84-E357-48EE-B87C-765FCA7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B84A-97F0-46B7-B29B-B4AB157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A49C-F790-4A2A-950D-F5E52CC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6B3D-3654-4498-9923-5692DC5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3B5B-F9B8-49E8-83D8-4087B90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421B-D244-402E-9AB0-C5247EA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6C40-3633-4297-8927-8F1E651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5818-E0A4-4C80-845B-CEDE1515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F24B-2FAA-4EFA-B44D-5DE6604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2089-D56C-4DD7-9631-CFCBC1A1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8258-CBAC-40C7-AE6E-97895628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98D6-CA94-48FE-A97A-62D46DC9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940A8-5E72-4479-80CA-582EDD8A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E887-C0E1-49B4-88FD-79F216A8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04EC-ECAF-487A-9C1E-E4628E0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F0E1-7AEE-4600-B42C-786D0DE0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26D2-AC54-4979-8ABF-C17E317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888D-C96E-4F09-A488-F84804F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A0E2-FCD9-415D-94A7-164AE5C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86C6-AC29-40D7-86D0-44A64950B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941-8676-4A9B-92A5-3FF1DA8598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40;&#1058;&#1054;" TargetMode="External"/><Relationship Id="rId2" Type="http://schemas.openxmlformats.org/officeDocument/2006/relationships/hyperlink" Target="http://ru.wikipedia.org/wiki/&#1040;&#1050;-101" TargetMode="External"/><Relationship Id="rId3" Type="http://schemas.openxmlformats.org/officeDocument/2006/relationships/hyperlink" Target="http://ru.wikipedia.org/wiki/&#1040;&#1050;-103" TargetMode="External"/><Relationship Id="rId4" Type="http://schemas.openxmlformats.org/officeDocument/2006/relationships/hyperlink" Target="http://ru.wikipedia.org/w/index.php?title=&#1040;&#1050;-102&amp;action=edit" TargetMode="External"/><Relationship Id="rId5" Type="http://schemas.openxmlformats.org/officeDocument/2006/relationships/hyperlink" Target="http://ru.wikipedia.org/w/index.php?title=&#1040;&#1050;-104&amp;action=edit" TargetMode="External"/><Relationship Id="rId6" Type="http://schemas.openxmlformats.org/officeDocument/2006/relationships/hyperlink" Target="http://ru.wikipedia.org/w/index.php?title=&#1040;&#1050;-105&amp;action=edi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План проведения урока ОБЖ по основам военной службы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в 10 классе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Неполная разборка и сборка автомата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ядок неполной разборки автом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магаз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извести контрольный спуск кур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пенал с принадлеж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шомп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ять крышку ствольной короб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возвратный механиз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нуть затворную раму с затво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затвор от затворной ра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делить газовую трубку со ствольной наклад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ка проводиться в обратном поряд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чале 90-х появилась новая серия автомата, получившая название «Серия 100». За основу серии был взят АК-74М, но он был переделан под патроны 5,56х45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НА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7,62х39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АК-10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АК-103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, и/или у него был укорочен ствол (автоматы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АК-10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АК-10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АК-10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). В последних разработках применяется новая сбалансированная система автоматики (автоматы АК-107 и АК-108), которая позволяет резко снизить колебания оружия сохранив избыточную мощность газового двигателя. Характерной чертой всех автоматов 100-й серии является пластиковые цевьё и прикла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едующим принципиальным шагом в развитии модельного ряда АК стали автоматы АК-107 и АК-108. В них применена модифицированная схема автоматики перезаряжания — безударная с разделёнными массами. В этой схеме автомат имеет два газовых поршня со штоками, движущимися навстречу друг другу. Основной поршень приводит в действие автоматику, дополнительный — перемещает массивный компенсатор, движения которого компенсируют импульс затворного механизма. Это позволяет устранить тряску автомата от перемещения затвора, что повышает кучность автоматической стрельбы, в особенности из неустойчивых положений, в 1,5-2 раза. Построенные по такой схеме автоматы могут успешно конкурировать с АН-94 «Абакан» и очень близким к АК по конструкции АЕК-97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1" name="Picture 4" descr="АКC со складным металлическим прикладом 1959 года выпуска. Приклад сделан по образцу немецкого пистолета-пулемёта MP-40"/>
          <p:cNvPicPr/>
          <p:nvPr/>
        </p:nvPicPr>
        <p:blipFill>
          <a:blip r:embed="rId1"/>
          <a:stretch/>
        </p:blipFill>
        <p:spPr>
          <a:xfrm>
            <a:off x="2124000" y="2565360"/>
            <a:ext cx="4516560" cy="1935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78000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4" name="Picture 4" descr="Автомат АКМ"/>
          <p:cNvPicPr/>
          <p:nvPr/>
        </p:nvPicPr>
        <p:blipFill>
          <a:blip r:embed="rId1"/>
          <a:stretch/>
        </p:blipFill>
        <p:spPr>
          <a:xfrm>
            <a:off x="1332000" y="1773360"/>
            <a:ext cx="6643440" cy="18604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7" name="Picture 4" descr="250px-AK47"/>
          <p:cNvPicPr/>
          <p:nvPr/>
        </p:nvPicPr>
        <p:blipFill>
          <a:blip r:embed="rId1"/>
          <a:stretch/>
        </p:blipFill>
        <p:spPr>
          <a:xfrm>
            <a:off x="1403280" y="1700280"/>
            <a:ext cx="6502320" cy="205416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4" descr="РПК-74"/>
          <p:cNvPicPr/>
          <p:nvPr/>
        </p:nvPicPr>
        <p:blipFill>
          <a:blip r:embed="rId1"/>
          <a:stretch/>
        </p:blipFill>
        <p:spPr>
          <a:xfrm>
            <a:off x="684360" y="1052640"/>
            <a:ext cx="7629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2" name="Picture 4" descr="ПКМ"/>
          <p:cNvPicPr/>
          <p:nvPr/>
        </p:nvPicPr>
        <p:blipFill>
          <a:blip r:embed="rId1"/>
          <a:stretch/>
        </p:blipFill>
        <p:spPr>
          <a:xfrm>
            <a:off x="395280" y="1341360"/>
            <a:ext cx="8280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Семейство АК-47, серия 100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635280" y="46670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К-1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Picture 7" descr="АК-105"/>
          <p:cNvPicPr/>
          <p:nvPr/>
        </p:nvPicPr>
        <p:blipFill>
          <a:blip r:embed="rId1"/>
          <a:stretch/>
        </p:blipFill>
        <p:spPr>
          <a:xfrm>
            <a:off x="2268360" y="1268280"/>
            <a:ext cx="43484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Схематично изобразить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Выучить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Учебник ОБЖ 10 класс параграф 8.6 стр.146-1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ИСТОРИЯ СОЗДАНИЯ И НАЗНАЧЕНИЕ АВТОМАТА КАЛАШНИКОВА. МАТЕРИАЛЬНАЯ ЧАСТЬ АВТОМ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зучение истории создания автомата, боевых свойств и устр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Развитие и закрепление навыков разборки и сборки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оспитание у молодежи патриотических чувств и гордости за русское оруж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стория создания автомата Калашник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азначение и боевые свойства АК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бщее устройство и принцип работы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Меры безопасности при обращении с автомат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полная разборка и сборка автом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История создания АК-47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51280" y="1341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хаил Тимофеевич Калашнико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род. 10 ноября 1919г.) — выдающийся конструктор оружия СССР и России, генерал-лейтенант, дважды Герой Социалистического Труда, лауреат Сталинской премии (1949). В 1999г. награжден орденом святого апостола    Андрея Первозван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395280" y="1413000"/>
            <a:ext cx="340848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иография М. Т. Калашников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Picture 4" descr="Михаил Тимофеевич Калашников"/>
          <p:cNvPicPr/>
          <p:nvPr/>
        </p:nvPicPr>
        <p:blipFill>
          <a:blip r:embed="rId1"/>
          <a:stretch/>
        </p:blipFill>
        <p:spPr>
          <a:xfrm>
            <a:off x="826920" y="1197000"/>
            <a:ext cx="2592720" cy="3024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7"/>
          <p:cNvSpPr/>
          <p:nvPr/>
        </p:nvSpPr>
        <p:spPr>
          <a:xfrm>
            <a:off x="3635280" y="1197000"/>
            <a:ext cx="4562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2012 году исполняется 65 лет создания АК-47. Конструктором является М. Т. Калаш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. Т. Калашников родился в 1919 году. Девятнадцатилетним юношей он был призван на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йствительную военную службу, где проявил повышенный интерес к конструкции стрелковог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оружения. Калашников сделал попытку усовершенствовать пистолет ТТ., но Великая Отечественная война нарушила его планы. Он был призван в танковые войска. В танковом бою                   под городом Брянском старший сержант М. Т. Калашников был ранен и отправлен в госпиталь города Алма-А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250920" y="4213080"/>
            <a:ext cx="8607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ле выздоровления он начал создавать пистолет-пулемёт в одной из железнодорожных мастерских и в 1942 году представил его на испытания в Артиллерийскую академию им. Ф. Э. Дзержинского. Комиссия, выявив ряд серьёзных недостатков, забраковала пистолет-пулемё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 испугавшись неудачи, М. Т. Калашников, преодолевая трудности, упорно овладева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ниями и продолжал работать. «АК-47»- так он назвал  свой автомат. Созданное им оруж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восходило многие существовавшие отечественные и зарубежные образцы. На основе «АК-47» созданы и находятся на вооружении: АКМ, АКС, АКСу, пулемёты РПК, ПКМ, ПКТ, автоматы серии 100 марки «Абакан», АЕК-971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изом М. Т. Калашникова при создании автомата было: «простота и надёжность».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азначение и боевые свойства АКМ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мат предназначен для уничтожения живой силы противника огнём, шты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ножом, прикладом, по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вольным гранатомё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евые свойства А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либр-5.4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Масса без штык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жа и патронов-3.63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Начальная скорость пули-900м/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Темп стрельбы-600 выстрелов в мину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Ёмкость магазина-30 патр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Прицельная дальность-8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Дальность полёта пули-до 30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12" descr="250px-AK47"/>
          <p:cNvPicPr/>
          <p:nvPr/>
        </p:nvPicPr>
        <p:blipFill>
          <a:blip r:embed="rId1"/>
          <a:stretch/>
        </p:blipFill>
        <p:spPr>
          <a:xfrm>
            <a:off x="755640" y="4653000"/>
            <a:ext cx="5703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бщее устройство и принцип работы автомат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Автомат состоит из следующих частей и механизм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вол со ствольной коробкой и прицельным приспособлен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рышка ствольной короб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кла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гази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вьё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омпо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ур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Штык-нож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нал с принадлежностями для чис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еводчик одиночного и автоматического огн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Газовая трубка со ствольной накладк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звратны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ная рама с газовым поршн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тв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дарно-спусковой механиз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трельба ведётся одиночным и автоматическим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гнём. Автоматическое действие основано на использовании энергии пороховых газ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водимых из канала ствола к газовому поршню затворной рам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ef6"/>
                </a:solidFill>
                <a:latin typeface="Arial"/>
              </a:rPr>
              <a:t>Меры безопасности при обращении с автоматом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ез разрешения нельзя брать АКМ в р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Нельзя направлять на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При разборке и сборке автомата бережно относиться к частям и механиз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одержать автомат в чисто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Не допускать умышленной пор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48:49Z</dcterms:created>
  <dc:creator>Robinho</dc:creator>
  <dc:description/>
  <dc:language>en-US</dc:language>
  <cp:lastModifiedBy>Admin</cp:lastModifiedBy>
  <dcterms:modified xsi:type="dcterms:W3CDTF">2012-03-23T14:24:41Z</dcterms:modified>
  <cp:revision>20</cp:revision>
  <dc:subject/>
  <dc:title>Тема урока:</dc:title>
</cp:coreProperties>
</file>