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A3A0-21EB-4DB1-B516-08FFD0E530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F90B-F302-44B5-ABD4-2F660F6C13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0C1E-CC31-4644-9DAA-5B15A897C7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810E-DB6C-40D3-8FF3-0ED09A92CB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10FC-EDD4-4259-B73B-4D42F9D4A1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BEE2-4AFC-40C2-8FC7-3275FF7F19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760A-A76B-490D-8615-8E9654AB55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5F7C-7DB1-483D-B29E-DC55E56DA9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A2A5-4415-4D04-88D1-4CFF380333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FB6B-B3F1-4C88-993C-1765CFA215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2FB9-B772-4D26-B0D4-CFF14E9E39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09CB-448A-4F24-A08C-F404B51BF5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EC54-E78C-4B1E-910D-5894B0F92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0034-7C75-4FC4-9861-56FD9A14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6FB0-8E12-4D89-A232-49091A9B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1B3A-31D5-463C-9E79-D7AE2A79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A5EF-2F28-4DF4-96FC-AFA9C21A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7525-F0B0-4BDC-BB6D-A3EEE5B7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1B04-BF3C-493A-8908-5517FD47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001D-7902-4F57-B856-7156405E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CB1D-E424-4B98-BEAD-5989E341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2BD0-971B-4ED8-B3E1-24B63DB6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4F8F-E05E-4E18-81C7-26C00C04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4FA4-C557-402E-8307-80BCE4E3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55AE-1F4C-40DD-8E1D-C9DFDB8F41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2"/>
          <a:stretch/>
        </p:blipFill>
        <p:spPr>
          <a:xfrm>
            <a:off x="1633680" y="2273400"/>
            <a:ext cx="5584680" cy="3243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229440" y="5643720"/>
            <a:ext cx="269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ца 10-А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омарёва Анаста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6"/>
          <p:cNvPicPr/>
          <p:nvPr/>
        </p:nvPicPr>
        <p:blipFill>
          <a:blip r:embed="rId2"/>
          <a:stretch/>
        </p:blipFill>
        <p:spPr>
          <a:xfrm>
            <a:off x="0" y="1341360"/>
            <a:ext cx="5773680" cy="4753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5867280" y="1484280"/>
            <a:ext cx="3276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ельскохозяйственном обороте находится почти половина территории страны. Под лесами занято 12% территории, а под пастбищами 48%. Главные продовольственные культуры — пшеница и ячм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жная  отрасль - овцеводст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ногие отрасли  сельского  хозяйства работают на экспор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ipe dir="d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3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3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3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3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устрия тур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96720" y="1268280"/>
            <a:ext cx="56988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ания входит в пятерку стран, наиболее популярных среди туристов. В 2000 году ее доходы от туризма превысили 30 млрд. долла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рубежных гостей привлекают теплый климат, великолепные средиземноморские пляжи и крупные исторические центры искусства и архитектуры – Барселона, Мадрид, Вален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жегодно страну посещает около 50 млн. туристов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622640" y="58770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810108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654050"/>
          <p:cNvPicPr/>
          <p:nvPr/>
        </p:nvPicPr>
        <p:blipFill>
          <a:blip r:embed="rId2"/>
          <a:stretch/>
        </p:blipFill>
        <p:spPr>
          <a:xfrm>
            <a:off x="5219640" y="1413000"/>
            <a:ext cx="3708360" cy="446400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d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4000"/>
                            </p:stCondLst>
                            <p:childTnLst>
                              <p:par>
                                <p:cTn id="5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3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3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3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просмотр!!!!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ipe dir="d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бщие све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Рельеф Исп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Полезные ископаемые Исп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Климат Исп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Население Исп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Городская жизнь Исп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 Хозяйство Исп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Хозяйство Испании(Продолж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Индустрия тур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Заклю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6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И с п а н и 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Испания занимает большую часть Пиренейского полу- острова, образующего крайний юго-западный выступ  Евро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Площадь Испании 5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тыс.кв.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Население - почти 40 млн. челов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Официальный язы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испан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Столица - Мадри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Денежная единица - испанская песета.</a:t>
            </a:r>
            <a:r>
              <a:rPr b="0" lang="ru-RU" sz="20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1" descr="Испания1"/>
          <p:cNvPicPr/>
          <p:nvPr/>
        </p:nvPicPr>
        <p:blipFill>
          <a:blip r:embed="rId2"/>
          <a:stretch/>
        </p:blipFill>
        <p:spPr>
          <a:xfrm>
            <a:off x="4356000" y="1773360"/>
            <a:ext cx="4535640" cy="424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8"/>
          <p:cNvSpPr/>
          <p:nvPr/>
        </p:nvSpPr>
        <p:spPr>
          <a:xfrm>
            <a:off x="7622640" y="58770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9">
            <a:hlinkClick r:id="rId3" action="ppaction://hlinksldjump"/>
          </p:cNvPr>
          <p:cNvSpPr/>
          <p:nvPr/>
        </p:nvSpPr>
        <p:spPr>
          <a:xfrm>
            <a:off x="810108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ipe dir="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7" descr="737074"/>
          <p:cNvPicPr/>
          <p:nvPr/>
        </p:nvPicPr>
        <p:blipFill>
          <a:blip r:embed="rId2"/>
          <a:stretch/>
        </p:blipFill>
        <p:spPr>
          <a:xfrm>
            <a:off x="4716360" y="3860640"/>
            <a:ext cx="4284720" cy="2857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8" descr="739028"/>
          <p:cNvPicPr/>
          <p:nvPr/>
        </p:nvPicPr>
        <p:blipFill>
          <a:blip r:embed="rId3"/>
          <a:stretch/>
        </p:blipFill>
        <p:spPr>
          <a:xfrm>
            <a:off x="4716360" y="189000"/>
            <a:ext cx="4284720" cy="2855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льеф Исп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Испания - одна из сам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Гористых стран Европ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низменностей в стране очень ма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Большая часть поверх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Занята Центральным плоскогорь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средней высотой 700-900 м н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Уровнем мо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На севере подним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Пиренеи, на юге Андалузские го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7622640" y="58770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4"/>
          <p:cNvSpPr/>
          <p:nvPr/>
        </p:nvSpPr>
        <p:spPr>
          <a:xfrm>
            <a:off x="810108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ipe dir="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5"/>
          <p:cNvPicPr/>
          <p:nvPr/>
        </p:nvPicPr>
        <p:blipFill>
          <a:blip r:embed="rId2"/>
          <a:stretch/>
        </p:blipFill>
        <p:spPr>
          <a:xfrm>
            <a:off x="0" y="1989000"/>
            <a:ext cx="5508720" cy="33832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езные ископаемые Исп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03280" y="1700280"/>
            <a:ext cx="4356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Испания богата полез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ископаемыми. М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месторо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железных руд и особен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руд цветных мет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(медь, серебр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свинец, ртуть и др.). 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запасы угля, калий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солей, уран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руд. Верховья рек бог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гидроэнерг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7622640" y="58770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4"/>
          <p:cNvSpPr/>
          <p:nvPr/>
        </p:nvSpPr>
        <p:spPr>
          <a:xfrm>
            <a:off x="810108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wipe dir="r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40"/>
                            </p:stCondLst>
                            <p:childTnLst>
                              <p:par>
                                <p:cTn id="2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4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1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10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10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10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10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737043"/>
          <p:cNvPicPr/>
          <p:nvPr/>
        </p:nvPicPr>
        <p:blipFill>
          <a:blip r:embed="rId2"/>
          <a:stretch/>
        </p:blipFill>
        <p:spPr>
          <a:xfrm>
            <a:off x="4873680" y="404640"/>
            <a:ext cx="4270320" cy="28465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0" y="826920"/>
            <a:ext cx="4932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Климат Испании средиземноморский, однако, существуют различия между климатом отдельных территорий. В центральной  части страны лето жаркое, зима прохладная, случаются  даже снежные бу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На северо-западном побережье климат мягкий и влажный. Растут леса из буков, каштанов, дубов. Наиболее жаркий климат на берегах Средиземного моря, в январе здесь +13°, в июле +27°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241087"/>
          <p:cNvPicPr/>
          <p:nvPr/>
        </p:nvPicPr>
        <p:blipFill>
          <a:blip r:embed="rId3"/>
          <a:stretch/>
        </p:blipFill>
        <p:spPr>
          <a:xfrm>
            <a:off x="4859280" y="3573360"/>
            <a:ext cx="4284720" cy="29275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-243360"/>
            <a:ext cx="338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имат Исп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7622640" y="58770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2"/>
          <p:cNvSpPr/>
          <p:nvPr/>
        </p:nvSpPr>
        <p:spPr>
          <a:xfrm>
            <a:off x="810108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wipe dir="d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68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68360" y="-171720"/>
            <a:ext cx="45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селение Исп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4564440"/>
            <a:ext cx="565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территории страны население размещено неравномерно, плотно населены прибрежные районы. Городское население преобладает над сельским. Исключая Мадрид, все крупные города лежат у моря или близ не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5688000" y="669960"/>
            <a:ext cx="3456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ания включает ряд исторических областей, население котор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личается по языку и культуре. Ядро испанского государства  составляет  Кастилия. От кастиль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личаются баски, каталонцы, галисийцы, но все они образуют  единую  испанскую нац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439067"/>
          <p:cNvPicPr/>
          <p:nvPr/>
        </p:nvPicPr>
        <p:blipFill>
          <a:blip r:embed="rId2"/>
          <a:stretch/>
        </p:blipFill>
        <p:spPr>
          <a:xfrm>
            <a:off x="0" y="692280"/>
            <a:ext cx="5529240" cy="36860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9"/>
          <p:cNvSpPr/>
          <p:nvPr/>
        </p:nvSpPr>
        <p:spPr>
          <a:xfrm>
            <a:off x="7622640" y="58770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810108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ipe dir="d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000"/>
                            </p:stCondLst>
                            <p:childTnLst>
                              <p:par>
                                <p:cTn id="367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одская жизнь Исп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810108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7622640" y="58770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2"/>
          <a:stretch/>
        </p:blipFill>
        <p:spPr>
          <a:xfrm>
            <a:off x="4284720" y="1916280"/>
            <a:ext cx="4680000" cy="36669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переходом к более развитому производству и расширением сферы услуг началась миграция испанцев из сельской местности в города. Ныне в городах проживает около 75%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амый крупный город Испании – Мадри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рселона второй по величине город Испании с которым Мадрид постоянно соперничает. Барселона является важнейшим средиземноморским портом и центром большого, плотно населенного промышленного реги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ipe dir="d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7622640" y="602136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810108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мировом уровне Испания лидирует по производству оливкового масла и добыче ртути, занимает второе место в мире по добыче пиритов и третье по производству виноградных в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ания — страна с развитой промышленностью и сельск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озяйством.  Природные  богатства  создают хорошую базу для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мышленности. Значительную роль играет горнодобывающ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мышленность, черная и цветная металлургия, машиностроение (су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втомобили, станк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тет переработка нефти, развивается текстильная и пищевая промышлен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зяйство Исп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3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3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3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5:14:07Z</dcterms:created>
  <dc:creator>Слава</dc:creator>
  <dc:description/>
  <dc:language>en-US</dc:language>
  <cp:lastModifiedBy>Николай</cp:lastModifiedBy>
  <dcterms:modified xsi:type="dcterms:W3CDTF">2013-05-22T07:51:58Z</dcterms:modified>
  <cp:revision>32</cp:revision>
  <dc:subject/>
  <dc:title>Испа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20e0000000000010250300207f7000400038000</vt:lpwstr>
  </property>
</Properties>
</file>