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7E1-BB6A-4625-A2FB-A7BC36136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389-110B-4C89-965B-2DC7D406C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C9B-0BD7-4F11-BBDD-88FD28762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858-63C6-4AA1-9870-437CDCA61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739-23FC-4407-8D5D-2BE449778D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AB6D-2F22-4434-98AD-2888741C7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0C34-B1D5-4DC3-92A6-15CB4F660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3DC4-A2F6-4D36-B303-74287274E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D90-A213-4611-B2AD-7B2F9D48B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BBB-84DF-4CAF-BE43-B8F57E56E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E60-69D5-4EC1-8A89-7880E6D1D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2B55-4AC6-412C-B15C-2E2687219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2A8-CDF9-4A5A-8D73-6FB37EB3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4BD-5B50-4BF4-809C-9CB4FC2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FD8-1B96-4D68-8A15-83C2538C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796-4542-4611-89DB-3EF4234D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5D1-DD23-4481-BB06-706FD0C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33D-6CD4-4777-9AED-37224DB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688-015C-4AF6-8824-E372AE6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3F9-A260-4360-B476-BF3C353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E1E-1D4C-4F44-886D-5BEC04E5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327-3D5B-49D3-9C8B-FBF682BA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319-8DB7-4203-AAC7-D394D85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209-C5E3-421E-B83B-028C5E0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A4C5-C817-419E-B04A-D96CD1E92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2273400"/>
            <a:ext cx="5584680" cy="324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229440" y="5643720"/>
            <a:ext cx="26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10-А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омарё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0" y="1341360"/>
            <a:ext cx="5773680" cy="4753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867280" y="1484280"/>
            <a:ext cx="32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льскохозяйственном обороте находится почти половина территории страны. Под лесами занято 12% территории, а под пастбищами 48%. Главные продовольственные культуры — пшеница и ячм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 отрасль - овц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ие отрасли  сельского  хозяйства работают на эк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я ту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96720" y="1268280"/>
            <a:ext cx="5698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ходит в пятерку стран, наиболее популярных среди туристов. В 2000 году ее доходы от туризма превысили 30 млрд.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ежных гостей привлекают теплый климат, великолепные средиземноморские пляжи и крупные исторические центры искусства и архитектуры – Барселона, Мадрид, Вален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годно страну посещает около 50 млн. турис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654050"/>
          <p:cNvPicPr/>
          <p:nvPr/>
        </p:nvPicPr>
        <p:blipFill>
          <a:blip r:embed="rId2"/>
          <a:stretch/>
        </p:blipFill>
        <p:spPr>
          <a:xfrm>
            <a:off x="5219640" y="1413000"/>
            <a:ext cx="3708360" cy="4464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Рельеф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лезные ископаемы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лимат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аселение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ородская жизнь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Хозяйство Ис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Хозяйство Испании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Индустрия 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 с п а н и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занимает большую часть Пиренейского полу- острова, образующего крайний юго-западный выступ 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лощадь Испании 5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тыс.кв.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селение - почти 40 млн.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фициальны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толица - Мадр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нежная единица - испанская песета.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Испания1"/>
          <p:cNvPicPr/>
          <p:nvPr/>
        </p:nvPicPr>
        <p:blipFill>
          <a:blip r:embed="rId2"/>
          <a:stretch/>
        </p:blipFill>
        <p:spPr>
          <a:xfrm>
            <a:off x="4356000" y="1773360"/>
            <a:ext cx="453564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3" action="ppaction://hlinksldjump"/>
          </p:cNvPr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737074"/>
          <p:cNvPicPr/>
          <p:nvPr/>
        </p:nvPicPr>
        <p:blipFill>
          <a:blip r:embed="rId2"/>
          <a:stretch/>
        </p:blipFill>
        <p:spPr>
          <a:xfrm>
            <a:off x="4716360" y="3860640"/>
            <a:ext cx="428472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8" descr="739028"/>
          <p:cNvPicPr/>
          <p:nvPr/>
        </p:nvPicPr>
        <p:blipFill>
          <a:blip r:embed="rId3"/>
          <a:stretch/>
        </p:blipFill>
        <p:spPr>
          <a:xfrm>
            <a:off x="4716360" y="189000"/>
            <a:ext cx="4284720" cy="2855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льеф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- одна из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ористых стран Евро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изменностей в стране очень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Большая часть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нята Центральным плоскогор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редней высотой 700-900 м н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ровнем мо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е под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иренеи, на юге Андалузские г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5"/>
          <p:cNvPicPr/>
          <p:nvPr/>
        </p:nvPicPr>
        <p:blipFill>
          <a:blip r:embed="rId2"/>
          <a:stretch/>
        </p:blipFill>
        <p:spPr>
          <a:xfrm>
            <a:off x="0" y="1989000"/>
            <a:ext cx="5508720" cy="3383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ые ископаемые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280" y="1700280"/>
            <a:ext cx="43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пания богата поле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ископаемыми. 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месторо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железных руд и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 цветных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(медь, серебр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винец, ртуть и др.).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пасы угля, калий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олей, ура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руд. Верховья рек бог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гидроэнерг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4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737043"/>
          <p:cNvPicPr/>
          <p:nvPr/>
        </p:nvPicPr>
        <p:blipFill>
          <a:blip r:embed="rId2"/>
          <a:stretch/>
        </p:blipFill>
        <p:spPr>
          <a:xfrm>
            <a:off x="4873680" y="404640"/>
            <a:ext cx="4270320" cy="2846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26920"/>
            <a:ext cx="4932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лимат Испании средиземноморский, однако, существуют различия между климатом отдельных территорий. В центральной  части страны лето жаркое, зима прохладная, случаются  даже снежные бу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северо-западном побережье климат мягкий и влажный. Растут леса из буков, каштанов, дубов. Наиболее жаркий климат на берегах Средиземного моря, в январе здесь +13°, в июле +27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241087"/>
          <p:cNvPicPr/>
          <p:nvPr/>
        </p:nvPicPr>
        <p:blipFill>
          <a:blip r:embed="rId3"/>
          <a:stretch/>
        </p:blipFill>
        <p:spPr>
          <a:xfrm>
            <a:off x="4859280" y="3573360"/>
            <a:ext cx="4284720" cy="2927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338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мат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360" y="-17172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селение Ис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4564440"/>
            <a:ext cx="56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ерритории страны население размещено неравномерно, плотно населены прибрежные районы. Городское население преобладает над сельским. Исключая Мадрид, все крупные города лежат у моря или близ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5688000" y="669960"/>
            <a:ext cx="345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включает ряд исторических областей, население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ется по языку и культуре. Ядро испанского государства  составляет  Кастилия. От кастиль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ся баски, каталонцы, галисийцы, но все они образуют  единую  испанскую н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439067"/>
          <p:cNvPicPr/>
          <p:nvPr/>
        </p:nvPicPr>
        <p:blipFill>
          <a:blip r:embed="rId2"/>
          <a:stretch/>
        </p:blipFill>
        <p:spPr>
          <a:xfrm>
            <a:off x="0" y="692280"/>
            <a:ext cx="5529240" cy="368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ская жизнь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622640" y="5877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80000" cy="3666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ереходом к более развитому производству и расширением сферы услуг началась миграция испанцев из сельской местности в города. Ныне в городах проживает около 75%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крупный город Испании – Мадри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селона второй по величине город Испании с которым Мадрид постоянно соперничает. Барселона является важнейшим средиземноморским портом и центром большого, плотно населенного промышленного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7622640" y="6021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10108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ировом уровне Испания лидирует по производству оливкового масла и добыче ртути, занимает второе место в мире по добыче пиритов и третье по производству виноградных 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ания — страна с развитой промышленностью и сель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зяйством.  Природные  богатства  создают хорошую базу для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и. Значительную роль играет горнодобыв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ость, черная и цветная металлургия, машиностроение (с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, ста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т переработка нефти, развивается текстильная и пищевая промышл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зяйство Ис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14:07Z</dcterms:created>
  <dc:creator>Слава</dc:creator>
  <dc:description/>
  <dc:language>en-US</dc:language>
  <cp:lastModifiedBy>Николай</cp:lastModifiedBy>
  <dcterms:modified xsi:type="dcterms:W3CDTF">2013-05-22T07:51:58Z</dcterms:modified>
  <cp:revision>32</cp:revision>
  <dc:subject/>
  <dc:title>Исп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e0000000000010250300207f7000400038000</vt:lpwstr>
  </property>
</Properties>
</file>