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9CE7-394C-414D-8296-9D206DB50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7275-79AD-4DC7-99E0-47E028272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BBA-3C36-4000-AE73-7EE3F2249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5366-C9C2-4EBC-8120-7D6DCCD40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FFB4-40E7-497C-BAA0-B3210F64A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51D-4CB1-4131-80B3-AEFAA9D69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9E8-9F65-4B40-811C-A7B30BEA5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9112-1B87-4B6D-9AA0-FCC7CF180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CD9B-2471-4B32-A21A-96680BE11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099-6127-4CB7-8A00-21B03B1CB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E116-3221-4B3F-957A-B871CF08F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D49-9FF1-4A8D-B0BC-F38D24BE7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304-AB5E-4AA2-8561-8E4394A8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393-DB97-4E5B-9447-F139BA2F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971-0D54-46A1-AE68-18F69134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0B2-6F8B-42E9-AE31-B8AE6E96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AF4-3533-497F-859B-3589078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A39-FCF7-4645-8424-DA9168B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279-6455-4732-B0B6-690674D8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F1C-F969-4699-B5C8-5231845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422-9977-4375-B7B7-2C2E6632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7B4-01FD-43CF-870C-A70D1D5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A43-FC0C-4607-9119-4B176551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AD2-DD90-4EA1-9AB5-F9059CB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17A7-27B3-490B-9462-79911119C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2273400"/>
            <a:ext cx="5584680" cy="324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229440" y="564372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0-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омарё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0" y="1341360"/>
            <a:ext cx="5773680" cy="4753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867280" y="1484280"/>
            <a:ext cx="32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льскохозяйственном обороте находится почти половина территории страны. Под лесами занято 12% территории, а под пастбищами 48%. Главные продовольственные культуры — пшеница и ячм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 отрасль - овц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отрасли  сельского  хозяйства работают на эк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я ту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5698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ходит в пятерку стран, наиболее популярных среди туристов. В 2000 году ее доходы от туризма превысили 30 млрд.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ежных гостей привлекают теплый климат, великолепные средиземноморские пляжи и крупные исторические центры искусства и архитектуры – Барселона, Мадрид, Вален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годно страну посещает около 50 млн. турис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654050"/>
          <p:cNvPicPr/>
          <p:nvPr/>
        </p:nvPicPr>
        <p:blipFill>
          <a:blip r:embed="rId2"/>
          <a:stretch/>
        </p:blipFill>
        <p:spPr>
          <a:xfrm>
            <a:off x="5219640" y="1413000"/>
            <a:ext cx="3708360" cy="4464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льеф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лезные ископаемы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лимат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аселени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ородская жизнь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Хозяйство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Хозяйство Испании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ндустрия 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 с п а н и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занимает большую часть Пиренейского полу- острова, образующего крайний юго-западный выступ 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лощадь Испании 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тыс.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селение - почти 40 млн.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фициальны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толица - Мадр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нежная единица - испанская песета.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Испания1"/>
          <p:cNvPicPr/>
          <p:nvPr/>
        </p:nvPicPr>
        <p:blipFill>
          <a:blip r:embed="rId2"/>
          <a:stretch/>
        </p:blipFill>
        <p:spPr>
          <a:xfrm>
            <a:off x="4356000" y="1773360"/>
            <a:ext cx="453564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3" action="ppaction://hlinksldjump"/>
          </p:cNvPr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737074"/>
          <p:cNvPicPr/>
          <p:nvPr/>
        </p:nvPicPr>
        <p:blipFill>
          <a:blip r:embed="rId2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8" descr="739028"/>
          <p:cNvPicPr/>
          <p:nvPr/>
        </p:nvPicPr>
        <p:blipFill>
          <a:blip r:embed="rId3"/>
          <a:stretch/>
        </p:blipFill>
        <p:spPr>
          <a:xfrm>
            <a:off x="4716360" y="189000"/>
            <a:ext cx="4284720" cy="2855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ьеф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- одна из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ористых стран Евро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изменностей в стране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часть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нята Центральным плоскогор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редней высотой 700-900 м н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е под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иренеи, на юге Андалузские г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5"/>
          <p:cNvPicPr/>
          <p:nvPr/>
        </p:nvPicPr>
        <p:blipFill>
          <a:blip r:embed="rId2"/>
          <a:stretch/>
        </p:blipFill>
        <p:spPr>
          <a:xfrm>
            <a:off x="0" y="1989000"/>
            <a:ext cx="5508720" cy="338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3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богата поле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копаемыми. 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есторо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елезных руд и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 цветных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медь, серебр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винец, ртуть и др.).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пасы угля, калий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лей, ура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. Верховья рек бог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идроэнерг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4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737043"/>
          <p:cNvPicPr/>
          <p:nvPr/>
        </p:nvPicPr>
        <p:blipFill>
          <a:blip r:embed="rId2"/>
          <a:stretch/>
        </p:blipFill>
        <p:spPr>
          <a:xfrm>
            <a:off x="4873680" y="404640"/>
            <a:ext cx="4270320" cy="2846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26920"/>
            <a:ext cx="49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лимат Испании средиземноморский, однако, существуют различия между климатом отдельных территорий. В центральной  части страны лето жаркое, зима прохладная, случаются  даже снежные б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о-западном побережье климат мягкий и влажный. Растут леса из буков, каштанов, дубов. Наиболее жаркий климат на берегах Средиземного моря, в январе здесь +13°, в июле +27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241087"/>
          <p:cNvPicPr/>
          <p:nvPr/>
        </p:nvPicPr>
        <p:blipFill>
          <a:blip r:embed="rId3"/>
          <a:stretch/>
        </p:blipFill>
        <p:spPr>
          <a:xfrm>
            <a:off x="4859280" y="3573360"/>
            <a:ext cx="4284720" cy="2927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338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ат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360" y="-17172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ление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456444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рритории страны население размещено неравномерно, плотно населены прибрежные районы. Городское население преобладает над сельским. Исключая Мадрид, все крупные города лежат у моря или близ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688000" y="66996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ключает ряд исторических областей, население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ется по языку и культуре. Ядро испанского государства  составляет  Кастилия. От касти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ся баски, каталонцы, галисийцы, но все они образуют  единую  испанскую н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439067"/>
          <p:cNvPicPr/>
          <p:nvPr/>
        </p:nvPicPr>
        <p:blipFill>
          <a:blip r:embed="rId2"/>
          <a:stretch/>
        </p:blipFill>
        <p:spPr>
          <a:xfrm>
            <a:off x="0" y="692280"/>
            <a:ext cx="5529240" cy="368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ская жизнь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80000" cy="3666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еходом к более развитому производству и расширением сферы услуг началась миграция испанцев из сельской местности в города. Ныне в городах проживает около 75%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крупный город Испании – Мад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селона второй по величине город Испании с которым Мадрид постоянно соперничает. Барселона является важнейшим средиземноморским портом и центром большого, плотно населенного промышленного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7622640" y="6021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ировом уровне Испания лидирует по производству оливкового масла и добыче ртути, занимает второе место в мире по добыче пиритов и третье по производству виноградных 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— страна с развитой промышленностью и сель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зяйством.  Природные  богатства  создают хорошую базу для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и. Значительную роль играет горнодо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ь, черная и цветная металлургия, машиностроение (с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, ста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т переработка нефти, развивается текстильная и пищевая промыш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зяйство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14:07Z</dcterms:created>
  <dc:creator>Слава</dc:creator>
  <dc:description/>
  <dc:language>en-US</dc:language>
  <cp:lastModifiedBy>Николай</cp:lastModifiedBy>
  <dcterms:modified xsi:type="dcterms:W3CDTF">2013-05-22T07:51:58Z</dcterms:modified>
  <cp:revision>32</cp:revision>
  <dc:subject/>
  <dc:title>Исп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e0000000000010250300207f7000400038000</vt:lpwstr>
  </property>
</Properties>
</file>