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25.jpeg" ContentType="image/jpeg"/>
  <Override PartName="/ppt/media/image32.png" ContentType="image/png"/>
  <Override PartName="/ppt/media/image37.jpeg" ContentType="image/jpeg"/>
  <Override PartName="/ppt/media/image67.png" ContentType="image/png"/>
  <Override PartName="/ppt/media/image60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47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22.jpeg" ContentType="image/jpeg"/>
  <Override PartName="/ppt/media/image19.jpeg" ContentType="image/jpeg"/>
  <Override PartName="/ppt/media/image42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3.jpeg" ContentType="image/jpeg"/>
  <Override PartName="/ppt/media/image41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D81B-FE03-4B6A-96CD-B1393BFC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01D8-163A-4FD1-862F-1AFA3107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D562-67B9-4E23-96F4-FBD3F2DB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0EB2-C716-4128-BB25-E501D581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CD3-A5A0-40F0-8DF7-031F40C4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D7B0-B251-47F7-9FE3-6A199FB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7C4D-8FF5-4728-8077-1217BAFB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436C-D1BC-4472-8757-738EFAC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248-D6D5-4100-AB06-F2431C7A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5F0D-3509-47D4-B6F7-6082219A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7197-8932-433B-9AC6-EDBE352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5EA9-1E31-47B0-A754-D551863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0857-53C4-4A93-AAB6-3CB25FD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1AB-3EDF-476B-AC9C-9FC3493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7EB8-D4EB-4639-A6DC-BA28171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86F6-51E3-435D-86EA-9318047F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21B3-0E98-4370-8EC6-DABF4DB9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E9D4-B625-44BD-96E6-48A3A4D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4A1F-E640-41F4-94B5-E72A5DB8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50D5-8DEB-4AED-B409-AC5305A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04E8-469B-4F73-AA69-34C45B7A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BF99-05DA-4ECB-972A-BA14D66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6FE9-844F-4E10-A25E-06E277E4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294B-C367-4AFA-9324-06FA458D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9CE-960B-4E88-9E84-C503DF7A6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2B56-FD07-434D-B76A-046D2E2E7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image" Target="../media/image17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10.jpeg"/><Relationship Id="rId4" Type="http://schemas.openxmlformats.org/officeDocument/2006/relationships/image" Target="../media/image19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allpage.ru/imgmig66/wallpapers_24544.jpg" TargetMode="External"/><Relationship Id="rId2" Type="http://schemas.openxmlformats.org/officeDocument/2006/relationships/hyperlink" Target="http://www.wallpage.ru/imgmig66/wallpapers_24544.jpg" TargetMode="External"/><Relationship Id="rId3" Type="http://schemas.openxmlformats.org/officeDocument/2006/relationships/hyperlink" Target="http://images.yandex.ru/yandsearch?text" TargetMode="External"/><Relationship Id="rId4" Type="http://schemas.openxmlformats.org/officeDocument/2006/relationships/hyperlink" Target="http://images.yandex.ru/yandsearch?text" TargetMode="Externa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763640" y="4221000"/>
            <a:ext cx="66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Урок биологии  8 класс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68360" y="242100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щные живот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4834800"/>
            <a:ext cx="6335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втор: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оробьева Н.П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– учитель биологии  МБСКОУ  СКОШИ-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III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вида   г.Лысьва, Пермский кр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Каких зверей называют хищными звер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лекопитающие , которые полностью или частично питаются другими млекопитающими и птицами 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ыми звер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хищные звери показа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79640" y="1827360"/>
            <a:ext cx="59054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зовите хищных звер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1779480"/>
            <a:ext cx="1800000" cy="1749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232360" cy="171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0" t="0" r="2704" b="8051"/>
          <a:stretch/>
        </p:blipFill>
        <p:spPr>
          <a:xfrm>
            <a:off x="250920" y="436572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2195640" cy="1646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73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623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3573360"/>
            <a:ext cx="13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6165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788000" y="4446720"/>
            <a:ext cx="2087640" cy="1792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92720" y="61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020000" y="4508640"/>
            <a:ext cx="1993680" cy="174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16720" y="6165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340000" y="4437000"/>
            <a:ext cx="22590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Места обит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го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аван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жунгля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80360" y="1989000"/>
            <a:ext cx="148896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6709" t="0" r="9727" b="7112"/>
          <a:stretch/>
        </p:blipFill>
        <p:spPr>
          <a:xfrm>
            <a:off x="5219640" y="2924280"/>
            <a:ext cx="180036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236000" y="3573360"/>
            <a:ext cx="1692000" cy="1268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508720" y="1484280"/>
            <a:ext cx="1296720" cy="126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948360" y="5300640"/>
            <a:ext cx="1656000" cy="127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0" t="0" r="2704" b="8051"/>
          <a:stretch/>
        </p:blipFill>
        <p:spPr>
          <a:xfrm>
            <a:off x="5435640" y="4365720"/>
            <a:ext cx="1326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6.38446E-007 L -0.33073 0.01318 E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1321E-007 L -0.32083 -0.3021 E">
                                      <p:cBhvr>
                                        <p:cTn id="19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32547E-006 L 0.15747 -0.44066 E">
                                      <p:cBhvr>
                                        <p:cTn id="20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3974E-006 L -0.46736 0.11496 E">
                                      <p:cBhvr>
                                        <p:cTn id="20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7078 L -0.20868 0.18621 E">
                                      <p:cBhvr>
                                        <p:cTn id="2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08906E-008 L -0.42118 0.03331 E">
                                      <p:cBhvr>
                                        <p:cTn id="21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щ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а  пит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ки ед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вы, тигры, барсы  напад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1628640"/>
            <a:ext cx="39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1557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цами, ежами,  мышами, у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27082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нов, оленей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их 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43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рупных животных:  зебры, антилопы, буйвол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Способы  добыч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следование доб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терегают и напад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9155" b="10262"/>
          <a:stretch/>
        </p:blipFill>
        <p:spPr>
          <a:xfrm flipH="1" rot="39600">
            <a:off x="6371640" y="1266120"/>
            <a:ext cx="1584360" cy="149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87640" cy="139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2159280" cy="1441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308720" y="5300640"/>
            <a:ext cx="1632240" cy="1427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211640" y="5373720"/>
            <a:ext cx="19591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96623E-007 L -0.42518 -0.34629 E">
                                      <p:cBhvr>
                                        <p:cTn id="24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-0.32552 -0.53426 E">
                                      <p:cBhvr>
                                        <p:cTn id="25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10116 L -0.63785 0.53125 E">
                                      <p:cBhvr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8526E-006 L -0.45278 0.31853 E">
                                      <p:cBhvr>
                                        <p:cTn id="26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71663E-006 L 0.18108 -0.07356 E">
                                      <p:cBhvr>
                                        <p:cTn id="265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Сравни  зубы грызунов и хищных звер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951280" cy="2220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12000" y="2133720"/>
            <a:ext cx="2447640" cy="1820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2771280" y="2421000"/>
            <a:ext cx="1295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2349360"/>
            <a:ext cx="100800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рез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л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626920" y="3213000"/>
            <a:ext cx="15130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35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хищные з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339640" y="342864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364000" y="3499920"/>
            <a:ext cx="17290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51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У грызунов  нет клыков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34136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48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Дополни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органам  пищеварения  относя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 дыхания обеспечива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органам  кровообращения относятся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хищников хорошо разв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удок,  печень,  кишечник  (коротк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852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ие кислородом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005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4-х кам. и кровеносные сосу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5157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рение, слух, обон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 животн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ы ли хищные  животные 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ита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бивают только больных животных и сохраняют оста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ничтожают   вредителей полей (мы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уры и мех использует челов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Место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нешний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пособы добычи пи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начение для природы и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51640" y="4148280"/>
            <a:ext cx="32065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Какие  животные  называются  млекопитающ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, которые выкармливают своих детенышей молоком, называют млекопитающи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Какие группы млекопитающих уже изучил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ызуны и зайцеобразные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87640" y="98100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333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Во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5733" b="8225"/>
          <a:stretch/>
        </p:blipFill>
        <p:spPr>
          <a:xfrm>
            <a:off x="5076720" y="907920"/>
            <a:ext cx="3672000" cy="238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651640" y="4076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059280" y="2781360"/>
            <a:ext cx="2663640" cy="1996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95280" y="76500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26686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Во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6407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ут всегда стаей 6-8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ая черта волчьего характера – «дружелюби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взрослого волка от кончика носа до хвоста -  2 метра.   Весят они  43-45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уют запах за 1,5 км. Выносли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егают за день 65-80 км со скоростью 55-6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ъедают  в один  присест до 6 кг мяса, остальное  прячут  про за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22669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ь себ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олков называют санитарами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ются во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волки выходят на ох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имеют волки в природе и в жизни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Медвед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900000" y="4257720"/>
            <a:ext cx="3167280" cy="237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2590560" cy="2127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24000" y="3716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371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гриз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736720" cy="231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3240000" cy="2352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2901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Бурый медвед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ит  от 90 до 35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ороткой дистанции , может обогнать скаковую лош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январе-феврале медведица  приносит 2-4 медвежат  весом 400 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ются: кореньями, ягодами, ,орехами, желудями,  лягушками, яйцами птиц, мышами, рыбой, крупных диких,  домашний скот, дикий мед. Всея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едведи добывают себе пищ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медведи  проводят зи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39236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Тигры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6012000" y="981000"/>
            <a:ext cx="2690640" cy="1968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1928880" cy="257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348000" y="2060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3419640" y="4508640"/>
            <a:ext cx="3025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игает в длину  3,5 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 300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одный  тигр ест все: оленей, быков, корову, буйволов, рыси, волков, рыбу, саранчу, змеи,  лягушек, мышей. Обитают ближе к водоему, хорошо плавают Тигры охотятся вечером .Одним ударом лапы убивают  лош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гр - охотник-одиночка. Метит свою территорию. Живут около 20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64360" y="333360"/>
            <a:ext cx="2879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7d"/>
                </a:solidFill>
                <a:latin typeface="Arial"/>
              </a:rPr>
              <a:t>Рыс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830760" cy="255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881080" cy="2041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508720" y="907920"/>
            <a:ext cx="3335400" cy="2648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627280" y="2205000"/>
            <a:ext cx="29527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Рыс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а рыси не больше 1 метра, вес-18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точки- своеобразная антенна для живот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хотится ранним утром  и на исходе дня на помеченной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ывает пищу  погоней за зайцами, оле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плавают, лазают по деревь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9155" b="10262"/>
          <a:stretch/>
        </p:blipFill>
        <p:spPr>
          <a:xfrm>
            <a:off x="611280" y="4437000"/>
            <a:ext cx="2376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зовите, лишнее животное  в каждом ряду. Почему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7280" y="4797360"/>
            <a:ext cx="2209680" cy="150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1584360" cy="122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1944720" cy="1647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20000" y="2781360"/>
            <a:ext cx="1944720" cy="131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916360" y="2492280"/>
            <a:ext cx="144144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158436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003640" y="4797360"/>
            <a:ext cx="172908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6463E-006 L 0.00399 0.31321 E">
                                      <p:cBhvr>
                                        <p:cTn id="2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885E-006 L 0.19687 -0.30488 E">
                                      <p:cBhvr>
                                        <p:cTn id="2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ется ры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ю имеет рысь для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8149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7d"/>
                </a:solidFill>
                <a:latin typeface="Arial"/>
              </a:rPr>
              <a:t>Львы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58920" cy="1952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57800" cy="240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598840" cy="2598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50920" y="4221000"/>
            <a:ext cx="3700440" cy="2362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635280" y="256536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Лев на ох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8360" y="1311120"/>
            <a:ext cx="3097080" cy="2476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932360" y="4129200"/>
            <a:ext cx="388764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301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ва  царем з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 длиной до 3 метров и весит 180-220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 обладает огромной физической мощью. Од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ром лапы он валит с ног зеб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  прыгает. В высоту прыгает до 3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еремахнуть через ущелье шириной в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.   Львы живут группам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йдами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ак,несколько львиц с детенышами.)численностью от 4-5 членов до 30-40  шт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хоту  выходят са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ятся на зебр, антилоп, буйволов. Состарившихся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х львов прайд не защищает, а изгоняют. Одряхлевший лев тощий и слабый часто становится добычей ги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Ль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живут львы  (одиночки, прайдам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охотится лев или льв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ъедает лев за один 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львов для человек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34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80000" cy="2278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384360" cy="2708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27280" y="3068640"/>
            <a:ext cx="3456000" cy="2155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867280" y="4292640"/>
            <a:ext cx="2924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пард в переводе  означает «собака-ко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тает в Африке,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ура пятнистая,  морда как у кота, с черными слезными поло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пард не ревет как тигр, а тявкает как соб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ен бежать со скоростью 120 км/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ник-одиночка. Охотится на антилоп. Всегда сбивает жертву одним прыжком и убивает ее, прокусив гор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ест падаль.  Никогда не нападает на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дится на грани вымир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Проверь себ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хотятся гепар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питаются гепард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гепарды  на грани вымирани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3357360" cy="2238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нежный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ится в горах на высоте 3-4 к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ивое и сильное животное. Напоминает небольшого тигра.  Мех не полосатый, а пятнистый  черные пятна на серебристо-белом  фоне.. Барс не очень большой зверь длина его тела 1, 5 метров, а вес как у собаки 30-39 кг . Короткие ноги и длинным очень пушистым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хотится на горных козлов . Барс подстерегает их на узких горных троп  Иногда  месяцами следует за одним стадом по пятам.  Иногда обходится  зайцами, ловит сурка или пт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любит охотиться на барсов.  Были случаи, когда охотники погибали, срываясь с высоты. Однажды барс убил охотника , столкнув на него камень. За последние 20 лет численность снежного барса заметно сниз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02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Назовите  черты, характерные для кроли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Рождаются голыми и слеп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Рождаются зрячими и с шер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оют  глубокие н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Не  роют  н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Питаются расти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Ухаживают за детены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е ухаживают за детеныш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3, 5,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366920" cy="102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5402160"/>
            <a:ext cx="1368360" cy="1027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6381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йчоно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63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оль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й ит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по вашему был лучшим экскурсово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й рассказ больше понрав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бщие черты хищнико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итаются другими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Хищники  имеют кл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иносят пользу при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гадай живо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хож на темно-серую овчарку, охотятся стаями , обычно  ночью.  Убивают  домашних животных (овец, коз кур, нападает на собак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пный сильный  зверь Он нападает на крупных диких и домашних животных. Может убить корову , оленя, кабана и  любит  ягоды, лягушек,  яйца пти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битает в лесах юга Дальнего Востока и в джунглях    Азии.  Ведет одиночных образ жизни. Очень прожорлив. Может  за раз съесть   небольшого оленя .Пью очень много воды .Хорошо плав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17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35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600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о  короткое, плотное, мускулистое.  Шерсть серая с небольшими пят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ушных раковинах кисточки. Питаются лисами, зай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тают в саваннах Африки. Самка очень сильно отличается от  самца. Живут  небольшими  стаями.   На охоту  ходит  самка .  Самец защищает территорию . Охотятся на буйволов, антилоп. На водопой ходят по одно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59640" y="623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 рассказ о  любом животном 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ть материал и ответи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каких животных  шел разговор  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узнал дл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www.wallpage.ru/imgmig66/wallpapers_2454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p://images.yandex.ru/yandsearch?text=%20%D0%B3%D0%B5%D0%BF%D0%B0%D1%80%D0%B4%20%D0%BA%D0%B0%D1%80%D1%82%D0%B8%D0%BD%D0%BA%D0%B8&amp;img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3860640"/>
            <a:ext cx="728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http://images.yandex.ru/yandsearch?text=%D1%80%D1%8B%D1%81%D1%8C%20%20%D0%BA%D0%B0%D1%80%D1%82%D0%B8%D0%BD%D0%BA%D0%B8&amp;img_url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4653000"/>
            <a:ext cx="71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http://images.yandex.ru/yandsearch?text=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2133720"/>
            <a:ext cx="769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.http://images.yandex.ru/yandsearch?text=%20%D0%B3%D0%B5%D0%BF%D0%B0%D1%80%D0%B4%20%D0%BA%D0%B0%D1%80%D1%82%D0%B8%D0%BD%D0%BA%D0%B8&amp;img_url=www.wallon.ru%2F_ph%2F10%2F2%2F96231062.jpg&amp;pos=29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3141720"/>
            <a:ext cx="85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.http://images.yandex.ru/yandsearch?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34290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http://images.yandex.ru/yandsearch?text=%20%D1%81%D0%BD%D0%B5%D0%B6%D0%BD%D1%8B%D0%B9%20%D0%B1%D0%B0%D1%80%D1%81%20%20%D0%BA%D0%B0%D1%80%D1%82%D0%B8%D0%BD%D0%BA%D0%B8&amp;img_url=s017.radikal.ru%2Fi431%2F1111%2F26%2Fa7eef89e4e65.jpg&amp;pos=33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Найдите   названия  животны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989000"/>
          <a:ext cx="8435880" cy="3235320"/>
        </p:xfrm>
        <a:graphic>
          <a:graphicData uri="http://schemas.openxmlformats.org/drawingml/2006/table">
            <a:tbl>
              <a:tblPr/>
              <a:tblGrid>
                <a:gridCol w="649080"/>
                <a:gridCol w="563760"/>
                <a:gridCol w="803160"/>
                <a:gridCol w="803160"/>
                <a:gridCol w="801720"/>
                <a:gridCol w="803520"/>
                <a:gridCol w="801720"/>
                <a:gridCol w="804600"/>
                <a:gridCol w="801720"/>
                <a:gridCol w="801720"/>
                <a:gridCol w="8017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50920" y="5445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ь, кролик, рысь, бобр, лев, суслик, тигр, волк, заяц, 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черкнуть одной чертой грызунов, 2 чертами зайцеобразных, волнистой хищник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Мышь, суслик, белка, бобр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Заяц, кролик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Лев, тигр, волк, </a:t>
            </a:r>
            <a:r>
              <a:rPr b="0" i="1" lang="en-US" sz="3200" spc="-1" strike="noStrike">
                <a:solidFill>
                  <a:srgbClr val="6600ff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цеоб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ищ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39640" y="350028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Хищные 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ить знания о хищных зве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знания о хищни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ить 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063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а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а и способы доб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зуб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животных для природы и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 о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92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наете  вы о признаках хищников,      об особенностях  строения?                     Значении этих животных для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22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8:56:58Z</dcterms:created>
  <dc:creator>SamLab.ws</dc:creator>
  <dc:description/>
  <dc:language>en-US</dc:language>
  <cp:lastModifiedBy>КарМаН</cp:lastModifiedBy>
  <dcterms:modified xsi:type="dcterms:W3CDTF">2012-04-26T08:00:40Z</dcterms:modified>
  <cp:revision>26</cp:revision>
  <dc:subject/>
  <dc:title>Слайд 1</dc:title>
</cp:coreProperties>
</file>