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25.jpeg" ContentType="image/jpeg"/>
  <Override PartName="/ppt/media/image32.png" ContentType="image/png"/>
  <Override PartName="/ppt/media/image37.jpeg" ContentType="image/jpeg"/>
  <Override PartName="/ppt/media/image67.png" ContentType="image/png"/>
  <Override PartName="/ppt/media/image60.jpeg" ContentType="image/jpeg"/>
  <Override PartName="/ppt/media/image9.jpeg" ContentType="image/jpeg"/>
  <Override PartName="/ppt/media/image24.jpeg" ContentType="image/jpeg"/>
  <Override PartName="/ppt/media/image66.jpeg" ContentType="image/jpeg"/>
  <Override PartName="/ppt/media/image59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47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68.jpeg" ContentType="image/jpeg"/>
  <Override PartName="/ppt/media/image22.jpeg" ContentType="image/jpeg"/>
  <Override PartName="/ppt/media/image19.jpeg" ContentType="image/jpeg"/>
  <Override PartName="/ppt/media/image42.jpeg" ContentType="image/jpeg"/>
  <Override PartName="/ppt/media/image63.jpeg" ContentType="image/jpeg"/>
  <Override PartName="/ppt/media/image6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6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61.jpeg" ContentType="image/jpeg"/>
  <Override PartName="/ppt/media/image4.jpeg" ContentType="image/jpeg"/>
  <Override PartName="/ppt/media/image17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png" ContentType="image/png"/>
  <Override PartName="/ppt/media/image43.jpeg" ContentType="image/jpeg"/>
  <Override PartName="/ppt/media/image3.jpeg" ContentType="image/jpeg"/>
  <Override PartName="/ppt/media/image41.png" ContentType="image/pn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A7253-A878-4FCD-B9D8-191D5C09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AB472-C1E1-4396-9C3D-492105FF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B54CA-585A-491E-8FFA-976EEDEB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B716B-4A0D-4C4A-9DD2-FB7166B9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9CE6-275F-4392-A2E1-1817868C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571C-948D-40DF-9978-3A8F0BD0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C2AF-E0E7-40E1-844A-0D1A2A42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F129-F899-4286-97FC-50B99ABA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2F07-DFFB-4A5E-B658-E89940BC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C811-4194-4074-9CB5-EF29D9E7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839A-00DD-469E-AB41-9E8F0E3E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DB84C-0C55-4A74-9505-16712F0A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51FA-4F03-43F5-BBB3-785FDEC5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BA7B-B2F7-4E71-BF49-5B4C62FC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A975-796D-4DA4-B5D6-DADD3465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9129-31BE-49E3-B598-E5E615DD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AAFE-A3CE-4701-A7D6-131B5ADA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F2C02-CE43-4E92-A930-41E80ADA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69F7C-FAFC-4937-BBC3-EA5D91B5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7F498-96BF-4032-94D9-68BDEC49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CF043-6D70-4844-90F9-D01DC1AF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D28A3-94B5-420D-BB6B-41EB6B09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C2503-F727-4C91-BAFB-9F76664A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F5725-A8F2-4124-8831-923F69C1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5073-42AE-4326-9472-B842DE3573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3267-6C39-4B29-90B8-8100C92A92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image" Target="../media/image17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jpeg"/><Relationship Id="rId3" Type="http://schemas.openxmlformats.org/officeDocument/2006/relationships/image" Target="../media/image10.jpeg"/><Relationship Id="rId4" Type="http://schemas.openxmlformats.org/officeDocument/2006/relationships/image" Target="../media/image19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wallpage.ru/imgmig66/wallpapers_24544.jpg" TargetMode="External"/><Relationship Id="rId2" Type="http://schemas.openxmlformats.org/officeDocument/2006/relationships/hyperlink" Target="http://www.wallpage.ru/imgmig66/wallpapers_24544.jpg" TargetMode="External"/><Relationship Id="rId3" Type="http://schemas.openxmlformats.org/officeDocument/2006/relationships/hyperlink" Target="http://images.yandex.ru/yandsearch?text" TargetMode="External"/><Relationship Id="rId4" Type="http://schemas.openxmlformats.org/officeDocument/2006/relationships/hyperlink" Target="http://images.yandex.ru/yandsearch?text" TargetMode="External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763640" y="4221000"/>
            <a:ext cx="6696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Урок биологии  8 класс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68360" y="2421000"/>
            <a:ext cx="5904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Хищные животны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56000" y="4834800"/>
            <a:ext cx="6335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Автор: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Воробьева Н.П.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– учитель биологии  МБСКОУ  СКОШИ-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VIII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вида   г.Лысьва, Пермский кра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Каких зверей называют хищными зверя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лекопитающие , которые полностью или частично питаются другими млекопитающими и птицами , называютс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ищными звер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хищные звери показан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79640" y="1827360"/>
            <a:ext cx="590544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8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Назовите хищных звер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56000" y="1779480"/>
            <a:ext cx="1800000" cy="1749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2232360" cy="1719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rcRect l="0" t="0" r="2704" b="8051"/>
          <a:stretch/>
        </p:blipFill>
        <p:spPr>
          <a:xfrm>
            <a:off x="250920" y="4365720"/>
            <a:ext cx="1825560" cy="1944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7093080" y="1341360"/>
            <a:ext cx="1860480" cy="223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179280" y="1844640"/>
            <a:ext cx="2195640" cy="1646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0920" y="3573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3573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573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г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6237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80360" y="3573360"/>
            <a:ext cx="13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00360" y="616572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пар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4788000" y="4446720"/>
            <a:ext cx="2087640" cy="1792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292720" y="6165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7020000" y="4508640"/>
            <a:ext cx="1993680" cy="1744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416720" y="61657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2340000" y="4437000"/>
            <a:ext cx="225900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Места обит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л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го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аван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джунглях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380360" y="1989000"/>
            <a:ext cx="1488960" cy="1301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6709" t="0" r="9727" b="7112"/>
          <a:stretch/>
        </p:blipFill>
        <p:spPr>
          <a:xfrm>
            <a:off x="5219640" y="2924280"/>
            <a:ext cx="1800360" cy="1333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236000" y="3573360"/>
            <a:ext cx="1692000" cy="1268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508720" y="1484280"/>
            <a:ext cx="1296720" cy="126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6948360" y="5300640"/>
            <a:ext cx="1656000" cy="1274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rcRect l="0" t="0" r="2704" b="8051"/>
          <a:stretch/>
        </p:blipFill>
        <p:spPr>
          <a:xfrm>
            <a:off x="5435640" y="4365720"/>
            <a:ext cx="132696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6.38446E-007 L -0.33073 0.01318 E">
                                      <p:cBhvr>
                                        <p:cTn id="194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31321E-007 L -0.32083 -0.3021 E">
                                      <p:cBhvr>
                                        <p:cTn id="198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32547E-006 L 0.15747 -0.44066 E">
                                      <p:cBhvr>
                                        <p:cTn id="20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43974E-006 L -0.46736 0.11496 E">
                                      <p:cBhvr>
                                        <p:cTn id="206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7078 L -0.20868 0.18621 E">
                                      <p:cBhvr>
                                        <p:cTn id="21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5.08906E-008 L -0.42118 0.03331 E">
                                      <p:cBhvr>
                                        <p:cTn id="214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щ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3588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са  пита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лки едя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ьвы, тигры, барсы  напад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1628640"/>
            <a:ext cx="396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155736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йцами, ежами,  мышами, ут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270828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банов, оленей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машних 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4437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крупных животных:  зебры, антилопы, буйвол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Способы  добыч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следование добы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стерегают и нападаю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9155" b="10262"/>
          <a:stretch/>
        </p:blipFill>
        <p:spPr>
          <a:xfrm flipH="1" rot="39600">
            <a:off x="6371640" y="1266120"/>
            <a:ext cx="1584360" cy="1495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877080" y="2708280"/>
            <a:ext cx="2087640" cy="1392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2159280" cy="1441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7308720" y="5300640"/>
            <a:ext cx="1632240" cy="1427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4211640" y="5373720"/>
            <a:ext cx="195912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1.96623E-007 L -0.42518 -0.34629 E">
                                      <p:cBhvr>
                                        <p:cTn id="249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85185E-006 L -0.32552 -0.53426 E">
                                      <p:cBhvr>
                                        <p:cTn id="253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10116 L -0.63785 0.53125 E">
                                      <p:cBhvr>
                                        <p:cTn id="257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88526E-006 L -0.45278 0.31853 E">
                                      <p:cBhvr>
                                        <p:cTn id="261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71663E-006 L 0.18108 -0.07356 E">
                                      <p:cBhvr>
                                        <p:cTn id="265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Сравни  зубы грызунов и хищных звер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2951280" cy="2220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12000" y="2133720"/>
            <a:ext cx="2447640" cy="1820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flipH="1">
            <a:off x="2771280" y="2421000"/>
            <a:ext cx="129564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6720" y="2349360"/>
            <a:ext cx="100800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5640" y="1989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рез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7280" y="2924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клы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626920" y="3213000"/>
            <a:ext cx="1513080" cy="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24360" y="357336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хищные зу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339640" y="3428640"/>
            <a:ext cx="158436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364000" y="3499920"/>
            <a:ext cx="172908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51577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У грызунов  нет клыков</a:t>
            </a: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134136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ищ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12000" y="1484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ызу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Дополни предло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органам  пищеварения  относят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ы дыхания обеспечиваю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органам  кровообращения относятся 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хищников хорошо разв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4360" y="1628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елудок,  печень,  кишечник  (коротки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85264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гкие кислородом орган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360" y="4005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дце 4-х кам. и кровеносные сосу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51577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рение, слух, обон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91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чение животны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жны ли хищные  животные  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нита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бивают только больных животных и сохраняют оста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ничтожают   вредителей полей (мыш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куры и мех использует челов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Пла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Место об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Внешний 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Способы добычи пи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Значение для природы и челове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651640" y="4148280"/>
            <a:ext cx="320652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Какие  животные  называются  млекопитающи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отные, которые выкармливают своих детенышей молоком, называют млекопитающи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Какие группы млекопитающих уже изучил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ызуны и зайцеобразные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987640" y="98100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33336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Во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5733" b="8225"/>
          <a:stretch/>
        </p:blipFill>
        <p:spPr>
          <a:xfrm>
            <a:off x="5076720" y="907920"/>
            <a:ext cx="3672000" cy="2384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651640" y="407664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3059280" y="2781360"/>
            <a:ext cx="2663640" cy="1996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95280" y="76500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395280" y="4581360"/>
            <a:ext cx="266868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Во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64072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ут всегда стаей 6-8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вная черта волчьего характера – «дружелюбие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ина взрослого волка от кончика носа до хвоста -  2 метра.   Весят они  43-45 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увствуют запах за 1,5 км. Выносли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бегают за день 65-80 км со скоростью 55-60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ъедают  в один  присест до 6 кг мяса, остальное  прячут  про зап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732720" y="115920"/>
            <a:ext cx="2303280" cy="1685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732720" y="5229360"/>
            <a:ext cx="226692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Проверь себ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волков называют санитарами ле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 питаются вол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гда волки выходят на охо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е значение имеют волки в природе и в жизни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796000" y="4508640"/>
            <a:ext cx="28083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Медведи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900000" y="4257720"/>
            <a:ext cx="3167280" cy="2376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276720" y="1557360"/>
            <a:ext cx="2590560" cy="21272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24000" y="3716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бурый медв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64000" y="3716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гриз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2736720" cy="231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435640" y="4221000"/>
            <a:ext cx="3240000" cy="23529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6012000" y="1557360"/>
            <a:ext cx="29019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Бурый медвед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ит  от 90 до 350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короткой дистанции , может обогнать скаковую лош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январе-феврале медведица  приносит 2-4 медвежат  весом 400 г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ются: кореньями, ягодами, ,орехами, желудями,  лягушками, яйцами птиц, мышами, рыбой, крупных диких,  домашний скот, дикий мед. Всеяд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516720" y="11592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Проверь себ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медведи добывают себе пищ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медведи  проводят зи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00720" y="3500280"/>
            <a:ext cx="439236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Тигры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6012000" y="981000"/>
            <a:ext cx="2690640" cy="1968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804000" y="4076640"/>
            <a:ext cx="1928880" cy="2575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179280" y="429264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3348000" y="206064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3419640" y="4508640"/>
            <a:ext cx="30254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Тиг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стигает в длину  3,5 ме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ит 300 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лодный  тигр ест все: оленей, быков, корову, буйволов, рыси, волков, рыбу, саранчу, змеи,  лягушек, мышей. Обитают ближе к водоему, хорошо плавают Тигры охотятся вечером .Одним ударом лапы убивают  лоша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гр - охотник-одиночка. Метит свою территорию. Живут около 20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264360" y="333360"/>
            <a:ext cx="287964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Рыс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9280" y="414972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932360" y="4076640"/>
            <a:ext cx="3830760" cy="2554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2881080" cy="20415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5508720" y="907920"/>
            <a:ext cx="3335400" cy="2648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2627280" y="2205000"/>
            <a:ext cx="295272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                      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Рыс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ина рыси не больше 1 метра, вес-18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точки- своеобразная антенна для животно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хотится ранним утром  и на исходе дня на помеченной терри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ывает пищу  погоней за зайцами, олен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рошо плавают, лазают по деревь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0" t="0" r="9155" b="10262"/>
          <a:stretch/>
        </p:blipFill>
        <p:spPr>
          <a:xfrm>
            <a:off x="611280" y="4437000"/>
            <a:ext cx="237636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2296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Назовите, лишнее животное  в каждом ряду. Почему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27280" y="4797360"/>
            <a:ext cx="2209680" cy="150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1584360" cy="1220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43280" y="2565360"/>
            <a:ext cx="1944720" cy="1647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7020000" y="2781360"/>
            <a:ext cx="1944720" cy="1317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916360" y="2492280"/>
            <a:ext cx="1441440" cy="18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755640" y="4797360"/>
            <a:ext cx="1584360" cy="1527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5003640" y="4797360"/>
            <a:ext cx="1729080" cy="1447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4437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6463E-006 L 0.00399 0.31321 E">
                                      <p:cBhvr>
                                        <p:cTn id="2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8885E-006 L 0.19687 -0.30488 E">
                                      <p:cBhvr>
                                        <p:cTn id="24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Проверь себ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 питается ры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е значению имеет рысь для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8149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Львы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796000" y="692280"/>
            <a:ext cx="3058920" cy="1952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3457800" cy="24098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227640" y="3933720"/>
            <a:ext cx="2598840" cy="25988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250920" y="4221000"/>
            <a:ext cx="3700440" cy="23623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3635280" y="2565360"/>
            <a:ext cx="3097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Лев на охот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68360" y="1311120"/>
            <a:ext cx="3097080" cy="24768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4643280" y="1413000"/>
            <a:ext cx="4032360" cy="2439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4932360" y="4129200"/>
            <a:ext cx="388764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3012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ьва  царем звер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в  длиной до 3 метров и весит 180-220 к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в обладает огромной физической мощью. Од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ром лапы он валит с ног зеб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восходно  прыгает. В высоту прыгает до 3 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перемахнуть через ущелье шириной в 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.   Львы живут группами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йдами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е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жак,несколько львиц с детенышами.)численностью от 4-5 членов до 30-40  шт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хоту  выходят сам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отятся на зебр, антилоп, буйволов. Состарившихся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х львов прайд не защищает, а изгоняют. Одряхлевший лев тощий и слабый часто становится добычей ги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Ль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живут львы  (одиночки, прайдами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охотится лев или льв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съедает лев за один 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ение львов для человек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40000" y="259920"/>
            <a:ext cx="634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па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780000" cy="2278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435640" y="1197000"/>
            <a:ext cx="3384360" cy="2708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627280" y="3068640"/>
            <a:ext cx="3456000" cy="2155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250920" y="450864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5867280" y="4292640"/>
            <a:ext cx="29242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епа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пард в переводе  означает «собака-ко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итает в Африке, Ин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кура пятнистая,  морда как у кота, с черными слезными полос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пард не ревет как тигр, а тявкает как соба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ен бежать со скоростью 120 км/ч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хотник-одиночка. Охотится на антилоп. Всегда сбивает жертву одним прыжком и убивает ее, прокусив гор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ест падаль.  Никогда не нападает на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ходится на грани вымир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Проверь себ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охотятся гепар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 питаются гепарды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гепарды  на грани вымирания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р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84720" y="4437000"/>
            <a:ext cx="2880000" cy="2158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3456000" cy="23036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3357360" cy="22384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нежный ба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ится в горах на высоте 3-4 к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сивое и сильное животное. Напоминает небольшого тигра.  Мех не полосатый, а пятнистый  черные пятна на серебристо-белом  фоне.. Барс не очень большой зверь длина его тела 1, 5 метров, а вес как у собаки 30-39 кг . Короткие ноги и длинным очень пушистым хво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хотится на горных козлов . Барс подстерегает их на узких горных троп  Иногда  месяцами следует за одним стадом по пятам.  Иногда обходится  зайцами, ловит сурка или пт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 любит охотиться на барсов.  Были случаи, когда охотники погибали, срываясь с высоты. Однажды барс убил охотника , столкнув на него камень. За последние 20 лет численность снежного барса заметно снизи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024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Назовите  черты, характерные для кролик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Рождаются голыми и слеп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Рождаются зрячими и с шер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Роют  глубокие н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Не  роют  н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Питаются раститель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Ухаживают за детеныш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Не ухаживают за детеныш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55897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 3, 5,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164360" y="5300640"/>
            <a:ext cx="1366920" cy="1025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16360" y="5402160"/>
            <a:ext cx="1368360" cy="1027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0" y="63817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йчоно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6308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рольч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щий ито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по вашему был лучшим экскурсово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й рассказ больше понравил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общие черты хищников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Питаются другими живот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Хищники  имеют кл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Приносят пользу прир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гадай животн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2960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хож на темно-серую овчарку, охотятся стаями , обычно  ночью.  Убивают  домашних животных (овец, коз кур, нападает на собак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упный сильный  зверь Он нападает на крупных диких и домашних животных. Может убить корову , оленя, кабана и  любит  ягоды, лягушек,  яйца пти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Обитает в лесах юга Дальнего Востока и в джунглях    Азии.  Ведет одиночных образ жизни. Очень прожорлив. Может  за раз съесть   небольшого оленя .Пью очень много воды .Хорошо плаваю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20000" y="1773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л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96000" y="3500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рый медв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96000" y="609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г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ло  короткое, плотное, мускулистое.  Шерсть серая с небольшими пят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ушных раковинах кисточки. Питаются лисами, зайц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итают в саваннах Африки. Самка очень сильно отличается от  самца. Живут  небольшими  стаями.   На охоту  ходит  самка .  Самец защищает территорию . Охотятся на буйволов, антилоп. На водопой ходят по одном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588000" y="2708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ы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659640" y="6237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ить рассказ о  любом животном  по пла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читать материал и ответить на вопро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каких животных  шел разговор  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ового узнал для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://www.wallpage.ru/imgmig66/wallpapers_2454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p://images.yandex.ru/yandsearch?text=%20%D0%B3%D0%B5%D0%BF%D0%B0%D1%80%D0%B4%20%D0%BA%D0%B0%D1%80%D1%82%D0%B8%D0%BD%D0%BA%D0%B8&amp;img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5280" y="3860640"/>
            <a:ext cx="728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http://images.yandex.ru/yandsearch?text=%D1%80%D1%8B%D1%81%D1%8C%20%20%D0%BA%D0%B0%D1%80%D1%82%D0%B8%D0%BD%D0%BA%D0%B8&amp;img_url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4000" y="4653000"/>
            <a:ext cx="71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http://images.yandex.ru/yandsearch?text=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5280" y="2133720"/>
            <a:ext cx="7696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9.http://images.yandex.ru/yandsearch?text=%20%D0%B3%D0%B5%D0%BF%D0%B0%D1%80%D0%B4%20%D0%BA%D0%B0%D1%80%D1%82%D0%B8%D0%BD%D0%BA%D0%B8&amp;img_url=www.wallon.ru%2F_ph%2F10%2F2%2F96231062.jpg&amp;pos=29&amp;rpt=s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5280" y="3141720"/>
            <a:ext cx="85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.http://images.yandex.ru/yandsearch?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342900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.http://images.yandex.ru/yandsearch?text=%20%D1%81%D0%BD%D0%B5%D0%B6%D0%BD%D1%8B%D0%B9%20%D0%B1%D0%B0%D1%80%D1%81%20%20%D0%BA%D0%B0%D1%80%D1%82%D0%B8%D0%BD%D0%BA%D0%B8&amp;img_url=s017.radikal.ru%2Fi431%2F1111%2F26%2Fa7eef89e4e65.jpg&amp;pos=33&amp;rpt=s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Найдите   названия  животных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0920" y="1989000"/>
          <a:ext cx="8435880" cy="3235320"/>
        </p:xfrm>
        <a:graphic>
          <a:graphicData uri="http://schemas.openxmlformats.org/drawingml/2006/table">
            <a:tbl>
              <a:tblPr/>
              <a:tblGrid>
                <a:gridCol w="649080"/>
                <a:gridCol w="563760"/>
                <a:gridCol w="803160"/>
                <a:gridCol w="803160"/>
                <a:gridCol w="801720"/>
                <a:gridCol w="803520"/>
                <a:gridCol w="801720"/>
                <a:gridCol w="804600"/>
                <a:gridCol w="801720"/>
                <a:gridCol w="801720"/>
                <a:gridCol w="80172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50920" y="544500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шь, кролик, рысь, бобр, лев, суслик, тигр, волк, заяц,  б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черкнуть одной чертой грызунов, 2 чертами зайцеобразных, волнистой хищников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41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Мышь, суслик, белка, бобр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Заяц, кролик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Лев, тигр, волк, </a:t>
            </a:r>
            <a:r>
              <a:rPr b="0" i="1" lang="en-US" sz="3200" spc="-1" strike="noStrike">
                <a:solidFill>
                  <a:srgbClr val="6600ff"/>
                </a:solidFill>
                <a:latin typeface="Arial"/>
              </a:rPr>
              <a:t>ры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1916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ызу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5653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йцеоб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213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ищ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539640" y="3500280"/>
            <a:ext cx="76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Хищные живот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ширить знания о хищных звер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ить знания о хищник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епить 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29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ста об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ща и способы добы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оение зуб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чение животных для природы и 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каз о живо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69228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знаете  вы о признаках хищников,      об особенностях  строения?                     Значении этих животных для челове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87640" y="2276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8:56:58Z</dcterms:created>
  <dc:creator>SamLab.ws</dc:creator>
  <dc:description/>
  <dc:language>en-US</dc:language>
  <cp:lastModifiedBy>КарМаН</cp:lastModifiedBy>
  <dcterms:modified xsi:type="dcterms:W3CDTF">2012-04-26T08:00:40Z</dcterms:modified>
  <cp:revision>26</cp:revision>
  <dc:subject/>
  <dc:title>Слайд 1</dc:title>
</cp:coreProperties>
</file>