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25.jpeg" ContentType="image/jpeg"/>
  <Override PartName="/ppt/media/image32.png" ContentType="image/png"/>
  <Override PartName="/ppt/media/image37.jpeg" ContentType="image/jpeg"/>
  <Override PartName="/ppt/media/image67.png" ContentType="image/png"/>
  <Override PartName="/ppt/media/image60.jpeg" ContentType="image/jpeg"/>
  <Override PartName="/ppt/media/image9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47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68.jpeg" ContentType="image/jpeg"/>
  <Override PartName="/ppt/media/image22.jpeg" ContentType="image/jpeg"/>
  <Override PartName="/ppt/media/image19.jpeg" ContentType="image/jpeg"/>
  <Override PartName="/ppt/media/image42.jpeg" ContentType="image/jpeg"/>
  <Override PartName="/ppt/media/image63.jpeg" ContentType="image/jpeg"/>
  <Override PartName="/ppt/media/image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6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61.jpeg" ContentType="image/jpeg"/>
  <Override PartName="/ppt/media/image4.jpeg" ContentType="image/jpeg"/>
  <Override PartName="/ppt/media/image17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3.jpeg" ContentType="image/jpeg"/>
  <Override PartName="/ppt/media/image41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DDB3-419A-4E56-B31A-D0413A09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0AEB-03A8-4F45-95C0-7D6EF277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36E0-4F65-412F-BB21-5C1AF585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407F-791A-4595-9A5E-F59E42AA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491E-2323-4B5E-8828-A9B33D8B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36CA-654C-4BD3-90B4-82296DEA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5FD6-B778-431C-A0B8-F4BA6A89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0226-C41C-452D-B167-AFEBA4D4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058D-D5CA-4EFA-BEB2-2F3ED962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E013-74A3-4421-A4CB-356CD71B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499F-0BF8-4D05-8465-909F7CC3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C66D-BE66-44BB-ACC9-D77CDF71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AF69-CDBF-40B5-8DC8-7F824E43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462A-D41E-453C-B72D-C21EFE37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D8EE-2601-4C59-B222-E9E60F97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BC78-A432-44E8-ADBD-B727DA9C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4A99-0CCA-47FF-8EC1-49F89CE0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AF1C-EAAF-425F-BF43-CCDB34B3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19A7-8853-473C-B7BE-67CBF720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BBA0-14F1-4408-85E0-66677AA8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C58B-1419-46AB-AF14-C66EAFAC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ABB9-78EA-4788-A83E-C81ABB8A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161B7-CF30-4B7A-BA90-11D8E36D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306A-C8BA-4205-B66D-B217C699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CDFA-26DD-4AEC-9589-BEAAADDBF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E778-DE15-4237-89F0-793A24B82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image" Target="../media/image17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image" Target="../media/image10.jpeg"/><Relationship Id="rId4" Type="http://schemas.openxmlformats.org/officeDocument/2006/relationships/image" Target="../media/image19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wallpage.ru/imgmig66/wallpapers_24544.jpg" TargetMode="External"/><Relationship Id="rId2" Type="http://schemas.openxmlformats.org/officeDocument/2006/relationships/hyperlink" Target="http://www.wallpage.ru/imgmig66/wallpapers_24544.jpg" TargetMode="External"/><Relationship Id="rId3" Type="http://schemas.openxmlformats.org/officeDocument/2006/relationships/hyperlink" Target="http://images.yandex.ru/yandsearch?text" TargetMode="External"/><Relationship Id="rId4" Type="http://schemas.openxmlformats.org/officeDocument/2006/relationships/hyperlink" Target="http://images.yandex.ru/yandsearch?text" TargetMode="External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763640" y="4221000"/>
            <a:ext cx="669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Урок биологии  8 класс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68360" y="2421000"/>
            <a:ext cx="59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ищные животны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4834800"/>
            <a:ext cx="6335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втор: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Воробьева Н.П.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– учитель биологии  МБСКОУ  СКОШИ-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VIII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вида   г.Лысьва, Пермский кра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Каких зверей называют хищными зверя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лекопитающие , которые полностью или частично питаются другими млекопитающими и птицами 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ищными звер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хищные звери показа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79640" y="1827360"/>
            <a:ext cx="590544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Назовите хищных звер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56000" y="1779480"/>
            <a:ext cx="1800000" cy="1749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232360" cy="1719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0" t="0" r="2704" b="8051"/>
          <a:stretch/>
        </p:blipFill>
        <p:spPr>
          <a:xfrm>
            <a:off x="250920" y="4365720"/>
            <a:ext cx="1825560" cy="194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093080" y="1341360"/>
            <a:ext cx="1860480" cy="223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79280" y="1844640"/>
            <a:ext cx="2195640" cy="1646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0920" y="3573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3573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573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6237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80360" y="3573360"/>
            <a:ext cx="13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6165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4788000" y="4446720"/>
            <a:ext cx="2087640" cy="1792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92720" y="6165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7020000" y="4508640"/>
            <a:ext cx="1993680" cy="1744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16720" y="6165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2340000" y="4437000"/>
            <a:ext cx="22590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Места обит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л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го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аван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жунглях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80360" y="1989000"/>
            <a:ext cx="1488960" cy="1301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6709" t="0" r="9727" b="7112"/>
          <a:stretch/>
        </p:blipFill>
        <p:spPr>
          <a:xfrm>
            <a:off x="5219640" y="2924280"/>
            <a:ext cx="1800360" cy="1333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236000" y="3573360"/>
            <a:ext cx="1692000" cy="1268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508720" y="1484280"/>
            <a:ext cx="1296720" cy="126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948360" y="5300640"/>
            <a:ext cx="1656000" cy="127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rcRect l="0" t="0" r="2704" b="8051"/>
          <a:stretch/>
        </p:blipFill>
        <p:spPr>
          <a:xfrm>
            <a:off x="5435640" y="4365720"/>
            <a:ext cx="13269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6.38446E-007 L -0.33073 0.01318 E">
                                      <p:cBhvr>
                                        <p:cTn id="19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31321E-007 L -0.32083 -0.3021 E">
                                      <p:cBhvr>
                                        <p:cTn id="198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32547E-006 L 0.15747 -0.44066 E">
                                      <p:cBhvr>
                                        <p:cTn id="20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43974E-006 L -0.46736 0.11496 E">
                                      <p:cBhvr>
                                        <p:cTn id="20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7078 L -0.20868 0.18621 E">
                                      <p:cBhvr>
                                        <p:cTn id="21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5.08906E-008 L -0.42118 0.03331 E">
                                      <p:cBhvr>
                                        <p:cTn id="21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щ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35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са  пита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лки ед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ьвы, тигры, барсы  напад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1628640"/>
            <a:ext cx="396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15573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йцами, ежами,  мышами, у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270828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банов, оленей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машних 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437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рупных животных:  зебры, антилопы, буйвол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Способы  добыч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следование добы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терегают и напада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9155" b="10262"/>
          <a:stretch/>
        </p:blipFill>
        <p:spPr>
          <a:xfrm flipH="1" rot="39600">
            <a:off x="6371640" y="1266120"/>
            <a:ext cx="1584360" cy="1495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2087640" cy="1392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2159280" cy="1441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7308720" y="5300640"/>
            <a:ext cx="1632240" cy="1427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4211640" y="5373720"/>
            <a:ext cx="195912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1.96623E-007 L -0.42518 -0.34629 E">
                                      <p:cBhvr>
                                        <p:cTn id="249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-0.32552 -0.53426 E">
                                      <p:cBhvr>
                                        <p:cTn id="253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10116 L -0.63785 0.53125 E">
                                      <p:cBhvr>
                                        <p:cTn id="257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8526E-006 L -0.45278 0.31853 E">
                                      <p:cBhvr>
                                        <p:cTn id="26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71663E-006 L 0.18108 -0.07356 E">
                                      <p:cBhvr>
                                        <p:cTn id="265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Сравни  зубы грызунов и хищных звер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951280" cy="2220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12000" y="2133720"/>
            <a:ext cx="2447640" cy="1820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2771280" y="2421000"/>
            <a:ext cx="129564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6720" y="2349360"/>
            <a:ext cx="100800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198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рез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292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л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626920" y="3213000"/>
            <a:ext cx="1513080" cy="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4360" y="357336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хищные зу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339640" y="3428640"/>
            <a:ext cx="158436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364000" y="3499920"/>
            <a:ext cx="172908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51577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У грызунов  нет клыков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34136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ищ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1484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ыз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Дополни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органам  пищеварения  относя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ы дыхания обеспечиваю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органам  кровообращения относятся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хищников хорошо разв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162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удок,  печень,  кишечник  (коротки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852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кие кислородом орг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4005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4-х кам. и кровеносные сосу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51577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рение, слух, обон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 животны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жны ли хищные  животные 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нита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бивают только больных животных и сохраняют оста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ничтожают   вредителей полей (мы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уры и мех использует челов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Место об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Внешний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пособы добычи пи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Значение для природы и челов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651640" y="4148280"/>
            <a:ext cx="320652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Какие  животные  называются  млекопитающи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, которые выкармливают своих детенышей молоком, называют млекопитающи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Какие группы млекопитающих уже изучил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ызуны и зайцеобразные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87640" y="98100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333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Во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5733" b="8225"/>
          <a:stretch/>
        </p:blipFill>
        <p:spPr>
          <a:xfrm>
            <a:off x="5076720" y="907920"/>
            <a:ext cx="3672000" cy="2384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651640" y="407664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059280" y="2781360"/>
            <a:ext cx="2663640" cy="1996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95280" y="76500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266868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Во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6407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ут всегда стаей 6-8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ная черта волчьего характера – «дружелюбие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а взрослого волка от кончика носа до хвоста -  2 метра.   Весят они  43-45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увствуют запах за 1,5 км. Выносли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бегают за день 65-80 км со скоростью 55-60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ъедают  в один  присест до 6 кг мяса, остальное  прячут  про зап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732720" y="115920"/>
            <a:ext cx="230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732720" y="5229360"/>
            <a:ext cx="22669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Проверь себ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волков называют санитарами ле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питаются во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волки выходят на охо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значение имеют волки в природе и в жизни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796000" y="4508640"/>
            <a:ext cx="28083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Медвед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900000" y="4257720"/>
            <a:ext cx="3167280" cy="2376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276720" y="1557360"/>
            <a:ext cx="2590560" cy="2127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24000" y="3716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бурый 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64000" y="3716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гриз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2736720" cy="231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435640" y="4221000"/>
            <a:ext cx="3240000" cy="2352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012000" y="1557360"/>
            <a:ext cx="29019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Бурый медвед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ит  от 90 до 35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ороткой дистанции , может обогнать скаковую лош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январе-феврале медведица  приносит 2-4 медвежат  весом 400 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ются: кореньями, ягодами, ,орехами, желудями,  лягушками, яйцами птиц, мышами, рыбой, крупных диких,  домашний скот, дикий мед. Всея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516720" y="11592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роверь себ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медведи добывают себе пищ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медведи  проводят зи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00720" y="3500280"/>
            <a:ext cx="439236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Тигры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6012000" y="981000"/>
            <a:ext cx="2690640" cy="1968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804000" y="4076640"/>
            <a:ext cx="1928880" cy="2575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179280" y="429264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3348000" y="2060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3419640" y="4508640"/>
            <a:ext cx="30254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игает в длину  3,5 м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 300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лодный  тигр ест все: оленей, быков, корову, буйволов, рыси, волков, рыбу, саранчу, змеи,  лягушек, мышей. Обитают ближе к водоему, хорошо плавают Тигры охотятся вечером .Одним ударом лапы убивают  лош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гр - охотник-одиночка. Метит свою территорию. Живут около 20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264360" y="333360"/>
            <a:ext cx="2879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Рыс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932360" y="4076640"/>
            <a:ext cx="3830760" cy="2554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2881080" cy="2041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5508720" y="907920"/>
            <a:ext cx="3335400" cy="2648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29527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                      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Рыс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а рыси не больше 1 метра, вес-18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точки- своеобразная антенна для животн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хотится ранним утром  и на исходе дня на помеченной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ывает пищу  погоней за зайцами, оле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ошо плавают, лазают по деревь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0" t="0" r="9155" b="10262"/>
          <a:stretch/>
        </p:blipFill>
        <p:spPr>
          <a:xfrm>
            <a:off x="611280" y="4437000"/>
            <a:ext cx="23763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Назовите, лишнее животное  в каждом ряду. Почему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27280" y="4797360"/>
            <a:ext cx="2209680" cy="150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1584360" cy="1220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1944720" cy="1647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020000" y="2781360"/>
            <a:ext cx="1944720" cy="131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916360" y="2492280"/>
            <a:ext cx="144144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55640" y="4797360"/>
            <a:ext cx="1584360" cy="1527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003640" y="4797360"/>
            <a:ext cx="1729080" cy="1447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4437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6463E-006 L 0.00399 0.31321 E">
                                      <p:cBhvr>
                                        <p:cTn id="2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8885E-006 L 0.19687 -0.30488 E">
                                      <p:cBhvr>
                                        <p:cTn id="2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роверь себ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питается ры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значению имеет рысь для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8149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Львы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3058920" cy="1952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457800" cy="2409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598840" cy="2598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250920" y="4221000"/>
            <a:ext cx="3700440" cy="2362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3635280" y="256536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Лев на охо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68360" y="1311120"/>
            <a:ext cx="3097080" cy="2476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4932360" y="4129200"/>
            <a:ext cx="388764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3012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ва  царем зве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  длиной до 3 метров и весит 180-220 к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 обладает огромной физической мощью. Од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ром лапы он валит с ног зеб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осходно  прыгает. В высоту прыгает до 3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перемахнуть через ущелье шириной в 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.   Львы живут группами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йдами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жак,несколько львиц с детенышами.)численностью от 4-5 членов до 30-40  шт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хоту  выходят сам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отятся на зебр, антилоп, буйволов. Состарившихся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х львов прайд не защищает, а изгоняют. Одряхлевший лев тощий и слабый часто становится добычей ги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Ль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живут львы  (одиночки, прайдами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охотится лев или льв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ъедает лев за один 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львов для человек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34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80000" cy="2278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384360" cy="2708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27280" y="3068640"/>
            <a:ext cx="3456000" cy="2155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5867280" y="4292640"/>
            <a:ext cx="29242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пард в переводе  означает «собака-ко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итает в Африке, Ин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кура пятнистая,  морда как у кота, с черными слезными поло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пард не ревет как тигр, а тявкает как соба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ен бежать со скоростью 120 км/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хотник-одиночка. Охотится на антилоп. Всегда сбивает жертву одним прыжком и убивает ее, прокусив гор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ест падаль.  Никогда не нападает на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ходится на грани вымир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Проверь себ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хотятся гепар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питаются гепард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гепарды  на грани вымирани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р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880000" cy="2158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456000" cy="2303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3357360" cy="2238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нежный ба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ится в горах на высоте 3-4 к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ивое и сильное животное. Напоминает небольшого тигра.  Мех не полосатый, а пятнистый  черные пятна на серебристо-белом  фоне.. Барс не очень большой зверь длина его тела 1, 5 метров, а вес как у собаки 30-39 кг . Короткие ноги и длинным очень пушистым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хотится на горных козлов . Барс подстерегает их на узких горных троп  Иногда  месяцами следует за одним стадом по пятам.  Иногда обходится  зайцами, ловит сурка или пт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любит охотиться на барсов.  Были случаи, когда охотники погибали, срываясь с высоты. Однажды барс убил охотника , столкнув на него камень. За последние 20 лет численность снежного барса заметно сниз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02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Назовите  черты, характерные для кролик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Рождаются голыми и слеп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Рождаются зрячими и с шер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оют  глубокие н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Не  роют  н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Питаются раститель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Ухаживают за детеныш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е ухаживают за детеныш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 3, 5,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164360" y="5300640"/>
            <a:ext cx="1366920" cy="1025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5402160"/>
            <a:ext cx="1368360" cy="1027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0" y="6381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йчоно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630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рольч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ий ито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по вашему был лучшим экскурсово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й рассказ больше понрави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бщие черты хищнико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итаются другими живо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Хищники  имеют кл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риносят пользу при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гадай живот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хож на темно-серую овчарку, охотятся стаями , обычно  ночью.  Убивают  домашних животных (овец, коз кур, нападает на собак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пный сильный  зверь Он нападает на крупных диких и домашних животных. Может убить корову , оленя, кабана и  любит  ягоды, лягушек,  яйца пти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Обитает в лесах юга Дальнего Востока и в джунглях    Азии.  Ведет одиночных образ жизни. Очень прожорлив. Может  за раз съесть   небольшого оленя .Пью очень много воды .Хорошо плава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20000" y="177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6000" y="3500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рый 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9600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ло  короткое, плотное, мускулистое.  Шерсть серая с небольшими пят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ушных раковинах кисточки. Питаются лисами, зай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тают в саваннах Африки. Самка очень сильно отличается от  самца. Живут  небольшими  стаями.   На охоту  ходит  самка .  Самец защищает территорию . Охотятся на буйволов, антилоп. На водопой ходят по одном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88000" y="2708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659640" y="6237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ть рассказ о  любом животном  по пл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ть материал и ответить на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каких животных  шел разговор  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ового узнал для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://www.wallpage.ru/imgmig66/wallpapers_2454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p://images.yandex.ru/yandsearch?text=%20%D0%B3%D0%B5%D0%BF%D0%B0%D1%80%D0%B4%20%D0%BA%D0%B0%D1%80%D1%82%D0%B8%D0%BD%D0%BA%D0%B8&amp;img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5280" y="3860640"/>
            <a:ext cx="728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http://images.yandex.ru/yandsearch?text=%D1%80%D1%8B%D1%81%D1%8C%20%20%D0%BA%D0%B0%D1%80%D1%82%D0%B8%D0%BD%D0%BA%D0%B8&amp;img_url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4653000"/>
            <a:ext cx="71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http://images.yandex.ru/yandsearch?text=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2133720"/>
            <a:ext cx="7696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.http://images.yandex.ru/yandsearch?text=%20%D0%B3%D0%B5%D0%BF%D0%B0%D1%80%D0%B4%20%D0%BA%D0%B0%D1%80%D1%82%D0%B8%D0%BD%D0%BA%D0%B8&amp;img_url=www.wallon.ru%2F_ph%2F10%2F2%2F96231062.jpg&amp;pos=29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3141720"/>
            <a:ext cx="85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.http://images.yandex.ru/yandsearch?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342900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http://images.yandex.ru/yandsearch?text=%20%D1%81%D0%BD%D0%B5%D0%B6%D0%BD%D1%8B%D0%B9%20%D0%B1%D0%B0%D1%80%D1%81%20%20%D0%BA%D0%B0%D1%80%D1%82%D0%B8%D0%BD%D0%BA%D0%B8&amp;img_url=s017.radikal.ru%2Fi431%2F1111%2F26%2Fa7eef89e4e65.jpg&amp;pos=33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Найдите   названия  животны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989000"/>
          <a:ext cx="8435880" cy="3235320"/>
        </p:xfrm>
        <a:graphic>
          <a:graphicData uri="http://schemas.openxmlformats.org/drawingml/2006/table">
            <a:tbl>
              <a:tblPr/>
              <a:tblGrid>
                <a:gridCol w="649080"/>
                <a:gridCol w="563760"/>
                <a:gridCol w="803160"/>
                <a:gridCol w="803160"/>
                <a:gridCol w="801720"/>
                <a:gridCol w="803520"/>
                <a:gridCol w="801720"/>
                <a:gridCol w="804600"/>
                <a:gridCol w="801720"/>
                <a:gridCol w="801720"/>
                <a:gridCol w="8017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50920" y="5445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шь, кролик, рысь, бобр, лев, суслик, тигр, волк, заяц,  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черкнуть одной чертой грызунов, 2 чертами зайцеобразных, волнистой хищник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41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Мышь, суслик, белка, бобр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Заяц, кролик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Лев, тигр, волк, </a:t>
            </a:r>
            <a:r>
              <a:rPr b="0" i="1" lang="en-US" sz="3200" spc="-1" strike="noStrike">
                <a:solidFill>
                  <a:srgbClr val="6600ff"/>
                </a:solidFill>
                <a:latin typeface="Arial"/>
              </a:rPr>
              <a:t>ры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19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ыз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565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йцеоб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213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ищ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39640" y="350028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Хищные 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ить знания о хищных звер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ить знания о хищни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ить 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а об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ща и способы добы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ение зуб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ение животных для природы и 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з о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6922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наете  вы о признаках хищников,      об особенностях  строения?                     Значении этих животных для челов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2276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8:56:58Z</dcterms:created>
  <dc:creator>SamLab.ws</dc:creator>
  <dc:description/>
  <dc:language>en-US</dc:language>
  <cp:lastModifiedBy>КарМаН</cp:lastModifiedBy>
  <dcterms:modified xsi:type="dcterms:W3CDTF">2012-04-26T08:00:40Z</dcterms:modified>
  <cp:revision>26</cp:revision>
  <dc:subject/>
  <dc:title>Слайд 1</dc:title>
</cp:coreProperties>
</file>