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5A11-B83B-4A60-88EF-2CFDF3DA8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CDD0-509A-4348-BDE3-3D13DF802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AEF-3C9F-484C-9EE3-70BC2AEDE2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B3E1-B697-4948-A9EE-A4E06F210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5CC-1C05-4A5B-8952-726871A430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C85-93D7-402C-8F8B-16F72C50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DAB-3775-4D61-92A5-5A0EA7C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179-C4E7-45D2-B618-FD6135AC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4AE-A2D5-486A-83F0-522B50B3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0C91-AD1D-47EA-AEC2-7FDD8F40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28A-F4CA-4EDD-A2D1-DF253058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568B-5C3F-4E47-B612-BD6E5CE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4BD8-9E5A-4B19-B555-78965E1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F43A-62FC-40FE-9ABD-F47AA545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259C-47E5-40D5-B863-5A0F4F5B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73E-EE48-47E5-B524-69A2DF3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C33-40E9-4773-A0FC-C56A397D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97AC-469D-4EE0-8165-B2EC71A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8C0A-410C-4C1B-9104-A36EC54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B32-BD78-44D7-9536-E23C94C2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453-7AD8-4192-ABF7-19CD8D46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3B6-2B1F-4F35-BB30-8F9AE570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72CC-140F-4D17-8F63-17F166B6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A747-F0F1-4B64-8BEC-BF12BE29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9A8A-71EC-4618-AE92-7746D17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73E8-B4BE-448D-B3A1-5AB5469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D5F9-CFCB-4B2F-82B7-A83736FC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A71-CEED-4CC9-99D7-1B0340B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E922-3D04-41B3-9814-333795C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02B3-A84F-47EA-A539-7A40D53B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8D07-F1FE-42DB-B880-5D82F91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DEBB-B8D0-4D02-AB7E-7631BF0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806A-CFD9-487B-9B6B-68D816E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6E1E-1A1C-41FD-9DF3-6316CC22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6C29-BA43-41C7-9DDF-BA2D6E8D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679-01D8-47F6-8802-6359222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B08-6FB8-4BCC-A87C-8C03E0E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2FF-4818-4C12-84B3-A64477B8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6D4-F7D8-4E8F-A662-A9C0E279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0B9-9D2B-4107-B110-48D65D6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558-CB2F-47AF-8A70-0700218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6392-B24C-488D-9991-1FDD05673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67D-1E36-498B-856C-7974D141AF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B660-CE10-4A77-B88D-FCC56B60E47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еографическая оболоч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Альбатросы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расная белка"/>
          <p:cNvPicPr/>
          <p:nvPr/>
        </p:nvPicPr>
        <p:blipFill>
          <a:blip r:embed="rId2"/>
          <a:stretch/>
        </p:blipFill>
        <p:spPr>
          <a:xfrm>
            <a:off x="0" y="1916280"/>
            <a:ext cx="43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ГО повсюду живут организмы, зеленые растения усваивают солнечную энергию, образуют органические вещества из неорганически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7" descr="Картинка 14 из 19864"/>
          <p:cNvPicPr/>
          <p:nvPr/>
        </p:nvPicPr>
        <p:blipFill>
          <a:blip r:embed="rId1"/>
          <a:stretch/>
        </p:blipFill>
        <p:spPr>
          <a:xfrm>
            <a:off x="4643280" y="1557360"/>
            <a:ext cx="4229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(от греч. «сфера жизни») – оболочка Земли, которая населена живыми организмами и преобразуется ими. Впервые в науке термин «биосфера» появился в 1875 г. благодаря австрийскому учёному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дуарду Зюссу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1831-1914). </a:t>
            </a:r>
            <a:br>
              <a:rPr sz="2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2" descr="G:\Элктронные учебники\Geo6-10\RES\Class6\Биосфера Земли.jpg"/>
          <p:cNvPicPr/>
          <p:nvPr/>
        </p:nvPicPr>
        <p:blipFill>
          <a:blip r:embed="rId1"/>
          <a:stretch/>
        </p:blipFill>
        <p:spPr>
          <a:xfrm>
            <a:off x="857160" y="207180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ладимир Иванович Вернадск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20-е гг. ХХ века выдающийся русский учёный, академик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ладимир Иванович Вернад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1853-1945) разработа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Учение о биосфере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оболочке Земли, населённой живыми организмами. В.И. Вернадский распространил понятие биосферы не только на организмы, но и на среду обит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Содержимое 6" descr="untitled9.bmp"/>
          <p:cNvPicPr/>
          <p:nvPr/>
        </p:nvPicPr>
        <p:blipFill>
          <a:blip r:embed="rId1"/>
          <a:stretch/>
        </p:blipFill>
        <p:spPr>
          <a:xfrm>
            <a:off x="4875120" y="1484280"/>
            <a:ext cx="37404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00400" y="1285560"/>
            <a:ext cx="4143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Биосферу составляет живое вещество планеты, представленное: </a:t>
            </a:r>
            <a:r>
              <a:rPr b="1" i="1" lang="ru-RU" sz="2800" spc="-1" strike="noStrike">
                <a:solidFill>
                  <a:srgbClr val="4c376b"/>
                </a:solidFill>
                <a:latin typeface="Verdana"/>
              </a:rPr>
              <a:t>микроорганизмами, растениями, животными и человек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Содержимое 4" descr="untitled10.bmp"/>
          <p:cNvPicPr/>
          <p:nvPr/>
        </p:nvPicPr>
        <p:blipFill>
          <a:blip r:embed="rId1"/>
          <a:stretch/>
        </p:blipFill>
        <p:spPr>
          <a:xfrm>
            <a:off x="500040" y="1285920"/>
            <a:ext cx="4530600" cy="392904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4" descr="untitled11.bmp"/>
          <p:cNvPicPr/>
          <p:nvPr/>
        </p:nvPicPr>
        <p:blipFill>
          <a:blip r:embed="rId2"/>
          <a:stretch/>
        </p:blipFill>
        <p:spPr>
          <a:xfrm>
            <a:off x="428760" y="100008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5" descr="untitled12.bmp"/>
          <p:cNvPicPr/>
          <p:nvPr/>
        </p:nvPicPr>
        <p:blipFill>
          <a:blip r:embed="rId3"/>
          <a:stretch/>
        </p:blipFill>
        <p:spPr>
          <a:xfrm>
            <a:off x="357120" y="1000080"/>
            <a:ext cx="4714920" cy="4143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928800" y="5715000"/>
            <a:ext cx="2714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т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Содержимое 4" descr="untitled13.bmp"/>
          <p:cNvPicPr/>
          <p:nvPr/>
        </p:nvPicPr>
        <p:blipFill>
          <a:blip r:embed="rId4"/>
          <a:stretch/>
        </p:blipFill>
        <p:spPr>
          <a:xfrm>
            <a:off x="357120" y="2858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400" y="642600"/>
            <a:ext cx="8429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знь на Земле зародилась боле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3 миллиардов лет наза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водоём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ми организмами считаются сине-зелёные водоросл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рно 400 миллионов лет назад жизнь из воды распространилась на суш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и формы жизни дожили до сегодняшних дней. Такие виды называют реликтовы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Рели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от лат. «остатки») – виды животных и растений, сохранившиеся от широко распространённых в прошлом, а в настоящее время исчезнувших фаун и фло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иологический круговорот веществ на су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Picture 4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00000" y="1557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уговорот воды обеспечивает взаимодействие Мирового океана с атмосферой. Атмосфера защищает воды Мирового океана от сильного испарения и принимает испаряющуюся с поверхности Мирового океана влагу. Морские воздушные  массы переносят тепло и влагу с океана на сушу. На побережьях океанов, где происходит постоянный  перенос  морской  воздушной массы на сушу, формируется океанический (морской) клим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За всю историю жизни на Земле в биосфере существовало около полумиллиарда видов! Сегодня учёные-биологи насчитывают на планете порядка 2 миллионов видов живых существ. Формирование биосферы продолжается и сейчас. 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Содержимое 5" descr="untitled14.bmp"/>
          <p:cNvPicPr/>
          <p:nvPr/>
        </p:nvPicPr>
        <p:blipFill>
          <a:blip r:embed="rId1"/>
          <a:stretch/>
        </p:blipFill>
        <p:spPr>
          <a:xfrm>
            <a:off x="214200" y="228600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7" descr="untitled15.bmp"/>
          <p:cNvPicPr/>
          <p:nvPr/>
        </p:nvPicPr>
        <p:blipFill>
          <a:blip r:embed="rId2"/>
          <a:stretch/>
        </p:blipFill>
        <p:spPr>
          <a:xfrm>
            <a:off x="5072040" y="20718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285840" y="5500800"/>
            <a:ext cx="392904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не-зелёные водоросли дожили до сегодняшнего д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аконово дерево с Канарских островов – реликт прошлых эпо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,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Картинка 3 из 2200"/>
          <p:cNvPicPr/>
          <p:nvPr/>
        </p:nvPicPr>
        <p:blipFill>
          <a:blip r:embed="rId1"/>
          <a:stretch/>
        </p:blipFill>
        <p:spPr>
          <a:xfrm>
            <a:off x="4716360" y="476280"/>
            <a:ext cx="4273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заимодействие биосферы с другими оболочками Земли 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785960"/>
            <a:ext cx="420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иосфера связана с атмосферой круговоротом г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Содержимое 4" descr="untitled16.bmp"/>
          <p:cNvPicPr/>
          <p:nvPr/>
        </p:nvPicPr>
        <p:blipFill>
          <a:blip r:embed="rId1"/>
          <a:stretch/>
        </p:blipFill>
        <p:spPr>
          <a:xfrm>
            <a:off x="1071720" y="2162160"/>
            <a:ext cx="2000160" cy="31543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142920" y="5929200"/>
            <a:ext cx="3643200" cy="7333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парение с листьев растений обогащ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тмосферу вла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643280" y="1785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очи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Содержимое 5" descr="untitled18.bmp"/>
          <p:cNvPicPr/>
          <p:nvPr/>
        </p:nvPicPr>
        <p:blipFill>
          <a:blip r:embed="rId2"/>
          <a:stretch/>
        </p:blipFill>
        <p:spPr>
          <a:xfrm>
            <a:off x="4429080" y="2857680"/>
            <a:ext cx="4038480" cy="26622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истально чистая байкальская в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Содержимое 4" descr="untitled17.bmp"/>
          <p:cNvPicPr/>
          <p:nvPr/>
        </p:nvPicPr>
        <p:blipFill>
          <a:blip r:embed="rId3"/>
          <a:stretch/>
        </p:blipFill>
        <p:spPr>
          <a:xfrm>
            <a:off x="4429080" y="278604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чка-эпиш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ерхний слой земной коры (части литосферы) создаётся при активном участии живых организмов. Окаменелые растения или останки животных участвуют как в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формировании горных пород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, так и в их разрушении –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органическом выветривании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Содержимое 8" descr="untitled19.bmp"/>
          <p:cNvPicPr/>
          <p:nvPr/>
        </p:nvPicPr>
        <p:blipFill>
          <a:blip r:embed="rId1"/>
          <a:stretch/>
        </p:blipFill>
        <p:spPr>
          <a:xfrm>
            <a:off x="857160" y="2013120"/>
            <a:ext cx="2714760" cy="282708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9" descr="untitled20.bmp"/>
          <p:cNvPicPr/>
          <p:nvPr/>
        </p:nvPicPr>
        <p:blipFill>
          <a:blip r:embed="rId2"/>
          <a:stretch/>
        </p:blipFill>
        <p:spPr>
          <a:xfrm>
            <a:off x="4714920" y="2928960"/>
            <a:ext cx="4167000" cy="23572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214200" y="5500800"/>
            <a:ext cx="4000680" cy="1159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Янтарь – горная порода, образованна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з вещества биосферы: это окаменевшая смола древних хвойных деревьев,иногда в ней присутствую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«останки» живот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4857840" y="5715000"/>
            <a:ext cx="392904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рганическое выветр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Picture 5" descr="Картинка 3 из 1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дяной пар конденсируется в верхних слоях воздуха и выпадает на землю в виде снег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0" name="Picture 11" descr="3105981_large"/>
          <p:cNvPicPr/>
          <p:nvPr/>
        </p:nvPicPr>
        <p:blipFill>
          <a:blip r:embed="rId1"/>
          <a:stretch/>
        </p:blipFill>
        <p:spPr>
          <a:xfrm>
            <a:off x="324000" y="1620720"/>
            <a:ext cx="8424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Картинка 2 из 2200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7840" y="461520"/>
            <a:ext cx="7853400" cy="6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ойства 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ажнейшими свойствами ГО являются - наличие жизни, целостность оболочки и наличие в ГО вещества  в  трех состояниях (жидком, твердом и газообразном). Характерная черта развития ГО - ритмичность. Это периодичность и повторяемость одних и тех же процессов и явлений во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руговорот вещест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земной коре тоже происходит круговорот вещества. Важнейшую роль в жизни ГО играет биологический  круговоро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3:58Z</dcterms:created>
  <dc:creator>1</dc:creator>
  <dc:description/>
  <dc:language>en-US</dc:language>
  <cp:lastModifiedBy>Николай</cp:lastModifiedBy>
  <dcterms:modified xsi:type="dcterms:W3CDTF">2013-01-11T10:56:22Z</dcterms:modified>
  <cp:revision>13</cp:revision>
  <dc:subject/>
  <dc:title>Географическая оболочка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