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98F-71B3-4EE2-B2AF-1E29818DE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827-9A00-4BCF-A7BE-9CECBF2C8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0CD5-5C80-423A-BB04-A49B69ED10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C5C-C407-4C0B-A4D1-A64FCCC84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D23-16F3-47DB-9D3D-FB6EB852BF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F41-7E4D-46E1-9C19-D70F1A4F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D6-D602-435B-B8E2-6FF09A9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6C3-3240-4B88-8930-5DEDA0B3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1A2-55BE-4B6B-AAD9-2FBBA36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D0A-DE7A-440F-98E3-651B3A1C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72E1-2E12-4DFC-B994-F45D492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7E5C-3475-48BB-8169-551A582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229-5D45-4237-AFD9-47459C20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CDC8-66E7-4CCD-BFE3-02AF800E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A6B1-4642-46D6-83EC-945835AA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E9B-8947-4AA0-B8C9-4A9D1C8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363-A877-4F79-B7F4-F30E4376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1805-4324-437D-82A3-43E47BB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C033-3F26-42C6-94F4-814CC57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42F8-3C6D-4422-BCC0-0F0F0CD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06FB-1E88-4870-91F2-52F58827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4AD6-47EC-4483-B63A-8B3FCC40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CB9E-D904-4B62-972B-33CB24BB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5388-9350-449A-A8B9-07179C2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BE06-7DBE-4B28-8718-E7B1829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B6CD-B119-426F-B34A-7E50D20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762C-E998-45E7-966B-130DF763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0F1-9B7F-484B-8523-F496219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08AC-2938-402B-963E-7271379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307C-1C4C-478D-B65A-FCF1511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0CBA-B60F-4B1B-8032-F3F4163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EE7F-BB3B-44AA-B59F-8421034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8E29-E082-4A3B-A378-17FE7BE1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5772-062E-4C17-BF9D-286EBC10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0F2D-12EC-4CEA-BADA-B9D84191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DEE-1E32-4AAF-AD97-27390E6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157-118F-417D-9B9F-DF768619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364-25BD-44B4-8729-2DE3650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A11-D579-4CBF-BA95-38A869D3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ABF-B833-40ED-8049-3604654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80D-DF62-4F93-B498-15C281B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511-5A37-4D76-9AC0-8C2C5E885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87A4-2762-41C2-9D20-E05BF90945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6DB-BE82-4D55-81C5-09651A735FA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0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Николай</cp:lastModifiedBy>
  <dcterms:modified xsi:type="dcterms:W3CDTF">2013-01-11T10:56:22Z</dcterms:modified>
  <cp:revision>13</cp:revision>
  <dc:subject/>
  <dc:title>Географическая оболочка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