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9DEC-77F1-4358-8DB8-F7832C09D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E6D-2B54-4C0C-B47A-DFA81BC50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ADC4-B50F-4C74-9ED6-25781760BE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20E-61A1-4BBE-B4C2-0F8B7F656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0712-30A2-451A-AB6B-B191E0A4EF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8C0-12C6-4E1F-A548-ED9AE0C2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617-61E8-438F-A022-EF1692D5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0AE-8A71-4D9D-B97B-C7844ADA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1EE-4921-4DA0-A119-EFAB175C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0035-056C-4C37-B908-6E1DE175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5433-1C9C-4BA9-B081-41A82592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550E-64A2-456E-B041-5F2747D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7017-8570-4084-B520-1187CB5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B684-60FD-406D-9DDC-26C0593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E2AB-557B-4808-A779-3BCADEA0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8F6-B9E7-413E-9ED4-47043D13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D5B-8A5C-442F-97E6-0054485C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731E-DC0C-42E4-9675-955DE769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F848-C523-4E46-B5BE-BB3D6417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16DA-2BB4-4F2F-85D7-958983FE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1B91-138F-4DC5-AE67-8DD2CEB8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1B3E-7B0B-4312-A01D-D749292D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C302-FE80-4E61-A710-7CAD2885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A998-9654-4445-8199-ABA503A6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4EAE-110C-4414-BE8E-F68489DA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EAF5-B3F3-40FC-8047-3F9863D3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C4180-D10F-4F8E-8AE9-110DBDE3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205-A7CD-4A4C-854B-F782CB2A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0163-ECC0-4261-B736-306BE180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6B623-0978-4446-B53D-6BFD6FC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053E-1E4B-4D56-BEB1-E20D663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9105-F1EE-4465-8307-8B30131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4227-A1F8-4FCF-AE61-9699E95B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9ED1-4F4A-46FE-9AD7-252AC75D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3DDC-BF52-4EC2-90AA-3472CBBE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525-5010-4E1B-BB15-163488A7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A1F-9659-47E7-976B-1B6000BF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B59-4325-4F8E-A092-A8368852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044-0CDB-4254-8547-FD2E65AF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DC4-7185-4E03-B542-7C77BE39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537-625C-4F48-A0B2-DF38065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85F1-A774-49E1-9B94-153113367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F27-F607-455E-85AC-CD9789FE31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44EE-403A-411C-84DD-699542EEB0C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еографическая оболочк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Альбатросы"/>
          <p:cNvPicPr/>
          <p:nvPr/>
        </p:nvPicPr>
        <p:blipFill>
          <a:blip r:embed="rId1"/>
          <a:stretch/>
        </p:blipFill>
        <p:spPr>
          <a:xfrm>
            <a:off x="4427640" y="1916280"/>
            <a:ext cx="471636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расная белка"/>
          <p:cNvPicPr/>
          <p:nvPr/>
        </p:nvPicPr>
        <p:blipFill>
          <a:blip r:embed="rId2"/>
          <a:stretch/>
        </p:blipFill>
        <p:spPr>
          <a:xfrm>
            <a:off x="0" y="1916280"/>
            <a:ext cx="435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ГО повсюду живут организмы, зеленые растения усваивают солнечную энергию, образуют органические вещества из неорганически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7" descr="Картинка 14 из 19864"/>
          <p:cNvPicPr/>
          <p:nvPr/>
        </p:nvPicPr>
        <p:blipFill>
          <a:blip r:embed="rId1"/>
          <a:stretch/>
        </p:blipFill>
        <p:spPr>
          <a:xfrm>
            <a:off x="4643280" y="1557360"/>
            <a:ext cx="4229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840" y="57168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(от греч. «сфера жизни») – оболочка Земли, которая населена живыми организмами и преобразуется ими. Впервые в науке термин «биосфера» появился в 1875 г. благодаря австрийскому учёному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Эдуарду Зюссу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(1831-1914). </a:t>
            </a:r>
            <a:br>
              <a:rPr sz="28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Picture 2" descr="G:\Элктронные учебники\Geo6-10\RES\Class6\Биосфера Земли.jpg"/>
          <p:cNvPicPr/>
          <p:nvPr/>
        </p:nvPicPr>
        <p:blipFill>
          <a:blip r:embed="rId1"/>
          <a:stretch/>
        </p:blipFill>
        <p:spPr>
          <a:xfrm>
            <a:off x="857160" y="207180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ладимир Иванович Вернадски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20-е гг. ХХ века выдающийся русский учёный, академик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ладимир Иванович Вернад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1853-1945) разработал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«Учение о биосфере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– оболочке Земли, населённой живыми организмами. В.И. Вернадский распространил понятие биосферы не только на организмы, но и на среду обит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Содержимое 6" descr="untitled9.bmp"/>
          <p:cNvPicPr/>
          <p:nvPr/>
        </p:nvPicPr>
        <p:blipFill>
          <a:blip r:embed="rId1"/>
          <a:stretch/>
        </p:blipFill>
        <p:spPr>
          <a:xfrm>
            <a:off x="4875120" y="1484280"/>
            <a:ext cx="37404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000400" y="1285560"/>
            <a:ext cx="41432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Биосферу составляет живое вещество планеты, представленное: </a:t>
            </a:r>
            <a:r>
              <a:rPr b="1" i="1" lang="ru-RU" sz="2800" spc="-1" strike="noStrike">
                <a:solidFill>
                  <a:srgbClr val="4c376b"/>
                </a:solidFill>
                <a:latin typeface="Verdana"/>
              </a:rPr>
              <a:t>микроорганизмами, растениями, животными и человеко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Содержимое 4" descr="untitled10.bmp"/>
          <p:cNvPicPr/>
          <p:nvPr/>
        </p:nvPicPr>
        <p:blipFill>
          <a:blip r:embed="rId1"/>
          <a:stretch/>
        </p:blipFill>
        <p:spPr>
          <a:xfrm>
            <a:off x="500040" y="1285920"/>
            <a:ext cx="4530600" cy="392904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4" descr="untitled11.bmp"/>
          <p:cNvPicPr/>
          <p:nvPr/>
        </p:nvPicPr>
        <p:blipFill>
          <a:blip r:embed="rId2"/>
          <a:stretch/>
        </p:blipFill>
        <p:spPr>
          <a:xfrm>
            <a:off x="428760" y="100008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5" descr="untitled12.bmp"/>
          <p:cNvPicPr/>
          <p:nvPr/>
        </p:nvPicPr>
        <p:blipFill>
          <a:blip r:embed="rId3"/>
          <a:stretch/>
        </p:blipFill>
        <p:spPr>
          <a:xfrm>
            <a:off x="357120" y="1000080"/>
            <a:ext cx="4714920" cy="41436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928800" y="5715000"/>
            <a:ext cx="27144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крооргани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ст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Содержимое 4" descr="untitled13.bmp"/>
          <p:cNvPicPr/>
          <p:nvPr/>
        </p:nvPicPr>
        <p:blipFill>
          <a:blip r:embed="rId4"/>
          <a:stretch/>
        </p:blipFill>
        <p:spPr>
          <a:xfrm>
            <a:off x="357120" y="285840"/>
            <a:ext cx="4714920" cy="61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28400" y="642600"/>
            <a:ext cx="84294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изнь на Земле зародилась более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3 миллиардов лет наза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водоёма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ми организмами считаются сине-зелёные водоросл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мерно 400 миллионов лет назад жизнь из воды распространилась на суш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дни формы жизни дожили до сегодняшних дней. Такие виды называют реликтовы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Релик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(от лат. «остатки») – виды животных и растений, сохранившиеся от широко распространённых в прошлом, а в настоящее время исчезнувших фаун и фло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иологический круговорот веществ на су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5" name="Picture 4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00000" y="155736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руговорот воды обеспечивает взаимодействие Мирового океана с атмосферой. Атмосфера защищает воды Мирового океана от сильного испарения и принимает испаряющуюся с поверхности Мирового океана влагу. Морские воздушные  массы переносят тепло и влагу с океана на сушу. На побережьях океанов, где происходит постоянный  перенос  морской  воздушной массы на сушу, формируется океанический (морской) клима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За всю историю жизни на Земле в биосфере существовало около полумиллиарда видов! Сегодня учёные-биологи насчитывают на планете порядка 2 миллионов видов живых существ. Формирование биосферы продолжается и сейчас. 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Содержимое 5" descr="untitled14.bmp"/>
          <p:cNvPicPr/>
          <p:nvPr/>
        </p:nvPicPr>
        <p:blipFill>
          <a:blip r:embed="rId1"/>
          <a:stretch/>
        </p:blipFill>
        <p:spPr>
          <a:xfrm>
            <a:off x="214200" y="228600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7" descr="untitled15.bmp"/>
          <p:cNvPicPr/>
          <p:nvPr/>
        </p:nvPicPr>
        <p:blipFill>
          <a:blip r:embed="rId2"/>
          <a:stretch/>
        </p:blipFill>
        <p:spPr>
          <a:xfrm>
            <a:off x="5072040" y="20718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285840" y="5500800"/>
            <a:ext cx="392904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не-зелёные водоросли дожили до сегодняшнего д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286160" y="6000840"/>
            <a:ext cx="457200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аконово дерево с Канарских островов – реликт прошлых эпо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,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Картинка 3 из 2200"/>
          <p:cNvPicPr/>
          <p:nvPr/>
        </p:nvPicPr>
        <p:blipFill>
          <a:blip r:embed="rId1"/>
          <a:stretch/>
        </p:blipFill>
        <p:spPr>
          <a:xfrm>
            <a:off x="4716360" y="476280"/>
            <a:ext cx="4273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400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заимодействие биосферы с другими оболочками Земли 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840" y="1785960"/>
            <a:ext cx="42098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иосфера связана с атмосферой круговоротом газ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Содержимое 4" descr="untitled16.bmp"/>
          <p:cNvPicPr/>
          <p:nvPr/>
        </p:nvPicPr>
        <p:blipFill>
          <a:blip r:embed="rId1"/>
          <a:stretch/>
        </p:blipFill>
        <p:spPr>
          <a:xfrm>
            <a:off x="1071720" y="2162160"/>
            <a:ext cx="2000160" cy="31543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142920" y="5929200"/>
            <a:ext cx="3643200" cy="7333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парение с листьев растений обогащае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тмосферу вла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643280" y="1785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оочи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Содержимое 5" descr="untitled18.bmp"/>
          <p:cNvPicPr/>
          <p:nvPr/>
        </p:nvPicPr>
        <p:blipFill>
          <a:blip r:embed="rId2"/>
          <a:stretch/>
        </p:blipFill>
        <p:spPr>
          <a:xfrm>
            <a:off x="4429080" y="2857680"/>
            <a:ext cx="4038480" cy="26622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истально чистая байкальская в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Содержимое 4" descr="untitled17.bmp"/>
          <p:cNvPicPr/>
          <p:nvPr/>
        </p:nvPicPr>
        <p:blipFill>
          <a:blip r:embed="rId3"/>
          <a:stretch/>
        </p:blipFill>
        <p:spPr>
          <a:xfrm>
            <a:off x="4429080" y="278604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чка-эпиш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Верхний слой земной коры (части литосферы) создаётся при активном участии живых организмов. Окаменелые растения или останки животных участвуют как в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формировании горных пород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, так и в их разрушении –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органическом выветривании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Содержимое 8" descr="untitled19.bmp"/>
          <p:cNvPicPr/>
          <p:nvPr/>
        </p:nvPicPr>
        <p:blipFill>
          <a:blip r:embed="rId1"/>
          <a:stretch/>
        </p:blipFill>
        <p:spPr>
          <a:xfrm>
            <a:off x="857160" y="2013120"/>
            <a:ext cx="2714760" cy="282708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9" descr="untitled20.bmp"/>
          <p:cNvPicPr/>
          <p:nvPr/>
        </p:nvPicPr>
        <p:blipFill>
          <a:blip r:embed="rId2"/>
          <a:stretch/>
        </p:blipFill>
        <p:spPr>
          <a:xfrm>
            <a:off x="4714920" y="2928960"/>
            <a:ext cx="4167000" cy="23572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0"/>
          <p:cNvSpPr/>
          <p:nvPr/>
        </p:nvSpPr>
        <p:spPr>
          <a:xfrm>
            <a:off x="214200" y="5500800"/>
            <a:ext cx="4000680" cy="1159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Янтарь – горная порода, образованна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з вещества биосферы: это окаменевшая смола древних хвойных деревьев,иногда в ней присутствую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«останки» живот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4857840" y="5715000"/>
            <a:ext cx="392904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рганическое выветри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Picture 5" descr="Картинка 3 из 1149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дяной пар конденсируется в верхних слоях воздуха и выпадает на землю в виде снег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0" name="Picture 11" descr="3105981_large"/>
          <p:cNvPicPr/>
          <p:nvPr/>
        </p:nvPicPr>
        <p:blipFill>
          <a:blip r:embed="rId1"/>
          <a:stretch/>
        </p:blipFill>
        <p:spPr>
          <a:xfrm>
            <a:off x="324000" y="1620720"/>
            <a:ext cx="84247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Картинка 2 из 2200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7840" y="461520"/>
            <a:ext cx="7853400" cy="66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ойства 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ажнейшими свойствами ГО являются - наличие жизни, целостность оболочки и наличие в ГО вещества  в  трех состояниях (жидком, твердом и газообразном). Характерная черта развития ГО - ритмичность. Это периодичность и повторяемость одних и тех же процессов и явлений во времен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руговорот веществ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земной коре тоже происходит круговорот вещества. Важнейшую роль в жизни ГО играет биологический  круговоро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33:58Z</dcterms:created>
  <dc:creator>1</dc:creator>
  <dc:description/>
  <dc:language>en-US</dc:language>
  <cp:lastModifiedBy>Николай</cp:lastModifiedBy>
  <dcterms:modified xsi:type="dcterms:W3CDTF">2013-01-11T10:56:22Z</dcterms:modified>
  <cp:revision>13</cp:revision>
  <dc:subject/>
  <dc:title>Географическая оболочка 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