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6.jpeg" ContentType="image/jpeg"/>
  <Override PartName="/ppt/media/image27.jpeg" ContentType="image/jpeg"/>
  <Override PartName="/ppt/media/applause.wav" ContentType="audio/x-wav"/>
  <Override PartName="/ppt/media/image10.png" ContentType="image/png"/>
  <Override PartName="/ppt/media/image35.jpeg" ContentType="image/jpeg"/>
  <Override PartName="/ppt/media/image30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.png" ContentType="image/png"/>
  <Override PartName="/ppt/media/image3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C01-6320-4B28-A19B-89536B6D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C42-F8C2-43CA-B204-CD1459A8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FA49E-8C6C-4F56-943F-BE34A88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05224-D757-4D8B-B967-A7537DF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33E60-A7CF-4883-A07B-D1B9AFE0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32F38-B540-4A50-B66C-868AC3B1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5BB3A-ED06-4A9B-A13B-1713327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C4AE3-544E-4EF8-BB4D-4B38A7C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2DEBA-F93E-4DE5-879B-44F5803A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876E2-7C4B-48FF-B22A-69D74CE7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D1BA2-E1E7-4E12-AE44-8F9998FF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DAB27-37FC-4B05-8519-C11AFEA6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F77-820B-4F10-8B7E-2E2FF69C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9BC57-BF87-428C-B995-6772275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69008-05A7-43C8-9649-7DD081E5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849EE-488C-4004-BB1F-26BCB47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0A9DB-03CE-48CC-A3C1-CB2AD83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F15FD-FEB5-40FA-9F39-75CDB501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4B4A6-3FCA-47C3-A150-D57D4087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06C90-F7A3-4B84-A815-A6531EF9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247B4-B701-4128-8FB9-0529A99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59AED-C4E7-414C-B321-7ED6E49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78843-66F9-41A2-8A24-561D6739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022-24EF-4BC4-B656-5A41FD64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D9C40-C10E-40F1-A20F-E628C495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32BA-6CCC-4784-A90A-6B6090A1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A612-0341-404F-A7AE-08E90013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1B4-379A-4195-A5A7-3E5B85E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147-D624-4CE1-AC92-7589A269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D2C2-33DE-4025-8ECF-BC1745D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47C6-BB18-4332-84C8-7ADB86C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BAA9-BBB6-4B82-9A06-5C195BC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D2A-9F45-41B1-A340-A133226E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CAF-7493-41A9-A04C-2BFF1F3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4F04-EC54-419A-A694-6EF2E9B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7284-B720-4157-9A10-23BCF3A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4225-06AC-4D78-9D84-BAAB77F7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4D5F-F238-4A2F-816D-4603041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254C-C8ED-4A89-BA7E-D801D471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2674-8236-4039-93D7-BDE780D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3855-41AD-46C9-BACC-E5726743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7A5C-F91C-469D-8E84-AB43E03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6FDF-80B7-4181-950C-FE0D6EF1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E6F-FEE1-459C-91E1-3C2013F2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39118-DAAF-4990-A5D7-5D0461A4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D625-F9A0-4BCB-AD15-D2DD601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90E6-4C46-4989-895A-7BC4379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2A83-E6C3-4346-AAF7-DC18385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F9D9-A3CB-423B-967A-F2822E1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49B5-6BEC-4DD7-8846-894D818C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50AA-6C12-408F-BFB9-765A1362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CF5C-60CF-4880-9533-B5818977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D080-1C98-48D2-A830-4B69FA3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7538-79D6-4824-B2F4-8A9AEFC9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B17-63B9-4F12-965E-885473FB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9D19-CB79-417E-96A5-8489CC28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18C5-2E47-4721-BBCD-518725D1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859B-187A-4EFF-9D67-342D262C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1ACB6-3D98-4536-B636-D103DE7E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7DC8-14CE-49CB-9DE4-EFF8CE9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E9A7-C1A3-42C3-8A12-81EC285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A0BE-5BE0-4AD8-BFD4-0E380D29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96FD-DB10-43BE-B974-0690438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B5BE-24A5-4A5D-A265-7590D2A9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D5012-E3F7-4716-A68D-93C89A12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98E-C7B9-459A-8488-7258F50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B442-49A3-4E57-BAEF-361B406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3F2D6-420A-423A-BF2F-5837336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1535-A9FA-4003-8FF6-8DA752D1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2EE2-4E62-49F5-81C4-EB823712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307C-50D4-42AA-8A83-0804DC4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A3CD-35BF-4FC8-B221-4AF78CA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B2A05-8FE7-4794-9677-0A0B1B2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BC184-9664-45EF-8E69-11D15E37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9C67-E5DE-4067-97A3-6086470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6D548-2D3D-4387-93EB-A34A16DE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E37-E7E2-475A-8026-06DEAAD6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40B7-300B-433B-B26A-65F4490E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89A9-5793-4D7A-9AB1-54211769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CF823-D69E-4110-8695-B6CA00D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52258-D522-469B-A659-5F76CE3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DDED-FCFC-4F00-BF82-7E18502B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CC0F3-7749-4CE2-877C-00BAC9A6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31CC9-C844-4A41-B240-6B9AE633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8D65-ED31-4768-BBFF-9162950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3530-C209-4792-93DC-B0AA450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D959-A15D-4FE9-8916-0A08EC1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2E6-9FD6-4841-AD2F-52F1811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7A0B8-1F80-4367-9286-126C2B3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3B437-C093-42F8-BA7C-0AC115A6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70461-C156-4612-A180-4AF5972C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0622-BF0C-4FFD-B089-6F6A6C6B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76E4-49D6-44DC-B6C8-3CCB53C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04D3-1308-4224-B005-72F598F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E978-6D73-4F10-9131-85284076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FFF7-3BAC-453E-8729-07B80949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8336-D09E-43DA-B4D0-8B547E7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2CCD3-7EE5-44C2-AAF6-C32D42E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05F-F68A-481B-808F-6DCF280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E9D8-7717-4AC9-97FD-A316C073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D368-1451-4E3D-BE49-D4E08340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3FAE-73D6-4806-8B39-B8D41846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360C-B8DD-447F-83D2-7A5CCD3E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0C6F2-4BB0-42B9-8790-94E492BE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07335-3CF3-4609-B6C3-C7BCF8F1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CECE-CAD7-484C-82C1-3C6F172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EB062-124E-4701-81DF-D7AE9FF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F4880-AEAD-40B2-B2F3-624D2FD7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F6CEA-DD68-46D0-B34E-C109E2B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030-D6A2-4E8A-90DE-D721E8FD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0283C-D9AF-4B07-8CB7-5921EF17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CC0D7-6AAB-4A5D-BBE7-601A72C4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0DF3E-A7C0-4C43-A2E8-AF3A104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89563-9FA8-4B76-8461-C4F5D56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84D0-28FB-4463-95E8-6AD5A680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7B9C5-8ED6-471F-AB35-CB151DB5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1F9C2-6985-4CF1-B5FB-64DD8D5E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2751-63EB-4AD3-8B6E-6FD2F341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FE7A7-F7E2-43B1-97B4-9FCC8567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A553-C26A-4681-84E1-8F30350C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AB6-7690-4657-A43F-7C8E606A7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5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2da2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926E-1B20-4DDD-A015-FEBA7FB5CD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751-BE4B-4654-8A74-F643DA261D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4B5E-FD60-4FCA-A325-17082AC793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696B-BB67-4361-9E62-ADCEF6B35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2AC5-7264-4FFE-8035-AE68918D15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CDE1-500D-4944-BE53-E0575398B7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B224-2558-48BA-A7FB-CCF9C792F2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588-3A85-4922-9512-9EEF07BD75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2da2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6F1-AA93-41B5-A6E2-60A7EE06E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ru.wikipedia.org/wiki/&#1050;&#1091;&#1073;&#1086;&#1082;_&#1040;&#1084;&#1077;&#1088;&#1080;&#1082;&#1080;_&#1087;&#1086;_&#1092;&#1091;&#1090;&#1073;&#1086;&#1083;&#1091;" TargetMode="External"/><Relationship Id="rId3" Type="http://schemas.openxmlformats.org/officeDocument/2006/relationships/hyperlink" Target="http://ru.wikipedia.org/wiki/&#1050;&#1091;&#1073;&#1086;&#1082;_&#1051;&#1080;&#1073;&#1077;&#1088;&#1090;&#1072;&#1076;&#1086;&#1088;&#1077;&#1089;" TargetMode="External"/><Relationship Id="rId4" Type="http://schemas.openxmlformats.org/officeDocument/2006/relationships/hyperlink" Target="http://ru.wikipedia.org/wiki/&#1050;&#1054;&#1053;&#1052;&#1045;&#1041;&#1054;&#1051;" TargetMode="External"/><Relationship Id="rId5" Type="http://schemas.openxmlformats.org/officeDocument/2006/relationships/hyperlink" Target="http://ru.wikipedia.org/wiki/&#1070;&#1078;&#1085;&#1086;&#1072;&#1084;&#1077;&#1088;&#1080;&#1082;&#1072;&#1085;&#1089;&#1082;&#1080;&#1081;_&#1050;&#1091;&#1073;&#1086;&#1082;" TargetMode="External"/><Relationship Id="rId6" Type="http://schemas.openxmlformats.org/officeDocument/2006/relationships/hyperlink" Target="http://ru.wikipedia.org/wiki/&#1050;&#1054;&#1053;&#1052;&#1045;&#1041;&#1054;&#1051;" TargetMode="External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4;&#1087;&#1080;&#1086;&#1085;&#1072;&#1090;_&#1045;&#1074;&#1088;&#1086;&#1087;&#1099;_&#1087;&#1086;_&#1092;&#1091;&#1090;&#1073;&#1086;&#1083;&#1091;" TargetMode="External"/><Relationship Id="rId2" Type="http://schemas.openxmlformats.org/officeDocument/2006/relationships/hyperlink" Target="http://ru.wikipedia.org/wiki/&#1051;&#1080;&#1075;&#1072;_&#1063;&#1077;&#1084;&#1087;&#1080;&#1086;&#1085;&#1086;&#1074;_&#1059;&#1045;&#1060;&#1040;" TargetMode="External"/><Relationship Id="rId3" Type="http://schemas.openxmlformats.org/officeDocument/2006/relationships/hyperlink" Target="http://ru.wikipedia.org/wiki/&#1050;&#1091;&#1073;&#1086;&#1082;_&#1059;&#1045;&#1060;&#1040;" TargetMode="External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ru.wikipedia.org/w/index.php?title=&#1060;&#1091;&#1090;&#1076;&#1072;&#1073;&#1083;&#1073;&#1086;&#1083;&amp;action=edit&amp;redlink=1" TargetMode="External"/><Relationship Id="rId3" Type="http://schemas.openxmlformats.org/officeDocument/2006/relationships/hyperlink" Target="http://ru.wikipedia.org/wiki/&#1055;&#1083;&#1103;&#1078;&#1085;&#1099;&#1081;_&#1092;&#1091;&#1090;&#1073;&#1086;&#1083;" TargetMode="External"/><Relationship Id="rId4" Type="http://schemas.openxmlformats.org/officeDocument/2006/relationships/hyperlink" Target="http://ru.wikipedia.org/wiki/&#1060;&#1091;&#1090;&#1079;&#1072;&#1083;_(AMF)" TargetMode="External"/><Relationship Id="rId5" Type="http://schemas.openxmlformats.org/officeDocument/2006/relationships/hyperlink" Target="http://ru.wikipedia.org/wiki/&#1052;&#1080;&#1085;&#1080;-&#1092;&#1091;&#1090;&#1073;&#1086;&#1083;" TargetMode="External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87;&#1086;&#1088;&#1090;" TargetMode="External"/><Relationship Id="rId4" Type="http://schemas.openxmlformats.org/officeDocument/2006/relationships/hyperlink" Target="http://ru.wikipedia.org/wiki/&#1060;&#1091;&#1090;&#1073;&#1086;&#1083;:&#1055;&#1088;&#1072;&#1074;&#1080;&#1083;&#1086;_2:&#1052;&#1103;&#1095;" TargetMode="External"/><Relationship Id="rId5" Type="http://schemas.openxmlformats.org/officeDocument/2006/relationships/hyperlink" Target="http://ru.wikipedia.org/wiki/&#1042;&#1086;&#1088;&#1086;&#1090;&#1072;_(&#1089;&#1087;&#1086;&#1088;&#1090;)" TargetMode="External"/><Relationship Id="rId6" Type="http://schemas.openxmlformats.org/officeDocument/2006/relationships/hyperlink" Target="http://ru.wikipedia.org/wiki/&#1042;&#1080;&#1076;_&#1089;&#1087;&#1086;&#1088;&#1090;&#1072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8;&#1072;&#1074;&#1080;&#1083;&#1086;" TargetMode="External"/><Relationship Id="rId3" Type="http://schemas.openxmlformats.org/officeDocument/2006/relationships/hyperlink" Target="http://ru.wikipedia.org/wiki/1848_&#1075;&#1086;&#1076;" TargetMode="External"/><Relationship Id="rId4" Type="http://schemas.openxmlformats.org/officeDocument/2006/relationships/hyperlink" Target="http://ru.wikipedia.org/wiki/1863_&#1075;&#1086;&#1076;" TargetMode="External"/><Relationship Id="rId5" Type="http://schemas.openxmlformats.org/officeDocument/2006/relationships/hyperlink" Target="http://ru.wikipedia.org/wiki/&#1060;&#1091;&#1090;&#1073;&#1086;&#1083;&#1100;&#1085;&#1072;&#1103;_&#1040;&#1089;&#1089;&#1086;&#1094;&#1080;&#1072;&#1094;&#1080;&#1103;_&#1040;&#1085;&#1075;&#1083;&#1080;&#1080;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u.wikipedia.org/wiki/&#1058;&#1072;&#1081;&#1084;" TargetMode="External"/><Relationship Id="rId3" Type="http://schemas.openxmlformats.org/officeDocument/2006/relationships/hyperlink" Target="http://ru.wikipedia.org/wiki/&#1060;&#1091;&#1090;&#1073;&#1086;&#1083;&#1100;&#1085;&#1086;&#1077;_&#1087;&#1086;&#1083;&#1077;" TargetMode="External"/><Relationship Id="rId4" Type="http://schemas.openxmlformats.org/officeDocument/2006/relationships/hyperlink" Target="http://ru.wikipedia.org/wiki/&#1042;&#1088;&#1072;&#1090;&#1072;&#1088;&#1100;_(&#1092;&#1091;&#1090;&#1073;&#1086;&#1083;)" TargetMode="External"/><Relationship Id="rId5" Type="http://schemas.openxmlformats.org/officeDocument/2006/relationships/hyperlink" Target="http://ru.wikipedia.org/w/index.php?title=&#1064;&#1090;&#1088;&#1072;&#1092;&#1085;&#1072;&#1103;_&#1087;&#1083;&#1086;&#1097;&#1072;&#1076;&#1100;&amp;action=edit&amp;redlink=1" TargetMode="External"/><Relationship Id="rId6" Type="http://schemas.openxmlformats.org/officeDocument/2006/relationships/hyperlink" Target="http://ru.wikipedia.org/wiki/&#1042;&#1086;&#1088;&#1086;&#1090;&#1072;_(&#1089;&#1087;&#1086;&#1088;&#1090;)" TargetMode="External"/><Relationship Id="rId7" Type="http://schemas.openxmlformats.org/officeDocument/2006/relationships/hyperlink" Target="http://ru.wikipedia.org/wiki/&#1047;&#1072;&#1097;&#1080;&#1090;&#1085;&#1080;&#1082;_(&#1092;&#1091;&#1090;&#1073;&#1086;&#1083;)" TargetMode="External"/><Relationship Id="rId8" Type="http://schemas.openxmlformats.org/officeDocument/2006/relationships/hyperlink" Target="http://ru.wikipedia.org/wiki/&#1055;&#1086;&#1083;&#1091;&#1079;&#1072;&#1097;&#1080;&#1090;&#1085;&#1080;&#1082;_(&#1092;&#1091;&#1090;&#1073;&#1086;&#1083;)" TargetMode="External"/><Relationship Id="rId9" Type="http://schemas.openxmlformats.org/officeDocument/2006/relationships/hyperlink" Target="http://ru.wikipedia.org/wiki/&#1053;&#1072;&#1087;&#1072;&#1076;&#1072;&#1102;&#1097;&#1080;&#1081;_(&#1092;&#1091;&#1090;&#1073;&#1086;&#1083;)" TargetMode="External"/><Relationship Id="rId10" Type="http://schemas.openxmlformats.org/officeDocument/2006/relationships/hyperlink" Target="http://ru.wikipedia.org/wiki/&#1043;&#1086;&#1083;_(&#1092;&#1091;&#1090;&#1073;&#1086;&#1083;)" TargetMode="External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ru.wikipedia.org/wiki/&#1047;&#1086;&#1083;&#1086;&#1090;&#1086;&#1081;_&#1075;&#1086;&#1083;" TargetMode="External"/><Relationship Id="rId3" Type="http://schemas.openxmlformats.org/officeDocument/2006/relationships/hyperlink" Target="http://ru.wikipedia.org/wiki/&#1057;&#1077;&#1088;&#1077;&#1073;&#1088;&#1103;&#1085;&#1099;&#1081;_&#1075;&#1086;&#1083;" TargetMode="External"/><Relationship Id="rId4" Type="http://schemas.openxmlformats.org/officeDocument/2006/relationships/hyperlink" Target="http://ru.wikipedia.org/wiki/&#1055;&#1086;&#1089;&#1083;&#1077;&#1084;&#1072;&#1090;&#1095;&#1077;&#1074;&#1099;&#1077;_&#1087;&#1077;&#1085;&#1072;&#1083;&#1100;&#1090;&#1080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ru.wikipedia.org/wiki/&#1060;&#1048;&#1060;&#1040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48;&#1085;&#1076;&#1086;&#1085;&#1077;&#1079;&#1080;&#1103;" TargetMode="External"/><Relationship Id="rId5" Type="http://schemas.openxmlformats.org/officeDocument/2006/relationships/hyperlink" Target="http://ru.wikipedia.org/wiki/&#1052;&#1077;&#1082;&#1089;&#1080;&#1082;&#1072;" TargetMode="External"/><Relationship Id="rId6" Type="http://schemas.openxmlformats.org/officeDocument/2006/relationships/hyperlink" Target="http://ru.wikipedia.org/wiki/&#1050;&#1080;&#1090;&#1072;&#1081;" TargetMode="External"/><Relationship Id="rId7" Type="http://schemas.openxmlformats.org/officeDocument/2006/relationships/hyperlink" Target="http://ru.wikipedia.org/wiki/&#1041;&#1088;&#1072;&#1079;&#1080;&#1083;&#1080;&#1103;" TargetMode="External"/><Relationship Id="rId8" Type="http://schemas.openxmlformats.org/officeDocument/2006/relationships/hyperlink" Target="http://ru.wikipedia.org/wiki/&#1043;&#1077;&#1088;&#1084;&#1072;&#1085;&#1080;&#1103;" TargetMode="External"/><Relationship Id="rId9" Type="http://schemas.openxmlformats.org/officeDocument/2006/relationships/hyperlink" Target="http://ru.wikipedia.org/wiki/&#1041;&#1072;&#1085;&#1075;&#1083;&#1072;&#1076;&#1077;&#1096;" TargetMode="External"/><Relationship Id="rId10" Type="http://schemas.openxmlformats.org/officeDocument/2006/relationships/hyperlink" Target="http://ru.wikipedia.org/wiki/&#1048;&#1090;&#1072;&#1083;&#1080;&#1103;" TargetMode="External"/><Relationship Id="rId11" Type="http://schemas.openxmlformats.org/officeDocument/2006/relationships/hyperlink" Target="http://ru.wikipedia.org/wiki/&#1056;&#1086;&#1089;&#1089;&#1080;&#1103;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&#1060;&#1048;&#1060;&#1040;" TargetMode="External"/><Relationship Id="rId3" Type="http://schemas.openxmlformats.org/officeDocument/2006/relationships/hyperlink" Target="http://ru.wikipedia.org/wiki/&#1062;&#1102;&#1088;&#1080;&#1093;" TargetMode="External"/><Relationship Id="rId4" Type="http://schemas.openxmlformats.org/officeDocument/2006/relationships/hyperlink" Target="http://ru.wikipedia.org/wiki/&#1064;&#1074;&#1077;&#1081;&#1094;&#1072;&#1088;&#1080;&#1103;" TargetMode="External"/><Relationship Id="rId5" Type="http://schemas.openxmlformats.org/officeDocument/2006/relationships/hyperlink" Target="http://ru.wikipedia.org/wiki/&#1063;&#1077;&#1084;&#1087;&#1080;&#1086;&#1085;&#1072;&#1090;_&#1084;&#1080;&#1088;&#1072;_&#1087;&#1086;_&#1092;&#1091;&#1090;&#1073;&#1086;&#1083;&#1091;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4;&#1087;&#1080;&#1086;&#1085;&#1072;&#1090;_&#1084;&#1080;&#1088;&#1072;_&#1087;&#1086;_&#1092;&#1091;&#1090;&#1073;&#1086;&#1083;&#1091;" TargetMode="External"/><Relationship Id="rId2" Type="http://schemas.openxmlformats.org/officeDocument/2006/relationships/hyperlink" Target="http://ru.wikipedia.org/wiki/&#1060;&#1091;&#1090;&#1073;&#1086;&#1083;_&#1085;&#1072;_&#1054;&#1083;&#1080;&#1084;&#1087;&#1080;&#1081;&#1089;&#1082;&#1080;&#1093;_&#1080;&#1075;&#1088;&#1072;&#1093;" TargetMode="External"/><Relationship Id="rId3" Type="http://schemas.openxmlformats.org/officeDocument/2006/relationships/hyperlink" Target="http://ru.wikipedia.org/wiki/&#1050;&#1083;&#1091;&#1073;&#1085;&#1099;&#1081;_&#1095;&#1077;&#1084;&#1087;&#1080;&#1086;&#1085;&#1072;&#1090;_&#1084;&#1080;&#1088;&#1072;_&#1087;&#1086;_&#1092;&#1091;&#1090;&#1073;&#1086;&#1083;&#1091;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6199200" cy="184140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chto_nuzhno_izmenit_v_rossiiskom_futbole_2.jpg"/>
          <p:cNvPicPr/>
          <p:nvPr/>
        </p:nvPicPr>
        <p:blipFill>
          <a:blip r:embed="rId2"/>
          <a:stretch/>
        </p:blipFill>
        <p:spPr>
          <a:xfrm>
            <a:off x="92160" y="-566640"/>
            <a:ext cx="4308480" cy="405900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Мяч.jpg"/>
          <p:cNvPicPr/>
          <p:nvPr/>
        </p:nvPicPr>
        <p:blipFill>
          <a:blip r:embed="rId3"/>
          <a:stretch/>
        </p:blipFill>
        <p:spPr>
          <a:xfrm>
            <a:off x="5383080" y="2255760"/>
            <a:ext cx="4084920" cy="3949920"/>
          </a:xfrm>
          <a:prstGeom prst="rect">
            <a:avLst/>
          </a:prstGeom>
          <a:ln w="0">
            <a:noFill/>
          </a:ln>
        </p:spPr>
      </p:pic>
      <p:sp>
        <p:nvSpPr>
          <p:cNvPr id="471" name="Содержимое 1"/>
          <p:cNvSpPr/>
          <p:nvPr/>
        </p:nvSpPr>
        <p:spPr>
          <a:xfrm>
            <a:off x="0" y="4572000"/>
            <a:ext cx="3714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МОУ СОШ №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Г.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Уль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63360">
            <a:solidFill>
              <a:srgbClr val="d3eef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Рисунок 5" descr="myblog-103256-1211881815_thumb.jpg"/>
          <p:cNvPicPr/>
          <p:nvPr/>
        </p:nvPicPr>
        <p:blipFill>
          <a:blip r:embed="rId1"/>
          <a:stretch/>
        </p:blipFill>
        <p:spPr>
          <a:xfrm>
            <a:off x="6391440" y="2214720"/>
            <a:ext cx="2752560" cy="4357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-360" y="2642760"/>
            <a:ext cx="60721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Кубок Америк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убок Либертадорес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КОНМЕБОЛ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Южноамериканский Кубо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КОНМЕБОЛ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5" name="Заголовок 2" descr=""/>
          <p:cNvPicPr/>
          <p:nvPr/>
        </p:nvPicPr>
        <p:blipFill>
          <a:blip r:embed="rId7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3" descr="14193.gif"/>
          <p:cNvPicPr/>
          <p:nvPr/>
        </p:nvPicPr>
        <p:blipFill>
          <a:blip r:embed="rId8"/>
          <a:stretch/>
        </p:blipFill>
        <p:spPr>
          <a:xfrm>
            <a:off x="7182000" y="390600"/>
            <a:ext cx="1822320" cy="182880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06_IMG_3627_fo.jpg"/>
          <p:cNvPicPr/>
          <p:nvPr/>
        </p:nvPicPr>
        <p:blipFill>
          <a:blip r:embed="rId9"/>
          <a:stretch/>
        </p:blipFill>
        <p:spPr>
          <a:xfrm rot="579000">
            <a:off x="223920" y="1258560"/>
            <a:ext cx="157140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2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6500"/>
                            </p:stCondLst>
                            <p:childTnLst>
                              <p:par>
                                <p:cTn id="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2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5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0" y="1801440"/>
            <a:ext cx="52862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Чемпионат Европы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Лига Чемпионов УЕ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убок УЕ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9" name="Заголовок 2" descr=""/>
          <p:cNvPicPr/>
          <p:nvPr/>
        </p:nvPicPr>
        <p:blipFill>
          <a:blip r:embed="rId4"/>
          <a:stretch/>
        </p:blipFill>
        <p:spPr>
          <a:xfrm>
            <a:off x="237960" y="-648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LOGO_UEFA_Cup.jpg"/>
          <p:cNvPicPr/>
          <p:nvPr/>
        </p:nvPicPr>
        <p:blipFill>
          <a:blip r:embed="rId5"/>
          <a:stretch/>
        </p:blipFill>
        <p:spPr>
          <a:xfrm>
            <a:off x="5254560" y="-189000"/>
            <a:ext cx="3608280" cy="730260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6" descr="1207395947_0-4.jpg"/>
          <p:cNvPicPr/>
          <p:nvPr/>
        </p:nvPicPr>
        <p:blipFill>
          <a:blip r:embed="rId6"/>
          <a:stretch/>
        </p:blipFill>
        <p:spPr>
          <a:xfrm>
            <a:off x="5121360" y="3333600"/>
            <a:ext cx="3949560" cy="347508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48831.jpg"/>
          <p:cNvPicPr/>
          <p:nvPr/>
        </p:nvPicPr>
        <p:blipFill>
          <a:blip r:embed="rId7"/>
          <a:stretch/>
        </p:blipFill>
        <p:spPr>
          <a:xfrm>
            <a:off x="360360" y="4657680"/>
            <a:ext cx="3565440" cy="406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0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3" descr="futsal_TAJM_vs_TVD__Evgeny_ROGACHOV_1-5_(Kraws)_7288.jpg"/>
          <p:cNvPicPr/>
          <p:nvPr/>
        </p:nvPicPr>
        <p:blipFill>
          <a:blip r:embed="rId1"/>
          <a:stretch/>
        </p:blipFill>
        <p:spPr>
          <a:xfrm>
            <a:off x="5924520" y="4780080"/>
            <a:ext cx="3011400" cy="20844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0" y="92844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Существует множество разновидностей футбола, в основном с меньшим количеством игроков — в том числе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утдаблбо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ется двумя мячами),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пляжный футбо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ется на песке),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футзал (AMF)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футзал (FIFA) (мини-футбол)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оскольку популярность футбола очень высока, существует много игр, имитирующих футбо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Заголовок 2" descr=""/>
          <p:cNvPicPr/>
          <p:nvPr/>
        </p:nvPicPr>
        <p:blipFill>
          <a:blip r:embed="rId6"/>
          <a:stretch/>
        </p:blipFill>
        <p:spPr>
          <a:xfrm>
            <a:off x="195120" y="182520"/>
            <a:ext cx="8498160" cy="897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6" descr="e91bc3e5254d.jpg"/>
          <p:cNvPicPr/>
          <p:nvPr/>
        </p:nvPicPr>
        <p:blipFill>
          <a:blip r:embed="rId1"/>
          <a:stretch/>
        </p:blipFill>
        <p:spPr>
          <a:xfrm rot="986400">
            <a:off x="509400" y="560520"/>
            <a:ext cx="3168360" cy="43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7" name=""/>
          <p:cNvSpPr txBox="1"/>
          <p:nvPr/>
        </p:nvSpPr>
        <p:spPr>
          <a:xfrm>
            <a:off x="4572000" y="4786200"/>
            <a:ext cx="4114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Победы во всех         играх!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63360">
            <a:solidFill>
              <a:srgbClr val="d3eef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applause.wav"/>
      </p:stSnd>
    </p:sndAc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2" descr="image004.jpg"/>
          <p:cNvPicPr/>
          <p:nvPr/>
        </p:nvPicPr>
        <p:blipFill>
          <a:blip r:embed="rId1"/>
          <a:stretch/>
        </p:blipFill>
        <p:spPr>
          <a:xfrm>
            <a:off x="4237200" y="3432240"/>
            <a:ext cx="4967280" cy="3541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0" y="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Футбо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англ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Football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«ножной мяч») — командный вид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спор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в котором целью является забить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мяч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воро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оперника ногами или другими частями тела (кроме рук) наибольшее количество раз. В настоящее время самый популярный и массовый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вид спор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мир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Рисунок 3" descr="e14055e9bf52e3dadfe0959e74993a1e-1.jpg"/>
          <p:cNvPicPr/>
          <p:nvPr/>
        </p:nvPicPr>
        <p:blipFill>
          <a:blip r:embed="rId1"/>
          <a:stretch/>
        </p:blipFill>
        <p:spPr>
          <a:xfrm>
            <a:off x="4475160" y="-6480"/>
            <a:ext cx="4529160" cy="3756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гры, похожие на современный футбол, существовали достаточно давно у разных народов, однако первые записанные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правила</a:t>
            </a:r>
            <a:r>
              <a:rPr b="0" lang="ru-RU" sz="2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датированы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1848 годо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 Датой рождения футбола считается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1863 год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, когда была организована первая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Ассоциация футбол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и записаны правила, похожие на современные. История футбола действительно началась очень давно. Так, например, и в Египте и в Германии и в Китае были игры похожие на футбол. Самая удачная игра появившаяся очень давно называлась Харпастум и придумали ее итальянцы. Но когда появился современный футбол, харпастум затмился. Когда англичане придумали футбол, они сразу стали распространять его во всех странах, включая Россию. Тогда в чемпионате было очень много английских команд. Из российских самая удачливая тогда команда была Питерский кружок рукоделия. О футболе в России впервые было сказано в книге «игры с мячом на воздухе» одного из доктор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6"/>
          <a:stretch/>
        </p:blipFill>
        <p:spPr>
          <a:xfrm>
            <a:off x="195120" y="-6480"/>
            <a:ext cx="89553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127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9,-122,-3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127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9,-122,-3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5" descr="02.jpg"/>
          <p:cNvPicPr/>
          <p:nvPr/>
        </p:nvPicPr>
        <p:blipFill>
          <a:blip r:embed="rId1"/>
          <a:stretch/>
        </p:blipFill>
        <p:spPr>
          <a:xfrm>
            <a:off x="5857920" y="5572080"/>
            <a:ext cx="3286080" cy="12859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0" y="9288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тдельная футбольная игра называется — матч, который в свою очередь состоит из двух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тайм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 футбол играют на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пол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вратарь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) может играть руками в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штрафной площад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у своих ворот, его основной задачей является защита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ворот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 Остальные игроки также имеют свои задачи и позиции на поле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Защитник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располагаются в основном на своей половине поля, их задача — противодействовать нападающим игрокам противоположной команды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Полузащитник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действуют в середине поля, их роль — помогать защитникам или нападающим в зависимости от игровой ситуации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Нападающи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располагаются, преимущественно на половине поля соперника, основная задача — забивать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голы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Заголовок 2" descr=""/>
          <p:cNvPicPr/>
          <p:nvPr/>
        </p:nvPicPr>
        <p:blipFill>
          <a:blip r:embed="rId11"/>
          <a:stretch/>
        </p:blipFill>
        <p:spPr>
          <a:xfrm>
            <a:off x="195120" y="146160"/>
            <a:ext cx="8498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6ba800e407fb.jpg"/>
          <p:cNvPicPr/>
          <p:nvPr/>
        </p:nvPicPr>
        <p:blipFill>
          <a:blip r:embed="rId1"/>
          <a:stretch/>
        </p:blipFill>
        <p:spPr>
          <a:xfrm>
            <a:off x="7437600" y="92160"/>
            <a:ext cx="1981080" cy="27176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-214200" y="-360"/>
            <a:ext cx="82864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Цель игры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дополнительное время —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 Одно время в футболе существовало правило, по которому победителем объявлялась команда, первой забившая гол (правило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«золотого гола»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) или выигрывавшая по окончании любого из дополнительных таймов (правило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«серебряного гола»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послематчевых пенальти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не являющихся частью матча : по воротам противника с расстояния 11 метров пробивается по пять ударов разными игроками. Если количество забитых пенальти у обоих команд будет равным тогда пробиваются по одной паре пенальти, пока не будет выявлен победител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2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Рисунок 3" descr="10442.jpg"/>
          <p:cNvPicPr/>
          <p:nvPr/>
        </p:nvPicPr>
        <p:blipFill>
          <a:blip r:embed="rId1"/>
          <a:stretch/>
        </p:blipFill>
        <p:spPr>
          <a:xfrm>
            <a:off x="5857920" y="1628640"/>
            <a:ext cx="3286080" cy="33847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00080"/>
            <a:ext cx="5857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гласно заявлению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ИФ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в 2001 году в футбол на планете играло около 250 миллионов человек. Из них более 20 миллионов — женщины. Зарегистрировано около 1,5 миллиона команд и 300 000 профессиональных клубов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распределении по странам на первом месте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СШ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примерно 18 миллионов, из которых 40 % женщины), затем идут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Индонез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10 миллионов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Мексик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,4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Китай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Бразил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 миллионов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Герман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6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Бангладеш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5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Итал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4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Росс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3,8 миллиона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5" name="Заголовок 2" descr=""/>
          <p:cNvPicPr/>
          <p:nvPr/>
        </p:nvPicPr>
        <p:blipFill>
          <a:blip r:embed="rId12"/>
          <a:stretch/>
        </p:blipFill>
        <p:spPr>
          <a:xfrm>
            <a:off x="195120" y="-60480"/>
            <a:ext cx="8498160" cy="92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2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5" descr="326469.JPEG"/>
          <p:cNvPicPr/>
          <p:nvPr/>
        </p:nvPicPr>
        <p:blipFill>
          <a:blip r:embed="rId1"/>
          <a:stretch/>
        </p:blipFill>
        <p:spPr>
          <a:xfrm>
            <a:off x="7176960" y="4572000"/>
            <a:ext cx="1967040" cy="1881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0" y="1801440"/>
            <a:ext cx="6858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Организаци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уществует ряд организаций, осуществляющих контроль, управление и распространение футбола. Основной является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ИФ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, расположенная в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Цюрихе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Швейцария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. Она занимается организацией международных соревнований мирового масштаба, в частности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чемпионата мир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. Далее идут континентальные организации и организации по странам, областям и городам и т. 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Клубы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Футбольный клуб 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Заголовок 2" descr=""/>
          <p:cNvPicPr/>
          <p:nvPr/>
        </p:nvPicPr>
        <p:blipFill>
          <a:blip r:embed="rId6"/>
          <a:stretch/>
        </p:blipFill>
        <p:spPr>
          <a:xfrm>
            <a:off x="1023840" y="-60480"/>
            <a:ext cx="7669440" cy="92556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4" descr="av-29759.jpg"/>
          <p:cNvPicPr/>
          <p:nvPr/>
        </p:nvPicPr>
        <p:blipFill>
          <a:blip r:embed="rId7"/>
          <a:stretch/>
        </p:blipFill>
        <p:spPr>
          <a:xfrm>
            <a:off x="7215120" y="24289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6" descr="94905.jpg"/>
          <p:cNvPicPr/>
          <p:nvPr/>
        </p:nvPicPr>
        <p:blipFill>
          <a:blip r:embed="rId8"/>
          <a:stretch/>
        </p:blipFill>
        <p:spPr>
          <a:xfrm>
            <a:off x="8101080" y="-6480"/>
            <a:ext cx="1066680" cy="20732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9" descr="1234713906_images.jpeg"/>
          <p:cNvPicPr/>
          <p:nvPr/>
        </p:nvPicPr>
        <p:blipFill>
          <a:blip r:embed="rId9"/>
          <a:stretch/>
        </p:blipFill>
        <p:spPr>
          <a:xfrm>
            <a:off x="2262240" y="853920"/>
            <a:ext cx="1187280" cy="22798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0" descr="user4189_pic5915_1214818591_thumb.jpg"/>
          <p:cNvPicPr/>
          <p:nvPr/>
        </p:nvPicPr>
        <p:blipFill>
          <a:blip r:embed="rId10"/>
          <a:stretch/>
        </p:blipFill>
        <p:spPr>
          <a:xfrm>
            <a:off x="-122400" y="-66600"/>
            <a:ext cx="1543320" cy="16095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8" descr="real_madrid_cf_brief.png"/>
          <p:cNvPicPr/>
          <p:nvPr/>
        </p:nvPicPr>
        <p:blipFill>
          <a:blip r:embed="rId11"/>
          <a:stretch/>
        </p:blipFill>
        <p:spPr>
          <a:xfrm>
            <a:off x="6572160" y="642960"/>
            <a:ext cx="1214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ревнования по футболу, как и в любом другом виде спорта 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Заголовок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08612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3" descr="560_2.jpg"/>
          <p:cNvPicPr/>
          <p:nvPr/>
        </p:nvPicPr>
        <p:blipFill>
          <a:blip r:embed="rId2"/>
          <a:stretch/>
        </p:blipFill>
        <p:spPr>
          <a:xfrm>
            <a:off x="428760" y="392904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4" descr="Zenit_YEFA.jpg"/>
          <p:cNvPicPr/>
          <p:nvPr/>
        </p:nvPicPr>
        <p:blipFill>
          <a:blip r:embed="rId3"/>
          <a:stretch/>
        </p:blipFill>
        <p:spPr>
          <a:xfrm>
            <a:off x="4572000" y="3929040"/>
            <a:ext cx="339408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00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-360" y="1856880"/>
            <a:ext cx="6429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Чемпионат мир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Олимпийские игры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лубный чемпионат мира ФИ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Заголовок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3" descr="fifa.jpg"/>
          <p:cNvPicPr/>
          <p:nvPr/>
        </p:nvPicPr>
        <p:blipFill>
          <a:blip r:embed="rId5"/>
          <a:stretch/>
        </p:blipFill>
        <p:spPr>
          <a:xfrm>
            <a:off x="5194440" y="-36360"/>
            <a:ext cx="4578120" cy="42177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5" descr="12264010180_autozoom_120x160.jpg"/>
          <p:cNvPicPr/>
          <p:nvPr/>
        </p:nvPicPr>
        <p:blipFill>
          <a:blip r:embed="rId6"/>
          <a:stretch/>
        </p:blipFill>
        <p:spPr>
          <a:xfrm>
            <a:off x="1652760" y="4675320"/>
            <a:ext cx="1066680" cy="314640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6" descr="CAWHURGL-web.jpg"/>
          <p:cNvPicPr/>
          <p:nvPr/>
        </p:nvPicPr>
        <p:blipFill>
          <a:blip r:embed="rId7"/>
          <a:stretch/>
        </p:blipFill>
        <p:spPr>
          <a:xfrm>
            <a:off x="4406760" y="4627440"/>
            <a:ext cx="1974960" cy="175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900"/>
                            </p:stCondLst>
                            <p:childTnLst>
                              <p:par>
                                <p:cTn id="3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500"/>
                            </p:stCondLst>
                            <p:childTnLst>
                              <p:par>
                                <p:cTn id="3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20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500"/>
                            </p:stCondLst>
                            <p:childTnLst>
                              <p:par>
                                <p:cTn id="3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650"/>
                            </p:stCondLst>
                            <p:childTnLst>
                              <p:par>
                                <p:cTn id="3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22:12Z</dcterms:created>
  <dc:creator>Kutuzov</dc:creator>
  <dc:description/>
  <dc:language>en-US</dc:language>
  <cp:lastModifiedBy>Admin</cp:lastModifiedBy>
  <dcterms:modified xsi:type="dcterms:W3CDTF">2012-07-28T07:22:25Z</dcterms:modified>
  <cp:revision>31</cp:revision>
  <dc:subject/>
  <dc:title>Футбол</dc:title>
</cp:coreProperties>
</file>