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6.jpeg" ContentType="image/jpeg"/>
  <Override PartName="/ppt/media/image27.jpeg" ContentType="image/jpeg"/>
  <Override PartName="/ppt/media/applause.wav" ContentType="audio/x-wav"/>
  <Override PartName="/ppt/media/image10.png" ContentType="image/png"/>
  <Override PartName="/ppt/media/image35.jpeg" ContentType="image/jpeg"/>
  <Override PartName="/ppt/media/image30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png" ContentType="image/png"/>
  <Override PartName="/ppt/media/image3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140-B6E2-4139-839F-BBD60C71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578-5CCF-4A06-A5A4-CF885E8E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F2EB8-F121-4D50-BE25-3FD8788C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336D0-714C-44F5-96BF-2DD2109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073A8-A61D-44CA-A0C6-7574480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23B9-95E2-441F-8320-CC62AC3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D604E-5AFF-4D2A-B055-5F14E43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FBE3-FDA8-498F-860F-A526338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E0419-2090-47BE-97A7-4F14EFB3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5EAFF-4B34-4BF0-8114-260215E5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3230-52DE-434A-AB15-C0A4CF0C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0EED3-AB02-4B20-AAAC-B439B1F5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F82-8693-4662-9BDF-DDC73590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AB51B-8A5D-421E-A091-4D2330FF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74424-B77B-4DD9-8975-335F07D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413B3-3501-430E-9415-7381BF72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7B128-203A-478F-95FE-A98EEBE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D6CD3-5E9E-4B4B-9FB0-D4AF4C7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57EA6-0C54-4D00-99BA-8DE0F4F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64B0-F713-4C6C-B7C4-0E4C55C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FC5B5-335B-4BB9-9A8F-EC0AAF0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83546-C33F-4CEE-8762-270E4E3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4321F-5F69-4AB1-B553-CC2C5668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A27-4886-4895-877A-ACE9747B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7FA60-F739-46AA-97CE-074CBA11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4EC8-C86E-4CA1-8A80-A529C003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840F-D3ED-4EDD-9841-6987D03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AF1-A9AD-4BFB-8DAE-BD87CAB6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958-39D7-4A0B-A558-84250B7A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8544-0BB5-486B-ABFB-C7F1BCA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4FA6-C9D8-41F6-B522-16BE75B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7EA0-C5EE-47BC-B05C-9AAE55B1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A4D-62FE-456E-BEDF-B1AEE350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0F9-0145-4048-9727-7A63F52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EE4C-3DB4-4A22-8EB3-B1B005B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B8F-00C1-4F38-B1B4-85E6A614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1278-7310-47B5-B25B-2BF8104F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160A-7B53-4A0A-8916-D6DD3B4D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907C-688D-4F54-94EC-8847432D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BA09-03AD-4536-B54E-DAFDC80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D70D-5D72-40BD-BE80-0981300F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B73D-AE2A-43FB-9C1C-E33F850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6B92-8AF9-4A3D-9805-D576AB42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F12-9A21-4A13-A6CB-4A5E751D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4464-6750-4B93-8A4B-2BF970BC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A511-2019-4C03-9CF3-069A10B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7A74-A716-4F17-B930-6BB8AAE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9896-5751-4236-AC61-2698B698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8866-EBCF-492D-AC6A-670FFB1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5875-E254-487C-AE47-308ED627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DCD4-8149-4F7B-85F9-CE78350C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98930-CC90-4AFF-A94A-8D6D14E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DC47-D40D-41B2-98BF-951A567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6285-16D0-448B-90FB-B35DEED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EC2-B2B8-4E2F-8499-FB465851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C5CB-EF44-49D8-8BBE-A5844A5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217B-4E8B-45A0-9683-BE51DCF6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80C6-A121-48D4-A948-E1CCAFC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DD99-F4A0-40C5-B47D-F387702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F1DC-E96A-491E-9A8A-D77008E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D588-2F03-49D5-AFF1-D376625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4097-7395-4A2A-8BA4-755E5DD8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3641-A9CA-4FA4-9B13-B2D47E43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C9D6-5051-40B4-AC50-0A49CC51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CD48-62E8-4AD7-ABC4-1C7B8AA1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F97-E3AD-48F4-A293-CAE020E4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A0A3-FB66-4EB0-A952-C4AE3CB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6927-4CB1-4556-8C0E-65C64A0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F26E-55CD-4D36-A158-D0DD954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3F00-AA82-4E3B-9D0D-3ED74892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8C8A5-9034-42A8-8B1A-084DC22F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3EB53-F181-4C3F-AD8B-303481E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B7953-5360-4ED9-9492-12A85DF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4B389-48DF-45D9-A11E-55E8CEF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18F28-F342-4C00-A067-58BF7AC4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9626-5789-4B77-9D3E-C64DA6FA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6EE-49DA-446A-8DBC-3A971F2D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778C-3B6C-4F96-9CB3-ACBAC943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7D17-1895-4D01-8C5B-613CEF16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7C36-0547-471D-8185-9670C57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60D2-0AF1-4EED-B3F0-E692DDC7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C3F47-D73A-4378-AC35-D95F1FEA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613C-8626-4A05-A842-68AFB3A6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F129-C2AB-40CF-8EA9-0DCF4046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3F4F-CECB-4EAB-BF7E-BDC3D94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9FE97-C5A2-42DB-AEB1-DDB4D3E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113B-7F14-4CC0-A3C1-93AD99D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2FB-58E4-4A84-A50C-F9DA96D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5D36-1796-44C7-AEE8-1D8D89D4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9ADB-72FF-4799-BA40-1AC3111D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03D7-F753-4EDF-829A-B6F16241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38DD-9678-41D0-9E7A-3D963597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BAFE-5D25-4523-A4DE-B6E111E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3007-46CC-4258-8D19-17AAA69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91E9-B315-4B12-8063-3D14517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2205-A62B-47C6-A3CD-7EC375B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419A-5484-4D81-8FEE-C89CCF5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49C3-576C-45BC-9647-86BE3CA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0E0-B53B-4E14-91EA-BA99E69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B7BA-9D70-4E45-A87F-D216C88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68903-4ED5-4B68-8AA4-49C7118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912D-5C7B-4DBF-9D76-8F688C3B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50A0-28D8-416D-9794-6B78E732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E611-F835-4F42-AD8E-DC6FE8B4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A84C7-048C-4BDD-899F-2BAA1266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78E5-E157-43E8-83E5-C5AF08FC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28E7-7FC2-4601-86AC-6F64B429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FC3A-87CB-4DC3-93AE-E920761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23E0-5385-4491-8C6A-DE9681B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76A-9D84-4157-92F5-F743E2E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2DE2B-9E9A-4CD7-8EFC-6B48424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8C9E9-E5D5-443B-8DD6-E149996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120AC-1AE7-44FC-9BA2-B21F1D05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B956-507A-4A8A-AAAA-D4ED33EB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35A4-09DE-43FF-AE64-1A38F137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F501-0FA5-448F-BB0D-A8F744E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6D4C-CD1D-426D-90EF-1BA915F1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5C13B-D638-4E94-AF74-D7EEC8E8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CE6DF-CAF9-4D9A-8F6F-82E1F66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99B5-81FE-41A1-B515-1581630A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A5D-F510-46E4-B1C7-772969107E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5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CCF-B220-4A05-9D15-EB59E5CEBE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120-5E0E-4BB6-8122-FBC82B7C8D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50DA-7F2B-444A-A84B-743C0CB85B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267D-5ADF-4572-9305-CB33E24880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8F8-5F6B-4D77-85C5-132A7B2147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628F-7B85-46BF-8695-563BC67830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DB1E-682B-40B7-89FC-C58F04BF02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1BBF-8D2C-4EC2-B75F-E8CC8B99E9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860-9DFD-4E51-90A5-CF3D573D81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ru.wikipedia.org/wiki/&#1050;&#1091;&#1073;&#1086;&#1082;_&#1040;&#1084;&#1077;&#1088;&#1080;&#1082;&#1080;_&#1087;&#1086;_&#1092;&#1091;&#1090;&#1073;&#1086;&#1083;&#1091;" TargetMode="External"/><Relationship Id="rId3" Type="http://schemas.openxmlformats.org/officeDocument/2006/relationships/hyperlink" Target="http://ru.wikipedia.org/wiki/&#1050;&#1091;&#1073;&#1086;&#1082;_&#1051;&#1080;&#1073;&#1077;&#1088;&#1090;&#1072;&#1076;&#1086;&#1088;&#1077;&#1089;" TargetMode="External"/><Relationship Id="rId4" Type="http://schemas.openxmlformats.org/officeDocument/2006/relationships/hyperlink" Target="http://ru.wikipedia.org/wiki/&#1050;&#1054;&#1053;&#1052;&#1045;&#1041;&#1054;&#1051;" TargetMode="External"/><Relationship Id="rId5" Type="http://schemas.openxmlformats.org/officeDocument/2006/relationships/hyperlink" Target="http://ru.wikipedia.org/wiki/&#1070;&#1078;&#1085;&#1086;&#1072;&#1084;&#1077;&#1088;&#1080;&#1082;&#1072;&#1085;&#1089;&#1082;&#1080;&#1081;_&#1050;&#1091;&#1073;&#1086;&#1082;" TargetMode="External"/><Relationship Id="rId6" Type="http://schemas.openxmlformats.org/officeDocument/2006/relationships/hyperlink" Target="http://ru.wikipedia.org/wiki/&#1050;&#1054;&#1053;&#1052;&#1045;&#1041;&#1054;&#1051;" TargetMode="External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45;&#1074;&#1088;&#1086;&#1087;&#1099;_&#1087;&#1086;_&#1092;&#1091;&#1090;&#1073;&#1086;&#1083;&#1091;" TargetMode="External"/><Relationship Id="rId2" Type="http://schemas.openxmlformats.org/officeDocument/2006/relationships/hyperlink" Target="http://ru.wikipedia.org/wiki/&#1051;&#1080;&#1075;&#1072;_&#1063;&#1077;&#1084;&#1087;&#1080;&#1086;&#1085;&#1086;&#1074;_&#1059;&#1045;&#1060;&#1040;" TargetMode="External"/><Relationship Id="rId3" Type="http://schemas.openxmlformats.org/officeDocument/2006/relationships/hyperlink" Target="http://ru.wikipedia.org/wiki/&#1050;&#1091;&#1073;&#1086;&#1082;_&#1059;&#1045;&#1060;&#1040;" TargetMode="External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ru.wikipedia.org/w/index.php?title=&#1060;&#1091;&#1090;&#1076;&#1072;&#1073;&#1083;&#1073;&#1086;&#1083;&amp;action=edit&amp;redlink=1" TargetMode="External"/><Relationship Id="rId3" Type="http://schemas.openxmlformats.org/officeDocument/2006/relationships/hyperlink" Target="http://ru.wikipedia.org/wiki/&#1055;&#1083;&#1103;&#1078;&#1085;&#1099;&#1081;_&#1092;&#1091;&#1090;&#1073;&#1086;&#1083;" TargetMode="External"/><Relationship Id="rId4" Type="http://schemas.openxmlformats.org/officeDocument/2006/relationships/hyperlink" Target="http://ru.wikipedia.org/wiki/&#1060;&#1091;&#1090;&#1079;&#1072;&#1083;_(AMF)" TargetMode="External"/><Relationship Id="rId5" Type="http://schemas.openxmlformats.org/officeDocument/2006/relationships/hyperlink" Target="http://ru.wikipedia.org/wiki/&#1052;&#1080;&#1085;&#1080;-&#1092;&#1091;&#1090;&#1073;&#1086;&#1083;" TargetMode="External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87;&#1086;&#1088;&#1090;" TargetMode="External"/><Relationship Id="rId4" Type="http://schemas.openxmlformats.org/officeDocument/2006/relationships/hyperlink" Target="http://ru.wikipedia.org/wiki/&#1060;&#1091;&#1090;&#1073;&#1086;&#1083;:&#1055;&#1088;&#1072;&#1074;&#1080;&#1083;&#1086;_2:&#1052;&#1103;&#1095;" TargetMode="External"/><Relationship Id="rId5" Type="http://schemas.openxmlformats.org/officeDocument/2006/relationships/hyperlink" Target="http://ru.wikipedia.org/wiki/&#1042;&#1086;&#1088;&#1086;&#1090;&#1072;_(&#1089;&#1087;&#1086;&#1088;&#1090;)" TargetMode="External"/><Relationship Id="rId6" Type="http://schemas.openxmlformats.org/officeDocument/2006/relationships/hyperlink" Target="http://ru.wikipedia.org/wiki/&#1042;&#1080;&#1076;_&#1089;&#1087;&#1086;&#1088;&#1090;&#1072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8;&#1072;&#1074;&#1080;&#1083;&#1086;" TargetMode="External"/><Relationship Id="rId3" Type="http://schemas.openxmlformats.org/officeDocument/2006/relationships/hyperlink" Target="http://ru.wikipedia.org/wiki/1848_&#1075;&#1086;&#1076;" TargetMode="External"/><Relationship Id="rId4" Type="http://schemas.openxmlformats.org/officeDocument/2006/relationships/hyperlink" Target="http://ru.wikipedia.org/wiki/1863_&#1075;&#1086;&#1076;" TargetMode="External"/><Relationship Id="rId5" Type="http://schemas.openxmlformats.org/officeDocument/2006/relationships/hyperlink" Target="http://ru.wikipedia.org/wiki/&#1060;&#1091;&#1090;&#1073;&#1086;&#1083;&#1100;&#1085;&#1072;&#1103;_&#1040;&#1089;&#1089;&#1086;&#1094;&#1080;&#1072;&#1094;&#1080;&#1103;_&#1040;&#1085;&#1075;&#1083;&#1080;&#1080;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&#1058;&#1072;&#1081;&#1084;" TargetMode="External"/><Relationship Id="rId3" Type="http://schemas.openxmlformats.org/officeDocument/2006/relationships/hyperlink" Target="http://ru.wikipedia.org/wiki/&#1060;&#1091;&#1090;&#1073;&#1086;&#1083;&#1100;&#1085;&#1086;&#1077;_&#1087;&#1086;&#1083;&#1077;" TargetMode="External"/><Relationship Id="rId4" Type="http://schemas.openxmlformats.org/officeDocument/2006/relationships/hyperlink" Target="http://ru.wikipedia.org/wiki/&#1042;&#1088;&#1072;&#1090;&#1072;&#1088;&#1100;_(&#1092;&#1091;&#1090;&#1073;&#1086;&#1083;)" TargetMode="External"/><Relationship Id="rId5" Type="http://schemas.openxmlformats.org/officeDocument/2006/relationships/hyperlink" Target="http://ru.wikipedia.org/w/index.php?title=&#1064;&#1090;&#1088;&#1072;&#1092;&#1085;&#1072;&#1103;_&#1087;&#1083;&#1086;&#1097;&#1072;&#1076;&#1100;&amp;action=edit&amp;redlink=1" TargetMode="External"/><Relationship Id="rId6" Type="http://schemas.openxmlformats.org/officeDocument/2006/relationships/hyperlink" Target="http://ru.wikipedia.org/wiki/&#1042;&#1086;&#1088;&#1086;&#1090;&#1072;_(&#1089;&#1087;&#1086;&#1088;&#1090;)" TargetMode="External"/><Relationship Id="rId7" Type="http://schemas.openxmlformats.org/officeDocument/2006/relationships/hyperlink" Target="http://ru.wikipedia.org/wiki/&#1047;&#1072;&#1097;&#1080;&#1090;&#1085;&#1080;&#1082;_(&#1092;&#1091;&#1090;&#1073;&#1086;&#1083;)" TargetMode="External"/><Relationship Id="rId8" Type="http://schemas.openxmlformats.org/officeDocument/2006/relationships/hyperlink" Target="http://ru.wikipedia.org/wiki/&#1055;&#1086;&#1083;&#1091;&#1079;&#1072;&#1097;&#1080;&#1090;&#1085;&#1080;&#1082;_(&#1092;&#1091;&#1090;&#1073;&#1086;&#1083;)" TargetMode="External"/><Relationship Id="rId9" Type="http://schemas.openxmlformats.org/officeDocument/2006/relationships/hyperlink" Target="http://ru.wikipedia.org/wiki/&#1053;&#1072;&#1087;&#1072;&#1076;&#1072;&#1102;&#1097;&#1080;&#1081;_(&#1092;&#1091;&#1090;&#1073;&#1086;&#1083;)" TargetMode="External"/><Relationship Id="rId10" Type="http://schemas.openxmlformats.org/officeDocument/2006/relationships/hyperlink" Target="http://ru.wikipedia.org/wiki/&#1043;&#1086;&#1083;_(&#1092;&#1091;&#1090;&#1073;&#1086;&#1083;)" TargetMode="External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ru.wikipedia.org/wiki/&#1047;&#1086;&#1083;&#1086;&#1090;&#1086;&#1081;_&#1075;&#1086;&#1083;" TargetMode="External"/><Relationship Id="rId3" Type="http://schemas.openxmlformats.org/officeDocument/2006/relationships/hyperlink" Target="http://ru.wikipedia.org/wiki/&#1057;&#1077;&#1088;&#1077;&#1073;&#1088;&#1103;&#1085;&#1099;&#1081;_&#1075;&#1086;&#1083;" TargetMode="External"/><Relationship Id="rId4" Type="http://schemas.openxmlformats.org/officeDocument/2006/relationships/hyperlink" Target="http://ru.wikipedia.org/wiki/&#1055;&#1086;&#1089;&#1083;&#1077;&#1084;&#1072;&#1090;&#1095;&#1077;&#1074;&#1099;&#1077;_&#1087;&#1077;&#1085;&#1072;&#1083;&#1100;&#1090;&#108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8;&#1085;&#1076;&#1086;&#1085;&#1077;&#1079;&#1080;&#1103;" TargetMode="External"/><Relationship Id="rId5" Type="http://schemas.openxmlformats.org/officeDocument/2006/relationships/hyperlink" Target="http://ru.wikipedia.org/wiki/&#1052;&#1077;&#1082;&#1089;&#1080;&#1082;&#1072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43;&#1077;&#1088;&#1084;&#1072;&#1085;&#1080;&#1103;" TargetMode="External"/><Relationship Id="rId9" Type="http://schemas.openxmlformats.org/officeDocument/2006/relationships/hyperlink" Target="http://ru.wikipedia.org/wiki/&#1041;&#1072;&#1085;&#1075;&#1083;&#1072;&#1076;&#1077;&#1096;" TargetMode="External"/><Relationship Id="rId10" Type="http://schemas.openxmlformats.org/officeDocument/2006/relationships/hyperlink" Target="http://ru.wikipedia.org/wiki/&#1048;&#1090;&#1072;&#1083;&#1080;&#1103;" TargetMode="External"/><Relationship Id="rId11" Type="http://schemas.openxmlformats.org/officeDocument/2006/relationships/hyperlink" Target="http://ru.wikipedia.org/wiki/&#1056;&#1086;&#1089;&#1089;&#1080;&#1103;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62;&#1102;&#1088;&#1080;&#1093;" TargetMode="External"/><Relationship Id="rId4" Type="http://schemas.openxmlformats.org/officeDocument/2006/relationships/hyperlink" Target="http://ru.wikipedia.org/wiki/&#1064;&#1074;&#1077;&#1081;&#1094;&#1072;&#1088;&#1080;&#1103;" TargetMode="External"/><Relationship Id="rId5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2" Type="http://schemas.openxmlformats.org/officeDocument/2006/relationships/hyperlink" Target="http://ru.wikipedia.org/wiki/&#1060;&#1091;&#1090;&#1073;&#1086;&#1083;_&#1085;&#1072;_&#1054;&#1083;&#1080;&#1084;&#1087;&#1080;&#1081;&#1089;&#1082;&#1080;&#1093;_&#1080;&#1075;&#1088;&#1072;&#1093;" TargetMode="External"/><Relationship Id="rId3" Type="http://schemas.openxmlformats.org/officeDocument/2006/relationships/hyperlink" Target="http://ru.wikipedia.org/wiki/&#1050;&#1083;&#1091;&#1073;&#1085;&#1099;&#1081;_&#1095;&#1077;&#1084;&#1087;&#1080;&#1086;&#1085;&#1072;&#1090;_&#1084;&#1080;&#1088;&#1072;_&#1087;&#1086;_&#1092;&#1091;&#1090;&#1073;&#1086;&#1083;&#1091;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6199200" cy="184140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chto_nuzhno_izmenit_v_rossiiskom_futbole_2.jpg"/>
          <p:cNvPicPr/>
          <p:nvPr/>
        </p:nvPicPr>
        <p:blipFill>
          <a:blip r:embed="rId2"/>
          <a:stretch/>
        </p:blipFill>
        <p:spPr>
          <a:xfrm>
            <a:off x="92160" y="-56664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Мяч.jpg"/>
          <p:cNvPicPr/>
          <p:nvPr/>
        </p:nvPicPr>
        <p:blipFill>
          <a:blip r:embed="rId3"/>
          <a:stretch/>
        </p:blipFill>
        <p:spPr>
          <a:xfrm>
            <a:off x="5383080" y="2255760"/>
            <a:ext cx="4084920" cy="3949920"/>
          </a:xfrm>
          <a:prstGeom prst="rect">
            <a:avLst/>
          </a:prstGeom>
          <a:ln w="0">
            <a:noFill/>
          </a:ln>
        </p:spPr>
      </p:pic>
      <p:sp>
        <p:nvSpPr>
          <p:cNvPr id="471" name="Содержимое 1"/>
          <p:cNvSpPr/>
          <p:nvPr/>
        </p:nvSpPr>
        <p:spPr>
          <a:xfrm>
            <a:off x="0" y="4572000"/>
            <a:ext cx="3714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МОУ СОШ №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ль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5" descr="myblog-103256-1211881815_thumb.jpg"/>
          <p:cNvPicPr/>
          <p:nvPr/>
        </p:nvPicPr>
        <p:blipFill>
          <a:blip r:embed="rId1"/>
          <a:stretch/>
        </p:blipFill>
        <p:spPr>
          <a:xfrm>
            <a:off x="6391440" y="2214720"/>
            <a:ext cx="2752560" cy="4357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-360" y="2642760"/>
            <a:ext cx="60721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Кубок Америк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Либертадорес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Южноамериканский Кубо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Заголовок 2" descr=""/>
          <p:cNvPicPr/>
          <p:nvPr/>
        </p:nvPicPr>
        <p:blipFill>
          <a:blip r:embed="rId7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3" descr="14193.gif"/>
          <p:cNvPicPr/>
          <p:nvPr/>
        </p:nvPicPr>
        <p:blipFill>
          <a:blip r:embed="rId8"/>
          <a:stretch/>
        </p:blipFill>
        <p:spPr>
          <a:xfrm>
            <a:off x="7182000" y="390600"/>
            <a:ext cx="1822320" cy="182880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06_IMG_3627_fo.jpg"/>
          <p:cNvPicPr/>
          <p:nvPr/>
        </p:nvPicPr>
        <p:blipFill>
          <a:blip r:embed="rId9"/>
          <a:stretch/>
        </p:blipFill>
        <p:spPr>
          <a:xfrm rot="579000">
            <a:off x="223920" y="1258560"/>
            <a:ext cx="157140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2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5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0" y="1801440"/>
            <a:ext cx="52862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Европ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Лига Чемпионов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9" name="Заголовок 2" descr=""/>
          <p:cNvPicPr/>
          <p:nvPr/>
        </p:nvPicPr>
        <p:blipFill>
          <a:blip r:embed="rId4"/>
          <a:stretch/>
        </p:blipFill>
        <p:spPr>
          <a:xfrm>
            <a:off x="237960" y="-648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LOGO_UEFA_Cup.jpg"/>
          <p:cNvPicPr/>
          <p:nvPr/>
        </p:nvPicPr>
        <p:blipFill>
          <a:blip r:embed="rId5"/>
          <a:stretch/>
        </p:blipFill>
        <p:spPr>
          <a:xfrm>
            <a:off x="5254560" y="-189000"/>
            <a:ext cx="3608280" cy="730260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6" descr="1207395947_0-4.jpg"/>
          <p:cNvPicPr/>
          <p:nvPr/>
        </p:nvPicPr>
        <p:blipFill>
          <a:blip r:embed="rId6"/>
          <a:stretch/>
        </p:blipFill>
        <p:spPr>
          <a:xfrm>
            <a:off x="5121360" y="3333600"/>
            <a:ext cx="3949560" cy="3475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48831.jpg"/>
          <p:cNvPicPr/>
          <p:nvPr/>
        </p:nvPicPr>
        <p:blipFill>
          <a:blip r:embed="rId7"/>
          <a:stretch/>
        </p:blipFill>
        <p:spPr>
          <a:xfrm>
            <a:off x="360360" y="4657680"/>
            <a:ext cx="3565440" cy="406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0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3" descr="futsal_TAJM_vs_TVD__Evgeny_ROGACHOV_1-5_(Kraws)_7288.jpg"/>
          <p:cNvPicPr/>
          <p:nvPr/>
        </p:nvPicPr>
        <p:blipFill>
          <a:blip r:embed="rId1"/>
          <a:stretch/>
        </p:blipFill>
        <p:spPr>
          <a:xfrm>
            <a:off x="5924520" y="4780080"/>
            <a:ext cx="3011400" cy="20844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0" y="92844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Существует множество разновидностей футбола, в основном с меньшим количеством игроков — в том числе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утдабл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двумя мячами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ляжный фут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на песке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футзал (AMF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футзал (FIFA) (мини-футбол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оскольку популярность футбола очень высока, существует много игр, имитирующих футбо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Заголовок 2" descr=""/>
          <p:cNvPicPr/>
          <p:nvPr/>
        </p:nvPicPr>
        <p:blipFill>
          <a:blip r:embed="rId6"/>
          <a:stretch/>
        </p:blipFill>
        <p:spPr>
          <a:xfrm>
            <a:off x="195120" y="182520"/>
            <a:ext cx="8498160" cy="897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6" descr="e91bc3e5254d.jpg"/>
          <p:cNvPicPr/>
          <p:nvPr/>
        </p:nvPicPr>
        <p:blipFill>
          <a:blip r:embed="rId1"/>
          <a:stretch/>
        </p:blipFill>
        <p:spPr>
          <a:xfrm rot="986400">
            <a:off x="509400" y="560520"/>
            <a:ext cx="3168360" cy="43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7" name=""/>
          <p:cNvSpPr txBox="1"/>
          <p:nvPr/>
        </p:nvSpPr>
        <p:spPr>
          <a:xfrm>
            <a:off x="4572000" y="4786200"/>
            <a:ext cx="4114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Победы во всех         играх!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applause.wav"/>
      </p:stSnd>
    </p:sndAc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2" descr="image004.jpg"/>
          <p:cNvPicPr/>
          <p:nvPr/>
        </p:nvPicPr>
        <p:blipFill>
          <a:blip r:embed="rId1"/>
          <a:stretch/>
        </p:blipFill>
        <p:spPr>
          <a:xfrm>
            <a:off x="4237200" y="3432240"/>
            <a:ext cx="4967280" cy="3541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0" y="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нгл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Footbal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«ножной мяч») — командный вид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 котором целью является забить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мяч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воро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оперника ногами или другими частями тела (кроме рук) наибольшее количество раз. В настоящее время самый популярный и массовый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ид 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ми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гры, похожие на современный футбол, существовали достаточно давно у разных народов, однако первые записанные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правила</a:t>
            </a:r>
            <a:r>
              <a:rPr b="0" lang="ru-RU" sz="2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датированы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1848 годо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Датой рождения футбола считаетс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1863 год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, когда была организована перва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Ассоциация футбол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и записаны правила, похожие на современные. История футбола действительно началась очень давно. Так, например, и в Египте и в Германии и в Китае были игры похожие на футбол. Самая удачная игра появившаяся очень давно называлась Харпастум и придумали ее итальянцы. Но когда появился современный футбол, харпастум затмился. Когда англичане придумали футбол, они сразу стали распространять его во всех странах, включая Россию. Тогда в чемпионате было очень много английских команд. Из российских самая удачливая тогда команда была Питерский кружок рукоделия. О футболе в России впервые было сказано в книге «игры с мячом на воздухе» одного из до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6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5" descr="02.jpg"/>
          <p:cNvPicPr/>
          <p:nvPr/>
        </p:nvPicPr>
        <p:blipFill>
          <a:blip r:embed="rId1"/>
          <a:stretch/>
        </p:blipFill>
        <p:spPr>
          <a:xfrm>
            <a:off x="5857920" y="5572080"/>
            <a:ext cx="3286080" cy="12859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0" y="9288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тдельная футбольная игра называется — матч, который в свою очередь состоит из двух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тайм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футбол играют н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ол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вратарь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) может играть руками в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штрафной площад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у своих ворот, его основной задачей является защит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орот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Остальные игроки также имеют свои задачи и позиции на поле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 в основном на своей половине поля, их задача — противодействовать нападающим игрокам противоположной команды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Полу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действуют в середине поля, их роль — помогать защитникам или нападающим в зависимости от игровой ситуации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Нападающ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голы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Заголовок 2" descr=""/>
          <p:cNvPicPr/>
          <p:nvPr/>
        </p:nvPicPr>
        <p:blipFill>
          <a:blip r:embed="rId11"/>
          <a:stretch/>
        </p:blipFill>
        <p:spPr>
          <a:xfrm>
            <a:off x="195120" y="146160"/>
            <a:ext cx="8498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6ba800e407fb.jpg"/>
          <p:cNvPicPr/>
          <p:nvPr/>
        </p:nvPicPr>
        <p:blipFill>
          <a:blip r:embed="rId1"/>
          <a:stretch/>
        </p:blipFill>
        <p:spPr>
          <a:xfrm>
            <a:off x="7437600" y="92160"/>
            <a:ext cx="1981080" cy="27176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-214200" y="-360"/>
            <a:ext cx="82864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Цель игры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дополнительное время —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 Одно время в футболе существовало правило, по которому победителем объявлялась команда, первой забившая гол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«золот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 или выигрывавшая по окончании любого из дополнительных таймов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«серебрян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послематчевых пенальти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не являющихся частью матча : по воротам противника с расстояния 11 метров пробивается по пять ударов разными игроками. Если количество забитых пенальти у обоих команд будет равным тогда пробиваются по одной паре пенальти, пока не будет выявлен победител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Рисунок 3" descr="10442.jpg"/>
          <p:cNvPicPr/>
          <p:nvPr/>
        </p:nvPicPr>
        <p:blipFill>
          <a:blip r:embed="rId1"/>
          <a:stretch/>
        </p:blipFill>
        <p:spPr>
          <a:xfrm>
            <a:off x="5857920" y="1628640"/>
            <a:ext cx="3286080" cy="33847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00080"/>
            <a:ext cx="5857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гласно заявлению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в 2001 году в футбол на планете играло около 250 миллионов человек. Из них более 20 миллионов — женщины. Зарегистрировано около 1,5 миллиона команд и 300 000 профессиональных клубов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распределении по странам на первом месте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Ш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примерно 18 миллионов, из которых 40 % женщины), затем идут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Индонез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10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Мексик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итай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Брази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Герман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6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Бангладеш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5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Ита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Росс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3,8 миллиона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Заголовок 2" descr=""/>
          <p:cNvPicPr/>
          <p:nvPr/>
        </p:nvPicPr>
        <p:blipFill>
          <a:blip r:embed="rId12"/>
          <a:stretch/>
        </p:blipFill>
        <p:spPr>
          <a:xfrm>
            <a:off x="195120" y="-60480"/>
            <a:ext cx="8498160" cy="92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2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Организаци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уществует ряд организаций, осуществляющих контроль, управление и распространение футбола. Основной является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расположенная в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Цюрихе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Швейцария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Она занимается организацией международных соревнований мирового масштаба, в частности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чемпионата мир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Клубы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Заголовок 2" descr=""/>
          <p:cNvPicPr/>
          <p:nvPr/>
        </p:nvPicPr>
        <p:blipFill>
          <a:blip r:embed="rId6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4" descr="av-29759.jpg"/>
          <p:cNvPicPr/>
          <p:nvPr/>
        </p:nvPicPr>
        <p:blipFill>
          <a:blip r:embed="rId7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6" descr="94905.jpg"/>
          <p:cNvPicPr/>
          <p:nvPr/>
        </p:nvPicPr>
        <p:blipFill>
          <a:blip r:embed="rId8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1234713906_images.jpeg"/>
          <p:cNvPicPr/>
          <p:nvPr/>
        </p:nvPicPr>
        <p:blipFill>
          <a:blip r:embed="rId9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0" descr="user4189_pic5915_1214818591_thumb.jpg"/>
          <p:cNvPicPr/>
          <p:nvPr/>
        </p:nvPicPr>
        <p:blipFill>
          <a:blip r:embed="rId10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8" descr="real_madrid_cf_brief.png"/>
          <p:cNvPicPr/>
          <p:nvPr/>
        </p:nvPicPr>
        <p:blipFill>
          <a:blip r:embed="rId11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ревнования по футболу, как и в любом другом виде спорта 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Заголовок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0861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3" descr="560_2.jpg"/>
          <p:cNvPicPr/>
          <p:nvPr/>
        </p:nvPicPr>
        <p:blipFill>
          <a:blip r:embed="rId2"/>
          <a:stretch/>
        </p:blipFill>
        <p:spPr>
          <a:xfrm>
            <a:off x="428760" y="392904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4" descr="Zenit_YEFA.jpg"/>
          <p:cNvPicPr/>
          <p:nvPr/>
        </p:nvPicPr>
        <p:blipFill>
          <a:blip r:embed="rId3"/>
          <a:stretch/>
        </p:blipFill>
        <p:spPr>
          <a:xfrm>
            <a:off x="4572000" y="3929040"/>
            <a:ext cx="33940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100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-360" y="1856880"/>
            <a:ext cx="6429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мир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Олимпийские игр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лубный чемпионат мира ФИ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Заголовок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3" descr="fifa.jpg"/>
          <p:cNvPicPr/>
          <p:nvPr/>
        </p:nvPicPr>
        <p:blipFill>
          <a:blip r:embed="rId5"/>
          <a:stretch/>
        </p:blipFill>
        <p:spPr>
          <a:xfrm>
            <a:off x="5194440" y="-36360"/>
            <a:ext cx="4578120" cy="42177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5" descr="12264010180_autozoom_120x160.jpg"/>
          <p:cNvPicPr/>
          <p:nvPr/>
        </p:nvPicPr>
        <p:blipFill>
          <a:blip r:embed="rId6"/>
          <a:stretch/>
        </p:blipFill>
        <p:spPr>
          <a:xfrm>
            <a:off x="1652760" y="4675320"/>
            <a:ext cx="1066680" cy="31464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6" descr="CAWHURGL-web.jpg"/>
          <p:cNvPicPr/>
          <p:nvPr/>
        </p:nvPicPr>
        <p:blipFill>
          <a:blip r:embed="rId7"/>
          <a:stretch/>
        </p:blipFill>
        <p:spPr>
          <a:xfrm>
            <a:off x="4406760" y="4627440"/>
            <a:ext cx="197496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9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200"/>
                            </p:stCondLst>
                            <p:childTnLst>
                              <p:par>
                                <p:cTn id="3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650"/>
                            </p:stCondLst>
                            <p:childTnLst>
                              <p:par>
                                <p:cTn id="3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22:12Z</dcterms:created>
  <dc:creator>Kutuzov</dc:creator>
  <dc:description/>
  <dc:language>en-US</dc:language>
  <cp:lastModifiedBy>Admin</cp:lastModifiedBy>
  <dcterms:modified xsi:type="dcterms:W3CDTF">2012-07-28T07:22:25Z</dcterms:modified>
  <cp:revision>31</cp:revision>
  <dc:subject/>
  <dc:title>Футбол</dc:title>
</cp:coreProperties>
</file>