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F034-C889-4E56-A501-E92AF880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EE6-1CFC-4E13-B26F-888825B8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E66C-84A1-4DBA-B054-DF2B5001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FC6-DD0B-4FE3-A9A3-D951B317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32FA-62EC-4F4E-BD37-D746BADB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4B4A-3F17-461A-94F1-31A36BE2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C8D-DA4E-495C-8FD0-16C5C524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EB2-10FB-4731-8A24-06FEF528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9C9-8BE9-4C48-8E1E-B9BE4171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4EC-C0D3-4EF1-9E31-1DD70AF1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FA2-B1EA-455D-A252-D8113E1C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8D0-C7DF-484D-8C36-B0121C42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F060-09D8-47E7-A997-1A77F6DBC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6;&#1076;&#1072;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80;&#1072;&#1094;&#1080;&#1085;#cite_note-reles-1#cite_note-reles-1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ru.wikipedia.org/wiki/&#1048;&#1079;&#1086;&#1073;&#1088;&#1072;&#1078;&#1077;&#1085;&#1080;&#1077;:Pyridoxine_structure.sv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3/Folic-acid-2D-skeletal.png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нергетические напи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484280"/>
            <a:ext cx="5183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нергетические напи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энергети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энерготони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— безалкогольные напитки, в рекламной кампании которых делается акцент на их способность стимулировать центральную нервную систему человека и/или повышать работоспособность, а также на то, что они не дают человеку усну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питки содержат тонизирующие вещества, чаще всего кофеин (в некоторых случаях вместо кофеина в составе заявляются экстракты гуараны, чая или мате, содержащие кофеин, или же кофеин под другими названиями: матеин, теин ) и другие стимуляторы: теобромин и теофилин (алкалоиды какао), а также нередко витамины, как легкоусваемый источник энергии - углеводы (глюкозу, сахарозу), адаптогены и т. д. В последнее время добавляется тау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сколько сильно влияют энергетические напитки на организм человека, пока неизвестно. "Исследования в этой области еще идут,– считает руководитель лаборатории токсикологии г. Москвы.– Одно можно сказать: это небезопасно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33847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88930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нусы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амины, которые содержатся в энергетических напитках, не могут заменить мультивитаминный комплекс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ям, страдающим от сердечных заболеваний, гипо- или гипертонии, не следует употреблять энергетические напит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явление, что энергетический напиток обеспечивает организм энергией, является голословным. Содержимое заветной банки только открывает путь к внутренним резервам организма, т.е. выполняет функцию ключа, вернее, отмычки. Другими словами, сам напиток никакой энергии не содержит, а только использует нашу собственную. Таким образом, мы используем собственные энергетические ресурсы, проще говоря, берем у себя энергию в долг. Однако рано или поздно этот долг придется вернуть с процентами в виде усталости, бессонницы, раздражительности и депресси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любой другой стимулятор, кофеин, который содержится в энергетических напитках, приводит к истощению нервной системы. Его действие сохраняется в среднем 3 - 5 часов, после чего организму нужен отдых. Кроме того, кофеин вызывает привыкан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ческий напиток, содержащий сочетание глюкозы и кофеина, очень вреден для молодого организм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энергетические напитки содержат большое количество витамина В, вызывающего учащенное сердцебиение и дрожь в конечностя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наты фитнеса должны помнить о выдающихся мочегонных свойствах кофеина. Это значит, что после тренировки энергетический напиток пить нельзя, ведь в процессе тренировки мы и так теряем много жидкост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превышения допустимой дозы не исключены побочные эффекты: тахикардия, психомоторное возбуждение, повышенная нервозность, депрессия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ческие напитки содержат таурин и глюкуронолактон. Содержание таурина в несколько раз превышает допустимый уровень, а количество глюкуронолактона, содержащееся в 2 банках напитка, превышает суточную норму почти в 500 раз (!). Даже ученым неизвестно, как эти ингредиенты действуют на организм, и как они взаимодействуют с кофеином. Поэтому эксперты заявляют, что безопасность использования таких высоких доз таурина и глюкуронолактона еще не определена, что требует проведения дальнейших исследовани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ые заболе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лучае передозировки возможн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хикардия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болевания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ердечно-сосудистой системы, глаукоме, нарушении с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1727280" cy="171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76720" y="3429000"/>
            <a:ext cx="331164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 ЭНЕРГЕТИЧЕСКОГО НАПИТ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48956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. ТАУРИН-аминокисл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Физические и химические свой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елый кристаллический порошок, плавится с разложением. Хорошо растворим в воде, плохо — в большинстве органических растворителей. Молекула таурина содержит кислую сульфогруппу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pK 1.5) и основную аминогруппу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1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pK 8.74), изоэлектрическая точка в водных растворах составляет 5.12. В физиологических условиях (pH 7.4) степень ионизации сульфогруппы составляет 100 %, аминогруппы — 96.3 %, то есть таурин в таких условиях практически полностью существует в виде цвиттер-ио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омышленный синте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мышленном синтезе таурина исходным веществом является этаноламин — продукт крупнотоннажного органического синте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ервой стадии этаноламин этерифицируется серной кислото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HO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тем под действием едкого натрия этаноламинсульфат образует азиридин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+ NaOH (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оследней стадии проводится присоединение к азиридину сернистой кислоты под действием сульфита натрия в кислой сред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 + 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HO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184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 ЭНЕРГЕТИЧЕСКОГО НАПИТ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7991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мощности по производству таурина в настоящее время (2006 г.) находятся в Юго-Восточной Азии, уровень цен колеблется от 3 (Китай) до 5-12 долларов США за кг (Европ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иологическая 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аурин часто называют серосодержаще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аминокислот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хотя это не вполне верно с точки зрения современной химии, так как в молекуле отсутству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рбоксильная груп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аурин образуется в организме при ферментативном окислении сульфгидрильной группы SH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цисте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участи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цистеиндеоксигеназ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до цистеинсульфиновой кисло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SCH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(NH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COOH HO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(NH</a:t>
            </a:r>
            <a:r>
              <a:rPr b="0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COO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едующи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карбоксилирова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цистеинсульфиновой кислоты в гипотаури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(N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COOH H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кислением гипотаурина в таури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H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инство млекопитающих способны к биосинтезу таурина, однако 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ше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низка активность ферментативной системы, декарбоксилирующей цистеинсульфиновую кислоту и для них таурин является незаменимой аминокислотой, дефицит которой приводит к дегенерации сетчатки и кардиомиопа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аурин образует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чен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ъюга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желчными кислотами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ацилируясь ими по аминогрупп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, образовавшиес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ъюга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например, таурохолевая и тауродезоксихолевая кислоты) входят в состав желчи, и, будуч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ерхностно-активными веществ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способствуют эмульгированию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жир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ишечник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оследнее время установлено, что в мозге таурин играет рол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йромедиатор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аминокислоты, тормозящей синаптическую передачу, обладает противосудорожной активностью, оказывает такж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рдиотропное дейст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Таурин способствует улучшению энергетических процессов, стимулирует репаративные процессы при дистрофических заболеваниях и процессах, сопровождающихся значительным нарушением метаболизма тканей глаза. Являясь серосодержащей аминокислотой, таурин способствует нормализации функции клеточных мембран, улучшению обменны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 ЭНЕРГЕТИЧЕСКОГО НАПИТ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КОФЕИ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 алкалоид, вызывающий привыкание и содержащийся в таких растениях, как кофейное дерево, чай (кофеин, содержащийся в чае или экстрагированный из него иногда называют теин), мате (кофеин, содержащийся в мате или экстрагированный из него иногда называют матеин), гуарана, кола, и некоторых других. Также производится синтетически. Содержится в различных напитках, оказывает стимулирующее действие на нервную сист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Химическое стро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имическое название кофеина — 1,3,7-триметилксантин. Соединяясь с водой, даёт кофеидин C7H12N4O. По строению и фармакологическим свойствам кофеин близок к теобромину и теофиллину; все три алкалоида относятся к группе метилксантинов. Кофеин лучше действует на ЦНС, а теофиллин и теобромин — в качестве стимуляторов сердечной деятельности и лёгких мочегонных сред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Физические свой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лые шелковистые игольчатые кристаллы или белый кристаллический порошок горьковатого вкуса, без запаха. Плохо растворим в воде (1:60), легко — в горячей (1:2), трудно растворим в спирте (1:50). Растворы имеют нейтральную реакцию; стерилизуют при +100°С в течение 30 мин. Т пл. 234 C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олу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феин экстрагируют из отходов чая, кофейных бобов. В промышленности кофеин синтезируют из мочевой кислоты и ксант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59640" y="1413000"/>
            <a:ext cx="179064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 ЭНЕРГЕТИЧЕСКОГО НАПИТ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ГЛЕВОДЫ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сахара) — органические соединения, состоящие из углерода, водорода и кислорода, причём водород и кислород входят в их состав в соотношении 2:1, как в воде, отсюда и появилось их наз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остые и сложные угле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способности к гидролизу на мономеры углеводы делятся на две группы: простые (моносахариды) и сложные (олигосахариды и полисахариды). Сложные углеводы, в отличие от простых, способны гидролизовываться с образованием простых углеводов, мономеров. Простые углеводы легко растворяются в воде и синтезируются в зелёных растен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иологическая роль и биосинтез углев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иологическое значение углевод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глеводы выполняют пластическую функцию, то есть участвуют в построении костей, клеток, ферментов. Они составляют 2-3 % от ве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глеводы являются основным энергетическим материалом. При окислении 1 грамма углеводов выделяются 4,1 ккал энергии и 0,4 во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рови содержится 100—110 мг/% глюкозы. От концентрации глюкозы зависит осмотическое давление кров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нтоза (рибоза и дезоксирибоза) участвуют в построении АТ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уточном рационе человека и животных преобладают углеводы. Животные получают крахмал, клетчатку, сахарозу. Хищники получают гликоген с мяс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измы животных не способны синтезировать углеводы из неорганических веществ. Они получают их от растений с пищей и используют в качестве главного источника энергии, получаемой в процессе окисл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Cx(H2O)y + xO2 → xCO2 + yH2O +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нерг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зеленых листьях растений углеводы образуются в процессе фотосинтеза — уникального биологического процесса превращения в сахара неорганических веществ — оксида углерода (IV) и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од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происходящего при участии хлорофилла за счёт солнечной энерг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xCO2 + yH2O → Cx(H2O)y + xO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 ЭНЕРГЕТИЧЕСКОГО НАПИТ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АЦ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котиновая кислота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англ. </a:t>
            </a:r>
            <a:r>
              <a:rPr b="0" i="1" lang="en" sz="1200" spc="-1" strike="noStrike">
                <a:solidFill>
                  <a:srgbClr val="000000"/>
                </a:solidFill>
                <a:latin typeface="Arial"/>
              </a:rPr>
              <a:t>Nicotinic aci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синонимы: ниацин, витамин B3, витамин PP; CAS-код 59-67-6, брутто-формула C6H5NO3) — лекарственное средство, витамин, участвующий во многих окислительных реакциях живых кл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ый кристаллический порошок без запаха, слабокислого вкуса. Трудно растворим в холодной воде (1:70), лучше в горячей (1:15), мало растворим в этаноле, очень мало — в эфире.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АНТОТЕНОВАЯ КИСЛОТА -Кальция пантотен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лекарственное средство, витамин B5, кальциевая соль пантотеновой кисл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тотеновая кислота по химической природе — дипептид, состоящий из остатков аминокислоты b-аланина и пантоевой кисл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тотеновая кислота получила свое название от греческого «пантотен», что означает «всюду», из-за чрезвычайно широкого её распространения. Пантотеновая кислота, попадая в организм, превращается в пантетин, который входит в состав коэнзима А, который играет важную роль в процессах окисления и ацетилирования. Коэнзим А — одно из немногих веществ в организме, участвующее в метаболизме и белков, и жиров, и углев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ИРИДОКСИ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витамин В6) необходим для усвоения белков и жиров, способствует образованию красных кровяных телец. Регулирует состояние нервной системы, предотвращает кожные воспаления, поддерживает в хорошем состоянии зубы и дёсны. Содержится в печени, бананах, тунце, пт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588000" y="1844640"/>
            <a:ext cx="1640160" cy="218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5640" y="5950080"/>
            <a:ext cx="99360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 ЭНЕРГЕТИЧЕСКОГО НАПИТ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ЛИЕВА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ИСЛОТ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cidum folic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лаци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oli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ис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 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орастворимы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амин группы B, необходимый для роста и развития кровеносной и иммунной систем. Наряду с фолиевой кислотой к витаминам относятся и её производные, в том числе ди-, три-, полиглутаматы и другие. Все такие производные вместе с фолиевой кислотой объединяются под название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лаци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ГЛЮКУРОНАЛАКТО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это производное углевода глюкозы. Он присутствует в организме человека и  участвует в процессе детоксикации, помогая выведению из организма вредных веще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ИНОЗИТО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водорастворимый витамин группы В.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 Примерно 3/4 суточной потребности инозитола вырабатывается самим организмом, поэтому инозитол относят к витаминоподобным веществам. Норма потребления 500 мг в сутки. Инозитол особенно хорошо усваиваивается с витамином 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Изображение:Folic-acid-2D-skeletal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844640"/>
            <a:ext cx="3384720" cy="136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479920" y="3938760"/>
            <a:ext cx="2373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. ЭКСТРАКТ ГУАРА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лат.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Paullinia cupan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вьющаяся лиана семейства сапиндовых, в диком виде растущая в амазонской части Бразилии и Уругвая. Растение открыто немецким ботаником Paullini в XVIII веке. В честь него и назван этот род раст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24560" y="2967120"/>
            <a:ext cx="22860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За» и «против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юсы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нергетические напитки отлично поднимают настроение и стимулируют умственную деятельность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ый может найти энергетический напиток по своим потребностям. В соответствии с их предназначением, энергетические напитки условно разделяют на группы: одни содержат больше кофеина, другие - витаминов и углеводов. «Кофейные» напитки подходят законченным, неисправимым трудоголикам и студентам, которым приходится работать и учиться по ночам, а «витаминно-углеводные» - для активных людей, предпочитающих проводить свободное время в спортзале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нергетические напитки содержат комплекс витаминов и глюкозы. О пользе витаминов знают все. Глюкоза же быстро проникает в кровь, участвует в окислительных процессах и обеспечивает энергией мышцы, мозг и другие жизненно-важные органы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йствие чашки кофе сохраняется 1 - 2 часа, действие энергетического напитка - часа 3 - 4. Кроме того, почти все энергетические напитки газированы, что ускоряет их действие - это их третье отличие от кофе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одаря удобной упаковке энергетические напитки можно носить с собой и употреблять в любой ситуации (на танцполе, в машине), чего нельзя сказать о кофе или ча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0:08:48Z</dcterms:created>
  <dc:creator>Zver</dc:creator>
  <dc:description/>
  <dc:language>en-US</dc:language>
  <cp:lastModifiedBy>Zver</cp:lastModifiedBy>
  <dcterms:modified xsi:type="dcterms:W3CDTF">2009-02-01T22:53:42Z</dcterms:modified>
  <cp:revision>4</cp:revision>
  <dc:subject/>
  <dc:title>Энергетические напитки</dc:title>
</cp:coreProperties>
</file>