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C4D-64DF-479D-B09B-A74BAF27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77D-55EC-44DC-8728-C8C12799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0D0-2F63-41F9-B64B-76DF19B4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F89-9458-424F-8E3F-A64C12C7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E9F6-806F-4A3D-8436-4BDFBC8E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5D01-F09D-45C2-B89A-B29C7B11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BC5F-8585-4515-A64E-BD1746F4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9B98-6546-4013-B70F-DE61F838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2569-581B-48DE-8441-5F5DEAAF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E9E7-0639-4B10-8EF3-A201F218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A623-4755-4707-AC73-E2B8E178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18E9-B832-42E3-9928-678FF2DC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1490-266C-4AD0-BF59-641C3C59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0FF9-FE93-4A91-A506-5F663766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063C-D9BB-4A4B-B56D-7DC7FE2B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178F-4D4F-4990-9EFB-2BD45A50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8E26-131C-43B1-90AE-1B24D993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10D-0603-4D70-82CF-52EF2D76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BFE-3850-402A-88E1-7CBFBB01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410-6FC4-4657-BD94-FE79B9EC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CF8-D608-4C48-887F-B1F02D58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BB0-B928-4E3F-A0B0-1B4BBCF0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38D-6605-494C-AA6F-99D51512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4D1-1A21-4B75-A5B7-2BB1D502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32B4-8C21-4BDB-A988-E31067BB3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DCE2-9E78-409B-9BC2-249293BB6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asertex.ru/index.php?chapter=products_view&amp;pID=561" TargetMode="External"/><Relationship Id="rId3" Type="http://schemas.openxmlformats.org/officeDocument/2006/relationships/hyperlink" Target="http://lasertex.ru/index.php?chapter=products_view&amp;pID=561" TargetMode="External"/><Relationship Id="rId4" Type="http://schemas.openxmlformats.org/officeDocument/2006/relationships/hyperlink" Target="http://www.laboratorium.dp.ua/__img/top-logo.jpg" TargetMode="External"/><Relationship Id="rId5" Type="http://schemas.openxmlformats.org/officeDocument/2006/relationships/hyperlink" Target="http://museion.ru/material/index_vved.html" TargetMode="External"/><Relationship Id="rId6" Type="http://schemas.openxmlformats.org/officeDocument/2006/relationships/hyperlink" Target="http://www.kalitva.ru/2008/12/04/" TargetMode="External"/><Relationship Id="rId7" Type="http://schemas.openxmlformats.org/officeDocument/2006/relationships/hyperlink" Target="http://www.labbox.ru/webasyst_setup/index.php?categoryID=613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5d8b"/>
            </a:gs>
            <a:gs pos="100000">
              <a:srgbClr val="7979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&amp;Rcy;&amp;acy;&amp;scy;&amp;tcy;&amp;icy;&amp;tcy;&amp;iecy;&amp;lcy;&amp;softcy;&amp;ncy;&amp;acy;&amp;yacy; &amp;kcy;&amp;lcy;&amp;iecy;&amp;tcy;&amp;kcy;&amp;acy;"/>
          <p:cNvPicPr/>
          <p:nvPr/>
        </p:nvPicPr>
        <p:blipFill>
          <a:blip r:embed="rId1"/>
          <a:stretch/>
        </p:blipFill>
        <p:spPr>
          <a:xfrm>
            <a:off x="539640" y="1557360"/>
            <a:ext cx="3024360" cy="4608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1835280" y="2781360"/>
            <a:ext cx="352872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627280" y="3933360"/>
            <a:ext cx="2808360" cy="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268360" y="691920"/>
            <a:ext cx="2159280" cy="20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476280"/>
            <a:ext cx="2233440" cy="43164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2565360"/>
            <a:ext cx="1368360" cy="35892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ЯД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3789360"/>
            <a:ext cx="2232000" cy="43164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ЦИТОПЛА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589200" cy="4221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величительные приборы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6165720"/>
            <a:ext cx="1800360" cy="50328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7432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3ff"/>
                </a:solidFill>
                <a:latin typeface="Arial"/>
              </a:rPr>
              <a:t>УВЕЛИЧИТЕЛЬНЫЕ ПРИБОРЫ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6237360"/>
            <a:ext cx="5473440" cy="62064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ВЕТОВОЙ МИКРОС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095640" cy="403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3095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74680" y="262080"/>
            <a:ext cx="3352680" cy="1242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строение микроскопа и правила работы с н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643280" y="620640"/>
            <a:ext cx="388800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УСТРОЙСТВО СВЕТОВОГО МИКРОСКОПА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29776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 5 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СТР. 22 РУБРИКА ЗАДАНИЯ № 2,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://lasertex.ru/index.php?chapter=products_view&amp;pID=5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http://www.laboratorium.dp.ua/__img/top-logo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5"/>
              </a:rPr>
              <a:t>http://museion.ru/material/index_vved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6"/>
              </a:rPr>
              <a:t>http://www.kalitva.ru/2008/12/04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7"/>
              </a:rPr>
              <a:t>http://www.labbox.ru/webasyst_setup/index.php?categoryID=6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Рабочая программа к учебнику Э. Л. Введенского, А. А. Плешакова. «Биология. Введение в биологию» 5 класс. Линия «Вектор»- М. : ООО «Русское слово – учебник», 2012. – 32 с. – ФГОС. Инновационная школ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Учебник Э. Л. Введенский, А. А. Плешаков. «Биология. Введение в биологию» 5 класс. Линия «Вектор»- М. : ООО «Русское слово – учебник», 2012. ФГОС. Инновационная школ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5734080"/>
            <a:ext cx="4427640" cy="91440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биологии МОАУ СОШ №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итова Марина Серг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1268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Давно пытливый ум мечтал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Внутрь всех вещей взглянуть.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Путь в мир незримый указал</a:t>
            </a:r>
            <a:br>
              <a:rPr sz="3600"/>
            </a:br>
            <a:r>
              <a:rPr b="0" i="1" lang="en-US" sz="3600" spc="-1" strike="noStrike">
                <a:solidFill>
                  <a:srgbClr val="000099"/>
                </a:solidFill>
                <a:latin typeface="Arial"/>
              </a:rPr>
              <a:t>Великий Левенгук</a:t>
            </a:r>
            <a:br>
              <a:rPr sz="4000"/>
            </a:br>
            <a:endParaRPr b="0" lang="en-US" sz="36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2781000" cy="3529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165480" cy="352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7979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-589" b="0"/>
          <a:stretch/>
        </p:blipFill>
        <p:spPr>
          <a:xfrm>
            <a:off x="395280" y="981000"/>
            <a:ext cx="4102200" cy="4537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08720" y="1989000"/>
            <a:ext cx="2952720" cy="2735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РОБЕРТ ГУК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84360" y="4221000"/>
            <a:ext cx="7667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 урока: Экскурсия в мир клеток</a:t>
            </a:r>
            <a:endParaRPr b="0" lang="en-US" sz="1800" spc="1" strike="noStrike">
              <a:ln w="12600">
                <a:solidFill>
                  <a:srgbClr val="ff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6282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Клетка – обязательна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простейшая структурная единиц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которая лежит в основе строения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развития и всей жизнедеятельности живого организм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&amp;Rcy;&amp;acy;&amp;scy;&amp;tcy;&amp;icy;&amp;tcy;&amp;iecy;&amp;lcy;&amp;softcy;&amp;ncy;&amp;acy;&amp;yacy; &amp;kcy;&amp;lcy;&amp;iecy;&amp;tcy;&amp;kcy;&amp;acy;"/>
          <p:cNvPicPr/>
          <p:nvPr/>
        </p:nvPicPr>
        <p:blipFill>
          <a:blip r:embed="rId2"/>
          <a:stretch/>
        </p:blipFill>
        <p:spPr>
          <a:xfrm>
            <a:off x="0" y="0"/>
            <a:ext cx="15001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4f77"/>
            </a:gs>
            <a:gs pos="100000">
              <a:srgbClr val="7979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&amp;Rcy;&amp;acy;&amp;scy;&amp;tcy;&amp;icy;&amp;tcy;&amp;iecy;&amp;lcy;&amp;softcy;&amp;ncy;&amp;acy;&amp;yacy; &amp;kcy;&amp;lcy;&amp;iecy;&amp;tcy;&amp;kcy;&amp;acy;"/>
          <p:cNvPicPr/>
          <p:nvPr/>
        </p:nvPicPr>
        <p:blipFill>
          <a:blip r:embed="rId1"/>
          <a:stretch/>
        </p:blipFill>
        <p:spPr>
          <a:xfrm>
            <a:off x="539640" y="1484280"/>
            <a:ext cx="3024360" cy="4608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1619280" y="1125000"/>
            <a:ext cx="2376360" cy="151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95640" y="765000"/>
            <a:ext cx="2592360" cy="43200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916360" y="1196640"/>
            <a:ext cx="1942920" cy="28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956120" cy="540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 flipV="1">
            <a:off x="3419280" y="1341000"/>
            <a:ext cx="2592360" cy="237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979280" y="3573360"/>
            <a:ext cx="4105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067280" y="3860640"/>
            <a:ext cx="2008080" cy="874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3432960"/>
            <a:ext cx="2521080" cy="642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4f77"/>
            </a:gs>
            <a:gs pos="100000">
              <a:srgbClr val="7979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&amp;Rcy;&amp;acy;&amp;scy;&amp;tcy;&amp;icy;&amp;tcy;&amp;iecy;&amp;lcy;&amp;softcy;&amp;ncy;&amp;acy;&amp;yacy; &amp;kcy;&amp;lcy;&amp;iecy;&amp;tcy;&amp;kcy;&amp;acy;"/>
          <p:cNvPicPr/>
          <p:nvPr/>
        </p:nvPicPr>
        <p:blipFill>
          <a:blip r:embed="rId1"/>
          <a:stretch/>
        </p:blipFill>
        <p:spPr>
          <a:xfrm>
            <a:off x="539640" y="1557360"/>
            <a:ext cx="302436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2484360" y="1773000"/>
            <a:ext cx="23036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8000" y="1413000"/>
            <a:ext cx="2952720" cy="50328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ЦИТОПЛА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4f77"/>
            </a:gs>
            <a:gs pos="100000">
              <a:srgbClr val="7979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&amp;Rcy;&amp;acy;&amp;scy;&amp;tcy;&amp;icy;&amp;tcy;&amp;iecy;&amp;lcy;&amp;softcy;&amp;ncy;&amp;acy;&amp;yacy; &amp;kcy;&amp;lcy;&amp;iecy;&amp;tcy;&amp;kcy;&amp;acy;"/>
          <p:cNvPicPr/>
          <p:nvPr/>
        </p:nvPicPr>
        <p:blipFill>
          <a:blip r:embed="rId1"/>
          <a:stretch/>
        </p:blipFill>
        <p:spPr>
          <a:xfrm>
            <a:off x="539640" y="1557360"/>
            <a:ext cx="3024360" cy="4608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1763640" y="2565000"/>
            <a:ext cx="3168720" cy="93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2060640"/>
            <a:ext cx="1584360" cy="72072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ЯД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4:35:45Z</dcterms:created>
  <dc:creator>Василий</dc:creator>
  <dc:description/>
  <dc:language>en-US</dc:language>
  <cp:lastModifiedBy>Василий</cp:lastModifiedBy>
  <dcterms:modified xsi:type="dcterms:W3CDTF">2012-10-07T14:36:24Z</dcterms:modified>
  <cp:revision>1</cp:revision>
  <dc:subject/>
  <dc:title>Слайд 1</dc:title>
</cp:coreProperties>
</file>