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5F9-169A-4FED-B44B-140BF4B1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94E-1A5B-4034-A907-E3E2972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7F6-D077-42F9-8D34-7152EC25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FD9-13F3-42FC-811E-1E472AF1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33F0-E9C7-4090-8E01-18E18EBF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C8D-33C2-4CDC-8FDC-78CE189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6D8-F060-464E-988E-D505D83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BCE-4E3A-4E02-B821-5A1759B4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4DE0-9132-4F4F-A65C-2D10DB8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B43-97D4-4F51-A8FD-3CE44E9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BFB-1E3E-4E25-9677-4BE507F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0BD-8F8D-4CA2-9121-3C0A5C8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3CB7-B2D3-428D-B68D-34E31BAD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8A0-D2B4-44F3-8C78-6EB78F4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8691-F50D-4D2F-AD91-7499539A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9895-BA3A-449D-AE84-9FED5F41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98A-AB68-47AE-B51D-7068A195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97B-3644-4B68-AB17-EEDB2E8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E48-54AE-4906-86DE-853B816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599-B44E-402E-94C7-1DB8DF2E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1C7-6AE9-47F6-8EDF-10470F5C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9F2-7EBF-48A8-A151-BD9A631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1D3-3D6C-4614-91E4-45423EA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2BD-B185-4CA9-B498-954D0CA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365-0BE2-4BC8-A882-C57F0A82A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A0F9-6EE9-45C0-A29A-BBDF33028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sertex.ru/index.php?chapter=products_view&amp;pID=561" TargetMode="External"/><Relationship Id="rId3" Type="http://schemas.openxmlformats.org/officeDocument/2006/relationships/hyperlink" Target="http://lasertex.ru/index.php?chapter=products_view&amp;pID=561" TargetMode="External"/><Relationship Id="rId4" Type="http://schemas.openxmlformats.org/officeDocument/2006/relationships/hyperlink" Target="http://www.laboratorium.dp.ua/__img/top-logo.jpg" TargetMode="External"/><Relationship Id="rId5" Type="http://schemas.openxmlformats.org/officeDocument/2006/relationships/hyperlink" Target="http://museion.ru/material/index_vved.html" TargetMode="External"/><Relationship Id="rId6" Type="http://schemas.openxmlformats.org/officeDocument/2006/relationships/hyperlink" Target="http://www.kalitva.ru/2008/12/04/" TargetMode="External"/><Relationship Id="rId7" Type="http://schemas.openxmlformats.org/officeDocument/2006/relationships/hyperlink" Target="http://www.labbox.ru/webasyst_setup/index.php?categoryID=613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5d8b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1835280" y="2781360"/>
            <a:ext cx="35287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27280" y="3933360"/>
            <a:ext cx="280836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8360" y="691920"/>
            <a:ext cx="2159280" cy="20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476280"/>
            <a:ext cx="223344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565360"/>
            <a:ext cx="1368360" cy="3589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789360"/>
            <a:ext cx="2232000" cy="431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89200" cy="4221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еличительные приборы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6165720"/>
            <a:ext cx="180036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432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УВЕЛИЧИТЕЛЬНЫЕ ПРИБОРЫ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6237360"/>
            <a:ext cx="5473440" cy="62064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09564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095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3352680" cy="1242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строение микроскопа и правила работы с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3888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УСТРОЙСТВО СВЕТОВОГО МИКРОСКОПА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2977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5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ТР. 22 РУБРИКА ЗАДАНИЯ № 2,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://lasertex.ru/index.php?chapter=products_view&amp;pID=56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http://www.laboratorium.dp.ua/__img/top-logo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http://museion.ru/material/index_vved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http://www.kalitva.ru/2008/12/0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http://www.labbox.ru/webasyst_setup/index.php?categoryID=6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5734080"/>
            <a:ext cx="4427640" cy="9144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биологии МОАУ СОШ №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Давно пытливый ум мечтал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Внутрь всех вещей взглянуть.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уть в мир незримый указал</a:t>
            </a:r>
            <a:br>
              <a:rPr sz="3600"/>
            </a:b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Великий Левенгук</a:t>
            </a:r>
            <a:br>
              <a:rPr sz="40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781000" cy="35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6548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-589" b="0"/>
          <a:stretch/>
        </p:blipFill>
        <p:spPr>
          <a:xfrm>
            <a:off x="395280" y="981000"/>
            <a:ext cx="4102200" cy="453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295272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РОБЕРТ ГУК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4221000"/>
            <a:ext cx="7667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 Экскурсия в мир клеток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28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летка – обязатель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остейшая структурная едини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оторая лежит в основе строения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развития и всей жизнедеятельности живого организ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2"/>
          <a:stretch/>
        </p:blipFill>
        <p:spPr>
          <a:xfrm>
            <a:off x="0" y="0"/>
            <a:ext cx="1500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484280"/>
            <a:ext cx="3024360" cy="460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619280" y="1125000"/>
            <a:ext cx="2376360" cy="151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765000"/>
            <a:ext cx="2592360" cy="43200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16360" y="1196640"/>
            <a:ext cx="19429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956120" cy="540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3419280" y="1341000"/>
            <a:ext cx="2592360" cy="23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979280" y="3573360"/>
            <a:ext cx="4105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7280" y="386064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432960"/>
            <a:ext cx="252108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484360" y="1773000"/>
            <a:ext cx="2303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413000"/>
            <a:ext cx="2952720" cy="50328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f4f77"/>
            </a:gs>
            <a:gs pos="100000">
              <a:srgbClr val="7979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&amp;Rcy;&amp;acy;&amp;scy;&amp;tcy;&amp;icy;&amp;tcy;&amp;iecy;&amp;lcy;&amp;softcy;&amp;ncy;&amp;acy;&amp;yacy; &amp;kcy;&amp;lcy;&amp;iecy;&amp;tcy;&amp;kcy;&amp;acy;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763640" y="2565000"/>
            <a:ext cx="3168720" cy="93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1584360" cy="720720"/>
          </a:xfrm>
          <a:prstGeom prst="rect">
            <a:avLst/>
          </a:prstGeom>
          <a:solidFill>
            <a:srgbClr val="5d5d8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35:45Z</dcterms:created>
  <dc:creator>Василий</dc:creator>
  <dc:description/>
  <dc:language>en-US</dc:language>
  <cp:lastModifiedBy>Василий</cp:lastModifiedBy>
  <dcterms:modified xsi:type="dcterms:W3CDTF">2012-10-07T14:36:24Z</dcterms:modified>
  <cp:revision>1</cp:revision>
  <dc:subject/>
  <dc:title>Слайд 1</dc:title>
</cp:coreProperties>
</file>