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5AB-8E4B-4D3C-9273-7827D3A0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D38-5211-4E09-BDC3-8D45D3BE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14F-DBCF-4656-AB89-B8299FA6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A51-C05F-452D-BBE2-1C9C1EA1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E4C6-5E05-4820-984B-C4D7E1D0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111D-02A8-4EB9-973C-353C6B2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B2FE-7B54-498C-83AD-905424FF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14CA-C39D-4D7A-A2CD-86301CD0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24C1-E48B-480A-A103-42C24DB7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9263-4852-4702-8B08-19D11F4D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5C09-B2B3-4B03-80B1-13700783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DE5-A0D1-4647-818A-0DE5383D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189F-268B-44A7-932D-D4B9A642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4652-4734-42FF-8561-2D7FAAE4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8FCE-A9CC-4F5E-BF57-49CC09AF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76A1-CAFA-4C71-915E-05C3325F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42AC-969E-42DA-A95F-38FFFFBE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909-4884-451F-8D8B-8CCCDD64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899-D1FD-40C8-A229-0C4510C2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19A-DAA9-4515-9672-D6548A86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5DA-AEC1-453D-AEC7-F445DC14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A2D-9837-4324-8C1B-4781A70C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1C2-6D47-40E5-AF97-24F0F5C0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A3D-F56B-4540-AA1E-141B2BB9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4FD1-C170-405E-A365-8043AD8DD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CFD0-9E0A-4C30-8B21-EA9C6FA8C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sertex.ru/index.php?chapter=products_view&amp;pID=561" TargetMode="External"/><Relationship Id="rId3" Type="http://schemas.openxmlformats.org/officeDocument/2006/relationships/hyperlink" Target="http://lasertex.ru/index.php?chapter=products_view&amp;pID=561" TargetMode="External"/><Relationship Id="rId4" Type="http://schemas.openxmlformats.org/officeDocument/2006/relationships/hyperlink" Target="http://www.laboratorium.dp.ua/__img/top-logo.jpg" TargetMode="External"/><Relationship Id="rId5" Type="http://schemas.openxmlformats.org/officeDocument/2006/relationships/hyperlink" Target="http://museion.ru/material/index_vved.html" TargetMode="External"/><Relationship Id="rId6" Type="http://schemas.openxmlformats.org/officeDocument/2006/relationships/hyperlink" Target="http://www.kalitva.ru/2008/12/04/" TargetMode="External"/><Relationship Id="rId7" Type="http://schemas.openxmlformats.org/officeDocument/2006/relationships/hyperlink" Target="http://www.labbox.ru/webasyst_setup/index.php?categoryID=613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5d8b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4608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1835280" y="2781360"/>
            <a:ext cx="352872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627280" y="3933360"/>
            <a:ext cx="2808360" cy="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68360" y="691920"/>
            <a:ext cx="2159280" cy="20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476280"/>
            <a:ext cx="2233440" cy="43164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565360"/>
            <a:ext cx="1368360" cy="35892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3789360"/>
            <a:ext cx="2232000" cy="43164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589200" cy="4221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величительные приборы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6165720"/>
            <a:ext cx="1800360" cy="50328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7432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УВЕЛИЧИТЕЛЬНЫЕ ПРИБОРЫ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6237360"/>
            <a:ext cx="5473440" cy="62064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ВЕТОВОЙ МИКРОС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09564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3095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74680" y="262080"/>
            <a:ext cx="3352680" cy="1242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строение микроскопа и правила работы с 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3280" y="620640"/>
            <a:ext cx="38880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УСТРОЙСТВО СВЕТОВОГО МИКРОСКОПА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29776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5 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СТР. 22 РУБРИКА ЗАДАНИЯ № 2,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://lasertex.ru/index.php?chapter=products_view&amp;pID=5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http://www.laboratorium.dp.ua/__img/top-logo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http://museion.ru/material/index_vved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http://www.kalitva.ru/2008/12/04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http://www.labbox.ru/webasyst_setup/index.php?categoryID=6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бочая программа к учебнику Э. Л. Введенского, А. А. Плешакова. «Биология. Введение в биологию» 5 класс. Линия «Вектор»- М. : ООО «Русское слово – учебник», 2012. – 32 с. – ФГОС. Инновационная школ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чебник Э. Л. Введенский, А. А. Плешаков. «Биология. Введение в биологию» 5 класс. Линия «Вектор»- М. : ООО «Русское слово – учебник», 2012. ФГОС. Инновационная школ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5734080"/>
            <a:ext cx="4427640" cy="91440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биологии МОАУ СОШ №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итова Марина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Давно пытливый ум мечтал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Внутрь всех вещей взглянуть.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Путь в мир незримый указал</a:t>
            </a:r>
            <a:br>
              <a:rPr sz="3600"/>
            </a:br>
            <a:r>
              <a:rPr b="0" i="1" lang="en-US" sz="3600" spc="-1" strike="noStrike">
                <a:solidFill>
                  <a:srgbClr val="000099"/>
                </a:solidFill>
                <a:latin typeface="Arial"/>
              </a:rPr>
              <a:t>Великий Левенгук</a:t>
            </a:r>
            <a:br>
              <a:rPr sz="4000"/>
            </a:b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2781000" cy="3529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165480" cy="35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-589" b="0"/>
          <a:stretch/>
        </p:blipFill>
        <p:spPr>
          <a:xfrm>
            <a:off x="395280" y="981000"/>
            <a:ext cx="4102200" cy="453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2952720" cy="2735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РОБЕРТ ГУК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84360" y="4221000"/>
            <a:ext cx="7667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 урока: Экскурсия в мир клеток</a:t>
            </a:r>
            <a:endParaRPr b="0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6282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Клетка – обязательна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простейшая структурная единиц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которая лежит в основе строения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развития и всей жизнедеятельности живого организм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2"/>
          <a:stretch/>
        </p:blipFill>
        <p:spPr>
          <a:xfrm>
            <a:off x="0" y="0"/>
            <a:ext cx="15001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4f77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484280"/>
            <a:ext cx="3024360" cy="4608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1619280" y="1125000"/>
            <a:ext cx="2376360" cy="151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95640" y="765000"/>
            <a:ext cx="2592360" cy="43200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916360" y="1196640"/>
            <a:ext cx="194292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956120" cy="540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 flipV="1">
            <a:off x="3419280" y="1341000"/>
            <a:ext cx="2592360" cy="237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979280" y="3573360"/>
            <a:ext cx="4105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067280" y="3860640"/>
            <a:ext cx="2008080" cy="87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3432960"/>
            <a:ext cx="2521080" cy="642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4f77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2484360" y="1773000"/>
            <a:ext cx="23036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1413000"/>
            <a:ext cx="2952720" cy="50328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4f77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460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763640" y="2565000"/>
            <a:ext cx="3168720" cy="93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2060640"/>
            <a:ext cx="1584360" cy="72072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4:35:45Z</dcterms:created>
  <dc:creator>Василий</dc:creator>
  <dc:description/>
  <dc:language>en-US</dc:language>
  <cp:lastModifiedBy>Василий</cp:lastModifiedBy>
  <dcterms:modified xsi:type="dcterms:W3CDTF">2012-10-07T14:36:24Z</dcterms:modified>
  <cp:revision>1</cp:revision>
  <dc:subject/>
  <dc:title>Слайд 1</dc:title>
</cp:coreProperties>
</file>