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68CE-C8C4-465C-B37B-2F0431C688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дание можно дать детям индивидуально, распечатав его на лис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- Раскрась тротуар серым цветом, поребрик – красным, проезжую часть – голуб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Подпиши названия элементов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Покажи стрелками направление движения пешеходов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703D-1038-429E-9810-F2CA075D67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дание можно дать детям индивидуально, распечатав его на лис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Закрась тех, кто неправильно ведет себя на тротуаре, красным цветом. Назови правила, которые нарушили эти пешеходы. Закрась тротуар серым цветом, поребрик – красным, ограждение – желт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Покажи стрелками направление движения пешеходов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BFC4-6DA1-4CF7-837C-011F932C9A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3-4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ше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ту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ль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еб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росл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3882-07DB-44C7-A4F4-58183CD136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строился Санкт-Петербург, строение возводили вдоль просек, которые вырубались в лесах. Просеки превращались в дороги, по которым вези в город все необходимое. Позже дороги начали мостить – делали каменное покрытие дорог. От этого возникло название проезжей части «мостова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м начали проявлять заботу о пешеходах. По краям главных улиц Санкт-Петербурга стали класть каменные плиты и ограждать их от мостовой металлическими тумбами. Возницам предписывалось ездить посередине мостовой, тумбы не позволяли лошадям заезжать в толпу. Позднее разделение дороги на части для транспорта и пешеходов появилось и во Франции, в Париже. Там и возникло слово «тротуар», что значит «дорога для пешеход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 тротуар и проезжую часть разделили пополам для движения во встречных направлениях, указав участникам движения держаться правой с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C324-F5A8-4ACC-BE55-608C93CB72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рога – это не только проезжая часть и тротуар. Она включает в себя и другие составные части – элементы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ЕБРИК – специальный камень, который отделяет проезжую часть от тротуара. Для предупреждения наезда транспорта на тротуар поребрик приподнят над проезжей частью. Иногда поребрик называют бордюром, что по-французски значит «полоса, обрамляющая край чего-либ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E5DA-122B-4C3F-8AFA-44571E7AE3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Поребрик – ограничительная линия, за которой находится проезжая часть. Пешеходу находиться на поребрике очень опасно, ведь если автомобиль едет близко к поребрику, то он может задеть идущего по нему. Даже если машин на проезжей части нет, стоять на поребрике опасно: можно пошатнуться или тебя нечаянно толкнут, и ты окажешься на проезжей части, на которой может неожиданно появиться автомоби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7419-FD6F-4704-9D15-55FC064704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сли нужно обойти препятствие на тротуаре, то делать это нужно только по тротуа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льзя устраивать на тротуаре игры или беготню: это может помешать пешеходам или ты можешь оказаться на проезже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сли нужно остановиться на тротуаре, то краю, который ближе к домам. У проезжей части опасно: тебя могут толк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сли ты обронил на проезжую часть какой-либо предмет, то не бросайся за ним. Останься на тротуаре и обратись за помощью к взрос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 движении группами тоже надо соблюдать эти правила. Кроме того, идти надо спокойно, парами, не выходить из строя, громко не разговаривать. Все указания учителя выполнять быстро и чет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A647-46A4-4AD0-B50C-AC990F84BA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граждения препятствуют неожиданному выходу пешеходов на проезжую часть. Чаще всего ограждения ставят на дорогах с интенсивным движением транспорта, около школ и других мест скопления пешеходов, вдоль трамвайных путей и на остановках трам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BC15-7363-458E-AA80-A0778AF083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ые злостные нарушители ПДД перелезают через ограждения или под ними. Это очень грубое и очень опасное нарушение правил. Там, где установлены ограждения, водитель уверен в отсутствии пешеходов на проезжей части. Поэтому, когда перед ним неожиданно оказывается пешеход, водитель может не успеть вовремя избежать наез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5211-ACA8-4295-8909-73DB311A1D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нать и соблюдать ПДД очень важно. Но надо ещё учиться предвидеть дорожную ситуацию. Опасных случаев может быть очень много. Например, когда ты идешь по тротуару, ни о какой опасности не думаешь. Но бывает, что из-под арки выезжает автомобиль, иногда даже задним ходом, или велосипедист или мотоциклист. Поэтому, проходя мимо арки, посмотри, не едет ли оттуда какой-нибудь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AF40-D095-46B8-AEE7-36402648AA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B6C-7D8B-492E-842F-3BD4A82B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6A1-9789-42C3-BEDC-7AD61E4D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4FB-8E03-482F-8B50-9AFC2A34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2EA-F9D5-4CA5-8F71-C5BAE320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BC74-74FF-42D4-A0DB-DED93813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3FB6-2A2F-4233-B168-ACCBA1AA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FF43-D369-44D3-BDE3-17DCDD06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BBA5-54E7-4250-8793-016BCA5A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07AB-3C5B-4C8D-BF9D-673F8824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2DED-5B5A-4ADC-A6D1-8EA0ACFC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0902-8182-4047-A5CE-B7336B8C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D3E-F7ED-422D-9EBD-5B9BAE74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B68E-BD03-43FC-BB8D-2E48C4D3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D503-A1C8-4403-8C54-FD9CA79B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CA33-42BC-467D-9DB8-D8212D38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84F9-01F9-484E-AE12-0132D815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F1B2-0A63-4AE6-BE85-12E89F57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3019-3AA2-45E0-BC70-45914933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08F07-FDF3-46D8-ACA1-125E8B72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347C-8C4F-417A-B3AF-4C0BDDE7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05373-9EC3-48F4-8F50-FC4D495D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B74A-3923-46BB-94E3-B3A3E7C2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670-7D6F-445C-AC16-AB8073F4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503C-1A75-4D58-A501-1E22AE77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9E00-C985-4EFD-8670-DBE2CC88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8FC0-8E2F-470E-BB7F-6885A821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2114-0408-4126-82D1-366A6DB2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71C4-2EBB-45AA-8EAE-4E1733BA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5DDE-67D8-4893-A009-9B5DD254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305C-6B4F-4D00-9C14-B00C0A2B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958FE-9A71-42D2-BE3C-58093809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6DCC5-8EFE-4105-8AD8-7FD7ED7D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0682-2A38-4829-A3A1-2BC4C650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7BD-E2CA-49CC-B92F-C116884C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C763-49CF-4707-9AB5-46985BC2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FE13B-614A-46B3-B2EB-AAD7F7FB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F003-2E23-4E72-856C-220F9D0A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DCAA9-7DBC-4B06-840D-57DAA4A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10E35-80D1-44C5-81BA-A521515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BE2D-A9D8-4EEC-94E8-E7977E98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DDB6-73AD-4289-BC40-AC54A918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82D6C-B663-4870-B8E6-3FA03B47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8B11-E61B-43F6-8786-3656E801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DB3DA-1CDF-4CBD-A661-257E0A0D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4E5-5D5B-41A9-A3F1-840BB265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B0C12-2676-4A58-8373-62A963F9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72977-3A09-45A8-8FD5-DEF1DB39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3CFC-5731-40AF-8BE5-3C803C7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F0635-EE1D-47F8-9C60-6F2C17BE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8750-994C-45AE-8A85-FD234F85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E849-235D-4B58-8CD9-67E11004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6BD30-F5B4-4865-9A6F-0CD772A5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58D0A-F6BF-4E2C-A682-9C663DE7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214F5-4CCD-4E6B-865E-CCFDD063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0E50D-D3F8-4748-A584-31CCB870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81B-BE6E-43A6-846E-CBE569B0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80B77-3A83-49D4-A5D4-3F8A3143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D7D-1128-437E-9540-DD809A5A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1FF-9173-414C-8E10-85398176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7DD-9221-4283-9E29-5612ED96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D115-8FC7-4122-907C-9F53E774C47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AEF3-E402-4DEB-B921-E806725E594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E7E8-5EE7-42A8-A428-2E4BE0F923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AB8C-728D-438C-A70D-237F409AA01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3AC7-9DC4-4FB3-8D3D-4BA4C3B1592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4920" y="3200040"/>
            <a:ext cx="7380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резентация подготовлена по материалам книги «Учись быть пешеходом»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(авт. Е.М. Сосунова, М.Л. Форштат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орога, её элементы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 правила поведения на не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alibri"/>
              </a:rPr>
              <a:t>Выполни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5" name="Рисунок 2" descr="нерегулир перекр_6.png"/>
          <p:cNvPicPr/>
          <p:nvPr/>
        </p:nvPicPr>
        <p:blipFill>
          <a:blip r:embed="rId1"/>
          <a:srcRect l="0" t="1751" r="0" b="1751"/>
          <a:stretch/>
        </p:blipFill>
        <p:spPr>
          <a:xfrm>
            <a:off x="1692360" y="836640"/>
            <a:ext cx="5400720" cy="562752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-162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alibri"/>
              </a:rPr>
              <a:t>Найди нарушителе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7" name="Рисунок 2" descr="нерегулир перекр_6.png"/>
          <p:cNvPicPr/>
          <p:nvPr/>
        </p:nvPicPr>
        <p:blipFill>
          <a:blip r:embed="rId1"/>
          <a:srcRect l="1332" t="1499" r="2665" b="0"/>
          <a:stretch/>
        </p:blipFill>
        <p:spPr>
          <a:xfrm>
            <a:off x="1476360" y="1052640"/>
            <a:ext cx="5904000" cy="538308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162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alibri"/>
              </a:rPr>
              <a:t>Кроссворд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9" name="Рисунок 2" descr="нерегулир перекр_6.png"/>
          <p:cNvPicPr/>
          <p:nvPr/>
        </p:nvPicPr>
        <p:blipFill>
          <a:blip r:embed="rId1"/>
          <a:srcRect l="18160" t="0" r="14181" b="7713"/>
          <a:stretch/>
        </p:blipFill>
        <p:spPr>
          <a:xfrm>
            <a:off x="0" y="574560"/>
            <a:ext cx="4643280" cy="62834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4427640" y="836640"/>
            <a:ext cx="471636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1.Строения на краю тротуар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.Перепятствие вдоль тротуара, не позволяющее пешеходам выходить на проезжую част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3.Проём в стене многоквартирного дом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4.Человек, находящийся на дороге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5.Часть дороги, предназначенная для движения пешеходов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6.Аллея посередине улиц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7.Край тротуара, прилегающий к проезжей част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8.Дорога для трамва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10.Человек, который может помочь тебе поднять предмет, упавший на проезжую част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резентация выполнена Галановой Еленой Валерьевной, учителем начальных классов ГБОУ школы №328 с углубленным изучением английского языка Невского района Санкт-Петербурга</a:t>
            </a: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44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Немного истории…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8" name="Picture 2" descr="http://photos.citywalls.ru/qphoto2-2488.jpg?mt=1273625807"/>
          <p:cNvPicPr/>
          <p:nvPr/>
        </p:nvPicPr>
        <p:blipFill>
          <a:blip r:embed="rId1"/>
          <a:stretch/>
        </p:blipFill>
        <p:spPr>
          <a:xfrm>
            <a:off x="684360" y="1413000"/>
            <a:ext cx="7704000" cy="499716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Элементы дорог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Рисунок 3" descr="нерегулир перекр_1.png"/>
          <p:cNvPicPr/>
          <p:nvPr/>
        </p:nvPicPr>
        <p:blipFill>
          <a:blip r:embed="rId1"/>
          <a:srcRect l="0" t="3305" r="2380" b="0"/>
          <a:stretch/>
        </p:blipFill>
        <p:spPr>
          <a:xfrm>
            <a:off x="900000" y="1125360"/>
            <a:ext cx="7572600" cy="539928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Будь внимателен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Рисунок 3" descr="нерегулир перекр_1.png"/>
          <p:cNvPicPr/>
          <p:nvPr/>
        </p:nvPicPr>
        <p:blipFill>
          <a:blip r:embed="rId1"/>
          <a:srcRect l="2154" t="2665" r="1925" b="5331"/>
          <a:stretch/>
        </p:blipFill>
        <p:spPr>
          <a:xfrm>
            <a:off x="1042920" y="981000"/>
            <a:ext cx="7059600" cy="547236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-1004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Как вести себя на тротуар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4" name="Рисунок 3" descr="нерегулир перекр_1.png"/>
          <p:cNvPicPr/>
          <p:nvPr/>
        </p:nvPicPr>
        <p:blipFill>
          <a:blip r:embed="rId1"/>
          <a:srcRect l="0" t="1308" r="4818" b="0"/>
          <a:stretch/>
        </p:blipFill>
        <p:spPr>
          <a:xfrm>
            <a:off x="1865160" y="1052640"/>
            <a:ext cx="5154840" cy="540072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Огражд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6" name="Рисунок 3" descr="нерегулир перекр_1.png"/>
          <p:cNvPicPr/>
          <p:nvPr/>
        </p:nvPicPr>
        <p:blipFill>
          <a:blip r:embed="rId1"/>
          <a:srcRect l="835" t="2651" r="1395" b="0"/>
          <a:stretch/>
        </p:blipFill>
        <p:spPr>
          <a:xfrm>
            <a:off x="395280" y="1123920"/>
            <a:ext cx="8439120" cy="532944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нимание, опасность!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8" name="Рисунок 2" descr="нерегулир перекр_4.png"/>
          <p:cNvPicPr/>
          <p:nvPr/>
        </p:nvPicPr>
        <p:blipFill>
          <a:blip r:embed="rId1"/>
          <a:srcRect l="1098" t="6356" r="52750" b="3792"/>
          <a:stretch/>
        </p:blipFill>
        <p:spPr>
          <a:xfrm>
            <a:off x="250920" y="1413000"/>
            <a:ext cx="4321080" cy="360036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  <p:pic>
        <p:nvPicPr>
          <p:cNvPr id="249" name="Рисунок 3" descr="нерегулир перекр_4.png"/>
          <p:cNvPicPr/>
          <p:nvPr/>
        </p:nvPicPr>
        <p:blipFill>
          <a:blip r:embed="rId2"/>
          <a:srcRect l="53970" t="873" r="1588" b="6438"/>
          <a:stretch/>
        </p:blipFill>
        <p:spPr>
          <a:xfrm>
            <a:off x="4859280" y="1413000"/>
            <a:ext cx="4113360" cy="367164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нимание, опасность!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1" name="Рисунок 2" descr="нерегулир перекр_4.png"/>
          <p:cNvPicPr/>
          <p:nvPr/>
        </p:nvPicPr>
        <p:blipFill>
          <a:blip r:embed="rId1"/>
          <a:srcRect l="0" t="3331" r="1669" b="0"/>
          <a:stretch/>
        </p:blipFill>
        <p:spPr>
          <a:xfrm>
            <a:off x="755640" y="1341360"/>
            <a:ext cx="7777080" cy="518652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8000" y="-31644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Проверь себя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85840" y="765000"/>
            <a:ext cx="85723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чему по тротуару надо ходить, придерживаясь правой стороны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чему нельзя идти по поребрику и стоять на нём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чему нельзя сидеть на пешеходном ограждении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ак ты будешь обходить лужу или яму на тротуаре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Если ты нечаянно уронил на проезжую часть какой-то предмет, то как надо поступить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6:53:53Z</dcterms:created>
  <dc:creator>Galanovi</dc:creator>
  <dc:description/>
  <dc:language>en-US</dc:language>
  <cp:lastModifiedBy>User</cp:lastModifiedBy>
  <dcterms:modified xsi:type="dcterms:W3CDTF">2012-02-15T10:07:35Z</dcterms:modified>
  <cp:revision>23</cp:revision>
  <dc:subject/>
  <dc:title>Нерегулируемый  перекрёсток</dc:title>
</cp:coreProperties>
</file>