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2D09-56F6-4801-8841-652E230B11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дание можно дать детям индивидуально, распечатав его на лис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ласс- Раскрась тротуар серым цветом, поребрик – красным, проезжую часть – голуб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 –Подпиши названия элементов 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– Покажи стрелками направление движения пешеходов и транс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881D-F82D-41B1-9AF4-1A8006BB9E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дание можно дать детям индивидуально, распечатав его на лис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 –Закрась тех, кто неправильно ведет себя на тротуаре, красным цветом. Назови правила, которые нарушили эти пешеходы. Закрась тротуар серым цветом, поребрик – красным, ограждение – желт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– Покажи стрелками направление движения пешеходов и транс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462C-CCE0-4051-8DAB-A86A57539C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для 3-4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ше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ту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ль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еб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ль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росл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A47C-A61E-4B4E-8F2B-18021EA38B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огда строился Санкт-Петербург, строение возводили вдоль просек, которые вырубались в лесах. Просеки превращались в дороги, по которым вези в город все необходимое. Позже дороги начали мостить – делали каменное покрытие дорог. От этого возникло название проезжей части «мостова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м начали проявлять заботу о пешеходах. По краям главных улиц Санкт-Петербурга стали класть каменные плиты и ограждать их от мостовой металлическими тумбами. Возницам предписывалось ездить посередине мостовой, тумбы не позволяли лошадям заезжать в толпу. Позднее разделение дороги на части для транспорта и пешеходов появилось и во Франции, в Париже. Там и возникло слово «тротуар», что значит «дорога для пешеход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же тротуар и проезжую часть разделили пополам для движения во встречных направлениях, указав участникам движения держаться правой с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64CB-2BC6-4A51-89A1-2C37B155EB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орога – это не только проезжая часть и тротуар. Она включает в себя и другие составные части – элементы 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ЕБРИК – специальный камень, который отделяет проезжую часть от тротуара. Для предупреждения наезда транспорта на тротуар поребрик приподнят над проезжей частью. Иногда поребрик называют бордюром, что по-французски значит «полоса, обрамляющая край чего-либ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73AF-5D90-41C5-9597-9B83F69285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Поребрик – ограничительная линия, за которой находится проезжая часть. Пешеходу находиться на поребрике очень опасно, ведь если автомобиль едет близко к поребрику, то он может задеть идущего по нему. Даже если машин на проезжей части нет, стоять на поребрике опасно: можно пошатнуться или тебя нечаянно толкнут, и ты окажешься на проезжей части, на которой может неожиданно появиться автомоби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EE5D-B364-4AD8-89FA-CEEA73DCA1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Если нужно обойти препятствие на тротуаре, то делать это нужно только по тротуа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льзя устраивать на тротуаре игры или беготню: это может помешать пешеходам или ты можешь оказаться на проезже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Если нужно остановиться на тротуаре, то краю, который ближе к домам. У проезжей части опасно: тебя могут толкн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Если ты обронил на проезжую часть какой-либо предмет, то не бросайся за ним. Останься на тротуаре и обратись за помощью к взросл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 движении группами тоже надо соблюдать эти правила. Кроме того, идти надо спокойно, парами, не выходить из строя, громко не разговаривать. Все указания учителя выполнять быстро и чет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66FE-D3D1-4724-95CB-05DCF08CB5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граждения препятствуют неожиданному выходу пешеходов на проезжую часть. Чаще всего ограждения ставят на дорогах с интенсивным движением транспорта, около школ и других мест скопления пешеходов, вдоль трамвайных путей и на остановках трамв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B919-66C1-45A7-976F-69847A6D86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амые злостные нарушители ПДД перелезают через ограждения или под ними. Это очень грубое и очень опасное нарушение правил. Там, где установлены ограждения, водитель уверен в отсутствии пешеходов на проезжей части. Поэтому, когда перед ним неожиданно оказывается пешеход, водитель может не успеть вовремя избежать наез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A59D-D9C9-469F-9721-9B8FF4D0F3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нать и соблюдать ПДД очень важно. Но надо ещё учиться предвидеть дорожную ситуацию. Опасных случаев может быть очень много. Например, когда ты идешь по тротуару, ни о какой опасности не думаешь. Но бывает, что из-под арки выезжает автомобиль, иногда даже задним ходом, или велосипедист или мотоциклист. Поэтому, проходя мимо арки, посмотри, не едет ли оттуда какой-нибудь трансп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7AF4-46D9-406E-A07A-E5B966E1FD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2BB-9B82-4CDF-8BF9-C062B0F9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CFD-1896-4607-A8B3-61184DE0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2931-D4F7-499C-805C-A001FE2B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61E-8BBB-45E8-937A-84C546E1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7701-1169-4A43-8A32-9421A2EF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153B-A1F5-443C-AB7C-00B43AB8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8B0D-6E97-41CC-8654-9F00F9D5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D7F4-8BB0-4B8A-A468-BB848D43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067E-7481-4A45-86EE-6C1240A7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F928-702A-44E6-AAAE-902C57E9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EF6F-2140-49AF-BFC3-2EAF3A7F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FF2A-0078-41D9-A181-8F37E404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A91C-C585-42DF-805B-62C8A593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3A49-8C28-4B43-A752-106E5713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80B5-FDF3-46D7-A815-61E7F925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0DE1-A325-408C-B342-C79CA1E5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B69B-B26B-4839-B74C-221AC485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7BE74-0A8B-45CA-9252-E65627C4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EC119-7C37-4B77-8858-7A0E2509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C852F-FF8A-4E20-BF23-B8E5A998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927B6-2129-4E00-B24F-C2F2E347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360D5-A880-4FFF-A440-67D59B7F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46B-9986-4115-9FC8-487715D3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AE2A8-4B92-4B88-B7BA-94700814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555C2-182C-4327-8C8A-3D5DFAB5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41523-F4E0-49ED-8C06-0AFFBEED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FCE2B-C8F7-471A-83BE-60EEB8D7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9E428-E8E6-49E4-86E3-BEE83DE3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87354-E8D0-4774-88BA-59F3A630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63F7C-97B7-4829-8C27-6BB619FB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AF05F-4C43-4284-86F9-79245B9D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021CC-D8E6-4C64-8E99-5A11107D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D01E0-0FB1-4729-8B5E-A00D5E25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E0BE-70AE-49F0-B458-2C8D29C6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BC08E-2ADC-49B8-97C2-14E70F64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79A66-920C-4EFA-80B6-4B783BC4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8BCAF-D5F7-47E6-9F62-42A56E4D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32F54-DB3A-407F-BE99-67F67862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3E308-41D1-4A17-807A-A11ADBFF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629CE-682D-40AD-B783-947F0430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D31D0-6E2A-4453-A277-4843F70E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4DFAB-80C3-447D-895F-0B040CA6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FF646-AD11-42C3-8A3D-B32DE5CC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04812-B88E-4227-A1B4-87A8CC3B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01F-59B6-43DA-BCE8-766851A8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BE1DC-2AB6-44B2-802A-E2DAD3EB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C0293-CF7B-4B75-8B21-8B9491AC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DADB4-8884-4BAF-ADA5-0FE008D7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9808E-D911-406D-905A-38BB3E5B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B3834-1A2B-4F24-98AF-E31572CA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CCFCD-097F-4C03-B8F3-007AAFEE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51C94-DCA3-49A4-A0F4-A6D1189F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797DE-BAE6-4C2B-A38F-EBAA3758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526A0-05B3-4D06-95BE-2E0C94A5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31776-9689-403F-8C33-AE950130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8E57-E3C7-4582-91B0-A34A97D7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808C8-2D1D-4B35-A91A-248B60C3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F8B-E707-4421-BC94-D0FA1F85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0BE-81CD-4924-B7B9-8C84FEB0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6FF-76A3-4B34-B341-D2F9F3F6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5DD3-F5A0-491F-A33C-8EC87EAC058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FE68-48E2-4156-8199-7BB914EDF71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579E-D8CB-45A7-B1D2-17F5B52E4B6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5BBF-FB81-4BC9-A1CB-312C5017B65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2FE1-1AA9-4817-A0E4-60DF391EFB1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4920" y="3200040"/>
            <a:ext cx="7380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Презентация подготовлена по материалам книги «Учись быть пешеходом»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(авт. Е.М. Сосунова, М.Л. Форштат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орога, её элементы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 правила поведения на не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4817"/>
                </a:solidFill>
                <a:latin typeface="Calibri"/>
              </a:rPr>
              <a:t>Выполни зад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5" name="Рисунок 2" descr="нерегулир перекр_6.png"/>
          <p:cNvPicPr/>
          <p:nvPr/>
        </p:nvPicPr>
        <p:blipFill>
          <a:blip r:embed="rId1"/>
          <a:srcRect l="0" t="1751" r="0" b="1751"/>
          <a:stretch/>
        </p:blipFill>
        <p:spPr>
          <a:xfrm>
            <a:off x="1692360" y="836640"/>
            <a:ext cx="5400720" cy="562752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5280" y="-1623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4817"/>
                </a:solidFill>
                <a:latin typeface="Calibri"/>
              </a:rPr>
              <a:t>Найди нарушителе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7" name="Рисунок 2" descr="нерегулир перекр_6.png"/>
          <p:cNvPicPr/>
          <p:nvPr/>
        </p:nvPicPr>
        <p:blipFill>
          <a:blip r:embed="rId1"/>
          <a:srcRect l="1332" t="1499" r="2665" b="0"/>
          <a:stretch/>
        </p:blipFill>
        <p:spPr>
          <a:xfrm>
            <a:off x="1476360" y="1052640"/>
            <a:ext cx="5904000" cy="538308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1623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4817"/>
                </a:solidFill>
                <a:latin typeface="Calibri"/>
              </a:rPr>
              <a:t>Кроссворд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9" name="Рисунок 2" descr="нерегулир перекр_6.png"/>
          <p:cNvPicPr/>
          <p:nvPr/>
        </p:nvPicPr>
        <p:blipFill>
          <a:blip r:embed="rId1"/>
          <a:srcRect l="18160" t="0" r="14181" b="7713"/>
          <a:stretch/>
        </p:blipFill>
        <p:spPr>
          <a:xfrm>
            <a:off x="0" y="574560"/>
            <a:ext cx="4643280" cy="62834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3"/>
          <p:cNvSpPr/>
          <p:nvPr/>
        </p:nvSpPr>
        <p:spPr>
          <a:xfrm>
            <a:off x="4427640" y="836640"/>
            <a:ext cx="471636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1.Строения на краю тротуар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2.Перепятствие вдоль тротуара, не позволяющее пешеходам выходить на проезжую часть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3.Проём в стене многоквартирного дом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4.Человек, находящийся на дороге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5.Часть дороги, предназначенная для движения пешеходов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6.Аллея посередине улицы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7.Край тротуара, прилегающий к проезжей част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8.Дорога для трамвая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10.Человек, который может помочь тебе поднять предмет, упавший на проезжую часть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280" y="5373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резентация выполнена Галановой Еленой Валерьевной, учителем начальных классов ГБОУ школы №328 с углубленным изучением английского языка Невского района Санкт-Петербурга</a:t>
            </a:r>
            <a:endParaRPr b="0" lang="en-US" sz="2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44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Немного истории…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8" name="Picture 2" descr="http://photos.citywalls.ru/qphoto2-2488.jpg?mt=1273625807"/>
          <p:cNvPicPr/>
          <p:nvPr/>
        </p:nvPicPr>
        <p:blipFill>
          <a:blip r:embed="rId1"/>
          <a:stretch/>
        </p:blipFill>
        <p:spPr>
          <a:xfrm>
            <a:off x="684360" y="1413000"/>
            <a:ext cx="7704000" cy="499716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Элементы дорог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0" name="Рисунок 3" descr="нерегулир перекр_1.png"/>
          <p:cNvPicPr/>
          <p:nvPr/>
        </p:nvPicPr>
        <p:blipFill>
          <a:blip r:embed="rId1"/>
          <a:srcRect l="0" t="3305" r="2380" b="0"/>
          <a:stretch/>
        </p:blipFill>
        <p:spPr>
          <a:xfrm>
            <a:off x="900000" y="1125360"/>
            <a:ext cx="7572600" cy="539928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Будь внимателен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2" name="Рисунок 3" descr="нерегулир перекр_1.png"/>
          <p:cNvPicPr/>
          <p:nvPr/>
        </p:nvPicPr>
        <p:blipFill>
          <a:blip r:embed="rId1"/>
          <a:srcRect l="2154" t="2665" r="1925" b="5331"/>
          <a:stretch/>
        </p:blipFill>
        <p:spPr>
          <a:xfrm>
            <a:off x="1042920" y="981000"/>
            <a:ext cx="7059600" cy="547236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8920" y="-1004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Как вести себя на тротуар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4" name="Рисунок 3" descr="нерегулир перекр_1.png"/>
          <p:cNvPicPr/>
          <p:nvPr/>
        </p:nvPicPr>
        <p:blipFill>
          <a:blip r:embed="rId1"/>
          <a:srcRect l="0" t="1308" r="4818" b="0"/>
          <a:stretch/>
        </p:blipFill>
        <p:spPr>
          <a:xfrm>
            <a:off x="1865160" y="1052640"/>
            <a:ext cx="5154840" cy="540072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31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Огражде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6" name="Рисунок 3" descr="нерегулир перекр_1.png"/>
          <p:cNvPicPr/>
          <p:nvPr/>
        </p:nvPicPr>
        <p:blipFill>
          <a:blip r:embed="rId1"/>
          <a:srcRect l="835" t="2651" r="1395" b="0"/>
          <a:stretch/>
        </p:blipFill>
        <p:spPr>
          <a:xfrm>
            <a:off x="395280" y="1123920"/>
            <a:ext cx="8439120" cy="532944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Внимание, опасность!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8" name="Рисунок 2" descr="нерегулир перекр_4.png"/>
          <p:cNvPicPr/>
          <p:nvPr/>
        </p:nvPicPr>
        <p:blipFill>
          <a:blip r:embed="rId1"/>
          <a:srcRect l="1098" t="6356" r="52750" b="3792"/>
          <a:stretch/>
        </p:blipFill>
        <p:spPr>
          <a:xfrm>
            <a:off x="250920" y="1413000"/>
            <a:ext cx="4321080" cy="360036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  <p:pic>
        <p:nvPicPr>
          <p:cNvPr id="249" name="Рисунок 3" descr="нерегулир перекр_4.png"/>
          <p:cNvPicPr/>
          <p:nvPr/>
        </p:nvPicPr>
        <p:blipFill>
          <a:blip r:embed="rId2"/>
          <a:srcRect l="53970" t="873" r="1588" b="6438"/>
          <a:stretch/>
        </p:blipFill>
        <p:spPr>
          <a:xfrm>
            <a:off x="4859280" y="1413000"/>
            <a:ext cx="4113360" cy="367164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-273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Внимание, опасность!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1" name="Рисунок 2" descr="нерегулир перекр_4.png"/>
          <p:cNvPicPr/>
          <p:nvPr/>
        </p:nvPicPr>
        <p:blipFill>
          <a:blip r:embed="rId1"/>
          <a:srcRect l="0" t="3331" r="1669" b="0"/>
          <a:stretch/>
        </p:blipFill>
        <p:spPr>
          <a:xfrm>
            <a:off x="755640" y="1341360"/>
            <a:ext cx="7777080" cy="518652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8000" y="-31644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Проверь себя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85840" y="765000"/>
            <a:ext cx="85723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575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чему по тротуару надо ходить, придерживаясь правой стороны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чему нельзя идти по поребрику и стоять на нём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чему нельзя сидеть на пешеходном ограждении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ак ты будешь обходить лужу или яму на тротуаре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Если ты нечаянно уронил на проезжую часть какой-то предмет, то как надо поступить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6:53:53Z</dcterms:created>
  <dc:creator>Galanovi</dc:creator>
  <dc:description/>
  <dc:language>en-US</dc:language>
  <cp:lastModifiedBy>User</cp:lastModifiedBy>
  <dcterms:modified xsi:type="dcterms:W3CDTF">2012-02-15T10:07:35Z</dcterms:modified>
  <cp:revision>23</cp:revision>
  <dc:subject/>
  <dc:title>Нерегулируемый  перекрёсток</dc:title>
</cp:coreProperties>
</file>