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AA46-9E0C-4226-B1A9-BD5A64E6F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- Раскрась тротуар серым цветом, поребрик – красным, проезжую часть – голуб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Подпиши названия элементов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610F-DE71-4BC8-A1D5-1EC51B1EC5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дание можно дать детям индивидуально, распечатав его на лис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Закрась тех, кто неправильно ведет себя на тротуаре, красным цветом. Назови правила, которые нарушили эти пешеходы. Закрась тротуар серым цветом, поребрик – красным, ограждение – желт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Покажи стрелками направление движения пешеходов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624-C81C-4DBD-B18B-CE1A3C6DD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3-4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ше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ту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ль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180B-83F5-4488-881F-FE2C93301C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строился Санкт-Петербург, строение возводили вдоль просек, которые вырубались в лесах. Просеки превращались в дороги, по которым вези в город все необходимое. Позже дороги начали мостить – делали каменное покрытие дорог. От этого возникло название проезжей части «мостова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м начали проявлять заботу о пешеходах. По краям главных улиц Санкт-Петербурга стали класть каменные плиты и ограждать их от мостовой металлическими тумбами. Возницам предписывалось ездить посередине мостовой, тумбы не позволяли лошадям заезжать в толпу. Позднее разделение дороги на части для транспорта и пешеходов появилось и во Франции, в Париже. Там и возникло слово «тротуар», что значит «дорога для пешеход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тротуар и проезжую часть разделили пополам для движения во встречных направлениях, указав участникам движения держаться правой с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D52-76FA-4AFF-9212-4D30B805BA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рога – это не только проезжая часть и тротуар. Она включает в себя и другие составные части – элементы дор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ЕБРИК – специальный камень, который отделяет проезжую часть от тротуара. Для предупреждения наезда транспорта на тротуар поребрик приподнят над проезжей частью. Иногда поребрик называют бордюром, что по-французски значит «полоса, обрамляющая край чего-либ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AA07-0F33-40C8-99EC-07133F8750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Поребрик – ограничительная линия, за которой находится проезжая часть. Пешеходу находиться на поребрике очень опасно, ведь если автомобиль едет близко к поребрику, то он может задеть идущего по нему. Даже если машин на проезжей части нет, стоять на поребрике опасно: можно пошатнуться или тебя нечаянно толкнут, и ты окажешься на проезжей части, на которой может неожиданно появиться автомоби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DBD-387C-4F62-AD19-5395251CD9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бойти препятствие на тротуаре, то делать это нужно только по троту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льзя устраивать на тротуаре игры или беготню: это может помешать пешеходам или ты можешь оказаться на проезж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нужно остановиться на тротуаре, то краю, который ближе к домам. У проезжей части опасно: тебя могут толкн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сли ты обронил на проезжую часть какой-либо предмет, то не бросайся за ним. Останься на тротуаре и обратись за помощью к взрос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 движении группами тоже надо соблюдать эти правила. Кроме того, идти надо спокойно, парами, не выходить из строя, громко не разговаривать. Все указания учителя выполнять быстро и чет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5E94-4A7D-41C1-9775-001D514E44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граждения препятствуют неожиданному выходу пешеходов на проезжую часть. Чаще всего ограждения ставят на дорогах с интенсивным движением транспорта, около школ и других мест скопления пешеходов, вдоль трамвайных путей и на остановках трам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1FE6-0F85-4CE2-9639-2A66E984D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ые злостные нарушители ПДД перелезают через ограждения или под ними. Это очень грубое и очень опасное нарушение правил. Там, где установлены ограждения, водитель уверен в отсутствии пешеходов на проезжей части. Поэтому, когда перед ним неожиданно оказывается пешеход, водитель может не успеть вовремя избежать наез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E4D-1D0E-4C5A-B2A5-5847CAE68B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нать и соблюдать ПДД очень важно. Но надо ещё учиться предвидеть дорожную ситуацию. Опасных случаев может быть очень много. Например, когда ты идешь по тротуару, ни о какой опасности не думаешь. Но бывает, что из-под арки выезжает автомобиль, иногда даже задним ходом, или велосипедист или мотоциклист. Поэтому, проходя мимо арки, посмотри, не едет ли оттуда какой-нибудь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DF7-91E2-4EC8-A52C-F77BD8C72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ABF-B6F0-4D83-9C3A-6BBEDDC3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B65-C06A-41EB-A773-9514D95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203-12FA-4151-85F9-B0D5445B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FFB-6E7F-40A9-9F2C-7E79ECE9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8935-BD12-478F-8CB8-13720E83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1E46-F632-4A70-941A-854A1253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4324-01F8-4FEA-B36A-77583A2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2698-B2B3-4B61-B82F-78312F9F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4E1A-497C-4D89-BB3F-D46DDA9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4B46-1D05-4DF4-98E2-F67D143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A3F-525C-4534-888A-82B8964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0B7-1065-431C-B145-A88A2B2A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34B-FD35-49D0-BF65-94FA5F99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A6BD-08AE-4335-BF5F-164A0F19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8A40-5F21-4655-9C68-CE8E490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6FF4-F264-4DFB-92B8-DB9D3C9E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08E5-7782-410B-A0F5-1367984B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AA9A-D181-4159-AFCA-3703750F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C380-ED63-48D4-BCD3-36E14578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D8846-5248-4448-BD49-6AFD17C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9845-A21B-48CE-B836-2E1CD2FD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6AB7-5AC6-4E83-B9DB-64CE811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96C-7295-4473-8F29-F5CA444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A111-1886-4BA3-BFD7-8405CF6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BE965-25D9-48AF-A636-30C72F4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0963-5240-4C58-A1B1-98022F8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9EAF-814A-492C-A857-3F14D42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6EAE-5070-488F-A871-09EA686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E1F7-F7D1-4C86-88C3-BD489750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50BB-08B4-4A60-B4D6-2117BDB9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3ED33-261F-4C0A-845C-187A3C80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CDAE-6AFB-4CFA-9FBA-2F9CE714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2B3E-5CF5-47C4-AAD5-699B311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C8E-4903-448C-80DA-88C60D72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6F67-5A93-46EB-A681-43508BE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38BB-3FCB-4DD3-8AAF-9977AB2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E04D-5C15-484F-9051-86D76FA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6474-6F64-444F-B2B1-10CF4A2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E39B0-9965-4CB9-BBC3-2B990F7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A31E-EEE7-49EC-AF38-4B8B201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9C284-56AB-4D28-9DA3-EFFE1CBA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55EF-428A-42EF-8AAF-A7DC9E82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0EB8A-F5ED-469E-9148-0CA68DD0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19299-18CF-4684-B72D-AC5223FF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3AF-9925-4FD5-8947-F59870B1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776D-64D3-401C-BDB3-54B190E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5577B-2AF4-4C93-84F3-DF7E82F0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790C3-F08A-4A59-A8AB-03FC11B6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79AA4-00C8-42D4-A0A5-9CCEDC48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336D-C1A2-4806-9EA7-00AE1CA4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09AE-44FA-40E9-B1E7-8B3CD218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7DC5-A665-40AC-A34E-7A0A298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FA3C3-77F6-45F6-91E5-54B1604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46AC-95E7-427C-AEE7-622E726E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C732-4C84-4E31-B40E-09556962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DA5-1AC8-4CF1-9AE1-536870E7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FD79-CDE8-45CD-BDE7-6F8A1E8A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16D-D319-4975-8022-7DB0A8B4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7F6-A2C3-409D-8693-37A8EF0E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A7E-FC0F-4D68-A202-E453E3D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8899-EF45-4CF8-AC73-440344D6FA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44F-41E5-4844-8632-BC5DB6F507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A1B-19E2-4BF2-B317-157386AF701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9AA2-1737-4B7D-AFE9-C883B0A05C8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9435-9052-4D76-A985-A341F3ECFA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4920" y="3200040"/>
            <a:ext cx="7380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резентация подготовлена по материалам книги «Учись быть пешеходом»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(авт. Е.М. Сосунова, М.Л. Форштат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орога, её элементы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 правила поведения на н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Выполни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5" name="Рисунок 2" descr="нерегулир перекр_6.png"/>
          <p:cNvPicPr/>
          <p:nvPr/>
        </p:nvPicPr>
        <p:blipFill>
          <a:blip r:embed="rId1"/>
          <a:srcRect l="0" t="1751" r="0" b="1751"/>
          <a:stretch/>
        </p:blipFill>
        <p:spPr>
          <a:xfrm>
            <a:off x="1692360" y="836640"/>
            <a:ext cx="5400720" cy="5627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Найди нарушителе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7" name="Рисунок 2" descr="нерегулир перекр_6.png"/>
          <p:cNvPicPr/>
          <p:nvPr/>
        </p:nvPicPr>
        <p:blipFill>
          <a:blip r:embed="rId1"/>
          <a:srcRect l="1332" t="1499" r="2665" b="0"/>
          <a:stretch/>
        </p:blipFill>
        <p:spPr>
          <a:xfrm>
            <a:off x="1476360" y="1052640"/>
            <a:ext cx="5904000" cy="53830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162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4817"/>
                </a:solidFill>
                <a:latin typeface="Calibri"/>
              </a:rPr>
              <a:t>Кроссворд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Рисунок 2" descr="нерегулир перекр_6.png"/>
          <p:cNvPicPr/>
          <p:nvPr/>
        </p:nvPicPr>
        <p:blipFill>
          <a:blip r:embed="rId1"/>
          <a:srcRect l="18160" t="0" r="14181" b="7713"/>
          <a:stretch/>
        </p:blipFill>
        <p:spPr>
          <a:xfrm>
            <a:off x="0" y="574560"/>
            <a:ext cx="4643280" cy="62834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4427640" y="836640"/>
            <a:ext cx="471636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.Строения на краю тротуар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.Перепятствие вдоль тротуара, не позволяющее пешеходам выходить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3.Проём в стене многоквартирного до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4.Человек, находящийся на дороге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5.Часть дороги, предназначенная для движения пешеходо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6.Аллея посередине улиц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7.Край тротуара, прилегающий к проезжей част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8.Дорога для трамва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0.Человек, который может помочь тебе поднять предмет, упавший на проезжую часть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езентация выполнена Галановой Еленой Валерьевной, учителем начальных классов ГБОУ школы №328 с углубленным изучением английского языка Невского района Санкт-Петербурга</a:t>
            </a: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44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Немного истории…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8" name="Picture 2" descr="http://photos.citywalls.ru/qphoto2-2488.jpg?mt=1273625807"/>
          <p:cNvPicPr/>
          <p:nvPr/>
        </p:nvPicPr>
        <p:blipFill>
          <a:blip r:embed="rId1"/>
          <a:stretch/>
        </p:blipFill>
        <p:spPr>
          <a:xfrm>
            <a:off x="684360" y="1413000"/>
            <a:ext cx="7704000" cy="49971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Элементы дорог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Рисунок 3" descr="нерегулир перекр_1.png"/>
          <p:cNvPicPr/>
          <p:nvPr/>
        </p:nvPicPr>
        <p:blipFill>
          <a:blip r:embed="rId1"/>
          <a:srcRect l="0" t="3305" r="2380" b="0"/>
          <a:stretch/>
        </p:blipFill>
        <p:spPr>
          <a:xfrm>
            <a:off x="900000" y="1125360"/>
            <a:ext cx="7572600" cy="539928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Будь внимателен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Рисунок 3" descr="нерегулир перекр_1.png"/>
          <p:cNvPicPr/>
          <p:nvPr/>
        </p:nvPicPr>
        <p:blipFill>
          <a:blip r:embed="rId1"/>
          <a:srcRect l="2154" t="2665" r="1925" b="5331"/>
          <a:stretch/>
        </p:blipFill>
        <p:spPr>
          <a:xfrm>
            <a:off x="1042920" y="981000"/>
            <a:ext cx="7059600" cy="5472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-1004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Как вести себя на тротуар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4" name="Рисунок 3" descr="нерегулир перекр_1.png"/>
          <p:cNvPicPr/>
          <p:nvPr/>
        </p:nvPicPr>
        <p:blipFill>
          <a:blip r:embed="rId1"/>
          <a:srcRect l="0" t="1308" r="4818" b="0"/>
          <a:stretch/>
        </p:blipFill>
        <p:spPr>
          <a:xfrm>
            <a:off x="1865160" y="1052640"/>
            <a:ext cx="5154840" cy="54007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Огражд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6" name="Рисунок 3" descr="нерегулир перекр_1.png"/>
          <p:cNvPicPr/>
          <p:nvPr/>
        </p:nvPicPr>
        <p:blipFill>
          <a:blip r:embed="rId1"/>
          <a:srcRect l="835" t="2651" r="1395" b="0"/>
          <a:stretch/>
        </p:blipFill>
        <p:spPr>
          <a:xfrm>
            <a:off x="395280" y="1123920"/>
            <a:ext cx="8439120" cy="53294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8" name="Рисунок 2" descr="нерегулир перекр_4.png"/>
          <p:cNvPicPr/>
          <p:nvPr/>
        </p:nvPicPr>
        <p:blipFill>
          <a:blip r:embed="rId1"/>
          <a:srcRect l="1098" t="6356" r="52750" b="3792"/>
          <a:stretch/>
        </p:blipFill>
        <p:spPr>
          <a:xfrm>
            <a:off x="250920" y="1413000"/>
            <a:ext cx="4321080" cy="360036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  <p:pic>
        <p:nvPicPr>
          <p:cNvPr id="249" name="Рисунок 3" descr="нерегулир перекр_4.png"/>
          <p:cNvPicPr/>
          <p:nvPr/>
        </p:nvPicPr>
        <p:blipFill>
          <a:blip r:embed="rId2"/>
          <a:srcRect l="53970" t="873" r="1588" b="6438"/>
          <a:stretch/>
        </p:blipFill>
        <p:spPr>
          <a:xfrm>
            <a:off x="4859280" y="1413000"/>
            <a:ext cx="4113360" cy="367164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-27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нимание, опасность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Рисунок 2" descr="нерегулир перекр_4.png"/>
          <p:cNvPicPr/>
          <p:nvPr/>
        </p:nvPicPr>
        <p:blipFill>
          <a:blip r:embed="rId1"/>
          <a:srcRect l="0" t="3331" r="1669" b="0"/>
          <a:stretch/>
        </p:blipFill>
        <p:spPr>
          <a:xfrm>
            <a:off x="755640" y="1341360"/>
            <a:ext cx="7777080" cy="5186520"/>
          </a:xfrm>
          <a:prstGeom prst="rect">
            <a:avLst/>
          </a:prstGeom>
          <a:ln w="38160">
            <a:solidFill>
              <a:srgbClr val="9b2d1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8000" y="-31644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2d1f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85840" y="765000"/>
            <a:ext cx="85723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по тротуару надо ходить, придерживаясь правой стороны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идти по поребрику и стоять на нём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чему нельзя сидеть на пешеходном ограждени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к ты будешь обходить лужу или яму на тротуар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spcBef>
                <a:spcPts val="575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Если ты нечаянно уронил на проезжую часть какой-то предмет, то как надо поступить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6:53:53Z</dcterms:created>
  <dc:creator>Galanovi</dc:creator>
  <dc:description/>
  <dc:language>en-US</dc:language>
  <cp:lastModifiedBy>User</cp:lastModifiedBy>
  <dcterms:modified xsi:type="dcterms:W3CDTF">2012-02-15T10:07:35Z</dcterms:modified>
  <cp:revision>23</cp:revision>
  <dc:subject/>
  <dc:title>Нерегулируемый  перекрёсток</dc:title>
</cp:coreProperties>
</file>