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wmf" ContentType="image/x-wmf"/>
  <Override PartName="/ppt/media/image13.jpeg" ContentType="image/jpeg"/>
  <Override PartName="/ppt/media/image4.png" ContentType="image/png"/>
  <Override PartName="/ppt/media/image18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amera.wav" ContentType="audio/x-wav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2C28-BFE3-4BF3-9C99-59F36F289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7711-8B87-47D5-8AE7-19031D33FF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1 По программе Л. Г. Петерс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733-5D0E-4E4C-90DA-09C719A92B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. Обсужд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543-5B31-48DF-9D62-C448A50CD8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а стороны. А чему равна высо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DE64-2A17-402B-999F-6DAFC07C97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длины можно измерить уд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AB48-D119-4708-B4D1-510D27D279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смотра мультфиль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41B6-0E2C-4228-9DEA-ED11CC562D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устного. Схема (при необходимости) составляется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A4E-DD52-4E46-9D66-7D235AFC83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помогают делать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A3B-1C1F-40C9-8F89-316790CD47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юрприз» - ссылка на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DA37-B9EF-49B1-A495-592FF79252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чем будем мер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7089-7A6A-43F4-AA36-3B01DB82F5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льзовались разными мерками. Можно, но не очень удобно. Одинаковую ме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E58-19BD-4D19-9F22-7FB3B1E056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еще единицах можно измеря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FD5-9F8B-43B2-BF47-77E2A6B2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5CD-AB36-4FB9-BA82-81DD57D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265-76E4-4B4D-9966-40EC46D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3F3-7645-4328-897B-0912000E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1E1B-D256-4BD5-8B1D-EA89DDDF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CC4-CA11-403F-84E8-555C175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0836-C05B-4587-9A32-8A1DB895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AFF0-B36F-42CC-BB07-D8A98ED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C612-3A66-44E3-BF14-666B4989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4C1-8CD2-4A60-ABDD-325BAD90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663B-3083-4569-A7C7-02FF286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A5C-8521-43C5-8F7B-923310D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6F3-0BA9-4776-B4E8-E3293DE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9C8-FC1C-4427-B69E-75104EE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BB22-B91F-46B4-B2ED-7F08D23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929E-66C4-4ACF-BCCB-9F37B684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CEC-D76F-4E5A-9DBD-0BDD331D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2DC-B68B-4B69-B245-B51E2EA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504-4098-493B-A5F8-64C5F2C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332-0532-4591-ABE6-05E95548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03C-CA1C-446F-9372-72EF74AF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BEA-EDC5-4245-9C53-7CFCCDD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EE1-4A5D-427E-A9A3-3440607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A48-60A2-4440-9F67-73826BC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749-E00D-4C68-AC12-B6DE1803F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EDE2-B998-4555-B124-E629B92DD9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714240" y="1571760"/>
            <a:ext cx="7772400" cy="1881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99cc"/>
                </a:solidFill>
                <a:latin typeface="Arial"/>
              </a:rPr>
              <a:t>ДЛИНА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371600" y="4869000"/>
            <a:ext cx="6400800" cy="76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 теме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 «В  Е  Л  И  Ч  И  Н  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748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j0177984"/>
          <p:cNvPicPr/>
          <p:nvPr/>
        </p:nvPicPr>
        <p:blipFill>
          <a:blip r:embed="rId1"/>
          <a:stretch/>
        </p:blipFill>
        <p:spPr>
          <a:xfrm>
            <a:off x="826920" y="657360"/>
            <a:ext cx="79218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DSCN0602"/>
          <p:cNvPicPr/>
          <p:nvPr/>
        </p:nvPicPr>
        <p:blipFill>
          <a:blip r:embed="rId1"/>
          <a:stretch/>
        </p:blipFill>
        <p:spPr>
          <a:xfrm>
            <a:off x="539640" y="44784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b7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Определите длины сторон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4" name="Picture 4" descr="DSCN0708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4d47d"/>
            </a:gs>
            <a:gs pos="100000">
              <a:srgbClr val="0962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SCN0707"/>
          <p:cNvPicPr/>
          <p:nvPr/>
        </p:nvPicPr>
        <p:blipFill>
          <a:blip r:embed="rId1"/>
          <a:stretch/>
        </p:blipFill>
        <p:spPr>
          <a:xfrm>
            <a:off x="468360" y="260280"/>
            <a:ext cx="81993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95280" y="277920"/>
            <a:ext cx="649116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Давайте измерим еще </a:t>
            </a:r>
            <a:br>
              <a:rPr sz="4000"/>
            </a:b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что-нибудь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97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NAIL"/>
          <p:cNvPicPr/>
          <p:nvPr/>
        </p:nvPicPr>
        <p:blipFill>
          <a:blip r:embed="rId2"/>
          <a:stretch/>
        </p:blipFill>
        <p:spPr>
          <a:xfrm>
            <a:off x="179280" y="5589720"/>
            <a:ext cx="1584360" cy="7174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9"/>
          <p:cNvSpPr/>
          <p:nvPr/>
        </p:nvSpPr>
        <p:spPr>
          <a:xfrm>
            <a:off x="1258920" y="3357720"/>
            <a:ext cx="4681440" cy="201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рьте, сколько сантиметров я прополз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684360" y="6453360"/>
            <a:ext cx="532764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57292 -2.59259E-006 E">
                                      <p:cBhvr>
                                        <p:cTn id="324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А еще «в чем» меня можно</a:t>
            </a:r>
            <a:br>
              <a:rPr sz="4400"/>
            </a:b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померить 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2" name="Picture 5" descr="SNKNTREE"/>
          <p:cNvPicPr/>
          <p:nvPr/>
        </p:nvPicPr>
        <p:blipFill>
          <a:blip r:embed="rId1"/>
          <a:stretch/>
        </p:blipFill>
        <p:spPr>
          <a:xfrm flipH="1">
            <a:off x="6060600" y="2205000"/>
            <a:ext cx="2567160" cy="40482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7"/>
          <p:cNvSpPr/>
          <p:nvPr/>
        </p:nvSpPr>
        <p:spPr>
          <a:xfrm>
            <a:off x="1332000" y="5013360"/>
            <a:ext cx="3456000" cy="1139760"/>
          </a:xfrm>
          <a:prstGeom prst="rect">
            <a:avLst/>
          </a:prstGeom>
          <a:solidFill>
            <a:srgbClr val="d9d9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666699"/>
                </a:solidFill>
                <a:latin typeface="Arial"/>
              </a:rPr>
              <a:t>метр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3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d9ff"/>
                </a:solidFill>
                <a:latin typeface="Arial"/>
              </a:rPr>
              <a:t>Продолжим измерения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06" name="Picture 16" descr="j0345805"/>
          <p:cNvPicPr/>
          <p:nvPr/>
        </p:nvPicPr>
        <p:blipFill>
          <a:blip r:embed="rId1"/>
          <a:stretch/>
        </p:blipFill>
        <p:spPr>
          <a:xfrm flipH="1" rot="19982400">
            <a:off x="676080" y="4334040"/>
            <a:ext cx="2158920" cy="178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PARROT1"/>
          <p:cNvPicPr/>
          <p:nvPr/>
        </p:nvPicPr>
        <p:blipFill>
          <a:blip r:embed="rId2"/>
          <a:stretch/>
        </p:blipFill>
        <p:spPr>
          <a:xfrm flipH="1">
            <a:off x="324000" y="1413000"/>
            <a:ext cx="1684080" cy="230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SNKNTREE"/>
          <p:cNvPicPr/>
          <p:nvPr/>
        </p:nvPicPr>
        <p:blipFill>
          <a:blip r:embed="rId3"/>
          <a:stretch/>
        </p:blipFill>
        <p:spPr>
          <a:xfrm flipH="1">
            <a:off x="5787720" y="1773360"/>
            <a:ext cx="2840040" cy="44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21"/>
          <p:cNvGraphicFramePr/>
          <p:nvPr/>
        </p:nvGraphicFramePr>
        <p:xfrm>
          <a:off x="3564000" y="4470480"/>
          <a:ext cx="273672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470480"/>
                    <a:ext cx="27367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Picture 23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лина дорожки – 4 метра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3" name="Picture 13" descr="DSCN0712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DSCN0714"/>
          <p:cNvPicPr/>
          <p:nvPr/>
        </p:nvPicPr>
        <p:blipFill>
          <a:blip r:embed="rId2"/>
          <a:stretch/>
        </p:blipFill>
        <p:spPr>
          <a:xfrm>
            <a:off x="4716360" y="1773360"/>
            <a:ext cx="399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Елка до метра еще не выросла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16" name="Picture 4" descr="DSCN072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90000" y="1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ARROT1"/>
          <p:cNvPicPr/>
          <p:nvPr/>
        </p:nvPicPr>
        <p:blipFill>
          <a:blip r:embed="rId1"/>
          <a:stretch/>
        </p:blipFill>
        <p:spPr>
          <a:xfrm flipH="1">
            <a:off x="324000" y="404640"/>
            <a:ext cx="2016000" cy="2953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SNKNTREE"/>
          <p:cNvPicPr/>
          <p:nvPr/>
        </p:nvPicPr>
        <p:blipFill>
          <a:blip r:embed="rId2"/>
          <a:stretch/>
        </p:blipFill>
        <p:spPr>
          <a:xfrm flipH="1">
            <a:off x="6060600" y="1989000"/>
            <a:ext cx="2567160" cy="42642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7"/>
          <p:cNvSpPr/>
          <p:nvPr/>
        </p:nvSpPr>
        <p:spPr>
          <a:xfrm>
            <a:off x="3059280" y="476280"/>
            <a:ext cx="4105080" cy="1873080"/>
          </a:xfrm>
          <a:prstGeom prst="wedgeEllipseCallout">
            <a:avLst>
              <a:gd name="adj1" fmla="val -68407"/>
              <a:gd name="adj2" fmla="val -18898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 задачу придумал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8" descr="j0345805"/>
          <p:cNvPicPr/>
          <p:nvPr/>
        </p:nvPicPr>
        <p:blipFill>
          <a:blip r:embed="rId3"/>
          <a:stretch/>
        </p:blipFill>
        <p:spPr>
          <a:xfrm flipH="1" rot="19982400">
            <a:off x="688680" y="4078080"/>
            <a:ext cx="2671560" cy="23684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9"/>
          <p:cNvSpPr/>
          <p:nvPr/>
        </p:nvSpPr>
        <p:spPr>
          <a:xfrm>
            <a:off x="2195640" y="2781360"/>
            <a:ext cx="3168360" cy="1295280"/>
          </a:xfrm>
          <a:prstGeom prst="wedgeEllipseCallout">
            <a:avLst>
              <a:gd name="adj1" fmla="val -41685"/>
              <a:gd name="adj2" fmla="val 107597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, точно, справлю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11"/>
          <p:cNvGraphicFramePr/>
          <p:nvPr/>
        </p:nvGraphicFramePr>
        <p:xfrm>
          <a:off x="4788000" y="4557600"/>
          <a:ext cx="2274840" cy="17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557600"/>
                    <a:ext cx="2274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12"/>
          <p:cNvSpPr/>
          <p:nvPr/>
        </p:nvSpPr>
        <p:spPr>
          <a:xfrm>
            <a:off x="2411280" y="1916280"/>
            <a:ext cx="4176720" cy="1846080"/>
          </a:xfrm>
          <a:prstGeom prst="wedgeEllipseCallout">
            <a:avLst>
              <a:gd name="adj1" fmla="val -31032"/>
              <a:gd name="adj2" fmla="val 11526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71280" y="1773000"/>
            <a:ext cx="331308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авайте измерим </a:t>
            </a:r>
            <a:br>
              <a:rPr sz="3600"/>
            </a:b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длину удава!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22" name="Picture 11" descr="j0345805"/>
          <p:cNvPicPr/>
          <p:nvPr/>
        </p:nvPicPr>
        <p:blipFill>
          <a:blip r:embed="rId1"/>
          <a:stretch/>
        </p:blipFill>
        <p:spPr>
          <a:xfrm flipH="1" rot="19176000">
            <a:off x="1691640" y="4581360"/>
            <a:ext cx="2022480" cy="1787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NKNTREE"/>
          <p:cNvPicPr/>
          <p:nvPr/>
        </p:nvPicPr>
        <p:blipFill>
          <a:blip r:embed="rId2"/>
          <a:stretch/>
        </p:blipFill>
        <p:spPr>
          <a:xfrm>
            <a:off x="324000" y="260280"/>
            <a:ext cx="2619360" cy="453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14"/>
          <p:cNvGraphicFramePr/>
          <p:nvPr/>
        </p:nvGraphicFramePr>
        <p:xfrm>
          <a:off x="6156360" y="4724280"/>
          <a:ext cx="19875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72428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6"/>
          <p:cNvGraphicFramePr/>
          <p:nvPr/>
        </p:nvGraphicFramePr>
        <p:xfrm>
          <a:off x="6804000" y="2349360"/>
          <a:ext cx="168444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2349360"/>
                    <a:ext cx="16844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5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Высота пальмы была 3 метра. Она выросла на 2 метр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219640" y="220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В О П Р О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716360" y="2781360"/>
            <a:ext cx="4000680" cy="1007640"/>
          </a:xfrm>
          <a:prstGeom prst="rect">
            <a:avLst/>
          </a:prstGeom>
          <a:solidFill>
            <a:srgbClr val="14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6699"/>
                </a:solidFill>
                <a:latin typeface="Arial"/>
              </a:rPr>
              <a:t>Чему равна высота пальмы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716000" y="4508640"/>
            <a:ext cx="216180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6699"/>
                </a:solidFill>
                <a:latin typeface="Arial"/>
              </a:rPr>
              <a:t>3 + 2 =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7023960" y="4508640"/>
            <a:ext cx="1657440" cy="8859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666699"/>
                </a:solidFill>
                <a:latin typeface="Arial"/>
              </a:rPr>
              <a:t>5 (м)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643640" y="5562720"/>
            <a:ext cx="4016880" cy="7034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Ответ: 5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метров</a:t>
            </a: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18"/>
          <p:cNvGraphicFramePr/>
          <p:nvPr/>
        </p:nvGraphicFramePr>
        <p:xfrm>
          <a:off x="900000" y="3284640"/>
          <a:ext cx="139068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84640"/>
                    <a:ext cx="1390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Ура, мы учимся…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33" name="Picture 13" descr="PARROT1"/>
          <p:cNvPicPr/>
          <p:nvPr/>
        </p:nvPicPr>
        <p:blipFill>
          <a:blip r:embed="rId1"/>
          <a:stretch/>
        </p:blipFill>
        <p:spPr>
          <a:xfrm flipH="1">
            <a:off x="394920" y="112536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j0345805"/>
          <p:cNvPicPr/>
          <p:nvPr/>
        </p:nvPicPr>
        <p:blipFill>
          <a:blip r:embed="rId2"/>
          <a:stretch/>
        </p:blipFill>
        <p:spPr>
          <a:xfrm flipH="1" rot="19176000">
            <a:off x="791640" y="4329000"/>
            <a:ext cx="2435400" cy="2152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SNKNTREE"/>
          <p:cNvPicPr/>
          <p:nvPr/>
        </p:nvPicPr>
        <p:blipFill>
          <a:blip r:embed="rId3"/>
          <a:stretch/>
        </p:blipFill>
        <p:spPr>
          <a:xfrm flipH="1">
            <a:off x="6659640" y="1628640"/>
            <a:ext cx="2100240" cy="478008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4"/>
          <p:cNvSpPr/>
          <p:nvPr/>
        </p:nvSpPr>
        <p:spPr>
          <a:xfrm>
            <a:off x="3059280" y="2637000"/>
            <a:ext cx="3024000" cy="1368360"/>
          </a:xfrm>
          <a:prstGeom prst="wedgeEllipseCallout">
            <a:avLst>
              <a:gd name="adj1" fmla="val -49685"/>
              <a:gd name="adj2" fmla="val 111023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Я задачу для детей придумал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15"/>
          <p:cNvGraphicFramePr/>
          <p:nvPr/>
        </p:nvGraphicFramePr>
        <p:xfrm>
          <a:off x="4284720" y="4508640"/>
          <a:ext cx="277956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508640"/>
                    <a:ext cx="277956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идумайте задачу по схеме.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40" name="Picture 26" descr="j0345805"/>
          <p:cNvPicPr/>
          <p:nvPr/>
        </p:nvPicPr>
        <p:blipFill>
          <a:blip r:embed="rId1"/>
          <a:stretch/>
        </p:blipFill>
        <p:spPr>
          <a:xfrm flipH="1" rot="19176000">
            <a:off x="1923840" y="4968360"/>
            <a:ext cx="1800000" cy="1590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SNKNTREE"/>
          <p:cNvPicPr/>
          <p:nvPr/>
        </p:nvPicPr>
        <p:blipFill>
          <a:blip r:embed="rId2"/>
          <a:stretch/>
        </p:blipFill>
        <p:spPr>
          <a:xfrm>
            <a:off x="468360" y="3716280"/>
            <a:ext cx="1614600" cy="254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PARROT1"/>
          <p:cNvPicPr/>
          <p:nvPr/>
        </p:nvPicPr>
        <p:blipFill>
          <a:blip r:embed="rId3"/>
          <a:stretch/>
        </p:blipFill>
        <p:spPr>
          <a:xfrm flipH="1">
            <a:off x="468000" y="1916280"/>
            <a:ext cx="10746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30"/>
          <p:cNvGrpSpPr/>
          <p:nvPr/>
        </p:nvGrpSpPr>
        <p:grpSpPr>
          <a:xfrm>
            <a:off x="1763640" y="2924280"/>
            <a:ext cx="6695640" cy="433440"/>
            <a:chOff x="1763640" y="2924280"/>
            <a:chExt cx="6695640" cy="433440"/>
          </a:xfrm>
        </p:grpSpPr>
        <p:sp>
          <p:nvSpPr>
            <p:cNvPr id="344" name="Line 27"/>
            <p:cNvSpPr/>
            <p:nvPr/>
          </p:nvSpPr>
          <p:spPr>
            <a:xfrm>
              <a:off x="1763640" y="3141720"/>
              <a:ext cx="669564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353736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6282000" y="2924280"/>
              <a:ext cx="0" cy="43344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36"/>
          <p:cNvGrpSpPr/>
          <p:nvPr/>
        </p:nvGrpSpPr>
        <p:grpSpPr>
          <a:xfrm>
            <a:off x="2413440" y="3379680"/>
            <a:ext cx="5196960" cy="611640"/>
            <a:chOff x="2413440" y="3379680"/>
            <a:chExt cx="5196960" cy="611640"/>
          </a:xfrm>
        </p:grpSpPr>
        <p:sp>
          <p:nvSpPr>
            <p:cNvPr id="348" name="Text Box 31"/>
            <p:cNvSpPr/>
            <p:nvPr/>
          </p:nvSpPr>
          <p:spPr>
            <a:xfrm>
              <a:off x="241344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2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4429800" y="342900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4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7166160" y="3379680"/>
              <a:ext cx="44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666699"/>
                  </a:solidFill>
                  <a:latin typeface="Arial"/>
                </a:rPr>
                <a:t>?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1834920" y="1341360"/>
            <a:ext cx="6553080" cy="1366920"/>
            <a:chOff x="1834920" y="1341360"/>
            <a:chExt cx="6553080" cy="1366920"/>
          </a:xfrm>
        </p:grpSpPr>
        <p:sp>
          <p:nvSpPr>
            <p:cNvPr id="352" name="AutoShape 34"/>
            <p:cNvSpPr/>
            <p:nvPr/>
          </p:nvSpPr>
          <p:spPr>
            <a:xfrm rot="5400000">
              <a:off x="4787640" y="-892080"/>
              <a:ext cx="647640" cy="655308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70640 h 6553080"/>
                <a:gd name="textAreaBottom" fmla="*/ 6382440 h 65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4718520" y="1341360"/>
              <a:ext cx="77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66699"/>
                  </a:solidFill>
                  <a:latin typeface="Arial"/>
                </a:rPr>
                <a:t>9 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Text Box 38"/>
          <p:cNvSpPr/>
          <p:nvPr/>
        </p:nvSpPr>
        <p:spPr>
          <a:xfrm>
            <a:off x="7094160" y="3357720"/>
            <a:ext cx="534240" cy="8557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39"/>
          <p:cNvGraphicFramePr/>
          <p:nvPr/>
        </p:nvGraphicFramePr>
        <p:xfrm>
          <a:off x="6443640" y="4724280"/>
          <a:ext cx="2340000" cy="17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4724280"/>
                    <a:ext cx="23400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о встречи, ребят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358" name="Picture 7" descr="j0345805"/>
          <p:cNvPicPr/>
          <p:nvPr/>
        </p:nvPicPr>
        <p:blipFill>
          <a:blip r:embed="rId1"/>
          <a:stretch/>
        </p:blipFill>
        <p:spPr>
          <a:xfrm rot="910200">
            <a:off x="2771280" y="4005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SNKNTREE"/>
          <p:cNvPicPr/>
          <p:nvPr/>
        </p:nvPicPr>
        <p:blipFill>
          <a:blip r:embed="rId2"/>
          <a:stretch/>
        </p:blipFill>
        <p:spPr>
          <a:xfrm>
            <a:off x="468360" y="1916280"/>
            <a:ext cx="2847960" cy="4491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PARROT1"/>
          <p:cNvPicPr/>
          <p:nvPr/>
        </p:nvPicPr>
        <p:blipFill>
          <a:blip r:embed="rId3"/>
          <a:stretch/>
        </p:blipFill>
        <p:spPr>
          <a:xfrm>
            <a:off x="7451640" y="1773360"/>
            <a:ext cx="1363680" cy="20160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4"/>
          <p:cNvSpPr/>
          <p:nvPr/>
        </p:nvSpPr>
        <p:spPr>
          <a:xfrm>
            <a:off x="684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Мы готовим вам 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сюрприз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5867280" y="4508640"/>
          <a:ext cx="2779920" cy="21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8" descr="SNKNTREE"/>
          <p:cNvPicPr/>
          <p:nvPr/>
        </p:nvPicPr>
        <p:blipFill>
          <a:blip r:embed="rId1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17"/>
          <p:cNvGraphicFramePr/>
          <p:nvPr/>
        </p:nvGraphicFramePr>
        <p:xfrm>
          <a:off x="6443640" y="2492280"/>
          <a:ext cx="211608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92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Picture 18" descr="j0345805"/>
          <p:cNvPicPr/>
          <p:nvPr/>
        </p:nvPicPr>
        <p:blipFill>
          <a:blip r:embed="rId4"/>
          <a:stretch/>
        </p:blipFill>
        <p:spPr>
          <a:xfrm rot="2424000">
            <a:off x="3276360" y="4221000"/>
            <a:ext cx="2022480" cy="17877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3"/>
          <p:cNvSpPr/>
          <p:nvPr/>
        </p:nvSpPr>
        <p:spPr>
          <a:xfrm>
            <a:off x="2340000" y="404640"/>
            <a:ext cx="3816360" cy="1872000"/>
          </a:xfrm>
          <a:prstGeom prst="wedgeEllipseCallout">
            <a:avLst>
              <a:gd name="adj1" fmla="val 61814"/>
              <a:gd name="adj2" fmla="val 39314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Предлагаю мерить его попугая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21"/>
          <p:cNvGraphicFramePr/>
          <p:nvPr/>
        </p:nvGraphicFramePr>
        <p:xfrm>
          <a:off x="6877080" y="476280"/>
          <a:ext cx="2023920" cy="614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76280"/>
                    <a:ext cx="202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5"/>
          <p:cNvGraphicFramePr/>
          <p:nvPr/>
        </p:nvGraphicFramePr>
        <p:xfrm>
          <a:off x="6084720" y="4797360"/>
          <a:ext cx="198756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79736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26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19640" y="260280"/>
            <a:ext cx="3528720" cy="1782720"/>
          </a:xfrm>
          <a:prstGeom prst="rect">
            <a:avLst/>
          </a:prstGeom>
          <a:gradFill rotWithShape="0">
            <a:gsLst>
              <a:gs pos="0">
                <a:srgbClr val="d9d9ff"/>
              </a:gs>
              <a:gs pos="100000">
                <a:srgbClr val="14d47d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66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Длина удава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– ровно </a:t>
            </a:r>
            <a:br>
              <a:rPr sz="3800"/>
            </a:br>
            <a:r>
              <a:rPr b="0" lang="ru-RU" sz="38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38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42" name="Picture 4" descr="SNKNTREE"/>
          <p:cNvPicPr/>
          <p:nvPr/>
        </p:nvPicPr>
        <p:blipFill>
          <a:blip r:embed="rId1"/>
          <a:stretch/>
        </p:blipFill>
        <p:spPr>
          <a:xfrm>
            <a:off x="324000" y="2205000"/>
            <a:ext cx="2582640" cy="4075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j0345805"/>
          <p:cNvPicPr/>
          <p:nvPr/>
        </p:nvPicPr>
        <p:blipFill>
          <a:blip r:embed="rId2"/>
          <a:stretch/>
        </p:blipFill>
        <p:spPr>
          <a:xfrm rot="2424000">
            <a:off x="6235200" y="4125600"/>
            <a:ext cx="2665440" cy="22906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6"/>
          <p:cNvGrpSpPr/>
          <p:nvPr/>
        </p:nvGrpSpPr>
        <p:grpSpPr>
          <a:xfrm>
            <a:off x="2340000" y="2997360"/>
            <a:ext cx="4319280" cy="1800000"/>
            <a:chOff x="2340000" y="2997360"/>
            <a:chExt cx="4319280" cy="1800000"/>
          </a:xfrm>
        </p:grpSpPr>
        <p:sp>
          <p:nvSpPr>
            <p:cNvPr id="245" name="AutoShape 12"/>
            <p:cNvSpPr/>
            <p:nvPr/>
          </p:nvSpPr>
          <p:spPr>
            <a:xfrm>
              <a:off x="2649600" y="2997360"/>
              <a:ext cx="3701880" cy="1800000"/>
            </a:xfrm>
            <a:prstGeom prst="wedgeEllipseCallout">
              <a:avLst>
                <a:gd name="adj1" fmla="val 60106"/>
                <a:gd name="adj2" fmla="val 47356"/>
              </a:avLst>
            </a:prstGeom>
            <a:solidFill>
              <a:srgbClr val="14d4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2340000" y="3068640"/>
              <a:ext cx="4319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6699"/>
                  </a:solidFill>
                  <a:latin typeface="Arial"/>
                </a:rPr>
                <a:t>- А я мерила мартышками. У меня получилось 5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7" name="Object 15"/>
          <p:cNvGraphicFramePr/>
          <p:nvPr/>
        </p:nvGraphicFramePr>
        <p:xfrm>
          <a:off x="6804000" y="260280"/>
          <a:ext cx="2116080" cy="28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260280"/>
                    <a:ext cx="21160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Picture 18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54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И всего два слоненка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51" name="Picture 14" descr="SNKNTREE"/>
          <p:cNvPicPr/>
          <p:nvPr/>
        </p:nvPicPr>
        <p:blipFill>
          <a:blip r:embed="rId1"/>
          <a:stretch/>
        </p:blipFill>
        <p:spPr>
          <a:xfrm>
            <a:off x="395280" y="2133720"/>
            <a:ext cx="2749680" cy="43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19"/>
          <p:cNvGraphicFramePr/>
          <p:nvPr/>
        </p:nvGraphicFramePr>
        <p:xfrm>
          <a:off x="5580000" y="4992840"/>
          <a:ext cx="2448000" cy="18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4992840"/>
                    <a:ext cx="244800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2"/>
          <p:cNvGraphicFramePr/>
          <p:nvPr/>
        </p:nvGraphicFramePr>
        <p:xfrm>
          <a:off x="6156360" y="1197000"/>
          <a:ext cx="2738520" cy="489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1197000"/>
                    <a:ext cx="2738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28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2915 -0.17848 E">
                                      <p:cBhvr>
                                        <p:cTn id="99" dur="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9"/>
          <p:cNvGraphicFramePr/>
          <p:nvPr/>
        </p:nvGraphicFramePr>
        <p:xfrm>
          <a:off x="5435640" y="4653000"/>
          <a:ext cx="23191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653000"/>
                    <a:ext cx="23191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19280" y="277560"/>
            <a:ext cx="417672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38 попугаев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60" name="Object 7"/>
          <p:cNvGraphicFramePr/>
          <p:nvPr/>
        </p:nvGraphicFramePr>
        <p:xfrm>
          <a:off x="6659640" y="2708280"/>
          <a:ext cx="211608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708280"/>
                    <a:ext cx="21160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Picture 10" descr="j0345805"/>
          <p:cNvPicPr/>
          <p:nvPr/>
        </p:nvPicPr>
        <p:blipFill>
          <a:blip r:embed="rId5"/>
          <a:stretch/>
        </p:blipFill>
        <p:spPr>
          <a:xfrm rot="2424000">
            <a:off x="2195280" y="414936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NKNTREE"/>
          <p:cNvPicPr/>
          <p:nvPr/>
        </p:nvPicPr>
        <p:blipFill>
          <a:blip r:embed="rId6"/>
          <a:stretch/>
        </p:blipFill>
        <p:spPr>
          <a:xfrm>
            <a:off x="395280" y="2924280"/>
            <a:ext cx="1962000" cy="3554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6"/>
          <p:cNvSpPr/>
          <p:nvPr/>
        </p:nvSpPr>
        <p:spPr>
          <a:xfrm>
            <a:off x="3203640" y="2708280"/>
            <a:ext cx="2952720" cy="1368360"/>
          </a:xfrm>
          <a:prstGeom prst="wedgeEllipseCallout">
            <a:avLst>
              <a:gd name="adj1" fmla="val 29787"/>
              <a:gd name="adj2" fmla="val 114731"/>
            </a:avLst>
          </a:prstGeom>
          <a:solidFill>
            <a:srgbClr val="14d4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Ну, почему, только 2 слон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Object 17"/>
          <p:cNvGraphicFramePr/>
          <p:nvPr/>
        </p:nvGraphicFramePr>
        <p:xfrm>
          <a:off x="6516720" y="0"/>
          <a:ext cx="2627280" cy="685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0"/>
                    <a:ext cx="2627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21"/>
          <p:cNvSpPr/>
          <p:nvPr/>
        </p:nvSpPr>
        <p:spPr>
          <a:xfrm>
            <a:off x="1042920" y="1052640"/>
            <a:ext cx="5376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5 мартышек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4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бята, почему мартышка и попугай и слоненок получили разные результаты?</a:t>
            </a:r>
            <a:endParaRPr b="0" lang="en-US" sz="3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075520" cy="1401840"/>
          </a:xfrm>
          <a:prstGeom prst="rect">
            <a:avLst/>
          </a:prstGeom>
          <a:gradFill rotWithShape="0">
            <a:gsLst>
              <a:gs pos="0">
                <a:srgbClr val="14d47d"/>
              </a:gs>
              <a:gs pos="100000">
                <a:srgbClr val="09623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Какой выход вы можете предложить обезьянке и попуга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2133720"/>
            <a:ext cx="8136000" cy="172692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Удобно ли измерять удава такими мерками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2" descr="j0345805"/>
          <p:cNvPicPr/>
          <p:nvPr/>
        </p:nvPicPr>
        <p:blipFill>
          <a:blip r:embed="rId1"/>
          <a:stretch/>
        </p:blipFill>
        <p:spPr>
          <a:xfrm flipH="1" rot="18450600">
            <a:off x="566280" y="3185640"/>
            <a:ext cx="2022480" cy="178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11"/>
          <p:cNvGraphicFramePr/>
          <p:nvPr/>
        </p:nvGraphicFramePr>
        <p:xfrm>
          <a:off x="6372360" y="404640"/>
          <a:ext cx="211608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404640"/>
                    <a:ext cx="211608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4"/>
          <p:cNvGraphicFramePr/>
          <p:nvPr/>
        </p:nvGraphicFramePr>
        <p:xfrm>
          <a:off x="5148360" y="4076640"/>
          <a:ext cx="198756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4076640"/>
                    <a:ext cx="19875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18906 -0.22037 E">
                                      <p:cBhvr>
                                        <p:cTn id="197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906800" cy="1139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d9d9ff"/>
                </a:solidFill>
                <a:latin typeface="Arial"/>
              </a:rPr>
              <a:t>САНТИМЕТР</a:t>
            </a:r>
            <a:endParaRPr b="0" lang="en-US" sz="58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78" name="Object 22"/>
          <p:cNvGraphicFramePr/>
          <p:nvPr/>
        </p:nvGraphicFramePr>
        <p:xfrm>
          <a:off x="4356000" y="4508640"/>
          <a:ext cx="277992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508640"/>
                    <a:ext cx="277992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Picture 11" descr=""/>
          <p:cNvPicPr/>
          <p:nvPr/>
        </p:nvPicPr>
        <p:blipFill>
          <a:blip r:embed="rId3"/>
          <a:stretch/>
        </p:blipFill>
        <p:spPr>
          <a:xfrm>
            <a:off x="8663040" y="63770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j0345805"/>
          <p:cNvPicPr/>
          <p:nvPr/>
        </p:nvPicPr>
        <p:blipFill>
          <a:blip r:embed="rId4"/>
          <a:stretch/>
        </p:blipFill>
        <p:spPr>
          <a:xfrm flipH="1" rot="19176000">
            <a:off x="2123640" y="378900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6" descr="SNKNTREE"/>
          <p:cNvPicPr/>
          <p:nvPr/>
        </p:nvPicPr>
        <p:blipFill>
          <a:blip r:embed="rId5"/>
          <a:stretch/>
        </p:blipFill>
        <p:spPr>
          <a:xfrm>
            <a:off x="0" y="1773360"/>
            <a:ext cx="25272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Object 31"/>
          <p:cNvGraphicFramePr/>
          <p:nvPr/>
        </p:nvGraphicFramePr>
        <p:xfrm>
          <a:off x="6877080" y="2637000"/>
          <a:ext cx="1684440" cy="24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2637000"/>
                    <a:ext cx="1684440" cy="24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28"/>
          <p:cNvGraphicFramePr/>
          <p:nvPr/>
        </p:nvGraphicFramePr>
        <p:xfrm>
          <a:off x="6686640" y="333360"/>
          <a:ext cx="2457360" cy="585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6640" y="333360"/>
                    <a:ext cx="2457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7,-50,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9d9ff"/>
            </a:gs>
            <a:gs pos="100000">
              <a:srgbClr val="14d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9623a"/>
              </a:gs>
              <a:gs pos="50000">
                <a:srgbClr val="14d47d"/>
              </a:gs>
              <a:gs pos="100000">
                <a:srgbClr val="09623a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9d9ff"/>
                </a:solidFill>
                <a:latin typeface="Arial"/>
              </a:rPr>
              <a:t>Сантиметр  – это сколько?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88" name="Picture 10" descr="SNKNTREE"/>
          <p:cNvPicPr/>
          <p:nvPr/>
        </p:nvPicPr>
        <p:blipFill>
          <a:blip r:embed="rId1"/>
          <a:stretch/>
        </p:blipFill>
        <p:spPr>
          <a:xfrm flipH="1">
            <a:off x="5878440" y="1916280"/>
            <a:ext cx="2749680" cy="433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j0177984"/>
          <p:cNvPicPr/>
          <p:nvPr/>
        </p:nvPicPr>
        <p:blipFill>
          <a:blip r:embed="rId2"/>
          <a:stretch/>
        </p:blipFill>
        <p:spPr>
          <a:xfrm>
            <a:off x="611280" y="5013360"/>
            <a:ext cx="2233440" cy="148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3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2:33Z</dcterms:created>
  <dc:creator>Назарова О. В.</dc:creator>
  <dc:description/>
  <dc:language>en-US</dc:language>
  <cp:lastModifiedBy>777</cp:lastModifiedBy>
  <dcterms:modified xsi:type="dcterms:W3CDTF">2012-04-13T12:35:02Z</dcterms:modified>
  <cp:revision>24</cp:revision>
  <dc:subject/>
  <dc:title>Слайд 1</dc:title>
</cp:coreProperties>
</file>