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wmf" ContentType="image/x-wmf"/>
  <Override PartName="/ppt/media/image13.jpeg" ContentType="image/jpeg"/>
  <Override PartName="/ppt/media/image4.png" ContentType="image/png"/>
  <Override PartName="/ppt/media/image18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camera.wav" ContentType="audio/x-wav"/>
  <Override PartName="/ppt/media/image6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19B0-9DE9-434B-87C1-E29543E1FA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E1B6-DB6F-456B-AB71-EADD8128ED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1 По программе Л. Г. Петерс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2B59-CADF-4A52-BDD3-9CDD101567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. Обсужд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3D1E-9463-4460-BC5C-56B039B9AC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а стороны. А чему равна высо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A472-A038-474C-8F42-8608E6DDE8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еще единицах длины можно измерить уд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DDAC-933F-4349-8A6B-885E178B1D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смотра мультфиль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A917-723F-4A79-A752-738B8918F8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устного. Схема (при необходимости) составляется на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13F4-578F-4DBE-8C93-ECFF290B6E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помогают делать д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2992-C407-4E81-86F0-BF276644F4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юрприз» - ссылка на упраж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5BDA-E0B4-4904-A8C7-893D725D98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чем будем мер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0BAB-72C1-49E9-B35C-F3A6FB28A7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льзовались разными мерками. Можно, но не очень удобно. Одинаковую мер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38C9-BD10-4BFA-9937-27A1FA98E6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еще единицах можно измеря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557-1A08-41F9-9020-177BEBF1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A31-602D-4345-9EC6-0DF3F19B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F67-8289-453B-B3EC-D376FA90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759-8AB6-49FC-BC45-F6DA41FA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A6E8-1B5A-49CF-B6A4-E43A8F92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05FB-E130-4DFA-B1C8-BD5F4B5C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2F89-6F70-4B6B-9F00-E58C4EF1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E8B0-781A-49DD-BCFD-5D48AA76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3FA1-4275-4AED-858A-079FD5A5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E378-EB10-48A1-9CD6-A644ADCF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8DD8-0AD3-4A1B-B01D-03D8EB4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35F-5634-48F8-A189-5486A2B2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E6F6-6931-4C60-BFC2-BFC0BB40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01A5-CF21-435F-8370-A204BB2A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DD56-A1D9-4023-A9A4-A2655718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9C45-E860-4422-97C4-C980E8F5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3C16-0B56-4E5D-912E-D79E1014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588-8FB3-4388-9854-DE4424E0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E53-BA1B-4110-86F9-B4756F1C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A74-4A00-4DB9-AEB6-29602FE4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BA6-C566-4EF4-852D-6BB16D20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8C9-C765-486B-ABA5-FFA3471F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4A8-2C02-4878-94BA-F3BA6427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69A-2DB8-492A-ADC1-E5962C5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389-927E-48B5-948E-3B8FD756F5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9211-8300-41AE-A07D-0C2CAA4029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714240" y="1571760"/>
            <a:ext cx="7772400" cy="1881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99cc"/>
                </a:solidFill>
                <a:latin typeface="Arial"/>
              </a:rPr>
              <a:t>ДЛИНА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371600" y="4869000"/>
            <a:ext cx="6400800" cy="76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К теме 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 «В  Е  Л  И  Ч  И  Н  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7482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j0177984"/>
          <p:cNvPicPr/>
          <p:nvPr/>
        </p:nvPicPr>
        <p:blipFill>
          <a:blip r:embed="rId1"/>
          <a:stretch/>
        </p:blipFill>
        <p:spPr>
          <a:xfrm>
            <a:off x="826920" y="657360"/>
            <a:ext cx="79218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962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DSCN0602"/>
          <p:cNvPicPr/>
          <p:nvPr/>
        </p:nvPicPr>
        <p:blipFill>
          <a:blip r:embed="rId1"/>
          <a:stretch/>
        </p:blipFill>
        <p:spPr>
          <a:xfrm>
            <a:off x="539640" y="447840"/>
            <a:ext cx="79930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b7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Определите длины сторон.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94" name="Picture 4" descr="DSCN0708"/>
          <p:cNvPicPr/>
          <p:nvPr/>
        </p:nvPicPr>
        <p:blipFill>
          <a:blip r:embed="rId1"/>
          <a:stretch/>
        </p:blipFill>
        <p:spPr>
          <a:xfrm>
            <a:off x="1332000" y="119700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962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DSCN0707"/>
          <p:cNvPicPr/>
          <p:nvPr/>
        </p:nvPicPr>
        <p:blipFill>
          <a:blip r:embed="rId1"/>
          <a:stretch/>
        </p:blipFill>
        <p:spPr>
          <a:xfrm>
            <a:off x="468360" y="260280"/>
            <a:ext cx="81993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95280" y="277920"/>
            <a:ext cx="6491160" cy="113976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"/>
              </a:rPr>
              <a:t>Давайте измерим еще </a:t>
            </a:r>
            <a:br>
              <a:rPr sz="4000"/>
            </a:br>
            <a:r>
              <a:rPr b="1" lang="ru-RU" sz="4000" spc="-1" strike="noStrike">
                <a:solidFill>
                  <a:srgbClr val="d9d9ff"/>
                </a:solidFill>
                <a:latin typeface="Arial"/>
              </a:rPr>
              <a:t>что-нибудь!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97" name="Picture 5" descr="SNKNTREE"/>
          <p:cNvPicPr/>
          <p:nvPr/>
        </p:nvPicPr>
        <p:blipFill>
          <a:blip r:embed="rId1"/>
          <a:stretch/>
        </p:blipFill>
        <p:spPr>
          <a:xfrm flipH="1">
            <a:off x="6060600" y="2205000"/>
            <a:ext cx="2567160" cy="4048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NAIL"/>
          <p:cNvPicPr/>
          <p:nvPr/>
        </p:nvPicPr>
        <p:blipFill>
          <a:blip r:embed="rId2"/>
          <a:stretch/>
        </p:blipFill>
        <p:spPr>
          <a:xfrm>
            <a:off x="179280" y="5589720"/>
            <a:ext cx="1584360" cy="71748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9"/>
          <p:cNvSpPr/>
          <p:nvPr/>
        </p:nvSpPr>
        <p:spPr>
          <a:xfrm>
            <a:off x="1258920" y="3357720"/>
            <a:ext cx="4681440" cy="2016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рьте, сколько сантиметров я прополз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684360" y="6453360"/>
            <a:ext cx="532764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3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0.57292 -2.59259E-006 E">
                                      <p:cBhvr>
                                        <p:cTn id="324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9d9ff"/>
                </a:solidFill>
                <a:latin typeface="Arial"/>
              </a:rPr>
              <a:t>А еще «в чем» меня можно</a:t>
            </a:r>
            <a:br>
              <a:rPr sz="4400"/>
            </a:br>
            <a:r>
              <a:rPr b="1" lang="ru-RU" sz="4400" spc="-1" strike="noStrike">
                <a:solidFill>
                  <a:srgbClr val="d9d9ff"/>
                </a:solidFill>
                <a:latin typeface="Arial"/>
              </a:rPr>
              <a:t>померить ?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02" name="Picture 5" descr="SNKNTREE"/>
          <p:cNvPicPr/>
          <p:nvPr/>
        </p:nvPicPr>
        <p:blipFill>
          <a:blip r:embed="rId1"/>
          <a:stretch/>
        </p:blipFill>
        <p:spPr>
          <a:xfrm flipH="1">
            <a:off x="6060600" y="2205000"/>
            <a:ext cx="2567160" cy="40482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7"/>
          <p:cNvSpPr/>
          <p:nvPr/>
        </p:nvSpPr>
        <p:spPr>
          <a:xfrm>
            <a:off x="1332000" y="5013360"/>
            <a:ext cx="3456000" cy="1139760"/>
          </a:xfrm>
          <a:prstGeom prst="rect">
            <a:avLst/>
          </a:prstGeom>
          <a:solidFill>
            <a:srgbClr val="d9d9ff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666699"/>
                </a:solidFill>
                <a:latin typeface="Arial"/>
              </a:rPr>
              <a:t>метр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0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3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13976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"/>
              </a:rPr>
              <a:t>Продолжим измерения!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06" name="Picture 16" descr="j0345805"/>
          <p:cNvPicPr/>
          <p:nvPr/>
        </p:nvPicPr>
        <p:blipFill>
          <a:blip r:embed="rId1"/>
          <a:stretch/>
        </p:blipFill>
        <p:spPr>
          <a:xfrm flipH="1" rot="19982400">
            <a:off x="676080" y="4334040"/>
            <a:ext cx="2158920" cy="1787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PARROT1"/>
          <p:cNvPicPr/>
          <p:nvPr/>
        </p:nvPicPr>
        <p:blipFill>
          <a:blip r:embed="rId2"/>
          <a:stretch/>
        </p:blipFill>
        <p:spPr>
          <a:xfrm flipH="1">
            <a:off x="324000" y="1413000"/>
            <a:ext cx="1684080" cy="2303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SNKNTREE"/>
          <p:cNvPicPr/>
          <p:nvPr/>
        </p:nvPicPr>
        <p:blipFill>
          <a:blip r:embed="rId3"/>
          <a:stretch/>
        </p:blipFill>
        <p:spPr>
          <a:xfrm flipH="1">
            <a:off x="5787720" y="1773360"/>
            <a:ext cx="2840040" cy="44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Object 21"/>
          <p:cNvGraphicFramePr/>
          <p:nvPr/>
        </p:nvGraphicFramePr>
        <p:xfrm>
          <a:off x="3564000" y="4470480"/>
          <a:ext cx="273672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4470480"/>
                    <a:ext cx="27367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1" name="Picture 23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Длина дорожки – 4 метра.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13" name="Picture 13" descr="DSCN0712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DSCN0714"/>
          <p:cNvPicPr/>
          <p:nvPr/>
        </p:nvPicPr>
        <p:blipFill>
          <a:blip r:embed="rId2"/>
          <a:stretch/>
        </p:blipFill>
        <p:spPr>
          <a:xfrm>
            <a:off x="4716360" y="1773360"/>
            <a:ext cx="3996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Елка до метра еще не выросла.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16" name="Picture 4" descr="DSCN0720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90000" y="1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ARROT1"/>
          <p:cNvPicPr/>
          <p:nvPr/>
        </p:nvPicPr>
        <p:blipFill>
          <a:blip r:embed="rId1"/>
          <a:stretch/>
        </p:blipFill>
        <p:spPr>
          <a:xfrm flipH="1">
            <a:off x="324000" y="404640"/>
            <a:ext cx="2016000" cy="2953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SNKNTREE"/>
          <p:cNvPicPr/>
          <p:nvPr/>
        </p:nvPicPr>
        <p:blipFill>
          <a:blip r:embed="rId2"/>
          <a:stretch/>
        </p:blipFill>
        <p:spPr>
          <a:xfrm flipH="1">
            <a:off x="6060600" y="1989000"/>
            <a:ext cx="2567160" cy="42642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7"/>
          <p:cNvSpPr/>
          <p:nvPr/>
        </p:nvSpPr>
        <p:spPr>
          <a:xfrm>
            <a:off x="3059280" y="476280"/>
            <a:ext cx="4105080" cy="1873080"/>
          </a:xfrm>
          <a:prstGeom prst="wedgeEllipseCallout">
            <a:avLst>
              <a:gd name="adj1" fmla="val -68407"/>
              <a:gd name="adj2" fmla="val -18898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Я задачу придумал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8" descr="j0345805"/>
          <p:cNvPicPr/>
          <p:nvPr/>
        </p:nvPicPr>
        <p:blipFill>
          <a:blip r:embed="rId3"/>
          <a:stretch/>
        </p:blipFill>
        <p:spPr>
          <a:xfrm flipH="1" rot="19982400">
            <a:off x="688680" y="4078080"/>
            <a:ext cx="2671560" cy="23684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9"/>
          <p:cNvSpPr/>
          <p:nvPr/>
        </p:nvSpPr>
        <p:spPr>
          <a:xfrm>
            <a:off x="2195640" y="2781360"/>
            <a:ext cx="3168360" cy="1295280"/>
          </a:xfrm>
          <a:prstGeom prst="wedgeEllipseCallout">
            <a:avLst>
              <a:gd name="adj1" fmla="val -41685"/>
              <a:gd name="adj2" fmla="val 107597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, точно, справлю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Object 11"/>
          <p:cNvGraphicFramePr/>
          <p:nvPr/>
        </p:nvGraphicFramePr>
        <p:xfrm>
          <a:off x="4788000" y="4557600"/>
          <a:ext cx="2274840" cy="173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4557600"/>
                    <a:ext cx="2274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12"/>
          <p:cNvSpPr/>
          <p:nvPr/>
        </p:nvSpPr>
        <p:spPr>
          <a:xfrm>
            <a:off x="2411280" y="1916280"/>
            <a:ext cx="4176720" cy="1846080"/>
          </a:xfrm>
          <a:prstGeom prst="wedgeEllipseCallout">
            <a:avLst>
              <a:gd name="adj1" fmla="val -31032"/>
              <a:gd name="adj2" fmla="val 115263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71280" y="1773000"/>
            <a:ext cx="3313080" cy="19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Arial"/>
              </a:rPr>
              <a:t>Давайте измерим </a:t>
            </a:r>
            <a:br>
              <a:rPr sz="3600"/>
            </a:br>
            <a:r>
              <a:rPr b="1" lang="ru-RU" sz="3600" spc="-1" strike="noStrike">
                <a:solidFill>
                  <a:srgbClr val="9966ff"/>
                </a:solidFill>
                <a:latin typeface="Arial"/>
              </a:rPr>
              <a:t>длину удава!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22" name="Picture 11" descr="j0345805"/>
          <p:cNvPicPr/>
          <p:nvPr/>
        </p:nvPicPr>
        <p:blipFill>
          <a:blip r:embed="rId1"/>
          <a:stretch/>
        </p:blipFill>
        <p:spPr>
          <a:xfrm flipH="1" rot="19176000">
            <a:off x="1691640" y="4581360"/>
            <a:ext cx="2022480" cy="1787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SNKNTREE"/>
          <p:cNvPicPr/>
          <p:nvPr/>
        </p:nvPicPr>
        <p:blipFill>
          <a:blip r:embed="rId2"/>
          <a:stretch/>
        </p:blipFill>
        <p:spPr>
          <a:xfrm>
            <a:off x="324000" y="260280"/>
            <a:ext cx="2619360" cy="453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14"/>
          <p:cNvGraphicFramePr/>
          <p:nvPr/>
        </p:nvGraphicFramePr>
        <p:xfrm>
          <a:off x="6156360" y="4724280"/>
          <a:ext cx="198756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724280"/>
                    <a:ext cx="19875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16"/>
          <p:cNvGraphicFramePr/>
          <p:nvPr/>
        </p:nvGraphicFramePr>
        <p:xfrm>
          <a:off x="6804000" y="2349360"/>
          <a:ext cx="168444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2349360"/>
                    <a:ext cx="168444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25"/>
          <p:cNvGraphicFramePr/>
          <p:nvPr/>
        </p:nvGraphicFramePr>
        <p:xfrm>
          <a:off x="6516720" y="0"/>
          <a:ext cx="2627280" cy="685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0"/>
                    <a:ext cx="2627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26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14d47d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Высота пальмы была 3 метра. Она выросла на 2 метр.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5219640" y="2205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В О П Р О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4716360" y="2781360"/>
            <a:ext cx="4000680" cy="1007640"/>
          </a:xfrm>
          <a:prstGeom prst="rect">
            <a:avLst/>
          </a:prstGeom>
          <a:solidFill>
            <a:srgbClr val="14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6699"/>
                </a:solidFill>
                <a:latin typeface="Arial"/>
              </a:rPr>
              <a:t>Чему равна высота пальмы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716000" y="4508640"/>
            <a:ext cx="2161800" cy="85572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6699"/>
                </a:solidFill>
                <a:latin typeface="Arial"/>
              </a:rPr>
              <a:t>3 + 2 =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7023960" y="4508640"/>
            <a:ext cx="1657440" cy="88596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666699"/>
                </a:solidFill>
                <a:latin typeface="Arial"/>
              </a:rPr>
              <a:t>5 (м)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643640" y="5562720"/>
            <a:ext cx="4016880" cy="70344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Ответ: 5 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метров</a:t>
            </a: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18"/>
          <p:cNvGraphicFramePr/>
          <p:nvPr/>
        </p:nvGraphicFramePr>
        <p:xfrm>
          <a:off x="900000" y="3284640"/>
          <a:ext cx="139068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284640"/>
                    <a:ext cx="1390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6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Ура, мы учимся…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33" name="Picture 13" descr="PARROT1"/>
          <p:cNvPicPr/>
          <p:nvPr/>
        </p:nvPicPr>
        <p:blipFill>
          <a:blip r:embed="rId1"/>
          <a:stretch/>
        </p:blipFill>
        <p:spPr>
          <a:xfrm flipH="1">
            <a:off x="394920" y="1125360"/>
            <a:ext cx="1584360" cy="2303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j0345805"/>
          <p:cNvPicPr/>
          <p:nvPr/>
        </p:nvPicPr>
        <p:blipFill>
          <a:blip r:embed="rId2"/>
          <a:stretch/>
        </p:blipFill>
        <p:spPr>
          <a:xfrm flipH="1" rot="19176000">
            <a:off x="791640" y="4329000"/>
            <a:ext cx="2435400" cy="2152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SNKNTREE"/>
          <p:cNvPicPr/>
          <p:nvPr/>
        </p:nvPicPr>
        <p:blipFill>
          <a:blip r:embed="rId3"/>
          <a:stretch/>
        </p:blipFill>
        <p:spPr>
          <a:xfrm flipH="1">
            <a:off x="6659640" y="1628640"/>
            <a:ext cx="2100240" cy="478008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14"/>
          <p:cNvSpPr/>
          <p:nvPr/>
        </p:nvSpPr>
        <p:spPr>
          <a:xfrm>
            <a:off x="3059280" y="2637000"/>
            <a:ext cx="3024000" cy="1368360"/>
          </a:xfrm>
          <a:prstGeom prst="wedgeEllipseCallout">
            <a:avLst>
              <a:gd name="adj1" fmla="val -49685"/>
              <a:gd name="adj2" fmla="val 111023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Я задачу для детей придумал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15"/>
          <p:cNvGraphicFramePr/>
          <p:nvPr/>
        </p:nvGraphicFramePr>
        <p:xfrm>
          <a:off x="4284720" y="4508640"/>
          <a:ext cx="2779560" cy="21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4508640"/>
                    <a:ext cx="277956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ридумайте задачу по схеме.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40" name="Picture 26" descr="j0345805"/>
          <p:cNvPicPr/>
          <p:nvPr/>
        </p:nvPicPr>
        <p:blipFill>
          <a:blip r:embed="rId1"/>
          <a:stretch/>
        </p:blipFill>
        <p:spPr>
          <a:xfrm flipH="1" rot="19176000">
            <a:off x="1923840" y="4968360"/>
            <a:ext cx="1800000" cy="1590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4" descr="SNKNTREE"/>
          <p:cNvPicPr/>
          <p:nvPr/>
        </p:nvPicPr>
        <p:blipFill>
          <a:blip r:embed="rId2"/>
          <a:stretch/>
        </p:blipFill>
        <p:spPr>
          <a:xfrm>
            <a:off x="468360" y="3716280"/>
            <a:ext cx="1614600" cy="2546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2" descr="PARROT1"/>
          <p:cNvPicPr/>
          <p:nvPr/>
        </p:nvPicPr>
        <p:blipFill>
          <a:blip r:embed="rId3"/>
          <a:stretch/>
        </p:blipFill>
        <p:spPr>
          <a:xfrm flipH="1">
            <a:off x="468000" y="1916280"/>
            <a:ext cx="1074600" cy="10778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30"/>
          <p:cNvGrpSpPr/>
          <p:nvPr/>
        </p:nvGrpSpPr>
        <p:grpSpPr>
          <a:xfrm>
            <a:off x="1763640" y="2924280"/>
            <a:ext cx="6695640" cy="433440"/>
            <a:chOff x="1763640" y="2924280"/>
            <a:chExt cx="6695640" cy="433440"/>
          </a:xfrm>
        </p:grpSpPr>
        <p:sp>
          <p:nvSpPr>
            <p:cNvPr id="344" name="Line 27"/>
            <p:cNvSpPr/>
            <p:nvPr/>
          </p:nvSpPr>
          <p:spPr>
            <a:xfrm>
              <a:off x="1763640" y="3141720"/>
              <a:ext cx="669564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>
              <a:off x="3537360" y="2924280"/>
              <a:ext cx="0" cy="43344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>
              <a:off x="6282000" y="2924280"/>
              <a:ext cx="0" cy="43344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Group 36"/>
          <p:cNvGrpSpPr/>
          <p:nvPr/>
        </p:nvGrpSpPr>
        <p:grpSpPr>
          <a:xfrm>
            <a:off x="2413440" y="3379680"/>
            <a:ext cx="5196960" cy="611640"/>
            <a:chOff x="2413440" y="3379680"/>
            <a:chExt cx="5196960" cy="611640"/>
          </a:xfrm>
        </p:grpSpPr>
        <p:sp>
          <p:nvSpPr>
            <p:cNvPr id="348" name="Text Box 31"/>
            <p:cNvSpPr/>
            <p:nvPr/>
          </p:nvSpPr>
          <p:spPr>
            <a:xfrm>
              <a:off x="2413440" y="3429000"/>
              <a:ext cx="77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6699"/>
                  </a:solidFill>
                  <a:latin typeface="Arial"/>
                </a:rPr>
                <a:t>2 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4429800" y="3429000"/>
              <a:ext cx="77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6699"/>
                  </a:solidFill>
                  <a:latin typeface="Arial"/>
                </a:rPr>
                <a:t>4 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7166160" y="3379680"/>
              <a:ext cx="444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666699"/>
                  </a:solidFill>
                  <a:latin typeface="Arial"/>
                </a:rPr>
                <a:t>?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1834920" y="1341360"/>
            <a:ext cx="6553080" cy="1366920"/>
            <a:chOff x="1834920" y="1341360"/>
            <a:chExt cx="6553080" cy="1366920"/>
          </a:xfrm>
        </p:grpSpPr>
        <p:sp>
          <p:nvSpPr>
            <p:cNvPr id="352" name="AutoShape 34"/>
            <p:cNvSpPr/>
            <p:nvPr/>
          </p:nvSpPr>
          <p:spPr>
            <a:xfrm rot="5400000">
              <a:off x="4787640" y="-892080"/>
              <a:ext cx="647640" cy="6553080"/>
            </a:xfrm>
            <a:custGeom>
              <a:avLst/>
              <a:gdLst>
                <a:gd name="textAreaLeft" fmla="*/ 414000 w 647640"/>
                <a:gd name="textAreaRight" fmla="*/ 648000 w 647640"/>
                <a:gd name="textAreaTop" fmla="*/ 170640 h 6553080"/>
                <a:gd name="textAreaBottom" fmla="*/ 6382440 h 655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4718520" y="1341360"/>
              <a:ext cx="77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6699"/>
                  </a:solidFill>
                  <a:latin typeface="Arial"/>
                </a:rPr>
                <a:t>9 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Text Box 38"/>
          <p:cNvSpPr/>
          <p:nvPr/>
        </p:nvSpPr>
        <p:spPr>
          <a:xfrm>
            <a:off x="7094160" y="3357720"/>
            <a:ext cx="534240" cy="85572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99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39"/>
          <p:cNvGraphicFramePr/>
          <p:nvPr/>
        </p:nvGraphicFramePr>
        <p:xfrm>
          <a:off x="6443640" y="4724280"/>
          <a:ext cx="2340000" cy="178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Object 3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4724280"/>
                    <a:ext cx="23400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До встречи, ребята!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58" name="Picture 7" descr="j0345805"/>
          <p:cNvPicPr/>
          <p:nvPr/>
        </p:nvPicPr>
        <p:blipFill>
          <a:blip r:embed="rId1"/>
          <a:stretch/>
        </p:blipFill>
        <p:spPr>
          <a:xfrm rot="910200">
            <a:off x="2771280" y="400500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SNKNTREE"/>
          <p:cNvPicPr/>
          <p:nvPr/>
        </p:nvPicPr>
        <p:blipFill>
          <a:blip r:embed="rId2"/>
          <a:stretch/>
        </p:blipFill>
        <p:spPr>
          <a:xfrm>
            <a:off x="468360" y="1916280"/>
            <a:ext cx="2847960" cy="4491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1" descr="PARROT1"/>
          <p:cNvPicPr/>
          <p:nvPr/>
        </p:nvPicPr>
        <p:blipFill>
          <a:blip r:embed="rId3"/>
          <a:stretch/>
        </p:blipFill>
        <p:spPr>
          <a:xfrm>
            <a:off x="7451640" y="1773360"/>
            <a:ext cx="1363680" cy="20160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4"/>
          <p:cNvSpPr/>
          <p:nvPr/>
        </p:nvSpPr>
        <p:spPr>
          <a:xfrm>
            <a:off x="684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Мы готовим вам </a:t>
            </a: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сюрприз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5867280" y="4508640"/>
          <a:ext cx="2779920" cy="21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508640"/>
                    <a:ext cx="277992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8" descr="SNKNTREE"/>
          <p:cNvPicPr/>
          <p:nvPr/>
        </p:nvPicPr>
        <p:blipFill>
          <a:blip r:embed="rId1"/>
          <a:stretch/>
        </p:blipFill>
        <p:spPr>
          <a:xfrm>
            <a:off x="0" y="1773360"/>
            <a:ext cx="252720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17"/>
          <p:cNvGraphicFramePr/>
          <p:nvPr/>
        </p:nvGraphicFramePr>
        <p:xfrm>
          <a:off x="6443640" y="2492280"/>
          <a:ext cx="211608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2492280"/>
                    <a:ext cx="211608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Picture 18" descr="j0345805"/>
          <p:cNvPicPr/>
          <p:nvPr/>
        </p:nvPicPr>
        <p:blipFill>
          <a:blip r:embed="rId4"/>
          <a:stretch/>
        </p:blipFill>
        <p:spPr>
          <a:xfrm rot="2424000">
            <a:off x="3276360" y="4221000"/>
            <a:ext cx="2022480" cy="17877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13"/>
          <p:cNvSpPr/>
          <p:nvPr/>
        </p:nvSpPr>
        <p:spPr>
          <a:xfrm>
            <a:off x="2340000" y="404640"/>
            <a:ext cx="3816360" cy="1872000"/>
          </a:xfrm>
          <a:prstGeom prst="wedgeEllipseCallout">
            <a:avLst>
              <a:gd name="adj1" fmla="val 61814"/>
              <a:gd name="adj2" fmla="val 39314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Предлагаю мерить его попугая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Object 21"/>
          <p:cNvGraphicFramePr/>
          <p:nvPr/>
        </p:nvGraphicFramePr>
        <p:xfrm>
          <a:off x="6877080" y="476280"/>
          <a:ext cx="2023920" cy="614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476280"/>
                    <a:ext cx="20239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5"/>
          <p:cNvGraphicFramePr/>
          <p:nvPr/>
        </p:nvGraphicFramePr>
        <p:xfrm>
          <a:off x="6084720" y="4797360"/>
          <a:ext cx="198756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797360"/>
                    <a:ext cx="19875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Picture 26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19640" y="260280"/>
            <a:ext cx="3528720" cy="1782720"/>
          </a:xfrm>
          <a:prstGeom prst="rect">
            <a:avLst/>
          </a:prstGeom>
          <a:gradFill rotWithShape="0">
            <a:gsLst>
              <a:gs pos="0">
                <a:srgbClr val="d9d9ff"/>
              </a:gs>
              <a:gs pos="100000">
                <a:srgbClr val="14d47d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66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666699"/>
                </a:solidFill>
                <a:latin typeface="Arial"/>
              </a:rPr>
              <a:t>Длина удава </a:t>
            </a:r>
            <a:br>
              <a:rPr sz="3800"/>
            </a:br>
            <a:r>
              <a:rPr b="0" lang="ru-RU" sz="3800" spc="-1" strike="noStrike">
                <a:solidFill>
                  <a:srgbClr val="666699"/>
                </a:solidFill>
                <a:latin typeface="Arial"/>
              </a:rPr>
              <a:t>– ровно </a:t>
            </a:r>
            <a:br>
              <a:rPr sz="3800"/>
            </a:br>
            <a:r>
              <a:rPr b="0" lang="ru-RU" sz="3800" spc="-1" strike="noStrike">
                <a:solidFill>
                  <a:srgbClr val="666699"/>
                </a:solidFill>
                <a:latin typeface="Arial"/>
              </a:rPr>
              <a:t>38 попугаев!</a:t>
            </a:r>
            <a:endParaRPr b="0" lang="en-US" sz="38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42" name="Picture 4" descr="SNKNTREE"/>
          <p:cNvPicPr/>
          <p:nvPr/>
        </p:nvPicPr>
        <p:blipFill>
          <a:blip r:embed="rId1"/>
          <a:stretch/>
        </p:blipFill>
        <p:spPr>
          <a:xfrm>
            <a:off x="324000" y="2205000"/>
            <a:ext cx="2582640" cy="4075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j0345805"/>
          <p:cNvPicPr/>
          <p:nvPr/>
        </p:nvPicPr>
        <p:blipFill>
          <a:blip r:embed="rId2"/>
          <a:stretch/>
        </p:blipFill>
        <p:spPr>
          <a:xfrm rot="2424000">
            <a:off x="6235200" y="4125600"/>
            <a:ext cx="2665440" cy="229068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6"/>
          <p:cNvGrpSpPr/>
          <p:nvPr/>
        </p:nvGrpSpPr>
        <p:grpSpPr>
          <a:xfrm>
            <a:off x="2340000" y="2997360"/>
            <a:ext cx="4319280" cy="1800000"/>
            <a:chOff x="2340000" y="2997360"/>
            <a:chExt cx="4319280" cy="1800000"/>
          </a:xfrm>
        </p:grpSpPr>
        <p:sp>
          <p:nvSpPr>
            <p:cNvPr id="245" name="AutoShape 12"/>
            <p:cNvSpPr/>
            <p:nvPr/>
          </p:nvSpPr>
          <p:spPr>
            <a:xfrm>
              <a:off x="2649600" y="2997360"/>
              <a:ext cx="3701880" cy="1800000"/>
            </a:xfrm>
            <a:prstGeom prst="wedgeEllipseCallout">
              <a:avLst>
                <a:gd name="adj1" fmla="val 60106"/>
                <a:gd name="adj2" fmla="val 47356"/>
              </a:avLst>
            </a:prstGeom>
            <a:solidFill>
              <a:srgbClr val="14d4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2340000" y="3068640"/>
              <a:ext cx="4319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6699"/>
                  </a:solidFill>
                  <a:latin typeface="Arial"/>
                </a:rPr>
                <a:t>- А я мерила мартышками. У меня получилось 5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7" name="Object 15"/>
          <p:cNvGraphicFramePr/>
          <p:nvPr/>
        </p:nvGraphicFramePr>
        <p:xfrm>
          <a:off x="6804000" y="260280"/>
          <a:ext cx="2116080" cy="28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260280"/>
                    <a:ext cx="211608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Picture 18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354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И всего два слоненка!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51" name="Picture 14" descr="SNKNTREE"/>
          <p:cNvPicPr/>
          <p:nvPr/>
        </p:nvPicPr>
        <p:blipFill>
          <a:blip r:embed="rId1"/>
          <a:stretch/>
        </p:blipFill>
        <p:spPr>
          <a:xfrm>
            <a:off x="395280" y="2133720"/>
            <a:ext cx="2749680" cy="43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19"/>
          <p:cNvGraphicFramePr/>
          <p:nvPr/>
        </p:nvGraphicFramePr>
        <p:xfrm>
          <a:off x="5580000" y="4992840"/>
          <a:ext cx="2448000" cy="18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4992840"/>
                    <a:ext cx="244800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2"/>
          <p:cNvGraphicFramePr/>
          <p:nvPr/>
        </p:nvGraphicFramePr>
        <p:xfrm>
          <a:off x="6156360" y="1197000"/>
          <a:ext cx="2738520" cy="489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Object 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1197000"/>
                    <a:ext cx="2738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28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-0.2915 -0.17848 E">
                                      <p:cBhvr>
                                        <p:cTn id="99" dur="3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19"/>
          <p:cNvGraphicFramePr/>
          <p:nvPr/>
        </p:nvGraphicFramePr>
        <p:xfrm>
          <a:off x="5435640" y="4653000"/>
          <a:ext cx="23191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4653000"/>
                    <a:ext cx="23191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19280" y="277560"/>
            <a:ext cx="417672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38 попугаев!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60" name="Object 7"/>
          <p:cNvGraphicFramePr/>
          <p:nvPr/>
        </p:nvGraphicFramePr>
        <p:xfrm>
          <a:off x="6659640" y="2708280"/>
          <a:ext cx="211608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2708280"/>
                    <a:ext cx="211608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" name="Picture 10" descr="j0345805"/>
          <p:cNvPicPr/>
          <p:nvPr/>
        </p:nvPicPr>
        <p:blipFill>
          <a:blip r:embed="rId5"/>
          <a:stretch/>
        </p:blipFill>
        <p:spPr>
          <a:xfrm rot="2424000">
            <a:off x="2195280" y="414936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NKNTREE"/>
          <p:cNvPicPr/>
          <p:nvPr/>
        </p:nvPicPr>
        <p:blipFill>
          <a:blip r:embed="rId6"/>
          <a:stretch/>
        </p:blipFill>
        <p:spPr>
          <a:xfrm>
            <a:off x="395280" y="2924280"/>
            <a:ext cx="1962000" cy="355428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16"/>
          <p:cNvSpPr/>
          <p:nvPr/>
        </p:nvSpPr>
        <p:spPr>
          <a:xfrm>
            <a:off x="3203640" y="2708280"/>
            <a:ext cx="2952720" cy="1368360"/>
          </a:xfrm>
          <a:prstGeom prst="wedgeEllipseCallout">
            <a:avLst>
              <a:gd name="adj1" fmla="val 29787"/>
              <a:gd name="adj2" fmla="val 114731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Ну, почему, только 2 слоне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Object 17"/>
          <p:cNvGraphicFramePr/>
          <p:nvPr/>
        </p:nvGraphicFramePr>
        <p:xfrm>
          <a:off x="6516720" y="0"/>
          <a:ext cx="2627280" cy="685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0"/>
                    <a:ext cx="2627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21"/>
          <p:cNvSpPr/>
          <p:nvPr/>
        </p:nvSpPr>
        <p:spPr>
          <a:xfrm>
            <a:off x="1042920" y="1052640"/>
            <a:ext cx="5376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5 мартышек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4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ебята, почему мартышка и попугай и слоненок получили разные результаты?</a:t>
            </a:r>
            <a:endParaRPr b="0" lang="en-US" sz="3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075520" cy="1401840"/>
          </a:xfrm>
          <a:prstGeom prst="rect">
            <a:avLst/>
          </a:prstGeom>
          <a:gradFill rotWithShape="0">
            <a:gsLst>
              <a:gs pos="0">
                <a:srgbClr val="14d47d"/>
              </a:gs>
              <a:gs pos="100000">
                <a:srgbClr val="09623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Какой выход вы можете предложить обезьянке и попуга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68360" y="2133720"/>
            <a:ext cx="8136000" cy="172692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Удобно ли измерять удава такими мерками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2" descr="j0345805"/>
          <p:cNvPicPr/>
          <p:nvPr/>
        </p:nvPicPr>
        <p:blipFill>
          <a:blip r:embed="rId1"/>
          <a:stretch/>
        </p:blipFill>
        <p:spPr>
          <a:xfrm flipH="1" rot="18450600">
            <a:off x="566280" y="3185640"/>
            <a:ext cx="2022480" cy="178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ct 11"/>
          <p:cNvGraphicFramePr/>
          <p:nvPr/>
        </p:nvGraphicFramePr>
        <p:xfrm>
          <a:off x="6372360" y="404640"/>
          <a:ext cx="2116080" cy="218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2360" y="404640"/>
                    <a:ext cx="211608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4"/>
          <p:cNvGraphicFramePr/>
          <p:nvPr/>
        </p:nvGraphicFramePr>
        <p:xfrm>
          <a:off x="5148360" y="4076640"/>
          <a:ext cx="1987560" cy="151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4076640"/>
                    <a:ext cx="19875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18906 -0.22037 E">
                                      <p:cBhvr>
                                        <p:cTn id="197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906800" cy="11397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d9d9ff"/>
                </a:solidFill>
                <a:latin typeface="Arial"/>
              </a:rPr>
              <a:t>САНТИМЕТР</a:t>
            </a:r>
            <a:endParaRPr b="0" lang="en-US" sz="58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78" name="Object 22"/>
          <p:cNvGraphicFramePr/>
          <p:nvPr/>
        </p:nvGraphicFramePr>
        <p:xfrm>
          <a:off x="4356000" y="4508640"/>
          <a:ext cx="2779920" cy="21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508640"/>
                    <a:ext cx="277992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Picture 11" descr=""/>
          <p:cNvPicPr/>
          <p:nvPr/>
        </p:nvPicPr>
        <p:blipFill>
          <a:blip r:embed="rId3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4" descr="j0345805"/>
          <p:cNvPicPr/>
          <p:nvPr/>
        </p:nvPicPr>
        <p:blipFill>
          <a:blip r:embed="rId4"/>
          <a:stretch/>
        </p:blipFill>
        <p:spPr>
          <a:xfrm flipH="1" rot="19176000">
            <a:off x="2123640" y="378900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6" descr="SNKNTREE"/>
          <p:cNvPicPr/>
          <p:nvPr/>
        </p:nvPicPr>
        <p:blipFill>
          <a:blip r:embed="rId5"/>
          <a:stretch/>
        </p:blipFill>
        <p:spPr>
          <a:xfrm>
            <a:off x="0" y="1773360"/>
            <a:ext cx="252720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Object 31"/>
          <p:cNvGraphicFramePr/>
          <p:nvPr/>
        </p:nvGraphicFramePr>
        <p:xfrm>
          <a:off x="6877080" y="2637000"/>
          <a:ext cx="1684440" cy="24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4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77080" y="2637000"/>
                    <a:ext cx="1684440" cy="24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28"/>
          <p:cNvGraphicFramePr/>
          <p:nvPr/>
        </p:nvGraphicFramePr>
        <p:xfrm>
          <a:off x="6686640" y="333360"/>
          <a:ext cx="2457360" cy="585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6640" y="333360"/>
                    <a:ext cx="24573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9d9ff"/>
                </a:solidFill>
                <a:latin typeface="Arial"/>
              </a:rPr>
              <a:t>Сантиметр  – это сколько?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88" name="Picture 10" descr="SNKNTREE"/>
          <p:cNvPicPr/>
          <p:nvPr/>
        </p:nvPicPr>
        <p:blipFill>
          <a:blip r:embed="rId1"/>
          <a:stretch/>
        </p:blipFill>
        <p:spPr>
          <a:xfrm flipH="1">
            <a:off x="5878440" y="1916280"/>
            <a:ext cx="2749680" cy="4336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j0177984"/>
          <p:cNvPicPr/>
          <p:nvPr/>
        </p:nvPicPr>
        <p:blipFill>
          <a:blip r:embed="rId2"/>
          <a:stretch/>
        </p:blipFill>
        <p:spPr>
          <a:xfrm>
            <a:off x="611280" y="5013360"/>
            <a:ext cx="2233440" cy="148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30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22:33Z</dcterms:created>
  <dc:creator>Назарова О. В.</dc:creator>
  <dc:description/>
  <dc:language>en-US</dc:language>
  <cp:lastModifiedBy>777</cp:lastModifiedBy>
  <dcterms:modified xsi:type="dcterms:W3CDTF">2012-04-13T12:35:02Z</dcterms:modified>
  <cp:revision>24</cp:revision>
  <dc:subject/>
  <dc:title>Слайд 1</dc:title>
</cp:coreProperties>
</file>