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1362-3070-46BA-B904-C9DB00E7D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1972-870A-4E50-AA0B-1BEA6F59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A10A-9890-47CD-85B1-D0C2E6616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5C8C-80D5-4738-B2B7-560B40042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A9B5-84E0-4870-BC20-D45829B8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E5DA-CA54-49B4-A0CA-19E55ABB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15A9-6B47-4AC1-BCB3-0A8F1FA6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AB0A-379C-4D82-81DB-6ABB4944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7E0B-2421-45F2-8D64-5FD841F5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7ACE-8B89-4E39-9412-9D785D74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8F6E-3B58-4114-B3B4-B2BC3CDD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DCCF-D7B6-4C8B-B9E6-62A7DE0E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C491-49B5-4076-8743-A35018B5EE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ЧЕРВИ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928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Они известны под названием солитеры, что в переводе с французского означает «одиночка», «отшельник». Однако у этих червей есть и старое русское название. Какое?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556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Цепень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928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Род нематод, паразитирующих в организмах животных и человека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4360" y="-1440"/>
            <a:ext cx="7775280" cy="68594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556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Аскарида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928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Морской многощетинковый кольчатый червь с перистыми жабрами, живет на дне в построенной им известковой трубке.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6707" t="0" r="4521" b="0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556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99"/>
                </a:solidFill>
                <a:latin typeface="Arial"/>
              </a:rPr>
              <a:t>Серпула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928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Паразитический крупный червь, встречающийся в тропиках и вызывающий у человека опасное заболевание — филяриатоз.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13072" t="0" r="270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556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Ришта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928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Длинный крупный червь, похожий на конский волос, обитает в воде, паразитирует в теле водных насекомых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169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556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Волосатик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856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Латинское название этого кольчатого червя Hirudo medicinalis. Этого достаточно, чтобы ответить, под каким названием он известен нам.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928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Движение этих червей напоминает медленное и плавное скольжение по поверхности различных предметов, погруженных в воду. Способ движения отразился в названии.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556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99"/>
                </a:solidFill>
                <a:latin typeface="Arial"/>
              </a:rPr>
              <a:t>Планарии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928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Плоский червь, паразитирующий в желчных ходах и печени различных травоядных животных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556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Сосальщик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0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Самый длинный в мире морской червь.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556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ff"/>
                </a:solidFill>
                <a:latin typeface="Arial"/>
              </a:rPr>
              <a:t>Линеус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556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Медицинская пиявка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928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За микроскопические размеры аквариумисты называют этих червей «живой пылью». Ими в первые дни кормятся мальки большинства видов рыб, в том числе и аквариумных. Что это за черви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1199" r="0" b="78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556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Коловратки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928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На дне моря этот червь сооружает маленький песчаный вулкан с кратером, из которого выбрасывается струйка песка. Как он называется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556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Пескожил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928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Этот червь, названный в честь морской нимфы, является излюбленным кормом для многих видов рыб.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4274" t="0" r="312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556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Нереида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06:22:56Z</dcterms:created>
  <dc:creator>Мерзлов</dc:creator>
  <dc:description/>
  <dc:language>en-US</dc:language>
  <cp:lastModifiedBy>Мерзлов</cp:lastModifiedBy>
  <dcterms:modified xsi:type="dcterms:W3CDTF">2010-05-23T04:46:38Z</dcterms:modified>
  <cp:revision>7</cp:revision>
  <dc:subject/>
  <dc:title>ЧЕРВИ</dc:title>
</cp:coreProperties>
</file>