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841-9D03-4D72-923D-C665F587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A5B-F0EB-4BDE-8383-ED748D30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189-C164-4FD6-B225-E57080BD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32F-8296-4A78-B592-9656D723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C7E-75E4-4AC8-9CDF-BC203722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3A9-54EF-44ED-B20E-2DF9C97B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67C-EF06-4475-91E3-998F9E2C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62F-7902-41E4-8B45-892F654A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A43-A9C3-466D-91DE-240295C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374-66C2-4A71-86C5-5ADC66DE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285-64AD-48E6-AF17-0797B02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0A6-CF04-4C9B-BF12-41205532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E124-C82C-4A2D-9241-E38A59C17B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ЧЕРВ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ни известны под названием солитеры, что в переводе с французского означает «одиночка», «отшельник». Однако у этих червей есть и старое русское название. Какое?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Цепень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Род нематод, паразитирующих в организмах животных и человека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-1440"/>
            <a:ext cx="777528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Аскарид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Морской многощетинковый кольчатый червь с перистыми жабрами, живет на дне в построенной им известковой трубке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6707" t="0" r="4521" b="0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Серпул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аразитический крупный червь, встречающийся в тропиках и вызывающий у человека опасное заболевание — филяриатоз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3072" t="0" r="270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Ришт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линный крупный червь, похожий на конский волос, обитает в воде, паразитирует в теле водных насекомы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Волосатик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атинское название этого кольчатого червя Hirudo medicinalis. Этого достаточно, чтобы ответить, под каким названием он известен нам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вижение этих червей напоминает медленное и плавное скольжение по поверхности различных предметов, погруженных в воду. Способ движения отразился в названии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Планар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лоский червь, паразитирующий в желчных ходах и печени различных травоядных животны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Сосальщик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амый длинный в мире морской червь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Arial"/>
              </a:rPr>
              <a:t>Линеус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Медицинская пиявк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 микроскопические размеры аквариумисты называют этих червей «живой пылью». Ими в первые дни кормятся мальки большинства видов рыб, в том числе и аквариумных. Что это за черви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199" r="0" b="7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Коловратк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а дне моря этот червь сооружает маленький песчаный вулкан с кратером, из которого выбрасывается струйка песка. Как он называется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Пескожил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Этот червь, названный в честь морской нимфы, является излюбленным кормом для многих видов рыб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274" t="0" r="312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Нереид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06:22:56Z</dcterms:created>
  <dc:creator>Мерзлов</dc:creator>
  <dc:description/>
  <dc:language>en-US</dc:language>
  <cp:lastModifiedBy>Мерзлов</cp:lastModifiedBy>
  <dcterms:modified xsi:type="dcterms:W3CDTF">2010-05-23T04:46:38Z</dcterms:modified>
  <cp:revision>7</cp:revision>
  <dc:subject/>
  <dc:title>ЧЕРВИ</dc:title>
</cp:coreProperties>
</file>