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FF1-82AA-431C-AC77-6094EF7D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F46-B68A-40C7-AA1D-4BFEEFAF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1A5-51FF-46A8-99CC-B603416E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FA8-6FF2-4683-955F-E50FFE73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683-0D03-4433-A772-6F3197EC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FD2-E3F5-4B56-BAEE-95EDCC4D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D8A-27B5-4586-84D0-364D3ABD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1BE-FD6F-4EFD-AB6B-D7DFA4F4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686-0329-4FB1-8412-DFA71B6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A26-5C71-46CB-B765-AE29523A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A26-8C10-494E-8CD4-51F6380B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371-E8E9-4196-BFCD-56FA5ED3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0BCD-6938-4020-8866-CCA723EC7E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ЧЕРВ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ни известны под названием солитеры, что в переводе с французского означает «одиночка», «отшельник». Однако у этих червей есть и старое русское название. Какое?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Цепень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Род нематод, паразитирующих в организмах животных и человека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-1440"/>
            <a:ext cx="777528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Аскарид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Морской многощетинковый кольчатый червь с перистыми жабрами, живет на дне в построенной им известковой трубке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6707" t="0" r="4521" b="0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Серпул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аразитический крупный червь, встречающийся в тропиках и вызывающий у человека опасное заболевание — филяриатоз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3072" t="0" r="270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Ришт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линный крупный червь, похожий на конский волос, обитает в воде, паразитирует в теле водных насекомы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Волосатик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атинское название этого кольчатого червя Hirudo medicinalis. Этого достаточно, чтобы ответить, под каким названием он известен нам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вижение этих червей напоминает медленное и плавное скольжение по поверхности различных предметов, погруженных в воду. Способ движения отразился в названии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Планар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лоский червь, паразитирующий в желчных ходах и печени различных травоядных животных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Сосальщик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амый длинный в мире морской червь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Arial"/>
              </a:rPr>
              <a:t>Линеус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Медицинская пиявк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 микроскопические размеры аквариумисты называют этих червей «живой пылью». Ими в первые дни кормятся мальки большинства видов рыб, в том числе и аквариумных. Что это за черви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199" r="0" b="7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Коловратк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а дне моря этот червь сооружает маленький песчаный вулкан с кратером, из которого выбрасывается струйка песка. Как он называется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Пескожил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Этот червь, названный в честь морской нимфы, является излюбленным кормом для многих видов рыб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274" t="0" r="312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556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Нереид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06:22:56Z</dcterms:created>
  <dc:creator>Мерзлов</dc:creator>
  <dc:description/>
  <dc:language>en-US</dc:language>
  <cp:lastModifiedBy>Мерзлов</cp:lastModifiedBy>
  <dcterms:modified xsi:type="dcterms:W3CDTF">2010-05-23T04:46:38Z</dcterms:modified>
  <cp:revision>7</cp:revision>
  <dc:subject/>
  <dc:title>ЧЕРВИ</dc:title>
</cp:coreProperties>
</file>