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8025-8032-408D-A580-D60D85D1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429-3FD5-4DDA-BD19-87114F8E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AD0-531A-4EC7-A807-882E2513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B873-5483-4B4C-A7AF-04036241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DBA36-291F-4E90-9646-0B4A7162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6814D-87E5-4361-8295-3B75062F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37DB6-42B9-4C03-833F-85408B5A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ECEEB-F051-44A0-83DE-54952895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68E61-D183-4D8D-858C-CE30BEFD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9EF1C-292D-4FC8-8DC8-1621A463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92195-BC9D-4EC3-9BCA-45591570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938-0491-4D56-8D72-66B85035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3C036-66A5-4B6B-A0F4-F151DB9D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7561D-688F-4520-B8BA-55586A07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9B731-8437-45F4-92D9-446143F2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F6739-118A-4F88-8CE4-0EAD4612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B65FF-80A6-4E90-8B86-E8D75C80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FB8-6D94-4711-997D-E996113E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30F-B681-43CD-BDAA-5924B302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C8C-6A95-43EF-B9B9-945573A2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8B3D-6E88-47E5-94FD-0897708B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4D1A-93D5-4AFD-8012-9A8CC5CB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0DE-51DD-4BED-B12F-C7487549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81CA-C710-4655-AFEA-662EEA98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6600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9a98ba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8c8ab0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BC0E-5F2F-4477-9D28-9FDE931F8C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6600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9a98ba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8c8ab0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57AA-D046-4A44-91FE-09B4DD05BC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80;&#1074;&#1077;&#1088;&#1090;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ChernobylPlant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ChernobylMIR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176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РНОБЫЛЬСКАЯ</a:t>
            </a: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АРИЯ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23" name="Picture 3" descr="400px-Chernobyl_Nuclear_Power_Plant"/>
          <p:cNvPicPr/>
          <p:nvPr/>
        </p:nvPicPr>
        <p:blipFill>
          <a:blip r:embed="rId1"/>
          <a:stretch/>
        </p:blipFill>
        <p:spPr>
          <a:xfrm>
            <a:off x="324000" y="1301760"/>
            <a:ext cx="8246880" cy="5170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45" name="Picture 4" descr="x_e9e8968ca2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af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47" name="Picture 4" descr="Карта радиоактивного загрязнения изотопом цезия-137:    закрытые зоны (более 40 Ки/км²)   зоны постоянного контроля (15—40 Ки/км²)   зоны периодического контроля (5—15 Ки/км²)   1—15 Ки/км² "/>
          <p:cNvPicPr/>
          <p:nvPr/>
        </p:nvPicPr>
        <p:blipFill>
          <a:blip r:embed="rId1"/>
          <a:stretch/>
        </p:blipFill>
        <p:spPr>
          <a:xfrm>
            <a:off x="1042920" y="981000"/>
            <a:ext cx="7489800" cy="54723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7"/>
          <p:cNvSpPr/>
          <p:nvPr/>
        </p:nvSpPr>
        <p:spPr>
          <a:xfrm>
            <a:off x="574560" y="448560"/>
            <a:ext cx="8569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Карта радиоактивного загрязнения изотопом цезия-13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af"/>
                </a:solidFill>
                <a:latin typeface="Arial"/>
              </a:rPr>
              <a:t>Процентное соотношение загрязнения, создаваемого различными изотопами через некоторое время после аварии</a:t>
            </a:r>
            <a:endParaRPr b="0" lang="en-US" sz="2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50" name="Picture 4" descr="Процентное соотношение загрязнения, создаваемого различными изотопами через некоторое время после аварии"/>
          <p:cNvPicPr/>
          <p:nvPr/>
        </p:nvPicPr>
        <p:blipFill>
          <a:blip r:embed="rId1"/>
          <a:stretch/>
        </p:blipFill>
        <p:spPr>
          <a:xfrm>
            <a:off x="539640" y="1484280"/>
            <a:ext cx="784872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af"/>
                </a:solidFill>
                <a:latin typeface="Arial"/>
              </a:rPr>
              <a:t>Интенсивность внешнего гамма-облучения вблизи чернобыльской станции</a:t>
            </a:r>
            <a:endParaRPr b="0" lang="en-US" sz="2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52" name="Picture 4" descr="Интенсивность внешнего гамма-облучения вблизи чернобыльской станции"/>
          <p:cNvPicPr/>
          <p:nvPr/>
        </p:nvPicPr>
        <p:blipFill>
          <a:blip r:embed="rId1"/>
          <a:stretch/>
        </p:blipFill>
        <p:spPr>
          <a:xfrm>
            <a:off x="468360" y="1413000"/>
            <a:ext cx="813600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af"/>
                </a:solidFill>
                <a:latin typeface="Arial"/>
              </a:rPr>
              <a:t>Средние дозы, полученные разными категориями населения</a:t>
            </a:r>
            <a:endParaRPr b="0" lang="en-US" sz="2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7360" y="1600200"/>
            <a:ext cx="69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55640" y="1413000"/>
          <a:ext cx="7704000" cy="4352760"/>
        </p:xfrm>
        <a:graphic>
          <a:graphicData uri="http://schemas.openxmlformats.org/drawingml/2006/table">
            <a:tbl>
              <a:tblPr/>
              <a:tblGrid>
                <a:gridCol w="2516040"/>
                <a:gridCol w="1300320"/>
                <a:gridCol w="2016000"/>
                <a:gridCol w="1871640"/>
              </a:tblGrid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(че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а (</a:t>
                      </a:r>
                      <a:r>
                        <a:rPr b="0" lang="ru-RU" sz="1800" spc="-1" strike="noStrike" u="sng">
                          <a:solidFill>
                            <a:srgbClr val="6600cc"/>
                          </a:solidFill>
                          <a:uFillTx/>
                          <a:latin typeface="Arial"/>
                          <a:hlinkClick r:id="rId1"/>
                        </a:rPr>
                        <a:t>мЗ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квидато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6—19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 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вакуирован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 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тели зон со «строгим контролем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6—200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 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тели других загрязнённых з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6—200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 000 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—2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af"/>
                </a:solidFill>
                <a:latin typeface="Arial"/>
              </a:rPr>
              <a:t>Памятник ликвидаторам аварии на ЧАЭС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57" name="Picture 4" descr="x_24188d50"/>
          <p:cNvPicPr/>
          <p:nvPr/>
        </p:nvPicPr>
        <p:blipFill>
          <a:blip r:embed="rId1"/>
          <a:stretch/>
        </p:blipFill>
        <p:spPr>
          <a:xfrm>
            <a:off x="1042920" y="1600200"/>
            <a:ext cx="7058160" cy="506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af"/>
                </a:solidFill>
                <a:latin typeface="Arial"/>
              </a:rPr>
              <a:t>Памятник жертвам Чернобыля(г.Москва)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59" name="Picture 4" descr="x_a33a7ece8c"/>
          <p:cNvPicPr/>
          <p:nvPr/>
        </p:nvPicPr>
        <p:blipFill>
          <a:blip r:embed="rId1"/>
          <a:stretch/>
        </p:blipFill>
        <p:spPr>
          <a:xfrm>
            <a:off x="971640" y="1947960"/>
            <a:ext cx="7129440" cy="428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7200" y="506520"/>
            <a:ext cx="794700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af"/>
                </a:solidFill>
                <a:latin typeface="Arial"/>
              </a:rPr>
              <a:t>Медаль ликвидаторам последствий аварии ЧАЭС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61" name="Picture 3" descr="Значок ликвидатора"/>
          <p:cNvPicPr/>
          <p:nvPr/>
        </p:nvPicPr>
        <p:blipFill>
          <a:blip r:embed="rId1"/>
          <a:stretch/>
        </p:blipFill>
        <p:spPr>
          <a:xfrm>
            <a:off x="2987640" y="1413000"/>
            <a:ext cx="2808360" cy="47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3840" y="285480"/>
            <a:ext cx="496908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нобыльская авария — разрушение 26 апреля 1986 года четвёртого энергоблока Чернобыльской атомной электростанции расположенной на территории Украины (в то время — Украинской ССР). Разрушение носило взрывной характер, реактор был полностью разрушен, и в окружающую среду было выброшено большое количество радиоактивных веществ. Авария расценивается как крупнейшая в своём роде за всю историю ядерной энергетики, как по предполагаемому количеству погибших и пострадавших от её последствий людей, так и по экономическому ущер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диоактивное облако от аварии прошло над европейской частью СССР, Восточной Европой, Скандинавией, Великобританией и восточной частью США. Примерно 60 % радиоактивных осадков выпало на территории Белоруссии. Около 200 000 человек было эвакуировано из зон, подвергшихся загрязн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Четвёртый блок Чернобыльской АЭ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9160" y="214200"/>
            <a:ext cx="3567240" cy="633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83296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24"/>
              </a:spcBef>
              <a:buClr>
                <a:srgbClr val="ffffa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</a:rPr>
              <a:t>Чернобыльская авария стала событием большого общественно-политического значения для СССР. И это наложило определённый отпечаток на ход расследования её причин. Подход к интерпретации фактов и обстоятельств аварии менялся с течением времени и полностью единого мнения нет до сих пор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Характеристики АЭС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ffffa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нобыльская АЭС (51°23′22″ с. ш. 30°05′59″ в. д. (G)) расположена в Украине вблизи города Припять, в 18 километрах от города Чернобыль, в 16 километрах от границы с Белоруссией и в 110 километрах от Кие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4648320" y="1484280"/>
          <a:ext cx="403848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484280"/>
                    <a:ext cx="40384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af"/>
                </a:solidFill>
                <a:latin typeface="Arial"/>
              </a:rPr>
              <a:t>Авария 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59371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рно в 1:23:50 26 апреля 1986 года на 4-м энергоблоке Чернобыльской АЭС произошел взрыв, который полностью разрушил реактор. Здание энергоблока частично обрушилось, при этом, как считается, погиб 1 человек. В различных помещениях и на крыше начался пожар. Впоследствии остатки активной зоны расплавились. Смесь из расплавленного металла, песка, бетона и частичек топлива растеклась по подреакторным помещениям. В результате аварии произошёл выброс радиоактивных веществ, в том числе изотопов урана, плутония, йода-131 (период полураспада 8 дней), цезия-134 (период полураспада 2 года), цезия-137 (период полураспада 30 лет), стронция-90 (период полураспада 28 лет). Положение усугублялось тем, что в разрушенном реакторе продолжались неконтролируемые ядерные и химические (от горения запасов графита) реакции с выделения тепла с извержением из разлома в течении многих и многих дней с продуктами горения высокорадиоактивных элементов и заражении ими больших территорий. Остановить активное извержение радиоактивных веществ из разрушенного реактора удалось лишь к концу мая 1986 года мобилизацией ресурсов всего СССР и массовым переоблучением тысяч ликвидат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Фотография территории вокруг Чернобыльской АЭС со станции «Мир», 27 апреля 19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92720" y="260280"/>
            <a:ext cx="2705040" cy="30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37" name="Picture 4" descr="x_01efcd5716"/>
          <p:cNvPicPr/>
          <p:nvPr/>
        </p:nvPicPr>
        <p:blipFill>
          <a:blip r:embed="rId1"/>
          <a:stretch/>
        </p:blipFill>
        <p:spPr>
          <a:xfrm>
            <a:off x="395280" y="620640"/>
            <a:ext cx="8209080" cy="58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840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af"/>
                </a:solidFill>
                <a:latin typeface="Arial"/>
              </a:rPr>
              <a:t>ъ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39" name="Picture 4" descr="x_8c48b53a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Могильник техники (Засоха)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41" name="Picture 4" descr="x_ce8226db"/>
          <p:cNvPicPr/>
          <p:nvPr/>
        </p:nvPicPr>
        <p:blipFill>
          <a:blip r:embed="rId1"/>
          <a:stretch/>
        </p:blipFill>
        <p:spPr>
          <a:xfrm>
            <a:off x="468360" y="1704960"/>
            <a:ext cx="8207280" cy="474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Ликвидация аварии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43" name="Picture 4" descr="x_adb5de2b88"/>
          <p:cNvPicPr/>
          <p:nvPr/>
        </p:nvPicPr>
        <p:blipFill>
          <a:blip r:embed="rId1"/>
          <a:stretch/>
        </p:blipFill>
        <p:spPr>
          <a:xfrm>
            <a:off x="468360" y="1125360"/>
            <a:ext cx="8280360" cy="539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8:12:59Z</dcterms:created>
  <dc:creator>Ф</dc:creator>
  <dc:description/>
  <dc:language>en-US</dc:language>
  <cp:lastModifiedBy>Николай</cp:lastModifiedBy>
  <dcterms:modified xsi:type="dcterms:W3CDTF">2012-02-11T08:27:53Z</dcterms:modified>
  <cp:revision>8</cp:revision>
  <dc:subject/>
  <dc:title>ЧЕРНОБЫЛЬСКАЯ АВАРИЯ</dc:title>
</cp:coreProperties>
</file>