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71E-C720-47DB-8CD2-49142E08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B85-C85D-4F3A-A468-4ACB27F1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D54-64AD-447C-B207-E2958284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55C-557A-4399-AA18-EAB4D4D4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7D7A-0245-44CA-A547-B97B4DBE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B7ABF-B842-498C-B2A5-ED645B4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2133A-0C72-4347-98B5-3C104102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29D07-C9EC-4A73-82C6-824BFBA2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1F941-E4BC-4411-818A-9844A833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759C2-68B7-4A61-B405-E52BB8B3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8AE13-1D8F-4144-A925-5EFA9BF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F88-31C4-438D-8029-6929A21C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B1B9-8D2A-43BC-9A39-46B7A16F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BD369-0546-49D6-8D31-F95C378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A57DD-754F-42FE-8266-FDB371D5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0694-9FA4-49FA-B24A-69D88AEBB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EE5A5-7E09-4887-8C98-744EC826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244-B8A8-4A17-B07F-F6E36692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951-A5E7-4FE2-B95D-18390708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2BFF-B613-4C9F-9BF1-CB320886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317-8EC3-443E-A5FF-F47390A4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30A-7892-4E5E-AB38-9020A4F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3DA-A42A-450E-B173-6A8BBF7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9B0-FF51-4005-AEC4-008E49C5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CEAE-015F-4B4F-8AAB-2DF06C7BD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9a98ba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8c8ab0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CD1-16CF-4B0A-AECE-01CF5C565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74;&#1077;&#1088;&#1090;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hernobylPlan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ChernobylMI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176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НОБЫЛЬСКАЯ</a:t>
            </a: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23" name="Picture 3" descr="400px-Chernobyl_Nuclear_Power_Plant"/>
          <p:cNvPicPr/>
          <p:nvPr/>
        </p:nvPicPr>
        <p:blipFill>
          <a:blip r:embed="rId1"/>
          <a:stretch/>
        </p:blipFill>
        <p:spPr>
          <a:xfrm>
            <a:off x="324000" y="1301760"/>
            <a:ext cx="8246880" cy="517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5" name="Picture 4" descr="x_e9e8968ca2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7" name="Picture 4" descr="Карта радиоактивного загрязнения изотопом цезия-137:    закрытые зоны (более 40 Ки/км²)   зоны постоянного контроля (15—40 Ки/км²)   зоны периодического контроля (5—15 Ки/км²)   1—15 Ки/км² "/>
          <p:cNvPicPr/>
          <p:nvPr/>
        </p:nvPicPr>
        <p:blipFill>
          <a:blip r:embed="rId1"/>
          <a:stretch/>
        </p:blipFill>
        <p:spPr>
          <a:xfrm>
            <a:off x="1042920" y="981000"/>
            <a:ext cx="7489800" cy="5472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574560" y="448560"/>
            <a:ext cx="856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арта радиоактивного загрязнения изотопом цезия-13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af"/>
                </a:solidFill>
                <a:latin typeface="Arial"/>
              </a:rPr>
              <a:t>Процентное соотношение загрязнения, создаваемого различными изотопами через некоторое время после аварии</a:t>
            </a:r>
            <a:endParaRPr b="0" lang="en-US" sz="2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0" name="Picture 4" descr="Процентное соотношение загрязнения, создаваемого различными изотопами через некоторое время после аварии"/>
          <p:cNvPicPr/>
          <p:nvPr/>
        </p:nvPicPr>
        <p:blipFill>
          <a:blip r:embed="rId1"/>
          <a:stretch/>
        </p:blipFill>
        <p:spPr>
          <a:xfrm>
            <a:off x="539640" y="1484280"/>
            <a:ext cx="784872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af"/>
                </a:solidFill>
                <a:latin typeface="Arial"/>
              </a:rPr>
              <a:t>Интенсивность внешнего гамма-облучения вблизи чернобыльской станции</a:t>
            </a:r>
            <a:endParaRPr b="0" lang="en-US" sz="2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2" name="Picture 4" descr="Интенсивность внешнего гамма-облучения вблизи чернобыльской станции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af"/>
                </a:solidFill>
                <a:latin typeface="Arial"/>
              </a:rPr>
              <a:t>Средние дозы, полученные разными категориями населения</a:t>
            </a:r>
            <a:endParaRPr b="0" lang="en-US" sz="2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7360" y="1600200"/>
            <a:ext cx="69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55640" y="1413000"/>
          <a:ext cx="7704000" cy="4352760"/>
        </p:xfrm>
        <a:graphic>
          <a:graphicData uri="http://schemas.openxmlformats.org/drawingml/2006/table">
            <a:tbl>
              <a:tblPr/>
              <a:tblGrid>
                <a:gridCol w="2516040"/>
                <a:gridCol w="1300320"/>
                <a:gridCol w="2016000"/>
                <a:gridCol w="187164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(чел.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а (</a:t>
                      </a:r>
                      <a:r>
                        <a:rPr b="0" lang="ru-RU" sz="1800" spc="-1" strike="noStrike" u="sng">
                          <a:solidFill>
                            <a:srgbClr val="6600cc"/>
                          </a:solidFill>
                          <a:uFillTx/>
                          <a:latin typeface="Arial"/>
                          <a:hlinkClick r:id="rId1"/>
                        </a:rPr>
                        <a:t>мЗ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квидато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19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вакуирован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 зон со «строгим контролем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2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 других загрязнённых з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—2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 000 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—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Памятник ликвидаторам аварии на ЧАЭС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7" name="Picture 4" descr="x_24188d50"/>
          <p:cNvPicPr/>
          <p:nvPr/>
        </p:nvPicPr>
        <p:blipFill>
          <a:blip r:embed="rId1"/>
          <a:stretch/>
        </p:blipFill>
        <p:spPr>
          <a:xfrm>
            <a:off x="1042920" y="1600200"/>
            <a:ext cx="7058160" cy="506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Памятник жертвам Чернобыля(г.Москва)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59" name="Picture 4" descr="x_a33a7ece8c"/>
          <p:cNvPicPr/>
          <p:nvPr/>
        </p:nvPicPr>
        <p:blipFill>
          <a:blip r:embed="rId1"/>
          <a:stretch/>
        </p:blipFill>
        <p:spPr>
          <a:xfrm>
            <a:off x="971640" y="1947960"/>
            <a:ext cx="7129440" cy="42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7200" y="506520"/>
            <a:ext cx="794700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Медаль ликвидаторам последствий аварии ЧАЭС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61" name="Picture 3" descr="Значок ликвидатора"/>
          <p:cNvPicPr/>
          <p:nvPr/>
        </p:nvPicPr>
        <p:blipFill>
          <a:blip r:embed="rId1"/>
          <a:stretch/>
        </p:blipFill>
        <p:spPr>
          <a:xfrm>
            <a:off x="2987640" y="1413000"/>
            <a:ext cx="280836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840" y="285480"/>
            <a:ext cx="496908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нобыльская авария — разрушение 26 апреля 1986 года четвёртого энергоблока Чернобыльской атомной электростанции расположенной на территории Украины (в то время — Украинской ССР). Разрушение носило взрывной характер, реактор был полностью разрушен, и в окружающую среду было выброшено большое количество радиоактивных веществ. Авария расценивается как крупнейшая в своём роде за всю историю ядерной энергетики, как по предполагаемому количеству погибших и пострадавших от её последствий людей, так и по экономическому ущер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диоактивное облако от аварии прошло над европейской частью СССР, Восточной Европой, Скандинавией, Великобританией и восточной частью США. Примерно 60 % радиоактивных осадков выпало на территории Белоруссии. Около 200 000 человек было эвакуировано из зон, подвергшихся загрязн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Четвёртый блок Чернобыльской АЭ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214200"/>
            <a:ext cx="356724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24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Чернобыльская авария стала событием большого общественно-политического значения для СССР. И это наложило определённый отпечаток на ход расследования её причин. Подход к интерпретации фактов и обстоятельств аварии менялся с течением времени и полностью единого мнения нет до сих пор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Характеристики АЭС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buClr>
                <a:srgbClr val="ffffa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обыльская АЭС (51°23′22″ с. ш. 30°05′59″ в. д. (G)) расположена в Украине вблизи города Припять, в 18 километрах от города Чернобыль, в 16 километрах от границы с Белоруссией и в 110 километрах от Ки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4648320" y="1484280"/>
          <a:ext cx="403848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84280"/>
                    <a:ext cx="40384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af"/>
                </a:solidFill>
                <a:latin typeface="Arial"/>
              </a:rPr>
              <a:t>Авария 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59371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но в 1:23:50 26 апреля 1986 года на 4-м энергоблоке Чернобыльской АЭС произошел взрыв, который полностью разрушил реактор. Здание энергоблока частично обрушилось, при этом, как считается, погиб 1 человек. В различных помещениях и на крыше начался пожар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В результате аварии произошёл выброс радиоактивных веществ, в том числе изотопов урана, плутония, йода-131 (период полураспада 8 дней), цезия-134 (период полураспада 2 года), цезия-137 (период полураспада 30 лет), стронция-90 (период полураспада 28 лет). Положение усугублялось тем, что в разрушенном реакторе продолжались неконтролируемые ядерные и химические (от горения запасов графита) реакции с выделения тепла с извержением из разлома в течении многих и многих дней с продуктами горения высокорадиоактивных элементов и заражении ими больших территорий. Остановить активное извержение радиоактивных веществ из разрушенного реактора удалось лишь к концу мая 1986 года мобилизацией ресурсов всего СССР и массовым переоблучением тысяч ликвида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Фотография территории вокруг Чернобыльской АЭС со станции «Мир», 27 апреля 19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720" y="260280"/>
            <a:ext cx="270504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37" name="Picture 4" descr="x_01efcd5716"/>
          <p:cNvPicPr/>
          <p:nvPr/>
        </p:nvPicPr>
        <p:blipFill>
          <a:blip r:embed="rId1"/>
          <a:stretch/>
        </p:blipFill>
        <p:spPr>
          <a:xfrm>
            <a:off x="395280" y="620640"/>
            <a:ext cx="8209080" cy="58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840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af"/>
                </a:solidFill>
                <a:latin typeface="Arial"/>
              </a:rPr>
              <a:t>ъ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39" name="Picture 4" descr="x_8c48b53a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Могильник техники (Засоха)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1" name="Picture 4" descr="x_ce8226db"/>
          <p:cNvPicPr/>
          <p:nvPr/>
        </p:nvPicPr>
        <p:blipFill>
          <a:blip r:embed="rId1"/>
          <a:stretch/>
        </p:blipFill>
        <p:spPr>
          <a:xfrm>
            <a:off x="468360" y="1704960"/>
            <a:ext cx="8207280" cy="47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af"/>
                </a:solidFill>
                <a:latin typeface="Arial"/>
              </a:rPr>
              <a:t>Ликвидация аварии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43" name="Picture 4" descr="x_adb5de2b88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8:12:59Z</dcterms:created>
  <dc:creator>Ф</dc:creator>
  <dc:description/>
  <dc:language>en-US</dc:language>
  <cp:lastModifiedBy>Николай</cp:lastModifiedBy>
  <dcterms:modified xsi:type="dcterms:W3CDTF">2012-02-11T08:27:53Z</dcterms:modified>
  <cp:revision>8</cp:revision>
  <dc:subject/>
  <dc:title>ЧЕРНОБЫЛЬСКАЯ АВАРИЯ</dc:title>
</cp:coreProperties>
</file>