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1D0B-0F8B-48BC-B0F8-B9E594C6B2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221C-8A62-4CB5-B58C-00E906783A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E1B8-E85F-485A-9100-99A6E719D8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8AC7-010E-4999-9FFB-FCBB34818D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82C4-2420-4022-998A-98B506280F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44B8-CD84-489C-B4D7-E82AD773F9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A87A-FE74-4CF3-A645-32F84A6A88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22E4-9BD5-4732-944E-B790AA4134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2FF5-9753-4A21-9F17-70E6F7B1EE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7C19-6A97-4CE5-A569-F097AC3F25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C6C8-4008-4948-90E6-03E98EEEC0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7A83-0830-40BB-B81F-FC883A4A3A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D0B3-153B-4B11-B8A8-F89B17FB21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7753-8DE6-4668-8C4D-175E464A29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A4F1-9824-48ED-A82B-6CD961F654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B534-AF5F-4B6C-A34D-2D26826D40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949C-7C36-43BF-A5DF-F1109089B6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AA8C-F2B0-460D-A0EC-810F88A73F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5114-8B7C-4EF7-9898-39FC1B9415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62B2-4C33-4113-9744-9CC059DC9A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D39C-136E-431B-A01C-4F0AEFD83A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598A-45DE-468C-A593-9C5F1E93FB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6E0F-AB59-424D-B759-3058650EA2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767C-F840-4A62-B4F4-CEEB5B8D8D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9D0D-E1C7-4553-9964-28102E134B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FDC2-DA4E-4B9D-B4B8-3C07684588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1B5-212D-42D2-A90A-BDE6809B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E8E-506E-40F5-889C-CC5BA7E6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F6F-FB97-45C9-B522-87F6B90E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E11-EE8D-4BB7-8478-9C7E575F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E7F-406E-47FE-9614-1D69680E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455-BB57-4AC5-B573-0DBA0907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C81C-3BF8-4198-A5F3-D8FAE972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6636-8FC4-4B86-9D87-A1845349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DFC9-30C3-4EF3-B757-0352B56B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1E11-FE15-4D3B-A1A6-0609F7F6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51C-4F7C-4F45-A41A-B9D69DE9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488-60BF-4FAE-B2CB-8B17B615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7186-555B-4C12-AA24-4D036566572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http://prezentacii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440" y="549000"/>
            <a:ext cx="778644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ольшой мир маленьких клеток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класс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5000760" y="600084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Дельмухаметова Л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биологии МАОУ СОШ №11 г. Калининг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K:\Клетки\19323324.jpg"/>
          <p:cNvPicPr/>
          <p:nvPr/>
        </p:nvPicPr>
        <p:blipFill>
          <a:blip r:embed="rId1"/>
          <a:stretch/>
        </p:blipFill>
        <p:spPr>
          <a:xfrm>
            <a:off x="285840" y="3002040"/>
            <a:ext cx="3214440" cy="3270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:\Клетки\25.jpg"/>
          <p:cNvPicPr/>
          <p:nvPr/>
        </p:nvPicPr>
        <p:blipFill>
          <a:blip r:embed="rId2"/>
          <a:stretch/>
        </p:blipFill>
        <p:spPr>
          <a:xfrm>
            <a:off x="428760" y="285840"/>
            <a:ext cx="257148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K:\Клетки\Animal-Cell.jpg"/>
          <p:cNvPicPr/>
          <p:nvPr/>
        </p:nvPicPr>
        <p:blipFill>
          <a:blip r:embed="rId3"/>
          <a:stretch/>
        </p:blipFill>
        <p:spPr>
          <a:xfrm>
            <a:off x="5715000" y="2857680"/>
            <a:ext cx="3000240" cy="297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K:\Клетки\47731230_Fibroblast_cells.jpg"/>
          <p:cNvPicPr/>
          <p:nvPr/>
        </p:nvPicPr>
        <p:blipFill>
          <a:blip r:embed="rId4"/>
          <a:stretch/>
        </p:blipFill>
        <p:spPr>
          <a:xfrm>
            <a:off x="3500280" y="630360"/>
            <a:ext cx="2302200" cy="182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K:\Клетки\neuronas1.jpg"/>
          <p:cNvPicPr/>
          <p:nvPr/>
        </p:nvPicPr>
        <p:blipFill>
          <a:blip r:embed="rId5"/>
          <a:stretch/>
        </p:blipFill>
        <p:spPr>
          <a:xfrm>
            <a:off x="6143760" y="285840"/>
            <a:ext cx="2836800" cy="1982520"/>
          </a:xfrm>
          <a:prstGeom prst="rect">
            <a:avLst/>
          </a:prstGeom>
          <a:ln w="0">
            <a:noFill/>
          </a:ln>
        </p:spPr>
      </p:pic>
      <p:sp>
        <p:nvSpPr>
          <p:cNvPr id="55" name="Рамка 8"/>
          <p:cNvSpPr/>
          <p:nvPr/>
        </p:nvSpPr>
        <p:spPr>
          <a:xfrm>
            <a:off x="3521160" y="0"/>
            <a:ext cx="2286000" cy="428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ение- лучшее уч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99680" y="1000080"/>
            <a:ext cx="79009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рганоиды клет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части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итоплаз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реда для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ение- лучшее уч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99680" y="1000080"/>
            <a:ext cx="79009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рганоиды кле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тохондр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еть каналов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трубоче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мплекс (аппарат) Гольдж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акуо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лороплас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зос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ение- лучшее уч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000080"/>
            <a:ext cx="79009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рганоиды кле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тохондрия-дыхание, образование энер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еть каналов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трубоче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- транспорт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мплекс (аппарат) Гольдж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накопление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акуоль – пузырь с раствором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лоропласт –образование сахара, кислор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зосома- пищева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какого греческого слова произошло слово «хлоропласт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тий лишн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дро, цитоплазма, хлоропла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олни схем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зосома: пищеварение = митохондрия: 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в старых клетках много  лизосо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йствующие лиц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назови части и органоиды клет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АРЬ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Вельмож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ой Вельмож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тий Вельмож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твертый Вельмож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ятый Вельмож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естой Вельмож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СУДАРСТВО-КЛЕ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царстве, что ни дать , ни взя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микроскопе лишь вида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ключилась небольш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 история так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х прошел, что государ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й сторонки малой цар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себя собрал совет и потребовал отв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о в его сторонке малой (не сказать, что захудало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й главный из вельмож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на что тот франт похож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ый Вельмо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на страже государ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нь и ночь стою без с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его оберегаю, без прикрас скажу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ит мне покинуть служб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замечу вам, что тут 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очиться контрабан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и вдруг нагрянет бан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торой Вельмо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асаюсь всем, чем над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биваю свой же скла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за это я име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чень скромненький окла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етий Вельмо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точить государство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ему придет конец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тут главный? Что, ребя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яснили , наконец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твертый Вельмо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з энергии , конечн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тупила бы бед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завод переработки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разве ерунда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летка- это своего рода атом в биолог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жон Кендр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ятый Вельмо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производим, без всяких хлоп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ый для всех газ - кислор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углеводы, что, скажем заране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ые очень продукты пи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естой  Вельмо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буду краткой, все уста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я хочу, чтоб все узна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все перевозки от двери до две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осуществляем совсем без поте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аз доставят в  срок специалист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ботают четко, красиво и быстр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то же самый главны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чему ты так думаеш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ы к тес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: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: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: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:1-а, 2-в, 3-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: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: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: хлоропла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K:\Минипуты\06.jpg"/>
          <p:cNvPicPr/>
          <p:nvPr/>
        </p:nvPicPr>
        <p:blipFill>
          <a:blip r:embed="rId1"/>
          <a:stretch/>
        </p:blipFill>
        <p:spPr>
          <a:xfrm>
            <a:off x="5572080" y="3929040"/>
            <a:ext cx="3286080" cy="2414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ть текст параграф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ить на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квей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тешествие микропутов в клетке (сочинени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Рамка 4"/>
          <p:cNvSpPr/>
          <p:nvPr/>
        </p:nvSpPr>
        <p:spPr>
          <a:xfrm>
            <a:off x="3521160" y="0"/>
            <a:ext cx="2286000" cy="428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71280" y="-71280"/>
            <a:ext cx="8929800" cy="6881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500040" y="557208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узнать во сколько раз увеличивает микроско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500040" y="5857920"/>
            <a:ext cx="1000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первый увидел клетки в микроско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Изготовление препарата клеток кожицы чешуи луковицы лу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698480" y="1600200"/>
            <a:ext cx="5747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летки кожицы лука </a:t>
            </a:r>
            <a:br>
              <a:rPr sz="3600"/>
            </a:br>
            <a:r>
              <a:rPr b="1" lang="ru-RU" sz="3100" spc="-1" strike="noStrike">
                <a:solidFill>
                  <a:srgbClr val="0070c0"/>
                </a:solidFill>
                <a:latin typeface="Calibri"/>
              </a:rPr>
              <a:t>(микрофотография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000080" y="1000080"/>
            <a:ext cx="5589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кажи, что это клетка…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5000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C:\Documents and Settings\Archie\Рабочий стол\01_1.bmp"/>
          <p:cNvPicPr/>
          <p:nvPr/>
        </p:nvPicPr>
        <p:blipFill>
          <a:blip r:embed="rId1"/>
          <a:stretch/>
        </p:blipFill>
        <p:spPr>
          <a:xfrm>
            <a:off x="285840" y="1857240"/>
            <a:ext cx="4786200" cy="454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Documents and Settings\Archie\Рабочий стол\02_2.bmp"/>
          <p:cNvPicPr/>
          <p:nvPr/>
        </p:nvPicPr>
        <p:blipFill>
          <a:blip r:embed="rId2"/>
          <a:stretch/>
        </p:blipFill>
        <p:spPr>
          <a:xfrm>
            <a:off x="5429160" y="1643040"/>
            <a:ext cx="34290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разновидностей клеток в организме челове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виды клеток человека ты знаеш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в живом организме так много разных видов клет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полни предло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м обладает следующими признаками: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так как живой организм состоит из клеток, то и клетки должны 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поэтому их строение должно быть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1071720" y="928800"/>
            <a:ext cx="671508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9-24T19:39:48Z</dcterms:modified>
  <cp:revision>81</cp:revision>
  <dc:subject/>
  <dc:title>Лабораторная работа «Изготовление препарата клеток кожицы чешуи луковицы лука» </dc:title>
</cp:coreProperties>
</file>