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D030-A6D8-42E2-A1D1-CB31389A9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C27-1B6D-40A6-B17B-BFED6374A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C01E-3E0E-4E33-8BCF-70D55BE10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F11-A896-4891-B6C5-A685E7485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F04E-8B91-47C3-BEA1-E1DE5D7BE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BC7-D8AF-41F5-B08D-C5A019A39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64B1-A2AC-4710-94D1-F40E83699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9AA2-AE75-4428-B67C-017FEA763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623F-EA14-4C3E-8175-F05376AE6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F502-3292-43B1-B5A4-014038C22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D404-9867-4C9C-A444-E7C65828C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E5D7-97A6-44FB-83CB-A39E715C4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241-FB7C-43A2-922E-1A5B8F326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414-BE5E-4C9B-9F66-12CA6FD0F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B3B-3B26-48B4-B820-2921700C7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53E0-A247-4BE7-8DBA-3C4CCE134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AEEE-0B4A-41BD-AFAD-3CF0EE00F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985-6CE0-40E0-865F-063972C87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126-2D56-4FF7-BF61-EACF719CA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3D4A-4B91-4A1C-9252-2E92D3742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E35-C3C5-4CF5-AF61-C995BCD05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4B78-B024-4955-9DD7-88878B43F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9EEA-2F8D-487A-B072-185D7A629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4F0A-88E6-43CB-93DA-EB3FCF650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519C-E550-4534-94B9-3E4A0FA62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E7F3-4364-4DB9-9A7A-315D3BAEA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0A8-E838-4FB7-8FFD-A9B8ED40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E5F-E289-4783-BC4A-C423AB62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8D3-686C-44AF-AA8D-0CD619B4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52A-C3F3-4A31-9FAC-34CE0F36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B13-08D4-4687-8E6E-792F8E3B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98F-7861-400B-81CE-A7DB7E5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FC1-E3CC-4D02-860A-A8492E0F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208-7EF1-4C03-8BDF-5BF300FB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98F-36B6-4F62-ABCA-F2681A0F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B1E-7911-4C0B-B266-927C6E2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BF6-8349-4144-BE2D-FD337FC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29C-302C-4049-8718-2C1B6890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150C-E77D-4049-8C35-D27C59A34F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prezentacii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440" y="549000"/>
            <a:ext cx="77864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льшой мир маленьких клеток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клас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000760" y="600084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ельмухамето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МАОУ СОШ №11 г. Калинин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K:\Клетки\19323324.jpg"/>
          <p:cNvPicPr/>
          <p:nvPr/>
        </p:nvPicPr>
        <p:blipFill>
          <a:blip r:embed="rId1"/>
          <a:stretch/>
        </p:blipFill>
        <p:spPr>
          <a:xfrm>
            <a:off x="285840" y="3002040"/>
            <a:ext cx="3214440" cy="327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:\Клетки\25.jpg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:\Клетки\Animal-Cell.jpg"/>
          <p:cNvPicPr/>
          <p:nvPr/>
        </p:nvPicPr>
        <p:blipFill>
          <a:blip r:embed="rId3"/>
          <a:stretch/>
        </p:blipFill>
        <p:spPr>
          <a:xfrm>
            <a:off x="5715000" y="2857680"/>
            <a:ext cx="3000240" cy="29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K:\Клетки\47731230_Fibroblast_cells.jpg"/>
          <p:cNvPicPr/>
          <p:nvPr/>
        </p:nvPicPr>
        <p:blipFill>
          <a:blip r:embed="rId4"/>
          <a:stretch/>
        </p:blipFill>
        <p:spPr>
          <a:xfrm>
            <a:off x="3500280" y="630360"/>
            <a:ext cx="2302200" cy="18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K:\Клетки\neuronas1.jpg"/>
          <p:cNvPicPr/>
          <p:nvPr/>
        </p:nvPicPr>
        <p:blipFill>
          <a:blip r:embed="rId5"/>
          <a:stretch/>
        </p:blipFill>
        <p:spPr>
          <a:xfrm>
            <a:off x="6143760" y="285840"/>
            <a:ext cx="2836800" cy="1982520"/>
          </a:xfrm>
          <a:prstGeom prst="rect">
            <a:avLst/>
          </a:prstGeom>
          <a:ln w="0">
            <a:noFill/>
          </a:ln>
        </p:spPr>
      </p:pic>
      <p:sp>
        <p:nvSpPr>
          <p:cNvPr id="55" name="Рамка 8"/>
          <p:cNvSpPr/>
          <p:nvPr/>
        </p:nvSpPr>
        <p:spPr>
          <a:xfrm>
            <a:off x="3521160" y="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асти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итоплаз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реда для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ть канало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трубоч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лекс (аппарат) Гольдж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куо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ропла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зос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тохондрия-дыхание, образование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ть канало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трубоч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- транспорт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лекс (аппарат) Гольдж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накопление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куоль – пузырь с раствором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ропласт –образование сахара, кисло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зосома- пищева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какого греческого слова произошло слово «хлоропласт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лиш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ро, цитоплазма, хлоропл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 сх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зосома: пищеварение = митохондрия: 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в старых клетках много  лизос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ствующие лиц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азови части и органоиды клет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АРЬ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верт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ят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сто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УДАРСТВО-КЛЕ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арстве, что ни дать , ни взя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икроскопе лишь вид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ючилась небольш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 история так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х прошел, что государ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й сторонки малой ца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себя собрал совет и потребовал отв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в его сторонке малой (не сказать, что захудал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главный из вельмож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на что тот франт похож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 страже госуда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 и ночь стою без с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его оберегаю, без прикрас скажу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т мне покинуть служб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замечу вам, что тут 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очиться контрабан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вдруг нагрянет бан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о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саюсь всем, чем над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иваю свой же скла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 это я име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скромненький окл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ти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точить государств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ему придет конец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тут главный? Что, ребя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снили , наконе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тверт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энергии , конечн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упила бы бе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завод переработк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разве ерунда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летка- это своего рода атом в биолог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жон Кендр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ят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оизводим, без всяких хлоп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й для всех газ - кислор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углеводы, что, скажем заран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е очень продукты 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естой 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буду краткой, все уст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я хочу, чтоб все узн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все перевозки от двери до две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осуществляем совсем без пот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з доставят в  срок специалис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ботают четко, красиво и быст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же самый главн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чему ты так думаеш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: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: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:1-а, 2-в, 3-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: хлоропл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K:\Минипуты\06.jpg"/>
          <p:cNvPicPr/>
          <p:nvPr/>
        </p:nvPicPr>
        <p:blipFill>
          <a:blip r:embed="rId1"/>
          <a:stretch/>
        </p:blipFill>
        <p:spPr>
          <a:xfrm>
            <a:off x="5572080" y="3929040"/>
            <a:ext cx="3286080" cy="2414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текст парагра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кве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шествие микропутов в клетке (сочинени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мка 4"/>
          <p:cNvSpPr/>
          <p:nvPr/>
        </p:nvSpPr>
        <p:spPr>
          <a:xfrm>
            <a:off x="3521160" y="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1280" y="-71280"/>
            <a:ext cx="8929800" cy="6881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00040" y="55720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знать во сколько раз увеличивает микроск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00040" y="5857920"/>
            <a:ext cx="100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первый увидел клетки в микроск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готовление препарата клеток кожицы чешуи луковицы лу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98480" y="1600200"/>
            <a:ext cx="5747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летки кожицы лука </a:t>
            </a:r>
            <a:br>
              <a:rPr sz="3600"/>
            </a:br>
            <a:r>
              <a:rPr b="1" lang="ru-RU" sz="3100" spc="-1" strike="noStrike">
                <a:solidFill>
                  <a:srgbClr val="0070c0"/>
                </a:solidFill>
                <a:latin typeface="Calibri"/>
              </a:rPr>
              <a:t>(микрофотография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00080" y="1000080"/>
            <a:ext cx="5589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ажи, что это клетка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5000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:\Documents and Settings\Archie\Рабочий стол\01_1.bmp"/>
          <p:cNvPicPr/>
          <p:nvPr/>
        </p:nvPicPr>
        <p:blipFill>
          <a:blip r:embed="rId1"/>
          <a:stretch/>
        </p:blipFill>
        <p:spPr>
          <a:xfrm>
            <a:off x="285840" y="1857240"/>
            <a:ext cx="4786200" cy="454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Archie\Рабочий стол\02_2.bmp"/>
          <p:cNvPicPr/>
          <p:nvPr/>
        </p:nvPicPr>
        <p:blipFill>
          <a:blip r:embed="rId2"/>
          <a:stretch/>
        </p:blipFill>
        <p:spPr>
          <a:xfrm>
            <a:off x="5429160" y="1643040"/>
            <a:ext cx="3429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разновидностей клеток в организме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иды клеток человека ты знае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в живом организме так много разных видов кле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м обладает следующими признаками: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 как живой организм состоит из клеток, то и клетки должны 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этому их строение должно быть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071720" y="928800"/>
            <a:ext cx="67150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24T19:39:48Z</dcterms:modified>
  <cp:revision>81</cp:revision>
  <dc:subject/>
  <dc:title>Лабораторная работа «Изготовление препарата клеток кожицы чешуи луковицы лука» </dc:title>
</cp:coreProperties>
</file>