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69D-7CBD-4B77-9454-316E4A355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CD7-42DF-47B9-A6D1-BC9B1B3EC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DA3A-874A-4BE5-8598-FA7F516FB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0B1B-884D-4697-9465-580E95116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552-AC5F-476F-B92E-24EFD3D68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9A2-A80F-44E6-9701-16453E1AE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B0D-0E5D-44B4-BFC0-1338CBD7B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884E-A0A8-4358-B1A1-05A06209E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3EB8-D019-4727-8983-D43B13386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76A3-7EDE-404C-95EF-5919C13D6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C93-6210-4A28-8D81-5CA80955B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291-D87B-46B8-8E7A-721C927D2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63C-D149-403F-8E35-7E2EF493A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922-55A7-44A8-86A5-8355FA33E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6C6-AA5C-40AB-9F89-9248D8C90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9B5-A31C-41C9-BADC-1CEB4023C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759-4F73-442B-BEC1-F4B975957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2B3-CFB2-4B88-B3E5-77CF1B01B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881-DD4F-421C-BF30-0D34260CB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11AF-7BBC-4951-B49F-3B1730180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DD1-447E-4CA0-BB34-485209417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F39-20D5-4B04-870B-F9A3150CA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294-EC60-4CC6-9DD8-6067476D7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7766-2BDE-4348-9B94-B0B6280C4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8A5-D8F0-4640-8205-2C10FC60D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536-0058-42BB-8851-9D0EED8AC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E53-92C6-4B46-87CB-36CB38C2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FF0-6591-4D57-A42E-8680027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6B8-E36E-4D86-A3F5-20C8F560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4F7-3603-4A3C-A063-9C3D59EE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CD7-91CC-4E97-8AE0-6BF057DA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C87-4394-4A6E-8A28-768221CD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64C-865E-47D6-A8E5-CB37F79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9D2-86CF-431D-9DF0-9058BA6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5A3-0EA5-4CCB-AC8A-BAF0F95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A75-2FC4-442A-883B-BF23D75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7B9-A715-4E99-8477-03B37B2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135-5460-41EE-B592-EAD6FF0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330-CD40-4508-BFB7-511C0EBBF8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549000"/>
            <a:ext cx="77864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ьшой мир маленьких клеток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000760" y="600084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льмухамет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АОУ СОШ №11 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:\Клетки\19323324.jpg"/>
          <p:cNvPicPr/>
          <p:nvPr/>
        </p:nvPicPr>
        <p:blipFill>
          <a:blip r:embed="rId1"/>
          <a:stretch/>
        </p:blipFill>
        <p:spPr>
          <a:xfrm>
            <a:off x="285840" y="3002040"/>
            <a:ext cx="3214440" cy="327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:\Клетки\25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:\Клетки\Animal-Cell.jpg"/>
          <p:cNvPicPr/>
          <p:nvPr/>
        </p:nvPicPr>
        <p:blipFill>
          <a:blip r:embed="rId3"/>
          <a:stretch/>
        </p:blipFill>
        <p:spPr>
          <a:xfrm>
            <a:off x="5715000" y="2857680"/>
            <a:ext cx="3000240" cy="29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K:\Клетки\47731230_Fibroblast_cells.jpg"/>
          <p:cNvPicPr/>
          <p:nvPr/>
        </p:nvPicPr>
        <p:blipFill>
          <a:blip r:embed="rId4"/>
          <a:stretch/>
        </p:blipFill>
        <p:spPr>
          <a:xfrm>
            <a:off x="3500280" y="630360"/>
            <a:ext cx="2302200" cy="18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K:\Клетки\neuronas1.jpg"/>
          <p:cNvPicPr/>
          <p:nvPr/>
        </p:nvPicPr>
        <p:blipFill>
          <a:blip r:embed="rId5"/>
          <a:stretch/>
        </p:blipFill>
        <p:spPr>
          <a:xfrm>
            <a:off x="6143760" y="285840"/>
            <a:ext cx="2836800" cy="1982520"/>
          </a:xfrm>
          <a:prstGeom prst="rect">
            <a:avLst/>
          </a:prstGeom>
          <a:ln w="0">
            <a:noFill/>
          </a:ln>
        </p:spPr>
      </p:pic>
      <p:sp>
        <p:nvSpPr>
          <p:cNvPr id="55" name="Рамка 8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асти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топла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реда для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ение- лучшее у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00008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оиды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тохондрия-дыхание, образование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ть канало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трубоч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- транспорт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плекс (аппарат) Гольдж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накопление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куоль – пузырь с раствором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ропласт –образование сахара, кисл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зосома- пищева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какого греческого слова произошло слово «хлоропласт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лиш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о, цитоплазма,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 сх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зосома: пищеварение = митохондрия: 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 старых клетках много  лизос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ующие лиц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азови части и органоиды кле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ер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ы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Вельмож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УДАРСТВО-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арстве, что ни дать , ни взя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икроскопе лишь вид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ключилась не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 история так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х прошел, что государ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й сторонки малой ца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ебя собрал совет и потребовал 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в его сторонке малой (не сказать, что захудал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главный из вельм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на что тот франт похож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 страже госуд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 и ночь стою без 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го оберегаю, без прикрас скажу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т мне покинуть служб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замечу вам, что тут 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очиться контрабан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вдруг нагрянет бан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о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саюсь всем, чем над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иваю свой же скл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 это я име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скромненький окл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и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точить государств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ему придет конец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тут главный? Что, ребя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снили , након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твер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энергии , конеч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упила бы бе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завод переработк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разве ерунда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летка- это своего рода атом в биолог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он Кендр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ятый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оизводим, без всяких хлоп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й для всех газ - кислор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глеводы, что, скажем заран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е очень продукты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естой  Вельм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буду краткой, все уст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я хочу, чтоб все узн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се перевозки от двери до дв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осуществляем совсем без по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з доставят в  срок специалис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ботают четко, красиво и быс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же самый главн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ты так думае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: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:1-а, 2-в, 3-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: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: хлоропл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K:\Минипуты\06.jpg"/>
          <p:cNvPicPr/>
          <p:nvPr/>
        </p:nvPicPr>
        <p:blipFill>
          <a:blip r:embed="rId1"/>
          <a:stretch/>
        </p:blipFill>
        <p:spPr>
          <a:xfrm>
            <a:off x="5572080" y="3929040"/>
            <a:ext cx="3286080" cy="2414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текст парагра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кве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ие микропутов в клетке (сочинени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мка 4"/>
          <p:cNvSpPr/>
          <p:nvPr/>
        </p:nvSpPr>
        <p:spPr>
          <a:xfrm>
            <a:off x="3521160" y="0"/>
            <a:ext cx="228600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1280" y="-71280"/>
            <a:ext cx="8929800" cy="6881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00040" y="55720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знать во сколько раз увеличивает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0040" y="5857920"/>
            <a:ext cx="100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ервый увидел клетки в микроск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готовление препарата клеток кожицы чешуи луковицы лу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98480" y="1600200"/>
            <a:ext cx="574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етки кожицы лука </a:t>
            </a:r>
            <a:br>
              <a:rPr sz="3600"/>
            </a:br>
            <a:r>
              <a:rPr b="1" lang="ru-RU" sz="3100" spc="-1" strike="noStrike">
                <a:solidFill>
                  <a:srgbClr val="0070c0"/>
                </a:solidFill>
                <a:latin typeface="Calibri"/>
              </a:rPr>
              <a:t>(микрофотография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558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ажи, что это клетка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5000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Documents and Settings\Archie\Рабочий стол\01_1.bmp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54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rchie\Рабочий стол\02_2.bmp"/>
          <p:cNvPicPr/>
          <p:nvPr/>
        </p:nvPicPr>
        <p:blipFill>
          <a:blip r:embed="rId2"/>
          <a:stretch/>
        </p:blipFill>
        <p:spPr>
          <a:xfrm>
            <a:off x="5429160" y="1643040"/>
            <a:ext cx="3429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разновидностей клеток в организме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иды клеток человека ты зна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в живом организме так много разных видов кле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 обладает следующими признаками: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 как живой организм состоит из клеток, то и клетки должны 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этому их строение должно быть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071720" y="928800"/>
            <a:ext cx="6715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4T19:39:48Z</dcterms:modified>
  <cp:revision>81</cp:revision>
  <dc:subject/>
  <dc:title>Лабораторная работа «Изготовление препарата клеток кожицы чешуи луковицы лука» </dc:title>
</cp:coreProperties>
</file>