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1B4-7CB0-4BE4-993A-E0B42A31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EEFE-AB37-47F5-A799-FD747CFD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4B0-0C6D-441C-8695-7C586118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29A3-47F4-4A5B-BB9B-4CA5B0EB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082-D805-4748-9C6F-B4D80E5C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113-933E-46CB-A431-0B58FE3E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4FD7-FD64-4BFD-B1BD-1C2FD712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FDDC-1F71-422E-A930-0937002E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A1D0-EA5E-4B6A-B003-A8F7EB2D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4D1-14C0-4C41-9904-D201540D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BE74-8B2C-4566-998C-0D0C1B96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816-41A0-43A2-A0F5-77DADBA4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A83B-A566-434D-A9C5-B9F217A080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" Target="slide19.xml"/><Relationship Id="rId10" Type="http://schemas.openxmlformats.org/officeDocument/2006/relationships/slide" Target="slide21.xml"/><Relationship Id="rId11" Type="http://schemas.openxmlformats.org/officeDocument/2006/relationships/slide" Target="slide23.xml"/><Relationship Id="rId12" Type="http://schemas.openxmlformats.org/officeDocument/2006/relationships/slide" Target="slide25.xml"/><Relationship Id="rId13" Type="http://schemas.openxmlformats.org/officeDocument/2006/relationships/slide" Target="slide27.xml"/><Relationship Id="rId14" Type="http://schemas.openxmlformats.org/officeDocument/2006/relationships/slide" Target="slide29.xml"/><Relationship Id="rId15" Type="http://schemas.openxmlformats.org/officeDocument/2006/relationships/slide" Target="slide31.xml"/><Relationship Id="rId16" Type="http://schemas.openxmlformats.org/officeDocument/2006/relationships/slide" Target="slide33.xml"/><Relationship Id="rId17" Type="http://schemas.openxmlformats.org/officeDocument/2006/relationships/slide" Target="slide35.xml"/><Relationship Id="rId18" Type="http://schemas.openxmlformats.org/officeDocument/2006/relationships/slide" Target="slide37.xml"/><Relationship Id="rId19" Type="http://schemas.openxmlformats.org/officeDocument/2006/relationships/slide" Target="slide39.xml"/><Relationship Id="rId20" Type="http://schemas.openxmlformats.org/officeDocument/2006/relationships/slide" Target="slide41.xml"/><Relationship Id="rId21" Type="http://schemas.openxmlformats.org/officeDocument/2006/relationships/slide" Target="slide43.xml"/><Relationship Id="rId22" Type="http://schemas.openxmlformats.org/officeDocument/2006/relationships/slide" Target="slide45.xml"/><Relationship Id="rId23" Type="http://schemas.openxmlformats.org/officeDocument/2006/relationships/slide" Target="slide47.xml"/><Relationship Id="rId24" Type="http://schemas.openxmlformats.org/officeDocument/2006/relationships/slide" Target="slide49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36560"/>
            <a:ext cx="7486560" cy="14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Биотические связи в 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природ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173560"/>
            <a:ext cx="9144000" cy="12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Своя игра» по биологии  для учеников 9 кла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bcbff"/>
                </a:solidFill>
                <a:latin typeface="Times New Roman"/>
              </a:rPr>
              <a:t>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303120" y="6024600"/>
            <a:ext cx="44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ff"/>
                </a:solidFill>
                <a:latin typeface="Times New Roman"/>
                <a:ea typeface="Times New Roman"/>
              </a:rPr>
              <a:t>©</a:t>
            </a:r>
            <a:r>
              <a:rPr b="0" lang="ru-RU" sz="1800" spc="-1" strike="noStrike">
                <a:solidFill>
                  <a:srgbClr val="cbcbff"/>
                </a:solidFill>
                <a:latin typeface="Times New Roman"/>
              </a:rPr>
              <a:t>Пильщикова Натал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bcbff"/>
                </a:solidFill>
                <a:latin typeface="Times New Roman"/>
              </a:rPr>
              <a:t>Владимировна,2009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4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03640" y="1999800"/>
            <a:ext cx="337824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Конкурен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95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97" name="Picture 12" descr="106"/>
          <p:cNvPicPr/>
          <p:nvPr/>
        </p:nvPicPr>
        <p:blipFill>
          <a:blip r:embed="rId2"/>
          <a:stretch/>
        </p:blipFill>
        <p:spPr>
          <a:xfrm>
            <a:off x="611280" y="1916280"/>
            <a:ext cx="451620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87640" y="1981080"/>
            <a:ext cx="36702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Развитие азотфиксирующих клубеньковых бактерий на корнях бобовых растений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101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2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03" name="Picture 9" descr="134"/>
          <p:cNvPicPr/>
          <p:nvPr/>
        </p:nvPicPr>
        <p:blipFill>
          <a:blip r:embed="rId2"/>
          <a:stretch/>
        </p:blipFill>
        <p:spPr>
          <a:xfrm>
            <a:off x="1692360" y="1916280"/>
            <a:ext cx="23810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5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360" y="1981080"/>
            <a:ext cx="374184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симбио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Группа 10"/>
          <p:cNvGrpSpPr/>
          <p:nvPr/>
        </p:nvGrpSpPr>
        <p:grpSpPr>
          <a:xfrm>
            <a:off x="1332000" y="5950080"/>
            <a:ext cx="1066680" cy="488880"/>
            <a:chOff x="1332000" y="5950080"/>
            <a:chExt cx="1066680" cy="488880"/>
          </a:xfrm>
        </p:grpSpPr>
        <p:sp>
          <p:nvSpPr>
            <p:cNvPr id="107" name="Стрелка влево 7"/>
            <p:cNvSpPr/>
            <p:nvPr/>
          </p:nvSpPr>
          <p:spPr>
            <a:xfrm>
              <a:off x="1332000" y="595008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" name="TextBox 8"/>
            <p:cNvSpPr/>
            <p:nvPr/>
          </p:nvSpPr>
          <p:spPr>
            <a:xfrm>
              <a:off x="1469160" y="608148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09" name="Picture 9" descr="134"/>
          <p:cNvPicPr/>
          <p:nvPr/>
        </p:nvPicPr>
        <p:blipFill>
          <a:blip r:embed="rId2"/>
          <a:stretch/>
        </p:blipFill>
        <p:spPr>
          <a:xfrm>
            <a:off x="1692360" y="1916280"/>
            <a:ext cx="23810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87640" y="2205000"/>
            <a:ext cx="3738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аиболее распространенными биотическими связями в животном мире являю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113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15" name="Picture 9" descr="124"/>
          <p:cNvPicPr/>
          <p:nvPr/>
        </p:nvPicPr>
        <p:blipFill>
          <a:blip r:embed="rId2"/>
          <a:stretch/>
        </p:blipFill>
        <p:spPr>
          <a:xfrm>
            <a:off x="1116000" y="2133720"/>
            <a:ext cx="352908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1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8360" y="1915920"/>
            <a:ext cx="3520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отношения хищник - жер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119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21" name="Picture 9" descr="124"/>
          <p:cNvPicPr/>
          <p:nvPr/>
        </p:nvPicPr>
        <p:blipFill>
          <a:blip r:embed="rId2"/>
          <a:stretch/>
        </p:blipFill>
        <p:spPr>
          <a:xfrm>
            <a:off x="1116000" y="2133720"/>
            <a:ext cx="352908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640" y="1916280"/>
            <a:ext cx="36720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е содержат хлорофилла и развивают присоски растения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125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7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128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2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30" name="Picture 12" descr="127"/>
          <p:cNvPicPr/>
          <p:nvPr/>
        </p:nvPicPr>
        <p:blipFill>
          <a:blip r:embed="rId3"/>
          <a:stretch/>
        </p:blipFill>
        <p:spPr>
          <a:xfrm>
            <a:off x="1116000" y="1844640"/>
            <a:ext cx="37450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2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8920" y="1773000"/>
            <a:ext cx="366732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Парази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134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36" name="Picture 9" descr="127"/>
          <p:cNvPicPr/>
          <p:nvPr/>
        </p:nvPicPr>
        <p:blipFill>
          <a:blip r:embed="rId2"/>
          <a:stretch/>
        </p:blipFill>
        <p:spPr>
          <a:xfrm>
            <a:off x="1116000" y="1844640"/>
            <a:ext cx="37450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27640" y="1557000"/>
            <a:ext cx="4465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Случайный или намеренный перенос какого-либо вида из одной области обитания в другую может привести к интенсивному размножению в новых условиях. Например, непарный шелкопряд в Америке, кролики в Австралии, элодея и водный гиацинт в Европе. Объясните, почему это происход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820000" y="4221000"/>
            <a:ext cx="360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40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141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43" name="Picture 10" descr="122"/>
          <p:cNvPicPr/>
          <p:nvPr/>
        </p:nvPicPr>
        <p:blipFill>
          <a:blip r:embed="rId2"/>
          <a:stretch/>
        </p:blipFill>
        <p:spPr>
          <a:xfrm>
            <a:off x="826920" y="1557360"/>
            <a:ext cx="367380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3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6360" y="1981080"/>
            <a:ext cx="338148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Отсутствие естественных врагов – хищников и парази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147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49" name="Picture 9" descr="122"/>
          <p:cNvPicPr/>
          <p:nvPr/>
        </p:nvPicPr>
        <p:blipFill>
          <a:blip r:embed="rId2"/>
          <a:stretch/>
        </p:blipFill>
        <p:spPr>
          <a:xfrm>
            <a:off x="900000" y="1916280"/>
            <a:ext cx="367344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1640" y="1980720"/>
            <a:ext cx="388620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Среди зеленых растений, способных к нормальному фотосинтезу, есть насекомоядные. Что является причиной их хищничества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153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55" name="Picture 10" descr="136"/>
          <p:cNvPicPr/>
          <p:nvPr/>
        </p:nvPicPr>
        <p:blipFill>
          <a:blip r:embed="rId2"/>
          <a:stretch/>
        </p:blipFill>
        <p:spPr>
          <a:xfrm>
            <a:off x="1258920" y="1700280"/>
            <a:ext cx="32972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042920" y="907920"/>
          <a:ext cx="7201080" cy="4865760"/>
        </p:xfrm>
        <a:graphic>
          <a:graphicData uri="http://schemas.openxmlformats.org/drawingml/2006/table">
            <a:tbl>
              <a:tblPr/>
              <a:tblGrid>
                <a:gridCol w="2521080"/>
                <a:gridCol w="946080"/>
                <a:gridCol w="947880"/>
                <a:gridCol w="947520"/>
                <a:gridCol w="949320"/>
                <a:gridCol w="889200"/>
              </a:tblGrid>
              <a:tr h="96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Типы биотических связей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4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5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65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Хищничество и паразитизм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3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4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5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63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Взаимовыгодные отношения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1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5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Односторонние связи и конкуренция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1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2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6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Биоценозы и пищевые сети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1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2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3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4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0</a:t>
                      </a:r>
                      <a:endParaRPr b="1" i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99"/>
                      </a:solidFill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45" name="Rectangle 497"/>
          <p:cNvSpPr/>
          <p:nvPr/>
        </p:nvSpPr>
        <p:spPr>
          <a:xfrm>
            <a:off x="0" y="472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4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3280" y="1916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Способность ловить насекомых и переваривать добычу свойственна растениям, произрастающим на бедных азотом почвах. В умеренной зоне это распространенные на болотах мухоловка и рося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159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61" name="Picture 10" descr="102"/>
          <p:cNvPicPr/>
          <p:nvPr/>
        </p:nvPicPr>
        <p:blipFill>
          <a:blip r:embed="rId2"/>
          <a:stretch/>
        </p:blipFill>
        <p:spPr>
          <a:xfrm>
            <a:off x="611280" y="2060640"/>
            <a:ext cx="403200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87640" y="1916280"/>
            <a:ext cx="3738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При массовом отстреле хищных птиц (филинов, ястребов) численность куропаток и тетеревов снижается; при уничтожении волков снижается численность оленей. Объясните приведенные приме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165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67" name="Picture 12" descr="125"/>
          <p:cNvPicPr/>
          <p:nvPr/>
        </p:nvPicPr>
        <p:blipFill>
          <a:blip r:embed="rId2"/>
          <a:stretch/>
        </p:blipFill>
        <p:spPr>
          <a:xfrm>
            <a:off x="611280" y="2060640"/>
            <a:ext cx="4275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Хищничество и паразитизм 5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859280" y="1916280"/>
            <a:ext cx="38829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Хищники контролируют численность популяции жертв, уничтожая в первую очередь больных и слабых . Бесконтрольное размножение жертв сопровождается уменьшением запаса кормов и возникновением эпидемий, что снижает численность популяции интенсивнее любых хищ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171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73" name="Picture 9" descr="125"/>
          <p:cNvPicPr/>
          <p:nvPr/>
        </p:nvPicPr>
        <p:blipFill>
          <a:blip r:embed="rId2"/>
          <a:stretch/>
        </p:blipFill>
        <p:spPr>
          <a:xfrm>
            <a:off x="611280" y="2060640"/>
            <a:ext cx="4275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100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58920" y="1981080"/>
            <a:ext cx="359892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Почему белые грибы нельзя выращивать как шампиньоны, но можно найти в дубраве или ельнике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177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8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79" name="Picture 9" descr="112"/>
          <p:cNvPicPr/>
          <p:nvPr/>
        </p:nvPicPr>
        <p:blipFill>
          <a:blip r:embed="rId2"/>
          <a:stretch/>
        </p:blipFill>
        <p:spPr>
          <a:xfrm>
            <a:off x="826920" y="2060640"/>
            <a:ext cx="3840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100 (ответ)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87640" y="1980720"/>
            <a:ext cx="367020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Белые грибы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по способу питания являются симбионтами, образующими  с корнями деревьев микориз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183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4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85" name="Picture 9" descr="104"/>
          <p:cNvPicPr/>
          <p:nvPr/>
        </p:nvPicPr>
        <p:blipFill>
          <a:blip r:embed="rId2"/>
          <a:stretch/>
        </p:blipFill>
        <p:spPr>
          <a:xfrm>
            <a:off x="971640" y="1844640"/>
            <a:ext cx="3384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88000" y="1628280"/>
            <a:ext cx="43560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Чем различаются кооперация и мутуализм как типы взаимовыгодных отношений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189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0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91" name="Picture 9" descr="109"/>
          <p:cNvPicPr/>
          <p:nvPr/>
        </p:nvPicPr>
        <p:blipFill>
          <a:blip r:embed="rId2"/>
          <a:stretch/>
        </p:blipFill>
        <p:spPr>
          <a:xfrm>
            <a:off x="826920" y="1773360"/>
            <a:ext cx="39610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200 (ответ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2920" y="1915920"/>
            <a:ext cx="3738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3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При кооперации полезность сосуществования организмов очевидна, но их связь не обязательна. Например, акула и рыба-лоцма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Мутуализм предполагает обязательное участие партнера. Например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лишайник = гриб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+ водоросл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195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6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97" name="Picture 9" descr="101"/>
          <p:cNvPicPr/>
          <p:nvPr/>
        </p:nvPicPr>
        <p:blipFill>
          <a:blip r:embed="rId2"/>
          <a:stretch/>
        </p:blipFill>
        <p:spPr>
          <a:xfrm>
            <a:off x="1403280" y="1844640"/>
            <a:ext cx="259092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716000" y="1989000"/>
            <a:ext cx="37371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Взаимоотношения птиц-чистильщиц и носорога, рака-отшельника и актинии, крупных рыб и креветок являются примерами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201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03" name="Picture 9" descr="126"/>
          <p:cNvPicPr/>
          <p:nvPr/>
        </p:nvPicPr>
        <p:blipFill>
          <a:blip r:embed="rId2"/>
          <a:stretch/>
        </p:blipFill>
        <p:spPr>
          <a:xfrm>
            <a:off x="755640" y="2133720"/>
            <a:ext cx="432108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300 (ответ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32000" y="2133360"/>
            <a:ext cx="3521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кооп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207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8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09" name="Picture 9" descr="126"/>
          <p:cNvPicPr/>
          <p:nvPr/>
        </p:nvPicPr>
        <p:blipFill>
          <a:blip r:embed="rId2"/>
          <a:stretch/>
        </p:blipFill>
        <p:spPr>
          <a:xfrm>
            <a:off x="755640" y="2133720"/>
            <a:ext cx="432108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858920" y="1557000"/>
            <a:ext cx="35989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Большинство растений, особенно деревьев, живет в симбиозе с грибами, образуя микоризу или грибокорень. В чем состоит взаимная выгода этих организмов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213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4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15" name="Picture 9" descr="107"/>
          <p:cNvPicPr/>
          <p:nvPr/>
        </p:nvPicPr>
        <p:blipFill>
          <a:blip r:embed="rId2"/>
          <a:stretch/>
        </p:blipFill>
        <p:spPr>
          <a:xfrm>
            <a:off x="755640" y="1989000"/>
            <a:ext cx="396072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87640" y="1980720"/>
            <a:ext cx="3670200" cy="25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Какой тип биотических связей характерен для щук и окуней, живущих в одном озере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49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51" name="Picture 10" descr="132"/>
          <p:cNvPicPr/>
          <p:nvPr/>
        </p:nvPicPr>
        <p:blipFill>
          <a:blip r:embed="rId2"/>
          <a:stretch/>
        </p:blipFill>
        <p:spPr>
          <a:xfrm>
            <a:off x="611280" y="1762200"/>
            <a:ext cx="449892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400 (ответ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У растений за счет грибницы существенно увеличивается возможность поглощать воду и минеральные вещества. Гриб получает от растения органические соедин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219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0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21" name="Picture 9" descr="107"/>
          <p:cNvPicPr/>
          <p:nvPr/>
        </p:nvPicPr>
        <p:blipFill>
          <a:blip r:embed="rId2"/>
          <a:stretch/>
        </p:blipFill>
        <p:spPr>
          <a:xfrm>
            <a:off x="755640" y="1989000"/>
            <a:ext cx="396072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376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В сельском хозяйстве широко используется симбиоз бобовых растений (гороха, фасоли, сои, клевера, люцерны) с клубеньковыми бактериями. Какие преимущества бобовым обеспечивают бактерии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?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225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27" name="Picture 9" descr="111"/>
          <p:cNvPicPr/>
          <p:nvPr/>
        </p:nvPicPr>
        <p:blipFill>
          <a:blip r:embed="rId2"/>
          <a:stretch/>
        </p:blipFill>
        <p:spPr>
          <a:xfrm>
            <a:off x="684360" y="1844640"/>
            <a:ext cx="467964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Взаимовыгодные отношения 500 (ответ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88000" y="206064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Бактерии усваивают азот воздуха и снабжают им раст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231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33" name="Picture 9" descr="111"/>
          <p:cNvPicPr/>
          <p:nvPr/>
        </p:nvPicPr>
        <p:blipFill>
          <a:blip r:embed="rId2"/>
          <a:stretch/>
        </p:blipFill>
        <p:spPr>
          <a:xfrm>
            <a:off x="468360" y="2060640"/>
            <a:ext cx="468000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Тип взаимоотношений, при котором один организм получает пользу, а для другого сожительство безразлично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237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39" name="Picture 9" descr="110"/>
          <p:cNvPicPr/>
          <p:nvPr/>
        </p:nvPicPr>
        <p:blipFill>
          <a:blip r:embed="rId2"/>
          <a:stretch/>
        </p:blipFill>
        <p:spPr>
          <a:xfrm>
            <a:off x="1042920" y="2060640"/>
            <a:ext cx="33242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00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(ответ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комменсал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243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45" name="Picture 9" descr="110"/>
          <p:cNvPicPr/>
          <p:nvPr/>
        </p:nvPicPr>
        <p:blipFill>
          <a:blip r:embed="rId1"/>
          <a:stretch/>
        </p:blipFill>
        <p:spPr>
          <a:xfrm>
            <a:off x="1042920" y="2060640"/>
            <a:ext cx="33242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200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858920" y="2204640"/>
            <a:ext cx="38098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Приведите примеры растений Подмосковья, плоды и семена которых разносят на своей шерсти животны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249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0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51" name="Picture 9" descr="131"/>
          <p:cNvPicPr/>
          <p:nvPr/>
        </p:nvPicPr>
        <p:blipFill>
          <a:blip r:embed="rId1"/>
          <a:stretch/>
        </p:blipFill>
        <p:spPr>
          <a:xfrm>
            <a:off x="826920" y="1989000"/>
            <a:ext cx="39610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2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Череда, лопух, гравилат, зла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255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6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57" name="Picture 9" descr="131"/>
          <p:cNvPicPr/>
          <p:nvPr/>
        </p:nvPicPr>
        <p:blipFill>
          <a:blip r:embed="rId1"/>
          <a:stretch/>
        </p:blipFill>
        <p:spPr>
          <a:xfrm>
            <a:off x="826920" y="1989000"/>
            <a:ext cx="39610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В гнёздах птиц и норах грызунов поселяется огромное количество членистоногих, не причиняя им вреда. Как называется такой тип взаимоотношений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261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2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63" name="Picture 11" descr="117"/>
          <p:cNvPicPr/>
          <p:nvPr/>
        </p:nvPicPr>
        <p:blipFill>
          <a:blip r:embed="rId1"/>
          <a:stretch/>
        </p:blipFill>
        <p:spPr>
          <a:xfrm>
            <a:off x="395280" y="2205000"/>
            <a:ext cx="41767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3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43280" y="2349000"/>
            <a:ext cx="38102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квартирант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267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8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69" name="Picture 10" descr="117"/>
          <p:cNvPicPr/>
          <p:nvPr/>
        </p:nvPicPr>
        <p:blipFill>
          <a:blip r:embed="rId1"/>
          <a:stretch/>
        </p:blipFill>
        <p:spPr>
          <a:xfrm>
            <a:off x="395280" y="2205000"/>
            <a:ext cx="41767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32000" y="2060640"/>
            <a:ext cx="3809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Какой тип биотических отношений иллюстрирует бой петухов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273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4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75" name="Picture 10" descr="103"/>
          <p:cNvPicPr/>
          <p:nvPr/>
        </p:nvPicPr>
        <p:blipFill>
          <a:blip r:embed="rId1"/>
          <a:stretch/>
        </p:blipFill>
        <p:spPr>
          <a:xfrm>
            <a:off x="971640" y="1989000"/>
            <a:ext cx="36716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1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03280" y="1989000"/>
            <a:ext cx="34498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Хищник -  жер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55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7" name="Группа 10"/>
          <p:cNvGrpSpPr/>
          <p:nvPr/>
        </p:nvGrpSpPr>
        <p:grpSpPr>
          <a:xfrm>
            <a:off x="1403280" y="5877000"/>
            <a:ext cx="1067040" cy="488880"/>
            <a:chOff x="1403280" y="5877000"/>
            <a:chExt cx="1067040" cy="488880"/>
          </a:xfrm>
        </p:grpSpPr>
        <p:sp>
          <p:nvSpPr>
            <p:cNvPr id="58" name="Стрелка влево 7"/>
            <p:cNvSpPr/>
            <p:nvPr/>
          </p:nvSpPr>
          <p:spPr>
            <a:xfrm>
              <a:off x="140328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" name="TextBox 8"/>
            <p:cNvSpPr/>
            <p:nvPr/>
          </p:nvSpPr>
          <p:spPr>
            <a:xfrm>
              <a:off x="154080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2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60" name="Picture 14" descr="128"/>
          <p:cNvPicPr/>
          <p:nvPr/>
        </p:nvPicPr>
        <p:blipFill>
          <a:blip r:embed="rId3"/>
          <a:stretch/>
        </p:blipFill>
        <p:spPr>
          <a:xfrm>
            <a:off x="611280" y="1762200"/>
            <a:ext cx="396072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4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03640" y="1989000"/>
            <a:ext cx="34545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Это конкурен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279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0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81" name="Picture 9" descr="103"/>
          <p:cNvPicPr/>
          <p:nvPr/>
        </p:nvPicPr>
        <p:blipFill>
          <a:blip r:embed="rId1"/>
          <a:stretch/>
        </p:blipFill>
        <p:spPr>
          <a:xfrm>
            <a:off x="971640" y="1989000"/>
            <a:ext cx="36716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32000" y="1557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По закону Гаузе или правилу конкурентного исключения невозможно продолжительное совместное обитание двух видов с близкими экологическими потребностями.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Как решается эта проблема в природе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285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6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87" name="Picture 10" descr="135"/>
          <p:cNvPicPr/>
          <p:nvPr/>
        </p:nvPicPr>
        <p:blipFill>
          <a:blip r:embed="rId1"/>
          <a:stretch/>
        </p:blipFill>
        <p:spPr>
          <a:xfrm>
            <a:off x="395280" y="2492280"/>
            <a:ext cx="48960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дносторонние связи и конкуренция 5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При напряженной конкуренции виды расходятся в различные экологические ниши, разделившись по времени активности, пищевым ресурсам или территориально. Птицы могут питаться в различных зонах кроны деревьев, разной пищей (семенами, жуками, их личинками), в разное время сут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291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2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93" name="Picture 10" descr="135"/>
          <p:cNvPicPr/>
          <p:nvPr/>
        </p:nvPicPr>
        <p:blipFill>
          <a:blip r:embed="rId1"/>
          <a:stretch/>
        </p:blipFill>
        <p:spPr>
          <a:xfrm>
            <a:off x="324000" y="2637000"/>
            <a:ext cx="45370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100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858920" y="1980720"/>
            <a:ext cx="35989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Все участники биоценоза используют энергию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297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8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99" name="Picture 11" descr="108"/>
          <p:cNvPicPr/>
          <p:nvPr/>
        </p:nvPicPr>
        <p:blipFill>
          <a:blip r:embed="rId1"/>
          <a:stretch/>
        </p:blipFill>
        <p:spPr>
          <a:xfrm>
            <a:off x="1258920" y="1773360"/>
            <a:ext cx="33116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100 </a:t>
            </a:r>
            <a:br>
              <a:rPr sz="3600"/>
            </a:b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16360" y="1981080"/>
            <a:ext cx="374184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олн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303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4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05" name="Picture 10" descr="123"/>
          <p:cNvPicPr/>
          <p:nvPr/>
        </p:nvPicPr>
        <p:blipFill>
          <a:blip r:embed="rId1"/>
          <a:stretch/>
        </p:blipFill>
        <p:spPr>
          <a:xfrm>
            <a:off x="1403280" y="2133720"/>
            <a:ext cx="32385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2000" y="1989000"/>
            <a:ext cx="3521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Наибольшее разнообразие жизни наблюдается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309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0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11" name="Picture 10" descr="113"/>
          <p:cNvPicPr/>
          <p:nvPr/>
        </p:nvPicPr>
        <p:blipFill>
          <a:blip r:embed="rId1"/>
          <a:stretch/>
        </p:blipFill>
        <p:spPr>
          <a:xfrm>
            <a:off x="1476360" y="1557360"/>
            <a:ext cx="2970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2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787640" y="1988640"/>
            <a:ext cx="367020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в тропическом лес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315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6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17" name="Picture 10" descr="113"/>
          <p:cNvPicPr/>
          <p:nvPr/>
        </p:nvPicPr>
        <p:blipFill>
          <a:blip r:embed="rId1"/>
          <a:stretch/>
        </p:blipFill>
        <p:spPr>
          <a:xfrm>
            <a:off x="1476360" y="1844640"/>
            <a:ext cx="286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356000" y="1916280"/>
            <a:ext cx="38102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Какие одноклеточные организмы могут занимать место продуцента и консумента в пищевой сети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321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2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23" name="Picture 12" descr="114"/>
          <p:cNvPicPr/>
          <p:nvPr/>
        </p:nvPicPr>
        <p:blipFill>
          <a:blip r:embed="rId1"/>
          <a:stretch/>
        </p:blipFill>
        <p:spPr>
          <a:xfrm>
            <a:off x="826920" y="1989000"/>
            <a:ext cx="338472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3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16360" y="1981080"/>
            <a:ext cx="374184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Эвглена зеле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327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8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29" name="Picture 9" descr="115"/>
          <p:cNvPicPr/>
          <p:nvPr/>
        </p:nvPicPr>
        <p:blipFill>
          <a:blip r:embed="rId1"/>
          <a:stretch/>
        </p:blipFill>
        <p:spPr>
          <a:xfrm>
            <a:off x="900000" y="1989000"/>
            <a:ext cx="3529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859280" y="2060280"/>
            <a:ext cx="35942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Почему в сосновом бору воздух особенно чистый, и количество микроорганизмов в 7-10 раз меньше, чем в березовом лесу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333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4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35" name="Picture 11" descr="133"/>
          <p:cNvPicPr/>
          <p:nvPr/>
        </p:nvPicPr>
        <p:blipFill>
          <a:blip r:embed="rId1"/>
          <a:stretch/>
        </p:blipFill>
        <p:spPr>
          <a:xfrm>
            <a:off x="1763640" y="1773360"/>
            <a:ext cx="26528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00720" y="1844280"/>
            <a:ext cx="3952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Связи, возникающие между аскаридой и человеком, являются примером биотических взаимоотношений по типу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64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66" name="Picture 11" descr="121"/>
          <p:cNvPicPr/>
          <p:nvPr/>
        </p:nvPicPr>
        <p:blipFill>
          <a:blip r:embed="rId2"/>
          <a:stretch/>
        </p:blipFill>
        <p:spPr>
          <a:xfrm>
            <a:off x="1187280" y="1916280"/>
            <a:ext cx="2664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4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858920" y="2349360"/>
            <a:ext cx="35989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осны выделяют фитонциды, убивающие болезнетворные микроорганиз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339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0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41" name="Picture 10" descr="133"/>
          <p:cNvPicPr/>
          <p:nvPr/>
        </p:nvPicPr>
        <p:blipFill>
          <a:blip r:embed="rId1"/>
          <a:stretch/>
        </p:blipFill>
        <p:spPr>
          <a:xfrm>
            <a:off x="1763640" y="1773360"/>
            <a:ext cx="26528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32360" y="1980720"/>
            <a:ext cx="3525840" cy="25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Что общего между агроценозом картофельного поля и биоценозом луга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Группа 11"/>
          <p:cNvGrpSpPr/>
          <p:nvPr/>
        </p:nvGrpSpPr>
        <p:grpSpPr>
          <a:xfrm>
            <a:off x="684360" y="5734080"/>
            <a:ext cx="785520" cy="785880"/>
            <a:chOff x="684360" y="5734080"/>
            <a:chExt cx="785520" cy="785880"/>
          </a:xfrm>
        </p:grpSpPr>
        <p:sp>
          <p:nvSpPr>
            <p:cNvPr id="345" name="Солнце 9"/>
            <p:cNvSpPr/>
            <p:nvPr/>
          </p:nvSpPr>
          <p:spPr>
            <a:xfrm>
              <a:off x="684360" y="5734080"/>
              <a:ext cx="78552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6" name="TextBox 10"/>
            <p:cNvSpPr/>
            <p:nvPr/>
          </p:nvSpPr>
          <p:spPr>
            <a:xfrm>
              <a:off x="826920" y="601992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99"/>
                  </a:solidFill>
                  <a:latin typeface="Times New Roman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47" name="Picture 10" descr="129"/>
          <p:cNvPicPr/>
          <p:nvPr/>
        </p:nvPicPr>
        <p:blipFill>
          <a:blip r:embed="rId1"/>
          <a:stretch/>
        </p:blipFill>
        <p:spPr>
          <a:xfrm>
            <a:off x="468360" y="1700280"/>
            <a:ext cx="3240000" cy="19177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116"/>
          <p:cNvPicPr/>
          <p:nvPr/>
        </p:nvPicPr>
        <p:blipFill>
          <a:blip r:embed="rId2"/>
          <a:stretch/>
        </p:blipFill>
        <p:spPr>
          <a:xfrm>
            <a:off x="1979640" y="3789360"/>
            <a:ext cx="330516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Биоценозы и пищевые сети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219280" y="1989000"/>
            <a:ext cx="32338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Присутствие в системе продуцентов, консументов и редуц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Группа 10"/>
          <p:cNvGrpSpPr/>
          <p:nvPr/>
        </p:nvGrpSpPr>
        <p:grpSpPr>
          <a:xfrm>
            <a:off x="1547640" y="5877000"/>
            <a:ext cx="1067040" cy="488880"/>
            <a:chOff x="1547640" y="5877000"/>
            <a:chExt cx="1067040" cy="488880"/>
          </a:xfrm>
        </p:grpSpPr>
        <p:sp>
          <p:nvSpPr>
            <p:cNvPr id="352" name="Стрелка влево 7"/>
            <p:cNvSpPr/>
            <p:nvPr/>
          </p:nvSpPr>
          <p:spPr>
            <a:xfrm>
              <a:off x="1547640" y="5877000"/>
              <a:ext cx="995760" cy="488880"/>
            </a:xfrm>
            <a:prstGeom prst="leftArrow">
              <a:avLst>
                <a:gd name="adj1" fmla="val 50000"/>
                <a:gd name="adj2" fmla="val 50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3" name="TextBox 8"/>
            <p:cNvSpPr/>
            <p:nvPr/>
          </p:nvSpPr>
          <p:spPr>
            <a:xfrm>
              <a:off x="1685160" y="600840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Times New Roman"/>
                </a:rPr>
                <a:t>финиш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54" name="Picture 10" descr="129"/>
          <p:cNvPicPr/>
          <p:nvPr/>
        </p:nvPicPr>
        <p:blipFill>
          <a:blip r:embed="rId1"/>
          <a:stretch/>
        </p:blipFill>
        <p:spPr>
          <a:xfrm>
            <a:off x="395280" y="1700280"/>
            <a:ext cx="3097080" cy="1833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1" descr="116"/>
          <p:cNvPicPr/>
          <p:nvPr/>
        </p:nvPicPr>
        <p:blipFill>
          <a:blip r:embed="rId2"/>
          <a:stretch/>
        </p:blipFill>
        <p:spPr>
          <a:xfrm>
            <a:off x="2484360" y="3860640"/>
            <a:ext cx="30243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Игра законче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787640" y="5229000"/>
            <a:ext cx="367020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Салют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в честь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победителей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aptop"/>
          <p:cNvSpPr/>
          <p:nvPr/>
        </p:nvSpPr>
        <p:spPr>
          <a:xfrm>
            <a:off x="324000" y="4941720"/>
            <a:ext cx="1441440" cy="10796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На главную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250920" y="6237360"/>
            <a:ext cx="40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Иллюстрации взяты из сети Интернет и принадлежат их правообладателям.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60" name="Picture 12" descr="137"/>
          <p:cNvPicPr/>
          <p:nvPr/>
        </p:nvPicPr>
        <p:blipFill>
          <a:blip r:embed="rId1"/>
          <a:stretch/>
        </p:blipFill>
        <p:spPr>
          <a:xfrm>
            <a:off x="2095560" y="1685880"/>
            <a:ext cx="495288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2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16360" y="1916280"/>
            <a:ext cx="36655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паразит - хозя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8436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0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71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73" name="Picture 10" descr="121"/>
          <p:cNvPicPr/>
          <p:nvPr/>
        </p:nvPicPr>
        <p:blipFill>
          <a:blip r:embed="rId2"/>
          <a:stretch/>
        </p:blipFill>
        <p:spPr>
          <a:xfrm>
            <a:off x="1187280" y="1916280"/>
            <a:ext cx="2664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88000" y="1989000"/>
            <a:ext cx="36655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Как называется биотическая связь между раком – отшельником и актинией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  <a:hlinkClick r:id="rId1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77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8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2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79" name="Picture 9" descr="118"/>
          <p:cNvPicPr/>
          <p:nvPr/>
        </p:nvPicPr>
        <p:blipFill>
          <a:blip r:embed="rId3"/>
          <a:stretch/>
        </p:blipFill>
        <p:spPr>
          <a:xfrm>
            <a:off x="1187280" y="1773360"/>
            <a:ext cx="299592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300 (отве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32360" y="2060280"/>
            <a:ext cx="39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комменсал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Группа 10"/>
          <p:cNvGrpSpPr/>
          <p:nvPr/>
        </p:nvGrpSpPr>
        <p:grpSpPr>
          <a:xfrm>
            <a:off x="1428840" y="5857920"/>
            <a:ext cx="1066680" cy="488880"/>
            <a:chOff x="1428840" y="5857920"/>
            <a:chExt cx="1066680" cy="488880"/>
          </a:xfrm>
        </p:grpSpPr>
        <p:sp>
          <p:nvSpPr>
            <p:cNvPr id="83" name="Стрелка влево 7"/>
            <p:cNvSpPr/>
            <p:nvPr/>
          </p:nvSpPr>
          <p:spPr>
            <a:xfrm>
              <a:off x="1428840" y="5857920"/>
              <a:ext cx="995400" cy="488880"/>
            </a:xfrm>
            <a:prstGeom prst="leftArrow">
              <a:avLst>
                <a:gd name="adj1" fmla="val 50000"/>
                <a:gd name="adj2" fmla="val 500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1566000" y="5989320"/>
              <a:ext cx="9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В таблицу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85" name="Picture 9" descr="118"/>
          <p:cNvPicPr/>
          <p:nvPr/>
        </p:nvPicPr>
        <p:blipFill>
          <a:blip r:embed="rId2"/>
          <a:stretch/>
        </p:blipFill>
        <p:spPr>
          <a:xfrm>
            <a:off x="1187280" y="1844640"/>
            <a:ext cx="29959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Типы биотических связей 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32000" y="1557360"/>
            <a:ext cx="3738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Какой тип биотической связи характерен для растений пшеницы и сорняков, растущих на одном поле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Группа 11"/>
          <p:cNvGrpSpPr/>
          <p:nvPr/>
        </p:nvGrpSpPr>
        <p:grpSpPr>
          <a:xfrm>
            <a:off x="714240" y="5715000"/>
            <a:ext cx="785880" cy="785880"/>
            <a:chOff x="714240" y="5715000"/>
            <a:chExt cx="785880" cy="785880"/>
          </a:xfrm>
        </p:grpSpPr>
        <p:sp>
          <p:nvSpPr>
            <p:cNvPr id="89" name="Солнце 9"/>
            <p:cNvSpPr/>
            <p:nvPr/>
          </p:nvSpPr>
          <p:spPr>
            <a:xfrm>
              <a:off x="714240" y="5715000"/>
              <a:ext cx="785880" cy="78588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" name="TextBox 10"/>
            <p:cNvSpPr/>
            <p:nvPr/>
          </p:nvSpPr>
          <p:spPr>
            <a:xfrm>
              <a:off x="857160" y="6000840"/>
              <a:ext cx="6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3333cc"/>
                  </a:solidFill>
                  <a:uFillTx/>
                  <a:latin typeface="Times New Roman"/>
                  <a:hlinkClick r:id="rId1" action="ppaction://hlinksldjump"/>
                </a:rPr>
                <a:t>ответ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91" name="Picture 13" descr="106"/>
          <p:cNvPicPr/>
          <p:nvPr/>
        </p:nvPicPr>
        <p:blipFill>
          <a:blip r:embed="rId2"/>
          <a:stretch/>
        </p:blipFill>
        <p:spPr>
          <a:xfrm>
            <a:off x="611280" y="1628640"/>
            <a:ext cx="45162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2-10T13:48:55Z</dcterms:modified>
  <cp:revision>61</cp:revision>
  <dc:subject/>
  <dc:title>PowerPoint Presentation</dc:title>
</cp:coreProperties>
</file>