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57C-B426-4378-B397-43369AD4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946-310C-4045-BD3E-9E38A1E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06F-695F-4EFE-A3B8-04C4F1D5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4CB-6214-4A89-9E0B-C0061438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9DC-1019-4D0F-8FA8-882D83A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2D7-B58F-4C2D-AEA4-711225B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179-EA4C-4EE2-8A66-5EF7604C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5E2-86C6-41DE-B19B-0EB337DB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C0A-8B46-4C1D-9A22-0B43EB52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EEC-4C7D-4ADE-8BC2-13767D6A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333-3E0B-423C-8D5A-B1538FA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3E2-F112-48AC-97DD-4EB58052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4533-245F-4D71-949A-3E98AE985E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36560"/>
            <a:ext cx="748656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Биотические связи в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73560"/>
            <a:ext cx="91440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Своя игра» по биологии  для учеников 9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bcbff"/>
                </a:solidFill>
                <a:latin typeface="Times New Roman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303120" y="6024600"/>
            <a:ext cx="44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ff"/>
                </a:solidFill>
                <a:latin typeface="Times New Roman"/>
                <a:ea typeface="Times New Roman"/>
              </a:rPr>
              <a:t>©</a:t>
            </a:r>
            <a:r>
              <a:rPr b="0" lang="ru-RU" sz="1800" spc="-1" strike="noStrike">
                <a:solidFill>
                  <a:srgbClr val="cbcbff"/>
                </a:solidFill>
                <a:latin typeface="Times New Roman"/>
              </a:rPr>
              <a:t>Пильщикова Ната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bcbff"/>
                </a:solidFill>
                <a:latin typeface="Times New Roman"/>
              </a:rPr>
              <a:t>Владимировна,2009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3640" y="1999800"/>
            <a:ext cx="33782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нкур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9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97" name="Picture 12" descr="106"/>
          <p:cNvPicPr/>
          <p:nvPr/>
        </p:nvPicPr>
        <p:blipFill>
          <a:blip r:embed="rId2"/>
          <a:stretch/>
        </p:blipFill>
        <p:spPr>
          <a:xfrm>
            <a:off x="611280" y="1916280"/>
            <a:ext cx="45162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87640" y="1981080"/>
            <a:ext cx="36702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Развитие азотфиксирующих клубеньковых бактерий на корнях бобовых растений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0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03" name="Picture 9" descr="134"/>
          <p:cNvPicPr/>
          <p:nvPr/>
        </p:nvPicPr>
        <p:blipFill>
          <a:blip r:embed="rId2"/>
          <a:stretch/>
        </p:blipFill>
        <p:spPr>
          <a:xfrm>
            <a:off x="1692360" y="1916280"/>
            <a:ext cx="2381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имби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Группа 10"/>
          <p:cNvGrpSpPr/>
          <p:nvPr/>
        </p:nvGrpSpPr>
        <p:grpSpPr>
          <a:xfrm>
            <a:off x="1332000" y="5950080"/>
            <a:ext cx="1066680" cy="488880"/>
            <a:chOff x="1332000" y="5950080"/>
            <a:chExt cx="1066680" cy="488880"/>
          </a:xfrm>
        </p:grpSpPr>
        <p:sp>
          <p:nvSpPr>
            <p:cNvPr id="107" name="Стрелка влево 7"/>
            <p:cNvSpPr/>
            <p:nvPr/>
          </p:nvSpPr>
          <p:spPr>
            <a:xfrm>
              <a:off x="1332000" y="595008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TextBox 8"/>
            <p:cNvSpPr/>
            <p:nvPr/>
          </p:nvSpPr>
          <p:spPr>
            <a:xfrm>
              <a:off x="1469160" y="608148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09" name="Picture 9" descr="134"/>
          <p:cNvPicPr/>
          <p:nvPr/>
        </p:nvPicPr>
        <p:blipFill>
          <a:blip r:embed="rId2"/>
          <a:stretch/>
        </p:blipFill>
        <p:spPr>
          <a:xfrm>
            <a:off x="1692360" y="1916280"/>
            <a:ext cx="2381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87640" y="2205000"/>
            <a:ext cx="3738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аиболее распространенными биотическими связями в животном мире являю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1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15" name="Picture 9" descr="124"/>
          <p:cNvPicPr/>
          <p:nvPr/>
        </p:nvPicPr>
        <p:blipFill>
          <a:blip r:embed="rId2"/>
          <a:stretch/>
        </p:blipFill>
        <p:spPr>
          <a:xfrm>
            <a:off x="1116000" y="2133720"/>
            <a:ext cx="35290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1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8360" y="1915920"/>
            <a:ext cx="352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тношения хищник - жер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11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21" name="Picture 9" descr="124"/>
          <p:cNvPicPr/>
          <p:nvPr/>
        </p:nvPicPr>
        <p:blipFill>
          <a:blip r:embed="rId2"/>
          <a:stretch/>
        </p:blipFill>
        <p:spPr>
          <a:xfrm>
            <a:off x="1116000" y="2133720"/>
            <a:ext cx="35290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1916280"/>
            <a:ext cx="36720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е содержат хлорофилла и развивают присоски растения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12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7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128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0" name="Picture 12" descr="127"/>
          <p:cNvPicPr/>
          <p:nvPr/>
        </p:nvPicPr>
        <p:blipFill>
          <a:blip r:embed="rId3"/>
          <a:stretch/>
        </p:blipFill>
        <p:spPr>
          <a:xfrm>
            <a:off x="1116000" y="184464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1773000"/>
            <a:ext cx="36673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араз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34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6" name="Picture 9" descr="127"/>
          <p:cNvPicPr/>
          <p:nvPr/>
        </p:nvPicPr>
        <p:blipFill>
          <a:blip r:embed="rId2"/>
          <a:stretch/>
        </p:blipFill>
        <p:spPr>
          <a:xfrm>
            <a:off x="1116000" y="184464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Случайный или намеренный перенос какого-либо вида из одной области обитания в другую может привести к интенсивному размножению в новых условиях. Например, непарный шелкопряд в Америке, кролики в Австралии, элодея и водный гиацинт в Европе. Объясните, почему это происх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820000" y="4221000"/>
            <a:ext cx="36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4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43" name="Picture 10" descr="122"/>
          <p:cNvPicPr/>
          <p:nvPr/>
        </p:nvPicPr>
        <p:blipFill>
          <a:blip r:embed="rId2"/>
          <a:stretch/>
        </p:blipFill>
        <p:spPr>
          <a:xfrm>
            <a:off x="826920" y="1557360"/>
            <a:ext cx="3673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6360" y="1981080"/>
            <a:ext cx="338148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тсутствие естественных врагов – хищников и параз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47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49" name="Picture 9" descr="122"/>
          <p:cNvPicPr/>
          <p:nvPr/>
        </p:nvPicPr>
        <p:blipFill>
          <a:blip r:embed="rId2"/>
          <a:stretch/>
        </p:blipFill>
        <p:spPr>
          <a:xfrm>
            <a:off x="900000" y="1916280"/>
            <a:ext cx="3673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1640" y="1980720"/>
            <a:ext cx="38862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реди зеленых растений, способных к нормальному фотосинтезу, есть насекомоядные. Что является причиной их хищничества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5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55" name="Picture 10" descr="136"/>
          <p:cNvPicPr/>
          <p:nvPr/>
        </p:nvPicPr>
        <p:blipFill>
          <a:blip r:embed="rId2"/>
          <a:stretch/>
        </p:blipFill>
        <p:spPr>
          <a:xfrm>
            <a:off x="1258920" y="1700280"/>
            <a:ext cx="32972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42920" y="907920"/>
          <a:ext cx="7201080" cy="4865760"/>
        </p:xfrm>
        <a:graphic>
          <a:graphicData uri="http://schemas.openxmlformats.org/drawingml/2006/table">
            <a:tbl>
              <a:tblPr/>
              <a:tblGrid>
                <a:gridCol w="2521080"/>
                <a:gridCol w="946080"/>
                <a:gridCol w="947880"/>
                <a:gridCol w="947520"/>
                <a:gridCol w="949320"/>
                <a:gridCol w="889200"/>
              </a:tblGrid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ипы биотических связей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Хищничество и паразитизм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заимовыгодные отношения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дносторонние связи и конкуренция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Биоценозы и пищевые сети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497"/>
          <p:cNvSpPr/>
          <p:nvPr/>
        </p:nvSpPr>
        <p:spPr>
          <a:xfrm>
            <a:off x="0" y="472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пособность ловить насекомых и переваривать добычу свойственна растениям, произрастающим на бедных азотом почвах. В умеренной зоне это распространенные на болотах мухоловка и рося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59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61" name="Picture 10" descr="102"/>
          <p:cNvPicPr/>
          <p:nvPr/>
        </p:nvPicPr>
        <p:blipFill>
          <a:blip r:embed="rId2"/>
          <a:stretch/>
        </p:blipFill>
        <p:spPr>
          <a:xfrm>
            <a:off x="611280" y="2060640"/>
            <a:ext cx="4032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7640" y="1916280"/>
            <a:ext cx="3738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массовом отстреле хищных птиц (филинов, ястребов) численность куропаток и тетеревов снижается; при уничтожении волков снижается численность оленей. Объясните приведенные при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65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67" name="Picture 12" descr="125"/>
          <p:cNvPicPr/>
          <p:nvPr/>
        </p:nvPicPr>
        <p:blipFill>
          <a:blip r:embed="rId2"/>
          <a:stretch/>
        </p:blipFill>
        <p:spPr>
          <a:xfrm>
            <a:off x="611280" y="2060640"/>
            <a:ext cx="4275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8829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Хищники контролируют численность популяции жертв, уничтожая в первую очередь больных и слабых . Бесконтрольное размножение жертв сопровождается уменьшением запаса кормов и возникновением эпидемий, что снижает численность популяции интенсивнее любых хищ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71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73" name="Picture 9" descr="125"/>
          <p:cNvPicPr/>
          <p:nvPr/>
        </p:nvPicPr>
        <p:blipFill>
          <a:blip r:embed="rId2"/>
          <a:stretch/>
        </p:blipFill>
        <p:spPr>
          <a:xfrm>
            <a:off x="611280" y="2060640"/>
            <a:ext cx="4275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100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359892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чему белые грибы нельзя выращивать как шампиньоны, но можно найти в дубраве или ельник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77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79" name="Picture 9" descr="112"/>
          <p:cNvPicPr/>
          <p:nvPr/>
        </p:nvPicPr>
        <p:blipFill>
          <a:blip r:embed="rId2"/>
          <a:stretch/>
        </p:blipFill>
        <p:spPr>
          <a:xfrm>
            <a:off x="826920" y="2060640"/>
            <a:ext cx="3840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100 (ответ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87640" y="1980720"/>
            <a:ext cx="36702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елые грибы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 способу питания являются симбионтами, образующими  с корнями деревьев микор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83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85" name="Picture 9" descr="104"/>
          <p:cNvPicPr/>
          <p:nvPr/>
        </p:nvPicPr>
        <p:blipFill>
          <a:blip r:embed="rId2"/>
          <a:stretch/>
        </p:blipFill>
        <p:spPr>
          <a:xfrm>
            <a:off x="971640" y="1844640"/>
            <a:ext cx="3384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356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ем различаются кооперация и мутуализм как типы взаимовыгодных отношений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8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91" name="Picture 9" descr="109"/>
          <p:cNvPicPr/>
          <p:nvPr/>
        </p:nvPicPr>
        <p:blipFill>
          <a:blip r:embed="rId2"/>
          <a:stretch/>
        </p:blipFill>
        <p:spPr>
          <a:xfrm>
            <a:off x="826920" y="1773360"/>
            <a:ext cx="39610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2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2920" y="1915920"/>
            <a:ext cx="3738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3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ри кооперации полезность сосуществования организмов очевидна, но их связь не обязательна. Например, акула и рыба-лоцма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Мутуализм предполагает обязательное участие партнера. Наприме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лишайник = гриб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+ водоросл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95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97" name="Picture 9" descr="101"/>
          <p:cNvPicPr/>
          <p:nvPr/>
        </p:nvPicPr>
        <p:blipFill>
          <a:blip r:embed="rId2"/>
          <a:stretch/>
        </p:blipFill>
        <p:spPr>
          <a:xfrm>
            <a:off x="1403280" y="1844640"/>
            <a:ext cx="25909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16000" y="1989000"/>
            <a:ext cx="37371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Взаимоотношения птиц-чистильщиц и носорога, рака-отшельника и актинии, крупных рыб и креветок являются примерам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20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03" name="Picture 9" descr="126"/>
          <p:cNvPicPr/>
          <p:nvPr/>
        </p:nvPicPr>
        <p:blipFill>
          <a:blip r:embed="rId2"/>
          <a:stretch/>
        </p:blipFill>
        <p:spPr>
          <a:xfrm>
            <a:off x="755640" y="2133720"/>
            <a:ext cx="43210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3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32000" y="2133360"/>
            <a:ext cx="3521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оп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207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09" name="Picture 9" descr="126"/>
          <p:cNvPicPr/>
          <p:nvPr/>
        </p:nvPicPr>
        <p:blipFill>
          <a:blip r:embed="rId2"/>
          <a:stretch/>
        </p:blipFill>
        <p:spPr>
          <a:xfrm>
            <a:off x="755640" y="2133720"/>
            <a:ext cx="43210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35989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ольшинство растений, особенно деревьев, живет в симбиозе с грибами, образуя микоризу или грибокорень. В чем состоит взаимная выгода этих организмов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21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15" name="Picture 9" descr="107"/>
          <p:cNvPicPr/>
          <p:nvPr/>
        </p:nvPicPr>
        <p:blipFill>
          <a:blip r:embed="rId2"/>
          <a:stretch/>
        </p:blipFill>
        <p:spPr>
          <a:xfrm>
            <a:off x="755640" y="1989000"/>
            <a:ext cx="3960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87640" y="1980720"/>
            <a:ext cx="367020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ой тип биотических связей характерен для щук и окуней, живущих в одном озер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4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1" name="Picture 10" descr="132"/>
          <p:cNvPicPr/>
          <p:nvPr/>
        </p:nvPicPr>
        <p:blipFill>
          <a:blip r:embed="rId2"/>
          <a:stretch/>
        </p:blipFill>
        <p:spPr>
          <a:xfrm>
            <a:off x="611280" y="1762200"/>
            <a:ext cx="44989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4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У растений за счет грибницы существенно увеличивается возможность поглощать воду и минеральные вещества. Гриб получает от растения органические соеди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1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21" name="Picture 9" descr="107"/>
          <p:cNvPicPr/>
          <p:nvPr/>
        </p:nvPicPr>
        <p:blipFill>
          <a:blip r:embed="rId2"/>
          <a:stretch/>
        </p:blipFill>
        <p:spPr>
          <a:xfrm>
            <a:off x="755640" y="1989000"/>
            <a:ext cx="3960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376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В сельском хозяйстве широко используется симбиоз бобовых растений (гороха, фасоли, сои, клевера, люцерны) с клубеньковыми бактериями. Какие преимущества бобовым обеспечивают бактерии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2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27" name="Picture 9" descr="111"/>
          <p:cNvPicPr/>
          <p:nvPr/>
        </p:nvPicPr>
        <p:blipFill>
          <a:blip r:embed="rId2"/>
          <a:stretch/>
        </p:blipFill>
        <p:spPr>
          <a:xfrm>
            <a:off x="684360" y="1844640"/>
            <a:ext cx="46796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5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88000" y="206064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Бактерии усваивают азот воздуха и снабжают им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3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33" name="Picture 9" descr="111"/>
          <p:cNvPicPr/>
          <p:nvPr/>
        </p:nvPicPr>
        <p:blipFill>
          <a:blip r:embed="rId2"/>
          <a:stretch/>
        </p:blipFill>
        <p:spPr>
          <a:xfrm>
            <a:off x="468360" y="2060640"/>
            <a:ext cx="4680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ип взаимоотношений, при котором один организм получает пользу, а для другого сожительство безразлично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37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39" name="Picture 9" descr="110"/>
          <p:cNvPicPr/>
          <p:nvPr/>
        </p:nvPicPr>
        <p:blipFill>
          <a:blip r:embed="rId2"/>
          <a:stretch/>
        </p:blipFill>
        <p:spPr>
          <a:xfrm>
            <a:off x="1042920" y="2060640"/>
            <a:ext cx="3324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0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(ответ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мменс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4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45" name="Picture 9" descr="110"/>
          <p:cNvPicPr/>
          <p:nvPr/>
        </p:nvPicPr>
        <p:blipFill>
          <a:blip r:embed="rId1"/>
          <a:stretch/>
        </p:blipFill>
        <p:spPr>
          <a:xfrm>
            <a:off x="1042920" y="2060640"/>
            <a:ext cx="3324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20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58920" y="2204640"/>
            <a:ext cx="3809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риведите примеры растений Подмосковья, плоды и семена которых разносят на своей шерсти живот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49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51" name="Picture 9" descr="131"/>
          <p:cNvPicPr/>
          <p:nvPr/>
        </p:nvPicPr>
        <p:blipFill>
          <a:blip r:embed="rId1"/>
          <a:stretch/>
        </p:blipFill>
        <p:spPr>
          <a:xfrm>
            <a:off x="826920" y="1989000"/>
            <a:ext cx="3961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ереда, лопух, гравилат, зл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5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57" name="Picture 9" descr="131"/>
          <p:cNvPicPr/>
          <p:nvPr/>
        </p:nvPicPr>
        <p:blipFill>
          <a:blip r:embed="rId1"/>
          <a:stretch/>
        </p:blipFill>
        <p:spPr>
          <a:xfrm>
            <a:off x="826920" y="1989000"/>
            <a:ext cx="3961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В гнёздах птиц и норах грызунов поселяется огромное количество членистоногих, не причиняя им вреда. Как называется такой тип взаимоотношений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61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63" name="Picture 11" descr="117"/>
          <p:cNvPicPr/>
          <p:nvPr/>
        </p:nvPicPr>
        <p:blipFill>
          <a:blip r:embed="rId1"/>
          <a:stretch/>
        </p:blipFill>
        <p:spPr>
          <a:xfrm>
            <a:off x="395280" y="220500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3280" y="2349000"/>
            <a:ext cx="38102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вартирант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67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8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69" name="Picture 10" descr="117"/>
          <p:cNvPicPr/>
          <p:nvPr/>
        </p:nvPicPr>
        <p:blipFill>
          <a:blip r:embed="rId1"/>
          <a:stretch/>
        </p:blipFill>
        <p:spPr>
          <a:xfrm>
            <a:off x="395280" y="220500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акой тип биотических отношений иллюстрирует бой петухов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73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4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75" name="Picture 10" descr="103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1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3280" y="1989000"/>
            <a:ext cx="34498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Хищник -  жер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55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7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58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60" name="Picture 14" descr="128"/>
          <p:cNvPicPr/>
          <p:nvPr/>
        </p:nvPicPr>
        <p:blipFill>
          <a:blip r:embed="rId3"/>
          <a:stretch/>
        </p:blipFill>
        <p:spPr>
          <a:xfrm>
            <a:off x="611280" y="1762200"/>
            <a:ext cx="39607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03640" y="1989000"/>
            <a:ext cx="34545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Это конкур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7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81" name="Picture 9" descr="103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о закону Гаузе или правилу конкурентного исключения невозможно продолжительное совместное обитание двух видов с близкими экологическими потребностями.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 решается эта проблема в природе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8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87" name="Picture 10" descr="135"/>
          <p:cNvPicPr/>
          <p:nvPr/>
        </p:nvPicPr>
        <p:blipFill>
          <a:blip r:embed="rId1"/>
          <a:stretch/>
        </p:blipFill>
        <p:spPr>
          <a:xfrm>
            <a:off x="395280" y="2492280"/>
            <a:ext cx="489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При напряженной конкуренции виды расходятся в различные экологические ниши, разделившись по времени активности, пищевым ресурсам или территориально. Птицы могут питаться в различных зонах кроны деревьев, разной пищей (семенами, жуками, их личинками), в разное время сут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9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93" name="Picture 10" descr="135"/>
          <p:cNvPicPr/>
          <p:nvPr/>
        </p:nvPicPr>
        <p:blipFill>
          <a:blip r:embed="rId1"/>
          <a:stretch/>
        </p:blipFill>
        <p:spPr>
          <a:xfrm>
            <a:off x="324000" y="2637000"/>
            <a:ext cx="4537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100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58920" y="1980720"/>
            <a:ext cx="35989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се участники биоценоза используют энергию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97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99" name="Picture 11" descr="108"/>
          <p:cNvPicPr/>
          <p:nvPr/>
        </p:nvPicPr>
        <p:blipFill>
          <a:blip r:embed="rId1"/>
          <a:stretch/>
        </p:blipFill>
        <p:spPr>
          <a:xfrm>
            <a:off x="1258920" y="1773360"/>
            <a:ext cx="33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100 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олн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0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05" name="Picture 10" descr="123"/>
          <p:cNvPicPr/>
          <p:nvPr/>
        </p:nvPicPr>
        <p:blipFill>
          <a:blip r:embed="rId1"/>
          <a:stretch/>
        </p:blipFill>
        <p:spPr>
          <a:xfrm>
            <a:off x="1403280" y="2133720"/>
            <a:ext cx="3238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2000" y="1989000"/>
            <a:ext cx="352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аибольшее разнообразие жизни наблюдается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09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11" name="Picture 10" descr="113"/>
          <p:cNvPicPr/>
          <p:nvPr/>
        </p:nvPicPr>
        <p:blipFill>
          <a:blip r:embed="rId1"/>
          <a:stretch/>
        </p:blipFill>
        <p:spPr>
          <a:xfrm>
            <a:off x="1476360" y="1557360"/>
            <a:ext cx="2970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787640" y="1988640"/>
            <a:ext cx="36702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тропическом ле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1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17" name="Picture 10" descr="113"/>
          <p:cNvPicPr/>
          <p:nvPr/>
        </p:nvPicPr>
        <p:blipFill>
          <a:blip r:embed="rId1"/>
          <a:stretch/>
        </p:blipFill>
        <p:spPr>
          <a:xfrm>
            <a:off x="1476360" y="184464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56000" y="1916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ие одноклеточные организмы могут занимать место продуцента и консумента в пищевой сети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21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23" name="Picture 12" descr="114"/>
          <p:cNvPicPr/>
          <p:nvPr/>
        </p:nvPicPr>
        <p:blipFill>
          <a:blip r:embed="rId1"/>
          <a:stretch/>
        </p:blipFill>
        <p:spPr>
          <a:xfrm>
            <a:off x="826920" y="1989000"/>
            <a:ext cx="338472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Эвглена зеле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27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29" name="Picture 9" descr="115"/>
          <p:cNvPicPr/>
          <p:nvPr/>
        </p:nvPicPr>
        <p:blipFill>
          <a:blip r:embed="rId1"/>
          <a:stretch/>
        </p:blipFill>
        <p:spPr>
          <a:xfrm>
            <a:off x="900000" y="198900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859280" y="2060280"/>
            <a:ext cx="35942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очему в сосновом бору воздух особенно чистый, и количество микроорганизмов в 7-10 раз меньше, чем в березовом лесу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33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4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35" name="Picture 11" descr="133"/>
          <p:cNvPicPr/>
          <p:nvPr/>
        </p:nvPicPr>
        <p:blipFill>
          <a:blip r:embed="rId1"/>
          <a:stretch/>
        </p:blipFill>
        <p:spPr>
          <a:xfrm>
            <a:off x="1763640" y="1773360"/>
            <a:ext cx="2652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3952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вязи, возникающие между аскаридой и человеком, являются примером биотических взаимоотношений по типу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64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66" name="Picture 11" descr="121"/>
          <p:cNvPicPr/>
          <p:nvPr/>
        </p:nvPicPr>
        <p:blipFill>
          <a:blip r:embed="rId2"/>
          <a:stretch/>
        </p:blipFill>
        <p:spPr>
          <a:xfrm>
            <a:off x="1187280" y="191628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58920" y="2349360"/>
            <a:ext cx="35989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осны выделяют фитонциды, убивающие болезнетворные микроорган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3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41" name="Picture 10" descr="133"/>
          <p:cNvPicPr/>
          <p:nvPr/>
        </p:nvPicPr>
        <p:blipFill>
          <a:blip r:embed="rId1"/>
          <a:stretch/>
        </p:blipFill>
        <p:spPr>
          <a:xfrm>
            <a:off x="1763640" y="1773360"/>
            <a:ext cx="2652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32360" y="1980720"/>
            <a:ext cx="352584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Что общего между агроценозом картофельного поля и биоценозом луга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4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47" name="Picture 10" descr="129"/>
          <p:cNvPicPr/>
          <p:nvPr/>
        </p:nvPicPr>
        <p:blipFill>
          <a:blip r:embed="rId1"/>
          <a:stretch/>
        </p:blipFill>
        <p:spPr>
          <a:xfrm>
            <a:off x="468360" y="1700280"/>
            <a:ext cx="3240000" cy="1917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116"/>
          <p:cNvPicPr/>
          <p:nvPr/>
        </p:nvPicPr>
        <p:blipFill>
          <a:blip r:embed="rId2"/>
          <a:stretch/>
        </p:blipFill>
        <p:spPr>
          <a:xfrm>
            <a:off x="1979640" y="3789360"/>
            <a:ext cx="33051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19280" y="1989000"/>
            <a:ext cx="3233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исутствие в системе продуцентов, консументов и реду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Группа 10"/>
          <p:cNvGrpSpPr/>
          <p:nvPr/>
        </p:nvGrpSpPr>
        <p:grpSpPr>
          <a:xfrm>
            <a:off x="1547640" y="5877000"/>
            <a:ext cx="1067040" cy="488880"/>
            <a:chOff x="1547640" y="5877000"/>
            <a:chExt cx="1067040" cy="488880"/>
          </a:xfrm>
        </p:grpSpPr>
        <p:sp>
          <p:nvSpPr>
            <p:cNvPr id="352" name="Стрелка влево 7"/>
            <p:cNvSpPr/>
            <p:nvPr/>
          </p:nvSpPr>
          <p:spPr>
            <a:xfrm>
              <a:off x="154764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TextBox 8"/>
            <p:cNvSpPr/>
            <p:nvPr/>
          </p:nvSpPr>
          <p:spPr>
            <a:xfrm>
              <a:off x="168516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финиш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54" name="Picture 10" descr="129"/>
          <p:cNvPicPr/>
          <p:nvPr/>
        </p:nvPicPr>
        <p:blipFill>
          <a:blip r:embed="rId1"/>
          <a:stretch/>
        </p:blipFill>
        <p:spPr>
          <a:xfrm>
            <a:off x="395280" y="1700280"/>
            <a:ext cx="3097080" cy="1833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116"/>
          <p:cNvPicPr/>
          <p:nvPr/>
        </p:nvPicPr>
        <p:blipFill>
          <a:blip r:embed="rId2"/>
          <a:stretch/>
        </p:blipFill>
        <p:spPr>
          <a:xfrm>
            <a:off x="2484360" y="3860640"/>
            <a:ext cx="30243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гра законч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787640" y="5229000"/>
            <a:ext cx="36702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Салют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честь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бедителей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aptop"/>
          <p:cNvSpPr/>
          <p:nvPr/>
        </p:nvSpPr>
        <p:spPr>
          <a:xfrm>
            <a:off x="324000" y="4941720"/>
            <a:ext cx="1441440" cy="1079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На главную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250920" y="6237360"/>
            <a:ext cx="40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Иллюстрации взяты из сети Интернет и принадлежат их правообладателям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0" name="Picture 12" descr="137"/>
          <p:cNvPicPr/>
          <p:nvPr/>
        </p:nvPicPr>
        <p:blipFill>
          <a:blip r:embed="rId1"/>
          <a:stretch/>
        </p:blipFill>
        <p:spPr>
          <a:xfrm>
            <a:off x="2095560" y="1685880"/>
            <a:ext cx="49528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360" y="1916280"/>
            <a:ext cx="36655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аразит - хозя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4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7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3" name="Picture 10" descr="121"/>
          <p:cNvPicPr/>
          <p:nvPr/>
        </p:nvPicPr>
        <p:blipFill>
          <a:blip r:embed="rId2"/>
          <a:stretch/>
        </p:blipFill>
        <p:spPr>
          <a:xfrm>
            <a:off x="1187280" y="191628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88000" y="1989000"/>
            <a:ext cx="3665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 называется биотическая связь между раком – отшельником и актинией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77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9" name="Picture 9" descr="118"/>
          <p:cNvPicPr/>
          <p:nvPr/>
        </p:nvPicPr>
        <p:blipFill>
          <a:blip r:embed="rId3"/>
          <a:stretch/>
        </p:blipFill>
        <p:spPr>
          <a:xfrm>
            <a:off x="1187280" y="1773360"/>
            <a:ext cx="29959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мменс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8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85" name="Picture 9" descr="118"/>
          <p:cNvPicPr/>
          <p:nvPr/>
        </p:nvPicPr>
        <p:blipFill>
          <a:blip r:embed="rId2"/>
          <a:stretch/>
        </p:blipFill>
        <p:spPr>
          <a:xfrm>
            <a:off x="1187280" y="1844640"/>
            <a:ext cx="2995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738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ой тип биотической связи характерен для растений пшеницы и сорняков, растущих на одном пол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8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91" name="Picture 13" descr="106"/>
          <p:cNvPicPr/>
          <p:nvPr/>
        </p:nvPicPr>
        <p:blipFill>
          <a:blip r:embed="rId2"/>
          <a:stretch/>
        </p:blipFill>
        <p:spPr>
          <a:xfrm>
            <a:off x="611280" y="1628640"/>
            <a:ext cx="4516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0T13:48:55Z</dcterms:modified>
  <cp:revision>61</cp:revision>
  <dc:subject/>
  <dc:title>PowerPoint Presentation</dc:title>
</cp:coreProperties>
</file>