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12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C5A-1B80-4424-BC71-0D306B3B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0E6B-185A-4828-A205-A81E2EF0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14C8-F947-466B-86B1-1F640422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FC0D-8098-4EE4-B45C-9CBF7876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A3BA-7917-444E-99EF-C97A6D5E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E04F-C475-4D4B-85A3-026294CD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7D27-F8C1-4816-BDE1-2D0ECB68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AD71-676A-4781-A6D5-C62B296F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A4F6-C6D7-4906-BF69-811354FE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4A8E-3B2C-4608-A611-0E2C7FD2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5325-D840-4C69-80B6-5710E8EF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8434-B1A0-48D6-A18B-BA912EB7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A4A4-70CC-42E8-A34D-4ED7C0E8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A19D-5712-467E-AEE0-72B1F29D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8D19-B73A-4001-9B44-5CA2A2B1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DF7B-C266-4729-9219-611FDCF7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B21F-6241-43AE-9685-F75790CB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269E6-3B61-4AB9-B1BF-B0E2EC76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75A17-F2AC-4FA1-8CAF-78CA395B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16E7A-953E-4206-8571-4CE9F581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3E9E8-568D-4156-B5D5-681D707E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1243E-1E1E-4524-8937-FDE55746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4305-C97A-46E3-ADBF-DC76E55E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2508C-A80B-4D1B-92AE-8298DDF3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92DD4-532D-4588-8B91-DF24C6F3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CD753-AD79-4D42-AADD-1A18962D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2E86D-A0B9-4F78-8DC1-85E9EF14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C99F7-2D60-4756-80C6-979FE252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A5372-00AB-46A3-9394-65154ADF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D1B73-71E7-4421-BDD1-6B865453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2B7-145B-4EB5-BDA5-98959866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D49-C39C-4E16-AED3-92BB17F2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144-8557-4DC9-9BD6-21F79328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1D4-F7E6-4DB7-BC74-66F4E73F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8A59-33ED-4D7C-8BBD-8D68E527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6825-FA4C-4E0C-A198-001AC04E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3074-3B87-4625-9871-3D515F9E9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42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32C3-F46A-4203-8328-1429320DD4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8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DE55-11F0-4C6D-979B-6E0118EB31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27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47;&#208;&#181;&#209;&#128;&#208;&#190;&#208;&#180;&#208;&#190;&#209;&#130;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40;&#1047;&#1054;&#1042;&#1057;&#1050;&#1054;&#1045;%20&#1052;&#1054;&#1056;&#1045;.ppt#Slide 1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88000" y="1699920"/>
            <a:ext cx="368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выполни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4 класса «В» МОУСОШ №4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. Динск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рлуцкий Игор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Жилина О. 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16360" y="3573360"/>
            <a:ext cx="3672000" cy="2521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38876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5402160" cy="51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66"/>
                </a:solidFill>
                <a:latin typeface="Arial"/>
              </a:rPr>
              <a:t>Фауна Азовского моря</a:t>
            </a:r>
            <a:endParaRPr b="0" lang="en-US" sz="8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632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Причины высокой продуктивности Азовского мор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9640" y="285228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Мелководность мор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Хорошая прогреваемость и освещенность всей толщи вод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Отличное перемешивание и насыщение вод кислород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вные промысловыми видам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являются осетровые( белуга,осетр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севрюга), судак,лещ,сазан,тарань, и сель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264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76360" y="764640"/>
            <a:ext cx="3311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image003" descr=""/>
          <p:cNvPicPr/>
          <p:nvPr/>
        </p:nvPicPr>
        <p:blipFill>
          <a:blip r:embed="rId1"/>
          <a:stretch/>
        </p:blipFill>
        <p:spPr>
          <a:xfrm>
            <a:off x="7920" y="-3024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257" name="osetr" descr=""/>
          <p:cNvPicPr/>
          <p:nvPr/>
        </p:nvPicPr>
        <p:blipFill>
          <a:blip r:embed="rId2"/>
          <a:stretch/>
        </p:blipFill>
        <p:spPr>
          <a:xfrm>
            <a:off x="6084720" y="2895480"/>
            <a:ext cx="2870280" cy="3962520"/>
          </a:xfrm>
          <a:prstGeom prst="rect">
            <a:avLst/>
          </a:prstGeom>
          <a:ln w="0">
            <a:noFill/>
          </a:ln>
        </p:spPr>
      </p:pic>
      <p:pic>
        <p:nvPicPr>
          <p:cNvPr id="258" name="lesh" descr=""/>
          <p:cNvPicPr/>
          <p:nvPr/>
        </p:nvPicPr>
        <p:blipFill>
          <a:blip r:embed="rId3"/>
          <a:stretch/>
        </p:blipFill>
        <p:spPr>
          <a:xfrm>
            <a:off x="0" y="4827600"/>
            <a:ext cx="3886200" cy="2030400"/>
          </a:xfrm>
          <a:prstGeom prst="rect">
            <a:avLst/>
          </a:prstGeom>
          <a:ln w="0">
            <a:noFill/>
          </a:ln>
        </p:spPr>
      </p:pic>
      <p:pic>
        <p:nvPicPr>
          <p:cNvPr id="259" name="sudak" descr=""/>
          <p:cNvPicPr/>
          <p:nvPr/>
        </p:nvPicPr>
        <p:blipFill>
          <a:blip r:embed="rId4"/>
          <a:stretch/>
        </p:blipFill>
        <p:spPr>
          <a:xfrm>
            <a:off x="0" y="0"/>
            <a:ext cx="3429000" cy="3112920"/>
          </a:xfrm>
          <a:prstGeom prst="rect">
            <a:avLst/>
          </a:prstGeom>
          <a:ln w="0">
            <a:noFill/>
          </a:ln>
        </p:spPr>
      </p:pic>
      <p:pic>
        <p:nvPicPr>
          <p:cNvPr id="260" name="Beluga_pic" descr=""/>
          <p:cNvPicPr/>
          <p:nvPr/>
        </p:nvPicPr>
        <p:blipFill>
          <a:blip r:embed="rId5"/>
          <a:stretch/>
        </p:blipFill>
        <p:spPr>
          <a:xfrm>
            <a:off x="3780000" y="189000"/>
            <a:ext cx="4790880" cy="1500120"/>
          </a:xfrm>
          <a:prstGeom prst="rect">
            <a:avLst/>
          </a:prstGeom>
          <a:ln w="0">
            <a:noFill/>
          </a:ln>
        </p:spPr>
      </p:pic>
      <p:pic>
        <p:nvPicPr>
          <p:cNvPr id="261" name="herring" descr=""/>
          <p:cNvPicPr/>
          <p:nvPr/>
        </p:nvPicPr>
        <p:blipFill>
          <a:blip r:embed="rId6"/>
          <a:stretch/>
        </p:blipFill>
        <p:spPr>
          <a:xfrm>
            <a:off x="3059280" y="2349360"/>
            <a:ext cx="4419360" cy="15829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-7920" y="46101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67280" y="3789360"/>
            <a:ext cx="14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ль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-7920" y="6370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ле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22720" y="274680"/>
            <a:ext cx="18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бел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99440" y="27129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5120" y="274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д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99440" y="6066000"/>
            <a:ext cx="549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7280" y="621828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0" y="2997360"/>
            <a:ext cx="3095640" cy="1833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0" y="2997360"/>
            <a:ext cx="1779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нчо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image003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951280" cy="1484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5364000" y="2276640"/>
            <a:ext cx="3564000" cy="1511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5867280" y="260280"/>
            <a:ext cx="2916360" cy="1484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5580000" y="1557360"/>
            <a:ext cx="2570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179280" y="2276640"/>
            <a:ext cx="2700360" cy="1484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324000" y="4724280"/>
            <a:ext cx="3400200" cy="1571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2987640" y="1484280"/>
            <a:ext cx="2879640" cy="1368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>
            <a:off x="5580000" y="4724280"/>
            <a:ext cx="306396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роблема Азовского моря –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адение продуктивности м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84360" y="2781360"/>
          <a:ext cx="7920000" cy="3043080"/>
        </p:xfrm>
        <a:graphic>
          <a:graphicData uri="http://schemas.openxmlformats.org/drawingml/2006/table">
            <a:tbl>
              <a:tblPr/>
              <a:tblGrid>
                <a:gridCol w="1962000"/>
                <a:gridCol w="762120"/>
                <a:gridCol w="761760"/>
                <a:gridCol w="695520"/>
                <a:gridCol w="720720"/>
                <a:gridCol w="793800"/>
                <a:gridCol w="718920"/>
                <a:gridCol w="722520"/>
                <a:gridCol w="782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ры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а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ра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етр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2627280" y="2276640"/>
            <a:ext cx="5977080" cy="482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лов азовских рыб тыс. т. годы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Причины снижения продуктивности</a:t>
            </a: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     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Азовского моря</a:t>
            </a:r>
            <a:br>
              <a:rPr sz="3600"/>
            </a:br>
            <a:r>
              <a:rPr b="1" i="1" lang="en-US" sz="3600" spc="-1" strike="noStrike">
                <a:solidFill>
                  <a:srgbClr val="ff3399"/>
                </a:solidFill>
                <a:latin typeface="Arial"/>
              </a:rPr>
              <a:t>1. </a:t>
            </a: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Уменьшение стока рек Дон и Кубань в результат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строительства водохранилищ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2. Биологическое загрязнение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3. Промышленное загрязнени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4. Сельскохозяйственное загрязнени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5. Нефтяное загрязнени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6. </a:t>
            </a: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Увеличение солености моря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0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Сток рек Дон и Кубань (куб.км.) в Азовском море за период с 1930 по 1990 гг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99160" y="6012000"/>
            <a:ext cx="291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755640" y="2565360"/>
            <a:ext cx="7914600" cy="2806200"/>
            <a:chOff x="755640" y="2565360"/>
            <a:chExt cx="7914600" cy="2806200"/>
          </a:xfrm>
        </p:grpSpPr>
        <p:grpSp>
          <p:nvGrpSpPr>
            <p:cNvPr id="319" name=""/>
            <p:cNvGrpSpPr/>
            <p:nvPr/>
          </p:nvGrpSpPr>
          <p:grpSpPr>
            <a:xfrm>
              <a:off x="755640" y="2565360"/>
              <a:ext cx="1383840" cy="1097280"/>
              <a:chOff x="755640" y="2565360"/>
              <a:chExt cx="1383840" cy="1097280"/>
            </a:xfrm>
          </p:grpSpPr>
          <p:sp>
            <p:nvSpPr>
              <p:cNvPr id="320" name=""/>
              <p:cNvSpPr/>
              <p:nvPr/>
            </p:nvSpPr>
            <p:spPr>
              <a:xfrm>
                <a:off x="755640" y="2565360"/>
                <a:ext cx="138384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еки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5640" y="2565360"/>
                <a:ext cx="138384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2139840" y="2565360"/>
              <a:ext cx="1383840" cy="1097280"/>
              <a:chOff x="2139840" y="2565360"/>
              <a:chExt cx="1383840" cy="1097280"/>
            </a:xfrm>
          </p:grpSpPr>
          <p:sp>
            <p:nvSpPr>
              <p:cNvPr id="323" name=""/>
              <p:cNvSpPr/>
              <p:nvPr/>
            </p:nvSpPr>
            <p:spPr>
              <a:xfrm>
                <a:off x="2139840" y="2565360"/>
                <a:ext cx="138384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орма ест. стока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139840" y="2565360"/>
                <a:ext cx="138384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3524040" y="2565360"/>
              <a:ext cx="850320" cy="1097280"/>
              <a:chOff x="3524040" y="2565360"/>
              <a:chExt cx="850320" cy="1097280"/>
            </a:xfrm>
          </p:grpSpPr>
          <p:sp>
            <p:nvSpPr>
              <p:cNvPr id="326" name=""/>
              <p:cNvSpPr/>
              <p:nvPr/>
            </p:nvSpPr>
            <p:spPr>
              <a:xfrm>
                <a:off x="3524040" y="2565360"/>
                <a:ext cx="85032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30- 194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24040" y="2565360"/>
                <a:ext cx="85032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4375080" y="2565360"/>
              <a:ext cx="850680" cy="1097280"/>
              <a:chOff x="4375080" y="2565360"/>
              <a:chExt cx="850680" cy="1097280"/>
            </a:xfrm>
          </p:grpSpPr>
          <p:sp>
            <p:nvSpPr>
              <p:cNvPr id="329" name=""/>
              <p:cNvSpPr/>
              <p:nvPr/>
            </p:nvSpPr>
            <p:spPr>
              <a:xfrm>
                <a:off x="4375080" y="2565360"/>
                <a:ext cx="85068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41- 195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75080" y="2565360"/>
                <a:ext cx="85068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226120" y="2565360"/>
              <a:ext cx="891000" cy="1097280"/>
              <a:chOff x="5226120" y="2565360"/>
              <a:chExt cx="891000" cy="1097280"/>
            </a:xfrm>
          </p:grpSpPr>
          <p:sp>
            <p:nvSpPr>
              <p:cNvPr id="332" name=""/>
              <p:cNvSpPr/>
              <p:nvPr/>
            </p:nvSpPr>
            <p:spPr>
              <a:xfrm>
                <a:off x="5226120" y="2565360"/>
                <a:ext cx="89100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51- 196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226120" y="2565360"/>
                <a:ext cx="89100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117840" y="2565360"/>
              <a:ext cx="850680" cy="1097280"/>
              <a:chOff x="6117840" y="2565360"/>
              <a:chExt cx="850680" cy="1097280"/>
            </a:xfrm>
          </p:grpSpPr>
          <p:sp>
            <p:nvSpPr>
              <p:cNvPr id="335" name=""/>
              <p:cNvSpPr/>
              <p:nvPr/>
            </p:nvSpPr>
            <p:spPr>
              <a:xfrm>
                <a:off x="6117840" y="2565360"/>
                <a:ext cx="85068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61- 197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17840" y="2565360"/>
                <a:ext cx="85068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968880" y="2565360"/>
              <a:ext cx="850320" cy="1097280"/>
              <a:chOff x="6968880" y="2565360"/>
              <a:chExt cx="850320" cy="1097280"/>
            </a:xfrm>
          </p:grpSpPr>
          <p:sp>
            <p:nvSpPr>
              <p:cNvPr id="338" name=""/>
              <p:cNvSpPr/>
              <p:nvPr/>
            </p:nvSpPr>
            <p:spPr>
              <a:xfrm>
                <a:off x="6968880" y="2565360"/>
                <a:ext cx="85032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71- 198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968880" y="2565360"/>
                <a:ext cx="85032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7819920" y="2565360"/>
              <a:ext cx="850320" cy="1097280"/>
              <a:chOff x="7819920" y="2565360"/>
              <a:chExt cx="850320" cy="1097280"/>
            </a:xfrm>
          </p:grpSpPr>
          <p:sp>
            <p:nvSpPr>
              <p:cNvPr id="341" name=""/>
              <p:cNvSpPr/>
              <p:nvPr/>
            </p:nvSpPr>
            <p:spPr>
              <a:xfrm>
                <a:off x="7819920" y="2565360"/>
                <a:ext cx="85032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81- 199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819920" y="2565360"/>
                <a:ext cx="85032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755640" y="3663000"/>
              <a:ext cx="1383840" cy="853560"/>
              <a:chOff x="755640" y="3663000"/>
              <a:chExt cx="1383840" cy="853560"/>
            </a:xfrm>
          </p:grpSpPr>
          <p:sp>
            <p:nvSpPr>
              <p:cNvPr id="344" name=""/>
              <p:cNvSpPr/>
              <p:nvPr/>
            </p:nvSpPr>
            <p:spPr>
              <a:xfrm>
                <a:off x="755640" y="3663000"/>
                <a:ext cx="138384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он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5640" y="3663000"/>
                <a:ext cx="138384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139840" y="3663000"/>
              <a:ext cx="1383840" cy="853560"/>
              <a:chOff x="2139840" y="3663000"/>
              <a:chExt cx="1383840" cy="853560"/>
            </a:xfrm>
          </p:grpSpPr>
          <p:sp>
            <p:nvSpPr>
              <p:cNvPr id="347" name=""/>
              <p:cNvSpPr/>
              <p:nvPr/>
            </p:nvSpPr>
            <p:spPr>
              <a:xfrm>
                <a:off x="2139840" y="3663000"/>
                <a:ext cx="138384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8,9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139840" y="3663000"/>
                <a:ext cx="138384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524040" y="3663000"/>
              <a:ext cx="850320" cy="853560"/>
              <a:chOff x="3524040" y="3663000"/>
              <a:chExt cx="850320" cy="853560"/>
            </a:xfrm>
          </p:grpSpPr>
          <p:sp>
            <p:nvSpPr>
              <p:cNvPr id="350" name=""/>
              <p:cNvSpPr/>
              <p:nvPr/>
            </p:nvSpPr>
            <p:spPr>
              <a:xfrm>
                <a:off x="3524040" y="3663000"/>
                <a:ext cx="85032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7,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524040" y="3663000"/>
                <a:ext cx="85032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4375080" y="3663000"/>
              <a:ext cx="850680" cy="853560"/>
              <a:chOff x="4375080" y="3663000"/>
              <a:chExt cx="850680" cy="853560"/>
            </a:xfrm>
          </p:grpSpPr>
          <p:sp>
            <p:nvSpPr>
              <p:cNvPr id="353" name=""/>
              <p:cNvSpPr/>
              <p:nvPr/>
            </p:nvSpPr>
            <p:spPr>
              <a:xfrm>
                <a:off x="4375080" y="3663000"/>
                <a:ext cx="85068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7,5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375080" y="3663000"/>
                <a:ext cx="85068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5226120" y="3663000"/>
              <a:ext cx="891000" cy="853560"/>
              <a:chOff x="5226120" y="3663000"/>
              <a:chExt cx="891000" cy="853560"/>
            </a:xfrm>
          </p:grpSpPr>
          <p:sp>
            <p:nvSpPr>
              <p:cNvPr id="356" name=""/>
              <p:cNvSpPr/>
              <p:nvPr/>
            </p:nvSpPr>
            <p:spPr>
              <a:xfrm>
                <a:off x="5226120" y="3663000"/>
                <a:ext cx="89100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,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226120" y="3663000"/>
                <a:ext cx="89100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117840" y="3663000"/>
              <a:ext cx="850680" cy="853560"/>
              <a:chOff x="6117840" y="3663000"/>
              <a:chExt cx="850680" cy="853560"/>
            </a:xfrm>
          </p:grpSpPr>
          <p:sp>
            <p:nvSpPr>
              <p:cNvPr id="359" name=""/>
              <p:cNvSpPr/>
              <p:nvPr/>
            </p:nvSpPr>
            <p:spPr>
              <a:xfrm>
                <a:off x="6117840" y="3663000"/>
                <a:ext cx="85068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,9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117840" y="3663000"/>
                <a:ext cx="85068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968880" y="3663000"/>
              <a:ext cx="850320" cy="853560"/>
              <a:chOff x="6968880" y="3663000"/>
              <a:chExt cx="850320" cy="853560"/>
            </a:xfrm>
          </p:grpSpPr>
          <p:sp>
            <p:nvSpPr>
              <p:cNvPr id="362" name=""/>
              <p:cNvSpPr/>
              <p:nvPr/>
            </p:nvSpPr>
            <p:spPr>
              <a:xfrm>
                <a:off x="6968880" y="3663000"/>
                <a:ext cx="85032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2,8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968880" y="3663000"/>
                <a:ext cx="85032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7819920" y="3663000"/>
              <a:ext cx="850320" cy="853560"/>
              <a:chOff x="7819920" y="3663000"/>
              <a:chExt cx="850320" cy="853560"/>
            </a:xfrm>
          </p:grpSpPr>
          <p:sp>
            <p:nvSpPr>
              <p:cNvPr id="365" name=""/>
              <p:cNvSpPr/>
              <p:nvPr/>
            </p:nvSpPr>
            <p:spPr>
              <a:xfrm>
                <a:off x="7819920" y="3663000"/>
                <a:ext cx="85032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1,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819920" y="3663000"/>
                <a:ext cx="85032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755640" y="4517280"/>
              <a:ext cx="1383840" cy="854280"/>
              <a:chOff x="755640" y="4517280"/>
              <a:chExt cx="1383840" cy="854280"/>
            </a:xfrm>
          </p:grpSpPr>
          <p:sp>
            <p:nvSpPr>
              <p:cNvPr id="368" name=""/>
              <p:cNvSpPr/>
              <p:nvPr/>
            </p:nvSpPr>
            <p:spPr>
              <a:xfrm>
                <a:off x="755640" y="4517280"/>
                <a:ext cx="138384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убань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55640" y="4517280"/>
                <a:ext cx="138384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2139840" y="4517280"/>
              <a:ext cx="1383840" cy="854280"/>
              <a:chOff x="2139840" y="4517280"/>
              <a:chExt cx="1383840" cy="854280"/>
            </a:xfrm>
          </p:grpSpPr>
          <p:sp>
            <p:nvSpPr>
              <p:cNvPr id="371" name=""/>
              <p:cNvSpPr/>
              <p:nvPr/>
            </p:nvSpPr>
            <p:spPr>
              <a:xfrm>
                <a:off x="2139840" y="4517280"/>
                <a:ext cx="138384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,4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139840" y="4517280"/>
                <a:ext cx="138384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3524040" y="4517280"/>
              <a:ext cx="850320" cy="854280"/>
              <a:chOff x="3524040" y="4517280"/>
              <a:chExt cx="850320" cy="854280"/>
            </a:xfrm>
          </p:grpSpPr>
          <p:sp>
            <p:nvSpPr>
              <p:cNvPr id="374" name=""/>
              <p:cNvSpPr/>
              <p:nvPr/>
            </p:nvSpPr>
            <p:spPr>
              <a:xfrm>
                <a:off x="3524040" y="4517280"/>
                <a:ext cx="85032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,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524040" y="4517280"/>
                <a:ext cx="85032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4375080" y="4517280"/>
              <a:ext cx="850680" cy="854280"/>
              <a:chOff x="4375080" y="4517280"/>
              <a:chExt cx="850680" cy="854280"/>
            </a:xfrm>
          </p:grpSpPr>
          <p:sp>
            <p:nvSpPr>
              <p:cNvPr id="377" name=""/>
              <p:cNvSpPr/>
              <p:nvPr/>
            </p:nvSpPr>
            <p:spPr>
              <a:xfrm>
                <a:off x="4375080" y="4517280"/>
                <a:ext cx="85068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,4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375080" y="4517280"/>
                <a:ext cx="85068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226120" y="4517280"/>
              <a:ext cx="891000" cy="854280"/>
              <a:chOff x="5226120" y="4517280"/>
              <a:chExt cx="891000" cy="854280"/>
            </a:xfrm>
          </p:grpSpPr>
          <p:sp>
            <p:nvSpPr>
              <p:cNvPr id="380" name=""/>
              <p:cNvSpPr/>
              <p:nvPr/>
            </p:nvSpPr>
            <p:spPr>
              <a:xfrm>
                <a:off x="5226120" y="4517280"/>
                <a:ext cx="89100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,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26120" y="4517280"/>
                <a:ext cx="89100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117840" y="4517280"/>
              <a:ext cx="850680" cy="854280"/>
              <a:chOff x="6117840" y="4517280"/>
              <a:chExt cx="850680" cy="854280"/>
            </a:xfrm>
          </p:grpSpPr>
          <p:sp>
            <p:nvSpPr>
              <p:cNvPr id="383" name=""/>
              <p:cNvSpPr/>
              <p:nvPr/>
            </p:nvSpPr>
            <p:spPr>
              <a:xfrm>
                <a:off x="6117840" y="4517280"/>
                <a:ext cx="85068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,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117840" y="4517280"/>
                <a:ext cx="85068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968880" y="4517280"/>
              <a:ext cx="850320" cy="854280"/>
              <a:chOff x="6968880" y="4517280"/>
              <a:chExt cx="850320" cy="854280"/>
            </a:xfrm>
          </p:grpSpPr>
          <p:sp>
            <p:nvSpPr>
              <p:cNvPr id="386" name=""/>
              <p:cNvSpPr/>
              <p:nvPr/>
            </p:nvSpPr>
            <p:spPr>
              <a:xfrm>
                <a:off x="6968880" y="4517280"/>
                <a:ext cx="85032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,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968880" y="4517280"/>
                <a:ext cx="85032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819920" y="4517280"/>
              <a:ext cx="850320" cy="854280"/>
              <a:chOff x="7819920" y="4517280"/>
              <a:chExt cx="850320" cy="854280"/>
            </a:xfrm>
          </p:grpSpPr>
          <p:sp>
            <p:nvSpPr>
              <p:cNvPr id="389" name=""/>
              <p:cNvSpPr/>
              <p:nvPr/>
            </p:nvSpPr>
            <p:spPr>
              <a:xfrm>
                <a:off x="7819920" y="4517280"/>
                <a:ext cx="85032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,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19920" y="4517280"/>
                <a:ext cx="85032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6327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Биологическое загрязнение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лучайное или связанное с деятельностью человека проникновение в природный комплекс моря чуждых ему растений, животных и микроорганизм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561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66"/>
                </a:solidFill>
                <a:latin typeface="Arial"/>
              </a:rPr>
              <a:t>Увеличение солёности мор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7040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5344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Азовское море: вчера, сегодня, зав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7640"/>
            <a:ext cx="0" cy="684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9308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8900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76280"/>
            <a:ext cx="0" cy="6381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381720"/>
            <a:ext cx="83883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8407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915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"/>
              </a:rPr>
              <a:t>Промышленное загряз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7488360" cy="3889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7499520" cy="38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0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"/>
              </a:rPr>
              <a:t>Нефтяное загряз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76944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64818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9900"/>
                </a:solidFill>
                <a:uFillTx/>
                <a:latin typeface="Arial"/>
              </a:rPr>
              <a:t>Э</a:t>
            </a:r>
            <a:r>
              <a:rPr b="1" lang="en-US" sz="5400" spc="-1" strike="noStrike" u="sng">
                <a:solidFill>
                  <a:srgbClr val="ff9900"/>
                </a:solidFill>
                <a:uFillTx/>
                <a:latin typeface="Arial"/>
              </a:rPr>
              <a:t>КОЛОГИЧЕСКИЕ</a:t>
            </a:r>
            <a:br>
              <a:rPr sz="5400"/>
            </a:br>
            <a:r>
              <a:rPr b="1" lang="en-US" sz="5400" spc="-1" strike="noStrike" u="sng">
                <a:solidFill>
                  <a:srgbClr val="ff9900"/>
                </a:solidFill>
                <a:uFillTx/>
                <a:latin typeface="Arial"/>
              </a:rPr>
              <a:t> КАТОСТРОФЫ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Азовское море 2007 г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826920" y="1268280"/>
            <a:ext cx="7490160" cy="485784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826920" y="1268280"/>
            <a:ext cx="7490160" cy="48578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5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6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7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8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9"/>
          <a:stretch/>
        </p:blipFill>
        <p:spPr>
          <a:xfrm>
            <a:off x="762120" y="1268280"/>
            <a:ext cx="7619760" cy="484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915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езультате кораблекрушений в воду попало около 6,8 тысячи тонн серы и около 1,3 тысячи тонн мазута.  Протяженность пятна вдоль берега  - 12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561440" cy="40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Последствия керченской катастроф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561440" cy="43210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Последствия керченской катастрофы. Фото: ALEXANDER NEMENOV/AFP/Getty Images"/>
          <p:cNvPicPr/>
          <p:nvPr/>
        </p:nvPicPr>
        <p:blipFill>
          <a:blip r:embed="rId2"/>
          <a:stretch/>
        </p:blipFill>
        <p:spPr>
          <a:xfrm>
            <a:off x="826920" y="1844640"/>
            <a:ext cx="7561440" cy="43210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Последствия керченской катастрофы. Фото: ALEXANDER NEMENOV/AFP/Getty Images"/>
          <p:cNvPicPr/>
          <p:nvPr/>
        </p:nvPicPr>
        <p:blipFill>
          <a:blip r:embed="rId3"/>
          <a:stretch/>
        </p:blipFill>
        <p:spPr>
          <a:xfrm>
            <a:off x="723960" y="1989000"/>
            <a:ext cx="7664400" cy="41371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Последствия керченской катастрофы. Фото: ALEXANDER NEMENOV/AFP/Getty Images"/>
          <p:cNvPicPr/>
          <p:nvPr/>
        </p:nvPicPr>
        <p:blipFill>
          <a:blip r:embed="rId4"/>
          <a:stretch/>
        </p:blipFill>
        <p:spPr>
          <a:xfrm>
            <a:off x="755640" y="1916280"/>
            <a:ext cx="7664400" cy="42494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5"/>
          <a:stretch/>
        </p:blipFill>
        <p:spPr>
          <a:xfrm>
            <a:off x="755640" y="1844640"/>
            <a:ext cx="770400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26920" y="76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Последствия керченской катастроф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624800" cy="41767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Последствия керченской катастрофы. Фото: ALEXANDER NEMENOV/AFP/Getty Images"/>
          <p:cNvPicPr/>
          <p:nvPr/>
        </p:nvPicPr>
        <p:blipFill>
          <a:blip r:embed="rId2"/>
          <a:stretch/>
        </p:blipFill>
        <p:spPr>
          <a:xfrm>
            <a:off x="826920" y="1989000"/>
            <a:ext cx="7632720" cy="4176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833400" y="1989000"/>
            <a:ext cx="7626240" cy="41371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7632720" cy="41371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826920" y="1989000"/>
            <a:ext cx="76327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cc00"/>
                </a:solidFill>
                <a:uFillTx/>
                <a:latin typeface="Arial"/>
              </a:rPr>
              <a:t>Азовское  море год спуст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559640" cy="48243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5661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Берег мо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857160" y="1268280"/>
            <a:ext cx="7531200" cy="489744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417080" cy="48974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900000" y="1268280"/>
            <a:ext cx="748836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Мои наблюдения за мор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900000" y="1341360"/>
          <a:ext cx="7488000" cy="4824000"/>
        </p:xfrm>
        <a:graphic>
          <a:graphicData uri="http://schemas.openxmlformats.org/drawingml/2006/table">
            <a:tbl>
              <a:tblPr/>
              <a:tblGrid>
                <a:gridCol w="1214280"/>
                <a:gridCol w="1086840"/>
                <a:gridCol w="1291320"/>
                <a:gridCol w="1315800"/>
                <a:gridCol w="1173960"/>
                <a:gridCol w="140580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ух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оды у берега (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ина у берега (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ина в 20 м от бере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ушла от берега на 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ушла от берега на 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ушла от берега на 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4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5329440" cy="46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Arial"/>
              </a:rPr>
              <a:t>История изучения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9933"/>
                </a:solidFill>
                <a:uFillTx/>
                <a:latin typeface="Arial"/>
              </a:rPr>
              <a:t>Опомнись, челове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561440" cy="48960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7561440" cy="48243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763272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5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5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22200" y="198792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помнись, вздрогни чело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едолог на земле твой 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о что после себя остави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 чем мы здесь себя прослави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76360" y="764640"/>
            <a:ext cx="3311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11280" y="691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В истории изучения Азовского моря выделяют три эта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1977840"/>
            <a:ext cx="770580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евний (географический) — со времён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еродот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начала XIX 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Геолого-географический — XIX ст. — 40-е годы XX 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Комплексный — середина XX ст. — сего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Первая карта Азовского м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55164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5329440" cy="46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Arial"/>
              </a:rPr>
              <a:t>Общие сведения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Общие с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hoto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75280" cy="4752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84360" y="1700280"/>
            <a:ext cx="777528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лощадь 38 т.км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аксимальная глубина 14 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редняя глубина 8 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редний объем воды 320 км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оленость воды 2-11‰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етом толща воды прогрев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о 26 –28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С, зимой море замерз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ГЕОГРАФИЧЕСКИЕ ОБЪЕКТЫ АЗОВСКОГО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740040" cy="4537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648320" y="1628640"/>
            <a:ext cx="38844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561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i="1" lang="en-US" sz="5400" spc="-1" strike="noStrike">
                <a:solidFill>
                  <a:srgbClr val="666633"/>
                </a:solidFill>
                <a:latin typeface="Arial"/>
              </a:rPr>
              <a:t>Ресурсы Азовского мор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276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1" i="1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1.Биологически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2.Дешевые транспортные пу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3.Курорты и здравн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7:15:30Z</dcterms:created>
  <dc:creator>ENJOY</dc:creator>
  <dc:description/>
  <dc:language>en-US</dc:language>
  <cp:lastModifiedBy>ENJOY</cp:lastModifiedBy>
  <dcterms:modified xsi:type="dcterms:W3CDTF">2009-07-07T08:07:18Z</dcterms:modified>
  <cp:revision>7</cp:revision>
  <dc:subject/>
  <dc:title>Слайд 1</dc:title>
</cp:coreProperties>
</file>