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813-16C1-4519-A79C-104164F0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975-B43A-4C13-B507-17FBD038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8B1-3C56-416A-915C-1182E2B8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E0B-D98F-4002-8C8B-6900ABE3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6CA9-78FB-4119-B4B0-2F1ECF3B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8B27-D587-464D-A12A-0683B63A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5370-4603-4FBA-9D10-7BE22865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0B0F-1BF5-4869-B366-CDBA4610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4F29-C130-4A75-B202-45159218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9FFC-7C96-4959-8487-61E12A14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6F72-11BF-4C38-8A35-CB4D148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157-8FB5-43D4-B2AD-7915D9D0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C1B3-25F4-43B8-B6CB-48C9425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97D6-9483-4FB7-822D-D3C97785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11CD-F05F-49BE-960A-1ECE3BB6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8F1F-BEC6-4B04-ABBC-B0E8EABE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B4CB-11D5-440A-98D6-3E43FC2A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5077-2013-44E8-9D39-C718838F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A9BD-A403-4B84-8FF4-AABD5CB9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6C66-81B6-41AE-B43D-BC8B6612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DDF5-2CBA-45F4-8EFD-A61AD8FB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2CC8-9C6E-4E5F-B092-30FCA35C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066-AEAF-4FF4-AA47-93DB1E84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08BA-72FA-496D-9508-CDF901FE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0F7D-1779-4D65-AD89-F404D455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C2C2-82AC-4A9B-82E9-F999EBE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9912-9EED-4BC7-825B-9D89238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C03C-F54A-4F89-931C-E1897255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3C051-3AC3-4BAD-B1BB-CFDD7FA8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CCAC-2C57-4710-A3C9-5AAA7499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B1B-3D8A-4685-9FC5-7907AC6A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666-E4DD-482E-B058-5E9C23F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279-A144-4755-8518-385B83EF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6E3-DB73-4699-97D5-B914859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F15-5A53-454B-93D8-51C578D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C4F-949C-4789-9129-D7AA9C52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B34D-FED7-4974-9461-02188FB03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42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60BB-52AF-44D8-A5C0-9FD4EAAC59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8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175F-6276-4358-838F-13773A8C2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27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7;&#208;&#181;&#209;&#128;&#208;&#190;&#208;&#180;&#208;&#190;&#209;&#130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0;&#1047;&#1054;&#1042;&#1057;&#1050;&#1054;&#1045;%20&#1052;&#1054;&#1056;&#1045;.ppt#Slide 1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169992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4 класса «В» МОУСОШ №4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 Д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луцкий Игор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Жилина О.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672000" cy="252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40216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66"/>
                </a:solidFill>
                <a:latin typeface="Arial"/>
              </a:rPr>
              <a:t>Фауна Азовского моря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Причины высокой продуктивности Азовского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9640" y="2852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Мелководность мор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Хорошая прогреваемость и освещенность всей толщи во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Отличное перемешивание и насыщение вод кислоро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ые промысловыми видам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являются осетровые( белуга,осетр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севрюга), судак,лещ,сазан,тарань, и сель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003" descr=""/>
          <p:cNvPicPr/>
          <p:nvPr/>
        </p:nvPicPr>
        <p:blipFill>
          <a:blip r:embed="rId1"/>
          <a:stretch/>
        </p:blipFill>
        <p:spPr>
          <a:xfrm>
            <a:off x="792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257" name="osetr" descr=""/>
          <p:cNvPicPr/>
          <p:nvPr/>
        </p:nvPicPr>
        <p:blipFill>
          <a:blip r:embed="rId2"/>
          <a:stretch/>
        </p:blipFill>
        <p:spPr>
          <a:xfrm>
            <a:off x="6084720" y="2895480"/>
            <a:ext cx="2870280" cy="3962520"/>
          </a:xfrm>
          <a:prstGeom prst="rect">
            <a:avLst/>
          </a:prstGeom>
          <a:ln w="0">
            <a:noFill/>
          </a:ln>
        </p:spPr>
      </p:pic>
      <p:pic>
        <p:nvPicPr>
          <p:cNvPr id="258" name="lesh" descr=""/>
          <p:cNvPicPr/>
          <p:nvPr/>
        </p:nvPicPr>
        <p:blipFill>
          <a:blip r:embed="rId3"/>
          <a:stretch/>
        </p:blipFill>
        <p:spPr>
          <a:xfrm>
            <a:off x="0" y="4827600"/>
            <a:ext cx="3886200" cy="2030400"/>
          </a:xfrm>
          <a:prstGeom prst="rect">
            <a:avLst/>
          </a:prstGeom>
          <a:ln w="0">
            <a:noFill/>
          </a:ln>
        </p:spPr>
      </p:pic>
      <p:pic>
        <p:nvPicPr>
          <p:cNvPr id="259" name="sudak" descr=""/>
          <p:cNvPicPr/>
          <p:nvPr/>
        </p:nvPicPr>
        <p:blipFill>
          <a:blip r:embed="rId4"/>
          <a:stretch/>
        </p:blipFill>
        <p:spPr>
          <a:xfrm>
            <a:off x="0" y="0"/>
            <a:ext cx="3429000" cy="3112920"/>
          </a:xfrm>
          <a:prstGeom prst="rect">
            <a:avLst/>
          </a:prstGeom>
          <a:ln w="0">
            <a:noFill/>
          </a:ln>
        </p:spPr>
      </p:pic>
      <p:pic>
        <p:nvPicPr>
          <p:cNvPr id="260" name="Beluga_pic" descr=""/>
          <p:cNvPicPr/>
          <p:nvPr/>
        </p:nvPicPr>
        <p:blipFill>
          <a:blip r:embed="rId5"/>
          <a:stretch/>
        </p:blipFill>
        <p:spPr>
          <a:xfrm>
            <a:off x="3780000" y="189000"/>
            <a:ext cx="4790880" cy="1500120"/>
          </a:xfrm>
          <a:prstGeom prst="rect">
            <a:avLst/>
          </a:prstGeom>
          <a:ln w="0">
            <a:noFill/>
          </a:ln>
        </p:spPr>
      </p:pic>
      <p:pic>
        <p:nvPicPr>
          <p:cNvPr id="261" name="herring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4419360" cy="1582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-7920" y="4610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67280" y="378936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ь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7920" y="6370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2746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е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9440" y="2712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5120" y="274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99440" y="6066000"/>
            <a:ext cx="549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7280" y="621828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0" y="2997360"/>
            <a:ext cx="3095640" cy="1833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2997360"/>
            <a:ext cx="1779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нчо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age003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951280" cy="1484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3564000" cy="1511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867280" y="260280"/>
            <a:ext cx="29163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1557360"/>
            <a:ext cx="257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79280" y="2276640"/>
            <a:ext cx="2700360" cy="148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3400200" cy="157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2987640" y="1484280"/>
            <a:ext cx="2879640" cy="1368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5580000" y="4724280"/>
            <a:ext cx="30639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облема Азовского моря –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адение продуктивност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4360" y="2781360"/>
          <a:ext cx="7920000" cy="3043080"/>
        </p:xfrm>
        <a:graphic>
          <a:graphicData uri="http://schemas.openxmlformats.org/drawingml/2006/table">
            <a:tbl>
              <a:tblPr/>
              <a:tblGrid>
                <a:gridCol w="1962000"/>
                <a:gridCol w="762120"/>
                <a:gridCol w="761760"/>
                <a:gridCol w="695520"/>
                <a:gridCol w="720720"/>
                <a:gridCol w="793800"/>
                <a:gridCol w="718920"/>
                <a:gridCol w="722520"/>
                <a:gridCol w="782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ры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а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т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627280" y="2276640"/>
            <a:ext cx="5977080" cy="482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лов азовских рыб тыс. т. годы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ричины снижения продуктивности</a:t>
            </a: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Азовского моря</a:t>
            </a:r>
            <a:br>
              <a:rPr sz="3600"/>
            </a:b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меньшение стока рек Дон и Кубань в результат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строительства водохранилищ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2. Биологическое загрязнение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3. Промышл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4. Сельскохозяйств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5. Нефтя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6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величение солености моря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0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ток рек Дон и Кубань (куб.км.) в Азовском море за период с 1930 по 1990 гг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99160" y="6012000"/>
            <a:ext cx="291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55640" y="2565360"/>
            <a:ext cx="7914600" cy="2806200"/>
            <a:chOff x="755640" y="2565360"/>
            <a:chExt cx="7914600" cy="2806200"/>
          </a:xfrm>
        </p:grpSpPr>
        <p:grpSp>
          <p:nvGrpSpPr>
            <p:cNvPr id="319" name=""/>
            <p:cNvGrpSpPr/>
            <p:nvPr/>
          </p:nvGrpSpPr>
          <p:grpSpPr>
            <a:xfrm>
              <a:off x="755640" y="2565360"/>
              <a:ext cx="1383840" cy="1097280"/>
              <a:chOff x="755640" y="2565360"/>
              <a:chExt cx="1383840" cy="1097280"/>
            </a:xfrm>
          </p:grpSpPr>
          <p:sp>
            <p:nvSpPr>
              <p:cNvPr id="320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к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139840" y="2565360"/>
              <a:ext cx="1383840" cy="1097280"/>
              <a:chOff x="2139840" y="2565360"/>
              <a:chExt cx="1383840" cy="1097280"/>
            </a:xfrm>
          </p:grpSpPr>
          <p:sp>
            <p:nvSpPr>
              <p:cNvPr id="323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орма ест. стока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524040" y="2565360"/>
              <a:ext cx="850320" cy="1097280"/>
              <a:chOff x="3524040" y="2565360"/>
              <a:chExt cx="850320" cy="1097280"/>
            </a:xfrm>
          </p:grpSpPr>
          <p:sp>
            <p:nvSpPr>
              <p:cNvPr id="326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30- 194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375080" y="2565360"/>
              <a:ext cx="850680" cy="1097280"/>
              <a:chOff x="4375080" y="2565360"/>
              <a:chExt cx="850680" cy="1097280"/>
            </a:xfrm>
          </p:grpSpPr>
          <p:sp>
            <p:nvSpPr>
              <p:cNvPr id="329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41- 195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226120" y="2565360"/>
              <a:ext cx="891000" cy="1097280"/>
              <a:chOff x="5226120" y="2565360"/>
              <a:chExt cx="891000" cy="1097280"/>
            </a:xfrm>
          </p:grpSpPr>
          <p:sp>
            <p:nvSpPr>
              <p:cNvPr id="332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51- 196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117840" y="2565360"/>
              <a:ext cx="850680" cy="1097280"/>
              <a:chOff x="6117840" y="2565360"/>
              <a:chExt cx="850680" cy="109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61- 197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968880" y="2565360"/>
              <a:ext cx="850320" cy="1097280"/>
              <a:chOff x="6968880" y="2565360"/>
              <a:chExt cx="850320" cy="1097280"/>
            </a:xfrm>
          </p:grpSpPr>
          <p:sp>
            <p:nvSpPr>
              <p:cNvPr id="338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71- 198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819920" y="2565360"/>
              <a:ext cx="850320" cy="1097280"/>
              <a:chOff x="7819920" y="2565360"/>
              <a:chExt cx="850320" cy="1097280"/>
            </a:xfrm>
          </p:grpSpPr>
          <p:sp>
            <p:nvSpPr>
              <p:cNvPr id="341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81- 199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55640" y="3663000"/>
              <a:ext cx="1383840" cy="853560"/>
              <a:chOff x="755640" y="3663000"/>
              <a:chExt cx="1383840" cy="853560"/>
            </a:xfrm>
          </p:grpSpPr>
          <p:sp>
            <p:nvSpPr>
              <p:cNvPr id="344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он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139840" y="3663000"/>
              <a:ext cx="1383840" cy="853560"/>
              <a:chOff x="2139840" y="3663000"/>
              <a:chExt cx="1383840" cy="853560"/>
            </a:xfrm>
          </p:grpSpPr>
          <p:sp>
            <p:nvSpPr>
              <p:cNvPr id="347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8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524040" y="3663000"/>
              <a:ext cx="850320" cy="853560"/>
              <a:chOff x="3524040" y="3663000"/>
              <a:chExt cx="850320" cy="853560"/>
            </a:xfrm>
          </p:grpSpPr>
          <p:sp>
            <p:nvSpPr>
              <p:cNvPr id="350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375080" y="3663000"/>
              <a:ext cx="850680" cy="853560"/>
              <a:chOff x="4375080" y="3663000"/>
              <a:chExt cx="850680" cy="853560"/>
            </a:xfrm>
          </p:grpSpPr>
          <p:sp>
            <p:nvSpPr>
              <p:cNvPr id="353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5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226120" y="3663000"/>
              <a:ext cx="891000" cy="853560"/>
              <a:chOff x="5226120" y="3663000"/>
              <a:chExt cx="891000" cy="853560"/>
            </a:xfrm>
          </p:grpSpPr>
          <p:sp>
            <p:nvSpPr>
              <p:cNvPr id="356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117840" y="3663000"/>
              <a:ext cx="850680" cy="853560"/>
              <a:chOff x="6117840" y="3663000"/>
              <a:chExt cx="850680" cy="853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968880" y="3663000"/>
              <a:ext cx="850320" cy="853560"/>
              <a:chOff x="6968880" y="3663000"/>
              <a:chExt cx="850320" cy="853560"/>
            </a:xfrm>
          </p:grpSpPr>
          <p:sp>
            <p:nvSpPr>
              <p:cNvPr id="362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,8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819920" y="3663000"/>
              <a:ext cx="850320" cy="853560"/>
              <a:chOff x="7819920" y="3663000"/>
              <a:chExt cx="850320" cy="85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55640" y="4517280"/>
              <a:ext cx="1383840" cy="854280"/>
              <a:chOff x="755640" y="4517280"/>
              <a:chExt cx="1383840" cy="854280"/>
            </a:xfrm>
          </p:grpSpPr>
          <p:sp>
            <p:nvSpPr>
              <p:cNvPr id="368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бан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139840" y="4517280"/>
              <a:ext cx="1383840" cy="854280"/>
              <a:chOff x="2139840" y="4517280"/>
              <a:chExt cx="1383840" cy="854280"/>
            </a:xfrm>
          </p:grpSpPr>
          <p:sp>
            <p:nvSpPr>
              <p:cNvPr id="371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524040" y="4517280"/>
              <a:ext cx="850320" cy="854280"/>
              <a:chOff x="3524040" y="4517280"/>
              <a:chExt cx="850320" cy="854280"/>
            </a:xfrm>
          </p:grpSpPr>
          <p:sp>
            <p:nvSpPr>
              <p:cNvPr id="374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375080" y="4517280"/>
              <a:ext cx="850680" cy="854280"/>
              <a:chOff x="4375080" y="4517280"/>
              <a:chExt cx="850680" cy="854280"/>
            </a:xfrm>
          </p:grpSpPr>
          <p:sp>
            <p:nvSpPr>
              <p:cNvPr id="377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226120" y="4517280"/>
              <a:ext cx="891000" cy="854280"/>
              <a:chOff x="5226120" y="4517280"/>
              <a:chExt cx="891000" cy="854280"/>
            </a:xfrm>
          </p:grpSpPr>
          <p:sp>
            <p:nvSpPr>
              <p:cNvPr id="380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117840" y="4517280"/>
              <a:ext cx="850680" cy="854280"/>
              <a:chOff x="6117840" y="4517280"/>
              <a:chExt cx="850680" cy="854280"/>
            </a:xfrm>
          </p:grpSpPr>
          <p:sp>
            <p:nvSpPr>
              <p:cNvPr id="383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,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968880" y="4517280"/>
              <a:ext cx="850320" cy="854280"/>
              <a:chOff x="6968880" y="4517280"/>
              <a:chExt cx="850320" cy="854280"/>
            </a:xfrm>
          </p:grpSpPr>
          <p:sp>
            <p:nvSpPr>
              <p:cNvPr id="386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819920" y="4517280"/>
              <a:ext cx="850320" cy="854280"/>
              <a:chOff x="7819920" y="4517280"/>
              <a:chExt cx="850320" cy="85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агрязнение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лучайное или связанное с деятельностью человека проникновение в природный комплекс моря чуждых ему растений, животных и микроорганизм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561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Arial"/>
              </a:rPr>
              <a:t>Увеличение солёности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53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Азовское море: вчера, сегодня,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7640"/>
            <a:ext cx="0" cy="684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89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0" cy="6381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381720"/>
            <a:ext cx="8388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840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Промышлен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488360" cy="3889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49952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Нефтя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769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64818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9900"/>
                </a:solidFill>
                <a:uFillTx/>
                <a:latin typeface="Arial"/>
              </a:rPr>
              <a:t>Э</a:t>
            </a: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КОЛОГИЧЕСКИЕ</a:t>
            </a:r>
            <a:br>
              <a:rPr sz="5400"/>
            </a:b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 КАТОСТРОФЫ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Азовское море 2007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7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8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9"/>
          <a:stretch/>
        </p:blipFill>
        <p:spPr>
          <a:xfrm>
            <a:off x="762120" y="1268280"/>
            <a:ext cx="7619760" cy="484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кораблекрушений в воду попало около 6,8 тысячи тонн серы и около 1,3 тысячи тонн мазута.  Протяженность пятна вдоль берега  - 12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56144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Последствия керченской катастрофы. Фото: ALEXANDER NEMENOV/AFP/Getty Images"/>
          <p:cNvPicPr/>
          <p:nvPr/>
        </p:nvPicPr>
        <p:blipFill>
          <a:blip r:embed="rId3"/>
          <a:stretch/>
        </p:blipFill>
        <p:spPr>
          <a:xfrm>
            <a:off x="723960" y="1989000"/>
            <a:ext cx="7664400" cy="41371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Последствия керченской катастрофы. Фото: ALEXANDER NEMENOV/AFP/Getty Images"/>
          <p:cNvPicPr/>
          <p:nvPr/>
        </p:nvPicPr>
        <p:blipFill>
          <a:blip r:embed="rId4"/>
          <a:stretch/>
        </p:blipFill>
        <p:spPr>
          <a:xfrm>
            <a:off x="755640" y="1916280"/>
            <a:ext cx="7664400" cy="42494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770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6920" y="76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624800" cy="4176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833400" y="1989000"/>
            <a:ext cx="7626240" cy="4137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7632720" cy="4137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cc00"/>
                </a:solidFill>
                <a:uFillTx/>
                <a:latin typeface="Arial"/>
              </a:rPr>
              <a:t>Азовское  море год спус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4824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5661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Берег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857160" y="1268280"/>
            <a:ext cx="7531200" cy="48974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17080" cy="48974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74883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Мои наблюдения за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900000" y="1341360"/>
          <a:ext cx="7488000" cy="4824000"/>
        </p:xfrm>
        <a:graphic>
          <a:graphicData uri="http://schemas.openxmlformats.org/drawingml/2006/table">
            <a:tbl>
              <a:tblPr/>
              <a:tblGrid>
                <a:gridCol w="1214280"/>
                <a:gridCol w="1086840"/>
                <a:gridCol w="1291320"/>
                <a:gridCol w="1315800"/>
                <a:gridCol w="1173960"/>
                <a:gridCol w="14058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ух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ды у берег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у берега (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в 20 м от бере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4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История изуч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33"/>
                </a:solidFill>
                <a:uFillTx/>
                <a:latin typeface="Arial"/>
              </a:rPr>
              <a:t>Опомнись, чело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48960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4824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76327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2200" y="19879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помнись, вздрогни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едолог на земле твой 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о что после себя ост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 чем мы здесь себя просл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128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В истории изучения Азовского моря выделяют три эта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977840"/>
            <a:ext cx="77058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евний (географический) — со времён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еродот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начала XI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Геолого-географический — XIX ст. — 40-е годы X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омплексный — середина XX ст. —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Первая карта Азовско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Общие свед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hoto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475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1700280"/>
            <a:ext cx="777528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ощадь 38 т.км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ксимальная глубина 14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яя глубина 8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ий объем воды 320 к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еность воды 2-11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етом толща воды прогре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о 26 –28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, зимой море замерз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ГЕОГРАФИЧЕСКИЕ ОБЪЕКТЫ АЗОВСКОГО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4004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628640"/>
            <a:ext cx="38844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561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666633"/>
                </a:solidFill>
                <a:latin typeface="Arial"/>
              </a:rPr>
              <a:t>Ресурсы Азовского мор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76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1.Биологически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.Дешевые транспортные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3.Курорты и здравн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7:15:30Z</dcterms:created>
  <dc:creator>ENJOY</dc:creator>
  <dc:description/>
  <dc:language>en-US</dc:language>
  <cp:lastModifiedBy>ENJOY</cp:lastModifiedBy>
  <dcterms:modified xsi:type="dcterms:W3CDTF">2009-07-07T08:07:18Z</dcterms:modified>
  <cp:revision>7</cp:revision>
  <dc:subject/>
  <dc:title>Слайд 1</dc:title>
</cp:coreProperties>
</file>