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26CF-DF22-4CF7-8175-8BBFBDBE6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C972-952F-48F0-B59A-D5F72B5B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302E-C1DD-4379-8864-40DB8A00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2D63-DBCA-44DE-8222-1EA53A6C9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3CB4-1D60-4219-ADAA-AE57A51B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510F-12AA-406A-A081-5173FBA7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8428-76EA-4A23-AC2E-AEEAF8A8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E456-1514-4424-9651-51AC684F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D78F-9EFB-435E-BB7C-E0E2E2D2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9795-A811-46FA-BE90-F4F79DF7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D59B-9079-48EB-865A-A33810EA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6E44-8C4F-40C2-8F49-B0B5274B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A806-580F-4A2F-BEEC-C1E9E4533F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20952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  УРОКА  8  класс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50920" y="1504800"/>
            <a:ext cx="396072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варийно химически опасные вещества (АХОВ), их классификац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читель  ОБЖ  Кировской  СОШ  Синельникова  Марина  Михайловна.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Гз9702_32"/>
          <p:cNvPicPr/>
          <p:nvPr/>
        </p:nvPicPr>
        <p:blipFill>
          <a:blip r:embed="rId1"/>
          <a:srcRect l="2701" t="3993" r="0" b="6743"/>
          <a:stretch/>
        </p:blipFill>
        <p:spPr>
          <a:xfrm>
            <a:off x="4140360" y="1700280"/>
            <a:ext cx="4800600" cy="35971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228600"/>
            <a:ext cx="89154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ейтропные яды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йствуют на генерацию, проведение и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дачу нервного импульс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роуглерод Оксид этилена Фосфорорганические соединения (хлорофос, карбофос, тиофос, метафос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ещества удушающего и нейротропного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ейств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зывают токсический отек легких, на фоне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торого формируется тяжелое поражение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рвной систем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ммиак   Гепти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етаболические яды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рушают обмен веществ в организ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ксид этилена Дихлорэтан Диокси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0"/>
            <a:ext cx="8915400" cy="69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пособности к горению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Х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лятся на групп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егорючи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горят в условиях нагревания до 90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и концентрации кислорода до 21% (диоксин, фосген 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егорючие пожароопасны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горят в условиях нагревания до 90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и концентрации кислорода до 21%, но разлагаются с выделением горючих паров 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хлор, азотная кисло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водород фтористый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кись углерода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ернистый ангидрид, хлорпикрин 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рудно горючие веществ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особны возгораться только при действии источника огня 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жиженный аммиа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 водород цианистый 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горючи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 способны к самовозгоранию и горению даже после удаления источника огня (акрилонитрил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газообразный аммиа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гептил, дихлорэтан, сероуглерод, окислы азота и др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0" y="0"/>
            <a:ext cx="9144000" cy="68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ификация АХОВ по взрывоопас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цетилен,  винилацетилен,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дород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 гидразин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илацетилен нитрометан, окись пропилена,  изопропилнитрат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кис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тилена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илнитра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крилонитрил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 акролеин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 аммиак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тан,  бутилен,  пентадиен, бутадиен, пропан,  пропилен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ероуглерод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анэтилен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ир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диметиловый,  дивиниловый,  метилбутилов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цетальдегид,  ацетон,  бензин,  винилацетат,  винилхлорид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ксан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нераторный газ,  изооктан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иламин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 метилацетат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метилбутилкетон,  метилпропил,  метилэтил,  октан,  пиридин,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ероводород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пирты: метиловый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иловый,  пропиловый,  амиловый,  изобутиловый, изопропиловый,  циклогексан,  этилформиат,  этилхлори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нзол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кан, дизтопливо, дихлорбензол, додекан,  керосин,  метан, метилбензол,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илмеркаптан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илхлорид,   нафталин,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кись углерода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фенол,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лорбензол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илбензо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АХОВ И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0" y="228600"/>
            <a:ext cx="8915400" cy="69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пособности к горению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Х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лятся на групп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егорючи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горят в условиях нагревания до 90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и концентрации кислорода до 21% (диоксин, фосген 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егорючие пожароопасны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горят в условиях нагревания до 90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и концентрации кислорода до 21%, но разлагаются с выделением горючих паров 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хлор, азотная кисло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водород фтористый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кись углерода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ернистый ангидрид, хлорпикрин 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рудно горючие веществ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особны возгораться только при действии источника огня 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жиженный аммиа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 водород цианистый 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горючи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 способны к самовозгоранию и горению даже после удаления источника огня (акрилонитрил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газообразный аммиа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гептил, дихлорэтан, сероуглерод, окислы азота и др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539640" y="209520"/>
            <a:ext cx="8280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инимальные размеры санитарно-защитных зо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79280" y="1628640"/>
            <a:ext cx="871380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Предприятия первого класса – 1000 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50920" y="249228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предприятия второго класса – 500 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50920" y="350028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Предприятия третьего класса – 300 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250920" y="558972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Предприятия пятого класса – 50 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50920" y="458136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Предприятия четвертого класса – 100 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крепление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ие  вы  знаете  АХОВ  по  стойкости  воздействия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  токсическому  проявлению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39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ЕЛЬ  урока: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знакомить  учащихся  с  АХОВ  и  их  классификацией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324000" y="3933720"/>
            <a:ext cx="8642160" cy="253116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пасное химическое веществ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ОХВ) – химическое вещество, прямое или косвенное воздействие которого на человека может вызвать острые и хронические их заболевания или гибел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50920" y="549360"/>
            <a:ext cx="8642160" cy="308016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варийно химически опасное веществ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АХОВ) – опасное химическое вещество, применяемое в промышленности или сельском хозяйстве, при аварийном выбросе (разливе) которого может произойти заражение окружающей среды в поражающих живые организмы концентрация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611280" y="260280"/>
            <a:ext cx="806436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11136"/>
                </a:solidFill>
                <a:latin typeface="Arial"/>
              </a:rPr>
              <a:t>По степени воздействия на организм человека вредные вещества подразделяются на четыре класса опасности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класс</a:t>
            </a:r>
            <a:r>
              <a:rPr b="1" lang="ru-RU" sz="3600" spc="-1" strike="noStrike">
                <a:solidFill>
                  <a:srgbClr val="f11136"/>
                </a:solidFill>
                <a:latin typeface="Arial"/>
              </a:rPr>
              <a:t> – чрезвычайно опасны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класс</a:t>
            </a:r>
            <a:r>
              <a:rPr b="1" lang="ru-RU" sz="3600" spc="-1" strike="noStrike">
                <a:solidFill>
                  <a:srgbClr val="f11136"/>
                </a:solidFill>
                <a:latin typeface="Arial"/>
              </a:rPr>
              <a:t> – высокоопасны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класс</a:t>
            </a:r>
            <a:r>
              <a:rPr b="1" lang="ru-RU" sz="3600" spc="-1" strike="noStrike">
                <a:solidFill>
                  <a:srgbClr val="f11136"/>
                </a:solidFill>
                <a:latin typeface="Arial"/>
              </a:rPr>
              <a:t> – умеренно опасны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класс</a:t>
            </a:r>
            <a:r>
              <a:rPr b="1" lang="ru-RU" sz="3600" spc="-1" strike="noStrike">
                <a:solidFill>
                  <a:srgbClr val="f11136"/>
                </a:solidFill>
                <a:latin typeface="Arial"/>
              </a:rPr>
              <a:t> – малоопасны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9640" y="2095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лассификация АХОВ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50920" y="105264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1. По степени воздействия на организм АХ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79280" y="1865160"/>
            <a:ext cx="8713800" cy="88632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 клас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чрезвычайно опасны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ород фтористый, свинец, ртуть, цианистая группа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50920" y="2873520"/>
            <a:ext cx="8642160" cy="9471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 клас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высокоопасные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лор, мышьяк, фтор, сероуглерод, синильная кислота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50920" y="4097160"/>
            <a:ext cx="8642160" cy="13737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 клас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умеренно опасные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оводород, соляная кислота, хлористый водород, сернистый водород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50920" y="5681520"/>
            <a:ext cx="8642160" cy="9471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 клас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малоопасны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аммиак, дихлорметан, метилакрилат и д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539640" y="2095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лассификация АХОВ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684360" y="83664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 По стойкости воз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050920" y="1413000"/>
            <a:ext cx="5329440" cy="204372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тойк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ля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тробензо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рная кислота и д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050920" y="3789360"/>
            <a:ext cx="5400720" cy="25311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 Нестой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нильная кисло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лорциан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лор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ммиак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539640" y="2095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лассификация АХОВ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105264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3. По токсическому проявлению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79280" y="1628640"/>
            <a:ext cx="871380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душающего действия (хлор, хлорпикрин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50920" y="234936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Удушающего и общеядовит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50920" y="3068640"/>
            <a:ext cx="8642160" cy="9471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Общеядовитого действия (синильная кислота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50920" y="422100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Нейротропн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250920" y="496080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Удушающего и нейротропн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250920" y="582624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Метаболическ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539640" y="2095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лассификация АХОВ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30200" y="83664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4. По агрегатному состояни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79280" y="1628640"/>
            <a:ext cx="871380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Газы (сжиженные и сжатые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50920" y="234936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Жидк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50920" y="306864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Тверды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250920" y="443700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Ингаляционн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250920" y="522936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Перроральн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250920" y="595008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Кожно-резорбтивн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826920" y="373680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5. По способу поступления в организм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-228600" y="228600"/>
            <a:ext cx="9372600" cy="82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лассификация АХОВ по преимущественному синдрому, складывающемуся при острой интоксик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ещества с преимущественно удушающим действием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ействует на дыхательные пути челове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лор Фосген Хлорпикрин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ещества преимущественно общеядовитого действия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ают энергетический обм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дород цианистый   Оксид углерода (угарный газ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ещества удушающего и обще ядовитого действ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ывают отек легких при ингаляционном воздействии и нарушают энергетический обмен при резорб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рилонитрил Азотная кислота Оксиды азота Сернистый ангидрид  Водород фтористый Сероводород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ill Gates</cp:lastModifiedBy>
  <dcterms:modified xsi:type="dcterms:W3CDTF">2009-09-24T03:27:11Z</dcterms:modified>
  <cp:revision>66</cp:revision>
  <dc:subject/>
  <dc:title>PowerPoint Presentation</dc:title>
</cp:coreProperties>
</file>