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9AE-0EBD-4961-9DF7-176DE0B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A8C-0A40-407A-9E92-CA5F4873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6C5-0950-4EB3-B2A4-75692515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DD2-F8D0-4F8D-B7F9-9FEB072E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C79-0E69-4873-AD8B-E86A3306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08E-77DF-46FD-940E-3049B7AC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625-7333-4D61-A7F6-1BCF85A6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DF2-F1DE-4B7F-9E5E-9557EABF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E4C-C7E2-4607-B6FC-2627D9AC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C96-7A91-4B4A-9297-420D762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413-EF59-4B2A-8531-794BBF9B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054-ABE0-447A-B703-4C208F9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8055-65B6-470E-A20F-3682C1E24E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09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 УРОКА  8  класс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504800"/>
            <a:ext cx="3960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варийно химически опасные вещества (АХОВ), их классификац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 ОБЖ  Кировской  СОШ  Синельникова  Марина  Михайловна.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Гз9702_32"/>
          <p:cNvPicPr/>
          <p:nvPr/>
        </p:nvPicPr>
        <p:blipFill>
          <a:blip r:embed="rId1"/>
          <a:srcRect l="2701" t="3993" r="0" b="6743"/>
          <a:stretch/>
        </p:blipFill>
        <p:spPr>
          <a:xfrm>
            <a:off x="4140360" y="1700280"/>
            <a:ext cx="4800600" cy="35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йтропны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т на генерацию, проведение 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ачу нервного импуль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углерод Оксид этилена Фосфорорганические соединения (хлорофос, карбофос, тиофос, метаф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нейротропн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ывают токсический отек легких, на фон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ого формируется тяжелое поражени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миак   Гепт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аболически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ают обмен веществ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сид этилена Дихлорэтан Диокс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АХОВ по взрыво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илен,  винилацетилен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гидраз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ацетилен нитрометан, окись пропилена,  изопропилнитра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лена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нит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рилонитри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кроле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ммиак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,  бутилен,  пентадиен, бутадиен, пропан,  пропиле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угле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нэтиле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и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диметиловый,  дивиниловый,  метилбутил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альдегид,  ацетон,  бензин,  винилацетат,  винилхлорид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кс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ный газ,  изооктан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ам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метилацетат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тилбутилкетон,  метилпропил,  метилэтил,  октан,  пирид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рты: метиловый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овый,  пропиловый,  амиловый,  изобутиловый, изопропиловый,  циклогексан,  этилформиат,  этилхло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н, дизтопливо, дихлорбензол, додекан,  керосин,  метан, метилбенз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меркапт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хлорид,   нафтал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 углерода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фен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лор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бен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ХОВ 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22860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20952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имальные размеры санитарно-защитных 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едприятия первого класса – 10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492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едприятия второго класса – 5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3500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приятия третьего класса – 3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едприятия пятого класса – 50 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приятия четвертого класса – 1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 вы  знаете  АХОВ  по  стойкости  воздействи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 токсическому  проявлени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АХОВ  и  их  классификацией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3933720"/>
            <a:ext cx="8642160" cy="2531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пасное химическое ве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ХВ) – химическое вещество, прямое или косвенное воздействие которого на человека может вызвать острые и хронические их заболевания или гиб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49360"/>
            <a:ext cx="8642160" cy="3080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арийно химически опасн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ХОВ) – опасное химическое вещество, применяемое в промышленности или сельском хозяйстве, при аварийном выбросе (разливе) которого может произойти заражение окружающей среды в поражающих живые организмы концентраци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1280" y="260280"/>
            <a:ext cx="8064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По степени воздействия на организм человека вредные вещества подразделяются на четыре класса опас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чрезвычай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высоко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умерен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малоопасны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 По степени воздействия на организм АХ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1865160"/>
            <a:ext cx="8713800" cy="8863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резвычайно оп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фтористый, свинец, ртуть, цианистая групп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0920" y="2873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соко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, мышьяк, фтор, сероуглерод, синильная кисло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4097160"/>
            <a:ext cx="86421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меренно 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оводород, соляная кислота, хлористый водород, сернистый водород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5681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лоопас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миак, дихлорметан, метилакрилат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По стойкости воз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1413000"/>
            <a:ext cx="5329440" cy="2043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ой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робен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ная кислота и д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0920" y="3789360"/>
            <a:ext cx="5400720" cy="253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Нестой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ильная кисло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ци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миа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 токсическому проявлению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ушающего действия (хлор, хлорпикр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душающего и общеядовит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306864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щеядовитого действия (синильная кисло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221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9608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Удушающего и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58262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Метабол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30200" y="836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По агрегатному состоя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зы (сжиженные и сжат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д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30686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верд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4437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нгаляцион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522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еррораль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9500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жно-резорбтив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26920" y="37368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По способу поступления в организ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228600" y="228600"/>
            <a:ext cx="9372600" cy="82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кация АХОВ по преимущественному синдрому, складывающемуся при острой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с преимущественно удушающим действие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ует на дыхательные пути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р Фосген Хлорпикр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преимущественно общеядовитого действия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ют энергетический об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род цианистый   Оксид углерода (угарный газ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обще ядовит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ют отек легких при ингаляционном воздействии и нарушают энергетический обмен при резорб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рилонитрил Азотная кислота Оксиды азота Сернистый ангидрид  Водород фтористый Сероводор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09-09-24T03:27:11Z</dcterms:modified>
  <cp:revision>66</cp:revision>
  <dc:subject/>
  <dc:title>PowerPoint Presentation</dc:title>
</cp:coreProperties>
</file>