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DED-1731-44BA-82AE-D6CC7377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271-7EFB-4B3C-BEB9-079390A6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026-8DED-4799-BA48-FDA62896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C97-EC5F-414D-9A87-5DAB08CA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ACE-C8E7-4DA3-A407-B8089E6C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6E2-1B76-4B78-BB56-4577EEEF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1A1-7477-46EC-B5F3-9B632BE5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2FF-3261-41B3-8CA3-B882CAE0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ADB-7F6E-44C6-8437-BB5C53E8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462-9998-4936-B5E4-AE40F545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30C-033A-4427-AD83-D2C1C59B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034-EBBC-486F-A29A-4C37C09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54B-D7D4-4B2F-9D49-BAF2131A7F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095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 УРОКА  8  класс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504800"/>
            <a:ext cx="39607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варийно химически опасные вещества (АХОВ), их классификац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итель  ОБЖ  Кировской  СОШ  Синельникова  Марина  Михайловна.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Гз9702_32"/>
          <p:cNvPicPr/>
          <p:nvPr/>
        </p:nvPicPr>
        <p:blipFill>
          <a:blip r:embed="rId1"/>
          <a:srcRect l="2701" t="3993" r="0" b="6743"/>
          <a:stretch/>
        </p:blipFill>
        <p:spPr>
          <a:xfrm>
            <a:off x="4140360" y="1700280"/>
            <a:ext cx="4800600" cy="3597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йтропны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т на генерацию, проведение и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дачу нервного импуль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оуглерод Оксид этилена Фосфорорганические соединения (хлорофос, карбофос, тиофос, метафо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нейротропног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зывают токсический отек легких, на фон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ого формируется тяжелое поражение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вной систе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миак   Гепти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таболически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ушают обмен веществ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сид этилена Дихлорэтан Диокс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9144000" cy="68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АХОВ по взрыво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илен,  винилацетилен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гидраз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ацетилен нитрометан, окись пропилена,  изопропилнитрат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лена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нит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крилонитри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кроле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ммиак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тан,  бутилен,  пентадиен, бутадиен, пропан,  пропилен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угле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нэтилен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и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диметиловый,  дивиниловый,  метилбутило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альдегид,  ацетон,  бензин,  винилацетат,  винилхлорид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кс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ный газ,  изооктан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ам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метилацетат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етилбутилкетон,  метилпропил,  метилэтил,  октан,  пирид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рты: метиловый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овый,  пропиловый,  амиловый,  изобутиловый, изопропиловый,  циклогексан,  этилформиат,  этилхлор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н, дизтопливо, дихлорбензол, додекан,  керосин,  метан, метилбенз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меркапт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хлорид,   нафтал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 углерода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фен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лор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бен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ХОВ 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22860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9640" y="209520"/>
            <a:ext cx="828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нимальные размеры санитарно-защитных з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едприятия первого класса – 10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2492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едприятия второго класса – 5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50920" y="3500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едприятия третьего класса – 3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Предприятия пятого класса – 50 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50920" y="4581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едприятия четвертого класса – 1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ие  вы  знаете  АХОВ  по  стойкости  воздействия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 токсическому  проявлению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 урока: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комить  учащихся  с  АХОВ  и  их  классификацией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24000" y="3933720"/>
            <a:ext cx="8642160" cy="2531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пасное химическое вещ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ОХВ) – химическое вещество, прямое или косвенное воздействие которого на человека может вызвать острые и хронические их заболевания или гибе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549360"/>
            <a:ext cx="8642160" cy="3080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варийно химически опасное веще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ХОВ) – опасное химическое вещество, применяемое в промышленности или сельском хозяйстве, при аварийном выбросе (разливе) которого может произойти заражение окружающей среды в поражающих живые организмы концентраци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11280" y="260280"/>
            <a:ext cx="806436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По степени воздействия на организм человека вредные вещества подразделяются на четыре класса опасност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чрезвычай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высоко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умерен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малоопасны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. По степени воздействия на организм АХ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79280" y="1865160"/>
            <a:ext cx="8713800" cy="8863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ла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резвычайно опас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 фтористый, свинец, ртуть, цианистая групп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0920" y="2873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ысоко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лор, мышьяк, фтор, сероуглерод, синильная кислот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0920" y="4097160"/>
            <a:ext cx="864216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меренно 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оводород, соляная кислота, хлористый водород, сернистый водород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5681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алоопас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ммиак, дихлорметан, метилакрилат 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4360" y="836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По стойкости воз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0920" y="1413000"/>
            <a:ext cx="5329440" cy="20437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тойк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я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тробенз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ная кислота и д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0920" y="3789360"/>
            <a:ext cx="5400720" cy="2531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Нестой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ильная кисло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циа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миа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По токсическому проявлению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ушающего действия (хлор, хлорпикр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душающего и общеядовит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306864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щеядовитого действия (синильная кислот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4221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50920" y="49608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Удушающего и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0920" y="58262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Метаболическ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30200" y="836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 По агрегатному состоя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азы (сжиженные и сжаты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Жидк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0920" y="30686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Тверд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4437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нгаляцион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0920" y="522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еррораль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59500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ожно-резорбтив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26920" y="37368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 По способу поступления в организм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-228600" y="228600"/>
            <a:ext cx="9372600" cy="82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лассификация АХОВ по преимущественному синдрому, складывающемуся при острой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с преимущественно удушающим действие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ует на дыхательные пути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ор Фосген Хлорпикр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преимущественно общеядовитого действия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ают энергетический об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род цианистый   Оксид углерода (угарный газ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обще ядовитого дей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ют отек легких при ингаляционном воздействии и нарушают энергетический обмен при резорб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рилонитрил Азотная кислота Оксиды азота Сернистый ангидрид  Водород фтористый Сероводор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 Gates</cp:lastModifiedBy>
  <dcterms:modified xsi:type="dcterms:W3CDTF">2009-09-24T03:27:11Z</dcterms:modified>
  <cp:revision>66</cp:revision>
  <dc:subject/>
  <dc:title>PowerPoint Presentation</dc:title>
</cp:coreProperties>
</file>