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C8D0-0601-47B1-827D-5E9470D4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29AB-F243-4C48-AE10-18F0C4A5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1014-94CF-4979-9711-03E3E7CC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45A4-E078-4CF6-AB4A-D08D361A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FB82-06AD-4678-9BC1-135AB417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86F9-2EEC-401B-B1DD-E3F990A8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AD94-FA55-4404-8A6E-D4ACD167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4915-0E52-408A-89EB-3DD44A23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000C-8EB9-41B2-8374-BC82031E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CA2B-49F2-42CC-AC1D-1B64C56A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C837-112F-45B6-AF3D-3C0A1E31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D3FA-C826-4A3E-A29D-7A17F128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9573-2F33-43DC-B302-6B5865A0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7645-EBDF-4E0F-92B6-F6026FB4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409E-8A96-4F36-81B0-4C83E52F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B3E6-820C-4BBF-8DB4-1277EA4C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CC92-F1DE-4CF9-A0ED-90866084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612A-EE4F-4C44-A97C-A1BACE75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7A2-78EE-4BC4-BC02-A86E9A81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D4F0-A946-4BE8-ACFD-7203906C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679-1EB5-4CAA-82CD-2D2809BF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A7B3-1439-41BF-AF0F-4822BF56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D2E9-CFC5-4D15-AEBB-230B83DF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2DAF-A844-4C7B-92E7-EB369ECC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473C-3E2D-4152-A031-76ECCA19420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30F8-9FAC-4CC7-8348-29CE8F09F81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ЗНАКИ БЕЗОПАСНОСТИ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БЕЗОПАСНОСТЬ ТРУД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602240" y="4135320"/>
            <a:ext cx="4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 Black"/>
              </a:rPr>
              <a:t>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817880" y="42210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 Black"/>
              </a:rPr>
              <a:t>Б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173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2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торожно! Опасность взрыв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входов в места хранения взрывоопасных веществ, а  также у входов мест работ с ним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240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173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4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торожно! Ядовитые веществ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входов в места хранения ядовитых веществ, а  также        у входов мест работ с ним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24000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173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3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торожно! Едкие веществ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входов в места хранения едких веществ, а  также у  входов мест работ с ним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24000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173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торожно! Электрическое напряжени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на опорах воздуш-   ных линий, корпусах электрооборудо-вания, на дверях электропомещений,       на ограждениях токоведущих частей, расположенных в производственных помещениях, дверцах силовых щитков      и т.д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3112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7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6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торожно! Излучение лазер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на дверях поме-щений, где проводят работы с лазе-ром, внутри этих помещений в мес-тах работы с лазером, на лазерных установках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154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886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7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торожно! Работает кран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вблизи опасных   зон на строительных площадках, участках   и цехах, где используют подъемно-транспортное оборудова- ни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3112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7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8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торожно! Возможно падени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перед входом     на временно опасные участки, где возможно падение. Применяется вместе с табличкой с поясняющей надписью (например, “Осторожно! Скользко”, ”Осторожно! Открытый проем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”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2018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813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9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торожно! Прочие опасност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меняется в местах, где необ-ходимо предупреждение о возможной опасности, а передача информации с помощью сигнальных цветов или сиг-налов затруднена. Применяется вмес-те с табличкой с поясняющей надписью (например, “Высокая температура”, “Осторожно! Микроволновое (СВЧ) излучение” и др.)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5724360" y="2708280"/>
            <a:ext cx="30956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5472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Предписывающие знаки безопас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1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ботать в каск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при входе на участки работ, где существует возможность паде-  ния предметов сверх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178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2361960"/>
            <a:ext cx="5111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2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ботать в защитных перчатках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на участках работ, связанных с возможностью травмиро-вания рук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2036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42560" y="2781000"/>
            <a:ext cx="74883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прещающ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упреждающ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писывающ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казательны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96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3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ботать в защитной одежд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на участках работ, связанных с опасностью воздействия   на тело человека опасного или вред- ного фактор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2036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96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4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ботать в защитной обув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на участках работ, связанных с опасностью травмирования ног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96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5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ботать с применением средств защиты органов слух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на участках работ, с повышенным уровнем шум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203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96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6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ботать в защитных очках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на участках работ, связанных   опасностью травмирования глаз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189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96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7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ботать с применением средств защиты органов дыхания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на участках работ, связанных   с выделением вредных для организма человека газов, паров, аэро-золе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178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755280" y="2361960"/>
            <a:ext cx="5256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8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ботать в предохранительном пояс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в местах выполнения работ на высот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189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280" y="2361960"/>
            <a:ext cx="482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9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едписание определенных действий, направленных на обеспечение безопасности труда        и пожарной безопасност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в производственных помещениях и на территориях в местах, где обеспечена безопасность проведения работ, на путях подхода к местам размещения пожарной техники и эвакуационным выходам, с обеих сторон пожарных дверей и на дверях иного назначения, закрытое положение которых требуется по соображениям безопасност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203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755280" y="2361960"/>
            <a:ext cx="5329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4 Указательные знаки безопас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1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гнетушитель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в производственных помещениях для указания местонахождения огнетушител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73528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755280" y="2361960"/>
            <a:ext cx="5329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2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ункт извещения о пожар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в производственных помещениях для указания местонахождения пункта извещения о пожар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6924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55280" y="2361960"/>
            <a:ext cx="5329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есто курения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в производственных помещениях для указания места кур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720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55280" y="2362320"/>
            <a:ext cx="482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Запрещающие знаки безопас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1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прещается пользоваться открытым огнем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наружной стороне дверей скл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ов с легковоспламеняющимися и взрывоопасными материалами и веществами, внутри этих складов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входе на участки, где проводят работы с указанными материалами и веществами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оборудовании, представляющем опасность взрыва или воспламе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3703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55280" y="2361960"/>
            <a:ext cx="5329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4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сположение определенного места, объекта или средств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в производственных помещениях для информирования персонала при помощи символа (например,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ункт медицинской помощ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7604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755280" y="2361960"/>
            <a:ext cx="5329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5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жарный водоисточник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места расположения пожарного водоема или пирса для установки пожарных машин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732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680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6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жарный кран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места и по направлению к местонахождению пожарного кран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7241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680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7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жарный сухотрубный стояк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места и по направлению к местонахождению присоединения для подачи воды в пожарный сухотрубный стояк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749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680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8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рганы управления систем дымо- и теплоудаления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места и по направлению к местонахождению органов управления систем дымо- и теплоудал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6985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680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9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есто вскрытия конструкци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места и по направлению к местонахождению участков строительных конструкций, предназначенных для вскрытия при пожар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749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96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10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зрешается пользоваться электронагревательными приборам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места и по направлению к местонахождению участков, где допускается пользоваться электронагревательными приборам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6116760" y="2878200"/>
            <a:ext cx="26874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496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11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ыходить здесь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на дверях путей эвакуаци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5757840" y="2878200"/>
            <a:ext cx="32068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55280" y="2362320"/>
            <a:ext cx="482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прещается курить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наружной стороне дверей скла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ов с легковоспламеняющимися и взрывоопасными материалами и веществами, внутри этих складов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и входе на участки, где проводят работы с указанными материалами и веществами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оборудовании, представляющем опасность взрыва или воспламене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местах наличия отравляющих вещест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3703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7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3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ход (проход) воспрещен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 входов в опасные зоны 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 входов в помещения и зоны, в которые закрыт доступ для пос-торонних лиц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3717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7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4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прещается тушить водой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входов в помещения и места, предназначен-ные для хранения и работы с мате-риалами, тушение которых водой запрещено (щелочные материалы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др.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38436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7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5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прещающий знак с поясняющей надписью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в местах и зонах, пребывание в которых связано с опас-ностью, раскрываемой поясняющей надписью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3843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7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6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прещающий пользоваться электронагревательными приборами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входов в зоны, где по соображениям пожарной безо-пасности пользоваться электронагре-вательными приборами запрещено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3843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КИ БЕЗОПАС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462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2 Предупреждающие знаки безопас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1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торожно! Легковоспламеняющиеся веществ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спользуется у входов в места хранения легковоспламеняющихся    веществ, а также у входов мест работ            с ним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5508720" y="3500280"/>
            <a:ext cx="324000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5:12:55Z</dcterms:created>
  <dc:creator>Сансей</dc:creator>
  <dc:description/>
  <dc:language>en-US</dc:language>
  <cp:lastModifiedBy>Артем</cp:lastModifiedBy>
  <dcterms:modified xsi:type="dcterms:W3CDTF">2010-12-02T08:02:44Z</dcterms:modified>
  <cp:revision>55</cp:revision>
  <dc:subject/>
  <dc:title>Знаки безопасности</dc:title>
</cp:coreProperties>
</file>