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AA7-B1B9-4B93-BD90-70377FEA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1FE-5B54-44AE-AFC1-6B5A44D3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B70-52BF-4503-AF64-335AF75D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6DD-B5D8-4FE5-BDE9-0685E46A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3859-76A8-45BC-AADD-4582D99C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87E-ECC2-4D4A-B0D4-19B18D1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DBF-2ABB-4499-8B68-C7A25216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C31F-A4E8-4186-9329-667ECB9D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9AE-3EE1-4319-B4F5-E2904DA9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8910-419B-4EA1-BE99-7763FF4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704-4C96-4481-A3F5-CC138995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A1C-64D4-4BB9-84B1-DDF3591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262-D7A7-417E-A17D-4FA84DB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3099-368D-4BE7-A958-8F13A7F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27F7-5192-4BE6-AB69-122CD96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3225-A49A-4FB3-84D1-405B05B6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F66-9238-456A-AC28-4AE7894D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ED1-7AD5-4E57-BAC2-D9E37B4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B83-76FF-4A05-9864-9DD74F5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CB0-8160-49E6-B1CA-6AEB006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3FD-BEF6-442A-86CD-FCDD74DC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280-90DB-48E6-AD76-C883D7B9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E5B-E229-442A-92C5-741034C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CF0-10A1-47CC-9428-AD8F1889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59F-418A-4E60-8541-BDA5D2C4D66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0FE3-F6E7-426B-9B4F-2046E8B61F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ЗНАКИ БЕЗОПАСНОСТ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БЕЗОПАСНОСТЬ ТРУ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02240" y="41353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817880" y="4221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Опасность взры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взрывоопасных веществ, а  также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Ядовиты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ядовитых веществ, а  также       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Едки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едких веществ, а  также у 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Электрическое напряж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опорах воздуш-   ных линий, корпусах электрооборудо-вания, на дверях электропомещений,       на ограждениях токоведущих частей, расположенных в производственных помещениях, дверцах силовых щитков      и т.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Излучение лазер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оме-щений, где проводят работы с лазе-ром, внутри этих помещений в мес-тах работы с лазером, на лазерных установ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154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Работает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близи опасных   зон на строительных площадках, участках   и цехах, где используют подъемно-транспортное оборудова- 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Возможно пад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еред входом     на временно опасные участки, где возможно падение. Применяется вместе с табличкой с поясняющей надписью (например, “Осторожно! Скользко”, ”Осторожно! Открытый про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01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Прочие 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меняется в местах, где необ-ходимо предупреждение о возможной опасности, а передача информации с помощью сигнальных цветов или сиг-налов затруднена. Применяется вмес-те с табличкой с поясняющей надписью (например, “Высокая температура”, “Осторожно! Микроволновое (СВЧ) излучение” и др.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309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54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Предписыв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кас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ри входе на участки работ, где существует возможность паде-  ния предметов сверх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11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перчат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возможностью травмиро-вания ру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560" y="2781000"/>
            <a:ext cx="74883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рещ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упрежд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исыв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зат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дежд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воздействия   на тело человека опасного или вред- ного факто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бу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травмирования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слух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 повышенным уровнем шу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оч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опасностью травмирования гла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дыха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с выделением вредных для организма человека газов, паров, аэро-зол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25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предохранительном пояс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выполнения работ на высо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482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дписание определенных действий, направленных на обеспечение безопасности труда        и пожарной без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и на территориях в местах, где обеспечена безопасность проведения работ, на путях подхода к местам размещения пожарной техники и эвакуационным выходам, с обеих сторон пожарных дверей и на дверях иного назначения, закрытое положение которых требуется по соображениям безопас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4 Указательны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гнетушител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огнетуш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ункт извещения о пожар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пункта извещения о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2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кур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а кур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прещ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пользоваться открытым огне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сположение определенного места, объекта или сред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информирования персонала при помощи символа (например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ункт медицинской помощ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60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водоисточни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расположения пожарного водоема или пирса для установки пожарных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2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ожарного кра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сухотрубный стоя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рисоединения для подачи воды в пожарный сухотрубный стоя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ганы управления систем дымо- и теплоудал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органов управления систем дымо- и теплоудал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8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вскрытия конструкци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 строительных конструкций, предназначенных для вскрытия при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0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ешается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, где допускается пользоваться электронагревательными прибор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874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ходить здес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утей эваку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курит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местах наличия отравляющих вещест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ход (проход) воспреще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опасные зоны 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помещения и зоны, в которые закрыт доступ для пос-торонних лиц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1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тушить водо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помещения и места, предназначен-ные для хранения и работы с мате-риалами, тушение которых водой запрещено (щелочные материал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др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знак с поясняющей надписью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и зонах, пребывание в которых связано с опас-ностью, раскрываемой поясняющей надпис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зоны, где по соображениям пожарной безо-пасности пользоваться электронагре-вательными приборами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2 Предупрежд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Легковоспламеняющиеся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легковоспламеняющихся    веществ, а также у входов мест работ           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2400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5:12:55Z</dcterms:created>
  <dc:creator>Сансей</dc:creator>
  <dc:description/>
  <dc:language>en-US</dc:language>
  <cp:lastModifiedBy>Артем</cp:lastModifiedBy>
  <dcterms:modified xsi:type="dcterms:W3CDTF">2010-12-02T08:02:44Z</dcterms:modified>
  <cp:revision>55</cp:revision>
  <dc:subject/>
  <dc:title>Знаки безопасности</dc:title>
</cp:coreProperties>
</file>