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EC3-EC04-4F02-B235-47AE5090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4E-8E38-4D3C-A939-0F1611E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E8F-0667-4676-8781-32A189E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224-49CA-4D33-9D6E-A432E92B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3E7-D65F-4362-8600-0BCB693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0B8F-4400-49A7-B340-6CB85EFA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FADA-2A57-45CB-9243-1D0B8368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571F-47D6-4876-BC5A-72F86288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6DF-0F02-43E9-AFCF-051D7C2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AA2D-1F7E-4755-A44E-17D0CF5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3CAF-5BCD-4387-A328-5630F2C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1E5-8CA2-4E26-AD9F-EB627EC2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AB1-FA6D-4AFA-A998-EADC52B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B00-0F16-40BA-9370-3CF8E697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35B7-3823-45EB-9EFE-1F0A666A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97F-8385-4BA7-ABF4-B730191A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0C86-1F54-4C99-8DA8-EFE1AA03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C2C-B8B5-4B2B-9385-3161F579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814-0BA5-49A7-8DA3-1F721CA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DEB-9238-4367-A6C8-402817A1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8F2-19C1-4D5E-B460-5C9E93CD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317-6AC7-4121-8B48-96EC4A66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2CB-D407-4E72-8A5D-180401E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3DA-1FA3-46AF-A25B-619EE35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E49-D3B5-40E6-9F7F-051756B8F4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CC3-7486-4709-9AF2-DAE9544260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ЗНАКИ БЕЗОПАСНОСТ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БЕЗОПАСНОСТЬ ТРУ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02240" y="41353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817880" y="4221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Опасность взры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взрывоопасных веществ, а  также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Ядовиты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ядовитых веществ, а  также       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Едки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едких веществ, а  также у 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Электрическое напряж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опорах воздуш-   ных линий, корпусах электрооборудо-вания, на дверях электропомещений,       на ограждениях токоведущих частей, расположенных в производственных помещениях, дверцах силовых щитков      и т.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Излучение лазер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оме-щений, где проводят работы с лазе-ром, внутри этих помещений в мес-тах работы с лазером, на лазерных установ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154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Работает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близи опасных   зон на строительных площадках, участках   и цехах, где используют подъемно-транспортное оборудова- 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Возможно пад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еред входом     на временно опасные участки, где возможно падение. Применяется вместе с табличкой с поясняющей надписью (например, “Осторожно! Скользко”, ”Осторожно! Открытый про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01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Прочие 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меняется в местах, где необ-ходимо предупреждение о возможной опасности, а передача информации с помощью сигнальных цветов или сиг-налов затруднена. Применяется вмес-те с табличкой с поясняющей надписью (например, “Высокая температура”, “Осторожно! Микроволновое (СВЧ) излучение” и др.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309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54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Предписыв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кас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ри входе на участки работ, где существует возможность паде-  ния предметов сверх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11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перчат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возможностью травмиро-вания ру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560" y="2781000"/>
            <a:ext cx="74883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рещ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упрежд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исыв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зат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дежд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воздействия   на тело человека опасного или вред- ного факто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бу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травмирования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слух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 повышенным уровнем шу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оч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опасностью травмирования гла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дыха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с выделением вредных для организма человека газов, паров, аэро-зол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25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предохранительном пояс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выполнения работ на высо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482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дписание определенных действий, направленных на обеспечение безопасности труда        и пожарной без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и на территориях в местах, где обеспечена безопасность проведения работ, на путях подхода к местам размещения пожарной техники и эвакуационным выходам, с обеих сторон пожарных дверей и на дверях иного назначения, закрытое положение которых требуется по соображениям безопас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4 Указательны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гнетушител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огнетуш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ункт извещения о пожар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пункта извещения о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2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кур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а кур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прещ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пользоваться открытым огне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сположение определенного места, объекта или сред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информирования персонала при помощи символа (например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ункт медицинской помощ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60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водоисточни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расположения пожарного водоема или пирса для установки пожарных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2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ожарного кра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сухотрубный стоя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рисоединения для подачи воды в пожарный сухотрубный стоя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ганы управления систем дымо- и теплоудал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органов управления систем дымо- и теплоудал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8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вскрытия конструкци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 строительных конструкций, предназначенных для вскрытия при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0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ешается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, где допускается пользоваться электронагревательными прибор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874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ходить здес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утей эваку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курит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местах наличия отравляющих вещест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ход (проход) воспреще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опасные зоны 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помещения и зоны, в которые закрыт доступ для пос-торонних лиц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1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тушить водо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помещения и места, предназначен-ные для хранения и работы с мате-риалами, тушение которых водой запрещено (щелочные материал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др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знак с поясняющей надписью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и зонах, пребывание в которых связано с опас-ностью, раскрываемой поясняющей надпис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зоны, где по соображениям пожарной безо-пасности пользоваться электронагре-вательными приборами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2 Предупрежд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Легковоспламеняющиеся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легковоспламеняющихся    веществ, а также у входов мест работ           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2400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5:12:55Z</dcterms:created>
  <dc:creator>Сансей</dc:creator>
  <dc:description/>
  <dc:language>en-US</dc:language>
  <cp:lastModifiedBy>Артем</cp:lastModifiedBy>
  <dcterms:modified xsi:type="dcterms:W3CDTF">2010-12-02T08:02:44Z</dcterms:modified>
  <cp:revision>55</cp:revision>
  <dc:subject/>
  <dc:title>Знаки безопасности</dc:title>
</cp:coreProperties>
</file>