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3111-AF30-4579-8DD2-68FF8D711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53D4-7AAD-44D7-A97B-495B6D18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3AD3-3767-4A2E-B019-D5ADF274A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D18D-396C-4A3A-AF9D-9A3F30BDD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7626-D330-4AD9-95AF-2A2BE0B1C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2D3B-BF88-4AFB-8BE8-3E613138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6A737-C534-41DE-980D-B6B312A2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4C792-440F-4ABC-94E3-9DE4568E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C4BB-7EB2-4820-BBAC-54FEFE1F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12C6-3148-414C-ADAC-D08CA051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FE70-03A5-44D7-BA12-D007689A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DC74-5C06-4FD7-8A00-EB9FA98E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2BAC-45CD-47AC-BD23-BE6CC1DB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FF5D-4557-44F8-8623-F5EE9C8C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5BFD-774F-40E3-95F1-BE8D2FCF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1B5D-702D-4D03-8D1A-467B70609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4E353-EB0B-4B88-9209-5EA407927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8204-27CE-4886-A94C-5527ADD6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E697-130B-4688-B234-6F922395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59CD-4F2C-486D-A9AF-29116081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790E-DBFC-4975-9163-96ADDBFF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0AD4-09D7-4DE7-8016-5BCD2280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3A02-0BF1-43D7-A400-99EA5BA2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FB51-CE34-4808-9569-96408319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B413-20A9-40A6-85A8-1AC242FC70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6180-F85F-4896-9BE1-0220E209783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forum.hayastan.com/uploads/monthly_03_2008/post-23605-1205619353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download.loveradio.ru/pub/164262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gorod.tomsk.ru/2007/jul/mens_weekend6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9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 Black"/>
              </a:rPr>
              <a:t>Здоровый образ жизни-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основа счастливого человека</a:t>
            </a: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                                     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Автор разработки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Козлова Ирина Алексеевна учитель географии и биологии МАОУСОШ № 8 города Старая Русса Новгородской области</a:t>
            </a: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99ff66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i?id=66083871&amp;tov=4"/>
          <p:cNvPicPr/>
          <p:nvPr/>
        </p:nvPicPr>
        <p:blipFill>
          <a:blip r:embed="rId1"/>
          <a:stretch/>
        </p:blipFill>
        <p:spPr>
          <a:xfrm rot="3353400">
            <a:off x="3645000" y="1916640"/>
            <a:ext cx="3059280" cy="45594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Как закаляться, чтобы не простужаться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ужно закаливаться постепенно, начиная с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секунд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и заканчивая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минут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авильное пит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но только поколение правильно питающихся людей возродит человечество и сделает болезни столь редким явлением, что на них будут смотреть, как на нечто необыкновенное. А молодому растущему организму еженедельно требуется 30 видов разнообразных продуктов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i?id=185658569&amp;tov=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i?id=37165832&amp;tov=6"/>
          <p:cNvPicPr/>
          <p:nvPr/>
        </p:nvPicPr>
        <p:blipFill>
          <a:blip r:embed="rId2"/>
          <a:stretch/>
        </p:blipFill>
        <p:spPr>
          <a:xfrm rot="21095400">
            <a:off x="2133360" y="5358960"/>
            <a:ext cx="1904760" cy="1498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i?id=85282625&amp;tov=0"/>
          <p:cNvPicPr/>
          <p:nvPr/>
        </p:nvPicPr>
        <p:blipFill>
          <a:blip r:embed="rId3"/>
          <a:stretch/>
        </p:blipFill>
        <p:spPr>
          <a:xfrm>
            <a:off x="6934320" y="4267080"/>
            <a:ext cx="1768320" cy="2266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i?id=5574096&amp;tov=4"/>
          <p:cNvPicPr/>
          <p:nvPr/>
        </p:nvPicPr>
        <p:blipFill>
          <a:blip r:embed="rId4"/>
          <a:stretch/>
        </p:blipFill>
        <p:spPr>
          <a:xfrm rot="1306800">
            <a:off x="3657240" y="4267080"/>
            <a:ext cx="3124080" cy="1976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i?id=145498711&amp;tov=8"/>
          <p:cNvPicPr/>
          <p:nvPr/>
        </p:nvPicPr>
        <p:blipFill>
          <a:blip r:embed="rId5"/>
          <a:stretch/>
        </p:blipFill>
        <p:spPr>
          <a:xfrm rot="1613400">
            <a:off x="304560" y="3276720"/>
            <a:ext cx="1460520" cy="1733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i?id=93127506&amp;tov=3"/>
          <p:cNvPicPr/>
          <p:nvPr/>
        </p:nvPicPr>
        <p:blipFill>
          <a:blip r:embed="rId6"/>
          <a:stretch/>
        </p:blipFill>
        <p:spPr>
          <a:xfrm rot="20946600">
            <a:off x="5181120" y="380520"/>
            <a:ext cx="1847880" cy="1886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i?id=7758744&amp;tov=8"/>
          <p:cNvPicPr/>
          <p:nvPr/>
        </p:nvPicPr>
        <p:blipFill>
          <a:blip r:embed="rId7"/>
          <a:stretch/>
        </p:blipFill>
        <p:spPr>
          <a:xfrm>
            <a:off x="3276720" y="1828800"/>
            <a:ext cx="5105160" cy="2604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i?id=43421940&amp;tov=6"/>
          <p:cNvPicPr/>
          <p:nvPr/>
        </p:nvPicPr>
        <p:blipFill>
          <a:blip r:embed="rId8"/>
          <a:stretch/>
        </p:blipFill>
        <p:spPr>
          <a:xfrm rot="1992000">
            <a:off x="6171840" y="13716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i?id=182888925&amp;tov=8"/>
          <p:cNvPicPr/>
          <p:nvPr/>
        </p:nvPicPr>
        <p:blipFill>
          <a:blip r:embed="rId9"/>
          <a:stretch/>
        </p:blipFill>
        <p:spPr>
          <a:xfrm rot="1421400">
            <a:off x="3048120" y="533520"/>
            <a:ext cx="2114280" cy="1593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i?id=83248998&amp;tov=0"/>
          <p:cNvPicPr/>
          <p:nvPr/>
        </p:nvPicPr>
        <p:blipFill>
          <a:blip r:embed="rId10"/>
          <a:stretch/>
        </p:blipFill>
        <p:spPr>
          <a:xfrm>
            <a:off x="0" y="5091120"/>
            <a:ext cx="2362320" cy="1766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i?id=71550800&amp;tov=3"/>
          <p:cNvPicPr/>
          <p:nvPr/>
        </p:nvPicPr>
        <p:blipFill>
          <a:blip r:embed="rId11"/>
          <a:stretch/>
        </p:blipFill>
        <p:spPr>
          <a:xfrm rot="19867200">
            <a:off x="1523880" y="4114800"/>
            <a:ext cx="2286000" cy="1508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i?id=50199848&amp;tov=0"/>
          <p:cNvPicPr/>
          <p:nvPr/>
        </p:nvPicPr>
        <p:blipFill>
          <a:blip r:embed="rId12"/>
          <a:stretch/>
        </p:blipFill>
        <p:spPr>
          <a:xfrm>
            <a:off x="1676520" y="2514600"/>
            <a:ext cx="2352600" cy="1776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i?id=50983686&amp;tov=3"/>
          <p:cNvPicPr/>
          <p:nvPr/>
        </p:nvPicPr>
        <p:blipFill>
          <a:blip r:embed="rId13"/>
          <a:stretch/>
        </p:blipFill>
        <p:spPr>
          <a:xfrm rot="19927800">
            <a:off x="380880" y="990360"/>
            <a:ext cx="2862360" cy="2235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i?id=203930939&amp;tov=6"/>
          <p:cNvPicPr/>
          <p:nvPr/>
        </p:nvPicPr>
        <p:blipFill>
          <a:blip r:embed="rId14"/>
          <a:stretch/>
        </p:blipFill>
        <p:spPr>
          <a:xfrm>
            <a:off x="304920" y="-152280"/>
            <a:ext cx="2743200" cy="1554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304920"/>
            <a:ext cx="86169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2222222"/>
          <p:cNvPicPr/>
          <p:nvPr/>
        </p:nvPicPr>
        <p:blipFill>
          <a:blip r:embed="rId1"/>
          <a:stretch/>
        </p:blipFill>
        <p:spPr>
          <a:xfrm>
            <a:off x="533520" y="304920"/>
            <a:ext cx="3657600" cy="2617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1(2)"/>
          <p:cNvPicPr/>
          <p:nvPr/>
        </p:nvPicPr>
        <p:blipFill>
          <a:blip r:embed="rId2"/>
          <a:stretch/>
        </p:blipFill>
        <p:spPr>
          <a:xfrm>
            <a:off x="3886200" y="304920"/>
            <a:ext cx="4853160" cy="6248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йййй"/>
          <p:cNvPicPr/>
          <p:nvPr/>
        </p:nvPicPr>
        <p:blipFill>
          <a:blip r:embed="rId3"/>
          <a:stretch/>
        </p:blipFill>
        <p:spPr>
          <a:xfrm>
            <a:off x="533520" y="2895480"/>
            <a:ext cx="3504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380520"/>
            <a:ext cx="83883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19196638_K_41"/>
          <p:cNvPicPr/>
          <p:nvPr/>
        </p:nvPicPr>
        <p:blipFill>
          <a:blip r:embed="rId1"/>
          <a:stretch/>
        </p:blipFill>
        <p:spPr>
          <a:xfrm>
            <a:off x="533520" y="457200"/>
            <a:ext cx="4292640" cy="5867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71617296_1299359920_smayl"/>
          <p:cNvPicPr/>
          <p:nvPr/>
        </p:nvPicPr>
        <p:blipFill>
          <a:blip r:embed="rId2"/>
          <a:stretch/>
        </p:blipFill>
        <p:spPr>
          <a:xfrm>
            <a:off x="4648320" y="3276720"/>
            <a:ext cx="4267080" cy="3020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ClappingHands"/>
          <p:cNvPicPr/>
          <p:nvPr/>
        </p:nvPicPr>
        <p:blipFill>
          <a:blip r:embed="rId3"/>
          <a:stretch/>
        </p:blipFill>
        <p:spPr>
          <a:xfrm>
            <a:off x="4800600" y="533520"/>
            <a:ext cx="35812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99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Arial Black"/>
              </a:rPr>
              <a:t>Здоровый человек!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доровый человек живёт полноценной жизнью и приносит большую пользу обществу. Здоровый образ жизни – система поведения человека, включая физическую культуру, творчество, высоконравственное отношение ко всему окружающем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85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лияние социальной среды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а человека также воздействует социальная среда. Например, малыши пытаются копировать взрослых, для подростков важно мнение сверстников. Но влияние окружающих может быть не только положительным, но и отрицате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Социальные сети"/>
          <p:cNvPicPr/>
          <p:nvPr/>
        </p:nvPicPr>
        <p:blipFill>
          <a:blip r:embed="rId1"/>
          <a:stretch/>
        </p:blipFill>
        <p:spPr>
          <a:xfrm>
            <a:off x="4267080" y="3962520"/>
            <a:ext cx="3962520" cy="25653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i?id=223588157&amp;tov=0"/>
          <p:cNvPicPr/>
          <p:nvPr/>
        </p:nvPicPr>
        <p:blipFill>
          <a:blip r:embed="rId1"/>
          <a:stretch/>
        </p:blipFill>
        <p:spPr>
          <a:xfrm>
            <a:off x="0" y="-187200"/>
            <a:ext cx="9144000" cy="70452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19520" y="-45756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Arial Black"/>
              </a:rPr>
              <a:t>Поро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Физический, психический, моральный и экономический ущерб человеку и обществу наносят пьянство, алкоголизм, наркомания, курение.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395280" y="476280"/>
            <a:ext cx="741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пробуй - пробуют вс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5" name="Picture 3" descr="Картинка 77 из 146690"/>
          <p:cNvPicPr/>
          <p:nvPr/>
        </p:nvPicPr>
        <p:blipFill>
          <a:blip r:embed="rId1"/>
          <a:stretch/>
        </p:blipFill>
        <p:spPr>
          <a:xfrm>
            <a:off x="1258920" y="1762200"/>
            <a:ext cx="684036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2"/>
          <p:cNvSpPr txBox="1"/>
          <p:nvPr/>
        </p:nvSpPr>
        <p:spPr>
          <a:xfrm>
            <a:off x="611280" y="333360"/>
            <a:ext cx="7921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пробуй-вредных последстви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 будет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7" name="Picture 3" descr="Картинка 92 из 146690"/>
          <p:cNvPicPr/>
          <p:nvPr/>
        </p:nvPicPr>
        <p:blipFill>
          <a:blip r:embed="rId1"/>
          <a:stretch/>
        </p:blipFill>
        <p:spPr>
          <a:xfrm>
            <a:off x="2195640" y="1928880"/>
            <a:ext cx="55450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99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5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Comic Sans MS"/>
              </a:rPr>
              <a:t>Задачи уро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7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Дать представление, что такое здоровый образ жизни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Убедить учащихся о необходимости быть здоровы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Объяснить роль здорового образа жизни и деятельности человека, развитии общест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ыяснить факторы здоровь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2"/>
          <p:cNvSpPr txBox="1"/>
          <p:nvPr/>
        </p:nvSpPr>
        <p:spPr>
          <a:xfrm>
            <a:off x="1332000" y="404640"/>
            <a:ext cx="6191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пробуй, если н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нравится прекрат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ём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9" name="Picture 3" descr="Картинка 110 из 146690"/>
          <p:cNvPicPr/>
          <p:nvPr/>
        </p:nvPicPr>
        <p:blipFill>
          <a:blip r:embed="rId1"/>
          <a:stretch/>
        </p:blipFill>
        <p:spPr>
          <a:xfrm>
            <a:off x="900000" y="2612880"/>
            <a:ext cx="709308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755640" y="476280"/>
            <a:ext cx="4638600" cy="15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 пьяного ум слепой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1" name="Picture 3" descr="Картинка 1 из 146690"/>
          <p:cNvPicPr/>
          <p:nvPr/>
        </p:nvPicPr>
        <p:blipFill>
          <a:blip r:embed="rId1"/>
          <a:stretch/>
        </p:blipFill>
        <p:spPr>
          <a:xfrm>
            <a:off x="1763640" y="1943280"/>
            <a:ext cx="738036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2"/>
          <p:cNvSpPr txBox="1"/>
          <p:nvPr/>
        </p:nvSpPr>
        <p:spPr>
          <a:xfrm>
            <a:off x="1187280" y="333360"/>
            <a:ext cx="66200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ино полюбил - семью разори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3" name="Picture 3" descr="Картинка 19 из 59"/>
          <p:cNvPicPr/>
          <p:nvPr/>
        </p:nvPicPr>
        <p:blipFill>
          <a:blip r:embed="rId1"/>
          <a:stretch/>
        </p:blipFill>
        <p:spPr>
          <a:xfrm>
            <a:off x="971640" y="1333440"/>
            <a:ext cx="738036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акторы здоровь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ОР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ИЛЬНО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Т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ЕЖИ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ЗДУ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РОШЕ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СТРО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ЖИМ Д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КАЛИ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8" descr="11"/>
          <p:cNvPicPr/>
          <p:nvPr/>
        </p:nvPicPr>
        <p:blipFill>
          <a:blip r:embed="rId1"/>
          <a:stretch/>
        </p:blipFill>
        <p:spPr>
          <a:xfrm>
            <a:off x="4267080" y="1295280"/>
            <a:ext cx="4648320" cy="487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98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98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98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98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98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98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98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4" descr="Картинка 11 из 99837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Картинка 18 из 139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23840"/>
            <a:ext cx="9296280" cy="69818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Каждому хочется быть умным, красивым, сильным, здоровым. На протяжении веков люди вырабатывали правила оптимального поведения, следуя которым можно с наибольшей эффективностью поддерживать здоровье тела и духа. Ещё в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XIX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 в. Артур Шопенгауэр говорил: «Вообще 9/10 нашего счастья основано на здоровье. При нем всё становится источником наслаждения, тогда как без него решительно никакое внешнее благо не может доставить удовольствия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b7"/>
                </a:solidFill>
                <a:latin typeface="Arial Black"/>
              </a:rPr>
              <a:t>Виктори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914400"/>
            <a:ext cx="8007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1.Согласны ли вы, что зарядка – источник бодрости и здоровья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2.Верно ли, что жевательная резинка сохраняет зубы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3.Верно ли, что кактусы снимают излучение от компьютер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4.Верно ли, что от курения ежегодно погибает более  10 000 человек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5.Правда ли, что съев банан поднимается настроение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6.Верно ли, что морковь замедляет процесс старения организм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7.Правда ли, что есть безвредные наркотик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457200"/>
            <a:ext cx="8007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8.Отказаться от курения легко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9.Правда ли, что молоко полезнее йогурт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10.Взрослые чаще, чем дети, ломают ног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11.Правда ли, что недостаток солнца вызывает депрессию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12.Правда ли, что летом можно запастись витаминами на целый год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13.Правда ли, что детям до 15 лет нельзя заниматься тяжёлой атлетикой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14.Правда ли, что ежедневно надо выпить 2 стакана молок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15.Правда ли, что ребёнку достаточно спать ночью 8 часов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51814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актор здоровь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22860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9" descr="Веселая-зарядка"/>
          <p:cNvPicPr/>
          <p:nvPr/>
        </p:nvPicPr>
        <p:blipFill>
          <a:blip r:embed="rId1"/>
          <a:stretch/>
        </p:blipFill>
        <p:spPr>
          <a:xfrm>
            <a:off x="533520" y="228600"/>
            <a:ext cx="800100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9" descr="Картинка 14 из 138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23760"/>
            <a:ext cx="10363320" cy="68817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5050"/>
                </a:solidFill>
                <a:latin typeface="Comic Sans MS"/>
              </a:rPr>
              <a:t>Поднимите, пожалуйста руки, кто никогда не болел. А кто болел один раза в году? А кто два и более раз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ff5050"/>
                </a:solidFill>
                <a:latin typeface="Comic Sans MS"/>
              </a:rPr>
              <a:t>Посмотрите, мы привыкли к тому, что человеку естественно болеть! А ведь это неверная установка! Давайте изменим установку и запомним: что человеку естественно быть здоровым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Картинка 4 из 183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46160"/>
            <a:ext cx="9144000" cy="7004160"/>
          </a:xfrm>
          <a:prstGeom prst="rect">
            <a:avLst/>
          </a:prstGeom>
          <a:ln w="0">
            <a:noFill/>
          </a:ln>
        </p:spPr>
      </p:pic>
      <p:sp>
        <p:nvSpPr>
          <p:cNvPr id="113" name="Line 7"/>
          <p:cNvSpPr/>
          <p:nvPr/>
        </p:nvSpPr>
        <p:spPr>
          <a:xfrm flipH="1">
            <a:off x="685800" y="1676520"/>
            <a:ext cx="7315200" cy="3733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1066680" y="1676520"/>
            <a:ext cx="7391520" cy="3733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Сегодня медики утверждают: здоровье человека на 10% зависит от наследственности, на 5% от работы медиков. Остальные 85 % в руках самого человека. Значит, наше здоровье зависит от наших привычек, от наших усилий по его укреплению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47762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Ученые доказывают, что человек должен жить 150-200 лет! Так, например, древние греки (пеласги) считали, что умереть в 70 лет- это почти то же самое, что умереть в колыбели. Как свидетельствуют историки, продолжительность жизни пеласгов составляла около 200 лет. При этом до конца своих дней они сохраняли жизненные силы и не седе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1-18T18:28:3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