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59F-B2AF-4D75-BA07-A790FE4D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CCC-79EF-412E-9AFC-74BBA7FF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CD1-FD97-4E7D-A177-D2B72052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4E3-CA24-429B-B909-2C4CC27F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676-4092-4E63-9E9E-8EB99609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63D-934C-4780-B6C3-639F3F99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AA9-1225-4F4A-B49C-579168FD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61C-81FA-4964-A266-E63CAD62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69B-6FC1-48BC-8AC3-C50679FB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95C-A1A7-4995-B142-33568D1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C84-E3CA-43CB-AF6B-5EC07910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D89-0D09-4ED8-9790-DAE45D5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BAB5-222A-46BB-A585-7FD61FC1F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1341360"/>
            <a:ext cx="756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урсу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тему: «Зарубежная политическая мыс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кутс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овременная политическая наука в своем развитии прошла следующие пери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ервы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становление современной политической науки (конец 19-го - конец 40-х гг. 20-го 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период характерен исследованием проблем политической власти и ее социальных ос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заинтересованных групп (А. Бентл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 элиты (правящего класса) (Г. Моска, В. Парет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ологическая теория государства (М. Веб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олигархизации власти (Р. Михель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сихологическая теория власти (Г. Лассуэ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торо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активное расширение сфер политологических исследований (конец 40-х - вторая пол.70-х гг.) - характерен поворотом к проблемам либерализации политической жизни, демократии, социальной политики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вая теория демократии (И. Шумпет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юралистическая теория демократии (Р. Дал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партисипаторной демократии (К. Макферсон, Дж. Вольф, Б. Барб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государства благосостояния, общества потребления (Дж. Катона, У. Ростоу, О. Тоффл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Трети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поиск новых парадигм развития политической науки (сер.70-х гг. - наст. врем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периоде разрабатывались и развивалис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турологическая концепция единого мирового государства (Кларк, С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постиндустриального общества (Д. Белл, Р. Арон, Дж. Гэлбрайт, З. Бжез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информационного общества (О. Тоффлер, Дж. Нейсбит, Е. Мас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национального интереса (Г. Моргента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элитарной демократ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ловая концепция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16360" y="620640"/>
            <a:ext cx="3456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ейшее время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64198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Современные политические теории и концепции можно классифицировать по следующим основан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уровню исследуемых объектов политики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глобального или международного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общественного уров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политической сферы общества и политического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важнейших подсистем политической системы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отдельных или частных политических я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политико-идеологической направленност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ибераль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серватив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ал-реформист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рксист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нарх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специфике предмета и объекта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итико-правов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олог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мпир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овременной зарубежной политологии выделяются следующие 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школ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Англо-американ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разрабатывает проблемы политической модернизации, стабильности, политических конфликтов, внешней политики (С. Липсет, К. Райт, С. Ф. Хантингтон, Г. Моргентау, Дж. Сартари, Р. Дарендорф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Француз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занимается проблемами типологии политических режимов, легитимности, партийно-политической инфраструктуры (М. Дюверже, Ж. Бурдо, М. Крозье, Р. Аро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Немец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занимается сравнительным анализом политических систем, проблемами функционирования гражданского общества и правового государства (Г. Майер, И. Флетч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ль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проводит исследования политической жизни общества, главных направлений демократизации политической системы (Е. Вятр, Т. Бодио, А. Боднар, К. Опалэк, Ф. Рыш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ассиком политического бихевиоризма считается американский ученый Г. Д. Лассуэл (1902 - 197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игмунд Фрейд (1856 - 1939) - основоположник психоаналитического подхода в политическ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ассикой элитаризма стали концепции В. Паретто (1846 - 1923), Г. Моска (1838 - 1941), Р. Михельса (1878 - 193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72360" y="692280"/>
            <a:ext cx="14684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64360" y="3645000"/>
            <a:ext cx="158436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чем нам надо знать историю политической мыс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щаясь к истории, мы познаем взгляды и теории великих мыслителей прошлого, опираясь на них, понимаем современные политические теории и пробле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рубежная политическ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тория политических учений насчитывает много веков. Политическое научное знание складывалось из элементов философских и социологических теорий. Возникновение политической мысли в истории цивилизации неразрывно связано со становлением государства как особой организации власти. Человечеству потребовалось почти два тысячелетия опыта государственного управления обществом, прежде чем сложились возможности первых теоретических обобщений и выводов относительно политической жизни как особой сферы обществен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пытки осмысления политики делались уже в глубокой древности. В истории становления и развития политической мысли можно выделить следующие этапы:  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Древнего Вос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Древней Греции и Древнего Р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Средневе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эпохи Возрождения и Просв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Нов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Современные политические 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600" y="4900680"/>
            <a:ext cx="131436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26748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47040" y="4365720"/>
            <a:ext cx="161604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ипет, Иран, Индия, Китай, Вавилон, Ассирия) характерны тем, что политическая мысль не выделялась в самостоятельную область знания, выражалась в мифологической форме, и господствовало понимание божественного происхождения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древних египтян, вавилонян, индийцев боги были лучшими среди людей, вершителями земных дел, первыми законодателями и прав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древних китайцев единственным проводником воли небесных сил был император. Боги наделяли его всей полнотой земной власти, давая ему для ее осуществления особые внутренние силы и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кий мыслитель Древнего Китая Конфуций (551 - 479 гг. до нашей эры) признает божественное происхождение власти императора, но отказывается от божественного происхождения государства. Конфуций считал, что государство возникло из объединения семей; это большая семья, где император - строгий, но справедливый отец, а подданные - его послушные дети. Основным регулятором поведения в государстве Конфуций считал мораль, а главной целью государственной политики объявлял воспитание хороших нра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4 веке до нашей эры Шан Ян дал начало направлению, получившему название "легизм". Легисты, в отличие от конфуцианцев, считали нравственное воспитание людей недостаточным, и упор делали на строгие законы и суровые наказ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08720" y="1413000"/>
            <a:ext cx="1524240" cy="193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549360"/>
            <a:ext cx="872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итические учения Древнего Восто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181160" cy="143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7561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линной вершиной политической мысли Древнего Мира по праву считается философия Древней Греции. Она изначально развивалась как идеология свободных людей. Во многих городах-полисах граждане активно участвовали в отправлении власти, легитимность власти была светской, вся Эллада была ареной ожесточенной борьбы за вл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у науки о политике заложили древнегреческие философы: Сократ (470 - 99 гг. до нашей эры); его ученик Платон Афинский (427 - 347 гг. до нашей эры.) - политические идеи его изложены в диалоге "Государство"; ученик и критик Платона Аристотель Стагирит (384 - 322 гг. до нашей эр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ухтысячелетняя история Древнего Рима - это огромный по своим масштабам опыт политической жизни, которая изобиловала борьбой различных политических сил, прошла через смену нескольких форм правления, перевороты, народные восс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ного сделали для развития политической мысли Марк Туллий Цицерон (106 - 43 гг. до наше эры), Луций Анней Сенека (ок.4 г. до нашей эры - 65 г. - философ-стоик и человек личного высокого мужества. Презирал смерть. Покончил жизнь самоубийством по требованию своего воспитанника Императора Нерона), Эпиктет (ок.50 - ок.140), Марк Аврелий (121 - 180 гг.). Гай Транквилл Светоний своей книгой "Жизнь двенадцати царей" положил начало традиции политических портр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политических учений этого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епенное освобождение политических взглядов от мифологической фор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собление их как относительно самостоятельной части философ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устройства государства, классификация его фор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иск и определение наилучшей, идеальной формы 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67640" y="2133720"/>
            <a:ext cx="1476360" cy="127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201600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476280"/>
            <a:ext cx="8677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итические учения Древней Греции и Древнего Рима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352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литические идеи Пла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сударство возникло из-за многообразия материальных потребностей человека и невозможности их удовлетворения в одиноч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лог стабильности государства - разделение труда по склонности душ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правлять государством должно сословие философов, специально подготовленных для этой 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словие стражей должно защищать государ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емлевладельцы и ремесленники - третье сословие - должны добросовестно трудиться на благо государ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еход из одного сословия в другой недопустим, ибо это наносит вред государ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51280" y="620280"/>
            <a:ext cx="3313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Аристотель-ученик и критик Пла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двинул положение о естественном происхождении госу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вал человека политическим с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лассифицировал формы гос. устройства по числу властву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делял правильные формы гос. управления: монархия, аристократия, полития, при которых целью политики является общее благо; неправильные формы: тирания, олигархия, демократия, где преследуются лишь собственные интересы и цели власть имущи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логом стабильности государства считал наличие в обществе большого слоя средне обеспеченных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сказывал идею верховенства зак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8669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мские философы интерпретировали идеи своих древнегреческих предшественников в духе условий своей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ределах Римской империи в первые столетия новой эры распространяется христианство, которое к середине 4 века становится государственной религией Р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идный авторитет церкви Августин Блаженный (354 - 430) пишет трактат "О граде Божием", который содержит рассуждения о государственных и правовых учреждениях, посланных человеку свыше за грехи его. Августин верит, что на смену "граду земному" придет "град Божий", где любовь к Богу доведена до презрения человека к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ение Августина легло в основу новой идеологии католической церкви Средневековья, обосновывавшей приоритет духовной власти над властью свет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53160" y="1989000"/>
            <a:ext cx="2490840" cy="30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2447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редневековье характерно следующими политическими процесс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оздание достаточно крупных, но слабо интегрированных монарх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спад их на раздробленные политические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сцвет сословно-представительных монарх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собенности политических учений этого эта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безраздельное господство католической церкви в духовной жиз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литическая наука стала отраслью богословия, догмы религии приобретают форму зако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оциально-политическая мысль развивается усилиями религиозных дея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боснование теологической теории политическ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зносторонне одаренный и блестяще образованный монах-ученый Фома Аквинский (1226 - 1274) в своем трактате "О правлении государей" пытался соединить учение Аристотеля с христианскими дог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н признает естественное происхождение государства, которое должно служить общему благу. Считает, что сущность власти составляют отношения господства и подчинения, и такой порядок - от Бога. При использовании власти допускаются злоупотребления, но если действия власти противоречат интересам церкви, то подданные имеют право на сопроти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404640"/>
            <a:ext cx="6172200" cy="40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ие учения Средневековь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Характерные черты политической мысли этой эпох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свобождение политической науки от те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звитие гуманистических начал в политической теор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ализ проблем и свобод человека, закона и государ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емократического устройства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еликий флорентинец Н. Макиавелли (1469 - 1527) первым стал рассматривать политику как особую сферу научного исследования. Основной его труд - знаменитая книга "Государь", в которой Макиавел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ал самодержцам исчерпывающие рекомендации по завоеванию и удержанию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первые сформулировал идеологию централизованной монархической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читал, что народ не играет никакой роли в государст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дчеркивал, что правитель сам определяет цели своей политики и добивается этих целей, используя люб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утверждал, что политика аморальна, мораль и политика не совмест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одоначальниками социалистической идеологии стали Томас Мор (1478 - 1535), английский гуманист и писатель, Томмазо Кампанелла (1568 - 1639), итальянский философ и поэт. Они изображали государство без частной собственности, при распределении произведенных благ по потреб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глийский мыслитель Томас Гоббс (1588 - 1679) развил гражданскую трактовку политики, считая, что монархия - самая лучшая форма власти. Он утверждал, что источник королевской власти - общественный договор с некоторыми ограничениями власти монар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глийский философ Джон Локк (1632 - 1704) правомерно считается основоположником либерализма. Он впервые четко разделил такие понятия, как личность, общество, государство, выделил законодательную и исполнительную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а рубеже 17 - 18 веков в Европе возникло явление, которое принято называть Просвещ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Это общекультурное движение в качестве идеала выдвигало утверждение на земле "царства разума" путем распространения знаний, искоренения невежества, всестороннего воспитания личности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политической мысли это отразилось в виде концепций "просвещенного абсолютизм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емецкое просвещение было представлено работами С. Пуфендорфа, Х. Томазия, Х. Вольфа, Г. Лессинга. Представитель итальянского Просвещения Дж. Вико считается одним из родоначальников современной соци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Идея просвещенного абсолютизма высказывалась в России в конце 17 в. в трактате Ю. Крижанича "Политика". Ее поддерживал сам Петр I, обосновывал идеолог петровских реформ Ф. Прокопович, развивал В. Н. Татищев (1686 - 175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260280"/>
            <a:ext cx="7705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литические учения эпохи Возрождения и Просвещ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320" y="691920"/>
            <a:ext cx="60706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чалом Нового времени традиционно считается английская революция середины 17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арактерные черты политической мысли Нового време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ирование либеральной политической идеоло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снование необходимости разделения вла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ценностей и механизма функционирования буржуазной демократ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ирование концепции прав человека и гражда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 по праву принадлежит французскому просветителю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Шарлю Луи Монтескь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689 - 1755). Верховенство права, по мнению Монтескье, может быть обеспечено лишь разделением властей на законодательную, исполнительную и судебную с тем, чтобы различные власти могли взаимно сдерживать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первой половине 19-го века завершается формирование политической идеологии социализма - граф Клод Анри де Ревруа Сен-Симон (1760 - 1825), Роберт Оуэн (1771 - 1858), Шарль Фурье (1772 - 183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этот период возникают и радикально-революционные концепции. К ним, в первую очередь, надо отнести иде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. Ж. Русс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12 - 1778), котор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тверждал, что главное зло - частная собствен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вым разграничил государство и гражданское обще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азывал необходимость прямого народного 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ая половина 19-го века связана с именами английского социолога Герберта Спенсера (1820 - 1903), немецкого философа Фридриха Ницше (1844 - 1900), французского философа-антрополога Жозефа Артюра де Гобино (1816 - 1882)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этот период наибольшую известность получают Карл Маркс (1818 - 1883), Фридрих Энгельс (1820 - 1895) - теоретики коммунистического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8000" y="115920"/>
            <a:ext cx="503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итические учения нового времен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907920"/>
            <a:ext cx="1247760" cy="15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51640" y="3716280"/>
            <a:ext cx="24130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5:52:15Z</dcterms:created>
  <dc:creator>Cat</dc:creator>
  <dc:description/>
  <dc:language>en-US</dc:language>
  <cp:lastModifiedBy>Cat</cp:lastModifiedBy>
  <dcterms:modified xsi:type="dcterms:W3CDTF">2012-07-06T09:12:07Z</dcterms:modified>
  <cp:revision>39</cp:revision>
  <dc:subject/>
  <dc:title>Слайд 1</dc:title>
</cp:coreProperties>
</file>