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D56E-3325-4FFF-8B6C-017F550A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EE5-9533-491F-960B-9D11FE66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C942-1A78-422D-86DA-2FA76A12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9347-C81F-4004-BC72-A4081736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68CE-F904-4FB6-A8EA-D61DBC77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E47E-CB49-4308-B14B-8E5A0DD9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3CF9-D643-483B-A4B9-8441224B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1C6-4044-46EC-82A5-B9644C71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413E-3FD4-4E33-998F-A640FB3A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3245-5A71-4175-85CD-6062F1EF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8CA3-8281-41F6-890E-7DB03721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2A9D-BE25-428E-92D9-24DE38CB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7B65-1377-4E39-82C6-E1A8373C6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1341360"/>
            <a:ext cx="7561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зентация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курсу 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итолог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тему: «Зарубежная политическая мысл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ркутск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Современная политическая наука в своем развитии прошла следующие пери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Первый перио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- становление современной политической науки (конец 19-го - конец 40-х гг. 20-го в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тот период характерен исследованием проблем политической власти и ее социальных осн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еория заинтересованных групп (А. Бентл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еория элиты (правящего класса) (Г. Моска, В. Парет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циологическая теория государства (М. Вебе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еория олигархизации власти (Р. Михельс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сихологическая теория власти (Г. Лассуэ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Второй перио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- активное расширение сфер политологических исследований (конец 40-х - вторая пол.70-х гг.) - характерен поворотом к проблемам либерализации политической жизни, демократии, социальной политики государ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овая теория демократии (И. Шумпете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люралистическая теория демократии (Р. Даль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еория партисипаторной демократии (К. Макферсон, Дж. Вольф, Б. Барбе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цепция государства благосостояния, общества потребления (Дж. Катона, У. Ростоу, О. Тоффле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Третий перио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- поиск новых парадигм развития политической науки (сер.70-х гг. - наст. врем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этом периоде разрабатывались и развивалис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утурологическая концепция единого мирового государства (Кларк, Сон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цепция постиндустриального общества (Д. Белл, Р. Арон, Дж. Гэлбрайт, З. Бжезинск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цепция информационного общества (О. Тоффлер, Дж. Нейсбит, Е. Масуд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цепция национального интереса (Г. Моргента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еория элитарной демократ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иловая концепция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916360" y="620640"/>
            <a:ext cx="34560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овейшее время</a:t>
            </a:r>
            <a:endParaRPr b="0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-360"/>
            <a:ext cx="64198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Современные политические теории и концепции можно классифицировать по следующим основани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По уровню исследуемых объектов политики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цепции глобального или международного поряд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цепции общественного уровн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цепции политической сферы общества и политического разви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цепции важнейших подсистем политической системы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цепции отдельных или частных политических явл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По политико-идеологической направленност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либераль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серватив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циал-реформистск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арксистск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нархическ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По специфике предмета и объекта исследов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литико-правов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циологическ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сихологическ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мпирическ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современной зарубежной политологии выделяются следующие 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школ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Англо-американска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разрабатывает проблемы политической модернизации, стабильности, политических конфликтов, внешней политики (С. Липсет, К. Райт, С. Ф. Хантингтон, Г. Моргентау, Дж. Сартари, Р. Дарендорф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Французска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занимается проблемами типологии политических режимов, легитимности, партийно-политической инфраструктуры (М. Дюверже, Ж. Бурдо, М. Крозье, Р. Аро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Немецка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занимается сравнительным анализом политических систем, проблемами функционирования гражданского общества и правового государства (Г. Майер, И. Флетче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Польска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проводит исследования политической жизни общества, главных направлений демократизации политической системы (Е. Вятр, Т. Бодио, А. Боднар, К. Опалэк, Ф. Рышк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лассиком политического бихевиоризма считается американский ученый Г. Д. Лассуэл (1902 - 197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Зигмунд Фрейд (1856 - 1939) - основоположник психоаналитического подхода в политическ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лассикой элитаризма стали концепции В. Паретто (1846 - 1923), Г. Моска (1838 - 1941), Р. Михельса (1878 - 193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372360" y="692280"/>
            <a:ext cx="14684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164360" y="3645000"/>
            <a:ext cx="1584360" cy="1736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чем нам надо знать историю политической мысли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ращаясь к истории, мы познаем взгляды и теории великих мыслителей прошлого, опираясь на них, понимаем современные политические теории и проблем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рубежная политическая мыс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стория политических учений насчитывает много веков. Политическое научное знание складывалось из элементов философских и социологических теорий. Возникновение политической мысли в истории цивилизации неразрывно связано со становлением государства как особой организации власти. Человечеству потребовалось почти два тысячелетия опыта государственного управления обществом, прежде чем сложились возможности первых теоретических обобщений и выводов относительно политической жизни как особой сферы общественных отно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пытки осмысления политики делались уже в глубокой древности. В истории становления и развития политической мысли можно выделить следующие этапы:   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тап. Политические учения Древнего Вост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тап. Политические учения Древней Греции и Древнего Ри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тап. Политические учения Средневеков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тап. Политические учения эпохи Возрождения и Просвещ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тап. Политические учения Нового време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тап. Современные политические у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5600" y="4900680"/>
            <a:ext cx="1314360" cy="1447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843280" y="4653000"/>
            <a:ext cx="2674800" cy="1871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647040" y="4365720"/>
            <a:ext cx="1616040" cy="2185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1341000"/>
            <a:ext cx="66358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гипет, Иран, Индия, Китай, Вавилон, Ассирия) характерны тем, что политическая мысль не выделялась в самостоятельную область знания, выражалась в мифологической форме, и господствовало понимание божественного происхождения вла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ля древних египтян, вавилонян, индийцев боги были лучшими среди людей, вершителями земных дел, первыми законодателями и правител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 древних китайцев единственным проводником воли небесных сил был император. Боги наделяли его всей полнотой земной власти, давая ему для ее осуществления особые внутренние силы и способ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ликий мыслитель Древнего Китая Конфуций (551 - 479 гг. до нашей эры) признает божественное происхождение власти императора, но отказывается от божественного происхождения государства. Конфуций считал, что государство возникло из объединения семей; это большая семья, где император - строгий, но справедливый отец, а подданные - его послушные дети. Основным регулятором поведения в государстве Конфуций считал мораль, а главной целью государственной политики объявлял воспитание хороших нрав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4 веке до нашей эры Шан Ян дал начало направлению, получившему название "легизм". Легисты, в отличие от конфуцианцев, считали нравственное воспитание людей недостаточным, и упор делали на строгие законы и суровые наказ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308720" y="1413000"/>
            <a:ext cx="1524240" cy="1933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79280" y="549360"/>
            <a:ext cx="8724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литические учения Древнего Востока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451640" y="4581360"/>
            <a:ext cx="1181160" cy="1438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756108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длинной вершиной политической мысли Древнего Мира по праву считается философия Древней Греции. Она изначально развивалась как идеология свободных людей. Во многих городах-полисах граждане активно участвовали в отправлении власти, легитимность власти была светской, вся Эллада была ареной ожесточенной борьбы за вла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снову науки о политике заложили древнегреческие философы: Сократ (470 - 99 гг. до нашей эры); его ученик Платон Афинский (427 - 347 гг. до нашей эры.) - политические идеи его изложены в диалоге "Государство"; ученик и критик Платона Аристотель Стагирит (384 - 322 гг. до нашей эр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вухтысячелетняя история Древнего Рима - это огромный по своим масштабам опыт политической жизни, которая изобиловала борьбой различных политических сил, прошла через смену нескольких форм правления, перевороты, народные восс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ного сделали для развития политической мысли Марк Туллий Цицерон (106 - 43 гг. до наше эры), Луций Анней Сенека (ок.4 г. до нашей эры - 65 г. - философ-стоик и человек личного высокого мужества. Презирал смерть. Покончил жизнь самоубийством по требованию своего воспитанника Императора Нерона), Эпиктет (ок.50 - ок.140), Марк Аврелий (121 - 180 гг.). Гай Транквилл Светоний своей книгой "Жизнь двенадцати царей" положил начало традиции политических портре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ные черты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политических учений этого этап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степенное освобождение политических взглядов от мифологической форм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особление их как относительно самостоятельной части философ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нализ устройства государства, классификация его фор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иск и определение наилучшей, идеальной формы 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67640" y="2133720"/>
            <a:ext cx="1476360" cy="1271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77080" y="4797360"/>
            <a:ext cx="2016000" cy="1662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50920" y="476280"/>
            <a:ext cx="86770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итические учения Древней Греции и Древнего Рима.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35290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Политические идеи Плат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государство возникло из-за многообразия материальных потребностей человека и невозможности их удовлетворения в одиночк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лог стабильности государства - разделение труда по склонности душ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правлять государством должно сословие философов, специально подготовленных для этой мисс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ословие стражей должно защищать государств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емлевладельцы и ремесленники - третье сословие - должны добросовестно трудиться на благо государст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ереход из одного сословия в другой недопустим, ибо это наносит вред государств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51280" y="620280"/>
            <a:ext cx="331308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Аристотель-ученик и критик Плат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ыдвинул положение о естественном происхождении государ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вал человека политическим существ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лассифицировал формы гос. устройства по числу властвующ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ыделял правильные формы гос. управления: монархия, аристократия, полития, при которых целью политики является общее благо; неправильные формы: тирания, олигархия, демократия, где преследуются лишь собственные интересы и цели власть имущих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логом стабильности государства считал наличие в обществе большого слоя средне обеспеченных граждан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ысказывал идею верховенства зак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35280" y="2133720"/>
            <a:ext cx="1866960" cy="2447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5041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имские философы интерпретировали идеи своих древнегреческих предшественников в духе условий своей стра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пределах Римской империи в первые столетия новой эры распространяется христианство, которое к середине 4 века становится государственной религией Ри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идный авторитет церкви Августин Блаженный (354 - 430) пишет трактат "О граде Божием", который содержит рассуждения о государственных и правовых учреждениях, посланных человеку свыше за грехи его. Августин верит, что на смену "граду земному" придет "град Божий", где любовь к Богу доведена до презрения человека к себ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Учение Августина легло в основу новой идеологии католической церкви Средневековья, обосновывавшей приоритет духовной власти над властью светс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53160" y="1989000"/>
            <a:ext cx="2490840" cy="3059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42447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Средневековье характерно следующими политическими процесс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создание достаточно крупных, но слабо интегрированных монарх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распад их на раздробленные политические обра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расцвет сословно-представительных монарх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Особенности политических учений этого этап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безраздельное господство католической церкви в духовной жиз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политическая наука стала отраслью богословия, догмы религии приобретают форму закон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социально-политическая мысль развивается усилиями религиозных дея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обоснование теологической теории политической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Разносторонне одаренный и блестяще образованный монах-ученый Фома Аквинский (1226 - 1274) в своем трактате "О правлении государей" пытался соединить учение Аристотеля с христианскими догм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Он признает естественное происхождение государства, которое должно служить общему благу. Считает, что сущность власти составляют отношения господства и подчинения, и такой порядок - от Бога. При использовании власти допускаются злоупотребления, но если действия власти противоречат интересам церкви, то подданные имеют право на сопротив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08000" y="404640"/>
            <a:ext cx="6172200" cy="400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литические учения Средневековь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867280" y="1628640"/>
            <a:ext cx="2808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9280" y="765000"/>
            <a:ext cx="8856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Характерные черты политической мысли этой эпох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освобождение политической науки от теолог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развитие гуманистических начал в политической теор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анализ проблем и свобод человека, закона и государств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демократического устройства общественн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Великий флорентинец Н. Макиавелли (1469 - 1527) первым стал рассматривать политику как особую сферу научного исследования. Основной его труд - знаменитая книга "Государь", в которой Макиавел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дал самодержцам исчерпывающие рекомендации по завоеванию и удержанию вла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впервые сформулировал идеологию централизованной монархической вла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считал, что народ не играет никакой роли в государств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подчеркивал, что правитель сам определяет цели своей политики и добивается этих целей, используя любые сре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утверждал, что политика аморальна, мораль и политика не совмести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Родоначальниками социалистической идеологии стали Томас Мор (1478 - 1535), английский гуманист и писатель, Томмазо Кампанелла (1568 - 1639), итальянский философ и поэт. Они изображали государство без частной собственности, при распределении произведенных благ по потреб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Английский мыслитель Томас Гоббс (1588 - 1679) развил гражданскую трактовку политики, считая, что монархия - самая лучшая форма власти. Он утверждал, что источник королевской власти - общественный договор с некоторыми ограничениями власти монар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Английский философ Джон Локк (1632 - 1704) правомерно считается основоположником либерализма. Он впервые четко разделил такие понятия, как личность, общество, государство, выделил законодательную и исполнительную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На рубеже 17 - 18 веков в Европе возникло явление, которое принято называть Просвещ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Это общекультурное движение в качестве идеала выдвигало утверждение на земле "царства разума" путем распространения знаний, искоренения невежества, всестороннего воспитания личности и п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В политической мысли это отразилось в виде концепций "просвещенного абсолютизма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Немецкое просвещение было представлено работами С. Пуфендорфа, Х. Томазия, Х. Вольфа, Г. Лессинга. Представитель итальянского Просвещения Дж. Вико считается одним из родоначальников современной социоло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    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Идея просвещенного абсолютизма высказывалась в России в конце 17 в. в трактате Ю. Крижанича "Политика". Ее поддерживал сам Петр I, обосновывал идеолог петровских реформ Ф. Прокопович, развивал В. Н. Татищев (1686 - 175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26920" y="260280"/>
            <a:ext cx="77058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литические учения эпохи Возрождения и Просвеще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1320" y="691920"/>
            <a:ext cx="607068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Началом Нового времени традиционно считается английская революция середины 17 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Характерные черты политической мысли Нового времен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ормирование либеральной политической идеолог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основание необходимости разделения власт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нализ ценностей и механизма функционирования буржуазной демократ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ормирование концепции прав человека и граждан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еория разделения властей по праву принадлежит французскому просветителю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Шарлю Луи Монтескье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1689 - 1755). Верховенство права, по мнению Монтескье, может быть обеспечено лишь разделением властей на законодательную, исполнительную и судебную с тем, чтобы различные власти могли взаимно сдерживать друг дру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первой половине 19-го века завершается формирование политической идеологии социализма - граф Клод Анри де Ревруа Сен-Симон (1760 - 1825), Роберт Оуэн (1771 - 1858), Шарль Фурье (1772 - 1837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этот период возникают и радикально-революционные концепции. К ним, в первую очередь, надо отнести идеи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Ж. Ж. Руссо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1712 - 1778), которы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тверждал, что главное зло - частная собственн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ервым разграничил государство и гражданское обществ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оказывал необходимость прямого народного 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торая половина 19-го века связана с именами английского социолога Герберта Спенсера (1820 - 1903), немецкого философа Фридриха Ницше (1844 - 1900), французского философа-антрополога Жозефа Артюра де Гобино (1816 - 1882)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этот период наибольшую известность получают Карл Маркс (1818 - 1883), Фридрих Энгельс (1820 - 1895) - теоретики коммунистического общ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908000" y="115920"/>
            <a:ext cx="5038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литические учения нового времени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948360" y="907920"/>
            <a:ext cx="1247760" cy="158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551640" y="3716280"/>
            <a:ext cx="241308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05:52:15Z</dcterms:created>
  <dc:creator>Cat</dc:creator>
  <dc:description/>
  <dc:language>en-US</dc:language>
  <cp:lastModifiedBy>Cat</cp:lastModifiedBy>
  <dcterms:modified xsi:type="dcterms:W3CDTF">2012-07-06T09:12:07Z</dcterms:modified>
  <cp:revision>39</cp:revision>
  <dc:subject/>
  <dc:title>Слайд 1</dc:title>
</cp:coreProperties>
</file>