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A4B-6255-463C-8A12-58E97E24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7DA-2154-420D-8F7A-A5C2CD04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67A-9582-426C-AEE3-18C945B1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2D6-7BC2-428D-92E8-F7D76FE7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066-D883-4E26-8CB9-555C0B7C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6AE-8FC8-4D37-99C2-F3F3C896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F36-5CE2-4615-96A8-67573F24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5A0-0B64-4A3A-9E41-7AC2C404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FF0-C3C5-4336-8770-618467C4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252-4644-4BB1-8E00-FE86891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F08-30AF-4857-91C9-A3D438DB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700-48C1-4FF8-8600-078081C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15F1-D584-41C3-9A0E-7018E48D6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1341360"/>
            <a:ext cx="756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курсу 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толог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тему: «Зарубежная политическая мыс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кутск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овременная политическая наука в своем развитии прошла следующие пери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ервый пери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- становление современной политической науки (конец 19-го - конец 40-х гг. 20-го в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т период характерен исследованием проблем политической власти и ее социальных ос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заинтересованных групп (А. Бентл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 элиты (правящего класса) (Г. Моска, В. Парет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циологическая теория государства (М. Вебе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олигархизации власти (Р. Михель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сихологическая теория власти (Г. Лассуэ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Второй пери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- активное расширение сфер политологических исследований (конец 40-х - вторая пол.70-х гг.) - характерен поворотом к проблемам либерализации политической жизни, демократии, социальной политики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овая теория демократии (И. Шумпете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юралистическая теория демократии (Р. Дал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партисипаторной демократии (К. Макферсон, Дж. Вольф, Б. Барбе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государства благосостояния, общества потребления (Дж. Катона, У. Ростоу, О. Тоффл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Третий пери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- поиск новых парадигм развития политической науки (сер.70-х гг. - наст. врем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этом периоде разрабатывались и развивалис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утурологическая концепция единого мирового государства (Кларк, Со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постиндустриального общества (Д. Белл, Р. Арон, Дж. Гэлбрайт, З. Бжезинск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информационного общества (О. Тоффлер, Дж. Нейсбит, Е. Мас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национального интереса (Г. Моргента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элитарной демократ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иловая концепция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16360" y="620640"/>
            <a:ext cx="3456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овейшее время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64198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Современные политические теории и концепции можно классифицировать по следующим основан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 уровню исследуемых объектов политики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глобального или международного поряд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общественного уров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политической сферы общества и политического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важнейших подсистем политической системы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отдельных или частных политических я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 политико-идеологической направленност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либераль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серватив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циал-реформист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арксист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нарх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 специфике предмета и объекта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итико-правов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циологиче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мпир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современной зарубежной политологии выделяются следующие 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школ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Англо-американс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разрабатывает проблемы политической модернизации, стабильности, политических конфликтов, внешней политики (С. Липсет, К. Райт, С. Ф. Хантингтон, Г. Моргентау, Дж. Сартари, Р. Дарендорф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Французс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занимается проблемами типологии политических режимов, легитимности, партийно-политической инфраструктуры (М. Дюверже, Ж. Бурдо, М. Крозье, Р. Аро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Немец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занимается сравнительным анализом политических систем, проблемами функционирования гражданского общества и правового государства (Г. Майер, И. Флетч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льс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проводит исследования политической жизни общества, главных направлений демократизации политической системы (Е. Вятр, Т. Бодио, А. Боднар, К. Опалэк, Ф. Рыш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лассиком политического бихевиоризма считается американский ученый Г. Д. Лассуэл (1902 - 197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игмунд Фрейд (1856 - 1939) - основоположник психоаналитического подхода в политическ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лассикой элитаризма стали концепции В. Паретто (1846 - 1923), Г. Моска (1838 - 1941), Р. Михельса (1878 - 193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372360" y="692280"/>
            <a:ext cx="14684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64360" y="3645000"/>
            <a:ext cx="1584360" cy="1736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чем нам надо знать историю политической мысли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ращаясь к истории, мы познаем взгляды и теории великих мыслителей прошлого, опираясь на них, понимаем современные политические теории и пробле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рубежная политическ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тория политических учений насчитывает много веков. Политическое научное знание складывалось из элементов философских и социологических теорий. Возникновение политической мысли в истории цивилизации неразрывно связано со становлением государства как особой организации власти. Человечеству потребовалось почти два тысячелетия опыта государственного управления обществом, прежде чем сложились возможности первых теоретических обобщений и выводов относительно политической жизни как особой сферы обществен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пытки осмысления политики делались уже в глубокой древности. В истории становления и развития политической мысли можно выделить следующие этапы:  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Древнего Вос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Древней Греции и Древнего Р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Средневек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эпохи Возрождения и Просве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Нов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Современные политические 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600" y="4900680"/>
            <a:ext cx="1314360" cy="144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43280" y="4653000"/>
            <a:ext cx="267480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47040" y="4365720"/>
            <a:ext cx="161604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гипет, Иран, Индия, Китай, Вавилон, Ассирия) характерны тем, что политическая мысль не выделялась в самостоятельную область знания, выражалась в мифологической форме, и господствовало понимание божественного происхождения в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я древних египтян, вавилонян, индийцев боги были лучшими среди людей, вершителями земных дел, первыми законодателями и прав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древних китайцев единственным проводником воли небесных сил был император. Боги наделяли его всей полнотой земной власти, давая ему для ее осуществления особые внутренние силы и способ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кий мыслитель Древнего Китая Конфуций (551 - 479 гг. до нашей эры) признает божественное происхождение власти императора, но отказывается от божественного происхождения государства. Конфуций считал, что государство возникло из объединения семей; это большая семья, где император - строгий, но справедливый отец, а подданные - его послушные дети. Основным регулятором поведения в государстве Конфуций считал мораль, а главной целью государственной политики объявлял воспитание хороших нра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4 веке до нашей эры Шан Ян дал начало направлению, получившему название "легизм". Легисты, в отличие от конфуцианцев, считали нравственное воспитание людей недостаточным, и упор делали на строгие законы и суровые наказ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08720" y="1413000"/>
            <a:ext cx="1524240" cy="1933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9280" y="549360"/>
            <a:ext cx="872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итические учения Древнего Восток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451640" y="4581360"/>
            <a:ext cx="1181160" cy="143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7561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длинной вершиной политической мысли Древнего Мира по праву считается философия Древней Греции. Она изначально развивалась как идеология свободных людей. Во многих городах-полисах граждане активно участвовали в отправлении власти, легитимность власти была светской, вся Эллада была ареной ожесточенной борьбы за вла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нову науки о политике заложили древнегреческие философы: Сократ (470 - 99 гг. до нашей эры); его ученик Платон Афинский (427 - 347 гг. до нашей эры.) - политические идеи его изложены в диалоге "Государство"; ученик и критик Платона Аристотель Стагирит (384 - 322 гг. до нашей эр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вухтысячелетняя история Древнего Рима - это огромный по своим масштабам опыт политической жизни, которая изобиловала борьбой различных политических сил, прошла через смену нескольких форм правления, перевороты, народные восс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ного сделали для развития политической мысли Марк Туллий Цицерон (106 - 43 гг. до наше эры), Луций Анней Сенека (ок.4 г. до нашей эры - 65 г. - философ-стоик и человек личного высокого мужества. Презирал смерть. Покончил жизнь самоубийством по требованию своего воспитанника Императора Нерона), Эпиктет (ок.50 - ок.140), Марк Аврелий (121 - 180 гг.). Гай Транквилл Светоний своей книгой "Жизнь двенадцати царей" положил начало традиции политических портр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политических учений этого этап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тепенное освобождение политических взглядов от мифологической фор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особление их как относительно самостоятельной части философ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з устройства государства, классификация его фор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иск и определение наилучшей, идеальной формы 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67640" y="2133720"/>
            <a:ext cx="1476360" cy="1271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201600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0920" y="476280"/>
            <a:ext cx="8677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итические учения Древней Греции и Древнего Рима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352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олитические идеи Плат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осударство возникло из-за многообразия материальных потребностей человека и невозможности их удовлетворения в одиноч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лог стабильности государства - разделение труда по склонности душ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правлять государством должно сословие философов, специально подготовленных для этой мисс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словие стражей должно защищать государ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емлевладельцы и ремесленники - третье сословие - должны добросовестно трудиться на благо государ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еход из одного сословия в другой недопустим, ибо это наносит вред государ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51280" y="620280"/>
            <a:ext cx="33130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Аристотель-ученик и критик Плат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двинул положение о естественном происхождении госуда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вал человека политическим суще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лассифицировал формы гос. устройства по числу властву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делял правильные формы гос. управления: монархия, аристократия, полития, при которых целью политики является общее благо; неправильные формы: тирания, олигархия, демократия, где преследуются лишь собственные интересы и цели власть имущи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логом стабильности государства считал наличие в обществе большого слоя средне обеспеченных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сказывал идею верховенства зак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18669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имские философы интерпретировали идеи своих древнегреческих предшественников в духе условий своей стр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пределах Римской империи в первые столетия новой эры распространяется христианство, которое к середине 4 века становится государственной религией Р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идный авторитет церкви Августин Блаженный (354 - 430) пишет трактат "О граде Божием", который содержит рассуждения о государственных и правовых учреждениях, посланных человеку свыше за грехи его. Августин верит, что на смену "граду земному" придет "град Божий", где любовь к Богу доведена до презрения человека к с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ение Августина легло в основу новой идеологии католической церкви Средневековья, обосновывавшей приоритет духовной власти над властью светс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53160" y="1989000"/>
            <a:ext cx="2490840" cy="3059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42447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редневековье характерно следующими политическими процесс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оздание достаточно крупных, но слабо интегрированных монарх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спад их на раздробленные политические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сцвет сословно-представительных монарх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собенности политических учений этого этап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безраздельное господство католической церкви в духовной жиз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политическая наука стала отраслью богословия, догмы религии приобретают форму зако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оциально-политическая мысль развивается усилиями религиозных дея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боснование теологической теории политическ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зносторонне одаренный и блестяще образованный монах-ученый Фома Аквинский (1226 - 1274) в своем трактате "О правлении государей" пытался соединить учение Аристотеля с христианскими догм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н признает естественное происхождение государства, которое должно служить общему благу. Считает, что сущность власти составляют отношения господства и подчинения, и такой порядок - от Бога. При использовании власти допускаются злоупотребления, но если действия власти противоречат интересам церкви, то подданные имеют право на сопроти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8000" y="404640"/>
            <a:ext cx="6172200" cy="400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итические учения Средневековь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Характерные черты политической мысли этой эпох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свобождение политической науки от теоло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звитие гуманистических начал в политической теор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нализ проблем и свобод человека, закона и государ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демократического устройства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еликий флорентинец Н. Макиавелли (1469 - 1527) первым стал рассматривать политику как особую сферу научного исследования. Основной его труд - знаменитая книга "Государь", в которой Макиавел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дал самодержцам исчерпывающие рекомендации по завоеванию и удержанию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первые сформулировал идеологию централизованной монархической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читал, что народ не играет никакой роли в государств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подчеркивал, что правитель сам определяет цели своей политики и добивается этих целей, используя люб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утверждал, что политика аморальна, мораль и политика не совмест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одоначальниками социалистической идеологии стали Томас Мор (1478 - 1535), английский гуманист и писатель, Томмазо Кампанелла (1568 - 1639), итальянский философ и поэт. Они изображали государство без частной собственности, при распределении произведенных благ по потреб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нглийский мыслитель Томас Гоббс (1588 - 1679) развил гражданскую трактовку политики, считая, что монархия - самая лучшая форма власти. Он утверждал, что источник королевской власти - общественный договор с некоторыми ограничениями власти монар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нглийский философ Джон Локк (1632 - 1704) правомерно считается основоположником либерализма. Он впервые четко разделил такие понятия, как личность, общество, государство, выделил законодательную и исполнительную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а рубеже 17 - 18 веков в Европе возникло явление, которое принято называть Просвещ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Это общекультурное движение в качестве идеала выдвигало утверждение на земле "царства разума" путем распространения знаний, искоренения невежества, всестороннего воспитания личности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 политической мысли это отразилось в виде концепций "просвещенного абсолютизм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емецкое просвещение было представлено работами С. Пуфендорфа, Х. Томазия, Х. Вольфа, Г. Лессинга. Представитель итальянского Просвещения Дж. Вико считается одним из родоначальников современной соци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Идея просвещенного абсолютизма высказывалась в России в конце 17 в. в трактате Ю. Крижанича "Политика". Ее поддерживал сам Петр I, обосновывал идеолог петровских реформ Ф. Прокопович, развивал В. Н. Татищев (1686 - 175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260280"/>
            <a:ext cx="77058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литические учения эпохи Возрождения и Просвещ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1320" y="691920"/>
            <a:ext cx="60706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ачалом Нового времени традиционно считается английская революция середины 17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Характерные черты политической мысли Нового време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ормирование либеральной политической идеолог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основание необходимости разделения вла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з ценностей и механизма функционирования буржуазной демократ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ормирование концепции прав человека и гражда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ория разделения властей по праву принадлежит французскому просветителю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Шарлю Луи Монтескь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689 - 1755). Верховенство права, по мнению Монтескье, может быть обеспечено лишь разделением властей на законодательную, исполнительную и судебную с тем, чтобы различные власти могли взаимно сдерживать друг др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первой половине 19-го века завершается формирование политической идеологии социализма - граф Клод Анри де Ревруа Сен-Симон (1760 - 1825), Роберт Оуэн (1771 - 1858), Шарль Фурье (1772 - 183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этот период возникают и радикально-революционные концепции. К ним, в первую очередь, надо отнести иде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Ж. Ж. Русс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712 - 1778), которы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тверждал, что главное зло - частная собствен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вым разграничил государство и гражданское обще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казывал необходимость прямого народного 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торая половина 19-го века связана с именами английского социолога Герберта Спенсера (1820 - 1903), немецкого философа Фридриха Ницше (1844 - 1900), французского философа-антрополога Жозефа Артюра де Гобино (1816 - 1882)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этот период наибольшую известность получают Карл Маркс (1818 - 1883), Фридрих Энгельс (1820 - 1895) - теоретики коммунистического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08000" y="115920"/>
            <a:ext cx="503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итические учения нового времен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907920"/>
            <a:ext cx="1247760" cy="15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551640" y="3716280"/>
            <a:ext cx="24130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05:52:15Z</dcterms:created>
  <dc:creator>Cat</dc:creator>
  <dc:description/>
  <dc:language>en-US</dc:language>
  <cp:lastModifiedBy>Cat</cp:lastModifiedBy>
  <dcterms:modified xsi:type="dcterms:W3CDTF">2012-07-06T09:12:07Z</dcterms:modified>
  <cp:revision>39</cp:revision>
  <dc:subject/>
  <dc:title>Слайд 1</dc:title>
</cp:coreProperties>
</file>