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0D7D-A3F0-4207-8B88-BA0A8BE2A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28CD-8770-4F40-AFE4-8AC004F6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5252-C0D1-4B7B-B145-70C2766CC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3C03-A553-4BD4-B683-63F2BDF59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70FA-B297-43D6-8A5C-1253CC0B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8F96-F08A-44BB-B7C2-77896CAE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CD7A-6C89-47F5-B67E-27FE4ED1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EBF4-AA24-4031-8454-945177F1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1A30-A292-496E-B80E-5EEC9503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D054-4A3E-47E2-97BF-44131DE5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F8A3-F69E-4FC1-8BD7-E634422D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3010-9583-4F02-A0DC-E135EC83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1830-8FE8-41DF-9507-1B61192BCBD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2400" cy="25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Calibri"/>
              </a:rPr>
              <a:t>Военно-Воздушные Силы РФ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786040"/>
            <a:ext cx="64008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«В современной войне побеждает  тот, кто обеспечивает господство в воздухе»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Автор  А.И.Бурбах , преподаватель –организатор ОБЖ 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МОУ Жердевской СОШ №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a6a6a6"/>
          </a:solidFill>
          <a:ln w="38160">
            <a:solidFill>
              <a:srgbClr val="dce6f2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zentacii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Истребитель нашего противника в Первой мировой войне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24000" y="1856880"/>
            <a:ext cx="8540640" cy="44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Фоккер – немецкий истребитель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0" y="0"/>
            <a:ext cx="2500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0" y="0"/>
          <a:ext cx="2500200" cy="517680"/>
        </p:xfrm>
        <a:graphic>
          <a:graphicData uri="http://schemas.openxmlformats.org/drawingml/2006/table">
            <a:tbl>
              <a:tblPr/>
              <a:tblGrid>
                <a:gridCol w="25002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16" descr="FokDr1_454"/>
          <p:cNvPicPr/>
          <p:nvPr/>
        </p:nvPicPr>
        <p:blipFill>
          <a:blip r:embed="rId1"/>
          <a:stretch/>
        </p:blipFill>
        <p:spPr>
          <a:xfrm>
            <a:off x="1143000" y="2643120"/>
            <a:ext cx="7201080" cy="38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Советские самолеты времен Второй мировой войны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сле революции в России несколько лет не занимались современными видами вооружений, так что новые самолёты не разрабатывались. Первые советские самолёты вышли из КБ Антонова только в середине 20-хх годов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 первой пятилетке 1930-35 гг., помимо всего прочего, был принят пятилетний план строительства авиационной промышленности, который с успехом был выполнен. На полную мощность заработали конструкторские бюро, возглавляемые такими талантливыми людьми, как Петляков, Лавочкин, Ильюшин, Микоян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Лучше всего советская авиационная промышленность показала себя в годы Великой Отечественной Войны. Был налажен массовый выпуск отличных самолётов, что позволило сразу посылать пополнения в соединения, понёсшие потери. И это стало одним из важных факторов Победы..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Фронтовой бомбардировщик Пе-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Picture 2" descr="C:\Documents and Settings\User\Мои документы\ИВАНЫЧ\250px-Pe-2-2004.jpg"/>
          <p:cNvPicPr/>
          <p:nvPr/>
        </p:nvPicPr>
        <p:blipFill>
          <a:blip r:embed="rId1"/>
          <a:stretch/>
        </p:blipFill>
        <p:spPr>
          <a:xfrm>
            <a:off x="214200" y="2857680"/>
            <a:ext cx="3286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Советские истребители второй мировой войны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42680"/>
            <a:ext cx="4040280" cy="5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Як-3 – труженик фронтового неб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4720" y="1356840"/>
            <a:ext cx="404172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МиГ-3 – самолет трижды героя СССР Ивана Кожедуб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" name="Picture 4" descr="Yak-3"/>
          <p:cNvPicPr/>
          <p:nvPr/>
        </p:nvPicPr>
        <p:blipFill>
          <a:blip r:embed="rId1"/>
          <a:stretch/>
        </p:blipFill>
        <p:spPr>
          <a:xfrm>
            <a:off x="457200" y="2428920"/>
            <a:ext cx="4040280" cy="3000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4801"/>
          <p:cNvPicPr/>
          <p:nvPr/>
        </p:nvPicPr>
        <p:blipFill>
          <a:blip r:embed="rId2"/>
          <a:stretch/>
        </p:blipFill>
        <p:spPr>
          <a:xfrm>
            <a:off x="4761000" y="2428920"/>
            <a:ext cx="3809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Эра реактивной авиаци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71680" y="1143000"/>
            <a:ext cx="81151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снащение реактивными двигателями позволило самолетам развивать новые скорости и достигать значительных высот. После того как появился такой двигатель, стали возможными межконтинентальные перелеты, мир для людей оказался намного компактнее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Хотя все изобретатели, стоявшие у истоков реактивного движения, принадлежали к противоположным политическим лагерям, имели разные национальности, а порой были даже разделены линией фронта, однако их работы очень тесно связаны с военной сферой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За всю историю мировой авиации ни одни вновь разработанные самолеты не произвели такого фурора, как «МиГ-9», «МиГ-15» и «Миг-21». Запад был ошеломлен, так как даже не подозревал, что такие самолеты  могут быть построены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Американские пилоты впервые сошлись с ними в воздушных боях над Кореей и Вьетнамом. Летчики не могли поверить своим глазам: истребители очень быстро набирали высоту и пикировали стремительнее самых лучших американских машин, а также имели превосходную маневренность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ff00"/>
                </a:solidFill>
                <a:latin typeface="Calibri"/>
              </a:rPr>
              <a:t>МиГ-9</a:t>
            </a: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07136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Оснащение реактивными двигателями позволило самолетам развивать новые скорости и достигать значительных высот. Первый боевой советский реактивный истребитель  МиГ-9 участвовал в войне в Корее в 1953 году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9" name="Picture 4" descr="tr2806"/>
          <p:cNvPicPr/>
          <p:nvPr/>
        </p:nvPicPr>
        <p:blipFill>
          <a:blip r:embed="rId1"/>
          <a:stretch/>
        </p:blipFill>
        <p:spPr>
          <a:xfrm>
            <a:off x="1285920" y="3400560"/>
            <a:ext cx="66974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Calibri"/>
              </a:rPr>
              <a:t>МиГ-15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Легендарный советский истребитель. Участвовал в войне во Вьетнаме. Наголову превосходил американские истребители того времен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Picture 4" descr="15"/>
          <p:cNvPicPr/>
          <p:nvPr/>
        </p:nvPicPr>
        <p:blipFill>
          <a:blip r:embed="rId1"/>
          <a:stretch/>
        </p:blipFill>
        <p:spPr>
          <a:xfrm>
            <a:off x="900000" y="2997360"/>
            <a:ext cx="72723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Легендарный МиГ-21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357440" y="272520"/>
            <a:ext cx="43290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Несомненно, МиГ-21 является наиболее выдающимся российским истребителем третьего поколения, не имевшим себе равных в воздушных боях 1960-70-х годов. Самолеты этого типа долгое время составляли основу истребительной авиации СССР и его союзников, оставаясь до начала 1990-х годов самыми распространенными в мире истребителями. В ходе боев самолеты МиГ-21 продемонстрировали более высокие маневренные характеристики по сравнению с американскими истребителями.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Лучший самолет своего времен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5" descr="МиГ-21"/>
          <p:cNvPicPr/>
          <p:nvPr/>
        </p:nvPicPr>
        <p:blipFill>
          <a:blip r:embed="rId1"/>
          <a:stretch/>
        </p:blipFill>
        <p:spPr>
          <a:xfrm>
            <a:off x="142920" y="2500200"/>
            <a:ext cx="43578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2. Фронтовая авиация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300816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Значок «Отличник  ВВС»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9" name="i-main-pic" descr="Картинка 83 из 272"/>
          <p:cNvPicPr/>
          <p:nvPr/>
        </p:nvPicPr>
        <p:blipFill>
          <a:blip r:embed="rId1"/>
          <a:stretch/>
        </p:blipFill>
        <p:spPr>
          <a:xfrm>
            <a:off x="500040" y="2274840"/>
            <a:ext cx="2928960" cy="365436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5"/>
          <p:cNvSpPr/>
          <p:nvPr/>
        </p:nvSpPr>
        <p:spPr>
          <a:xfrm>
            <a:off x="3786120" y="428760"/>
            <a:ext cx="51436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Предназначена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  для решения боевых задач в боях и операциях сухопутных войск и ВВС, а на приморских направлениях. В ее состав входят: штурмов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бомбардировочн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истребительн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разведывательн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Штурмовая авиация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714920" y="272520"/>
            <a:ext cx="428616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1" lang="ru-RU" sz="2500" spc="-1" strike="noStrike">
                <a:solidFill>
                  <a:srgbClr val="ffff00"/>
                </a:solidFill>
                <a:latin typeface="Calibri"/>
              </a:rPr>
              <a:t>Штурмовая авиация</a:t>
            </a: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 — </a:t>
            </a:r>
            <a:r>
              <a:rPr b="1" lang="ru-RU" sz="2500" spc="-1" strike="noStrike">
                <a:solidFill>
                  <a:srgbClr val="ffffff"/>
                </a:solidFill>
                <a:latin typeface="Calibri"/>
              </a:rPr>
              <a:t>один из родов армейской авиации сухопутных войск или военно-воздушных сил вооружённых сил государства, </a:t>
            </a:r>
            <a:r>
              <a:rPr b="1" lang="ru-RU" sz="2500" spc="-1" strike="noStrike">
                <a:solidFill>
                  <a:srgbClr val="ffff00"/>
                </a:solidFill>
                <a:latin typeface="Calibri"/>
              </a:rPr>
              <a:t>предназначена</a:t>
            </a:r>
            <a:r>
              <a:rPr b="1" lang="ru-RU" sz="2500" spc="-1" strike="noStrike">
                <a:solidFill>
                  <a:srgbClr val="ffffff"/>
                </a:solidFill>
                <a:latin typeface="Calibri"/>
              </a:rPr>
              <a:t> для поддержки наземных войск. Используется для уничтожения противника на поле боя и нанесения бомбово-штурмовых ударов по наземным объектам в ближайшей глубине обороны. В основном, действует на малой высоте или на бреющем полёте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Штурмовики ВВС РФ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285840" y="1928880"/>
            <a:ext cx="4572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Су-25 «Грач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714920" y="1428840"/>
            <a:ext cx="421488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по кодификации НАТО: Frogfoot (Лягушачья нога)—российский бронированный дозвуковой штурмовик, предназначен для непосредственной поддержки сухопутных войск над полем боя днём и ночью при визуальной видимости цели, а также уничтожения объектов с заданными координатами круглосуточно в любых метеоусловиях.                                            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214200" y="1857240"/>
            <a:ext cx="471492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357120" y="1286640"/>
            <a:ext cx="835812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www.airforce.r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u.wikipedia.org/wiki/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ВВ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_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Р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www.rusarmy.com/aviacion.htm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www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militaryparitet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om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/…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data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ic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_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news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/235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www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stpilot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u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view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fvvs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www.regnum.ru/news/1105732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aviaros.narod.ru/atribut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volution.allbest.ru/war/00036538_0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vflag.ru/index/sitemenu/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news.rambler.ru/Russia/head/3410144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Истребительная авиация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Предназначена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для уничтожения самолётов и беспилотных средств противника с целью завоевания господства в воздухе, прикрытия войск и объектов тыла, обеспечения боевых действий других родов и видов авиаци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Истребители ВВС РФ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" name="Picture 2" descr="C:\Documents and Settings\User\Мои документы\ИВАНЫЧ\вертолеты, самолеты\mig29m2(4).jpg"/>
          <p:cNvPicPr/>
          <p:nvPr/>
        </p:nvPicPr>
        <p:blipFill>
          <a:blip r:embed="rId1"/>
          <a:stretch/>
        </p:blipFill>
        <p:spPr>
          <a:xfrm>
            <a:off x="1000080" y="1857240"/>
            <a:ext cx="2000160" cy="1285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Documents and Settings\User\Мои документы\ИВАНЫЧ\вертолеты, самолеты\su27smk(4).jpg"/>
          <p:cNvPicPr/>
          <p:nvPr/>
        </p:nvPicPr>
        <p:blipFill>
          <a:blip r:embed="rId2"/>
          <a:stretch/>
        </p:blipFill>
        <p:spPr>
          <a:xfrm>
            <a:off x="1000080" y="3357720"/>
            <a:ext cx="2071800" cy="1357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C:\Documents and Settings\User\Мои документы\ИВАНЫЧ\вертолеты, самолеты\mig31(3).jpg"/>
          <p:cNvPicPr/>
          <p:nvPr/>
        </p:nvPicPr>
        <p:blipFill>
          <a:blip r:embed="rId3"/>
          <a:stretch/>
        </p:blipFill>
        <p:spPr>
          <a:xfrm>
            <a:off x="857160" y="4857840"/>
            <a:ext cx="235764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МиГ-29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                       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По </a:t>
            </a: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кодификации НАТО: Fulcrum — </a:t>
            </a:r>
            <a:r>
              <a:rPr b="1" i="1" lang="ru-RU" sz="2600" spc="-1" strike="noStrike">
                <a:solidFill>
                  <a:srgbClr val="ffffff"/>
                </a:solidFill>
                <a:latin typeface="Calibri"/>
              </a:rPr>
              <a:t>«Точка опоры»</a:t>
            </a: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) — российский фронтовой истребитель четвёртого поколения. </a:t>
            </a:r>
            <a:r>
              <a:rPr b="1" lang="ru-RU" sz="2600" spc="-1" strike="noStrike">
                <a:solidFill>
                  <a:srgbClr val="ffff00"/>
                </a:solidFill>
                <a:latin typeface="Calibri"/>
              </a:rPr>
              <a:t>Предназначен</a:t>
            </a: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 для завоевания господства в воздухе. </a:t>
            </a:r>
            <a:r>
              <a:rPr b="1" lang="ru-RU" sz="2600" spc="-1" strike="noStrike">
                <a:solidFill>
                  <a:srgbClr val="ffff00"/>
                </a:solidFill>
                <a:latin typeface="Calibri"/>
              </a:rPr>
              <a:t>В настоящее время считается самым маневренным истребителем в мире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6" name="Picture 2" descr="C:\Documents and Settings\User\Мои документы\ИВАНЫЧ\вертолеты, самолеты\mig29m2(4).jpg"/>
          <p:cNvPicPr/>
          <p:nvPr/>
        </p:nvPicPr>
        <p:blipFill>
          <a:blip r:embed="rId1"/>
          <a:stretch/>
        </p:blipFill>
        <p:spPr>
          <a:xfrm>
            <a:off x="285840" y="21430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Миг-3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214280"/>
            <a:ext cx="403848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     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по кодификации НАТО «Лисья гончая»)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едназначен для перехвата и уничтожения воздушных целей на малых, предельно малых, средних и больших высотах, днём и ночью, в простых и сложных метеоусловиях, при применении противником активных и пассивных радиолокационных помех, а также тепловых ловушек. Группа из четырёх самолётов МиГ-31 способна контролировать воздушное пространство протяжённостью по фронту 800—900 км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9" name="Picture 2" descr="C:\Documents and Settings\User\Мои документы\ИВАНЫЧ\вертолеты, самолеты\mig31(3).jpg"/>
          <p:cNvPicPr/>
          <p:nvPr/>
        </p:nvPicPr>
        <p:blipFill>
          <a:blip r:embed="rId1"/>
          <a:stretch/>
        </p:blipFill>
        <p:spPr>
          <a:xfrm>
            <a:off x="285840" y="1428840"/>
            <a:ext cx="4643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Су-27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48320" y="928440"/>
            <a:ext cx="403848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о кодификации НАТО: Flanker — российский многоцелевой высокоманевренный всепогодный истребитель-перехватчик.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Предназначен для завоевания превосходства в воздухе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. На текущий момент является одним из основных самолётов ВВС Росси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2" name="Picture 2" descr="C:\Documents and Settings\User\Мои документы\ИВАНЫЧ\вертолеты, самолеты\su27smk(4).jpg"/>
          <p:cNvPicPr/>
          <p:nvPr/>
        </p:nvPicPr>
        <p:blipFill>
          <a:blip r:embed="rId1"/>
          <a:stretch/>
        </p:blipFill>
        <p:spPr>
          <a:xfrm>
            <a:off x="285840" y="1500120"/>
            <a:ext cx="450036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Разведывательная авиаци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МиГ-25РБ - </a:t>
            </a: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одноместный всевысотный самолет оперативной разведки – бомбардировщик. Предназначен для ведения воздушной фото- и радиотехнической разведки и нанесения ударов по площадным наземным целям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" name="Picture 2" descr="C:\Documents and Settings\User\Мои документы\ИВАНЫЧ\вертолеты, самолеты\2531381.jpg"/>
          <p:cNvPicPr/>
          <p:nvPr/>
        </p:nvPicPr>
        <p:blipFill>
          <a:blip r:embed="rId1"/>
          <a:stretch/>
        </p:blipFill>
        <p:spPr>
          <a:xfrm>
            <a:off x="457200" y="1785960"/>
            <a:ext cx="440064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Бомбардировочная авиаци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Calibri"/>
              </a:rPr>
              <a:t>Тактический (фронтовой) бомбардиро́вщик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 — 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бомбардировщик, обладающий небольшим радиусом действия, предназначенный для нанесения ударов в оперативном тылу противника. Специализированными тактическими (фронтовыми) бомбардировщиками являются российские </a:t>
            </a:r>
            <a:r>
              <a:rPr b="1" lang="ru-RU" sz="2200" spc="-1" strike="noStrike">
                <a:solidFill>
                  <a:srgbClr val="ffff00"/>
                </a:solidFill>
                <a:latin typeface="Calibri"/>
              </a:rPr>
              <a:t>Су-24 и Су-34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457200" y="2071800"/>
            <a:ext cx="4400640" cy="342900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5"/>
          <p:cNvSpPr/>
          <p:nvPr/>
        </p:nvSpPr>
        <p:spPr>
          <a:xfrm>
            <a:off x="1928880" y="1285920"/>
            <a:ext cx="300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Су-3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00"/>
                </a:solidFill>
                <a:uFillTx/>
                <a:latin typeface="Calibri"/>
              </a:rPr>
              <a:t>Дальняя авиация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ff00"/>
                </a:solidFill>
                <a:uFillTx/>
                <a:latin typeface="Calibri"/>
              </a:rPr>
              <a:t>Стратегические бомбардировщики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 — основное предназначение которых — поражение стратегических целей на территории противника, например, складов, мостов, заводов, портов и т. д. В глобальной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Calibri"/>
              </a:rPr>
              <a:t>ядерной войне 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могут применятся для нанесения ударов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Calibri"/>
              </a:rPr>
              <a:t>оружием массового поражения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по крупным населенным пунктам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Calibri"/>
              </a:rPr>
              <a:t>противника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2" name="Picture 2" descr="C:\Documents and Settings\User\Мои документы\ИВАНЫЧ\вертолеты, самолеты\tu22m3(3).jpg"/>
          <p:cNvPicPr/>
          <p:nvPr/>
        </p:nvPicPr>
        <p:blipFill>
          <a:blip r:embed="rId1"/>
          <a:stretch/>
        </p:blipFill>
        <p:spPr>
          <a:xfrm>
            <a:off x="1285920" y="1428840"/>
            <a:ext cx="2786040" cy="1571400"/>
          </a:xfrm>
          <a:prstGeom prst="rect">
            <a:avLst/>
          </a:prstGeom>
          <a:ln w="0">
            <a:noFill/>
          </a:ln>
        </p:spPr>
      </p:pic>
      <p:pic>
        <p:nvPicPr>
          <p:cNvPr id="133" name="Содержимое 3" descr="Tu-160 at MAKS 2007.jpg"/>
          <p:cNvPicPr/>
          <p:nvPr/>
        </p:nvPicPr>
        <p:blipFill>
          <a:blip r:embed="rId2"/>
          <a:stretch/>
        </p:blipFill>
        <p:spPr>
          <a:xfrm>
            <a:off x="1214280" y="3286080"/>
            <a:ext cx="2714760" cy="1571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C:\Documents and Settings\User\Мои документы\ИВАНЫЧ\вертолеты, самолеты\tu95ms(1).jpg"/>
          <p:cNvPicPr/>
          <p:nvPr/>
        </p:nvPicPr>
        <p:blipFill>
          <a:blip r:embed="rId3"/>
          <a:stretch/>
        </p:blipFill>
        <p:spPr>
          <a:xfrm>
            <a:off x="1184400" y="5072040"/>
            <a:ext cx="2673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Ту-22М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285880" y="1600200"/>
            <a:ext cx="36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о кодификации НАТО: </a:t>
            </a: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Backfire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 (задний огонь)— дальний сверхзвуковой ракетоносец-бомбардировщик с изменяемой геометрией крыла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7" name="Picture 2" descr="C:\Documents and Settings\User\Мои документы\ИВАНЫЧ\вертолеты, самолеты\tu22m3(3).jpg"/>
          <p:cNvPicPr/>
          <p:nvPr/>
        </p:nvPicPr>
        <p:blipFill>
          <a:blip r:embed="rId1"/>
          <a:stretch/>
        </p:blipFill>
        <p:spPr>
          <a:xfrm>
            <a:off x="214200" y="1785960"/>
            <a:ext cx="51436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Ту-160 «Белый лебедь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142880" y="1356840"/>
            <a:ext cx="500076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 кодификации НАТО: Blackjack) — (черный огонь) российский сверхзвуковой стратегический бомбардировщик-ракетоносец с изменяющейся стреловидностью крыла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Является самым крупным в истории военной авиации сверхзвуковым самолётом и самолётом с изменяемой геометрией крыла, самым мощным и самым тяжёлым боевым самолётом в мире, обладает крупнейшей среди бомбардировщиков максимальной взлётной массой и боевой нагрузкой.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реди пилотов получил прозвище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«Белый лебедь»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0" name="Содержимое 3" descr="Tu-160 at MAKS 2007.jpg"/>
          <p:cNvPicPr/>
          <p:nvPr/>
        </p:nvPicPr>
        <p:blipFill>
          <a:blip r:embed="rId1"/>
          <a:stretch/>
        </p:blipFill>
        <p:spPr>
          <a:xfrm>
            <a:off x="285840" y="2071800"/>
            <a:ext cx="407196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Ту-95МС «Медведь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857840" y="160020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Calibri"/>
              </a:rPr>
              <a:t>кодификации НАТО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: Bear —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«Медведь»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) —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Calibri"/>
              </a:rPr>
              <a:t>российский турбовинтовой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Calibri"/>
              </a:rPr>
              <a:t>стратегическийбомбардировщик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-ракетоносец, один из самых быстрых винтовых самолётов, единственный принятый на вооружение и серийно производившийся турбовинтовой бомбардировщик. Предназначен для поражения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Calibri"/>
              </a:rPr>
              <a:t>крылатыми ракетами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ажных объектов в тылу противника в любое время суток и при любых погодных условиях.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Самолет, наводящий ужас на НАТО.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3" name="Picture 2" descr="C:\Documents and Settings\User\Мои документы\ИВАНЫЧ\вертолеты, самолеты\tu95ms(1).jpg"/>
          <p:cNvPicPr/>
          <p:nvPr/>
        </p:nvPicPr>
        <p:blipFill>
          <a:blip r:embed="rId1"/>
          <a:stretch/>
        </p:blipFill>
        <p:spPr>
          <a:xfrm>
            <a:off x="457200" y="1714680"/>
            <a:ext cx="44719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Изучаемые вопрос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1. История развития военной авиации  России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2. Фронтовая авиация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3. Дальняя авиация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4. Военно-транспортная авиация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5. Армейская авиация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6. Перспективы дальнейшего развития российской военной авиации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7. Современные боевые самолеты вероятного противника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Picture 2" descr="C:\Documents and Settings\User\Мои документы\ИВАНЫЧ\вертолеты, самолеты\300px-14082007-Illya-Muromec-1.jpg"/>
          <p:cNvPicPr/>
          <p:nvPr/>
        </p:nvPicPr>
        <p:blipFill>
          <a:blip r:embed="rId1"/>
          <a:stretch/>
        </p:blipFill>
        <p:spPr>
          <a:xfrm>
            <a:off x="571680" y="1714680"/>
            <a:ext cx="3809880" cy="29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Военно-транспортная авиаци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Военно-транспортная авиация предназначена для транспортировки воздушных десантов, обеспечения манёвра войск по воздуху, перевозки вооружения, боеприпасов, горючего, продовольствия и других материальных средств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571680" y="1500120"/>
            <a:ext cx="3757320" cy="2428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http://aviaros.narod.ru/foto/il-76/il-76_23.jpg"/>
          <p:cNvPicPr/>
          <p:nvPr/>
        </p:nvPicPr>
        <p:blipFill>
          <a:blip r:embed="rId2"/>
          <a:stretch/>
        </p:blipFill>
        <p:spPr>
          <a:xfrm>
            <a:off x="500040" y="4071960"/>
            <a:ext cx="37861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Ан-124 «Руслан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857840" y="1600200"/>
            <a:ext cx="400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По кодификации НАТО: Condor — </a:t>
            </a:r>
            <a:r>
              <a:rPr b="1" i="1" lang="ru-RU" sz="2600" spc="-1" strike="noStrike">
                <a:solidFill>
                  <a:srgbClr val="ffffff"/>
                </a:solidFill>
                <a:latin typeface="Calibri"/>
              </a:rPr>
              <a:t>«Кондор»</a:t>
            </a: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) 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Создавался в первую очередь для воздушной транспортировки мобильных пусковых установок межконтинентальных баллистических ракет. </a:t>
            </a:r>
            <a:r>
              <a:rPr b="1" lang="ru-RU" sz="2600" spc="-1" strike="noStrike">
                <a:solidFill>
                  <a:srgbClr val="ffff00"/>
                </a:solidFill>
                <a:latin typeface="Calibri"/>
              </a:rPr>
              <a:t>Самый мощный в мире самолет ВТА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45007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Ил-76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По кодификации НАТО: Candid — </a:t>
            </a:r>
            <a:r>
              <a:rPr b="1" i="1" lang="ru-RU" sz="2600" spc="-1" strike="noStrike">
                <a:solidFill>
                  <a:srgbClr val="ffff00"/>
                </a:solidFill>
                <a:latin typeface="Calibri"/>
              </a:rPr>
              <a:t>«Искренний»</a:t>
            </a:r>
            <a:r>
              <a:rPr b="1" lang="ru-RU" sz="2600" spc="-1" strike="noStrike">
                <a:solidFill>
                  <a:srgbClr val="ffff00"/>
                </a:solidFill>
                <a:latin typeface="Calibri"/>
              </a:rPr>
              <a:t>) </a:t>
            </a: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— российский средний военно-транспортный самолёт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предназначен для транспортировки и десантирования личного состава, техники и грузов различного назначения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3" name="Picture 2" descr="http://aviaros.narod.ru/foto/il-76/il-76_23.jpg"/>
          <p:cNvPicPr/>
          <p:nvPr/>
        </p:nvPicPr>
        <p:blipFill>
          <a:blip r:embed="rId1"/>
          <a:stretch/>
        </p:blipFill>
        <p:spPr>
          <a:xfrm>
            <a:off x="214200" y="1785960"/>
            <a:ext cx="464364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300816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Армейская авиаци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143160" y="-360"/>
            <a:ext cx="578664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Используется для действий непосредственно в интересах общевойсковых формирований сухопутных войск , их авиационной поддержки (поражения живой силы и техники противника, разрушения его оборонительных сооружений), ведения тактической воздушной разведки, обеспечения высадки тактических воздушных десантов и огневой поддержки их действий, радиоэлектронной борьбы , постановки минных заграждений, эвакуации раненых, убитых и больных, доставки материальных средств и выполнения других задач в операциях проводимых СВ и во взаимодействии с другими видам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999720"/>
            <a:ext cx="304308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Боевые вертолеты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428760" y="1500120"/>
            <a:ext cx="2786040" cy="1428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500040" y="3071880"/>
            <a:ext cx="2643120" cy="16430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"/>
          <p:cNvPicPr/>
          <p:nvPr/>
        </p:nvPicPr>
        <p:blipFill>
          <a:blip r:embed="rId3"/>
          <a:stretch/>
        </p:blipFill>
        <p:spPr>
          <a:xfrm>
            <a:off x="428760" y="4929120"/>
            <a:ext cx="27860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Ми – 24 «Крокодил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857840" y="160020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Ми-24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Hind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о классификации НАТО) — российский транспортно-боевой вертолёт. Трудяга фронтового неба. Вынес на себе всю афганскую и чеченские войны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457200" y="1785960"/>
            <a:ext cx="46148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Ка – 50 «Черная акула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Ка-50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(Hokum A по классификации НАТО, известен под именем «Чёрная акула») — российский боевой одноместный ударный вертолёт, предназначенный для поражения бронетанковой и механизированной техники, воздушных целей и живой силы на поле боя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457200" y="1857240"/>
            <a:ext cx="403848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Ка – 52 «Аллигатор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Ка-52 (Hokum B по классификации НАТО, также известен как «Аллигатор») — российский вертолёт, командирская машина армейской авиации, осуществляющая разведку местности, целеуказание и координацию действий группы боевых вертолётов. Машина способна поражать бронированную и небронированную технику, живую силу и воздушные цели на поле боя.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457200" y="1857240"/>
            <a:ext cx="4257720" cy="35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ff00"/>
                </a:solidFill>
                <a:latin typeface="Calibri"/>
              </a:rPr>
              <a:t>Ми-28</a:t>
            </a: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 – основной вертолет армейской авиаци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071600" y="1600200"/>
            <a:ext cx="4714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Боевой вертолет нового поколения Ми-28Н ("Ночной охотник") предназначен для поиска и уничтожения танков, бронетехники, живой силы противника; уничтожения защищенных объектов и поражения площадных целей (линий окопов, оборонительных сооружений и др.); постановки минных заграждений; поиска и уничтожения катеров и других малых плавсредств; борьбы со скоростными и низколетящими летательными аппаратами противника; уничтожения малоскоростных воздушных целей днем и ночью в простых и сложных метеоусловиях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214200" y="1928880"/>
            <a:ext cx="41436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Ми-26 – самый большой в мире боевой вертолет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Ми-26 (по кодификации НАТО: Halo)  — российский многоцелевой транспортный вертолёт,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едназначен для перевозки крупногабаритных грузов и техники весом до 20 тонн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крупнейший в мире транспортный вертолёт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Грузоподъёмность — до 25 т полезной нагрузки. Вертолёт может быть использован для задач как военного, так и гражданского характера, а также для проведения поисково-спасательных операций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285840" y="18572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рямоугольник 1"/>
          <p:cNvSpPr/>
          <p:nvPr/>
        </p:nvSpPr>
        <p:spPr>
          <a:xfrm>
            <a:off x="357120" y="28584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Образцы новейшей российской авиатех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Прямоугольник 2"/>
          <p:cNvSpPr/>
          <p:nvPr/>
        </p:nvSpPr>
        <p:spPr>
          <a:xfrm>
            <a:off x="3500280" y="928800"/>
            <a:ext cx="53578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овые самолеты должны были иметь значительно более высокий боевой потенциал, чем их предшественник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- многофункциональность, то есть высокая эффективность при поражении воздушных, наземных, надводных и подводных целей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- кардинальное уменьшение заметности самолета в радиолокационном и инфракрасном диапазонах , а также на режимы повышенной скрытност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- способность осуществлять всеракурсный обстрел целей в ближнем воздушном бою, а также вести многоканальную ракетную стрельбу при ведении боя на большой дальност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- автоматизация управления бортовыми информационными и помеховыми системам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- самолет должен быть оснащён автоматизированной системой управления на уровне решения тактических задач, имеющей экспертный режим «в помощь летчику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85840" y="857160"/>
            <a:ext cx="3143160" cy="1714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"/>
          <p:cNvPicPr/>
          <p:nvPr/>
        </p:nvPicPr>
        <p:blipFill>
          <a:blip r:embed="rId2"/>
          <a:stretch/>
        </p:blipFill>
        <p:spPr>
          <a:xfrm>
            <a:off x="428760" y="2714760"/>
            <a:ext cx="3071520" cy="1714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"/>
          <p:cNvPicPr/>
          <p:nvPr/>
        </p:nvPicPr>
        <p:blipFill>
          <a:blip r:embed="rId3"/>
          <a:stretch/>
        </p:blipFill>
        <p:spPr>
          <a:xfrm>
            <a:off x="144360" y="4572000"/>
            <a:ext cx="32846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357120" y="214200"/>
            <a:ext cx="86439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Цель занятия: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формирование у учащихся знаний истории развития военной авиации, ее боевых возможностей, значения для достижения победы над враг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428760" y="2136600"/>
            <a:ext cx="850104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ознакомить школьников с историей развития отечественной авиации, ее структурой и боевыми возможностя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-развить устойчивый интерес у учащихся к вопросам российской военной авиации, ее места и роли в системе безопасности стран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-определить отношение подростков к перспективам создания в России авиатехники 5го поко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Суперсовременный российский истребитель Су-47 «Беркут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429000" y="1600200"/>
            <a:ext cx="55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енные эксперты обещают, что эйфория всеобщего примирения будет недолгой, ситуация в мире начнет обостряться через 10—20 лет. С каким вооружением Россия подойдет к этому времени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1" lang="ru-RU" sz="1900" spc="-1" strike="noStrike">
                <a:solidFill>
                  <a:srgbClr val="ffffff"/>
                </a:solidFill>
                <a:latin typeface="Calibri"/>
              </a:rPr>
              <a:t>ОКБ Сухого представило прототип самолёта, получивший рабочий индекс Су-47 и имя «Беркут». 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Calibri"/>
              </a:rPr>
              <a:t>Прогнозируется, что авиационный комплекс пятого поколения будет принят на вооружение ВВС России в 2012—2015 годах.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00"/>
                </a:solidFill>
                <a:latin typeface="Calibri"/>
              </a:rPr>
              <a:t>На данный момент истребителей пятого поколения с обратной стреловидностью крыла у других стран нет.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144360" y="1643040"/>
            <a:ext cx="3570480" cy="2143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"/>
          <p:cNvPicPr/>
          <p:nvPr/>
        </p:nvPicPr>
        <p:blipFill>
          <a:blip r:embed="rId2"/>
          <a:stretch/>
        </p:blipFill>
        <p:spPr>
          <a:xfrm>
            <a:off x="428760" y="4000680"/>
            <a:ext cx="33573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>
            <a:lum bright="-14000"/>
          </a:blip>
          <a:stretch/>
        </p:blipFill>
        <p:spPr>
          <a:xfrm>
            <a:off x="4572000" y="714240"/>
            <a:ext cx="4214880" cy="292896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оугольник 2"/>
          <p:cNvSpPr/>
          <p:nvPr/>
        </p:nvSpPr>
        <p:spPr>
          <a:xfrm>
            <a:off x="357120" y="357120"/>
            <a:ext cx="392904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Су-47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видится американскими экспертами источником потенциальной угрозы национальной безопасности СШ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Прямоугольник 3"/>
          <p:cNvSpPr/>
          <p:nvPr/>
        </p:nvSpPr>
        <p:spPr>
          <a:xfrm>
            <a:off x="357120" y="2643120"/>
            <a:ext cx="4143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дин из американских генералов ВВС, ознакомившись с тактико-техническими данными Су-47, воскликнул: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"Мы всегда и всюду обладали господством в воздухе. Теперь же российские истребители могут безнаказанно оперировать на поле воздушного боя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2"/>
          <a:stretch/>
        </p:blipFill>
        <p:spPr>
          <a:xfrm>
            <a:off x="4500720" y="3786120"/>
            <a:ext cx="435744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Учебные заведения, осуществляющие подготовку специалистов для ВВС России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ffff"/>
                </a:solidFill>
                <a:uFillTx/>
                <a:latin typeface="Calibri"/>
              </a:rPr>
              <a:t>Военно-воздушная инженерная академия имени Н. Е. Жуковского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ffff"/>
                </a:solidFill>
                <a:uFillTx/>
                <a:latin typeface="Calibri"/>
              </a:rPr>
              <a:t>Военно-воздушная академия имени Ю. А. Гагарина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Военная академия воздушно-космической обороны им.Жукова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Балашовский военный авиационный институт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Краснодарский военный авиационный институт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ffff"/>
                </a:solidFill>
                <a:uFillTx/>
                <a:latin typeface="Calibri"/>
              </a:rPr>
              <a:t>Сызранский военный авиационный институт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Военный авиационный инженерный университет г. Воронеж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Иркутский военный авиационный инженерный институт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Ейский высший военный авиационный институт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Челябинское высшее военное авиационное училище штурманов (ВИ)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Главнокомандующий ВВС РФ генерал-полковник Зелени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1" name="i-main-pic" descr="Картинка 134 из 272"/>
          <p:cNvPicPr/>
          <p:nvPr/>
        </p:nvPicPr>
        <p:blipFill>
          <a:blip r:embed="rId1"/>
          <a:stretch/>
        </p:blipFill>
        <p:spPr>
          <a:xfrm>
            <a:off x="1500120" y="2000160"/>
            <a:ext cx="6215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7.  Самолеты ВВС США, разработанные по технологии «Стеллс» («невидимки»)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57120" y="2428920"/>
            <a:ext cx="3286080" cy="19288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http://upload.wikimedia.org/wikipedia/commons/thumb/e/e4/F-117_Nighthawk_%282152066098%29.jpg/250px-F-117_Nighthawk_%282152066098%29.jpg"/>
          <p:cNvPicPr/>
          <p:nvPr/>
        </p:nvPicPr>
        <p:blipFill>
          <a:blip r:embed="rId2"/>
          <a:stretch/>
        </p:blipFill>
        <p:spPr>
          <a:xfrm>
            <a:off x="5000760" y="2500200"/>
            <a:ext cx="3357360" cy="2143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"/>
          <p:cNvPicPr/>
          <p:nvPr/>
        </p:nvPicPr>
        <p:blipFill>
          <a:blip r:embed="rId3"/>
          <a:stretch/>
        </p:blipFill>
        <p:spPr>
          <a:xfrm>
            <a:off x="1928880" y="4714920"/>
            <a:ext cx="34290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Ударный самолет ВВС США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F-117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647960" y="1642680"/>
            <a:ext cx="428148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Локхид F-117 — одноместный дозвуковой тактический малозаметный ударный самолет, предназначенный для скрытного проникновения через систему ПВО противника и атак стратегически важных наземных объектов военной инфраструктуры (ракетные базы, аэродромы, центры управления и связи и т. п.), для поиска и уничтожения несущих боевое дежурство в воздухе самолётов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457200" y="1785960"/>
            <a:ext cx="40384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Стратегический бомбардировщик 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   B-2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4000680" y="2214720"/>
            <a:ext cx="4714560" cy="2714400"/>
          </a:xfrm>
          <a:prstGeom prst="rect">
            <a:avLst/>
          </a:prstGeom>
          <a:ln w="0">
            <a:noFill/>
          </a:ln>
        </p:spPr>
      </p:pic>
      <p:sp>
        <p:nvSpPr>
          <p:cNvPr id="201" name="Прямоугольник 4"/>
          <p:cNvSpPr/>
          <p:nvPr/>
        </p:nvSpPr>
        <p:spPr>
          <a:xfrm>
            <a:off x="214200" y="1500120"/>
            <a:ext cx="3429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Стратегический бомбардировщик В-2 относится к поколению американских малозаметных самолето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Прямоугольник 5"/>
          <p:cNvSpPr/>
          <p:nvPr/>
        </p:nvSpPr>
        <p:spPr>
          <a:xfrm>
            <a:off x="214200" y="3429000"/>
            <a:ext cx="35719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Малая заметность самолета обеспечивает высокую вероятность его выживания в боевых условиях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Перспектива дальнейшего использования американских боевых самолетов-невидимок</a:t>
            </a: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648320" y="1999800"/>
            <a:ext cx="403848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 связи с введением в боевую эксплуатацию  российских зенитно-ракетных  комплексов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С-300 и С-400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дальнейшее  боевое применение данных самолетов признано американским правительством нецелесообразным. Прицелы наших ЗРК «видят» эти самолеты и успешно наводят на них ракеты. С-300 в боевых действиях в бывшей Югославии сбивал американские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F-117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357120" y="2286000"/>
            <a:ext cx="40719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F-22 «Раптор» - многоцелевой суперсовременный истребитель 5го поколени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7" name="i-main-pic" descr="Картинка 5 из 5255"/>
          <p:cNvPicPr/>
          <p:nvPr/>
        </p:nvPicPr>
        <p:blipFill>
          <a:blip r:embed="rId1"/>
          <a:stretch/>
        </p:blipFill>
        <p:spPr>
          <a:xfrm>
            <a:off x="3929040" y="2143080"/>
            <a:ext cx="4786200" cy="342900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4"/>
          <p:cNvSpPr/>
          <p:nvPr/>
        </p:nvSpPr>
        <p:spPr>
          <a:xfrm>
            <a:off x="214200" y="1357200"/>
            <a:ext cx="350064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F-22 «Раптор»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 — многоцелевой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Calibri"/>
              </a:rPr>
              <a:t>истребитель пятого поколения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, оснащенен двумя реактивными двигателями, которые позволяют ему совершать полет на сверхзвуковой скорости без использования форсажных режимов, что является важным тактическим преимуществом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Прямоугольник 6"/>
          <p:cNvSpPr/>
          <p:nvPr/>
        </p:nvSpPr>
        <p:spPr>
          <a:xfrm>
            <a:off x="214200" y="4786200"/>
            <a:ext cx="3714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днако, российские истребители предыдущего четвертого поколения, давно имеют такие двигатели и успешно летают на них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Военно-воздушные силы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— вид Вооруженных Сил, предназначенный для нанесения ударов по авиационным, сухопутным и морским группировкам противника, его административно-политическим, промышленно-экономическим центрам в целях дезорганизации государственного и военного управления, нарушения работы тыла и транспорта, а также ведения воздушной разведки и воздушных перевозок. Эти задачи они могут выполнять в любых условиях погоды, времени суток и года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30081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Знамя ВВС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285840" y="3357720"/>
            <a:ext cx="3500280" cy="2428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Documents and Settings\User\Мои документы\ИВАНЫЧ\вертолеты, самолеты\XTR4KOCAEQQCGLCACIQ40HCADZXRWWCANNLKXQCAEZBP0ZCAGI8RHCCA8HAZEACAX4L22ICA9W2YZLCAGOIE5OCA544V2ECAWNN3YYCAOWNMU3CAVTW5VFCAZKRCDTCAE5NI1VCAPMA2EACA7VTWHKCA7D1LWU.jpg"/>
          <p:cNvPicPr/>
          <p:nvPr/>
        </p:nvPicPr>
        <p:blipFill>
          <a:blip r:embed="rId2"/>
          <a:stretch/>
        </p:blipFill>
        <p:spPr>
          <a:xfrm>
            <a:off x="428760" y="214200"/>
            <a:ext cx="31431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3008160" cy="100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История развития военной авиации Росси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574800" y="214200"/>
            <a:ext cx="511164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оздание летательного аппарата – естественный шаг человечества вперед после того, как была создана колесная повозка и лодка. Человек давно мечтал о полете, однако технические и экономические возможности для реализации этой мечты, объективная необходимость создания транспортного средства, способного двигаться в околоземном воздушном пространстве, - самолет – появилась сравнительно недавно, в начале 20го века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оссия в это время не входила в число ведущих стран –разработчиков и строителей  военных истребителей. Поэтому русские летчики –истребители в первой мировой войне воевали на самолетах иностранного производства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Однако, тяжелый бомбардировщик в России был! И, к тому же,- самый лучший в мире того времени!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0040" y="149976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«Илья Муромец»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1" descr="C:\Documents and Settings\User\Мои документы\ИВАНЫЧ\вертолеты, самолеты\ilya_muromec_1.jpg"/>
          <p:cNvPicPr/>
          <p:nvPr/>
        </p:nvPicPr>
        <p:blipFill>
          <a:blip r:embed="rId1"/>
          <a:stretch/>
        </p:blipFill>
        <p:spPr>
          <a:xfrm>
            <a:off x="214200" y="2571840"/>
            <a:ext cx="3643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285840" y="428760"/>
            <a:ext cx="585792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Боевой вариант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«Ильи Муромца»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ес автоматическую пушку, крупнокалиберный оборонительный пулемёт, 1650 кг бомб, шесть 127 мм ракет и две пушки, — паре тяжёлых бомбардировщиков было под силу остановить наступление противника или расчистить путь своим войскам. Стандартным результатом одного боевого вылета было «Уничтожение семи аэропланов неприятеля, пяти танков и броневиков, двух батарей и автомобильно-гужевого обоза»(цитата из отчёта 1916года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Прямоугольник 2"/>
          <p:cNvSpPr/>
          <p:nvPr/>
        </p:nvSpPr>
        <p:spPr>
          <a:xfrm>
            <a:off x="285840" y="4357800"/>
            <a:ext cx="5929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ервый раз на боевое задание самолёты эскадры вылетели 14 (27) февраля 1915. За всю войну эскадра совершила 400 боевых вылетов, сбросила 65 тонн бомб и уничтожила 12 вражеских истребителей, потеряв при этом лишь один самолёт непосредственно в боях с вражескими истребителя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1" descr="C:\Documents and Settings\User\Мои документы\ИВАНЫЧ\вертолеты, самолеты\1af21ba83217.jpg"/>
          <p:cNvPicPr/>
          <p:nvPr/>
        </p:nvPicPr>
        <p:blipFill>
          <a:blip r:embed="rId1"/>
          <a:stretch/>
        </p:blipFill>
        <p:spPr>
          <a:xfrm>
            <a:off x="6143760" y="5000760"/>
            <a:ext cx="2786040" cy="1643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Documents and Settings\User\Мои документы\ИВАНЫЧ\вертолеты, самолеты\ilya_muromec_1.jpg"/>
          <p:cNvPicPr/>
          <p:nvPr/>
        </p:nvPicPr>
        <p:blipFill>
          <a:blip r:embed="rId2"/>
          <a:stretch/>
        </p:blipFill>
        <p:spPr>
          <a:xfrm>
            <a:off x="6143760" y="285840"/>
            <a:ext cx="2857320" cy="1857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Documents and Settings\User\Мои документы\ИВАНЫЧ\вертолеты, самолеты\0_9f09_38ce4e1b_L.jpg"/>
          <p:cNvPicPr/>
          <p:nvPr/>
        </p:nvPicPr>
        <p:blipFill>
          <a:blip r:embed="rId3"/>
          <a:stretch/>
        </p:blipFill>
        <p:spPr>
          <a:xfrm>
            <a:off x="6072120" y="2500200"/>
            <a:ext cx="285768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Ньюпор – русский истребитель французского производства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На этом самолете воевал первый русский ас. Летчик– истребитель  капитан П.Н. Нестеров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Picture 2" descr="Nesterovpn.jpg"/>
          <p:cNvPicPr/>
          <p:nvPr/>
        </p:nvPicPr>
        <p:blipFill>
          <a:blip r:embed="rId1"/>
          <a:stretch/>
        </p:blipFill>
        <p:spPr>
          <a:xfrm>
            <a:off x="500040" y="2643120"/>
            <a:ext cx="2643120" cy="3143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http://www.avia-hobby.ru/model/48Nie17_Eduard1/pic/00.jpg"/>
          <p:cNvPicPr/>
          <p:nvPr/>
        </p:nvPicPr>
        <p:blipFill>
          <a:blip r:embed="rId2"/>
          <a:stretch/>
        </p:blipFill>
        <p:spPr>
          <a:xfrm>
            <a:off x="3643200" y="2571840"/>
            <a:ext cx="478656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Первый воздушный таран в истории военной авиации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85840" y="1500120"/>
            <a:ext cx="50004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 1914 году Нестеров был назначен начальником авиационного отряда. С началом Первой мировой войны он осуществлял воздушную разведку, выполнил одну из первых в России бомбардировок. Эта операция была проведена лётчиком так эффективно, что австрийское командование пообещало крупную денежную награду тому, кто собьёт аэроплан Нестерова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существив за время войны 28 вылетов, 8 сентября 1914 года Пётр Николаевич Нестеров совершил свой последний подвиг — протаранил самолет. Оба самолёта упали на землю, а лётчики погибли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Picture 2" descr="C:\Documents and Settings\User\Мои документы\ИВАНЫЧ\вертолеты, самолеты\1.jpg"/>
          <p:cNvPicPr/>
          <p:nvPr/>
        </p:nvPicPr>
        <p:blipFill>
          <a:blip r:embed="rId1"/>
          <a:stretch/>
        </p:blipFill>
        <p:spPr>
          <a:xfrm>
            <a:off x="5357880" y="1643040"/>
            <a:ext cx="35002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05:03:15Z</dcterms:created>
  <dc:creator>User</dc:creator>
  <dc:description/>
  <dc:language>en-US</dc:language>
  <cp:lastModifiedBy>Admin</cp:lastModifiedBy>
  <dcterms:modified xsi:type="dcterms:W3CDTF">2012-07-14T09:03:45Z</dcterms:modified>
  <cp:revision>118</cp:revision>
  <dc:subject/>
  <dc:title>Военно-Воздушные Силы РФ</dc:title>
</cp:coreProperties>
</file>