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42D-6064-4FE3-BFEE-25063A03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05C-586B-4C29-9864-18AB9BFF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A18-882E-4122-9777-64B4AD45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648-46FB-4D15-A7AE-B5923140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05B-DB61-4F34-88DC-9D0A0A5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5E0-FD11-4595-A815-3F6D0B08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521-C15A-497D-96E8-7BD3CF93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1D0A-09B6-44E9-94B8-2C6876B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896-6C02-436C-AB42-688A94B9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607-C148-416A-A128-0E06D44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BAF-4211-45DB-9588-487F2C0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8BE-C96E-4531-A2D4-B4FFBFD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BB7C-F91C-4B1B-8C5D-1527B2ADDF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Военно-Воздушные Силы РФ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В современной войне побеждает  тот, кто обеспечивает господство в воздухе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Автор  А.И.Бурбах , преподаватель –организатор ОБЖ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МОУ Жердевской СОШ №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a6a6a6"/>
          </a:solidFill>
          <a:ln w="38160">
            <a:solidFill>
              <a:srgbClr val="dce6f2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Истребитель нашего противника в Первой мировой войн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856880"/>
            <a:ext cx="85406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ккер – немецкий истребител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25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2500200" cy="51768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16" descr="FokDr1_454"/>
          <p:cNvPicPr/>
          <p:nvPr/>
        </p:nvPicPr>
        <p:blipFill>
          <a:blip r:embed="rId1"/>
          <a:stretch/>
        </p:blipFill>
        <p:spPr>
          <a:xfrm>
            <a:off x="1143000" y="2643120"/>
            <a:ext cx="7201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ветские самолеты времен Второй мировой войн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 революции в России несколько лет не занимались современными видами вооружений, так что новые самолёты не разрабатывались. Первые советские самолёты вышли из КБ Антонова только в середине 20-хх годов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первой пятилетке 1930-35 гг., помимо всего прочего, был принят пятилетний план строительства авиационной промышленности, который с успехом был выполнен. На полную мощность заработали конструкторские бюро, возглавляемые такими талантливыми людьми, как Петляков, Лавочкин, Ильюшин, Микоя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чше всего советская авиационная промышленность показала себя в годы Великой Отечественной Войны. Был налажен массовый выпуск отличных самолётов, что позволило сразу посылать пополнения в соединения, понёсшие потери. И это стало одним из важных факторов Победы..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ронтовой бомбардировщик Пе-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User\Мои документы\ИВАНЫЧ\250px-Pe-2-2004.jpg"/>
          <p:cNvPicPr/>
          <p:nvPr/>
        </p:nvPicPr>
        <p:blipFill>
          <a:blip r:embed="rId1"/>
          <a:stretch/>
        </p:blipFill>
        <p:spPr>
          <a:xfrm>
            <a:off x="214200" y="285768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оветские истребители второй мировой вой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Як-3 – труженик фронтового неб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Г-3 – самолет трижды героя СССР Ивана Кожедуб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4" descr="Yak-3"/>
          <p:cNvPicPr/>
          <p:nvPr/>
        </p:nvPicPr>
        <p:blipFill>
          <a:blip r:embed="rId1"/>
          <a:stretch/>
        </p:blipFill>
        <p:spPr>
          <a:xfrm>
            <a:off x="457200" y="2428920"/>
            <a:ext cx="404028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4801"/>
          <p:cNvPicPr/>
          <p:nvPr/>
        </p:nvPicPr>
        <p:blipFill>
          <a:blip r:embed="rId2"/>
          <a:stretch/>
        </p:blipFill>
        <p:spPr>
          <a:xfrm>
            <a:off x="4761000" y="2428920"/>
            <a:ext cx="3809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ра реактивной ави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680" y="1143000"/>
            <a:ext cx="8115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ащение реактивными двигателями позволило самолетам развивать новые скорости и достигать значительных высот. После того как появился такой двигатель, стали возможными межконтинентальные перелеты, мир для людей оказался намного компактне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отя все изобретатели, стоявшие у истоков реактивного движения, принадлежали к противоположным политическим лагерям, имели разные национальности, а порой были даже разделены линией фронта, однако их работы очень тесно связаны с военной сферо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а всю историю мировой авиации ни одни вновь разработанные самолеты не произвели такого фурора, как «МиГ-9», «МиГ-15» и «Миг-21». Запад был ошеломлен, так как даже не подозревал, что такие самолеты  могут быть построе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мериканские пилоты впервые сошлись с ними в воздушных боях над Кореей и Вьетнамом. Летчики не могли поверить своим глазам: истребители очень быстро набирали высоту и пикировали стремительнее самых лучших американских машин, а также имели превосходную маневрен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alibri"/>
              </a:rPr>
              <a:t>МиГ-9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3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снащение реактивными двигателями позволило самолетам развивать новые скорости и достигать значительных высот. Первый боевой советский реактивный истребитель  МиГ-9 участвовал в войне в Корее в 1953 год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4" descr="tr2806"/>
          <p:cNvPicPr/>
          <p:nvPr/>
        </p:nvPicPr>
        <p:blipFill>
          <a:blip r:embed="rId1"/>
          <a:stretch/>
        </p:blipFill>
        <p:spPr>
          <a:xfrm>
            <a:off x="1285920" y="3400560"/>
            <a:ext cx="669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МиГ-1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егендарный советский истребитель. Участвовал в войне во Вьетнаме. Наголову превосходил американские истребители т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15"/>
          <p:cNvPicPr/>
          <p:nvPr/>
        </p:nvPicPr>
        <p:blipFill>
          <a:blip r:embed="rId1"/>
          <a:stretch/>
        </p:blipFill>
        <p:spPr>
          <a:xfrm>
            <a:off x="900000" y="2997360"/>
            <a:ext cx="727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Легендарный МиГ-2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57440" y="272520"/>
            <a:ext cx="4329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есомненно, МиГ-21 является наиболее выдающимся российским истребителем третьего поколения, не имевшим себе равных в воздушных боях 1960-70-х годов. Самолеты этого типа долгое время составляли основу истребительной авиации СССР и его союзников, оставаясь до начала 1990-х годов самыми распространенными в мире истребителями. В ходе боев самолеты МиГ-21 продемонстрировали более высокие маневренные характеристики по сравнению с американскими истребителям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учший самолет своего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5" descr="МиГ-21"/>
          <p:cNvPicPr/>
          <p:nvPr/>
        </p:nvPicPr>
        <p:blipFill>
          <a:blip r:embed="rId1"/>
          <a:stretch/>
        </p:blipFill>
        <p:spPr>
          <a:xfrm>
            <a:off x="142920" y="2500200"/>
            <a:ext cx="43578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2. Фронтовая авиац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30081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начок «Отличник  ВВС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i-main-pic" descr="Картинка 83 из 272"/>
          <p:cNvPicPr/>
          <p:nvPr/>
        </p:nvPicPr>
        <p:blipFill>
          <a:blip r:embed="rId1"/>
          <a:stretch/>
        </p:blipFill>
        <p:spPr>
          <a:xfrm>
            <a:off x="500040" y="2274840"/>
            <a:ext cx="2928960" cy="3654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3786120" y="428760"/>
            <a:ext cx="5143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для решения боевых задач в боях и операциях сухопутных войск и ВВС, а на приморских направлениях. В ее состав входят: штурмов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омбардировоч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ребите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азведывате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турмовая авиац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14920" y="272520"/>
            <a:ext cx="4286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Штурмовая авиация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дин из родов армейской авиации сухопутных войск или военно-воздушных сил вооружённых сил государства, </a:t>
            </a: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для поддержки наземных войск. Используется для уничтожения противника на поле боя и нанесения бомбово-штурмовых ударов по наземным объектам в ближайшей глубине обороны. В основном, действует на малой высоте или на бреющем полёте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Штурмовики ВВС Р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у-25 «Грач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4920" y="1428840"/>
            <a:ext cx="42148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 кодификации НАТО: Frogfoot (Лягушачья нога)—российский бронированный дозвуковой штурмовик, предназначен для непосредственной поддержки сухопутных войск над полем боя днём и ночью при визуальной видимости цели, а также уничтожения объектов с заданными координатами круглосуточно в любых метеоусловиях.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14200" y="1857240"/>
            <a:ext cx="4714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57120" y="1286640"/>
            <a:ext cx="8358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www.airforce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.wikipedia.org/wiki/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ВВ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_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.rusarmy.com/aviacion.htm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litaryparit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…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c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_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235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stpilo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vie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vv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.regnum.ru/news/110573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viaros.narod.ru/atribut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volution.allbest.ru/war/00036538_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vflag.ru/index/sitemenu/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.rambler.ru/Russia/head/3410144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стребительная авиац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для уничтожения самолётов и беспилотных средств противника с целью завоевания господства в воздухе, прикрытия войск и объектов тыла, обеспечения боевых действий других родов и видов ави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ребители ВВС РФ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Documents and Settings\User\Мои документы\ИВАНЫЧ\вертолеты, самолеты\mig29m2(4).jpg"/>
          <p:cNvPicPr/>
          <p:nvPr/>
        </p:nvPicPr>
        <p:blipFill>
          <a:blip r:embed="rId1"/>
          <a:stretch/>
        </p:blipFill>
        <p:spPr>
          <a:xfrm>
            <a:off x="1000080" y="185724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User\Мои документы\ИВАНЫЧ\вертолеты, самолеты\su27smk(4).jpg"/>
          <p:cNvPicPr/>
          <p:nvPr/>
        </p:nvPicPr>
        <p:blipFill>
          <a:blip r:embed="rId2"/>
          <a:stretch/>
        </p:blipFill>
        <p:spPr>
          <a:xfrm>
            <a:off x="1000080" y="335772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User\Мои документы\ИВАНЫЧ\вертолеты, самолеты\mig31(3).jpg"/>
          <p:cNvPicPr/>
          <p:nvPr/>
        </p:nvPicPr>
        <p:blipFill>
          <a:blip r:embed="rId3"/>
          <a:stretch/>
        </p:blipFill>
        <p:spPr>
          <a:xfrm>
            <a:off x="857160" y="485784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Г-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о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кодификации НАТО: Fulcrum —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Точка опоры»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) — российский фронтовой истребитель четвёртого поколения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Предназначен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для завоевания господства в воздухе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В настоящее время считается самым маневренным истребителем в мире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Documents and Settings\User\Мои документы\ИВАНЫЧ\вертолеты, самолеты\mig29m2(4).jpg"/>
          <p:cNvPicPr/>
          <p:nvPr/>
        </p:nvPicPr>
        <p:blipFill>
          <a:blip r:embed="rId1"/>
          <a:stretch/>
        </p:blipFill>
        <p:spPr>
          <a:xfrm>
            <a:off x="285840" y="2143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г-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 кодификации НАТО «Лисья гончая»)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едназначен для перехвата и уничтожения воздушных целей на малых, предельно малых, средних и больших высотах, днём и ночью, в простых и сложных метеоусловиях, при применении противником активных и пассивных радиолокационных помех, а также тепловых ловушек. Группа из четырёх самолётов МиГ-31 способна контролировать воздушное пространство протяжённостью по фронту 800—900 к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C:\Documents and Settings\User\Мои документы\ИВАНЫЧ\вертолеты, самолеты\mig31(3).jpg"/>
          <p:cNvPicPr/>
          <p:nvPr/>
        </p:nvPicPr>
        <p:blipFill>
          <a:blip r:embed="rId1"/>
          <a:stretch/>
        </p:blipFill>
        <p:spPr>
          <a:xfrm>
            <a:off x="285840" y="142884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у-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 кодификации НАТО: Flanker — российский многоцелевой высокоманевренный всепогодный истребитель-перехватчик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едназначен для завоевания превосходства в воздух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На текущий момент является одним из основных самолётов ВВС Ро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C:\Documents and Settings\User\Мои документы\ИВАНЫЧ\вертолеты, самолеты\su27smk(4)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0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зведыватель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иГ-25РБ -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одноместный всевысотный самолет оперативной разведки – бомбардировщик. Предназначен для ведения воздушной фото- и радиотехнической разведки и нанесения ударов по площадным наземным целям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Documents and Settings\User\Мои документы\ИВАНЫЧ\вертолеты, самолеты\2531381.jpg"/>
          <p:cNvPicPr/>
          <p:nvPr/>
        </p:nvPicPr>
        <p:blipFill>
          <a:blip r:embed="rId1"/>
          <a:stretch/>
        </p:blipFill>
        <p:spPr>
          <a:xfrm>
            <a:off x="457200" y="1785960"/>
            <a:ext cx="4400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Бомбардировоч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Тактический (фронтовой) бомбардиро́вщик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омбардировщик, обладающий небольшим радиусом действия, предназначенный для нанесения ударов в оперативном тылу противника. Специализированными тактическими (фронтовыми) бомбардировщиками являются российские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Су-24 и Су-3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200" y="2071800"/>
            <a:ext cx="440064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1928880" y="1285920"/>
            <a:ext cx="30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у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Дальняя авиац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00"/>
                </a:solidFill>
                <a:uFillTx/>
                <a:latin typeface="Calibri"/>
              </a:rPr>
              <a:t>Стратегические бомбардировщики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 — основное предназначение которых — поражение стратегических целей на территории противника, например, складов, мостов, заводов, портов и т. д. В глобальной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ядерной войне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огут применятся для нанесения ударов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оружием массового поражения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по крупным населенным пунктам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противник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:\Documents and Settings\User\Мои документы\ИВАНЫЧ\вертолеты, самолеты\tu22m3(3).jpg"/>
          <p:cNvPicPr/>
          <p:nvPr/>
        </p:nvPicPr>
        <p:blipFill>
          <a:blip r:embed="rId1"/>
          <a:stretch/>
        </p:blipFill>
        <p:spPr>
          <a:xfrm>
            <a:off x="1285920" y="1428840"/>
            <a:ext cx="2786040" cy="157140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3" descr="Tu-160 at MAKS 2007.jpg"/>
          <p:cNvPicPr/>
          <p:nvPr/>
        </p:nvPicPr>
        <p:blipFill>
          <a:blip r:embed="rId2"/>
          <a:stretch/>
        </p:blipFill>
        <p:spPr>
          <a:xfrm>
            <a:off x="1214280" y="3286080"/>
            <a:ext cx="2714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Мои документы\ИВАНЫЧ\вертолеты, самолеты\tu95ms(1).jpg"/>
          <p:cNvPicPr/>
          <p:nvPr/>
        </p:nvPicPr>
        <p:blipFill>
          <a:blip r:embed="rId3"/>
          <a:stretch/>
        </p:blipFill>
        <p:spPr>
          <a:xfrm>
            <a:off x="1184400" y="5072040"/>
            <a:ext cx="2673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22М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285880" y="1600200"/>
            <a:ext cx="36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кодификации НАТО: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Backfir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(задний огонь)— дальний сверхзвуковой ракетоносец-бомбардировщик с изменяемой геометрией крыл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2" descr="C:\Documents and Settings\User\Мои документы\ИВАНЫЧ\вертолеты, самолеты\tu22m3(3).jpg"/>
          <p:cNvPicPr/>
          <p:nvPr/>
        </p:nvPicPr>
        <p:blipFill>
          <a:blip r:embed="rId1"/>
          <a:stretch/>
        </p:blipFill>
        <p:spPr>
          <a:xfrm>
            <a:off x="214200" y="1785960"/>
            <a:ext cx="5143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160 «Белый лебед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42880" y="1356840"/>
            <a:ext cx="50007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кодификации НАТО: Blackjack) — (черный огонь) российский сверхзвуковой стратегический бомбардировщик-ракетоносец с изменяющейся стреловидностью крыл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Является самым крупным в истории военной авиации сверхзвуковым самолётом и самолётом с изменяемой геометрией крыла, самым мощным и самым тяжёлым боевым самолётом в мире, обладает крупнейшей среди бомбардировщиков максимальной взлётной массой и боевой нагрузкой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реди пилотов получил прозвище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Белый лебедь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Содержимое 3" descr="Tu-160 at MAKS 2007.jpg"/>
          <p:cNvPicPr/>
          <p:nvPr/>
        </p:nvPicPr>
        <p:blipFill>
          <a:blip r:embed="rId1"/>
          <a:stretch/>
        </p:blipFill>
        <p:spPr>
          <a:xfrm>
            <a:off x="285840" y="2071800"/>
            <a:ext cx="4071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95МС «Медвед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одификации НАТ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Bear —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Медведь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 —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российский турбовинтов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стратегическийбомбардировщи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ракетоносец, один из самых быстрых винтовых самолётов, единственный принятый на вооружение и серийно производившийся турбовинтовой бомбардировщик. Предназначен для поражени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рылатыми ракетами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ажных объектов в тылу противника в любое время суток и при любых погодных условиях.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амолет, наводящий ужас на НАТО.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2" descr="C:\Documents and Settings\User\Мои документы\ИВАНЫЧ\вертолеты, самолеты\tu95ms(1).jpg"/>
          <p:cNvPicPr/>
          <p:nvPr/>
        </p:nvPicPr>
        <p:blipFill>
          <a:blip r:embed="rId1"/>
          <a:stretch/>
        </p:blipFill>
        <p:spPr>
          <a:xfrm>
            <a:off x="457200" y="1714680"/>
            <a:ext cx="4471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зучаемые вопрос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. История развития военной авиации  Росс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2. Фронтов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3. Дальня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4. Военно-транспортн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5. Армейск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6. Перспективы дальнейшего развития российской военной ави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7. Современные боевые самолеты вероятного противник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User\Мои документы\ИВАНЫЧ\вертолеты, самолеты\300px-14082007-Illya-Muromec-1.jpg"/>
          <p:cNvPicPr/>
          <p:nvPr/>
        </p:nvPicPr>
        <p:blipFill>
          <a:blip r:embed="rId1"/>
          <a:stretch/>
        </p:blipFill>
        <p:spPr>
          <a:xfrm>
            <a:off x="571680" y="1714680"/>
            <a:ext cx="3809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оенно-транспорт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Военно-транспортная авиация предназначена для транспортировки воздушных десантов, обеспечения манёвра войск по воздуху, перевозки вооружения, боеприпасов, горючего, продовольствия и других материальных средств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7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aviaros.narod.ru/foto/il-76/il-76_23.jpg"/>
          <p:cNvPicPr/>
          <p:nvPr/>
        </p:nvPicPr>
        <p:blipFill>
          <a:blip r:embed="rId2"/>
          <a:stretch/>
        </p:blipFill>
        <p:spPr>
          <a:xfrm>
            <a:off x="500040" y="4071960"/>
            <a:ext cx="3786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Ан-124 «Руслан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5784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 кодификации НАТО: Condor —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Кондор»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) 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Создавался в первую очередь для воздушной транспортировки мобильных пусковых установок межконтинентальных баллистических ракет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Самый мощный в мире самолет ВТ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500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л-7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 кодификации НАТО: Candid — </a:t>
            </a:r>
            <a:r>
              <a:rPr b="1" i="1" lang="ru-RU" sz="2600" spc="-1" strike="noStrike">
                <a:solidFill>
                  <a:srgbClr val="ffff00"/>
                </a:solidFill>
                <a:latin typeface="Calibri"/>
              </a:rPr>
              <a:t>«Искренний»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) 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— российский средний военно-транспортный самолё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редназначен для транспортировки и десантирования личного состава, техники и грузов различного назначе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http://aviaros.narod.ru/foto/il-76/il-76_23.jpg"/>
          <p:cNvPicPr/>
          <p:nvPr/>
        </p:nvPicPr>
        <p:blipFill>
          <a:blip r:embed="rId1"/>
          <a:stretch/>
        </p:blipFill>
        <p:spPr>
          <a:xfrm>
            <a:off x="214200" y="178596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Армейская авиа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143160" y="-360"/>
            <a:ext cx="57866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пользуется для действий непосредственно в интересах общевойсковых формирований сухопутных войск , их авиационной поддержки (поражения живой силы и техники противника, разрушения его оборонительных сооружений), ведения тактической воздушной разведки, обеспечения высадки тактических воздушных десантов и огневой поддержки их действий, радиоэлектронной борьбы , постановки минных заграждений, эвакуации раненых, убитых и больных, доставки материальных средств и выполнения других задач в операциях проводимых СВ и во взаимодействии с другими вида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3043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Боевые вертоле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78604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428760" y="4929120"/>
            <a:ext cx="27860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 – 24 «Крокод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-2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Hind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классификации НАТО) — российский транспортно-боевой вертолёт. Трудяга фронтового неба. Вынес на себе всю афганскую и чеченские войн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6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а – 50 «Черная акул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-50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Hokum A по классификации НАТО, известен под именем «Чёрная акула») — российский боевой одноместный ударный вертолёт, предназначенный для поражения бронетанковой и механизированной техники, воздушных целей и живой силы на поле бо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а – 52 «Аллигатор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а-52 (Hokum B по классификации НАТО, также известен как «Аллигатор») — российский вертолёт, командирская машина армейской авиации, осуществляющая разведку местности, целеуказание и координацию действий группы боевых вертолётов. Машина способна поражать бронированную и небронированную технику, живую силу и воздушные цели на поле боя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42577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alibri"/>
              </a:rPr>
              <a:t>Ми-28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– основной вертолет армейской ави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07160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оевой вертолет нового поколения Ми-28Н ("Ночной охотник") предназначен для поиска и уничтожения танков, бронетехники, живой силы противника; уничтожения защищенных объектов и поражения площадных целей (линий окопов, оборонительных сооружений и др.); постановки минных заграждений; поиска и уничтожения катеров и других малых плавсредств; борьбы со скоростными и низколетящими летательными аппаратами противника; уничтожения малоскоростных воздушных целей днем и ночью в простых и сложных метеоусловиях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143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Ми-26 – самый большой в мире боевой вертол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-26 (по кодификации НАТО: Halo)  — российский многоцелевой транспортный вертолёт,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едназначен для перевозки крупногабаритных грузов и техники весом до 20 тон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крупнейший в мире транспортный вертолё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рузоподъёмность — до 25 т полезной нагрузки. Вертолёт может быть использован для задач как военного, так и гражданского характера, а также для проведения поисково-спасательных опер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57120" y="2858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бразцы новейшей российской авиатех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500280" y="928800"/>
            <a:ext cx="5357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ые самолеты должны были иметь значительно более высокий боевой потенциал, чем их предшествен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многофункциональность, то есть высокая эффективность при поражении воздушных, наземных, надводных и подводных цел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кардинальное уменьшение заметности самолета в радиолокационном и инфракрасном диапазонах , а также на режимы повышенной скрыт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способность осуществлять всеракурсный обстрел целей в ближнем воздушном бою, а также вести многоканальную ракетную стрельбу при ведении боя на большой даль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автоматизация управления бортовыми информационными и помеховыми систем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самолет должен быть оснащён автоматизированной системой управления на уровне решения тактических задач, имеющей экспертный режим «в помощь летчик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143160" cy="171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307152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144360" y="4572000"/>
            <a:ext cx="3284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57120" y="214200"/>
            <a:ext cx="8643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Цель заняти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ормирование у учащихся знаний истории развития военной авиации, ее боевых возможностей, значения для достижения победы над вра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28760" y="2136600"/>
            <a:ext cx="85010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знакомить школьников с историей развития отечественной авиации, ее структурой и боевыми возможност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-развить устойчивый интерес у учащихся к вопросам российской военной авиации, ее места и роли в системе безопасности стра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-определить отношение подростков к перспективам создания в России авиатехники 5го поко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уперсовременный российский истребитель Су-47 «Беркут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9000" y="160020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ые эксперты обещают, что эйфория всеобщего примирения будет недолгой, ситуация в мире начнет обостряться через 10—20 лет. С каким вооружением Россия подойдет к этому времен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КБ Сухого представило прототип самолёта, получивший рабочий индекс Су-47 и имя «Беркут»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рогнозируется, что авиационный комплекс пятого поколения будет принят на вооружение ВВС России в 2012—2015 годах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На данный момент истребителей пятого поколения с обратной стреловидностью крыла у других стран нет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44360" y="1643040"/>
            <a:ext cx="3570480" cy="214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4572000" y="7142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357120" y="357120"/>
            <a:ext cx="3929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у-47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идится американскими экспертами источником потенциальной угрозы национальной безопасности СШ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57120" y="2643120"/>
            <a:ext cx="414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ин из американских генералов ВВС, ознакомившись с тактико-техническими данными Су-47, воскликнул: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"Мы всегда и всюду обладали господством в воздухе. Теперь же российские истребители могут безнаказанно оперировать на поле воздушного боя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500720" y="3786120"/>
            <a:ext cx="4357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Учебные заведения, осуществляющие подготовку специалистов для ВВС Росси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Военно-воздушная инженерная академия имени Н. Е. Жуковског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Военно-воздушная академия имени Ю. А. Гагари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енная академия воздушно-космической обороны им.Жуков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алашовск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раснодарск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Сызранский военный авиационный институт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енный авиационный инженерный университет г. Воронеж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ркутский военный авиационный инженер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Ейский высш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елябинское высшее военное авиационное училище штурманов (ВИ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Главнокомандующий ВВС РФ генерал-полковник Зелени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i-main-pic" descr="Картинка 134 из 272"/>
          <p:cNvPicPr/>
          <p:nvPr/>
        </p:nvPicPr>
        <p:blipFill>
          <a:blip r:embed="rId1"/>
          <a:stretch/>
        </p:blipFill>
        <p:spPr>
          <a:xfrm>
            <a:off x="1500120" y="2000160"/>
            <a:ext cx="621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7.  Самолеты ВВС США, разработанные по технологии «Стеллс» («невидимки»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3286080" cy="19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upload.wikimedia.org/wikipedia/commons/thumb/e/e4/F-117_Nighthawk_%282152066098%29.jpg/250px-F-117_Nighthawk_%282152066098%29.jpg"/>
          <p:cNvPicPr/>
          <p:nvPr/>
        </p:nvPicPr>
        <p:blipFill>
          <a:blip r:embed="rId2"/>
          <a:stretch/>
        </p:blipFill>
        <p:spPr>
          <a:xfrm>
            <a:off x="5000760" y="2500200"/>
            <a:ext cx="335736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1928880" y="4714920"/>
            <a:ext cx="3429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дарный самолет ВВС США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F-117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7960" y="1642680"/>
            <a:ext cx="4281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Локхид F-117 — одноместный дозвуковой тактический малозаметный ударный самолет, предназначенный для скрытного проникновения через систему ПВО противника и атак стратегически важных наземных объектов военной инфраструктуры (ракетные базы, аэродромы, центры управления и связи и т. п.), для поиска и уничтожения несущих боевое дежурство в воздухе самолёто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038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тратегический бомбардировщик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 B-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000680" y="2214720"/>
            <a:ext cx="4714560" cy="27144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214200" y="150012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тратегический бомбардировщик В-2 относится к поколению американских малозаметных самоле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214200" y="3429000"/>
            <a:ext cx="3571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алая заметность самолета обеспечивает высокую вероятность его выживания в боевых условия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спектива дальнейшего использования американских боевых самолетов-невидимок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вязи с введением в боевую эксплуатацию  российских зенитно-ракетных  комплексо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-300 и С-400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льнейшее  боевое применение данных самолетов признано американским правительством нецелесообразным. Прицелы наших ЗРК «видят» эти самолеты и успешно наводят на них ракеты. С-300 в боевых действиях в бывшей Югославии сбивал американские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-117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F-22 «Раптор» - многоцелевой суперсовременный истребитель 5го покол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i-main-pic" descr="Картинка 5 из 5255"/>
          <p:cNvPicPr/>
          <p:nvPr/>
        </p:nvPicPr>
        <p:blipFill>
          <a:blip r:embed="rId1"/>
          <a:stretch/>
        </p:blipFill>
        <p:spPr>
          <a:xfrm>
            <a:off x="3929040" y="2143080"/>
            <a:ext cx="4786200" cy="34290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214200" y="1357200"/>
            <a:ext cx="3500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F-22 «Раптор»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— многоцелевой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истребитель пятого поколе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оснащенен двумя реактивными двигателями, которые позволяют ему совершать полет на сверхзвуковой скорости без использования форсажных режимов, что является важным тактическим преимущество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214200" y="478620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днако, российские истребители предыдущего четвертого поколения, давно имеют такие двигатели и успешно летают на них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оенно-воздушные сил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— вид Вооруженных Сил, предназначенный для нанесения ударов по авиационным, сухопутным и морским группировкам противника, его административно-политическим, промышленно-экономическим центрам в целях дезорганизации государственного и военного управления, нарушения работы тыла и транспорта, а также ведения воздушной разведки и воздушных перевозок. Эти задачи они могут выполнять в любых условиях погоды, времени суток и год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30081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Знамя ВВ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3500280" cy="242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User\Мои документы\ИВАНЫЧ\вертолеты, самолеты\XTR4KOCAEQQCGLCACIQ40HCADZXRWWCANNLKXQCAEZBP0ZCAGI8RHCCA8HAZEACAX4L22ICA9W2YZLCAGOIE5OCA544V2ECAWNN3YYCAOWNMU3CAVTW5VFCAZKRCDTCAE5NI1VCAPMA2EACA7VTWHKCA7D1LWU.jpg"/>
          <p:cNvPicPr/>
          <p:nvPr/>
        </p:nvPicPr>
        <p:blipFill>
          <a:blip r:embed="rId2"/>
          <a:stretch/>
        </p:blipFill>
        <p:spPr>
          <a:xfrm>
            <a:off x="428760" y="21420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300816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стория развития военной авиации Росс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14200"/>
            <a:ext cx="51116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здание летательного аппарата – естественный шаг человечества вперед после того, как была создана колесная повозка и лодка. Человек давно мечтал о полете, однако технические и экономические возможности для реализации этой мечты, объективная необходимость создания транспортного средства, способного двигаться в околоземном воздушном пространстве, - самолет – появилась сравнительно недавно, в начале 20го ве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в это время не входила в число ведущих стран –разработчиков и строителей  военных истребителей. Поэтому русские летчики –истребители в первой мировой войне воевали на самолетах иностранного производст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ко, тяжелый бомбардировщик в России был! И, к тому же,- самый лучший в мире того времени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Илья Муромец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1" descr="C:\Documents and Settings\User\Мои документы\ИВАНЫЧ\вертолеты, самолеты\ilya_muromec_1.jpg"/>
          <p:cNvPicPr/>
          <p:nvPr/>
        </p:nvPicPr>
        <p:blipFill>
          <a:blip r:embed="rId1"/>
          <a:stretch/>
        </p:blipFill>
        <p:spPr>
          <a:xfrm>
            <a:off x="214200" y="2571840"/>
            <a:ext cx="3643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428760"/>
            <a:ext cx="5857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оевой вариан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Ильи Муромца»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с автоматическую пушку, крупнокалиберный оборонительный пулемёт, 1650 кг бомб, шесть 127 мм ракет и две пушки, — паре тяжёлых бомбардировщиков было под силу остановить наступление противника или расчистить путь своим войскам. Стандартным результатом одного боевого вылета было «Уничтожение семи аэропланов неприятеля, пяти танков и броневиков, двух батарей и автомобильно-гужевого обоза»(цитата из отчёта 1916год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85840" y="435780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рвый раз на боевое задание самолёты эскадры вылетели 14 (27) февраля 1915. За всю войну эскадра совершила 400 боевых вылетов, сбросила 65 тонн бомб и уничтожила 12 вражеских истребителей, потеряв при этом лишь один самолёт непосредственно в боях с вражескими истреб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" descr="C:\Documents and Settings\User\Мои документы\ИВАНЫЧ\вертолеты, самолеты\1af21ba83217.jpg"/>
          <p:cNvPicPr/>
          <p:nvPr/>
        </p:nvPicPr>
        <p:blipFill>
          <a:blip r:embed="rId1"/>
          <a:stretch/>
        </p:blipFill>
        <p:spPr>
          <a:xfrm>
            <a:off x="6143760" y="500076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Мои документы\ИВАНЫЧ\вертолеты, самолеты\ilya_muromec_1.jpg"/>
          <p:cNvPicPr/>
          <p:nvPr/>
        </p:nvPicPr>
        <p:blipFill>
          <a:blip r:embed="rId2"/>
          <a:stretch/>
        </p:blipFill>
        <p:spPr>
          <a:xfrm>
            <a:off x="6143760" y="285840"/>
            <a:ext cx="2857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User\Мои документы\ИВАНЫЧ\вертолеты, самолеты\0_9f09_38ce4e1b_L.jpg"/>
          <p:cNvPicPr/>
          <p:nvPr/>
        </p:nvPicPr>
        <p:blipFill>
          <a:blip r:embed="rId3"/>
          <a:stretch/>
        </p:blipFill>
        <p:spPr>
          <a:xfrm>
            <a:off x="6072120" y="2500200"/>
            <a:ext cx="2857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ьюпор – русский истребитель французского производств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На этом самолете воевал первый русский ас. Летчик– истребитель  капитан П.Н. Нестеров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Nesterovpn.jpg"/>
          <p:cNvPicPr/>
          <p:nvPr/>
        </p:nvPicPr>
        <p:blipFill>
          <a:blip r:embed="rId1"/>
          <a:stretch/>
        </p:blipFill>
        <p:spPr>
          <a:xfrm>
            <a:off x="500040" y="264312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avia-hobby.ru/model/48Nie17_Eduard1/pic/00.jpg"/>
          <p:cNvPicPr/>
          <p:nvPr/>
        </p:nvPicPr>
        <p:blipFill>
          <a:blip r:embed="rId2"/>
          <a:stretch/>
        </p:blipFill>
        <p:spPr>
          <a:xfrm>
            <a:off x="3643200" y="2571840"/>
            <a:ext cx="4786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вый воздушный таран в истории военной авиаци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00120"/>
            <a:ext cx="5000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14 году Нестеров был назначен начальником авиационного отряда. С началом Первой мировой войны он осуществлял воздушную разведку, выполнил одну из первых в России бомбардировок. Эта операция была проведена лётчиком так эффективно, что австрийское командование пообещало крупную денежную награду тому, кто собьёт аэроплан Нестеро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уществив за время войны 28 вылетов, 8 сентября 1914 года Пётр Николаевич Нестеров совершил свой последний подвиг — протаранил самолет. Оба самолёта упали на землю, а лётчики погибл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User\Мои документы\ИВАНЫЧ\вертолеты, самолеты\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500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5:03:15Z</dcterms:created>
  <dc:creator>User</dc:creator>
  <dc:description/>
  <dc:language>en-US</dc:language>
  <cp:lastModifiedBy>Admin</cp:lastModifiedBy>
  <dcterms:modified xsi:type="dcterms:W3CDTF">2012-07-14T09:03:45Z</dcterms:modified>
  <cp:revision>118</cp:revision>
  <dc:subject/>
  <dc:title>Военно-Воздушные Силы РФ</dc:title>
</cp:coreProperties>
</file>