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9D93-3FB4-4193-A050-0C0DAE3E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2A30-BA47-49C8-8248-3FD1E8F1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FB4-2AB0-4DE2-89F8-FF781C73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19F-B095-4362-9755-D35C65CE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3EEA-50B6-4D18-85AE-3D9133D3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9D8-078D-4073-BA4E-0C61FB85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6BE-0CE1-4CA0-B7FD-D7312542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6C99-729D-440B-9D35-75B83936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111-39E8-400F-8E21-B0A318CA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F9DE-1709-42A6-96C1-4B443B95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4A8-C885-4D95-A035-EE4049E9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C08C-4C34-4201-A5D1-F1AEC60C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7D01-D697-4A3A-B731-E69D117B8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619280" y="4292640"/>
            <a:ext cx="6408720" cy="1584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ОБЩЕСТВОЗН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1724040" cy="2665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11280" y="333360"/>
            <a:ext cx="1781280" cy="251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427640" y="333360"/>
            <a:ext cx="1708200" cy="251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443640" y="620640"/>
            <a:ext cx="2232000" cy="316872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2268360" y="3429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6 - 9 кл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619280" y="4292640"/>
            <a:ext cx="6408720" cy="1584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ОБЩЕСТВОЗН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0"/>
            <a:ext cx="878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ец возвращается из школы с родительского собрания. Сын открывает входную дверь и с ужасом слышит вопрос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Какую оценку ты получил за контрольную работу по математике на прошлой неделе?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54120" y="1916280"/>
            <a:ext cx="20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Автор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421000"/>
            <a:ext cx="8569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фликт в Южной Осетии. К нему на стороне Южной Осетии официально присоединилась Россия. В рамках операции по принуждению грузинской стороны к мир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46004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Президент подписал закон об амнистии. Министры юстиции и внутренних дел были против его принятия, но после вступления принятого решения в законную силу подчинились и активно участвовали в его исполн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35480" y="4067280"/>
            <a:ext cx="28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С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6400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9800" y="633888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719280" y="333360"/>
            <a:ext cx="842472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Что общего в этих ситуациях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6200" y="2421000"/>
            <a:ext cx="849780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ни строятся по принципу «господство-подчинение».  Один главенствует, проявляет свою волю, друг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чиняется его воле. Это и есть властные отношения, отношения в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Какова структура вла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0" descr="http://festival.1september.ru/articles/211977/img2.jpg"/>
          <p:cNvPicPr/>
          <p:nvPr/>
        </p:nvPicPr>
        <p:blipFill>
          <a:blip r:embed="rId2"/>
          <a:stretch/>
        </p:blipFill>
        <p:spPr>
          <a:xfrm>
            <a:off x="1116000" y="1844640"/>
            <a:ext cx="633564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539640" y="0"/>
            <a:ext cx="820764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Субъект вла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936800"/>
            <a:ext cx="8209080" cy="119124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от, кто  обладает жел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ластвовать, реальной власть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то проявляет ее по отношению к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3354480"/>
            <a:ext cx="8209080" cy="350604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осударство и  его инстит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политические эл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лид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политические пар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отдельный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общность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 мировое сообщество — О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23036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8108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539640" y="115920"/>
            <a:ext cx="820764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Объект вла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4149720"/>
            <a:ext cx="8064720" cy="228852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индивид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социальная группа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класс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общ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2349360"/>
            <a:ext cx="7632720" cy="82548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се те, на кого воздействует субъект в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300720" y="3357720"/>
            <a:ext cx="1665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4800" spc="-1" strike="noStrike" u="sng">
                <a:solidFill>
                  <a:srgbClr val="ff0066"/>
                </a:solidFill>
                <a:uFillTx/>
                <a:latin typeface="Arial"/>
              </a:rPr>
              <a:t>Источники вла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1973160"/>
            <a:ext cx="8064360" cy="478656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ил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автор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богатство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ложение в обществ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знания, информац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харизма – исключительные качества лич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емократические процедуры — свободные выбор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источник власти в РФ — на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288000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46836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Функции вл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1760" y="2492280"/>
            <a:ext cx="7638840" cy="265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сподство (древ. греч. — благородный)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руководство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регуляц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управление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мобилиз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00720" y="3933720"/>
            <a:ext cx="3600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Ресурсы вл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2577960"/>
            <a:ext cx="7993080" cy="338580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экономически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силовы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социальны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информационны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политико-правовы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демограф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084720" y="2708280"/>
            <a:ext cx="2233800" cy="1479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012000" y="4365720"/>
            <a:ext cx="216036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826920" y="115920"/>
            <a:ext cx="820764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5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Средства осуществления власт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2349360"/>
            <a:ext cx="80647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сё то, что индивид или группа могут использовать для влияния на друг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3357720"/>
            <a:ext cx="7416720" cy="3933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нуждение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насилие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убежд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поощрение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манипуля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о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традиции стр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материальные ценност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информ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78480" y="3429000"/>
            <a:ext cx="27655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64" name="Содержимое 5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8146800" cy="55897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755640" y="0"/>
            <a:ext cx="8207280" cy="1079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4800" spc="-1" strike="noStrike" u="sng">
                <a:solidFill>
                  <a:srgbClr val="ff0066"/>
                </a:solidFill>
                <a:uFillTx/>
                <a:latin typeface="Arial"/>
              </a:rPr>
              <a:t>Виды вла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493640" cy="1584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08000" y="476280"/>
            <a:ext cx="669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днажды Конфуций проезжал неподалеку от горы. Какая-то женщина в голос рыдала над могилой. Склонившись в знак почтения на передок колесницы, Конфуций слушал ее рыдания. А затем послал к женщине своего ученика, и тот спросил 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Вы так убиваетесь – похоже, что скорбите не вперв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Так оно и есть. Когда-то от когтей тигра погиб мой свекор. После от них же погиб мой муж. А теперь вот погиб и мой с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Отчего же вы не покинете эти места? – спросил Конфу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десь нет жестоких властей, - ответила женщ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160" y="1916280"/>
            <a:ext cx="165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(“Кун-цзы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(око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551 – 479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— 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древ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китай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мыслител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71480" y="3735360"/>
            <a:ext cx="599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Домашнее задание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§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1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03640" y="404640"/>
            <a:ext cx="2232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39640" y="0"/>
            <a:ext cx="8353440" cy="194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й вывод из этого разговора сделал Конфуций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95280" y="4724280"/>
            <a:ext cx="8353440" cy="194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240" y="4698000"/>
            <a:ext cx="7291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 чем сегодня пойдет р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 ур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79640" y="2133720"/>
            <a:ext cx="46800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Вла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260280"/>
            <a:ext cx="41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Урок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826920" y="2071800"/>
            <a:ext cx="7664760" cy="4786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324000" y="0"/>
            <a:ext cx="842472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Что такое влас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55640" y="1628640"/>
            <a:ext cx="7777080" cy="511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План урок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то такое вла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омпоненты в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литическая вл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Государственная вл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еория разделения вл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Администратор\Рабочий стол\мама3\European-Parliament.jpg"/>
          <p:cNvPicPr/>
          <p:nvPr/>
        </p:nvPicPr>
        <p:blipFill>
          <a:blip r:embed="rId2"/>
          <a:stretch/>
        </p:blipFill>
        <p:spPr>
          <a:xfrm>
            <a:off x="5580000" y="1989000"/>
            <a:ext cx="274788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0" y="0"/>
            <a:ext cx="8352000" cy="90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лас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зарождается одноврем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 человеческим обще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7921440" cy="2619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250920" y="1125360"/>
            <a:ext cx="4751280" cy="208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3 формы проявления влия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ил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насил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Влас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законы и тради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вторите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морал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219640" y="1413000"/>
            <a:ext cx="27352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74120" y="189000"/>
            <a:ext cx="8256240" cy="33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Сил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– применение физическ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здействия с целью навяз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вою волю другим людям помим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х желания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79640" y="3141720"/>
            <a:ext cx="51134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18108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280" y="15840"/>
            <a:ext cx="8569440" cy="472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Авторите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в широком смысл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епризнанное влияние лица 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рганизации в различных сфе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ественной жизни, основа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знаниях, нравственных достоинств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ыте; в узком – одна из фор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уществления власти.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5619600"/>
            <a:ext cx="8281800" cy="1373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Основой авторитет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является ув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знаниям, опыту, достижениям, лич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чествам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79640" y="450864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59280" y="4437000"/>
            <a:ext cx="142884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260280"/>
            <a:ext cx="7920000" cy="350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Вл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это влияние на основе закона или традиции, то есть не физическое воздействие, оказываемое на других людей в рамках закона или обычая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1"/>
          <p:cNvPicPr/>
          <p:nvPr/>
        </p:nvPicPr>
        <p:blipFill>
          <a:blip r:embed="rId2"/>
          <a:stretch/>
        </p:blipFill>
        <p:spPr>
          <a:xfrm>
            <a:off x="684360" y="3411360"/>
            <a:ext cx="2979720" cy="3446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10017974-1"/>
          <p:cNvPicPr/>
          <p:nvPr/>
        </p:nvPicPr>
        <p:blipFill>
          <a:blip r:embed="rId3"/>
          <a:stretch/>
        </p:blipFill>
        <p:spPr>
          <a:xfrm>
            <a:off x="4140360" y="3747960"/>
            <a:ext cx="42145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8:06:22Z</dcterms:created>
  <dc:creator>valentina</dc:creator>
  <dc:description/>
  <dc:language>en-US</dc:language>
  <cp:lastModifiedBy>valentina</cp:lastModifiedBy>
  <dcterms:modified xsi:type="dcterms:W3CDTF">2012-02-19T15:03:16Z</dcterms:modified>
  <cp:revision>4</cp:revision>
  <dc:subject/>
  <dc:title>Слайд 1</dc:title>
</cp:coreProperties>
</file>