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B03-C027-4944-9185-CE5C8E53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F6A-293A-42E8-92B4-9CD606E3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94E-086B-4042-B28A-62CE237A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C0F-84BB-469A-84CC-FAE944C4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882-33CA-47EA-9C99-207EDDB2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B89-1D8D-482C-B682-0E52CC66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C40-E70C-4A0A-8A55-158C52D6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874-98DA-4F44-B9B5-C200E9D6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C46-0E6D-4131-A72E-A708DB49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01F-D875-48B0-903A-28AEDBFC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427-6084-495D-9961-72231E81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B7E-20B2-4452-9A39-859CE28E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0DF6-B887-4E01-BFE7-D43374B8D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619280" y="4292640"/>
            <a:ext cx="6408720" cy="158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БЩЕСТВ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724040" cy="2665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11280" y="333360"/>
            <a:ext cx="1781280" cy="25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27640" y="333360"/>
            <a:ext cx="1708200" cy="25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443640" y="620640"/>
            <a:ext cx="2232000" cy="3168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2268360" y="3429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6 - 9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619280" y="4292640"/>
            <a:ext cx="6408720" cy="158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БЩЕСТВ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ец возвращается из школы с родительского собрания. Сын открывает входную дверь и с ужасом слышит вопро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Какую оценку ты получил за контрольную работу по математике на прошлой неделе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54120" y="191628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Автор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421000"/>
            <a:ext cx="856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ликт в Южной Осетии. К нему на стороне Южной Осетии официально присоединилась Россия. В рамках операции по принуждению грузинской стороны к ми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46004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Президент подписал закон об амнистии. Министры юстиции и внутренних дел были против его принятия, но после вступления принятого решения в законную силу подчинились и активно участвовали в его исполн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5480" y="406728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9800" y="633888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719280" y="333360"/>
            <a:ext cx="842472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Что общего в этих ситуациях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6200" y="2421000"/>
            <a:ext cx="849780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и строятся по принципу «господство-подчинение».  Один главенствует, проявляет свою волю, друг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чиняется его воле. Это и есть властные отношения, отношения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Какова структура вла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0" descr="http://festival.1september.ru/articles/211977/img2.jpg"/>
          <p:cNvPicPr/>
          <p:nvPr/>
        </p:nvPicPr>
        <p:blipFill>
          <a:blip r:embed="rId2"/>
          <a:stretch/>
        </p:blipFill>
        <p:spPr>
          <a:xfrm>
            <a:off x="1116000" y="1844640"/>
            <a:ext cx="6335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539640" y="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убъект в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936800"/>
            <a:ext cx="8209080" cy="11912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от, кто  обладает жел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ластвовать, реальной власт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то проявляет ее по отношению к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354480"/>
            <a:ext cx="8209080" cy="35060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сударство и  его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политические эл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лид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политические пар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отдельны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общность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 мировое сообщество — 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303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8108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539640" y="11592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Объект в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4149720"/>
            <a:ext cx="8064720" cy="228852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индивид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социальная групп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класс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общ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2349360"/>
            <a:ext cx="7632720" cy="82548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е те, на кого воздействует субъект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00720" y="3357720"/>
            <a:ext cx="1665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Arial"/>
              </a:rPr>
              <a:t>Источники в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973160"/>
            <a:ext cx="8064360" cy="478656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ил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втор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богатств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ложение в обществ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знания, информац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харизма – исключительные качества лич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емократические процедуры — свободные выбор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сточник власти в РФ —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8800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46836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Функции вл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1760" y="2492280"/>
            <a:ext cx="7638840" cy="265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сподство (древ. греч. — благородный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руководств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регуляц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управлени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мобилиз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00720" y="393372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Ресурсы вл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2577960"/>
            <a:ext cx="7993080" cy="338580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экономическ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силов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социаль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информацион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политико-правов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демограф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84720" y="2708280"/>
            <a:ext cx="2233800" cy="1479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1603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826920" y="11592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редства осуществления власт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2349360"/>
            <a:ext cx="8064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ё то, что индивид или группа могут использовать для влияния на друг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3357720"/>
            <a:ext cx="7416720" cy="3933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нуждени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насилие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убе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оощрени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манип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традиции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материальные ценност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информ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78480" y="3429000"/>
            <a:ext cx="2765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5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8146800" cy="5589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755640" y="0"/>
            <a:ext cx="8207280" cy="1079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Arial"/>
              </a:rPr>
              <a:t>Виды в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493640" cy="1584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476280"/>
            <a:ext cx="66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днажды Конфуций проезжал неподалеку от горы. Какая-то женщина в голос рыдала над могилой. Склонившись в знак почтения на передок колесницы, Конфуций слушал ее рыдания. А затем послал к женщине своего ученика, и тот спросил 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Вы так убиваетесь – похоже, что скорбите не впер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Так оно и есть. Когда-то от когтей тигра погиб мой свекор. После от них же погиб мой муж. А теперь вот погиб и мой с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Отчего же вы не покинете эти места? – спросил Конфу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десь нет жестоких властей, - ответила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160" y="1916280"/>
            <a:ext cx="165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(“Кун-цз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(око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551 – 479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—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древ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китай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мыслите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1480" y="3735360"/>
            <a:ext cx="59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омашнее задани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§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1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03640" y="404640"/>
            <a:ext cx="2232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39640" y="0"/>
            <a:ext cx="8353440" cy="194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й вывод из этого разговора сделал Конфуций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95280" y="4724280"/>
            <a:ext cx="8353440" cy="194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240" y="4698000"/>
            <a:ext cx="729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чем сегодня пойдет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4680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Вла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260280"/>
            <a:ext cx="41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рок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826920" y="2071800"/>
            <a:ext cx="7664760" cy="47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324000" y="0"/>
            <a:ext cx="842472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Arial"/>
              </a:rPr>
              <a:t>Что такое вла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5640" y="1628640"/>
            <a:ext cx="7777080" cy="511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План урок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то такое вл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омпоненты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литическая вл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осударственная вл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ория разделения вл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Администратор\Рабочий стол\мама3\European-Parliament.jpg"/>
          <p:cNvPicPr/>
          <p:nvPr/>
        </p:nvPicPr>
        <p:blipFill>
          <a:blip r:embed="rId2"/>
          <a:stretch/>
        </p:blipFill>
        <p:spPr>
          <a:xfrm>
            <a:off x="5580000" y="1989000"/>
            <a:ext cx="27478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0" y="0"/>
            <a:ext cx="8352000" cy="90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лас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зарождается одновре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человеческим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7921440" cy="2619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250920" y="1125360"/>
            <a:ext cx="4751280" cy="208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3 формы проявления влия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и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насил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ла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законы и тради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вторите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мора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2735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4120" y="189000"/>
            <a:ext cx="825624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ил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 применение физиче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действия с целью навяз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ою волю другим людям помим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х желания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79640" y="3141720"/>
            <a:ext cx="5113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5840"/>
            <a:ext cx="8569440" cy="472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Авторите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в широком смысл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епризнанное влияние лица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рганизации в различных сф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ественной жизни, основа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наниях, нравственных достоинств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ыте; в узком – одна из 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уществления власти.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619600"/>
            <a:ext cx="828180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Основой авторитет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является ув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знаниям, опыту, достижениям, л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чествам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79640" y="4508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59280" y="4437000"/>
            <a:ext cx="14288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60280"/>
            <a:ext cx="7920000" cy="350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л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это влияние на основе закона или традиции, то есть не физическое воздействие, оказываемое на других людей в рамках закона или обычая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1"/>
          <p:cNvPicPr/>
          <p:nvPr/>
        </p:nvPicPr>
        <p:blipFill>
          <a:blip r:embed="rId2"/>
          <a:stretch/>
        </p:blipFill>
        <p:spPr>
          <a:xfrm>
            <a:off x="684360" y="3411360"/>
            <a:ext cx="2979720" cy="344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10017974-1"/>
          <p:cNvPicPr/>
          <p:nvPr/>
        </p:nvPicPr>
        <p:blipFill>
          <a:blip r:embed="rId3"/>
          <a:stretch/>
        </p:blipFill>
        <p:spPr>
          <a:xfrm>
            <a:off x="4140360" y="3747960"/>
            <a:ext cx="42145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8:06:22Z</dcterms:created>
  <dc:creator>valentina</dc:creator>
  <dc:description/>
  <dc:language>en-US</dc:language>
  <cp:lastModifiedBy>valentina</cp:lastModifiedBy>
  <dcterms:modified xsi:type="dcterms:W3CDTF">2012-02-19T15:03:16Z</dcterms:modified>
  <cp:revision>4</cp:revision>
  <dc:subject/>
  <dc:title>Слайд 1</dc:title>
</cp:coreProperties>
</file>