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263-9A8B-40E6-B463-49CC227D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729-28EC-489B-97CB-7C53443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1FB-1B0A-4E5C-B521-6E3CCECB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979-BCF6-44DF-81EE-ED686A5F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AD9-94C1-431B-BB24-510DED5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F76-2825-45FD-8884-64DB801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C82-D129-47FB-8A98-F9FED30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9E8-A456-460B-AA4F-45896F9B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91F-C2C4-4926-A884-DCEE5B5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B85-9D74-4043-A483-B93DA80B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EDB-D53D-4D3A-B11A-2B02BA2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679-4A89-4112-A170-9EB3167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12D-E29C-4ECE-A507-2D184251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724040" cy="266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11280" y="333360"/>
            <a:ext cx="1781280" cy="25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27640" y="333360"/>
            <a:ext cx="170820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443640" y="620640"/>
            <a:ext cx="2232000" cy="3168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268360" y="342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ец возвращается из школы с родительского собрания. Сын открывает входную дверь и с ужасом слышит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акую оценку ты получил за контрольную работу по математике на прошлой недел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54120" y="19162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21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ликт в Южной Осетии. К нему на стороне Южной Осетии официально присоединилась Россия. В рамках операции по принуждению грузинской стороны к ми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6004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езидент подписал закон об амнистии. Министры юстиции и внутренних дел были против его принятия, но после вступления принятого решения в законную силу подчинились и активно участвовали в его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5480" y="406728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9800" y="63388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719280" y="33336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Что общего в этих ситуациях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6200" y="2421000"/>
            <a:ext cx="84978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и строятся по принципу «господство-подчинение».  Один главенствует, проявляет свою волю,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яется его воле. Это и есть властные отношения, отношения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Какова структура вл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0" descr="http://festival.1september.ru/articles/211977/img2.jpg"/>
          <p:cNvPicPr/>
          <p:nvPr/>
        </p:nvPicPr>
        <p:blipFill>
          <a:blip r:embed="rId2"/>
          <a:stretch/>
        </p:blipFill>
        <p:spPr>
          <a:xfrm>
            <a:off x="1116000" y="1844640"/>
            <a:ext cx="633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39640" y="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у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936800"/>
            <a:ext cx="8209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т, кто  обладает жел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ластвовать, реальной вла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то проявляет ее по отношению к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354480"/>
            <a:ext cx="8209080" cy="35060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о и  его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лид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пар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бщность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 мировое сообщество —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53964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149720"/>
            <a:ext cx="806472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диви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ая групп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ласс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те, на кого воздействует субъект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1665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Источники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973160"/>
            <a:ext cx="8064360" cy="478656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л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огат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ложение в обществ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нания, информ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харизма – исключительные качества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емократические процедуры — свободные выбор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сточник власти в РФ —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880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468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Функции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760" y="2492280"/>
            <a:ext cx="763884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сподство (древ. греч. — благородный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уководст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егуля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правл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оби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Ресурсы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577960"/>
            <a:ext cx="7993080" cy="3385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эконом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ил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форм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политико-прав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емограф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233800" cy="1479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160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82692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редства осуществления в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34936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ё то, что индивид или группа могут использовать для влияния на дру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357720"/>
            <a:ext cx="7416720" cy="393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ужд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насилие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б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ощр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ни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радиции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териальные ценнос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8480" y="3429000"/>
            <a:ext cx="2765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46800" cy="5589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755640" y="0"/>
            <a:ext cx="8207280" cy="107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Виды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493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476280"/>
            <a:ext cx="66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днажды Конфуций проезжал неподалеку от горы. Какая-то женщина в голос рыдала над могилой. Склонившись в знак почтения на передок колесницы, Конфуций слушал ее рыдания. А затем послал к женщине своего ученика, и тот спросил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Вы так убиваетесь – похоже, что скорбите не в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Так оно и есть. Когда-то от когтей тигра погиб мой свекор. После от них же погиб мой муж. А теперь вот погиб и мой с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Отчего же вы не покинете эти места? – спросил 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есь нет жестоких властей, - ответила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160" y="1916280"/>
            <a:ext cx="16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“Кун-цз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551 – 479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—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кита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мысл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1480" y="373536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23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39640" y="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й вывод из этого разговора сделал Конфуций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472428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240" y="4698000"/>
            <a:ext cx="729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чем сегодня пойдет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468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Вл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6028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рок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826920" y="2071800"/>
            <a:ext cx="7664760" cy="47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24000" y="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Что такое вл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5640" y="1628640"/>
            <a:ext cx="7777080" cy="511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План урок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о такое 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мпоненты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литическ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Администратор\Рабочий стол\мама3\European-Parliament.jpg"/>
          <p:cNvPicPr/>
          <p:nvPr/>
        </p:nvPicPr>
        <p:blipFill>
          <a:blip r:embed="rId2"/>
          <a:stretch/>
        </p:blipFill>
        <p:spPr>
          <a:xfrm>
            <a:off x="5580000" y="1989000"/>
            <a:ext cx="274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8352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зарождается одно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человеческим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7921440" cy="2619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50920" y="1125360"/>
            <a:ext cx="47512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формы проявления влия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насил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законы и трад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вторите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мор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735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4120" y="189000"/>
            <a:ext cx="825624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ил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 применение физиче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действия с целью навяз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ю волю другим людям пом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х жела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5113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5840"/>
            <a:ext cx="8569440" cy="472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Авторит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в широком смысл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признанное влияние лица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и в различных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ственной жизни, основ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наниях, нравственных достоинств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е; в узком – одна из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уществления власти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619600"/>
            <a:ext cx="82818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сновой авторите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является ув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знаниям, опыту, достижениям, 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а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14288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60280"/>
            <a:ext cx="79200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л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это влияние на основе закона или традиции, то есть не физическое воздействие, оказываемое на других людей в рамках закона или обыча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1"/>
          <p:cNvPicPr/>
          <p:nvPr/>
        </p:nvPicPr>
        <p:blipFill>
          <a:blip r:embed="rId2"/>
          <a:stretch/>
        </p:blipFill>
        <p:spPr>
          <a:xfrm>
            <a:off x="684360" y="3411360"/>
            <a:ext cx="2979720" cy="344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10017974-1"/>
          <p:cNvPicPr/>
          <p:nvPr/>
        </p:nvPicPr>
        <p:blipFill>
          <a:blip r:embed="rId3"/>
          <a:stretch/>
        </p:blipFill>
        <p:spPr>
          <a:xfrm>
            <a:off x="4140360" y="3747960"/>
            <a:ext cx="42145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06:22Z</dcterms:created>
  <dc:creator>valentina</dc:creator>
  <dc:description/>
  <dc:language>en-US</dc:language>
  <cp:lastModifiedBy>valentina</cp:lastModifiedBy>
  <dcterms:modified xsi:type="dcterms:W3CDTF">2012-02-19T15:03:16Z</dcterms:modified>
  <cp:revision>4</cp:revision>
  <dc:subject/>
  <dc:title>Слайд 1</dc:title>
</cp:coreProperties>
</file>