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EED-CB03-4F39-BAF7-003376A5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FA9-A389-4043-8378-6D4EE1F5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C18-2C57-4DF9-999E-20192BCE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333-8CC4-4518-9F46-909B8AD4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DCB9-5CF9-49FA-935F-32D17290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A69F-9726-4C97-BE0D-0D0EA361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45C7-ACB1-4CB9-9BA1-C56EFEEE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B95A-3E4D-4D65-B31D-85001FDB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9064-60C8-4793-AFCD-514635BD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02A0-0326-41EC-9353-35D607E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B0CC-DA08-4A63-9200-1B599F18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928-555F-4431-9F50-DD90D6C3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C24B-8495-4ACF-8F8C-D91B1C6B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007D-602B-4C1C-A81C-DC922F2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BFEB-E79F-44A1-B0BE-18F184AC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119A-FAEE-4548-88A6-BEC98BE4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8BEF-86A4-420A-A59C-502518B7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0EF-891B-4270-A595-70712201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376-CD38-4B4F-B7A1-D37D1D39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7AA-34FA-4E68-BDD5-F68FE0D6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942-7279-4824-B669-69853502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0BF-4B25-48BC-B38C-76A4F22C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991-4B80-48A9-931A-6F634222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89E-FDCF-48DD-9039-853F4904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362-F66C-413D-B9FA-5815C2B4B2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00EC-BD6D-4F7F-A3B7-2BEE43FAE33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ыживание в природных условиях после авар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Рисунок 3" descr="61.gif"/>
          <p:cNvPicPr/>
          <p:nvPr/>
        </p:nvPicPr>
        <p:blipFill>
          <a:blip r:embed="rId1"/>
          <a:stretch/>
        </p:blipFill>
        <p:spPr>
          <a:xfrm>
            <a:off x="2195640" y="4437000"/>
            <a:ext cx="2376360" cy="2374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0ee13072b90b.png"/>
          <p:cNvPicPr/>
          <p:nvPr/>
        </p:nvPicPr>
        <p:blipFill>
          <a:blip r:embed="rId2"/>
          <a:stretch/>
        </p:blipFill>
        <p:spPr>
          <a:xfrm>
            <a:off x="4572000" y="3071880"/>
            <a:ext cx="1444680" cy="3384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post-41192-1231285749.png"/>
          <p:cNvPicPr/>
          <p:nvPr/>
        </p:nvPicPr>
        <p:blipFill>
          <a:blip r:embed="rId3"/>
          <a:stretch/>
        </p:blipFill>
        <p:spPr>
          <a:xfrm>
            <a:off x="0" y="3006720"/>
            <a:ext cx="2568600" cy="3851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016680" y="3860640"/>
            <a:ext cx="312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Учитель высшей категор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Харина Л.П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МБОУ СОШ № 37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г.Волжского Волгоград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mso9040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4360" y="2276640"/>
            <a:ext cx="799308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с отражателе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4" descr="mso935F8"/>
          <p:cNvPicPr/>
          <p:nvPr/>
        </p:nvPicPr>
        <p:blipFill>
          <a:blip r:embed="rId1"/>
          <a:stretch/>
        </p:blipFill>
        <p:spPr>
          <a:xfrm>
            <a:off x="1908000" y="1341360"/>
            <a:ext cx="54723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из брезента (плёнки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4" descr="mso57EE6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692360" y="1484280"/>
            <a:ext cx="6108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Изображе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95640" y="1341360"/>
            <a:ext cx="47289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5" descr="msoF8BDC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71640" y="1413000"/>
            <a:ext cx="73436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вускатны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4" descr="Изображение 00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0920" y="1341360"/>
            <a:ext cx="509616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под дерев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4" descr="mso55A1E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403280" y="1341360"/>
            <a:ext cx="6335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из тка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msoF6862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539640" y="1413000"/>
            <a:ext cx="82090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4" descr="msoCD01A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332000" y="1268280"/>
            <a:ext cx="65530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4" descr="mso7A0F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484280"/>
            <a:ext cx="7848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71400" y="499680"/>
            <a:ext cx="7126200" cy="542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юбую сложную ситуацию лучше всего преодолевать по плану – это доказывает обширный опыт различных происшествий, аварий, в результате которых люди остаются наедине с природо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5" descr="baby23"/>
          <p:cNvPicPr/>
          <p:nvPr/>
        </p:nvPicPr>
        <p:blipFill>
          <a:blip r:embed="rId1"/>
          <a:stretch/>
        </p:blipFill>
        <p:spPr>
          <a:xfrm flipH="1">
            <a:off x="142920" y="2000160"/>
            <a:ext cx="145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4" descr="mso38656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124000" y="1413000"/>
            <a:ext cx="5143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4" descr="Изображение 00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341360"/>
            <a:ext cx="57610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4" descr="msoB78D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484280"/>
            <a:ext cx="6337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4" descr="mso624E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87280" y="1341360"/>
            <a:ext cx="65516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Picture 4" descr="mso6E38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24000" y="1268280"/>
            <a:ext cx="51008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4" descr="msoA5E44"/>
          <p:cNvPicPr/>
          <p:nvPr/>
        </p:nvPicPr>
        <p:blipFill>
          <a:blip r:embed="rId1"/>
          <a:stretch/>
        </p:blipFill>
        <p:spPr>
          <a:xfrm>
            <a:off x="468360" y="1844640"/>
            <a:ext cx="82090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щий план действий по выживан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Рисунок 4" descr="post-54068-1217527544.png"/>
          <p:cNvPicPr/>
          <p:nvPr/>
        </p:nvPicPr>
        <p:blipFill>
          <a:blip r:embed="rId1"/>
          <a:stretch/>
        </p:blipFill>
        <p:spPr>
          <a:xfrm>
            <a:off x="-428760" y="3618000"/>
            <a:ext cx="235764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1857240" y="1714680"/>
            <a:ext cx="7000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медленно покинь автомобиль (вагон, самолёт), если есть угроза взрыва, пожара, затопления или разру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ыбраться на безопасное место (расстояние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цени обстановку окружающей тебя среды и своё состояние (если получил повреждение, прими меры самопомощи, останови кровотечение, забинтуй ран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осстановить в памяти место твоего нахождения, удаление от населённых пунктов, наиболее характерные ориентиры (река, дорог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ь, что у тебя имеется в резерве из продуктов питания, одежды, есть ли спички, компа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Рисунок 5" descr="индеец.png"/>
          <p:cNvPicPr/>
          <p:nvPr/>
        </p:nvPicPr>
        <p:blipFill>
          <a:blip r:embed="rId1"/>
          <a:stretch/>
        </p:blipFill>
        <p:spPr>
          <a:xfrm>
            <a:off x="-642960" y="264312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2214720" y="1643040"/>
            <a:ext cx="635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6. Прими решение: оставаться на месте и ждать помощи или самому выходить к люд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7. Составь план своих действий, в котором обязательно учти близость воды к месту ночлега и укрытия от дождя, бури, грозы; возможность добывания пищи (запас, растительная пища вокруг); возможности подачи сигналов для привлечения помощ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8. Приступай к выполнению плана действ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ходить с места аварии тебе следует есл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35728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2071800" y="1571760"/>
            <a:ext cx="678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очно известно расположение ближайшего населённого пункта, а твоё состояние позволяет до него добратьс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Неподалёку обнаружена просека, дорога, река, явные признаки близкого жиль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озникает угроза для жизни: идёт затопление местности, приближается лесной пожар, имеется вероятность схода лавин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1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Помни!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Рисунок 5" descr="индеец.png"/>
          <p:cNvPicPr/>
          <p:nvPr/>
        </p:nvPicPr>
        <p:blipFill>
          <a:blip r:embed="rId1"/>
          <a:stretch/>
        </p:blipFill>
        <p:spPr>
          <a:xfrm>
            <a:off x="-857160" y="185724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1785960" y="1071720"/>
            <a:ext cx="700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ходя с места аварии, напиши записку и вложи её в непромокаемую упаковку, банку или бутылку с указаниями, когда и куда ты ушёл. Привяжи упаковку на видном мест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Если решил остаться, то необходимо разбить временный лагерь. В условиях лагеря легче организовать надёжное укрытие от непогоды, поиск продовольствия, оказание помощи больным и раненым, оборудовать средства подачи сигнал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3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428920"/>
            <a:ext cx="2685960" cy="3384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2143080" y="1714680"/>
            <a:ext cx="6786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бщее правил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суровей климат, тем надёжнее должно быть жильё. Оно должно защищать прежде всего от осадков, палящего солнца, сильного ветра, хол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м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аже один час отдыха в тепле не сравнить с многочасовыми попытками отдохнуть на ветру и в хол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Рисунок 5" descr="индеец.png"/>
          <p:cNvPicPr/>
          <p:nvPr/>
        </p:nvPicPr>
        <p:blipFill>
          <a:blip r:embed="rId1"/>
          <a:stretch/>
        </p:blipFill>
        <p:spPr>
          <a:xfrm>
            <a:off x="-571680" y="2357280"/>
            <a:ext cx="2686320" cy="3384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143080" y="1714680"/>
            <a:ext cx="67867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чистить площадк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дготовить подручные средства для строитель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сто должно быть сухим и размещаться поблизости от ручья или другого водного источни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ажно, чтобы поблизости находилось топливо (зимой вопрос  о дровах очень важен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ctr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5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иды временных укрытий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4" descr="mso935F8"/>
          <p:cNvPicPr/>
          <p:nvPr/>
        </p:nvPicPr>
        <p:blipFill>
          <a:blip r:embed="rId1"/>
          <a:stretch/>
        </p:blipFill>
        <p:spPr>
          <a:xfrm>
            <a:off x="3857760" y="3500280"/>
            <a:ext cx="2527200" cy="2359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индеец.png"/>
          <p:cNvPicPr/>
          <p:nvPr/>
        </p:nvPicPr>
        <p:blipFill>
          <a:blip r:embed="rId2"/>
          <a:stretch/>
        </p:blipFill>
        <p:spPr>
          <a:xfrm>
            <a:off x="-357120" y="2786040"/>
            <a:ext cx="26859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48:54Z</dcterms:created>
  <dc:creator>Дима и Игорь</dc:creator>
  <dc:description/>
  <dc:language>en-US</dc:language>
  <cp:lastModifiedBy>Николай</cp:lastModifiedBy>
  <dcterms:modified xsi:type="dcterms:W3CDTF">2013-04-29T06:57:40Z</dcterms:modified>
  <cp:revision>15</cp:revision>
  <dc:subject/>
  <dc:title>Временные укрытия</dc:title>
</cp:coreProperties>
</file>