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B76-9501-4F9F-9A66-D27DACC6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B65-F221-4E17-A280-DA2658A5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896-C8B0-46AE-A7F8-498A6995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650-6D7D-422E-9F85-8BABF6C8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07F7-8113-4326-AEAB-D0DFF704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7C0D-A9A8-46CB-AD93-EEC21957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56C0-B179-47CA-A5FD-5A0A80E3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F903-DF95-4364-A920-E802B296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B1CB-4C54-429B-97F3-460999FA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F006-B98E-478A-ADC9-287B78C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33FA-8149-47E2-8AF2-666F678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717-C9D7-4020-9DA3-D937ECD1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955D-3498-4BE2-B5F3-C30CC882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F5A2-DC05-4891-8706-CF16B2E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3477-B283-4A5D-BC19-DDA80E87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24EB-E6FC-4515-814B-7947FB99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A862-7B9C-41E4-815A-DD0975DA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069-A3A8-45CE-97A4-C4A66BA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288-0EE6-4384-A98D-AD379659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B20-6623-4705-B7DF-74DBB839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E66-6B43-432A-9991-8566D07F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80E-3306-4DEF-A114-CBA0C4CD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554-4B62-4F4E-A39D-0C2B3F1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6AC-FB70-4E3C-8B76-866FEC41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A58A-D231-4A1F-9C42-52A177EB6B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2C97-FCDE-48DC-BAB7-28A3CE1A915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ыживание в природных условиях после авар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Рисунок 3" descr="61.gif"/>
          <p:cNvPicPr/>
          <p:nvPr/>
        </p:nvPicPr>
        <p:blipFill>
          <a:blip r:embed="rId1"/>
          <a:stretch/>
        </p:blipFill>
        <p:spPr>
          <a:xfrm>
            <a:off x="2195640" y="4437000"/>
            <a:ext cx="2376360" cy="2374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0ee13072b90b.png"/>
          <p:cNvPicPr/>
          <p:nvPr/>
        </p:nvPicPr>
        <p:blipFill>
          <a:blip r:embed="rId2"/>
          <a:stretch/>
        </p:blipFill>
        <p:spPr>
          <a:xfrm>
            <a:off x="4572000" y="3071880"/>
            <a:ext cx="1444680" cy="3384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post-41192-1231285749.png"/>
          <p:cNvPicPr/>
          <p:nvPr/>
        </p:nvPicPr>
        <p:blipFill>
          <a:blip r:embed="rId3"/>
          <a:stretch/>
        </p:blipFill>
        <p:spPr>
          <a:xfrm>
            <a:off x="0" y="3006720"/>
            <a:ext cx="2568600" cy="3851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016680" y="3860640"/>
            <a:ext cx="312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Учитель высшей категор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Харина Л.П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МБОУ СОШ № 37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г.Волжского Волгоград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mso9040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4360" y="2276640"/>
            <a:ext cx="799308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с отражател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4" descr="mso935F8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из брезента (плёнки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4" descr="mso57EE6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692360" y="1484280"/>
            <a:ext cx="6108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Изображе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1341360"/>
            <a:ext cx="47289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5" descr="msoF8BDC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71640" y="1413000"/>
            <a:ext cx="73436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вускатны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4" descr="Изображение 00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0920" y="1341360"/>
            <a:ext cx="509616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под дерев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4" descr="mso55A1E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403280" y="1341360"/>
            <a:ext cx="6335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из тка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msoF6862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39640" y="1413000"/>
            <a:ext cx="82090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4" descr="msoCD01A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332000" y="1268280"/>
            <a:ext cx="65530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4" descr="mso7A0F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484280"/>
            <a:ext cx="7848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71400" y="499680"/>
            <a:ext cx="7126200" cy="542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юбую сложную ситуацию лучше всего преодолевать по плану – это доказывает обширный опыт различных происшествий, аварий, в результате которых люди остаются наедине с природо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5" descr="baby23"/>
          <p:cNvPicPr/>
          <p:nvPr/>
        </p:nvPicPr>
        <p:blipFill>
          <a:blip r:embed="rId1"/>
          <a:stretch/>
        </p:blipFill>
        <p:spPr>
          <a:xfrm flipH="1">
            <a:off x="142920" y="2000160"/>
            <a:ext cx="145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mso38656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124000" y="1413000"/>
            <a:ext cx="5143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4" descr="Изображение 00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341360"/>
            <a:ext cx="57610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4" descr="msoB78D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484280"/>
            <a:ext cx="6337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4" descr="mso624E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87280" y="1341360"/>
            <a:ext cx="65516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Picture 4" descr="mso6E38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24000" y="1268280"/>
            <a:ext cx="51008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4" descr="msoA5E44"/>
          <p:cNvPicPr/>
          <p:nvPr/>
        </p:nvPicPr>
        <p:blipFill>
          <a:blip r:embed="rId1"/>
          <a:stretch/>
        </p:blipFill>
        <p:spPr>
          <a:xfrm>
            <a:off x="468360" y="1844640"/>
            <a:ext cx="82090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щий план действий по выживан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Рисунок 4" descr="post-54068-1217527544.png"/>
          <p:cNvPicPr/>
          <p:nvPr/>
        </p:nvPicPr>
        <p:blipFill>
          <a:blip r:embed="rId1"/>
          <a:stretch/>
        </p:blipFill>
        <p:spPr>
          <a:xfrm>
            <a:off x="-428760" y="3618000"/>
            <a:ext cx="235764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1857240" y="1714680"/>
            <a:ext cx="7000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медленно покинь автомобиль (вагон, самолёт), если есть угроза взрыва, пожара, затопления или раз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ыбраться на безопасное место (расстояние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цени обстановку окружающей тебя среды и своё состояние (если получил повреждение, прими меры самопомощи, останови кровотечение, забинтуй ран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осстановить в памяти место твоего нахождения, удаление от населённых пунктов, наиболее характерные ориентиры (река, дорог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ь, что у тебя имеется в резерве из продуктов питания, одежды, есть ли спички, компа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Рисунок 5" descr="индеец.png"/>
          <p:cNvPicPr/>
          <p:nvPr/>
        </p:nvPicPr>
        <p:blipFill>
          <a:blip r:embed="rId1"/>
          <a:stretch/>
        </p:blipFill>
        <p:spPr>
          <a:xfrm>
            <a:off x="-642960" y="264312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2214720" y="1643040"/>
            <a:ext cx="635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6. Прими решение: оставаться на месте и ждать помощи или самому выходить к люд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7. Составь план своих действий, в котором обязательно учти близость воды к месту ночлега и укрытия от дождя, бури, грозы; возможность добывания пищи (запас, растительная пища вокруг); возможности подачи сигналов для привлечения помощ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8. Приступай к выполнению плана действ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ходить с места аварии тебе следует ес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35728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2071800" y="1571760"/>
            <a:ext cx="678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очно известно расположение ближайшего населённого пункта, а твоё состояние позволяет до него добратьс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еподалёку обнаружена просека, дорога, река, явные признаки близкого жиль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озникает угроза для жизни: идёт затопление местности, приближается лесной пожар, имеется вероятность схода лавин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1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Помни!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Рисунок 5" descr="индеец.png"/>
          <p:cNvPicPr/>
          <p:nvPr/>
        </p:nvPicPr>
        <p:blipFill>
          <a:blip r:embed="rId1"/>
          <a:stretch/>
        </p:blipFill>
        <p:spPr>
          <a:xfrm>
            <a:off x="-857160" y="185724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1785960" y="1071720"/>
            <a:ext cx="700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ходя с места аварии, напиши записку и вложи её в непромокаемую упаковку, банку или бутылку с указаниями, когда и куда ты ушёл. Привяжи упаковку на видном мест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Если решил остаться, то необходимо разбить временный лагерь. В условиях лагеря легче организовать надёжное укрытие от непогоды, поиск продовольствия, оказание помощи больным и раненым, оборудовать средства подачи сигнал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3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428920"/>
            <a:ext cx="2685960" cy="3384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2143080" y="1714680"/>
            <a:ext cx="6786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бщее правил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суровей климат, тем надёжнее должно быть жильё. Оно должно защищать прежде всего от осадков, палящего солнца, сильного ветра, хол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м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аже один час отдыха в тепле не сравнить с многочасовыми попытками отдохнуть на ветру и в хол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Рисунок 5" descr="индеец.png"/>
          <p:cNvPicPr/>
          <p:nvPr/>
        </p:nvPicPr>
        <p:blipFill>
          <a:blip r:embed="rId1"/>
          <a:stretch/>
        </p:blipFill>
        <p:spPr>
          <a:xfrm>
            <a:off x="-571680" y="2357280"/>
            <a:ext cx="2686320" cy="3384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143080" y="1714680"/>
            <a:ext cx="67867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чистить площадк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дготовить подручные средства для строитель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сто должно быть сухим и размещаться поблизости от ручья или другого водного источни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жно, чтобы поблизости находилось топливо (зимой вопрос  о дровах очень важен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ctr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5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иды временных укрытий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4" descr="mso935F8"/>
          <p:cNvPicPr/>
          <p:nvPr/>
        </p:nvPicPr>
        <p:blipFill>
          <a:blip r:embed="rId1"/>
          <a:stretch/>
        </p:blipFill>
        <p:spPr>
          <a:xfrm>
            <a:off x="3857760" y="3500280"/>
            <a:ext cx="2527200" cy="2359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индеец.png"/>
          <p:cNvPicPr/>
          <p:nvPr/>
        </p:nvPicPr>
        <p:blipFill>
          <a:blip r:embed="rId2"/>
          <a:stretch/>
        </p:blipFill>
        <p:spPr>
          <a:xfrm>
            <a:off x="-357120" y="2786040"/>
            <a:ext cx="26859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48:54Z</dcterms:created>
  <dc:creator>Дима и Игорь</dc:creator>
  <dc:description/>
  <dc:language>en-US</dc:language>
  <cp:lastModifiedBy>Николай</cp:lastModifiedBy>
  <dcterms:modified xsi:type="dcterms:W3CDTF">2013-04-29T06:57:40Z</dcterms:modified>
  <cp:revision>15</cp:revision>
  <dc:subject/>
  <dc:title>Временные укрытия</dc:title>
</cp:coreProperties>
</file>