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F501-D14A-43A9-B79D-A506CC4A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58B-FFAB-4106-BB7E-5D818FC4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043-405D-425F-80B3-95CD9C67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9089-5168-45C3-98A3-4760695E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DF19-F33C-4B9F-A87D-DD58B177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A749-185A-4EBC-AAEE-B6E14455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B811-0617-4577-8487-718F1181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6935-DE86-4DF9-AF77-418B154B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9351-4115-449F-B240-87AAA9F1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7782-A5E5-44B7-B0C4-8C50852E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6614-F5A7-4628-AB08-00CD412F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6EF6-F0B3-47A1-ADA2-CB8F6D5B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C68B-BFA8-4689-B6D9-ABF73DC4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262C-C5C9-4FB6-B2AA-FAFB1272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A84F-4637-406F-9600-D1657491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5683-9F87-4D07-85D8-081A5885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777D-00A5-482F-843D-F86C4BFC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48E-6430-415D-8384-FF3C8372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4ED-14A8-458C-A684-7C32C0B9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B042-AD76-483A-9572-8900AE2E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4C8B-A8F1-4810-BD5A-876841C4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B80-B75E-4183-A393-ECDE635F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E9DD-8278-4E33-AF2D-8A643813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BC6-483A-4CDD-BC78-DB93BAEF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07B1-4A97-4EAD-9169-4B99FD2F9B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0CF3-04D8-44B6-B767-DD55BAA68A37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Выживание в природных условиях после авари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Рисунок 3" descr="61.gif"/>
          <p:cNvPicPr/>
          <p:nvPr/>
        </p:nvPicPr>
        <p:blipFill>
          <a:blip r:embed="rId1"/>
          <a:stretch/>
        </p:blipFill>
        <p:spPr>
          <a:xfrm>
            <a:off x="2195640" y="4437000"/>
            <a:ext cx="2376360" cy="2374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0ee13072b90b.png"/>
          <p:cNvPicPr/>
          <p:nvPr/>
        </p:nvPicPr>
        <p:blipFill>
          <a:blip r:embed="rId2"/>
          <a:stretch/>
        </p:blipFill>
        <p:spPr>
          <a:xfrm>
            <a:off x="4572000" y="3071880"/>
            <a:ext cx="1444680" cy="33843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post-41192-1231285749.png"/>
          <p:cNvPicPr/>
          <p:nvPr/>
        </p:nvPicPr>
        <p:blipFill>
          <a:blip r:embed="rId3"/>
          <a:stretch/>
        </p:blipFill>
        <p:spPr>
          <a:xfrm>
            <a:off x="0" y="3006720"/>
            <a:ext cx="2568600" cy="38512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6016680" y="3860640"/>
            <a:ext cx="312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Учитель высшей категори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Харина Л.П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МБОУ СОШ № 37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г.Волжского Волгоградской област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ве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4" descr="mso90400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84360" y="2276640"/>
            <a:ext cx="799308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вес с отражателе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5" name="Picture 4" descr="mso935F8"/>
          <p:cNvPicPr/>
          <p:nvPr/>
        </p:nvPicPr>
        <p:blipFill>
          <a:blip r:embed="rId1"/>
          <a:stretch/>
        </p:blipFill>
        <p:spPr>
          <a:xfrm>
            <a:off x="1908000" y="1341360"/>
            <a:ext cx="547236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вес из брезента (плёнки)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Picture 4" descr="mso57EE6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692360" y="1484280"/>
            <a:ext cx="61084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имний наве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4" descr="Изображение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95640" y="1341360"/>
            <a:ext cx="47289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имний наве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1" name="Picture 5" descr="msoF8BDC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971640" y="1413000"/>
            <a:ext cx="734364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вускатный шалаш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Picture 4" descr="Изображение 00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050920" y="1341360"/>
            <a:ext cx="509616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Шалаш под дерев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5" name="Picture 4" descr="mso55A1E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403280" y="1341360"/>
            <a:ext cx="63356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Шалаш из ткан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4" descr="msoF6862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539640" y="1413000"/>
            <a:ext cx="820908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имний шалаш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Picture 4" descr="msoCD01A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1332000" y="1268280"/>
            <a:ext cx="655308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нежная пещ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Picture 4" descr="mso7A0F0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4360" y="1484280"/>
            <a:ext cx="78483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71400" y="499680"/>
            <a:ext cx="7126200" cy="5429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юбую сложную ситуацию лучше всего преодолевать по плану – это доказывает обширный опыт различных происшествий, аварий, в результате которых люди остаются наедине с природой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Picture 5" descr="baby23"/>
          <p:cNvPicPr/>
          <p:nvPr/>
        </p:nvPicPr>
        <p:blipFill>
          <a:blip r:embed="rId1"/>
          <a:stretch/>
        </p:blipFill>
        <p:spPr>
          <a:xfrm flipH="1">
            <a:off x="142920" y="2000160"/>
            <a:ext cx="1457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нежная пещ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3" name="Picture 4" descr="mso38656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124000" y="1413000"/>
            <a:ext cx="51436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нежная пещ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Picture 4" descr="Изображение 00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692360" y="1341360"/>
            <a:ext cx="576108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 (изготовление)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7" name="Picture 4" descr="msoB78D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47640" y="1484280"/>
            <a:ext cx="633744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 (изготовление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9" name="Picture 4" descr="mso624E8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187280" y="1341360"/>
            <a:ext cx="65516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1" name="Picture 4" descr="mso6E38E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24000" y="1268280"/>
            <a:ext cx="510084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3" name="Picture 4" descr="msoA5E44"/>
          <p:cNvPicPr/>
          <p:nvPr/>
        </p:nvPicPr>
        <p:blipFill>
          <a:blip r:embed="rId1"/>
          <a:stretch/>
        </p:blipFill>
        <p:spPr>
          <a:xfrm>
            <a:off x="468360" y="1844640"/>
            <a:ext cx="820908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бщий план действий по выживанию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Рисунок 4" descr="post-54068-1217527544.png"/>
          <p:cNvPicPr/>
          <p:nvPr/>
        </p:nvPicPr>
        <p:blipFill>
          <a:blip r:embed="rId1"/>
          <a:stretch/>
        </p:blipFill>
        <p:spPr>
          <a:xfrm>
            <a:off x="-428760" y="3618000"/>
            <a:ext cx="2357640" cy="3240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1857240" y="1714680"/>
            <a:ext cx="7000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емедленно покинь автомобиль (вагон, самолёт), если есть угроза взрыва, пожара, затопления или разруше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старайся выбраться на безопасное место (расстояние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цени обстановку окружающей тебя среды и своё состояние (если получил повреждение, прими меры самопомощи, останови кровотечение, забинтуй рану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старайся восстановить в памяти место твоего нахождения, удаление от населённых пунктов, наиболее характерные ориентиры (река, дорога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оверь, что у тебя имеется в резерве из продуктов питания, одежды, есть ли спички, компас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(продолжение)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Рисунок 5" descr="индеец.png"/>
          <p:cNvPicPr/>
          <p:nvPr/>
        </p:nvPicPr>
        <p:blipFill>
          <a:blip r:embed="rId1"/>
          <a:stretch/>
        </p:blipFill>
        <p:spPr>
          <a:xfrm>
            <a:off x="-642960" y="2643120"/>
            <a:ext cx="2685960" cy="33847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6"/>
          <p:cNvSpPr/>
          <p:nvPr/>
        </p:nvSpPr>
        <p:spPr>
          <a:xfrm>
            <a:off x="2214720" y="1643040"/>
            <a:ext cx="6357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6. Прими решение: оставаться на месте и ждать помощи или самому выходить к людя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7. Составь план своих действий, в котором обязательно учти близость воды к месту ночлега и укрытия от дождя, бури, грозы; возможность добывания пищи (запас, растительная пища вокруг); возможности подачи сигналов для привлечения помощ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8. Приступай к выполнению плана действий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ходить с места аварии тебе следует если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Рисунок 5" descr="индеец.png"/>
          <p:cNvPicPr/>
          <p:nvPr/>
        </p:nvPicPr>
        <p:blipFill>
          <a:blip r:embed="rId1"/>
          <a:stretch/>
        </p:blipFill>
        <p:spPr>
          <a:xfrm>
            <a:off x="-714240" y="2357280"/>
            <a:ext cx="2685960" cy="33847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2071800" y="1571760"/>
            <a:ext cx="678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очно известно расположение ближайшего населённого пункта, а твоё состояние позволяет до него добратьс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Неподалёку обнаружена просека, дорога, река, явные признаки близкого жиль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Возникает угроза для жизни: идёт затопление местности, приближается лесной пожар, имеется вероятность схода лавин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1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Помни!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Рисунок 5" descr="индеец.png"/>
          <p:cNvPicPr/>
          <p:nvPr/>
        </p:nvPicPr>
        <p:blipFill>
          <a:blip r:embed="rId1"/>
          <a:stretch/>
        </p:blipFill>
        <p:spPr>
          <a:xfrm>
            <a:off x="-857160" y="1857240"/>
            <a:ext cx="2685960" cy="33847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6"/>
          <p:cNvSpPr/>
          <p:nvPr/>
        </p:nvSpPr>
        <p:spPr>
          <a:xfrm>
            <a:off x="1785960" y="1071720"/>
            <a:ext cx="700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Уходя с места аварии, напиши записку и вложи её в непромокаемую упаковку, банку или бутылку с указаниями, когда и куда ты ушёл. Привяжи упаковку на видном мест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Если решил остаться, то необходимо разбить временный лагерь. В условиях лагеря легче организовать надёжное укрытие от непогоды, поиск продовольствия, оказание помощи больным и раненым, оборудовать средства подачи сигнал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3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Оборудование временного укрытия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Рисунок 5" descr="индеец.png"/>
          <p:cNvPicPr/>
          <p:nvPr/>
        </p:nvPicPr>
        <p:blipFill>
          <a:blip r:embed="rId1"/>
          <a:stretch/>
        </p:blipFill>
        <p:spPr>
          <a:xfrm>
            <a:off x="-714240" y="2428920"/>
            <a:ext cx="2685960" cy="33843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2143080" y="1714680"/>
            <a:ext cx="67867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Общее правил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м суровей климат, тем надёжнее должно быть жильё. Оно должно защищать прежде всего от осадков, палящего солнца, сильного ветра, холод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Помн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аже один час отдыха в тепле не сравнить с многочасовыми попытками отдохнуть на ветру и в холод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42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Оборудование временного укрытия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Рисунок 5" descr="индеец.png"/>
          <p:cNvPicPr/>
          <p:nvPr/>
        </p:nvPicPr>
        <p:blipFill>
          <a:blip r:embed="rId1"/>
          <a:stretch/>
        </p:blipFill>
        <p:spPr>
          <a:xfrm>
            <a:off x="-571680" y="2357280"/>
            <a:ext cx="2686320" cy="33847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2143080" y="1714680"/>
            <a:ext cx="678672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чистить площадк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одготовить подручные средства для строительст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есто должно быть сухим и размещаться поблизости от ручья или другого водного источник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ажно, чтобы поблизости находилось топливо (зимой вопрос  о дровах очень важен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 algn="ctr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54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9968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Виды временных укрытий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Picture 4" descr="mso935F8"/>
          <p:cNvPicPr/>
          <p:nvPr/>
        </p:nvPicPr>
        <p:blipFill>
          <a:blip r:embed="rId1"/>
          <a:stretch/>
        </p:blipFill>
        <p:spPr>
          <a:xfrm>
            <a:off x="3857760" y="3500280"/>
            <a:ext cx="2527200" cy="23590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индеец.png"/>
          <p:cNvPicPr/>
          <p:nvPr/>
        </p:nvPicPr>
        <p:blipFill>
          <a:blip r:embed="rId2"/>
          <a:stretch/>
        </p:blipFill>
        <p:spPr>
          <a:xfrm>
            <a:off x="-357120" y="2786040"/>
            <a:ext cx="26859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66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3:48:54Z</dcterms:created>
  <dc:creator>Дима и Игорь</dc:creator>
  <dc:description/>
  <dc:language>en-US</dc:language>
  <cp:lastModifiedBy>Николай</cp:lastModifiedBy>
  <dcterms:modified xsi:type="dcterms:W3CDTF">2013-04-29T06:57:40Z</dcterms:modified>
  <cp:revision>15</cp:revision>
  <dc:subject/>
  <dc:title>Временные укрытия</dc:title>
</cp:coreProperties>
</file>