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0795-2120-4539-9811-62A8B3D22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5526-4791-4331-8AEB-64BA2101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6065-9900-4747-9E2D-AB05A6D42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FB25-9A7E-419A-8402-1C440D6A6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2CEC-56D8-4DC9-9D53-19182A31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DDA8-A235-42EF-8CDD-D5FC5040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06E6-A9BF-473D-9D21-F52CB1B9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3D51-B47B-4ACB-90C1-882FD711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073C-A9FC-472C-84A6-A63CA28A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C981-59AE-4FFC-9869-6649112B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44ED-C7A8-4A83-B2E8-73CA0A2C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31CD-5022-43F4-89F1-70FE8113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017C-6E4E-45BD-B287-0042D1550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7cd0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71640" y="1989000"/>
            <a:ext cx="741816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5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ыполнит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дание 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68360" y="907920"/>
            <a:ext cx="835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Какая из данных дробей рав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7702560" y="620640"/>
            <a:ext cx="51264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7596360" y="1262160"/>
            <a:ext cx="79200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754760" y="1611360"/>
            <a:ext cx="47484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950160" y="2708280"/>
            <a:ext cx="51264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77080" y="3349800"/>
            <a:ext cx="79200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035840" y="3699000"/>
            <a:ext cx="4744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222200" y="2708280"/>
            <a:ext cx="51300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16000" y="3349800"/>
            <a:ext cx="79200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274760" y="3699000"/>
            <a:ext cx="47484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238560" y="2708280"/>
            <a:ext cx="51264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132000" y="3349800"/>
            <a:ext cx="79236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290760" y="3699000"/>
            <a:ext cx="47484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"/>
          <p:cNvSpPr/>
          <p:nvPr/>
        </p:nvSpPr>
        <p:spPr>
          <a:xfrm>
            <a:off x="1189080" y="4581360"/>
            <a:ext cx="100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03640" y="4581360"/>
            <a:ext cx="100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076720" y="4581360"/>
            <a:ext cx="100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л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732720" y="4581360"/>
            <a:ext cx="100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078520" y="2708280"/>
            <a:ext cx="51264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005440" y="3349800"/>
            <a:ext cx="79200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164200" y="3699000"/>
            <a:ext cx="4744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1a1"/>
            </a:gs>
            <a:gs pos="50000">
              <a:srgbClr val="66ccff"/>
            </a:gs>
            <a:gs pos="100000">
              <a:srgbClr val="4081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8360" y="907920"/>
            <a:ext cx="835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Какая из данных дробей равна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7021440" y="2492280"/>
            <a:ext cx="51300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948360" y="3133800"/>
            <a:ext cx="79236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107120" y="3483000"/>
            <a:ext cx="47484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93840" y="2492280"/>
            <a:ext cx="51264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187280" y="3133800"/>
            <a:ext cx="79236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346040" y="3483000"/>
            <a:ext cx="47484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309840" y="2492280"/>
            <a:ext cx="51300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203640" y="3133800"/>
            <a:ext cx="79200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362400" y="3483000"/>
            <a:ext cx="4744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"/>
          <p:cNvSpPr/>
          <p:nvPr/>
        </p:nvSpPr>
        <p:spPr>
          <a:xfrm>
            <a:off x="1260360" y="4365720"/>
            <a:ext cx="100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74920" y="4365720"/>
            <a:ext cx="100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48360" y="4365720"/>
            <a:ext cx="100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л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04000" y="4365720"/>
            <a:ext cx="100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149800" y="2492280"/>
            <a:ext cx="51264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076720" y="3133800"/>
            <a:ext cx="79236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235480" y="3483000"/>
            <a:ext cx="47484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740720" y="692280"/>
            <a:ext cx="512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73"/>
            </a:gs>
            <a:gs pos="50000">
              <a:srgbClr val="ffff99"/>
            </a:gs>
            <a:gs pos="100000">
              <a:srgbClr val="c0c07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684360" y="1484280"/>
            <a:ext cx="763272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653"/>
                <a:gd name="adj2" fmla="val 21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ы закончили выполнени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дания 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4360" y="836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Какая часть фигуры закрашен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627280" y="1989000"/>
          <a:ext cx="403236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989000"/>
                    <a:ext cx="403236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1511280" y="5300640"/>
            <a:ext cx="68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7740720" y="5013360"/>
            <a:ext cx="576000" cy="1295280"/>
            <a:chOff x="7740720" y="5013360"/>
            <a:chExt cx="576000" cy="1295280"/>
          </a:xfrm>
        </p:grpSpPr>
        <p:sp>
          <p:nvSpPr>
            <p:cNvPr id="47" name=""/>
            <p:cNvSpPr txBox="1"/>
            <p:nvPr/>
          </p:nvSpPr>
          <p:spPr>
            <a:xfrm>
              <a:off x="7818480" y="5013360"/>
              <a:ext cx="372960" cy="444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4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8" name=""/>
            <p:cNvSpPr txBox="1"/>
            <p:nvPr/>
          </p:nvSpPr>
          <p:spPr>
            <a:xfrm>
              <a:off x="7740720" y="5562360"/>
              <a:ext cx="576000" cy="150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-</a:t>
              </a:r>
              <a:endPara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9" name=""/>
            <p:cNvSpPr txBox="1"/>
            <p:nvPr/>
          </p:nvSpPr>
          <p:spPr>
            <a:xfrm>
              <a:off x="7856640" y="5862600"/>
              <a:ext cx="344520" cy="44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7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50" name=""/>
          <p:cNvSpPr txBox="1"/>
          <p:nvPr/>
        </p:nvSpPr>
        <p:spPr>
          <a:xfrm>
            <a:off x="4102200" y="5100480"/>
            <a:ext cx="37296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024440" y="5649840"/>
            <a:ext cx="576000" cy="1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140360" y="5950080"/>
            <a:ext cx="344160" cy="44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373480" y="5100480"/>
            <a:ext cx="37296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95360" y="5649840"/>
            <a:ext cx="576360" cy="1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411280" y="5950080"/>
            <a:ext cx="344520" cy="44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46920" y="5100480"/>
            <a:ext cx="37296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969160" y="5649840"/>
            <a:ext cx="576000" cy="1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84720" y="5950080"/>
            <a:ext cx="344520" cy="44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258920" y="90792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Какая часть фигуры закрашен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11280" y="5300640"/>
            <a:ext cx="68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843280" y="1700280"/>
          <a:ext cx="3457440" cy="302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43280" y="1700280"/>
                    <a:ext cx="345744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 txBox="1"/>
          <p:nvPr/>
        </p:nvSpPr>
        <p:spPr>
          <a:xfrm>
            <a:off x="7707240" y="4869000"/>
            <a:ext cx="327240" cy="4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640640" y="5450040"/>
            <a:ext cx="50328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740720" y="5765760"/>
            <a:ext cx="303120" cy="4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106880" y="4836960"/>
            <a:ext cx="326880" cy="4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040280" y="5418000"/>
            <a:ext cx="503280" cy="1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140360" y="5734080"/>
            <a:ext cx="303120" cy="4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051600" y="4869000"/>
            <a:ext cx="326880" cy="4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985000" y="5450040"/>
            <a:ext cx="50328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084720" y="5765760"/>
            <a:ext cx="303480" cy="4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378160" y="4869000"/>
            <a:ext cx="326880" cy="4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311560" y="5450040"/>
            <a:ext cx="50292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411280" y="5765760"/>
            <a:ext cx="303480" cy="4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258920" y="90792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Какая часть фигуры закрашен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6360" y="5516640"/>
            <a:ext cx="68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484360" y="1628640"/>
          <a:ext cx="4175280" cy="345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84360" y="1628640"/>
                    <a:ext cx="417528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 txBox="1"/>
          <p:nvPr/>
        </p:nvSpPr>
        <p:spPr>
          <a:xfrm>
            <a:off x="7797960" y="5195880"/>
            <a:ext cx="280800" cy="4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726320" y="5776920"/>
            <a:ext cx="432000" cy="1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812000" y="6093000"/>
            <a:ext cx="260280" cy="47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983200" y="5195880"/>
            <a:ext cx="281160" cy="4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925960" y="5776920"/>
            <a:ext cx="432000" cy="1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012000" y="6093000"/>
            <a:ext cx="260280" cy="47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382840" y="5124600"/>
            <a:ext cx="281160" cy="4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325600" y="5705640"/>
            <a:ext cx="43200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411280" y="6021360"/>
            <a:ext cx="260640" cy="4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111560" y="5124600"/>
            <a:ext cx="281160" cy="4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054320" y="5705640"/>
            <a:ext cx="43200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140360" y="6021360"/>
            <a:ext cx="260280" cy="4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99ff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258920" y="90792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Запишите числитель дроб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5516640"/>
            <a:ext cx="76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) 4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) 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) 9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)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140360" y="2205000"/>
            <a:ext cx="699840" cy="6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995640" y="2997360"/>
            <a:ext cx="107964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211640" y="3429000"/>
            <a:ext cx="6476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58920" y="90792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Запишите знаменатель дроб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4360" y="5516640"/>
            <a:ext cx="76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)  2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) 1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) 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) 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140360" y="2205000"/>
            <a:ext cx="699840" cy="6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995640" y="2997360"/>
            <a:ext cx="107964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211640" y="3429000"/>
            <a:ext cx="6476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50000">
              <a:srgbClr val="ffff00"/>
            </a:gs>
            <a:gs pos="100000">
              <a:srgbClr val="ff7c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258920" y="90792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Выберите правильную дроб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003640" y="2205000"/>
            <a:ext cx="700200" cy="6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859280" y="2997360"/>
            <a:ext cx="107964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075280" y="3429000"/>
            <a:ext cx="6476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77080" y="2133720"/>
            <a:ext cx="700200" cy="64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732720" y="2925720"/>
            <a:ext cx="1079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948360" y="3357720"/>
            <a:ext cx="648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059280" y="2133720"/>
            <a:ext cx="1079280" cy="1866960"/>
            <a:chOff x="3059280" y="2133720"/>
            <a:chExt cx="1079280" cy="1866960"/>
          </a:xfrm>
        </p:grpSpPr>
        <p:sp>
          <p:nvSpPr>
            <p:cNvPr id="109" name=""/>
            <p:cNvSpPr txBox="1"/>
            <p:nvPr/>
          </p:nvSpPr>
          <p:spPr>
            <a:xfrm>
              <a:off x="3203640" y="2133720"/>
              <a:ext cx="700200" cy="641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ff0066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6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3059280" y="2926080"/>
              <a:ext cx="1079280" cy="21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ff0066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-</a:t>
              </a:r>
              <a:endPara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3275280" y="3357720"/>
              <a:ext cx="647640" cy="64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ff0066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1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12" name=""/>
          <p:cNvSpPr txBox="1"/>
          <p:nvPr/>
        </p:nvSpPr>
        <p:spPr>
          <a:xfrm>
            <a:off x="1260360" y="2205000"/>
            <a:ext cx="700200" cy="6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116000" y="2997360"/>
            <a:ext cx="107964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332000" y="3429000"/>
            <a:ext cx="6476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"/>
          <p:cNvSpPr/>
          <p:nvPr/>
        </p:nvSpPr>
        <p:spPr>
          <a:xfrm>
            <a:off x="3203640" y="4743360"/>
            <a:ext cx="100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92720" y="4724280"/>
            <a:ext cx="100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36000" y="4724280"/>
            <a:ext cx="100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87280" y="4724280"/>
            <a:ext cx="100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258920" y="90792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Выберите неправильную дроб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003640" y="2205000"/>
            <a:ext cx="700200" cy="6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859280" y="2997360"/>
            <a:ext cx="107964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075280" y="3429000"/>
            <a:ext cx="6476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77080" y="2133720"/>
            <a:ext cx="700200" cy="64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732720" y="2925720"/>
            <a:ext cx="1079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948360" y="3357720"/>
            <a:ext cx="648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059280" y="2133720"/>
            <a:ext cx="1079280" cy="1866960"/>
            <a:chOff x="3059280" y="2133720"/>
            <a:chExt cx="1079280" cy="1866960"/>
          </a:xfrm>
        </p:grpSpPr>
        <p:sp>
          <p:nvSpPr>
            <p:cNvPr id="127" name=""/>
            <p:cNvSpPr txBox="1"/>
            <p:nvPr/>
          </p:nvSpPr>
          <p:spPr>
            <a:xfrm>
              <a:off x="3203640" y="2133720"/>
              <a:ext cx="700200" cy="641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6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>
              <a:off x="3059280" y="2926080"/>
              <a:ext cx="1079280" cy="21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-</a:t>
              </a:r>
              <a:endPara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29" name=""/>
            <p:cNvSpPr txBox="1"/>
            <p:nvPr/>
          </p:nvSpPr>
          <p:spPr>
            <a:xfrm>
              <a:off x="3275280" y="3357720"/>
              <a:ext cx="647640" cy="64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1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116000" y="2205000"/>
            <a:ext cx="1079640" cy="1866960"/>
            <a:chOff x="1116000" y="2205000"/>
            <a:chExt cx="1079640" cy="1866960"/>
          </a:xfrm>
        </p:grpSpPr>
        <p:sp>
          <p:nvSpPr>
            <p:cNvPr id="131" name=""/>
            <p:cNvSpPr txBox="1"/>
            <p:nvPr/>
          </p:nvSpPr>
          <p:spPr>
            <a:xfrm>
              <a:off x="1260360" y="2205000"/>
              <a:ext cx="700200" cy="641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1116000" y="2997360"/>
              <a:ext cx="1079640" cy="21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-</a:t>
              </a:r>
              <a:endPara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1332000" y="3429000"/>
              <a:ext cx="647640" cy="64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5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203640" y="4743360"/>
            <a:ext cx="100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92720" y="4724280"/>
            <a:ext cx="100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36000" y="4724280"/>
            <a:ext cx="100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87280" y="4724280"/>
            <a:ext cx="100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b86e"/>
            </a:gs>
            <a:gs pos="50000">
              <a:srgbClr val="99ff99"/>
            </a:gs>
            <a:gs pos="100000">
              <a:srgbClr val="6eb8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907920"/>
            <a:ext cx="835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В коробке 10 карандашей,  7 из   них цветные, остальные простые. Какую часть всех карандашей   составляют цветны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110200" y="3716280"/>
            <a:ext cx="51264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003640" y="4357800"/>
            <a:ext cx="79236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162400" y="4707000"/>
            <a:ext cx="47484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77080" y="3716280"/>
            <a:ext cx="51264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04000" y="4357800"/>
            <a:ext cx="79236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962760" y="4707000"/>
            <a:ext cx="47484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149480" y="3716280"/>
            <a:ext cx="51264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42920" y="4357800"/>
            <a:ext cx="79236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01680" y="4707000"/>
            <a:ext cx="47484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165480" y="3716280"/>
            <a:ext cx="51264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59280" y="4357800"/>
            <a:ext cx="79200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18040" y="4707000"/>
            <a:ext cx="4744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"/>
          <p:cNvSpPr/>
          <p:nvPr/>
        </p:nvSpPr>
        <p:spPr>
          <a:xfrm>
            <a:off x="1116000" y="5589720"/>
            <a:ext cx="100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30560" y="5589720"/>
            <a:ext cx="100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5589720"/>
            <a:ext cx="100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л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659640" y="5589720"/>
            <a:ext cx="100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6T08:58:04Z</dcterms:created>
  <dc:creator>2</dc:creator>
  <dc:description/>
  <dc:language>en-US</dc:language>
  <cp:lastModifiedBy>2</cp:lastModifiedBy>
  <dcterms:modified xsi:type="dcterms:W3CDTF">2003-02-26T09:52:45Z</dcterms:modified>
  <cp:revision>4</cp:revision>
  <dc:subject/>
  <dc:title>Слайд 1</dc:title>
</cp:coreProperties>
</file>