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DFB3-EFCF-422F-9604-EF55AED95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0C39-F9C0-4915-B71E-D6C701DB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7A45-D86F-4C8F-91B3-673DF34E2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1CFE-489F-4FC4-B605-48BBCB2B8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271F-C72C-45B0-A025-42CADF35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58C5-BA29-4261-A1D9-AC804B58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0014-2622-4C55-8028-E2B1C309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777B-83AC-4EA8-884F-1DE24035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D69B-C987-425F-8377-CBCFD46E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9C59-CAA4-455C-B407-900CE884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8BEF-78E5-4036-A194-9CAF07D0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ACCF-4BE5-4594-90E0-7B647427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794E-BE56-4CB9-B0D4-5DFF17BD7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7cd0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71640" y="1989000"/>
            <a:ext cx="741816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5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ыполнит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ние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68360" y="907920"/>
            <a:ext cx="835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Какая из данных дробей рав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702560" y="620640"/>
            <a:ext cx="51264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596360" y="1262160"/>
            <a:ext cx="79200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754760" y="1611360"/>
            <a:ext cx="4748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950160" y="2708280"/>
            <a:ext cx="51264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77080" y="3349800"/>
            <a:ext cx="79200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035840" y="3699000"/>
            <a:ext cx="4744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22200" y="2708280"/>
            <a:ext cx="51300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16000" y="3349800"/>
            <a:ext cx="79200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274760" y="3699000"/>
            <a:ext cx="4748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38560" y="2708280"/>
            <a:ext cx="51264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132000" y="3349800"/>
            <a:ext cx="79236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290760" y="3699000"/>
            <a:ext cx="4748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"/>
          <p:cNvSpPr/>
          <p:nvPr/>
        </p:nvSpPr>
        <p:spPr>
          <a:xfrm>
            <a:off x="1189080" y="4581360"/>
            <a:ext cx="10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03640" y="4581360"/>
            <a:ext cx="10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76720" y="4581360"/>
            <a:ext cx="10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32720" y="4581360"/>
            <a:ext cx="10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078520" y="2708280"/>
            <a:ext cx="51264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005440" y="3349800"/>
            <a:ext cx="79200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164200" y="3699000"/>
            <a:ext cx="4744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1a1"/>
            </a:gs>
            <a:gs pos="50000">
              <a:srgbClr val="66ccff"/>
            </a:gs>
            <a:gs pos="100000">
              <a:srgbClr val="4081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8360" y="907920"/>
            <a:ext cx="835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Какая из данных дробей равна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021440" y="2492280"/>
            <a:ext cx="51300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948360" y="3133800"/>
            <a:ext cx="79236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107120" y="3483000"/>
            <a:ext cx="4748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93840" y="2492280"/>
            <a:ext cx="51264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187280" y="3133800"/>
            <a:ext cx="79236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346040" y="3483000"/>
            <a:ext cx="4748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309840" y="2492280"/>
            <a:ext cx="51300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203640" y="3133800"/>
            <a:ext cx="79200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362400" y="3483000"/>
            <a:ext cx="4744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"/>
          <p:cNvSpPr/>
          <p:nvPr/>
        </p:nvSpPr>
        <p:spPr>
          <a:xfrm>
            <a:off x="1260360" y="4365720"/>
            <a:ext cx="10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4920" y="4365720"/>
            <a:ext cx="10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48360" y="4365720"/>
            <a:ext cx="10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04000" y="4365720"/>
            <a:ext cx="10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149800" y="2492280"/>
            <a:ext cx="51264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076720" y="3133800"/>
            <a:ext cx="79236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235480" y="3483000"/>
            <a:ext cx="4748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740720" y="692280"/>
            <a:ext cx="512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73"/>
            </a:gs>
            <a:gs pos="50000">
              <a:srgbClr val="ffff99"/>
            </a:gs>
            <a:gs pos="100000">
              <a:srgbClr val="c0c07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684360" y="1484280"/>
            <a:ext cx="763272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653"/>
                <a:gd name="adj2" fmla="val 21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ы закончили выполне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ния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4360" y="836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Какая часть фигуры закрашен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627280" y="1989000"/>
          <a:ext cx="403236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989000"/>
                    <a:ext cx="403236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511280" y="5300640"/>
            <a:ext cx="68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7740720" y="5013360"/>
            <a:ext cx="576000" cy="1295280"/>
            <a:chOff x="7740720" y="5013360"/>
            <a:chExt cx="576000" cy="1295280"/>
          </a:xfrm>
        </p:grpSpPr>
        <p:sp>
          <p:nvSpPr>
            <p:cNvPr id="47" name=""/>
            <p:cNvSpPr txBox="1"/>
            <p:nvPr/>
          </p:nvSpPr>
          <p:spPr>
            <a:xfrm>
              <a:off x="7818480" y="5013360"/>
              <a:ext cx="372960" cy="444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4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7740720" y="5562360"/>
              <a:ext cx="576000" cy="150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-</a:t>
              </a:r>
              <a:endPara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7856640" y="5862600"/>
              <a:ext cx="344520" cy="44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7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50" name=""/>
          <p:cNvSpPr txBox="1"/>
          <p:nvPr/>
        </p:nvSpPr>
        <p:spPr>
          <a:xfrm>
            <a:off x="4102200" y="5100480"/>
            <a:ext cx="37296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024440" y="5649840"/>
            <a:ext cx="576000" cy="1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140360" y="5950080"/>
            <a:ext cx="344160" cy="4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373480" y="5100480"/>
            <a:ext cx="37296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95360" y="5649840"/>
            <a:ext cx="576360" cy="1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411280" y="5950080"/>
            <a:ext cx="344520" cy="4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46920" y="5100480"/>
            <a:ext cx="37296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969160" y="5649840"/>
            <a:ext cx="576000" cy="1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84720" y="5950080"/>
            <a:ext cx="344520" cy="4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58920" y="90792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Какая часть фигуры закрашен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11280" y="5300640"/>
            <a:ext cx="68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843280" y="1700280"/>
          <a:ext cx="3457440" cy="302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3280" y="1700280"/>
                    <a:ext cx="345744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 txBox="1"/>
          <p:nvPr/>
        </p:nvSpPr>
        <p:spPr>
          <a:xfrm>
            <a:off x="7707240" y="4869000"/>
            <a:ext cx="327240" cy="4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40640" y="5450040"/>
            <a:ext cx="50328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740720" y="5765760"/>
            <a:ext cx="30312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106880" y="4836960"/>
            <a:ext cx="326880" cy="4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040280" y="5418000"/>
            <a:ext cx="503280" cy="1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140360" y="5734080"/>
            <a:ext cx="30312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051600" y="4869000"/>
            <a:ext cx="326880" cy="4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985000" y="5450040"/>
            <a:ext cx="50328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084720" y="5765760"/>
            <a:ext cx="30348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378160" y="4869000"/>
            <a:ext cx="326880" cy="4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311560" y="5450040"/>
            <a:ext cx="5029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411280" y="5765760"/>
            <a:ext cx="30348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258920" y="90792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Какая часть фигуры закрашен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6360" y="5516640"/>
            <a:ext cx="68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484360" y="1628640"/>
          <a:ext cx="4175280" cy="345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4360" y="1628640"/>
                    <a:ext cx="417528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 txBox="1"/>
          <p:nvPr/>
        </p:nvSpPr>
        <p:spPr>
          <a:xfrm>
            <a:off x="7797960" y="5195880"/>
            <a:ext cx="280800" cy="4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726320" y="5776920"/>
            <a:ext cx="432000" cy="1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812000" y="6093000"/>
            <a:ext cx="260280" cy="47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983200" y="5195880"/>
            <a:ext cx="281160" cy="4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925960" y="5776920"/>
            <a:ext cx="432000" cy="1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12000" y="6093000"/>
            <a:ext cx="260280" cy="47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382840" y="5124600"/>
            <a:ext cx="281160" cy="4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325600" y="5705640"/>
            <a:ext cx="43200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411280" y="6021360"/>
            <a:ext cx="26064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111560" y="5124600"/>
            <a:ext cx="281160" cy="4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054320" y="5705640"/>
            <a:ext cx="43200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140360" y="6021360"/>
            <a:ext cx="26028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99ff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58920" y="90792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Запишите числитель дроб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5516640"/>
            <a:ext cx="76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4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) 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) 9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)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140360" y="2205000"/>
            <a:ext cx="699840" cy="6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995640" y="2997360"/>
            <a:ext cx="10796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211640" y="3429000"/>
            <a:ext cx="6476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58920" y="90792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Запишите знаменатель дроб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5516640"/>
            <a:ext cx="76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)  2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) 1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) 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) 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140360" y="2205000"/>
            <a:ext cx="699840" cy="6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95640" y="2997360"/>
            <a:ext cx="10796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11640" y="3429000"/>
            <a:ext cx="6476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50000">
              <a:srgbClr val="ffff00"/>
            </a:gs>
            <a:gs pos="100000">
              <a:srgbClr val="ff7c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58920" y="90792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Выберите правильную дроб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003640" y="2205000"/>
            <a:ext cx="700200" cy="6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859280" y="2997360"/>
            <a:ext cx="10796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075280" y="3429000"/>
            <a:ext cx="6476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77080" y="2133720"/>
            <a:ext cx="700200" cy="64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732720" y="2925720"/>
            <a:ext cx="1079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948360" y="3357720"/>
            <a:ext cx="648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059280" y="2133720"/>
            <a:ext cx="1079280" cy="1866960"/>
            <a:chOff x="3059280" y="2133720"/>
            <a:chExt cx="1079280" cy="1866960"/>
          </a:xfrm>
        </p:grpSpPr>
        <p:sp>
          <p:nvSpPr>
            <p:cNvPr id="109" name=""/>
            <p:cNvSpPr txBox="1"/>
            <p:nvPr/>
          </p:nvSpPr>
          <p:spPr>
            <a:xfrm>
              <a:off x="3203640" y="2133720"/>
              <a:ext cx="700200" cy="641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ff0066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6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3059280" y="2926080"/>
              <a:ext cx="107928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ff0066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-</a:t>
              </a:r>
              <a:endPara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3275280" y="3357720"/>
              <a:ext cx="647640" cy="64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ff0066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1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12" name=""/>
          <p:cNvSpPr txBox="1"/>
          <p:nvPr/>
        </p:nvSpPr>
        <p:spPr>
          <a:xfrm>
            <a:off x="1260360" y="2205000"/>
            <a:ext cx="700200" cy="6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16000" y="2997360"/>
            <a:ext cx="10796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332000" y="3429000"/>
            <a:ext cx="6476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"/>
          <p:cNvSpPr/>
          <p:nvPr/>
        </p:nvSpPr>
        <p:spPr>
          <a:xfrm>
            <a:off x="3203640" y="4743360"/>
            <a:ext cx="10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4724280"/>
            <a:ext cx="10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36000" y="4724280"/>
            <a:ext cx="10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87280" y="4724280"/>
            <a:ext cx="10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58920" y="90792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Выберите неправильную дроб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003640" y="2205000"/>
            <a:ext cx="700200" cy="6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859280" y="2997360"/>
            <a:ext cx="10796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075280" y="3429000"/>
            <a:ext cx="6476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77080" y="2133720"/>
            <a:ext cx="700200" cy="64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732720" y="2925720"/>
            <a:ext cx="1079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948360" y="3357720"/>
            <a:ext cx="648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059280" y="2133720"/>
            <a:ext cx="1079280" cy="1866960"/>
            <a:chOff x="3059280" y="2133720"/>
            <a:chExt cx="1079280" cy="1866960"/>
          </a:xfrm>
        </p:grpSpPr>
        <p:sp>
          <p:nvSpPr>
            <p:cNvPr id="127" name=""/>
            <p:cNvSpPr txBox="1"/>
            <p:nvPr/>
          </p:nvSpPr>
          <p:spPr>
            <a:xfrm>
              <a:off x="3203640" y="2133720"/>
              <a:ext cx="700200" cy="641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6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3059280" y="2926080"/>
              <a:ext cx="107928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-</a:t>
              </a:r>
              <a:endPara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3275280" y="3357720"/>
              <a:ext cx="647640" cy="64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1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116000" y="2205000"/>
            <a:ext cx="1079640" cy="1866960"/>
            <a:chOff x="1116000" y="2205000"/>
            <a:chExt cx="1079640" cy="1866960"/>
          </a:xfrm>
        </p:grpSpPr>
        <p:sp>
          <p:nvSpPr>
            <p:cNvPr id="131" name=""/>
            <p:cNvSpPr txBox="1"/>
            <p:nvPr/>
          </p:nvSpPr>
          <p:spPr>
            <a:xfrm>
              <a:off x="1260360" y="2205000"/>
              <a:ext cx="700200" cy="641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1116000" y="2997360"/>
              <a:ext cx="107964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-</a:t>
              </a:r>
              <a:endPara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1332000" y="3429000"/>
              <a:ext cx="647640" cy="64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5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203640" y="4743360"/>
            <a:ext cx="10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92720" y="4724280"/>
            <a:ext cx="10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36000" y="4724280"/>
            <a:ext cx="10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87280" y="4724280"/>
            <a:ext cx="10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b86e"/>
            </a:gs>
            <a:gs pos="50000">
              <a:srgbClr val="99ff99"/>
            </a:gs>
            <a:gs pos="100000">
              <a:srgbClr val="6eb8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907920"/>
            <a:ext cx="835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В коробке 10 карандашей,  7 из   них цветные, остальные простые. Какую часть всех карандашей   составляют цветны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110200" y="3716280"/>
            <a:ext cx="51264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003640" y="4357800"/>
            <a:ext cx="79236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162400" y="4707000"/>
            <a:ext cx="4748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77080" y="3716280"/>
            <a:ext cx="51264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04000" y="4357800"/>
            <a:ext cx="79236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962760" y="4707000"/>
            <a:ext cx="4748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149480" y="3716280"/>
            <a:ext cx="51264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42920" y="4357800"/>
            <a:ext cx="79236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01680" y="4707000"/>
            <a:ext cx="4748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165480" y="3716280"/>
            <a:ext cx="51264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59280" y="4357800"/>
            <a:ext cx="79200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18040" y="4707000"/>
            <a:ext cx="4744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/>
          <p:nvPr/>
        </p:nvSpPr>
        <p:spPr>
          <a:xfrm>
            <a:off x="1116000" y="5589720"/>
            <a:ext cx="10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30560" y="5589720"/>
            <a:ext cx="10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5589720"/>
            <a:ext cx="10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659640" y="5589720"/>
            <a:ext cx="10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6T08:58:04Z</dcterms:created>
  <dc:creator>2</dc:creator>
  <dc:description/>
  <dc:language>en-US</dc:language>
  <cp:lastModifiedBy>2</cp:lastModifiedBy>
  <dcterms:modified xsi:type="dcterms:W3CDTF">2003-02-26T09:52:45Z</dcterms:modified>
  <cp:revision>4</cp:revision>
  <dc:subject/>
  <dc:title>Слайд 1</dc:title>
</cp:coreProperties>
</file>