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1DF-9E3B-4D44-B429-2CE81F0B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F42-1323-453E-BC5F-7C11C49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99D-CAF8-4854-8F81-4353C738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9BC-1A19-4428-BCCF-A158B879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5AB-F363-4DB7-9255-ADB338A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3CC-C1C8-4AB1-8243-5A869979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339-32A3-498A-90AB-195D0587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B12-26BE-4357-890F-EB36198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2D9-ED96-4C58-B671-561CCD49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03D-2C6B-4C3C-B20E-E7029463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AB4-5F33-44D9-B76C-77A4280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3C4-7A21-4E3B-8205-C19171A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196-F9DE-4983-8C91-F222E828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7cd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989000"/>
            <a:ext cx="74181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полни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90792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из данных дробей рав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702560" y="62064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96360" y="126216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754760" y="161136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95016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7708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035840" y="3699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22200" y="2708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1600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74760" y="3699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3856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32000" y="3349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90760" y="3699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118908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458136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581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78520" y="2708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5440" y="3349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64200" y="3699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1a1"/>
            </a:gs>
            <a:gs pos="50000">
              <a:srgbClr val="66ccff"/>
            </a:gs>
            <a:gs pos="100000">
              <a:srgbClr val="4081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90792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из данных дробей рав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021440" y="2492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94836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0712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3840" y="2492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728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4604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309840" y="2492280"/>
            <a:ext cx="5130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03640" y="3133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62400" y="3483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126036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492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36572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365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49800" y="2492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76720" y="3133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35480" y="3483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740720" y="692280"/>
            <a:ext cx="512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73"/>
            </a:gs>
            <a:gs pos="50000">
              <a:srgbClr val="ffff99"/>
            </a:gs>
            <a:gs pos="100000">
              <a:srgbClr val="c0c07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4360" y="1484280"/>
            <a:ext cx="7632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653"/>
                <a:gd name="adj2" fmla="val 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 закончили выпол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3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627280" y="1989000"/>
          <a:ext cx="40323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4032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11280" y="5300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740720" y="5013360"/>
            <a:ext cx="576000" cy="1295280"/>
            <a:chOff x="7740720" y="5013360"/>
            <a:chExt cx="576000" cy="1295280"/>
          </a:xfrm>
        </p:grpSpPr>
        <p:sp>
          <p:nvSpPr>
            <p:cNvPr id="47" name=""/>
            <p:cNvSpPr txBox="1"/>
            <p:nvPr/>
          </p:nvSpPr>
          <p:spPr>
            <a:xfrm>
              <a:off x="7818480" y="5013360"/>
              <a:ext cx="372960" cy="44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7740720" y="5562360"/>
              <a:ext cx="57600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7856640" y="5862600"/>
              <a:ext cx="344520" cy="4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410220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24440" y="5649840"/>
            <a:ext cx="57600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40360" y="5950080"/>
            <a:ext cx="34416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7348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95360" y="5649840"/>
            <a:ext cx="57636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11280" y="5950080"/>
            <a:ext cx="3445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46920" y="5100480"/>
            <a:ext cx="3729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69160" y="5649840"/>
            <a:ext cx="576000" cy="1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84720" y="5950080"/>
            <a:ext cx="3445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11280" y="5300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843280" y="1700280"/>
          <a:ext cx="345744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700280"/>
                    <a:ext cx="34574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 txBox="1"/>
          <p:nvPr/>
        </p:nvSpPr>
        <p:spPr>
          <a:xfrm>
            <a:off x="7707240" y="4869000"/>
            <a:ext cx="3272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40640" y="5450040"/>
            <a:ext cx="5032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740720" y="5765760"/>
            <a:ext cx="3031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06880" y="4836960"/>
            <a:ext cx="326880" cy="4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40280" y="5418000"/>
            <a:ext cx="50328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40360" y="5734080"/>
            <a:ext cx="3031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51600" y="4869000"/>
            <a:ext cx="3268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85000" y="5450040"/>
            <a:ext cx="5032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5765760"/>
            <a:ext cx="3034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378160" y="4869000"/>
            <a:ext cx="3268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11560" y="5450040"/>
            <a:ext cx="502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11280" y="5765760"/>
            <a:ext cx="3034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5516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1628640"/>
          <a:ext cx="4175280" cy="34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628640"/>
                    <a:ext cx="41752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 txBox="1"/>
          <p:nvPr/>
        </p:nvSpPr>
        <p:spPr>
          <a:xfrm>
            <a:off x="7797960" y="5195880"/>
            <a:ext cx="2808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26320" y="5776920"/>
            <a:ext cx="43200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12000" y="6093000"/>
            <a:ext cx="2602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83200" y="519588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25960" y="5776920"/>
            <a:ext cx="43200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12000" y="6093000"/>
            <a:ext cx="2602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82840" y="512460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25600" y="5705640"/>
            <a:ext cx="4320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11280" y="6021360"/>
            <a:ext cx="2606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11560" y="5124600"/>
            <a:ext cx="2811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54320" y="5705640"/>
            <a:ext cx="4320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0360" y="6021360"/>
            <a:ext cx="2602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99ff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ишите числитель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516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4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) 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2205000"/>
            <a:ext cx="6998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9564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164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пишите знаменатель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516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)  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) 1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)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40360" y="2205000"/>
            <a:ext cx="6998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9564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164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берите правиль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364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5928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7528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77080" y="2133720"/>
            <a:ext cx="70020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32720" y="2925720"/>
            <a:ext cx="10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948360" y="3357720"/>
            <a:ext cx="64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59280" y="2133720"/>
            <a:ext cx="1079280" cy="1866960"/>
            <a:chOff x="3059280" y="2133720"/>
            <a:chExt cx="1079280" cy="1866960"/>
          </a:xfrm>
        </p:grpSpPr>
        <p:sp>
          <p:nvSpPr>
            <p:cNvPr id="109" name=""/>
            <p:cNvSpPr txBox="1"/>
            <p:nvPr/>
          </p:nvSpPr>
          <p:spPr>
            <a:xfrm>
              <a:off x="3203640" y="213372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059280" y="2926080"/>
              <a:ext cx="10792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275280" y="335772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6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126036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200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4743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72428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берите неправиль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3640" y="2205000"/>
            <a:ext cx="7002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59280" y="2997360"/>
            <a:ext cx="1079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75280" y="3429000"/>
            <a:ext cx="647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77080" y="2133720"/>
            <a:ext cx="70020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32720" y="2925720"/>
            <a:ext cx="10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948360" y="3357720"/>
            <a:ext cx="64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59280" y="2133720"/>
            <a:ext cx="1079280" cy="1866960"/>
            <a:chOff x="3059280" y="2133720"/>
            <a:chExt cx="1079280" cy="1866960"/>
          </a:xfrm>
        </p:grpSpPr>
        <p:sp>
          <p:nvSpPr>
            <p:cNvPr id="127" name=""/>
            <p:cNvSpPr txBox="1"/>
            <p:nvPr/>
          </p:nvSpPr>
          <p:spPr>
            <a:xfrm>
              <a:off x="3203640" y="213372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59280" y="2926080"/>
              <a:ext cx="10792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275280" y="335772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16000" y="2205000"/>
            <a:ext cx="1079640" cy="1866960"/>
            <a:chOff x="1116000" y="2205000"/>
            <a:chExt cx="1079640" cy="1866960"/>
          </a:xfrm>
        </p:grpSpPr>
        <p:sp>
          <p:nvSpPr>
            <p:cNvPr id="131" name=""/>
            <p:cNvSpPr txBox="1"/>
            <p:nvPr/>
          </p:nvSpPr>
          <p:spPr>
            <a:xfrm>
              <a:off x="1260360" y="2205000"/>
              <a:ext cx="700200" cy="64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116000" y="2997360"/>
              <a:ext cx="1079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-</a:t>
              </a:r>
              <a:endPara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332000" y="3429000"/>
              <a:ext cx="64764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203640" y="474336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472428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72428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b86e"/>
            </a:gs>
            <a:gs pos="50000">
              <a:srgbClr val="99ff99"/>
            </a:gs>
            <a:gs pos="100000">
              <a:srgbClr val="6e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907920"/>
            <a:ext cx="835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 коробке 10 карандашей,  7 из   них цветные, остальные простые. Какую часть всех карандашей   составляют цвет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1020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0364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6240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770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0400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6276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94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4357800"/>
            <a:ext cx="7923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4707000"/>
            <a:ext cx="4748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65480" y="3716280"/>
            <a:ext cx="51264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59280" y="4357800"/>
            <a:ext cx="79200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8040" y="4707000"/>
            <a:ext cx="4744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056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589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558972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8:58:04Z</dcterms:created>
  <dc:creator>2</dc:creator>
  <dc:description/>
  <dc:language>en-US</dc:language>
  <cp:lastModifiedBy>2</cp:lastModifiedBy>
  <dcterms:modified xsi:type="dcterms:W3CDTF">2003-02-26T09:52:45Z</dcterms:modified>
  <cp:revision>4</cp:revision>
  <dc:subject/>
  <dc:title>Слайд 1</dc:title>
</cp:coreProperties>
</file>