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gif" ContentType="image/gif"/>
  <Override PartName="/ppt/media/image10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7.wmf" ContentType="image/x-wmf"/>
  <Override PartName="/ppt/media/image5.wmf" ContentType="image/x-wmf"/>
  <Override PartName="/ppt/media/image4.png" ContentType="image/png"/>
  <Override PartName="/ppt/media/image24.gif" ContentType="image/gif"/>
  <Override PartName="/ppt/media/image6.wmf" ContentType="image/x-wmf"/>
  <Override PartName="/ppt/media/image23.wmf" ContentType="image/x-wmf"/>
  <Override PartName="/ppt/media/image3.gif" ContentType="image/gif"/>
  <Override PartName="/ppt/media/image22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4.gif" ContentType="image/gif"/>
  <Override PartName="/ppt/media/image1.png" ContentType="image/png"/>
  <Override PartName="/ppt/media/image21.gif" ContentType="image/gif"/>
  <Override PartName="/ppt/media/image1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4328-0008-40CE-9E38-3E526F39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3E07-57D2-4004-A2F8-36BE06F1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FCD0-59C3-4B68-8366-FA8E1C39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9B87-B969-45DD-AFD5-3E238CB9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F0DC-AC98-4992-8B42-8B790BB9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2690-AD90-4EA7-AB5D-53DAA9A8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E041-AA7B-44F4-B55B-A8837257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CD5B-EDBB-42A4-BC89-65C3B10F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B6D0-369F-480F-AA83-C0195513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0CDF-13E4-4CE8-8306-2B54FB25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C9D5-4235-47CA-9274-A428E8A7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3F47-6386-478A-9ED8-936F069E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B6BB-EBD4-415F-A875-A2AFAA93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D72D-74AA-488A-A955-EAA00C1B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B3ED-FE91-400D-BF63-22004179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16C6-B7F6-4318-BA0D-068B5502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67B4-6343-4530-9A01-CABEB0AF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D8C0-C944-4905-B81A-BB927203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6518-EEC9-4576-A1FE-19C26786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6805-F23E-42B6-B026-A4E2CF53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F5DD-7E1B-4D74-932F-77ACBA8C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49A9-D59B-4B61-B570-4FAF809E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0AFD-E928-44F4-8A7B-0AE7EE0C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D5E-D412-4066-BA0B-EB5AB32C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8F8C-C818-45CA-9DD3-6105F7E42AE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97FD-7BFE-4C7D-A7D7-F23F506F3B39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image" Target="../media/image18.gi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15"/>
          <p:cNvSpPr txBox="1"/>
          <p:nvPr/>
        </p:nvSpPr>
        <p:spPr>
          <a:xfrm>
            <a:off x="1905120" y="3962520"/>
            <a:ext cx="55623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елый уро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мати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Picture 17" descr="j0336917"/>
          <p:cNvPicPr/>
          <p:nvPr/>
        </p:nvPicPr>
        <p:blipFill>
          <a:blip r:embed="rId1"/>
          <a:stretch/>
        </p:blipFill>
        <p:spPr>
          <a:xfrm>
            <a:off x="4038480" y="990720"/>
            <a:ext cx="106992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4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animClr clrSpc="rgb">
                                      <p:cBhvr>
                                        <p:cTn id="1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set>
                                      <p:cBhvr>
                                        <p:cTn id="2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ugie"/>
              </a:rPr>
              <a:t>Игра «Обгонялки»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Иногда она происходит в жизни человека, и даже несколько раз. Она может касаться работы, учебы, места жительств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Особенно ее любят ученики, потому что у них они бывают каждый день, причем по нескольку раз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Иногда ученики их ждут не дождутся, потому что боятся «двойку» получить, иногда из-за лени не хотят учиться, иногда чтобы просто отдохнуть. И тогда звенит долгожданный звонок и начинается она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477120" y="586692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(Перемена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ugie"/>
              </a:rPr>
              <a:t>Игра «Обгонялки»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817704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Его тоже можно сложить из спичек или палочек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Это фигура такая, у которой четыре равные стороны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Так называется еще вторая степень числ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400440" y="5486400"/>
            <a:ext cx="2057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(квадрат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67652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augie"/>
              </a:rPr>
              <a:t>Физкультминутка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Picture 4" descr="j0303444"/>
          <p:cNvPicPr/>
          <p:nvPr/>
        </p:nvPicPr>
        <p:blipFill>
          <a:blip r:embed="rId1"/>
          <a:stretch/>
        </p:blipFill>
        <p:spPr>
          <a:xfrm>
            <a:off x="380880" y="4748040"/>
            <a:ext cx="4267440" cy="1643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j0303444"/>
          <p:cNvPicPr/>
          <p:nvPr/>
        </p:nvPicPr>
        <p:blipFill>
          <a:blip r:embed="rId2"/>
          <a:stretch/>
        </p:blipFill>
        <p:spPr>
          <a:xfrm flipH="1">
            <a:off x="4343400" y="4800600"/>
            <a:ext cx="4114800" cy="1584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j0283653"/>
          <p:cNvPicPr/>
          <p:nvPr/>
        </p:nvPicPr>
        <p:blipFill>
          <a:blip r:embed="rId3"/>
          <a:stretch/>
        </p:blipFill>
        <p:spPr>
          <a:xfrm>
            <a:off x="0" y="92160"/>
            <a:ext cx="1905120" cy="1709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j0283651"/>
          <p:cNvPicPr/>
          <p:nvPr/>
        </p:nvPicPr>
        <p:blipFill>
          <a:blip r:embed="rId4"/>
          <a:stretch/>
        </p:blipFill>
        <p:spPr>
          <a:xfrm flipH="1">
            <a:off x="7619760" y="228600"/>
            <a:ext cx="121284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58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9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93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94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59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00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01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60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0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0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0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61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61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2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3200"/>
                            </p:stCondLst>
                            <p:childTnLst>
                              <p:par>
                                <p:cTn id="62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2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63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5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6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3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4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ugie"/>
              </a:rPr>
              <a:t>Весёлые «Решалки»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657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ugie"/>
              </a:rPr>
              <a:t>Для 1 команд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ugie"/>
              </a:rPr>
              <a:t>   </a:t>
            </a:r>
            <a:r>
              <a:rPr b="1" lang="ru-RU" sz="2400" spc="-1" strike="noStrike">
                <a:solidFill>
                  <a:srgbClr val="ffff00"/>
                </a:solidFill>
                <a:latin typeface="augie"/>
              </a:rPr>
              <a:t>Длина одной третьей части сосиски равна 5 см. Какая длина всей сосиски? И сколько сантиметров сосиски останется, если откусить от неё две пятых её части?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24560" y="1905120"/>
            <a:ext cx="406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ugie"/>
              </a:rPr>
              <a:t>Для 2 команд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ugie"/>
              </a:rPr>
              <a:t>   </a:t>
            </a:r>
            <a:r>
              <a:rPr b="1" lang="ru-RU" sz="2400" spc="-1" strike="noStrike">
                <a:solidFill>
                  <a:srgbClr val="ffff00"/>
                </a:solidFill>
                <a:latin typeface="augie"/>
              </a:rPr>
              <a:t>Хулиган Петька пишет на заборе фразу из двух слов, в которых 15 букв. На каждые три буквы Петька тратит по 62 см забора и з см на пробел. Поместится ли на заборе фраза, если длина забора – 3м 16 см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1" name="Picture 8" descr="j0223777"/>
          <p:cNvPicPr/>
          <p:nvPr/>
        </p:nvPicPr>
        <p:blipFill>
          <a:blip r:embed="rId1"/>
          <a:stretch/>
        </p:blipFill>
        <p:spPr>
          <a:xfrm rot="21433800">
            <a:off x="396360" y="5911560"/>
            <a:ext cx="838440" cy="660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j0232853"/>
          <p:cNvPicPr/>
          <p:nvPr/>
        </p:nvPicPr>
        <p:blipFill>
          <a:blip r:embed="rId2"/>
          <a:stretch/>
        </p:blipFill>
        <p:spPr>
          <a:xfrm>
            <a:off x="7848720" y="5891040"/>
            <a:ext cx="776160" cy="6447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j0205402"/>
          <p:cNvPicPr/>
          <p:nvPr/>
        </p:nvPicPr>
        <p:blipFill>
          <a:blip r:embed="rId1"/>
          <a:stretch/>
        </p:blipFill>
        <p:spPr>
          <a:xfrm>
            <a:off x="6934320" y="228600"/>
            <a:ext cx="1942920" cy="1444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4419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99"/>
                </a:solidFill>
                <a:latin typeface="augie"/>
              </a:rPr>
              <a:t>Веселый счет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2286000"/>
          <a:ext cx="3733920" cy="3352680"/>
        </p:xfrm>
        <a:graphic>
          <a:graphicData uri="http://schemas.openxmlformats.org/drawingml/2006/table">
            <a:tbl>
              <a:tblPr/>
              <a:tblGrid>
                <a:gridCol w="746280"/>
                <a:gridCol w="747720"/>
                <a:gridCol w="745920"/>
                <a:gridCol w="747720"/>
                <a:gridCol w="74628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724280" y="2286000"/>
          <a:ext cx="4091040" cy="3352680"/>
        </p:xfrm>
        <a:graphic>
          <a:graphicData uri="http://schemas.openxmlformats.org/drawingml/2006/table">
            <a:tbl>
              <a:tblPr/>
              <a:tblGrid>
                <a:gridCol w="817560"/>
                <a:gridCol w="819360"/>
                <a:gridCol w="817560"/>
                <a:gridCol w="819000"/>
                <a:gridCol w="81756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</a:tbl>
          </a:graphicData>
        </a:graphic>
      </p:graphicFrame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99"/>
                </a:solidFill>
                <a:latin typeface="augie"/>
              </a:rPr>
              <a:t>Спасибо за урок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8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68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9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69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9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70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0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05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06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Газета «Математика» (приложение к газете «Первое сентября») №45 2001г. О.П.Власенко и др. «Школьные частушки. Выпуск - 2», Волгоград. Изд.  «Учитель». 2008г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Г. Остер «Задачник. Наглядное пособие по математике» (из серии «Вредные советы»),  г. Тверь 1992г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Журнал «Читаем, учимся, играем» №1 1007г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56386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2012г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905120"/>
            <a:ext cx="797724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Авторская разработка учителя математики Гладунец Ирины Владимировны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Муниципальное общеобразовательное учреждение гимназия №1 г. Лебедянь Липецкой област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ff"/>
                </a:solidFill>
                <a:latin typeface="augie"/>
              </a:rPr>
              <a:t>Выбираем название командам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8440" y="114264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66"/>
                </a:solidFill>
                <a:latin typeface="augie"/>
              </a:rPr>
              <a:t>«Пифагорчики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14640" y="1143000"/>
            <a:ext cx="2919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ugie"/>
              </a:rPr>
              <a:t>«Цифирята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1828800" y="1981080"/>
            <a:ext cx="7086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ugie"/>
              </a:rPr>
              <a:t>Сколько хвостов у семи котов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ugie"/>
              </a:rPr>
              <a:t>Сколько носов у двух псов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ugie"/>
              </a:rPr>
              <a:t>Сколько пальчиков у четырех мальчиков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ugie"/>
              </a:rPr>
              <a:t>Сколько ушей у пяти малышей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ugie"/>
              </a:rPr>
              <a:t>Сколько ушек у трех старушек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ugie"/>
              </a:rPr>
              <a:t>Что легче: 1 кг ваты или 1 кг железа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ugie"/>
              </a:rPr>
              <a:t>Когда журавль стоит на одной ноге, он весит 3 кг. Сколько весит журавль, когда встанет на две ноги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ugie"/>
              </a:rPr>
              <a:t>Одно яйцо варится 4 мин. Сколько варится 10 яиц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Picture 10" descr="j0215496"/>
          <p:cNvPicPr/>
          <p:nvPr/>
        </p:nvPicPr>
        <p:blipFill>
          <a:blip r:embed="rId9"/>
          <a:stretch/>
        </p:blipFill>
        <p:spPr>
          <a:xfrm>
            <a:off x="0" y="4191120"/>
            <a:ext cx="1698480" cy="2454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520" y="304560"/>
            <a:ext cx="350496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ugie"/>
              </a:rPr>
              <a:t>Размин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3300"/>
                </a:solidFill>
                <a:uFillTx/>
                <a:latin typeface="augie"/>
              </a:rPr>
              <a:t>1 команд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Times New Roman"/>
              </a:rPr>
              <a:t>За 10 минут Толя съедает 5 ложек супа. Конфет за это же время он съедает в 4 раза больше. Сколько конфет съедает Толя за 2 часа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Times New Roman"/>
              </a:rPr>
              <a:t>На Колю и Толю упал забор, который забодала коза Люська. На Колю упало две пятых части развалившегося на части забора. Сколько частей забора упало на Толю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Times New Roman"/>
              </a:rPr>
              <a:t>Два мальчика побежали навстречу друг другу по спортивной площадке, длина которой – 100 м, а ширина – 60 м. Один мальчик, бежал со скоростью 5 м/с, и второй бежал со скоростью 5 м/с. Через сколько секунд они столкнуться лбами?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4200" y="190476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3300"/>
                </a:solidFill>
                <a:uFillTx/>
                <a:latin typeface="augie"/>
              </a:rPr>
              <a:t>2 команд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Times New Roman"/>
              </a:rPr>
              <a:t>У Змея Тугарина – две головы, а Змея Горыныча – целых три. Во сколько раз Змей горыныч умнее Змея Тугарина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Times New Roman"/>
              </a:rPr>
              <a:t>Если в кастрюлю с 5 литрами горохового супа бросить мяч, 2 литра супа выплеснутся. Какая часть супа останется в кастрюле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Times New Roman"/>
              </a:rPr>
              <a:t>У осьминога 8 ног. Тремя парами ног он крепко держит трех водолазов. Сколько ног осталось у осьминога на то, чтобы поймать еще одного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Picture 6" descr="j0297199"/>
          <p:cNvPicPr/>
          <p:nvPr/>
        </p:nvPicPr>
        <p:blipFill>
          <a:blip r:embed="rId1"/>
          <a:stretch/>
        </p:blipFill>
        <p:spPr>
          <a:xfrm>
            <a:off x="3733920" y="3657600"/>
            <a:ext cx="923760" cy="1058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j0343373"/>
          <p:cNvPicPr/>
          <p:nvPr/>
        </p:nvPicPr>
        <p:blipFill>
          <a:blip r:embed="rId2"/>
          <a:srcRect l="0" t="0" r="0" b="27316"/>
          <a:stretch/>
        </p:blipFill>
        <p:spPr>
          <a:xfrm>
            <a:off x="7467480" y="1066680"/>
            <a:ext cx="1374840" cy="10731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5943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ugie"/>
              </a:rPr>
              <a:t>Игра «Рассуждалки»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augie"/>
              </a:rPr>
              <a:t>Для 1 команд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ugie"/>
              </a:rPr>
              <a:t>Бывает в предложении, на карте. У некоторых бывает в тетради и даже на лице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ugie"/>
              </a:rPr>
              <a:t>Это основная геометрическая фигура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ugie"/>
              </a:rPr>
              <a:t>Она есть и в русском языке, и любом другом языке, и ставится в конце предложени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ugie"/>
              </a:rPr>
              <a:t>(точка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augie"/>
              </a:rPr>
              <a:t>Для 2 команд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ugie"/>
              </a:rPr>
              <a:t>Бывает у дома, у шкафа и у парты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ugie"/>
              </a:rPr>
              <a:t>Там иногда находятся дети. Я и сам там тоже бываю. Об него можно удариться и посадить синяк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ugie"/>
              </a:rPr>
              <a:t>Это фигура, которая состоит из точки двух лучей, исходящих из этой точки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ugie"/>
              </a:rPr>
              <a:t>(угол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981080" y="5562720"/>
            <a:ext cx="228600" cy="2286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Oval 7"/>
          <p:cNvSpPr/>
          <p:nvPr/>
        </p:nvSpPr>
        <p:spPr>
          <a:xfrm>
            <a:off x="2819520" y="5562720"/>
            <a:ext cx="228600" cy="2286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Oval 8"/>
          <p:cNvSpPr/>
          <p:nvPr/>
        </p:nvSpPr>
        <p:spPr>
          <a:xfrm>
            <a:off x="2438280" y="5867280"/>
            <a:ext cx="228600" cy="2286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Freeform 9"/>
          <p:cNvSpPr/>
          <p:nvPr/>
        </p:nvSpPr>
        <p:spPr>
          <a:xfrm>
            <a:off x="2133720" y="6324480"/>
            <a:ext cx="761760" cy="152640"/>
          </a:xfrm>
          <a:custGeom>
            <a:avLst/>
            <a:gdLst/>
            <a:ahLst/>
            <a:rect l="l" t="t" r="r" b="b"/>
            <a:pathLst>
              <a:path w="480" h="96">
                <a:moveTo>
                  <a:pt x="0" y="0"/>
                </a:moveTo>
                <a:cubicBezTo>
                  <a:pt x="80" y="48"/>
                  <a:pt x="160" y="96"/>
                  <a:pt x="240" y="96"/>
                </a:cubicBezTo>
                <a:cubicBezTo>
                  <a:pt x="320" y="96"/>
                  <a:pt x="440" y="16"/>
                  <a:pt x="480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Oval 10"/>
          <p:cNvSpPr/>
          <p:nvPr/>
        </p:nvSpPr>
        <p:spPr>
          <a:xfrm>
            <a:off x="5791320" y="5943600"/>
            <a:ext cx="152280" cy="15228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Line 11"/>
          <p:cNvSpPr/>
          <p:nvPr/>
        </p:nvSpPr>
        <p:spPr>
          <a:xfrm flipV="1">
            <a:off x="5867280" y="5257440"/>
            <a:ext cx="1524240" cy="7621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5867280" y="6019920"/>
            <a:ext cx="1752840" cy="759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5410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ugie"/>
              </a:rPr>
              <a:t>Игра «Загадалки»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14240" y="1752480"/>
            <a:ext cx="48243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ugie"/>
              </a:rPr>
              <a:t>Для 1 команд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Есть у дроби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У бочки дно. Какое оно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Ставят в журнале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Диаметр есть у 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Её никто не любит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У квадрата все углы 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«Несчастное» число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Развернутый угол равен 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Что используют при счете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6" name="Picture 4" descr="j0288870"/>
          <p:cNvPicPr/>
          <p:nvPr/>
        </p:nvPicPr>
        <p:blipFill>
          <a:blip r:embed="rId1"/>
          <a:stretch/>
        </p:blipFill>
        <p:spPr>
          <a:xfrm>
            <a:off x="5943600" y="304920"/>
            <a:ext cx="87624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5410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ugie"/>
              </a:rPr>
              <a:t>Игра «Загадалки»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57040" y="182844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augie"/>
              </a:rPr>
              <a:t>Для 2 команд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Есть у двузначного и трехзначного числ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Действие, обратное умножению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Считается самым «счастливым» число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Если 9 умножить на 8 будет 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Её все любят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У прямоугольника все углы 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Задаю вопрос и получаю 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Используют при построении окружност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У треугольника их тр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Picture 4" descr="j0288870"/>
          <p:cNvPicPr/>
          <p:nvPr/>
        </p:nvPicPr>
        <p:blipFill>
          <a:blip r:embed="rId1"/>
          <a:stretch/>
        </p:blipFill>
        <p:spPr>
          <a:xfrm>
            <a:off x="6172200" y="152280"/>
            <a:ext cx="87624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7040" y="22824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augie"/>
              </a:rPr>
              <a:t>Юмористическая пауза:</a:t>
            </a:r>
            <a:br>
              <a:rPr sz="4400"/>
            </a:br>
            <a:r>
              <a:rPr b="1" lang="ru-RU" sz="4400" spc="-1" strike="noStrike">
                <a:solidFill>
                  <a:srgbClr val="3399ff"/>
                </a:solidFill>
                <a:latin typeface="augie"/>
              </a:rPr>
              <a:t>школьные частушк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Picture 4" descr="j0189251"/>
          <p:cNvPicPr/>
          <p:nvPr/>
        </p:nvPicPr>
        <p:blipFill>
          <a:blip r:embed="rId1"/>
          <a:stretch/>
        </p:blipFill>
        <p:spPr>
          <a:xfrm>
            <a:off x="152280" y="2286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j0283569"/>
          <p:cNvPicPr/>
          <p:nvPr/>
        </p:nvPicPr>
        <p:blipFill>
          <a:blip r:embed="rId2"/>
          <a:stretch/>
        </p:blipFill>
        <p:spPr>
          <a:xfrm>
            <a:off x="457200" y="1828800"/>
            <a:ext cx="1760400" cy="2176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j0283647"/>
          <p:cNvPicPr/>
          <p:nvPr/>
        </p:nvPicPr>
        <p:blipFill>
          <a:blip r:embed="rId3"/>
          <a:stretch/>
        </p:blipFill>
        <p:spPr>
          <a:xfrm flipH="1">
            <a:off x="2286000" y="1981080"/>
            <a:ext cx="1749600" cy="1952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j0283636"/>
          <p:cNvPicPr/>
          <p:nvPr/>
        </p:nvPicPr>
        <p:blipFill>
          <a:blip r:embed="rId4"/>
          <a:stretch/>
        </p:blipFill>
        <p:spPr>
          <a:xfrm>
            <a:off x="457200" y="4267080"/>
            <a:ext cx="1252440" cy="2124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j0283649"/>
          <p:cNvPicPr/>
          <p:nvPr/>
        </p:nvPicPr>
        <p:blipFill>
          <a:blip r:embed="rId5"/>
          <a:stretch/>
        </p:blipFill>
        <p:spPr>
          <a:xfrm>
            <a:off x="3581280" y="4343400"/>
            <a:ext cx="1597320" cy="2200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j0283641"/>
          <p:cNvPicPr/>
          <p:nvPr/>
        </p:nvPicPr>
        <p:blipFill>
          <a:blip r:embed="rId6"/>
          <a:stretch/>
        </p:blipFill>
        <p:spPr>
          <a:xfrm>
            <a:off x="4876920" y="2057400"/>
            <a:ext cx="949320" cy="2048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j0283646"/>
          <p:cNvPicPr/>
          <p:nvPr/>
        </p:nvPicPr>
        <p:blipFill>
          <a:blip r:embed="rId7"/>
          <a:stretch/>
        </p:blipFill>
        <p:spPr>
          <a:xfrm>
            <a:off x="6629400" y="2209680"/>
            <a:ext cx="2209680" cy="1627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j0288936"/>
          <p:cNvPicPr/>
          <p:nvPr/>
        </p:nvPicPr>
        <p:blipFill>
          <a:blip r:embed="rId8"/>
          <a:stretch/>
        </p:blipFill>
        <p:spPr>
          <a:xfrm>
            <a:off x="6477120" y="3892680"/>
            <a:ext cx="2666880" cy="2609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" descr="j0336767"/>
          <p:cNvPicPr/>
          <p:nvPr/>
        </p:nvPicPr>
        <p:blipFill>
          <a:blip r:embed="rId9"/>
          <a:stretch/>
        </p:blipFill>
        <p:spPr>
          <a:xfrm rot="20487000">
            <a:off x="1447920" y="4572000"/>
            <a:ext cx="1752480" cy="1596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9" descr="j0285266"/>
          <p:cNvPicPr/>
          <p:nvPr/>
        </p:nvPicPr>
        <p:blipFill>
          <a:blip r:embed="rId10"/>
          <a:stretch/>
        </p:blipFill>
        <p:spPr>
          <a:xfrm>
            <a:off x="5334120" y="4191120"/>
            <a:ext cx="2286000" cy="22399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ugie"/>
              </a:rPr>
              <a:t>Игра «Обгонялки»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8177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Некоторым хочется, чтобы он скорее кончался, и они были свободны, могли играть, бегать, а он никак не кончается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Кто-то их любит, а кто-то не любит, потому что на них надо много думать головой, писать, решать, отвечать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Иногда что-то делаешь-делаешь, а когда проверяют, то «двойку» поставят. Говорят, что неправильно решил задачу или примеры. А может быть времени не хватило, ведь он всего 45 минут длится.                          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934320" y="59432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imes New Roman"/>
              </a:rPr>
              <a:t>(урок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ugie"/>
              </a:rPr>
              <a:t>Игра «Обгонялки»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2476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Это такой крестик, который можно сделать из двух палочек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Такой знак есть на элементе питан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А в математике это знак действ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010280" y="5105520"/>
            <a:ext cx="15242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imes New Roman"/>
              </a:rPr>
              <a:t>(плюс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7T20:48:52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