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5.wmf" ContentType="image/x-wmf"/>
  <Override PartName="/ppt/media/image4.png" ContentType="image/png"/>
  <Override PartName="/ppt/media/image24.gif" ContentType="image/gif"/>
  <Override PartName="/ppt/media/image6.wmf" ContentType="image/x-wmf"/>
  <Override PartName="/ppt/media/image23.wmf" ContentType="image/x-wmf"/>
  <Override PartName="/ppt/media/image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1CF-642B-438F-BBBC-4CEC23F4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2BF-B731-4920-B3D1-E54287C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D41-132B-4DC4-A375-765A4A6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261-9F33-443D-9071-6B1F6CA1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59CD-5F16-4198-B13A-5656263D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0386-E267-4366-B29B-9C86CCE4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5782-3252-497B-9A42-B97EB30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EEE-94C5-4164-B448-4B22E40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BA7-B511-4F19-BAF0-AE46FE4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4F5-E68B-4AA0-B1A5-21ABF44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D80-0183-4C1C-8D7B-AFAA311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B55-3210-41E2-9BA9-1A77E9C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B44C-F02A-4B0F-B6E8-922CDE7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D96-A000-45AA-A443-CDF09F99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2540-5269-493B-8088-7985D99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138D-31EE-4F0A-BBF3-30A4344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08D9-8AC7-4B9E-A960-A082025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1B2-85F0-4209-9BC2-064B44C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273-C116-45C8-A0E6-2FC59D30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7A8-3222-4B42-B417-335737BC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AD8-CE21-4DAA-BB26-E9E0F3A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AD3-42A6-4BD0-88E2-741B980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9F9-FD20-4899-926C-BFF8B3C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1EB-F45F-4AC1-86DD-E15F848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6D4E-3BD9-4787-A93C-B320927701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41C9-DA76-454E-8DC7-562BFD58DE9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5"/>
          <p:cNvSpPr txBox="1"/>
          <p:nvPr/>
        </p:nvSpPr>
        <p:spPr>
          <a:xfrm>
            <a:off x="1905120" y="3962520"/>
            <a:ext cx="5562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й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17" descr="j0336917"/>
          <p:cNvPicPr/>
          <p:nvPr/>
        </p:nvPicPr>
        <p:blipFill>
          <a:blip r:embed="rId1"/>
          <a:stretch/>
        </p:blipFill>
        <p:spPr>
          <a:xfrm>
            <a:off x="4038480" y="990720"/>
            <a:ext cx="106992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она происходит в жизни человека, и даже несколько раз. Она может касаться работы, учебы, места житель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собенно ее любят ученики, потому что у них они бывают каждый день, причем по нескольку раз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ученики их ждут не дождутся, потому что боятся «двойку» получить, иногда из-за лени не хотят учиться, иногда чтобы просто отдохнуть. И тогда звенит долгожданный звонок и начинается о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77120" y="58669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Перемена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77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Его тоже можно сложить из спичек или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фигура такая, у которой четыре равные сторо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 называется еще вторая степень чис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400440" y="5486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квадрат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ugie"/>
              </a:rPr>
              <a:t>Физкультминутка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4" descr="j0303444"/>
          <p:cNvPicPr/>
          <p:nvPr/>
        </p:nvPicPr>
        <p:blipFill>
          <a:blip r:embed="rId1"/>
          <a:stretch/>
        </p:blipFill>
        <p:spPr>
          <a:xfrm>
            <a:off x="380880" y="4748040"/>
            <a:ext cx="4267440" cy="1643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303444"/>
          <p:cNvPicPr/>
          <p:nvPr/>
        </p:nvPicPr>
        <p:blipFill>
          <a:blip r:embed="rId2"/>
          <a:stretch/>
        </p:blipFill>
        <p:spPr>
          <a:xfrm flipH="1">
            <a:off x="4343400" y="4800600"/>
            <a:ext cx="411480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j0283653"/>
          <p:cNvPicPr/>
          <p:nvPr/>
        </p:nvPicPr>
        <p:blipFill>
          <a:blip r:embed="rId3"/>
          <a:stretch/>
        </p:blipFill>
        <p:spPr>
          <a:xfrm>
            <a:off x="0" y="9216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j0283651"/>
          <p:cNvPicPr/>
          <p:nvPr/>
        </p:nvPicPr>
        <p:blipFill>
          <a:blip r:embed="rId4"/>
          <a:stretch/>
        </p:blipFill>
        <p:spPr>
          <a:xfrm flipH="1">
            <a:off x="7619760" y="22860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0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6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6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6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6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Весёлые «Реш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657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Длина одной третьей части сосиски равна 5 см. Какая длина всей сосиски? И сколько сантиметров сосиски останется, если откусить от неё две пятых её части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4560" y="1905120"/>
            <a:ext cx="406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Хулиган Петька пишет на заборе фразу из двух слов, в которых 15 букв. На каждые три буквы Петька тратит по 62 см забора и з см на пробел. Поместится ли на заборе фраза, если длина забора – 3м 16 см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8" descr="j0223777"/>
          <p:cNvPicPr/>
          <p:nvPr/>
        </p:nvPicPr>
        <p:blipFill>
          <a:blip r:embed="rId1"/>
          <a:stretch/>
        </p:blipFill>
        <p:spPr>
          <a:xfrm rot="21433800">
            <a:off x="396360" y="5911560"/>
            <a:ext cx="838440" cy="66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232853"/>
          <p:cNvPicPr/>
          <p:nvPr/>
        </p:nvPicPr>
        <p:blipFill>
          <a:blip r:embed="rId2"/>
          <a:stretch/>
        </p:blipFill>
        <p:spPr>
          <a:xfrm>
            <a:off x="7848720" y="5891040"/>
            <a:ext cx="776160" cy="644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205402"/>
          <p:cNvPicPr/>
          <p:nvPr/>
        </p:nvPicPr>
        <p:blipFill>
          <a:blip r:embed="rId1"/>
          <a:stretch/>
        </p:blipFill>
        <p:spPr>
          <a:xfrm>
            <a:off x="6934320" y="228600"/>
            <a:ext cx="194292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ugie"/>
              </a:rPr>
              <a:t>Веселый сче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286000"/>
          <a:ext cx="3733920" cy="335268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747720"/>
                <a:gridCol w="7462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724280" y="2286000"/>
          <a:ext cx="4091040" cy="3352680"/>
        </p:xfrm>
        <a:graphic>
          <a:graphicData uri="http://schemas.openxmlformats.org/drawingml/2006/table">
            <a:tbl>
              <a:tblPr/>
              <a:tblGrid>
                <a:gridCol w="817560"/>
                <a:gridCol w="819360"/>
                <a:gridCol w="817560"/>
                <a:gridCol w="819000"/>
                <a:gridCol w="8175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99"/>
                </a:solidFill>
                <a:latin typeface="augie"/>
              </a:rPr>
              <a:t>Спасибо за урок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азета «Математика» (приложение к газете «Первое сентября») №45 2001г. О.П.Власенко и др. «Школьные частушки. Выпуск - 2», Волгоград. Изд.  «Учитель». 2008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. Остер «Задачник. Наглядное пособие по математике» (из серии «Вредные советы»),  г. Тверь 1992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 «Читаем, учимся, играем» №1 1007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5638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012г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905120"/>
            <a:ext cx="79772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вторская разработка учителя математики Гладунец Ирины Владимиров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униципальное общеобразовательное учреждение гимназия №1 г. Лебедянь Липецкой обла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ugie"/>
              </a:rPr>
              <a:t>Выбираем название команда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augie"/>
              </a:rPr>
              <a:t>«Пифагорчик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4640" y="1143000"/>
            <a:ext cx="2919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ugie"/>
              </a:rPr>
              <a:t>«Цифирята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28800" y="19810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хвостов у семи кот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носов у двух пс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пальчиков у четырех мальчик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й у пяти малыш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к у трех старушек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Что легче: 1 кг ваты или 1 кг железа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Когда журавль стоит на одной ноге, он весит 3 кг. Сколько весит журавль, когда встанет на две ноги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Одно яйцо варится 4 мин. Сколько варится 10 яиц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" descr="j0215496"/>
          <p:cNvPicPr/>
          <p:nvPr/>
        </p:nvPicPr>
        <p:blipFill>
          <a:blip r:embed="rId9"/>
          <a:stretch/>
        </p:blipFill>
        <p:spPr>
          <a:xfrm>
            <a:off x="0" y="4191120"/>
            <a:ext cx="169848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3504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Размин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1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За 10 минут Толя съедает 5 ложек супа. Конфет за это же время он съедает в 4 раза больше. Сколько конфет съедает Толя за 2 час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На Колю и Толю упал забор, который забодала коза Люська. На Колю упало две пятых части развалившегося на части забора. Сколько частей забора упало на Толю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Два мальчика побежали навстречу друг другу по спортивной площадке, длина которой – 100 м, а ширина – 60 м. Один мальчик, бежал со скоростью 5 м/с, и второй бежал со скоростью 5 м/с. Через сколько секунд они столкнуться лбами?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4200" y="19047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2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Змея Тугарина – две головы, а Змея Горыныча – целых три. Во сколько раз Змей горыныч умнее Змея Тугарин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Если в кастрюлю с 5 литрами горохового супа бросить мяч, 2 литра супа выплеснутся. Какая часть супа останется в кастрюле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осьминога 8 ног. Тремя парами ног он крепко держит трех водолазов. Сколько ног осталось у осьминога на то, чтобы поймать еще одного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6" descr="j0297199"/>
          <p:cNvPicPr/>
          <p:nvPr/>
        </p:nvPicPr>
        <p:blipFill>
          <a:blip r:embed="rId1"/>
          <a:stretch/>
        </p:blipFill>
        <p:spPr>
          <a:xfrm>
            <a:off x="3733920" y="3657600"/>
            <a:ext cx="923760" cy="105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j0343373"/>
          <p:cNvPicPr/>
          <p:nvPr/>
        </p:nvPicPr>
        <p:blipFill>
          <a:blip r:embed="rId2"/>
          <a:srcRect l="0" t="0" r="0" b="27316"/>
          <a:stretch/>
        </p:blipFill>
        <p:spPr>
          <a:xfrm>
            <a:off x="7467480" y="1066680"/>
            <a:ext cx="137484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Рассуж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в предложении, на карте. У некоторых бывает в тетради и даже на лиц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основная геометрическая фигур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Она есть и в русском языке, и любом другом языке, и ставится в конце предлож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точка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у дома, у шкафа и у парт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Там иногда находятся дети. Я и сам там тоже бываю. Об него можно удариться и посадить синяк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фигура, которая состоит из точки двух лучей, исходящих из этой точк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угол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98108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81952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2438280" y="586728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2133720" y="6324480"/>
            <a:ext cx="76176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0"/>
                </a:moveTo>
                <a:cubicBezTo>
                  <a:pt x="80" y="48"/>
                  <a:pt x="160" y="96"/>
                  <a:pt x="240" y="96"/>
                </a:cubicBezTo>
                <a:cubicBezTo>
                  <a:pt x="320" y="96"/>
                  <a:pt x="440" y="16"/>
                  <a:pt x="480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791320" y="5943600"/>
            <a:ext cx="152280" cy="1522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5867280" y="5257440"/>
            <a:ext cx="1524240" cy="7621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5867280" y="6019920"/>
            <a:ext cx="1752840" cy="75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4824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сть у дроб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бочки дно. Какое оно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тавят в журнал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иаметр есть у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никто не люби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квадрат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«Несчастное» числ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азвернутый угол равен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 используют при счете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j0288870"/>
          <p:cNvPicPr/>
          <p:nvPr/>
        </p:nvPicPr>
        <p:blipFill>
          <a:blip r:embed="rId1"/>
          <a:stretch/>
        </p:blipFill>
        <p:spPr>
          <a:xfrm>
            <a:off x="5943600" y="30492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ть у двузначного и трехзначного числ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йствие, обратное умножени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читается самым «счастливым» числ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ли 9 умножить на 8 будет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все любя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прямоугольник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адаю вопрос и получаю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спользуют при построении окруж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треугольника их тр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j0288870"/>
          <p:cNvPicPr/>
          <p:nvPr/>
        </p:nvPicPr>
        <p:blipFill>
          <a:blip r:embed="rId1"/>
          <a:stretch/>
        </p:blipFill>
        <p:spPr>
          <a:xfrm>
            <a:off x="6172200" y="15228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Юмористическая пауза:</a:t>
            </a:r>
            <a:br>
              <a:rPr sz="4400"/>
            </a:b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школьные частуш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j0189251"/>
          <p:cNvPicPr/>
          <p:nvPr/>
        </p:nvPicPr>
        <p:blipFill>
          <a:blip r:embed="rId1"/>
          <a:stretch/>
        </p:blipFill>
        <p:spPr>
          <a:xfrm>
            <a:off x="152280" y="228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283569"/>
          <p:cNvPicPr/>
          <p:nvPr/>
        </p:nvPicPr>
        <p:blipFill>
          <a:blip r:embed="rId2"/>
          <a:stretch/>
        </p:blipFill>
        <p:spPr>
          <a:xfrm>
            <a:off x="457200" y="1828800"/>
            <a:ext cx="1760400" cy="217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83647"/>
          <p:cNvPicPr/>
          <p:nvPr/>
        </p:nvPicPr>
        <p:blipFill>
          <a:blip r:embed="rId3"/>
          <a:stretch/>
        </p:blipFill>
        <p:spPr>
          <a:xfrm flipH="1">
            <a:off x="2286000" y="1981080"/>
            <a:ext cx="1749600" cy="19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636"/>
          <p:cNvPicPr/>
          <p:nvPr/>
        </p:nvPicPr>
        <p:blipFill>
          <a:blip r:embed="rId4"/>
          <a:stretch/>
        </p:blipFill>
        <p:spPr>
          <a:xfrm>
            <a:off x="457200" y="4267080"/>
            <a:ext cx="12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283649"/>
          <p:cNvPicPr/>
          <p:nvPr/>
        </p:nvPicPr>
        <p:blipFill>
          <a:blip r:embed="rId5"/>
          <a:stretch/>
        </p:blipFill>
        <p:spPr>
          <a:xfrm>
            <a:off x="3581280" y="4343400"/>
            <a:ext cx="1597320" cy="2200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283641"/>
          <p:cNvPicPr/>
          <p:nvPr/>
        </p:nvPicPr>
        <p:blipFill>
          <a:blip r:embed="rId6"/>
          <a:stretch/>
        </p:blipFill>
        <p:spPr>
          <a:xfrm>
            <a:off x="4876920" y="2057400"/>
            <a:ext cx="949320" cy="204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j0283646"/>
          <p:cNvPicPr/>
          <p:nvPr/>
        </p:nvPicPr>
        <p:blipFill>
          <a:blip r:embed="rId7"/>
          <a:stretch/>
        </p:blipFill>
        <p:spPr>
          <a:xfrm>
            <a:off x="6629400" y="2209680"/>
            <a:ext cx="2209680" cy="162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j0288936"/>
          <p:cNvPicPr/>
          <p:nvPr/>
        </p:nvPicPr>
        <p:blipFill>
          <a:blip r:embed="rId8"/>
          <a:stretch/>
        </p:blipFill>
        <p:spPr>
          <a:xfrm>
            <a:off x="6477120" y="3892680"/>
            <a:ext cx="266688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j0336767"/>
          <p:cNvPicPr/>
          <p:nvPr/>
        </p:nvPicPr>
        <p:blipFill>
          <a:blip r:embed="rId9"/>
          <a:stretch/>
        </p:blipFill>
        <p:spPr>
          <a:xfrm rot="20487000">
            <a:off x="14479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j0285266"/>
          <p:cNvPicPr/>
          <p:nvPr/>
        </p:nvPicPr>
        <p:blipFill>
          <a:blip r:embed="rId10"/>
          <a:stretch/>
        </p:blipFill>
        <p:spPr>
          <a:xfrm>
            <a:off x="5334120" y="4191120"/>
            <a:ext cx="228600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177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Некоторым хочется, чтобы он скорее кончался, и они были свободны, могли играть, бегать, а он никак не кончаетс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Кто-то их любит, а кто-то не любит, потому что на них надо много думать головой, писать, решать, отвеча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ногда что-то делаешь-делаешь, а когда проверяют, то «двойку» поставят. Говорят, что неправильно решил задачу или примеры. А может быть времени не хватило, ведь он всего 45 минут длится.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934320" y="5943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урок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247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такой крестик, который можно сделать из двух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ой знак есть на элементе пита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 в математике это знак действ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010280" y="5105520"/>
            <a:ext cx="1524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плюс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7T20:48:5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