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wmf" ContentType="image/x-wmf"/>
  <Override PartName="/ppt/media/image5.wmf" ContentType="image/x-wmf"/>
  <Override PartName="/ppt/media/image4.png" ContentType="image/png"/>
  <Override PartName="/ppt/media/image24.gif" ContentType="image/gif"/>
  <Override PartName="/ppt/media/image6.wmf" ContentType="image/x-wmf"/>
  <Override PartName="/ppt/media/image23.wmf" ContentType="image/x-wmf"/>
  <Override PartName="/ppt/media/image3.gif" ContentType="image/gif"/>
  <Override PartName="/ppt/media/image22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.png" ContentType="image/png"/>
  <Override PartName="/ppt/media/image21.gif" ContentType="image/gif"/>
  <Override PartName="/ppt/media/image1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9BB-A4D9-4F3E-A9D3-792CD8F0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9A99-4AD6-4579-8DA3-A51B050E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262-3DCE-4860-AC30-7FA4C555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D07-5170-466A-BBBD-DE16D9BE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9BC4-FA51-4E33-8816-9482E086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0E19-7FE6-4762-8063-804386A5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AD73-8DD8-492B-ACF0-F6A64663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D670-73CC-41A5-BE5D-24EF7682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6A5B-6FB8-4F6E-96EF-36D3BCAC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BC8F-C964-4DF3-9B84-FE403CFF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98D4-2BC1-4831-83F3-90CCE277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0957-3DB0-48D2-BD64-AE47A78F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20FE-A992-4FF1-8CE6-5F2A3864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CB24-CE24-4CE6-9626-530FED39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E420-E5A2-42FC-87D3-4F8B7D15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4ACA-8426-404D-AE46-DB0ACC2B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4E87-6029-4FBC-9C8A-A5BAF3B8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BC4-D85E-423D-AB0C-D26279FC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7F4-D9AA-4890-8C43-9AB64792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6ECD-7704-4B76-93F2-B3ED36DE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5E3-D2AA-44A4-959B-41E037AE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1943-A163-4AEF-A665-ED212872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A6C6-F77C-480F-84EC-11763240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8FA-0250-4EBE-B10B-284F5E83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4CAC-1980-4476-B427-15DC70FFB8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F0A8-C933-4A1B-84C8-E0D875D3F63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15"/>
          <p:cNvSpPr txBox="1"/>
          <p:nvPr/>
        </p:nvSpPr>
        <p:spPr>
          <a:xfrm>
            <a:off x="1905120" y="3962520"/>
            <a:ext cx="55623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елый уро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17" descr="j0336917"/>
          <p:cNvPicPr/>
          <p:nvPr/>
        </p:nvPicPr>
        <p:blipFill>
          <a:blip r:embed="rId1"/>
          <a:stretch/>
        </p:blipFill>
        <p:spPr>
          <a:xfrm>
            <a:off x="4038480" y="990720"/>
            <a:ext cx="106992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4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animClr clrSpc="rgb">
                                      <p:cBhvr>
                                        <p:cTn id="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2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Обгоня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Иногда она происходит в жизни человека, и даже несколько раз. Она может касаться работы, учебы, места жительств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Особенно ее любят ученики, потому что у них они бывают каждый день, причем по нескольку раз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Иногда ученики их ждут не дождутся, потому что боятся «двойку» получить, иногда из-за лени не хотят учиться, иногда чтобы просто отдохнуть. И тогда звенит долгожданный звонок и начинается она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477120" y="586692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(Перемена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Обгоня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1770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Его тоже можно сложить из спичек или палочек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Это фигура такая, у которой четыре равные стороны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Так называется еще вторая степень числ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400440" y="5486400"/>
            <a:ext cx="2057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(квадрат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7652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ugie"/>
              </a:rPr>
              <a:t>Физкультминутка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Picture 4" descr="j0303444"/>
          <p:cNvPicPr/>
          <p:nvPr/>
        </p:nvPicPr>
        <p:blipFill>
          <a:blip r:embed="rId1"/>
          <a:stretch/>
        </p:blipFill>
        <p:spPr>
          <a:xfrm>
            <a:off x="380880" y="4748040"/>
            <a:ext cx="4267440" cy="1643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j0303444"/>
          <p:cNvPicPr/>
          <p:nvPr/>
        </p:nvPicPr>
        <p:blipFill>
          <a:blip r:embed="rId2"/>
          <a:stretch/>
        </p:blipFill>
        <p:spPr>
          <a:xfrm flipH="1">
            <a:off x="4343400" y="4800600"/>
            <a:ext cx="4114800" cy="1584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j0283653"/>
          <p:cNvPicPr/>
          <p:nvPr/>
        </p:nvPicPr>
        <p:blipFill>
          <a:blip r:embed="rId3"/>
          <a:stretch/>
        </p:blipFill>
        <p:spPr>
          <a:xfrm>
            <a:off x="0" y="92160"/>
            <a:ext cx="1905120" cy="1709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j0283651"/>
          <p:cNvPicPr/>
          <p:nvPr/>
        </p:nvPicPr>
        <p:blipFill>
          <a:blip r:embed="rId4"/>
          <a:stretch/>
        </p:blipFill>
        <p:spPr>
          <a:xfrm flipH="1">
            <a:off x="7619760" y="228600"/>
            <a:ext cx="121284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58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9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59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0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60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0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61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61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3200"/>
                            </p:stCondLst>
                            <p:childTnLst>
                              <p:par>
                                <p:cTn id="6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63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Весёлые «Реша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657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ugie"/>
              </a:rPr>
              <a:t>Для 1 команд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ugie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augie"/>
              </a:rPr>
              <a:t>Длина одной третьей части сосиски равна 5 см. Какая длина всей сосиски? И сколько сантиметров сосиски останется, если откусить от неё две пятых её части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4560" y="1905120"/>
            <a:ext cx="406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ugie"/>
              </a:rPr>
              <a:t>Для 2 команд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ugie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augie"/>
              </a:rPr>
              <a:t>Хулиган Петька пишет на заборе фразу из двух слов, в которых 15 букв. На каждые три буквы Петька тратит по 62 см забора и з см на пробел. Поместится ли на заборе фраза, если длина забора – 3м 16 см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8" descr="j0223777"/>
          <p:cNvPicPr/>
          <p:nvPr/>
        </p:nvPicPr>
        <p:blipFill>
          <a:blip r:embed="rId1"/>
          <a:stretch/>
        </p:blipFill>
        <p:spPr>
          <a:xfrm rot="21433800">
            <a:off x="396360" y="5911560"/>
            <a:ext cx="838440" cy="660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j0232853"/>
          <p:cNvPicPr/>
          <p:nvPr/>
        </p:nvPicPr>
        <p:blipFill>
          <a:blip r:embed="rId2"/>
          <a:stretch/>
        </p:blipFill>
        <p:spPr>
          <a:xfrm>
            <a:off x="7848720" y="5891040"/>
            <a:ext cx="776160" cy="6447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j0205402"/>
          <p:cNvPicPr/>
          <p:nvPr/>
        </p:nvPicPr>
        <p:blipFill>
          <a:blip r:embed="rId1"/>
          <a:stretch/>
        </p:blipFill>
        <p:spPr>
          <a:xfrm>
            <a:off x="6934320" y="228600"/>
            <a:ext cx="1942920" cy="1444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419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augie"/>
              </a:rPr>
              <a:t>Веселый счет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2286000"/>
          <a:ext cx="3733920" cy="3352680"/>
        </p:xfrm>
        <a:graphic>
          <a:graphicData uri="http://schemas.openxmlformats.org/drawingml/2006/table">
            <a:tbl>
              <a:tblPr/>
              <a:tblGrid>
                <a:gridCol w="746280"/>
                <a:gridCol w="747720"/>
                <a:gridCol w="745920"/>
                <a:gridCol w="747720"/>
                <a:gridCol w="74628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724280" y="2286000"/>
          <a:ext cx="4091040" cy="3352680"/>
        </p:xfrm>
        <a:graphic>
          <a:graphicData uri="http://schemas.openxmlformats.org/drawingml/2006/table">
            <a:tbl>
              <a:tblPr/>
              <a:tblGrid>
                <a:gridCol w="817560"/>
                <a:gridCol w="819360"/>
                <a:gridCol w="817560"/>
                <a:gridCol w="819000"/>
                <a:gridCol w="81756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</a:tbl>
          </a:graphicData>
        </a:graphic>
      </p:graphicFrame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99"/>
                </a:solidFill>
                <a:latin typeface="augie"/>
              </a:rPr>
              <a:t>Спасибо за урок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8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68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69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70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0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0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0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азета «Математика» (приложение к газете «Первое сентября») №45 2001г. О.П.Власенко и др. «Школьные частушки. Выпуск - 2», Волгоград. Изд.  «Учитель». 2008г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. Остер «Задачник. Наглядное пособие по математике» (из серии «Вредные советы»),  г. Тверь 1992г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Журнал «Читаем, учимся, играем» №1 1007г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56386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2012г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905120"/>
            <a:ext cx="797724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вторская разработка учителя математики Гладунец Ирины Владимировны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униципальное общеобразовательное учреждение гимназия №1 г. Лебедянь Липецкой област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ff"/>
                </a:solidFill>
                <a:latin typeface="augie"/>
              </a:rPr>
              <a:t>Выбираем название командам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440" y="11426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augie"/>
              </a:rPr>
              <a:t>«Пифагорчики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4640" y="1143000"/>
            <a:ext cx="2919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ugie"/>
              </a:rPr>
              <a:t>«Цифирята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828800" y="1981080"/>
            <a:ext cx="7086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Сколько хвостов у семи котов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Сколько носов у двух псов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Сколько пальчиков у четырех мальчиков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Сколько ушей у пяти малышей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Сколько ушек у трех старушек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Что легче: 1 кг ваты или 1 кг железа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Когда журавль стоит на одной ноге, он весит 3 кг. Сколько весит журавль, когда встанет на две ноги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ugie"/>
              </a:rPr>
              <a:t>Одно яйцо варится 4 мин. Сколько варится 10 яиц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10" descr="j0215496"/>
          <p:cNvPicPr/>
          <p:nvPr/>
        </p:nvPicPr>
        <p:blipFill>
          <a:blip r:embed="rId9"/>
          <a:stretch/>
        </p:blipFill>
        <p:spPr>
          <a:xfrm>
            <a:off x="0" y="4191120"/>
            <a:ext cx="1698480" cy="2454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520" y="304560"/>
            <a:ext cx="35049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Размин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3300"/>
                </a:solidFill>
                <a:uFillTx/>
                <a:latin typeface="augie"/>
              </a:rPr>
              <a:t>1 коман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За 10 минут Толя съедает 5 ложек супа. Конфет за это же время он съедает в 4 раза больше. Сколько конфет съедает Толя за 2 часа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На Колю и Толю упал забор, который забодала коза Люська. На Колю упало две пятых части развалившегося на части забора. Сколько частей забора упало на Толю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Два мальчика побежали навстречу друг другу по спортивной площадке, длина которой – 100 м, а ширина – 60 м. Один мальчик, бежал со скоростью 5 м/с, и второй бежал со скоростью 5 м/с. Через сколько секунд они столкнуться лбами?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4200" y="19047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3300"/>
                </a:solidFill>
                <a:uFillTx/>
                <a:latin typeface="augie"/>
              </a:rPr>
              <a:t>2 коман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У Змея Тугарина – две головы, а Змея Горыныча – целых три. Во сколько раз Змей горыныч умнее Змея Тугарина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Если в кастрюлю с 5 литрами горохового супа бросить мяч, 2 литра супа выплеснутся. Какая часть супа останется в кастрюле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У осьминога 8 ног. Тремя парами ног он крепко держит трех водолазов. Сколько ног осталось у осьминога на то, чтобы поймать еще одного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6" descr="j0297199"/>
          <p:cNvPicPr/>
          <p:nvPr/>
        </p:nvPicPr>
        <p:blipFill>
          <a:blip r:embed="rId1"/>
          <a:stretch/>
        </p:blipFill>
        <p:spPr>
          <a:xfrm>
            <a:off x="3733920" y="3657600"/>
            <a:ext cx="923760" cy="1058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j0343373"/>
          <p:cNvPicPr/>
          <p:nvPr/>
        </p:nvPicPr>
        <p:blipFill>
          <a:blip r:embed="rId2"/>
          <a:srcRect l="0" t="0" r="0" b="27316"/>
          <a:stretch/>
        </p:blipFill>
        <p:spPr>
          <a:xfrm>
            <a:off x="7467480" y="1066680"/>
            <a:ext cx="1374840" cy="1073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943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Рассужда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ugie"/>
              </a:rPr>
              <a:t>Для 1 коман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ugie"/>
              </a:rPr>
              <a:t>Бывает в предложении, на карте. У некоторых бывает в тетради и даже на лиц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ugie"/>
              </a:rPr>
              <a:t>Это основная геометрическая фигур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ugie"/>
              </a:rPr>
              <a:t>Она есть и в русском языке, и любом другом языке, и ставится в конце предложени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ugie"/>
              </a:rPr>
              <a:t>(точка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ugie"/>
              </a:rPr>
              <a:t>Для 2 коман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ugie"/>
              </a:rPr>
              <a:t>Бывает у дома, у шкафа и у парты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ugie"/>
              </a:rPr>
              <a:t>Там иногда находятся дети. Я и сам там тоже бываю. Об него можно удариться и посадить синяк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ugie"/>
              </a:rPr>
              <a:t>Это фигура, которая состоит из точки двух лучей, исходящих из этой точк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ugie"/>
              </a:rPr>
              <a:t>(угол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981080" y="5562720"/>
            <a:ext cx="228600" cy="2286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2819520" y="5562720"/>
            <a:ext cx="228600" cy="2286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2438280" y="5867280"/>
            <a:ext cx="228600" cy="2286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Freeform 9"/>
          <p:cNvSpPr/>
          <p:nvPr/>
        </p:nvSpPr>
        <p:spPr>
          <a:xfrm>
            <a:off x="2133720" y="6324480"/>
            <a:ext cx="761760" cy="152640"/>
          </a:xfrm>
          <a:custGeom>
            <a:avLst/>
            <a:gdLst/>
            <a:ahLst/>
            <a:rect l="l" t="t" r="r" b="b"/>
            <a:pathLst>
              <a:path w="480" h="96">
                <a:moveTo>
                  <a:pt x="0" y="0"/>
                </a:moveTo>
                <a:cubicBezTo>
                  <a:pt x="80" y="48"/>
                  <a:pt x="160" y="96"/>
                  <a:pt x="240" y="96"/>
                </a:cubicBezTo>
                <a:cubicBezTo>
                  <a:pt x="320" y="96"/>
                  <a:pt x="440" y="16"/>
                  <a:pt x="480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Oval 10"/>
          <p:cNvSpPr/>
          <p:nvPr/>
        </p:nvSpPr>
        <p:spPr>
          <a:xfrm>
            <a:off x="5791320" y="5943600"/>
            <a:ext cx="152280" cy="15228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 flipV="1">
            <a:off x="5867280" y="5257440"/>
            <a:ext cx="1524240" cy="7621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5867280" y="6019920"/>
            <a:ext cx="1752840" cy="759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410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Загада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14240" y="1752480"/>
            <a:ext cx="48243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ugie"/>
              </a:rPr>
              <a:t>Для 1 команд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Есть у дроби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У бочки дно. Какое оно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Ставят в журнал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Диаметр есть у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Её никто не любит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У квадрата все углы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«Несчастное» числ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Развернутый угол равен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Что используют при счете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Picture 4" descr="j0288870"/>
          <p:cNvPicPr/>
          <p:nvPr/>
        </p:nvPicPr>
        <p:blipFill>
          <a:blip r:embed="rId1"/>
          <a:stretch/>
        </p:blipFill>
        <p:spPr>
          <a:xfrm>
            <a:off x="5943600" y="304920"/>
            <a:ext cx="87624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410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Загада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7040" y="18284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ugie"/>
              </a:rPr>
              <a:t>Для 2 коман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Есть у двузначного и трехзначного числ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Действие, обратное умножению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Считается самым «счастливым» число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Если 9 умножить на 8 будет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Её все любят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У прямоугольника все углы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Задаю вопрос и получаю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Используют при построении окружност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У треугольника их тр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4" descr="j0288870"/>
          <p:cNvPicPr/>
          <p:nvPr/>
        </p:nvPicPr>
        <p:blipFill>
          <a:blip r:embed="rId1"/>
          <a:stretch/>
        </p:blipFill>
        <p:spPr>
          <a:xfrm>
            <a:off x="6172200" y="152280"/>
            <a:ext cx="87624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augie"/>
              </a:rPr>
              <a:t>Юмористическая пауза:</a:t>
            </a:r>
            <a:br>
              <a:rPr sz="4400"/>
            </a:br>
            <a:r>
              <a:rPr b="1" lang="ru-RU" sz="4400" spc="-1" strike="noStrike">
                <a:solidFill>
                  <a:srgbClr val="3399ff"/>
                </a:solidFill>
                <a:latin typeface="augie"/>
              </a:rPr>
              <a:t>школьные частуш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4" descr="j0189251"/>
          <p:cNvPicPr/>
          <p:nvPr/>
        </p:nvPicPr>
        <p:blipFill>
          <a:blip r:embed="rId1"/>
          <a:stretch/>
        </p:blipFill>
        <p:spPr>
          <a:xfrm>
            <a:off x="152280" y="2286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j0283569"/>
          <p:cNvPicPr/>
          <p:nvPr/>
        </p:nvPicPr>
        <p:blipFill>
          <a:blip r:embed="rId2"/>
          <a:stretch/>
        </p:blipFill>
        <p:spPr>
          <a:xfrm>
            <a:off x="457200" y="1828800"/>
            <a:ext cx="1760400" cy="2176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j0283647"/>
          <p:cNvPicPr/>
          <p:nvPr/>
        </p:nvPicPr>
        <p:blipFill>
          <a:blip r:embed="rId3"/>
          <a:stretch/>
        </p:blipFill>
        <p:spPr>
          <a:xfrm flipH="1">
            <a:off x="2286000" y="1981080"/>
            <a:ext cx="1749600" cy="1952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j0283636"/>
          <p:cNvPicPr/>
          <p:nvPr/>
        </p:nvPicPr>
        <p:blipFill>
          <a:blip r:embed="rId4"/>
          <a:stretch/>
        </p:blipFill>
        <p:spPr>
          <a:xfrm>
            <a:off x="457200" y="4267080"/>
            <a:ext cx="1252440" cy="212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j0283649"/>
          <p:cNvPicPr/>
          <p:nvPr/>
        </p:nvPicPr>
        <p:blipFill>
          <a:blip r:embed="rId5"/>
          <a:stretch/>
        </p:blipFill>
        <p:spPr>
          <a:xfrm>
            <a:off x="3581280" y="4343400"/>
            <a:ext cx="1597320" cy="2200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j0283641"/>
          <p:cNvPicPr/>
          <p:nvPr/>
        </p:nvPicPr>
        <p:blipFill>
          <a:blip r:embed="rId6"/>
          <a:stretch/>
        </p:blipFill>
        <p:spPr>
          <a:xfrm>
            <a:off x="4876920" y="2057400"/>
            <a:ext cx="949320" cy="2048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j0283646"/>
          <p:cNvPicPr/>
          <p:nvPr/>
        </p:nvPicPr>
        <p:blipFill>
          <a:blip r:embed="rId7"/>
          <a:stretch/>
        </p:blipFill>
        <p:spPr>
          <a:xfrm>
            <a:off x="6629400" y="2209680"/>
            <a:ext cx="2209680" cy="1627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j0288936"/>
          <p:cNvPicPr/>
          <p:nvPr/>
        </p:nvPicPr>
        <p:blipFill>
          <a:blip r:embed="rId8"/>
          <a:stretch/>
        </p:blipFill>
        <p:spPr>
          <a:xfrm>
            <a:off x="6477120" y="3892680"/>
            <a:ext cx="2666880" cy="260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j0336767"/>
          <p:cNvPicPr/>
          <p:nvPr/>
        </p:nvPicPr>
        <p:blipFill>
          <a:blip r:embed="rId9"/>
          <a:stretch/>
        </p:blipFill>
        <p:spPr>
          <a:xfrm rot="20487000">
            <a:off x="1447920" y="4572000"/>
            <a:ext cx="1752480" cy="1596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9" descr="j0285266"/>
          <p:cNvPicPr/>
          <p:nvPr/>
        </p:nvPicPr>
        <p:blipFill>
          <a:blip r:embed="rId10"/>
          <a:stretch/>
        </p:blipFill>
        <p:spPr>
          <a:xfrm>
            <a:off x="5334120" y="4191120"/>
            <a:ext cx="2286000" cy="22399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Обгоня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8177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Некоторым хочется, чтобы он скорее кончался, и они были свободны, могли играть, бегать, а он никак не кончается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Кто-то их любит, а кто-то не любит, потому что на них надо много думать головой, писать, решать, отвечат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Иногда что-то делаешь-делаешь, а когда проверяют, то «двойку» поставят. Говорят, что неправильно решил задачу или примеры. А может быть времени не хватило, ведь он всего 45 минут длится.                   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934320" y="59432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(урок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ugie"/>
              </a:rPr>
              <a:t>Игра «Обгонялки»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2476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Это такой крестик, который можно сделать из двух палочек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Такой знак есть на элементе питан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А в математике это знак действ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010280" y="5105520"/>
            <a:ext cx="15242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(плюс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7T20:48:5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