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2B7-FF69-4CCD-A4F9-78987D33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608-B99E-4388-AD39-6325603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54F-B9E0-4DC6-86F4-12DF9EED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EED-02D9-40FF-B896-04EC0BE6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E45B-9D31-44A2-91DC-81C863DC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6163-A16E-4C11-AFB1-EE797744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A55C-A6F9-4E7F-95A1-3CB4D19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02C7-AAB8-4E8E-909E-B525F3E8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E305-B256-4B1E-B1EF-90A788EF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3B9E-C656-4D3C-8CD8-98F3F70D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00EC-0EF9-405C-B98E-2D5D2799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788-FDE3-4E25-A462-25DB33C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2A4F-E679-4701-AE67-CBA7FC8D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BAA0-72A3-4E7F-86B1-4B5E883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A8E6-E994-4938-9216-D1453965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2DFD-A7DF-4343-AAAF-592CC312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E037-1996-46BB-93C0-9AE08622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81B7-98D9-4347-A6CD-B82901A9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385E-9B9B-4D65-92FC-FBC0437D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9649-A515-49EC-A914-435B421D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A5E0-BF2B-4DC7-A495-8AF97C9E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F8A7-8D2C-4116-A1D0-5F3DF789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5C1-0029-4722-9122-8442C149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060A-9863-4E19-B428-2E5B483E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CC72-8D0F-446A-ADAF-8E1414D6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23A2-E94C-4E28-93C6-0C7111A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41DD-A140-46EE-96F1-883004D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F24E-C756-41FA-953B-42DDEB89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FB09-80EF-4949-BB9C-0709CD53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1BF5-FAA1-49CE-B21B-D841550E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8DB42-1863-4AD7-802D-309D468A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9316-D0A1-4EA0-9FD0-A6B3E039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3652-BDF7-496B-BCA7-7BD4192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0A0-23A8-4BCB-9A4B-025AC5B6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E279-C867-4166-90E9-A08DBDC3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43E9-FEF8-4D7D-896A-92043A81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83BC-E9FA-4A05-9D5C-9049D1D3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1BA54-FB07-4FF4-B8B2-FEDD8F3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99DC-00F9-47FB-B877-FC357943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8349-C7DC-43E6-AB7F-F67736F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C00B3-5722-4938-AF27-5B00EFC5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23E1-F802-4E28-8B81-46D3CAB6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8EB3B-9AF0-421D-A967-63FBE440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1A0-D703-410E-9C1A-2E34F84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239-F5D1-4C8B-A686-92F2292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85B-A455-4227-A251-48B0A81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193-F440-452F-A0E8-04F7EBD6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2E0-C06D-4DAA-8A82-7EF6836E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9840" y="434520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36879F-0DE9-4E97-89DB-948BF3F291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7760" y="1290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4DD4C2-8DB6-4196-B248-32DCF9BA50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B27E83-EE80-47DA-B168-7EF20AF9A36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90188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2722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190188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94041E-90AC-4C06-BC3D-BF44C2633D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5120" y="480348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 и рынок рабочей си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07200" y="5719680"/>
            <a:ext cx="8245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Автор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Добровольская Елена Владимиров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учитель истории и обществознания МАОУ «СШ № 19» г. Хабаровс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Презентация по экономик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для учащихся 10 класса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628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800" y="5567040"/>
            <a:ext cx="5793120" cy="127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3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экономически активное население в трудоспособном возрасте (с 16 до пенсионного возраст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Прямая со стрелкой 4"/>
          <p:cNvCxnSpPr/>
          <p:nvPr/>
        </p:nvCxnSpPr>
        <p:spPr>
          <a:xfrm flipH="1">
            <a:off x="2739240" y="1013400"/>
            <a:ext cx="803520" cy="5832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0" name="Прямая со стрелкой 6"/>
          <p:cNvCxnSpPr/>
          <p:nvPr/>
        </p:nvCxnSpPr>
        <p:spPr>
          <a:xfrm flipH="1">
            <a:off x="1365120" y="2529720"/>
            <a:ext cx="763920" cy="5940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1" name="Прямая со стрелкой 7"/>
          <p:cNvCxnSpPr/>
          <p:nvPr/>
        </p:nvCxnSpPr>
        <p:spPr>
          <a:xfrm>
            <a:off x="6404400" y="1019520"/>
            <a:ext cx="1374480" cy="929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Прямоугольник 10"/>
          <p:cNvSpPr/>
          <p:nvPr/>
        </p:nvSpPr>
        <p:spPr>
          <a:xfrm>
            <a:off x="6102360" y="1948680"/>
            <a:ext cx="2988720" cy="944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Ост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71240" y="1606680"/>
            <a:ext cx="4231440" cy="9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Рабочая 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2"/>
          <p:cNvSpPr/>
          <p:nvPr/>
        </p:nvSpPr>
        <p:spPr>
          <a:xfrm>
            <a:off x="2035080" y="92160"/>
            <a:ext cx="5755320" cy="9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Население стра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3"/>
          <p:cNvCxnSpPr/>
          <p:nvPr/>
        </p:nvCxnSpPr>
        <p:spPr>
          <a:xfrm>
            <a:off x="2518560" y="2548800"/>
            <a:ext cx="831960" cy="5749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6" name="Прямоугольник 18"/>
          <p:cNvSpPr/>
          <p:nvPr/>
        </p:nvSpPr>
        <p:spPr>
          <a:xfrm>
            <a:off x="624960" y="3123720"/>
            <a:ext cx="131112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заня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>
            <a:off x="3034800" y="3123720"/>
            <a:ext cx="198900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безраб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25"/>
          <p:cNvCxnSpPr>
            <a:stCxn id="216" idx="2"/>
          </p:cNvCxnSpPr>
          <p:nvPr/>
        </p:nvCxnSpPr>
        <p:spPr>
          <a:xfrm>
            <a:off x="1280520" y="3585240"/>
            <a:ext cx="360" cy="371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9" name="Прямоугольник 28"/>
          <p:cNvSpPr/>
          <p:nvPr/>
        </p:nvSpPr>
        <p:spPr>
          <a:xfrm>
            <a:off x="30600" y="3965760"/>
            <a:ext cx="3083040" cy="11883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наемные работ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предпринима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военнослу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29"/>
          <p:cNvCxnSpPr/>
          <p:nvPr/>
        </p:nvCxnSpPr>
        <p:spPr>
          <a:xfrm>
            <a:off x="6862320" y="2899440"/>
            <a:ext cx="360" cy="4406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1" name="Прямоугольник 30"/>
          <p:cNvSpPr/>
          <p:nvPr/>
        </p:nvSpPr>
        <p:spPr>
          <a:xfrm>
            <a:off x="5946480" y="3339720"/>
            <a:ext cx="2940840" cy="155412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студенты-оч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пенсион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домохозяй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неищущие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32"/>
          <p:cNvCxnSpPr/>
          <p:nvPr/>
        </p:nvCxnSpPr>
        <p:spPr>
          <a:xfrm>
            <a:off x="4266360" y="3593880"/>
            <a:ext cx="360" cy="371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Прямоугольник 33"/>
          <p:cNvSpPr/>
          <p:nvPr/>
        </p:nvSpPr>
        <p:spPr>
          <a:xfrm>
            <a:off x="3244320" y="3965760"/>
            <a:ext cx="234792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ищущие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Скругленная соединительная линия 35"/>
          <p:cNvCxnSpPr/>
          <p:nvPr/>
        </p:nvCxnSpPr>
        <p:spPr>
          <a:xfrm flipV="1" rot="10800000">
            <a:off x="142920" y="2548440"/>
            <a:ext cx="307440" cy="3018240"/>
          </a:xfrm>
          <a:prstGeom prst="curved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43640" y="68040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ЧАЯ СИЛА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ТРУ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рно ли утвержд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ясни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7">
            <a:hlinkClick r:id="rId1" action="ppaction://hlinksldjump"/>
          </p:cNvPr>
          <p:cNvSpPr/>
          <p:nvPr/>
        </p:nvSpPr>
        <p:spPr>
          <a:xfrm>
            <a:off x="143640" y="480348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u="sng">
                <a:solidFill>
                  <a:schemeClr val="dk1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обенности рынка рабочей силы (РТ – рынок труда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звитых странах РТ в относительном равновесии (безработица от 2 до 12 %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устойчивость РТ в развивающихся странах   ( безработица от 20 % и выш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ормированный рынок труда в новых капиталистических странах (СНГ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8920" y="427320"/>
            <a:ext cx="7779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казатели качество рабочий сил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703720" cy="51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штаб и уровень развития националь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научно-технологическое развитие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ра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чих и инженеров, наличие разработчиков ид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и масштаб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тия нау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работная пла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бщ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ая обеспеч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еловеческий капит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0931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вышается важность образования и на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бразование, обучение, повышение квалификации – необходимость (Образование через всю жизнь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Физическое здоровье (3 часа физкультуры в школе, нормы ГТО, всеобщие медосмотры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http://takzdorovo-to.ru/upload/iblock/399/399d5c69a4b13c11d3e00337a6bc9528.jpg"/>
          <p:cNvPicPr/>
          <p:nvPr/>
        </p:nvPicPr>
        <p:blipFill>
          <a:blip r:embed="rId1"/>
          <a:stretch/>
        </p:blipFill>
        <p:spPr>
          <a:xfrm>
            <a:off x="754200" y="5108760"/>
            <a:ext cx="122112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6280" y="427320"/>
            <a:ext cx="7932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ынок тр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ость всех рабочих мест в ст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ость экономических отношений при покупке и продаже рабочей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8920" y="680400"/>
            <a:ext cx="777924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ля рынка труда характерно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6280" y="1138320"/>
            <a:ext cx="7176600" cy="38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бодное движение рабочей силы между предприятиями в одном регионе, между отраслями в масштабе стра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ая многоярусная структура (конкурентный и монополизированный, профсоюзный и государственный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196560" y="4650480"/>
            <a:ext cx="5955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раясь на свой опыт и знания, используя учебник, охарактеризуйте российский рынок труда  по данным условиям (учебник стр. 123-1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втори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6280" y="1290960"/>
            <a:ext cx="716868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йте определение понятий «труд», «рабочая си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современные требования предъявляют к рабочей си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рынок труда? В чем его отличия от других рын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каких факторов может зависеть оплата труда работника?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6280" y="527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ученик 10 класса скоро станет частью рабочей силы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6280" y="1443960"/>
            <a:ext cx="6710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бы быть успешным в современном обществе, что тебе необходимо?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http://delovoysaratov.ru/wp-content/uploads/2015/12/e483f231f38ccae34038382821d838b2.jpg"/>
          <p:cNvPicPr/>
          <p:nvPr/>
        </p:nvPicPr>
        <p:blipFill>
          <a:blip r:embed="rId1"/>
          <a:stretch/>
        </p:blipFill>
        <p:spPr>
          <a:xfrm>
            <a:off x="448920" y="2970720"/>
            <a:ext cx="3970080" cy="29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1" descr=""/>
          <p:cNvPicPr/>
          <p:nvPr/>
        </p:nvPicPr>
        <p:blipFill>
          <a:blip r:embed="rId1"/>
          <a:stretch/>
        </p:blipFill>
        <p:spPr>
          <a:xfrm>
            <a:off x="0" y="396000"/>
            <a:ext cx="5714640" cy="5714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1320" y="2505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ша карьера зависит от В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2480" y="427320"/>
            <a:ext cx="763488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зовите основные факторы произво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Таблица 1"/>
          <p:cNvGraphicFramePr/>
          <p:nvPr/>
        </p:nvGraphicFramePr>
        <p:xfrm>
          <a:off x="3350520" y="1360800"/>
          <a:ext cx="5191560" cy="5274720"/>
        </p:xfrm>
        <a:graphic>
          <a:graphicData uri="http://schemas.openxmlformats.org/drawingml/2006/table">
            <a:tbl>
              <a:tblPr/>
              <a:tblGrid>
                <a:gridCol w="752760"/>
                <a:gridCol w="360720"/>
                <a:gridCol w="360720"/>
                <a:gridCol w="360720"/>
                <a:gridCol w="392040"/>
                <a:gridCol w="407520"/>
                <a:gridCol w="370440"/>
                <a:gridCol w="350640"/>
                <a:gridCol w="360720"/>
                <a:gridCol w="360720"/>
                <a:gridCol w="360720"/>
                <a:gridCol w="752760"/>
              </a:tblGrid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2" action="ppaction://hlinksldjump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48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4" action="ppaction://hlinksldjump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5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6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38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амостоятельная, осуществляемая на свой риск экономическая деятельность, направленная на систематическое получение прибыли от пользования имуществом и нематериальными активами, продажи товаров, выполнения работ или оказания услуг лицами, зарегистрированными в этом качестве в установленном законом поряд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3"/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64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094240" cy="51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(средства производства) ресурсы, используемые в производ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ресурс, используемый в экономических процессах. Овеществляется во всех компонентах системы производительных сил общества, выступает составным элементом всех моментов процесса труда — и предметом тру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редством тру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оставной частью живого тру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3">
            <a:hlinkClick r:id="rId1" action="ppaction://hlinksldjump"/>
          </p:cNvPr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4200" y="427320"/>
            <a:ext cx="747396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0960"/>
            <a:ext cx="74739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- это естественные (природные) ресурсы, необходимые для существования человеческого общества и используемые в хозяй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ажнейший фактор производства, приводящий в движение все другие 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3">
            <a:hlinkClick r:id="rId1" action="ppaction://hlinksldjump"/>
          </p:cNvPr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59840" y="427320"/>
            <a:ext cx="716868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тверждение неверн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6280" y="1290960"/>
            <a:ext cx="8245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ЧАЯ СИЛА     =   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ости человека                    способности   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им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цен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рабочее врем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2" name="Прямая соединительная линия 4"/>
          <p:cNvCxnSpPr/>
          <p:nvPr/>
        </p:nvCxnSpPr>
        <p:spPr>
          <a:xfrm flipH="1">
            <a:off x="5488200" y="1443600"/>
            <a:ext cx="610920" cy="457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63" name="Прямая со стрелкой 8"/>
          <p:cNvCxnSpPr/>
          <p:nvPr/>
        </p:nvCxnSpPr>
        <p:spPr>
          <a:xfrm>
            <a:off x="2281320" y="2054520"/>
            <a:ext cx="360" cy="916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4" name="Прямая со стрелкой 9"/>
          <p:cNvCxnSpPr/>
          <p:nvPr/>
        </p:nvCxnSpPr>
        <p:spPr>
          <a:xfrm>
            <a:off x="7014960" y="2054520"/>
            <a:ext cx="360" cy="916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5" name="Овал 3">
            <a:hlinkClick r:id="rId1" action="ppaction://hlinksldjump"/>
          </p:cNvPr>
          <p:cNvSpPr/>
          <p:nvPr/>
        </p:nvSpPr>
        <p:spPr>
          <a:xfrm>
            <a:off x="601560" y="495612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156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словия развития способносте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ретный исторический этап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ьные условия жизн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ственно-экономические отношения в конкретном государств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3">
            <a:hlinkClick r:id="rId1" action="ppaction://hlinksldjump"/>
          </p:cNvPr>
          <p:cNvSpPr/>
          <p:nvPr/>
        </p:nvSpPr>
        <p:spPr>
          <a:xfrm>
            <a:off x="665640" y="526140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сточники и 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нтернет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190188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konomika-st.ru/ekonomika/ekon-teorija/ekon-teorija-57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yandex.ru/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emplated.ru/biznes/246-soveschanie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айт шаблонов дл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45080" y="1272240"/>
            <a:ext cx="420228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чебник и справочн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45080" y="190188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номика. Базовый и углубленный уровни. 10 класс: учебник / Р.И. Хасбулатов. – 3-е изд., стереотип. – М.: Дрофа, 2015. - 1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62000" y="159660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Труд и рынок рабочей сил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6280" y="527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ученик 10 класса скоро станет частью рабочей силы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6280" y="1443960"/>
            <a:ext cx="6710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бы быть успешным в современном обществе, что тебе необходимо?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http://delovoysaratov.ru/wp-content/uploads/2015/12/e483f231f38ccae34038382821d838b2.jpg"/>
          <p:cNvPicPr/>
          <p:nvPr/>
        </p:nvPicPr>
        <p:blipFill>
          <a:blip r:embed="rId1"/>
          <a:stretch/>
        </p:blipFill>
        <p:spPr>
          <a:xfrm>
            <a:off x="448920" y="2970720"/>
            <a:ext cx="3970080" cy="29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248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640" y="1290960"/>
            <a:ext cx="80848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ического образа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обосновывать суждения, давать определения, приводить доказатель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нужной информации по заданной те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полученных знаний для определения экономически рационального поведения и порядка действий в конкрет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туац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1560" y="1290960"/>
            <a:ext cx="76266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 как фактор производ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чая сила как тов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и рынка рабочей си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чество рабочей силы как фактора ро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человеческого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ктура рынка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уд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3695760"/>
            <a:ext cx="6710400" cy="18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ости, с помощью которых человек воздействует на объекты природы, использую орудия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Крест 4"/>
          <p:cNvSpPr/>
          <p:nvPr/>
        </p:nvSpPr>
        <p:spPr>
          <a:xfrm>
            <a:off x="2281320" y="1863360"/>
            <a:ext cx="784800" cy="76932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2" name="Крест 8"/>
          <p:cNvSpPr/>
          <p:nvPr/>
        </p:nvSpPr>
        <p:spPr>
          <a:xfrm>
            <a:off x="6449760" y="1863360"/>
            <a:ext cx="717840" cy="68256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3" name="Скругленный прямоугольник 9"/>
          <p:cNvSpPr/>
          <p:nvPr/>
        </p:nvSpPr>
        <p:spPr>
          <a:xfrm>
            <a:off x="120960" y="1560960"/>
            <a:ext cx="200736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10"/>
          <p:cNvSpPr/>
          <p:nvPr/>
        </p:nvSpPr>
        <p:spPr>
          <a:xfrm>
            <a:off x="3197520" y="1519200"/>
            <a:ext cx="3164400" cy="1603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рофесс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1"/>
          <p:cNvSpPr/>
          <p:nvPr/>
        </p:nvSpPr>
        <p:spPr>
          <a:xfrm>
            <a:off x="7264440" y="1517400"/>
            <a:ext cx="183204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авая фигурная скобка 12"/>
          <p:cNvSpPr/>
          <p:nvPr/>
        </p:nvSpPr>
        <p:spPr>
          <a:xfrm rot="5400000">
            <a:off x="4145040" y="215280"/>
            <a:ext cx="687600" cy="6271920"/>
          </a:xfrm>
          <a:prstGeom prst="rightBrace">
            <a:avLst>
              <a:gd name="adj1" fmla="val 8333"/>
              <a:gd name="adj2" fmla="val 49571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кругленный прямоугольник 6"/>
          <p:cNvSpPr/>
          <p:nvPr/>
        </p:nvSpPr>
        <p:spPr>
          <a:xfrm>
            <a:off x="-62640" y="392868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Физическая сила, выносливость, физическое здоровь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sch2010uv.mskobr.ru/images/88.jpg"/>
          <p:cNvPicPr/>
          <p:nvPr/>
        </p:nvPicPr>
        <p:blipFill>
          <a:blip r:embed="rId1"/>
          <a:stretch/>
        </p:blipFill>
        <p:spPr>
          <a:xfrm>
            <a:off x="0" y="5124240"/>
            <a:ext cx="1401840" cy="1733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абочая сила 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3499560"/>
            <a:ext cx="6710400" cy="49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НОСТИ человека к тру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Крест 4"/>
          <p:cNvSpPr/>
          <p:nvPr/>
        </p:nvSpPr>
        <p:spPr>
          <a:xfrm>
            <a:off x="2411640" y="1788480"/>
            <a:ext cx="784800" cy="76932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2" name="Крест 8"/>
          <p:cNvSpPr/>
          <p:nvPr/>
        </p:nvSpPr>
        <p:spPr>
          <a:xfrm>
            <a:off x="5946480" y="1832040"/>
            <a:ext cx="717840" cy="68256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3" name="Скругленный прямоугольник 9"/>
          <p:cNvSpPr/>
          <p:nvPr/>
        </p:nvSpPr>
        <p:spPr>
          <a:xfrm>
            <a:off x="120960" y="1560960"/>
            <a:ext cx="216000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chemeClr val="dk1"/>
                </a:solidFill>
                <a:uFillTx/>
                <a:latin typeface="Times New Roman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10"/>
          <p:cNvSpPr/>
          <p:nvPr/>
        </p:nvSpPr>
        <p:spPr>
          <a:xfrm>
            <a:off x="3336480" y="1519200"/>
            <a:ext cx="245700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u="sng">
                <a:solidFill>
                  <a:schemeClr val="dk1"/>
                </a:solidFill>
                <a:uFillTx/>
                <a:latin typeface="Times New Roman"/>
              </a:rPr>
              <a:t>Ум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11"/>
          <p:cNvSpPr/>
          <p:nvPr/>
        </p:nvSpPr>
        <p:spPr>
          <a:xfrm>
            <a:off x="6751080" y="1526400"/>
            <a:ext cx="213768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chemeClr val="dk1"/>
                </a:solidFill>
                <a:uFillTx/>
                <a:latin typeface="Times New Roman"/>
              </a:rPr>
              <a:t>Дух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авая фигурная скобка 12"/>
          <p:cNvSpPr/>
          <p:nvPr/>
        </p:nvSpPr>
        <p:spPr>
          <a:xfrm rot="5400000">
            <a:off x="4168440" y="191880"/>
            <a:ext cx="488880" cy="6120360"/>
          </a:xfrm>
          <a:prstGeom prst="rightBrace">
            <a:avLst>
              <a:gd name="adj1" fmla="val 8333"/>
              <a:gd name="adj2" fmla="val 49571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Стрелка вниз 3"/>
          <p:cNvSpPr/>
          <p:nvPr/>
        </p:nvSpPr>
        <p:spPr>
          <a:xfrm>
            <a:off x="879480" y="302184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8" name="Стрелка вниз 13"/>
          <p:cNvSpPr/>
          <p:nvPr/>
        </p:nvSpPr>
        <p:spPr>
          <a:xfrm>
            <a:off x="7667280" y="306576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9" name="Стрелка вниз 14"/>
          <p:cNvSpPr/>
          <p:nvPr/>
        </p:nvSpPr>
        <p:spPr>
          <a:xfrm>
            <a:off x="4412520" y="413856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0" name="Скругленный прямоугольник 15"/>
          <p:cNvSpPr/>
          <p:nvPr/>
        </p:nvSpPr>
        <p:spPr>
          <a:xfrm>
            <a:off x="3155040" y="512424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Разумная мыслительная деятельно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6"/>
          <p:cNvSpPr/>
          <p:nvPr/>
        </p:nvSpPr>
        <p:spPr>
          <a:xfrm>
            <a:off x="6242760" y="405612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бстрактное мышление, потребности в нематериальной сфер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digitalsubstation.ru/wp-content/uploads/2015/04/Sohranennoe-izobrazhenie-2015-4-28_9-27-35.81.jpg"/>
          <p:cNvPicPr/>
          <p:nvPr/>
        </p:nvPicPr>
        <p:blipFill>
          <a:blip r:embed="rId2"/>
          <a:stretch/>
        </p:blipFill>
        <p:spPr>
          <a:xfrm>
            <a:off x="6782760" y="5474520"/>
            <a:ext cx="2105640" cy="133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medicalcollege.ru/imaginator/Illusioms/505ff10e528c4.jpeg"/>
          <p:cNvPicPr/>
          <p:nvPr/>
        </p:nvPicPr>
        <p:blipFill>
          <a:blip r:embed="rId3"/>
          <a:stretch/>
        </p:blipFill>
        <p:spPr>
          <a:xfrm>
            <a:off x="3196440" y="4461480"/>
            <a:ext cx="11962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8920" y="427320"/>
            <a:ext cx="7779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т чего зависит развитие  способностей конкретного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" y="1443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с текстом учебника стр. 1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 добавить свои вари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143640" y="3123720"/>
            <a:ext cx="3664440" cy="183204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Варианты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  <Words>763</Words>
  <Paragraphs>14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Elena</cp:lastModifiedBy>
  <dcterms:modified xsi:type="dcterms:W3CDTF">2016-04-15T23:04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