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52C07-98E1-4527-96BE-D09B9F4A9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527760"/>
            <a:ext cx="8229240" cy="5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72240"/>
            <a:ext cx="4039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1606680"/>
            <a:ext cx="4039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0912E-649B-4195-BA3F-89655299A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27760"/>
            <a:ext cx="8229240" cy="5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7224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527560" y="127224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160668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527560" y="160668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24EBC-10B1-4B75-B8EC-F8D1E83B8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527760"/>
            <a:ext cx="8229240" cy="5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72240"/>
            <a:ext cx="1300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823400" y="1272240"/>
            <a:ext cx="1300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189240" y="1272240"/>
            <a:ext cx="1300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1606680"/>
            <a:ext cx="1300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823400" y="1606680"/>
            <a:ext cx="1300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189240" y="1606680"/>
            <a:ext cx="1300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CF1FB-BCBF-4015-B944-AE2416AEE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3B0C3-2D94-49B1-8287-C29289CED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27760"/>
            <a:ext cx="8229240" cy="5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272240"/>
            <a:ext cx="4039920" cy="63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50F46-DC7F-41AC-859C-5B3AA3511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527760"/>
            <a:ext cx="8229240" cy="5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72240"/>
            <a:ext cx="4039920" cy="63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C4974-02C6-4934-8065-376B059B6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27760"/>
            <a:ext cx="8229240" cy="5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72240"/>
            <a:ext cx="1971360" cy="63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527560" y="1272240"/>
            <a:ext cx="1971360" cy="63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B849E-151D-42C6-B0A6-2C22FBC7E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27760"/>
            <a:ext cx="8229240" cy="5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55012-0A83-40A0-9E22-7C582673F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527760"/>
            <a:ext cx="8229240" cy="270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3E7CF-14DA-4708-A1C4-F859FDEF6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27760"/>
            <a:ext cx="8229240" cy="5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7224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527560" y="1272240"/>
            <a:ext cx="1971360" cy="63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160668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42C4C-4646-42D5-AF90-2B41C066C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527760"/>
            <a:ext cx="8229240" cy="5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72240"/>
            <a:ext cx="4039920" cy="63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EECD7-A9C6-47B3-BF67-E3EB55D28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27760"/>
            <a:ext cx="8229240" cy="5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72240"/>
            <a:ext cx="1971360" cy="63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527560" y="127224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527560" y="160668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749A1-7C2F-44CD-B345-0E064F520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27760"/>
            <a:ext cx="8229240" cy="5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7224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527560" y="127224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1606680"/>
            <a:ext cx="4039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A72F3-CB18-40A6-B566-26BD625DE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27760"/>
            <a:ext cx="8229240" cy="5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72240"/>
            <a:ext cx="4039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1606680"/>
            <a:ext cx="4039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4B8FF-F506-448F-A321-E8DEE0F15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27760"/>
            <a:ext cx="8229240" cy="5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7224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527560" y="127224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160668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527560" y="160668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418E1-31F4-4674-B905-D4722B459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27760"/>
            <a:ext cx="8229240" cy="5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72240"/>
            <a:ext cx="1300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823400" y="1272240"/>
            <a:ext cx="1300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189240" y="1272240"/>
            <a:ext cx="1300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1606680"/>
            <a:ext cx="1300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1823400" y="1606680"/>
            <a:ext cx="1300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189240" y="1606680"/>
            <a:ext cx="1300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409AE-4A0F-4A01-940F-AEEE7B073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CD85A8-77EA-46A7-AE49-9C3ACE090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527760"/>
            <a:ext cx="8229240" cy="5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272240"/>
            <a:ext cx="4039920" cy="63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F242DA-8879-40DA-BD8B-F3CC3DDCB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527760"/>
            <a:ext cx="8229240" cy="5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272240"/>
            <a:ext cx="4039920" cy="63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514BD3-C890-4FFE-A971-6B309E687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527760"/>
            <a:ext cx="8229240" cy="5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72240"/>
            <a:ext cx="1971360" cy="63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2527560" y="1272240"/>
            <a:ext cx="1971360" cy="63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08F563-36B7-4250-9650-FE5BBC069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527760"/>
            <a:ext cx="8229240" cy="5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066069-6DC8-4282-B086-829C81212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27760"/>
            <a:ext cx="8229240" cy="5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72240"/>
            <a:ext cx="4039920" cy="63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2CED1-0F6A-458D-9A94-05292359E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527760"/>
            <a:ext cx="8229240" cy="270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064CA1-E790-40BC-AD5B-79164C43A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527760"/>
            <a:ext cx="8229240" cy="5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7224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2527560" y="1272240"/>
            <a:ext cx="1971360" cy="63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160668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4FD12F-6AF9-423D-95AB-863D95807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527760"/>
            <a:ext cx="8229240" cy="5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72240"/>
            <a:ext cx="1971360" cy="63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2527560" y="127224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2527560" y="160668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FA7F96-38B8-4206-A22A-1238601F2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527760"/>
            <a:ext cx="8229240" cy="5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7224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527560" y="127224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1606680"/>
            <a:ext cx="4039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8D40F1-A6FC-4A56-AE5D-9C5F01283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527760"/>
            <a:ext cx="8229240" cy="5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72240"/>
            <a:ext cx="4039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1606680"/>
            <a:ext cx="4039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848D8A-E636-4BAA-B09E-BE3318D98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527760"/>
            <a:ext cx="8229240" cy="5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7224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2527560" y="127224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160668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2527560" y="160668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138659-F821-4BFF-B19F-A0B097866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527760"/>
            <a:ext cx="8229240" cy="5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72240"/>
            <a:ext cx="1300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1823400" y="1272240"/>
            <a:ext cx="1300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189240" y="1272240"/>
            <a:ext cx="1300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1606680"/>
            <a:ext cx="1300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1823400" y="1606680"/>
            <a:ext cx="1300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3189240" y="1606680"/>
            <a:ext cx="1300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F7518B-5B45-4CC8-A259-687DC9B58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B2F1A7-CD62-46EE-B116-88D3CC11D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527760"/>
            <a:ext cx="8229240" cy="5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272240"/>
            <a:ext cx="4039920" cy="63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2906EC-487A-4506-899F-A46F3965D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527760"/>
            <a:ext cx="8229240" cy="5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272240"/>
            <a:ext cx="4039920" cy="63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318561-895C-46C8-9EEA-32172E522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27760"/>
            <a:ext cx="8229240" cy="5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72240"/>
            <a:ext cx="1971360" cy="63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527560" y="1272240"/>
            <a:ext cx="1971360" cy="63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8E980-66CF-4907-AB0B-E23CD2851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527760"/>
            <a:ext cx="8229240" cy="5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272240"/>
            <a:ext cx="1971360" cy="63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2527560" y="1272240"/>
            <a:ext cx="1971360" cy="63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A699C7-1EFD-4E6D-ADE5-9C50CBFDC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527760"/>
            <a:ext cx="8229240" cy="5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0DECE0-E5BA-4B2B-9445-F78B42A82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527760"/>
            <a:ext cx="8229240" cy="270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51ECCA-56C1-4CE8-B7B6-396A6C90A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527760"/>
            <a:ext cx="8229240" cy="5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27224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2527560" y="1272240"/>
            <a:ext cx="1971360" cy="63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160668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B36A98-A1BD-4F40-A7A0-4F2FF56A2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527760"/>
            <a:ext cx="8229240" cy="5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272240"/>
            <a:ext cx="1971360" cy="63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527560" y="127224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527560" y="160668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AF8709-37B9-4342-9E37-A4C2BFFA6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527760"/>
            <a:ext cx="8229240" cy="5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27224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527560" y="127224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1606680"/>
            <a:ext cx="4039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421B04-C24D-48D2-A0AF-471D1A183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527760"/>
            <a:ext cx="8229240" cy="5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72240"/>
            <a:ext cx="4039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1606680"/>
            <a:ext cx="4039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49B5AE-8BD5-4117-BD41-22FE4D788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527760"/>
            <a:ext cx="8229240" cy="5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27224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2527560" y="127224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160668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2527560" y="160668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8B340C-F849-474E-B1AE-947AE8586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527760"/>
            <a:ext cx="8229240" cy="5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272240"/>
            <a:ext cx="1300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1823400" y="1272240"/>
            <a:ext cx="1300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3189240" y="1272240"/>
            <a:ext cx="1300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1606680"/>
            <a:ext cx="1300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1823400" y="1606680"/>
            <a:ext cx="1300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3189240" y="1606680"/>
            <a:ext cx="1300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36455C-6F0B-4CC7-A499-8B9A05EA8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27760"/>
            <a:ext cx="8229240" cy="5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11A81-1F92-4DE4-B284-1D9EF56B4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527760"/>
            <a:ext cx="8229240" cy="270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1A3C0-CFD9-41E6-8B29-8DA9BAD9F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27760"/>
            <a:ext cx="8229240" cy="5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7224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527560" y="1272240"/>
            <a:ext cx="1971360" cy="63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160668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1FED7-DCFB-4AF9-9641-6AF083AA7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27760"/>
            <a:ext cx="8229240" cy="5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72240"/>
            <a:ext cx="1971360" cy="63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527560" y="127224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527560" y="160668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F02C8-0982-477B-A8FB-65EAB8452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27760"/>
            <a:ext cx="8229240" cy="5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7224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527560" y="127224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1606680"/>
            <a:ext cx="4039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C5B1E-34D3-4A09-B9F6-DD142CA90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59840" y="4345200"/>
            <a:ext cx="7772040" cy="1221120"/>
          </a:xfrm>
          <a:prstGeom prst="rect">
            <a:avLst/>
          </a:prstGeom>
          <a:noFill/>
          <a:ln w="0">
            <a:noFill/>
          </a:ln>
          <a:effectLst>
            <a:outerShdw dist="37674" dir="2700000" blurRad="50760" rotWithShape="0">
              <a:srgbClr val="000000">
                <a:alpha val="82000"/>
              </a:srgbClr>
            </a:outerShdw>
          </a:effectLst>
        </p:spPr>
        <p:txBody>
          <a:bodyPr anchor="ctr">
            <a:norm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Master title styl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F9B88A0-FF4B-4F87-804F-AB7B4A100936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17760" y="427320"/>
            <a:ext cx="6710400" cy="86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ff0000"/>
                </a:solidFill>
                <a:latin typeface="Calibri"/>
              </a:rPr>
              <a:t>Click to edit Master title styl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517760" y="1290960"/>
            <a:ext cx="6710400" cy="427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Master text sty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565179B-BE6B-45F3-A3EA-B79895F30828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527760"/>
            <a:ext cx="8229240" cy="5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9000"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ff0000"/>
                </a:solidFill>
                <a:latin typeface="Calibri"/>
              </a:rPr>
              <a:t>Click to edit Master title styl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13832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Master text sty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5683A22-7429-40B9-8257-EA577A112F2A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527760"/>
            <a:ext cx="8229240" cy="5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9000"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ff0000"/>
                </a:solidFill>
                <a:latin typeface="Calibri"/>
              </a:rPr>
              <a:t>Click to edit Master title styl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272240"/>
            <a:ext cx="4039920" cy="63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Click to edit Master text sty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body"/>
          </p:nvPr>
        </p:nvSpPr>
        <p:spPr>
          <a:xfrm>
            <a:off x="457200" y="1901880"/>
            <a:ext cx="4039920" cy="379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Master text sty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ourth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ifth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4645080" y="1272240"/>
            <a:ext cx="4041360" cy="63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Click to edit Master text sty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body"/>
          </p:nvPr>
        </p:nvSpPr>
        <p:spPr>
          <a:xfrm>
            <a:off x="4645080" y="1901880"/>
            <a:ext cx="4041360" cy="379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Master text sty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ourth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ifth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dt" idx="10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8"/>
          <p:cNvSpPr>
            <a:spLocks noGrp="1"/>
          </p:cNvSpPr>
          <p:nvPr>
            <p:ph type="sldNum" idx="12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5574305-06B3-425D-9F00-8C6036D5F728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" Target="slide23.xml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0.xml"/><Relationship Id="rId3" Type="http://schemas.openxmlformats.org/officeDocument/2006/relationships/slide" Target="slide21.xml"/><Relationship Id="rId4" Type="http://schemas.openxmlformats.org/officeDocument/2006/relationships/slide" Target="slide21.xml"/><Relationship Id="rId5" Type="http://schemas.openxmlformats.org/officeDocument/2006/relationships/slide" Target="slide22.xml"/><Relationship Id="rId6" Type="http://schemas.openxmlformats.org/officeDocument/2006/relationships/slide" Target="slide22.xml"/><Relationship Id="rId7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" Target="slide11.xml"/><Relationship Id="rId3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365120" y="4803480"/>
            <a:ext cx="7772040" cy="1221120"/>
          </a:xfrm>
          <a:prstGeom prst="rect">
            <a:avLst/>
          </a:prstGeom>
          <a:noFill/>
          <a:ln w="0">
            <a:noFill/>
          </a:ln>
          <a:effectLst>
            <a:outerShdw dist="37674" dir="2700000" blurRad="50760" rotWithShape="0">
              <a:srgbClr val="000000">
                <a:alpha val="82000"/>
              </a:srgbClr>
            </a:outerShdw>
          </a:effectLst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Труд и рынок рабочей сил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907200" y="5719680"/>
            <a:ext cx="8245800" cy="113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4000"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</a:tabLst>
            </a:pPr>
            <a:r>
              <a:rPr b="0" lang="ru-RU" sz="3500" spc="-1" strike="noStrike">
                <a:solidFill>
                  <a:srgbClr val="ffff00"/>
                </a:solidFill>
                <a:latin typeface="Times New Roman"/>
              </a:rPr>
              <a:t>Автор: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</a:tabLst>
            </a:pPr>
            <a:r>
              <a:rPr b="0" lang="ru-RU" sz="3500" spc="-1" strike="noStrike">
                <a:solidFill>
                  <a:srgbClr val="ffff00"/>
                </a:solidFill>
                <a:latin typeface="Times New Roman"/>
              </a:rPr>
              <a:t>Добровольская Елена Владимировна,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</a:tabLst>
            </a:pPr>
            <a:r>
              <a:rPr b="0" lang="ru-RU" sz="3500" spc="-1" strike="noStrike">
                <a:solidFill>
                  <a:srgbClr val="ffff00"/>
                </a:solidFill>
                <a:latin typeface="Times New Roman"/>
              </a:rPr>
              <a:t>учитель истории и обществознания МАОУ «СШ № 19» г. Хабаровска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</a:tabLst>
            </a:pPr>
            <a:r>
              <a:rPr b="0" lang="ru-RU" sz="3500" spc="-1" strike="noStrike">
                <a:solidFill>
                  <a:srgbClr val="ffff00"/>
                </a:solidFill>
                <a:latin typeface="Times New Roman"/>
              </a:rPr>
              <a:t>Презентация по экономике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</a:tabLst>
            </a:pPr>
            <a:r>
              <a:rPr b="0" lang="ru-RU" sz="3500" spc="-1" strike="noStrike">
                <a:solidFill>
                  <a:srgbClr val="ffff00"/>
                </a:solidFill>
                <a:latin typeface="Times New Roman"/>
              </a:rPr>
              <a:t>для учащихся 10 класса</a:t>
            </a: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96280" y="374760"/>
            <a:ext cx="6710400" cy="86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                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7800" y="5567040"/>
            <a:ext cx="5793120" cy="1271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 fontScale="32000"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</a:rPr>
              <a:t>экономически активное население в трудоспособном возрасте (с 16 до пенсионного возраста)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Прямая со стрелкой 4"/>
          <p:cNvCxnSpPr/>
          <p:nvPr/>
        </p:nvCxnSpPr>
        <p:spPr>
          <a:xfrm flipH="1">
            <a:off x="2739240" y="1013400"/>
            <a:ext cx="803520" cy="583200"/>
          </a:xfrm>
          <a:prstGeom prst="straightConnector1">
            <a:avLst/>
          </a:prstGeom>
          <a:ln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210" name="Прямая со стрелкой 6"/>
          <p:cNvCxnSpPr/>
          <p:nvPr/>
        </p:nvCxnSpPr>
        <p:spPr>
          <a:xfrm flipH="1">
            <a:off x="1365120" y="2529720"/>
            <a:ext cx="763920" cy="594000"/>
          </a:xfrm>
          <a:prstGeom prst="straightConnector1">
            <a:avLst/>
          </a:prstGeom>
          <a:ln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211" name="Прямая со стрелкой 7"/>
          <p:cNvCxnSpPr/>
          <p:nvPr/>
        </p:nvCxnSpPr>
        <p:spPr>
          <a:xfrm>
            <a:off x="6404400" y="1019520"/>
            <a:ext cx="1374480" cy="929160"/>
          </a:xfrm>
          <a:prstGeom prst="straightConnector1">
            <a:avLst/>
          </a:prstGeom>
          <a:ln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212" name="Прямоугольник 10"/>
          <p:cNvSpPr/>
          <p:nvPr/>
        </p:nvSpPr>
        <p:spPr>
          <a:xfrm>
            <a:off x="6102360" y="1948680"/>
            <a:ext cx="2988720" cy="94428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  <a:scene3d>
              <a:camera prst="orthographicFront"/>
              <a:lightRig dir="tl" rig="soft">
                <a:rot lat="0" lon="0" rev="0"/>
              </a:lightRig>
            </a:scene3d>
            <a:sp3d contourW="25400" prstMaterial="matte">
              <a:bevelT prst="artDeco" w="25400" h="55880"/>
              <a:contourClr>
                <a:schemeClr val="accent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2800" spc="49" strike="noStrike">
                <a:solidFill>
                  <a:srgbClr val="ff0000"/>
                </a:solidFill>
                <a:latin typeface="Calibri"/>
              </a:rPr>
              <a:t>Остальн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2800" spc="49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ru-RU" sz="2800" spc="49" strike="noStrike">
                <a:solidFill>
                  <a:srgbClr val="ff0000"/>
                </a:solidFill>
                <a:latin typeface="Calibri"/>
              </a:rPr>
              <a:t>насел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Прямоугольник 11"/>
          <p:cNvSpPr/>
          <p:nvPr/>
        </p:nvSpPr>
        <p:spPr>
          <a:xfrm>
            <a:off x="471240" y="1606680"/>
            <a:ext cx="4231440" cy="91404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  <a:scene3d>
              <a:camera prst="orthographicFront"/>
              <a:lightRig dir="tl" rig="soft">
                <a:rot lat="0" lon="0" rev="0"/>
              </a:lightRig>
            </a:scene3d>
            <a:sp3d contourW="25400" prstMaterial="matte">
              <a:bevelT prst="artDeco" w="25400" h="55880"/>
              <a:contourClr>
                <a:schemeClr val="accent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5400" spc="49" strike="noStrike">
                <a:solidFill>
                  <a:schemeClr val="accent2"/>
                </a:solidFill>
                <a:latin typeface="Calibri"/>
              </a:rPr>
              <a:t>Рабочая сил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Прямоугольник 12"/>
          <p:cNvSpPr/>
          <p:nvPr/>
        </p:nvSpPr>
        <p:spPr>
          <a:xfrm>
            <a:off x="2035080" y="92160"/>
            <a:ext cx="5755320" cy="91404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  <a:scene3d>
              <a:camera prst="orthographicFront"/>
              <a:lightRig dir="tl" rig="soft">
                <a:rot lat="0" lon="0" rev="0"/>
              </a:lightRig>
            </a:scene3d>
            <a:sp3d contourW="25400" prstMaterial="matte">
              <a:bevelT prst="artDeco" w="25400" h="55880"/>
              <a:contourClr>
                <a:schemeClr val="accent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5400" spc="49" strike="noStrike">
                <a:solidFill>
                  <a:schemeClr val="accent2"/>
                </a:solidFill>
                <a:latin typeface="Calibri"/>
              </a:rPr>
              <a:t>Население стран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5" name="Прямая со стрелкой 13"/>
          <p:cNvCxnSpPr/>
          <p:nvPr/>
        </p:nvCxnSpPr>
        <p:spPr>
          <a:xfrm>
            <a:off x="2518560" y="2548800"/>
            <a:ext cx="831960" cy="574920"/>
          </a:xfrm>
          <a:prstGeom prst="straightConnector1">
            <a:avLst/>
          </a:prstGeom>
          <a:ln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216" name="Прямоугольник 18"/>
          <p:cNvSpPr/>
          <p:nvPr/>
        </p:nvSpPr>
        <p:spPr>
          <a:xfrm>
            <a:off x="624960" y="3123720"/>
            <a:ext cx="1311120" cy="456840"/>
          </a:xfrm>
          <a:prstGeom prst="rect">
            <a:avLst/>
          </a:prstGeom>
          <a:solidFill>
            <a:srgbClr val="ffffff"/>
          </a:solidFill>
          <a:ln>
            <a:solidFill>
              <a:srgbClr val="000000"/>
            </a:solidFill>
            <a:round/>
          </a:ln>
        </p:spPr>
        <p:style>
          <a:lnRef idx="2">
            <a:schemeClr val="dk1"/>
          </a:lnRef>
          <a:fillRef idx="1">
            <a:schemeClr val="lt1"/>
          </a:fillRef>
          <a:effectRef idx="0">
            <a:schemeClr val="dk1"/>
          </a:effectRef>
          <a:fontRef idx="minor"/>
        </p:style>
        <p:txBody>
          <a:bodyPr wrap="none" anchor="t">
            <a:spAutoFit/>
            <a:scene3d>
              <a:camera prst="orthographicFront"/>
              <a:lightRig dir="tl" rig="soft">
                <a:rot lat="0" lon="0" rev="0"/>
              </a:lightRig>
            </a:scene3d>
            <a:sp3d contourW="25400" prstMaterial="matte">
              <a:bevelT prst="artDeco" w="25400" h="55880"/>
              <a:contourClr>
                <a:schemeClr val="accent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2400" spc="49" strike="noStrike">
                <a:solidFill>
                  <a:schemeClr val="accent2"/>
                </a:solidFill>
                <a:latin typeface="Calibri"/>
              </a:rPr>
              <a:t>занят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Прямоугольник 19"/>
          <p:cNvSpPr/>
          <p:nvPr/>
        </p:nvSpPr>
        <p:spPr>
          <a:xfrm>
            <a:off x="3034800" y="3123720"/>
            <a:ext cx="1989000" cy="456840"/>
          </a:xfrm>
          <a:prstGeom prst="rect">
            <a:avLst/>
          </a:prstGeom>
          <a:solidFill>
            <a:srgbClr val="ffffff"/>
          </a:solidFill>
          <a:ln>
            <a:solidFill>
              <a:srgbClr val="000000"/>
            </a:solidFill>
            <a:round/>
          </a:ln>
        </p:spPr>
        <p:style>
          <a:lnRef idx="2">
            <a:schemeClr val="dk1"/>
          </a:lnRef>
          <a:fillRef idx="1">
            <a:schemeClr val="lt1"/>
          </a:fillRef>
          <a:effectRef idx="0">
            <a:schemeClr val="dk1"/>
          </a:effectRef>
          <a:fontRef idx="minor"/>
        </p:style>
        <p:txBody>
          <a:bodyPr wrap="none" anchor="t">
            <a:spAutoFit/>
            <a:scene3d>
              <a:camera prst="orthographicFront"/>
              <a:lightRig dir="tl" rig="soft">
                <a:rot lat="0" lon="0" rev="0"/>
              </a:lightRig>
            </a:scene3d>
            <a:sp3d contourW="25400" prstMaterial="matte">
              <a:bevelT prst="artDeco" w="25400" h="55880"/>
              <a:contourClr>
                <a:schemeClr val="accent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2400" spc="49" strike="noStrike">
                <a:solidFill>
                  <a:schemeClr val="accent2"/>
                </a:solidFill>
                <a:latin typeface="Calibri"/>
              </a:rPr>
              <a:t>безработ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8" name="Прямая со стрелкой 25"/>
          <p:cNvCxnSpPr>
            <a:stCxn id="216" idx="2"/>
          </p:cNvCxnSpPr>
          <p:nvPr/>
        </p:nvCxnSpPr>
        <p:spPr>
          <a:xfrm>
            <a:off x="1280520" y="3585240"/>
            <a:ext cx="360" cy="371520"/>
          </a:xfrm>
          <a:prstGeom prst="straightConnector1">
            <a:avLst/>
          </a:prstGeom>
          <a:ln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219" name="Прямоугольник 28"/>
          <p:cNvSpPr/>
          <p:nvPr/>
        </p:nvSpPr>
        <p:spPr>
          <a:xfrm>
            <a:off x="30600" y="3965760"/>
            <a:ext cx="3083040" cy="1188360"/>
          </a:xfrm>
          <a:prstGeom prst="rect">
            <a:avLst/>
          </a:prstGeom>
          <a:solidFill>
            <a:srgbClr val="ffffff"/>
          </a:solidFill>
          <a:ln>
            <a:solidFill>
              <a:srgbClr val="000000"/>
            </a:solidFill>
            <a:round/>
          </a:ln>
        </p:spPr>
        <p:style>
          <a:lnRef idx="2">
            <a:schemeClr val="dk1"/>
          </a:lnRef>
          <a:fillRef idx="1">
            <a:schemeClr val="lt1"/>
          </a:fillRef>
          <a:effectRef idx="0">
            <a:schemeClr val="dk1"/>
          </a:effectRef>
          <a:fontRef idx="minor"/>
        </p:style>
        <p:txBody>
          <a:bodyPr wrap="none" anchor="t">
            <a:spAutoFit/>
            <a:scene3d>
              <a:camera prst="orthographicFront"/>
              <a:lightRig dir="tl" rig="soft">
                <a:rot lat="0" lon="0" rev="0"/>
              </a:lightRig>
            </a:scene3d>
            <a:sp3d contourW="25400" prstMaterial="matte">
              <a:bevelT prst="artDeco" w="25400" h="55880"/>
              <a:contourClr>
                <a:schemeClr val="accent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2400" spc="49" strike="noStrike">
                <a:solidFill>
                  <a:schemeClr val="accent2"/>
                </a:solidFill>
                <a:latin typeface="Calibri"/>
              </a:rPr>
              <a:t>наемные работник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2400" spc="49" strike="noStrike">
                <a:solidFill>
                  <a:schemeClr val="accent2"/>
                </a:solidFill>
                <a:latin typeface="Calibri"/>
              </a:rPr>
              <a:t>предпринимател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2400" spc="49" strike="noStrike">
                <a:solidFill>
                  <a:schemeClr val="accent2"/>
                </a:solidFill>
                <a:latin typeface="Calibri"/>
              </a:rPr>
              <a:t>военнослужащ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0" name="Прямая со стрелкой 29"/>
          <p:cNvCxnSpPr/>
          <p:nvPr/>
        </p:nvCxnSpPr>
        <p:spPr>
          <a:xfrm>
            <a:off x="6862320" y="2899440"/>
            <a:ext cx="360" cy="440640"/>
          </a:xfrm>
          <a:prstGeom prst="straightConnector1">
            <a:avLst/>
          </a:prstGeom>
          <a:ln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221" name="Прямоугольник 30"/>
          <p:cNvSpPr/>
          <p:nvPr/>
        </p:nvSpPr>
        <p:spPr>
          <a:xfrm>
            <a:off x="5946480" y="3339720"/>
            <a:ext cx="2940840" cy="1554120"/>
          </a:xfrm>
          <a:prstGeom prst="rect">
            <a:avLst/>
          </a:prstGeom>
          <a:solidFill>
            <a:srgbClr val="ffffff"/>
          </a:solidFill>
          <a:ln>
            <a:solidFill>
              <a:srgbClr val="000000"/>
            </a:solidFill>
            <a:round/>
          </a:ln>
        </p:spPr>
        <p:style>
          <a:lnRef idx="2">
            <a:schemeClr val="dk1"/>
          </a:lnRef>
          <a:fillRef idx="1">
            <a:schemeClr val="lt1"/>
          </a:fillRef>
          <a:effectRef idx="0">
            <a:schemeClr val="dk1"/>
          </a:effectRef>
          <a:fontRef idx="minor"/>
        </p:style>
        <p:txBody>
          <a:bodyPr anchor="t">
            <a:spAutoFit/>
            <a:scene3d>
              <a:camera prst="orthographicFront"/>
              <a:lightRig dir="tl" rig="soft">
                <a:rot lat="0" lon="0" rev="0"/>
              </a:lightRig>
            </a:scene3d>
            <a:sp3d contourW="25400" prstMaterial="matte">
              <a:bevelT prst="artDeco" w="25400" h="55880"/>
              <a:contourClr>
                <a:schemeClr val="accent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2400" spc="49" strike="noStrike">
                <a:solidFill>
                  <a:schemeClr val="accent2"/>
                </a:solidFill>
                <a:latin typeface="Calibri"/>
              </a:rPr>
              <a:t>студенты-очник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2400" spc="49" strike="noStrike">
                <a:solidFill>
                  <a:schemeClr val="accent2"/>
                </a:solidFill>
                <a:latin typeface="Calibri"/>
              </a:rPr>
              <a:t>пенсионер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2400" spc="49" strike="noStrike">
                <a:solidFill>
                  <a:schemeClr val="accent2"/>
                </a:solidFill>
                <a:latin typeface="Calibri"/>
              </a:rPr>
              <a:t>домохозяйк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2400" spc="49" strike="noStrike">
                <a:solidFill>
                  <a:schemeClr val="accent2"/>
                </a:solidFill>
                <a:latin typeface="Calibri"/>
              </a:rPr>
              <a:t>неищущие работ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2" name="Прямая со стрелкой 32"/>
          <p:cNvCxnSpPr/>
          <p:nvPr/>
        </p:nvCxnSpPr>
        <p:spPr>
          <a:xfrm>
            <a:off x="4266360" y="3593880"/>
            <a:ext cx="360" cy="371880"/>
          </a:xfrm>
          <a:prstGeom prst="straightConnector1">
            <a:avLst/>
          </a:prstGeom>
          <a:ln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223" name="Прямоугольник 33"/>
          <p:cNvSpPr/>
          <p:nvPr/>
        </p:nvSpPr>
        <p:spPr>
          <a:xfrm>
            <a:off x="3244320" y="3965760"/>
            <a:ext cx="2347920" cy="456840"/>
          </a:xfrm>
          <a:prstGeom prst="rect">
            <a:avLst/>
          </a:prstGeom>
          <a:solidFill>
            <a:srgbClr val="ffffff"/>
          </a:solidFill>
          <a:ln>
            <a:solidFill>
              <a:srgbClr val="000000"/>
            </a:solidFill>
            <a:round/>
          </a:ln>
        </p:spPr>
        <p:style>
          <a:lnRef idx="2">
            <a:schemeClr val="dk1"/>
          </a:lnRef>
          <a:fillRef idx="1">
            <a:schemeClr val="lt1"/>
          </a:fillRef>
          <a:effectRef idx="0">
            <a:schemeClr val="dk1"/>
          </a:effectRef>
          <a:fontRef idx="minor"/>
        </p:style>
        <p:txBody>
          <a:bodyPr wrap="none" anchor="t">
            <a:spAutoFit/>
            <a:scene3d>
              <a:camera prst="orthographicFront"/>
              <a:lightRig dir="tl" rig="soft">
                <a:rot lat="0" lon="0" rev="0"/>
              </a:lightRig>
            </a:scene3d>
            <a:sp3d contourW="25400" prstMaterial="matte">
              <a:bevelT prst="artDeco" w="25400" h="55880"/>
              <a:contourClr>
                <a:schemeClr val="accent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2400" spc="49" strike="noStrike">
                <a:solidFill>
                  <a:schemeClr val="accent2"/>
                </a:solidFill>
                <a:latin typeface="Calibri"/>
              </a:rPr>
              <a:t>ищущие работ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4" name="Скругленная соединительная линия 35"/>
          <p:cNvCxnSpPr/>
          <p:nvPr/>
        </p:nvCxnSpPr>
        <p:spPr>
          <a:xfrm flipV="1" rot="10800000">
            <a:off x="142920" y="2548440"/>
            <a:ext cx="307440" cy="3018240"/>
          </a:xfrm>
          <a:prstGeom prst="curvedConnector2">
            <a:avLst/>
          </a:prstGeom>
          <a:ln>
            <a:solidFill>
              <a:srgbClr val="4a7ebb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143640" y="680400"/>
            <a:ext cx="7779240" cy="427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РАБОЧАЯ СИЛА     </a:t>
            </a:r>
            <a:r>
              <a:rPr b="1" lang="ru-RU" sz="6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   ТРУД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Верно ли утверждение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Поясните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Овал 7">
            <a:hlinkClick r:id="rId1" action="ppaction://hlinksldjump"/>
          </p:cNvPr>
          <p:cNvSpPr/>
          <p:nvPr/>
        </p:nvSpPr>
        <p:spPr>
          <a:xfrm>
            <a:off x="143640" y="4803480"/>
            <a:ext cx="1832040" cy="1221120"/>
          </a:xfrm>
          <a:prstGeom prst="ellipse">
            <a:avLst/>
          </a:prstGeom>
          <a:solidFill>
            <a:srgbClr val="ffff00"/>
          </a:solidFill>
          <a:ln>
            <a:solidFill>
              <a:srgbClr val="000000"/>
            </a:solidFill>
            <a:round/>
          </a:ln>
        </p:spPr>
        <p:style>
          <a:lnRef idx="2">
            <a:schemeClr val="accent6"/>
          </a:lnRef>
          <a:fillRef idx="1">
            <a:schemeClr val="lt1"/>
          </a:fillRef>
          <a:effectRef idx="0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800" spc="-1" strike="noStrike" u="sng">
                <a:solidFill>
                  <a:schemeClr val="dk1"/>
                </a:solidFill>
                <a:uFillTx/>
                <a:latin typeface="Times New Roman"/>
                <a:hlinkClick r:id="rId2" action="ppaction://hlinksldjump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517760" y="427320"/>
            <a:ext cx="6710400" cy="86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0000"/>
          </a:bodyPr>
          <a:p>
            <a:pPr indent="0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Особенности рынка рабочей силы (РТ – рынок труда)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48920" y="1290960"/>
            <a:ext cx="7779240" cy="427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Wingdings" charset="2"/>
              <a:buChar char=""/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развитых странах РТ в относительном равновесии (безработица от 2 до 12 %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еустойчивость РТ в развивающихся странах   ( безработица от 20 % и выше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еформированный рынок труда в новых капиталистических странах (СНГ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48920" y="427320"/>
            <a:ext cx="7779240" cy="86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Показатели качество рабочий силы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43640" y="1138320"/>
            <a:ext cx="8703720" cy="519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Wingdings" charset="2"/>
              <a:buChar char=""/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асштаб и уровень развития национальной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экономик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(научно-технологическое развитие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Wingdings" charset="2"/>
              <a:buChar char=""/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истема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образования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в стран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Wingdings" charset="2"/>
              <a:buChar char=""/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ровень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квалификаци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рабочих и инженеров, наличие разработчиков идей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Wingdings" charset="2"/>
              <a:buChar char=""/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ровень и масштаб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развития наук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Wingdings" charset="2"/>
              <a:buChar char=""/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заработная плата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 общая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оциальная обеспеченност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517760" y="427320"/>
            <a:ext cx="6710400" cy="86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Человеческий капита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43640" y="1138320"/>
            <a:ext cx="8093160" cy="427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. Повышается важность образования и наук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2. Образование, обучение, повышение квалификации – необходимость (Образование через всю жизнь!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3. Физическое здоровье (3 часа физкультуры в школе, нормы ГТО, всеобщие медосмотры…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3" name="Picture 2" descr="http://takzdorovo-to.ru/upload/iblock/399/399d5c69a4b13c11d3e00337a6bc9528.jpg"/>
          <p:cNvPicPr/>
          <p:nvPr/>
        </p:nvPicPr>
        <p:blipFill>
          <a:blip r:embed="rId1"/>
          <a:stretch/>
        </p:blipFill>
        <p:spPr>
          <a:xfrm>
            <a:off x="754200" y="5108760"/>
            <a:ext cx="1221120" cy="121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96280" y="427320"/>
            <a:ext cx="7932240" cy="86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Рынок труд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48920" y="1290960"/>
            <a:ext cx="7779240" cy="427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Wingdings" charset="2"/>
              <a:buChar char=""/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овокупность всех рабочих мест в стран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овокупность экономических отношений при покупке и продаже рабочей сил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48920" y="680400"/>
            <a:ext cx="7779240" cy="91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50000"/>
          </a:bodyPr>
          <a:p>
            <a:pPr indent="0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Для рынка труда характерно:</a:t>
            </a: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296280" y="1138320"/>
            <a:ext cx="7176600" cy="381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Wingdings" charset="2"/>
              <a:buChar char=""/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вободное движение рабочей силы между предприятиями в одном регионе, между отраслями в масштабе страны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Wingdings" charset="2"/>
              <a:buChar char=""/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ложная многоярусная структура (конкурентный и монополизированный, профсоюзный и государственный)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Прямоугольник 3"/>
          <p:cNvSpPr/>
          <p:nvPr/>
        </p:nvSpPr>
        <p:spPr>
          <a:xfrm>
            <a:off x="196560" y="4650480"/>
            <a:ext cx="595512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пираясь на свой опыт и знания, используя учебник, охарактеризуйте российский рынок труда  по данным условиям (учебник стр. 123-12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517760" y="427320"/>
            <a:ext cx="6710400" cy="86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Повторим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296280" y="1290960"/>
            <a:ext cx="7168680" cy="427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Wingdings" charset="2"/>
              <a:buChar char=""/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айте определение понятий «труд», «рабочая сила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Wingdings" charset="2"/>
              <a:buChar char=""/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акие современные требования предъявляют к рабочей силе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Wingdings" charset="2"/>
              <a:buChar char=""/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Что такое рынок труда? В чем его отличия от других рынков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т каких факторов может зависеть оплата труда работника?*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96280" y="527760"/>
            <a:ext cx="6710400" cy="86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49000"/>
          </a:bodyPr>
          <a:p>
            <a:pPr indent="0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Каждый ученик 10 класса скоро станет частью рабочей силы!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96280" y="1443960"/>
            <a:ext cx="6710400" cy="473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Что бы быть успешным в современном обществе, что тебе необходимо?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3" name="Picture 4" descr="http://delovoysaratov.ru/wp-content/uploads/2015/12/e483f231f38ccae34038382821d838b2.jpg"/>
          <p:cNvPicPr/>
          <p:nvPr/>
        </p:nvPicPr>
        <p:blipFill>
          <a:blip r:embed="rId1"/>
          <a:stretch/>
        </p:blipFill>
        <p:spPr>
          <a:xfrm>
            <a:off x="448920" y="2970720"/>
            <a:ext cx="3970080" cy="297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11" descr=""/>
          <p:cNvPicPr/>
          <p:nvPr/>
        </p:nvPicPr>
        <p:blipFill>
          <a:blip r:embed="rId1"/>
          <a:stretch/>
        </p:blipFill>
        <p:spPr>
          <a:xfrm>
            <a:off x="0" y="396000"/>
            <a:ext cx="5714640" cy="571464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281320" y="250560"/>
            <a:ext cx="6710400" cy="86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Ваша карьера зависит от Вас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AutoShape 2"/>
          <p:cNvSpPr/>
          <p:nvPr/>
        </p:nvSpPr>
        <p:spPr>
          <a:xfrm>
            <a:off x="15552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AutoShape 4"/>
          <p:cNvSpPr/>
          <p:nvPr/>
        </p:nvSpPr>
        <p:spPr>
          <a:xfrm>
            <a:off x="307800" y="79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AutoShape 6"/>
          <p:cNvSpPr/>
          <p:nvPr/>
        </p:nvSpPr>
        <p:spPr>
          <a:xfrm>
            <a:off x="460440" y="16020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AutoShape 8"/>
          <p:cNvSpPr/>
          <p:nvPr/>
        </p:nvSpPr>
        <p:spPr>
          <a:xfrm>
            <a:off x="612720" y="31284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AutoShape 10"/>
          <p:cNvSpPr/>
          <p:nvPr/>
        </p:nvSpPr>
        <p:spPr>
          <a:xfrm>
            <a:off x="765000" y="4651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212480" y="427320"/>
            <a:ext cx="7634880" cy="86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3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Назовите основные факторы производств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70" name="Таблица 1"/>
          <p:cNvGraphicFramePr/>
          <p:nvPr/>
        </p:nvGraphicFramePr>
        <p:xfrm>
          <a:off x="3350520" y="1360800"/>
          <a:ext cx="5191560" cy="5274720"/>
        </p:xfrm>
        <a:graphic>
          <a:graphicData uri="http://schemas.openxmlformats.org/drawingml/2006/table">
            <a:tbl>
              <a:tblPr/>
              <a:tblGrid>
                <a:gridCol w="752760"/>
                <a:gridCol w="360720"/>
                <a:gridCol w="360720"/>
                <a:gridCol w="360720"/>
                <a:gridCol w="392040"/>
                <a:gridCol w="407520"/>
                <a:gridCol w="370440"/>
                <a:gridCol w="350640"/>
                <a:gridCol w="360720"/>
                <a:gridCol w="360720"/>
                <a:gridCol w="360720"/>
                <a:gridCol w="752760"/>
              </a:tblGrid>
              <a:tr h="352440"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2400" spc="-1" strike="noStrike">
                          <a:solidFill>
                            <a:srgbClr val="0000ff"/>
                          </a:solidFill>
                          <a:latin typeface="Times New Roman"/>
                          <a:hlinkClick r:id="rId2" action="ppaction://hlinksldjump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</a:tr>
              <a:tr h="253800"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</a:tr>
              <a:tr h="246240"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</a:tr>
              <a:tr h="253800"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</a:tr>
              <a:tr h="246240"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</a:tr>
              <a:tr h="253800"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</a:tr>
              <a:tr h="352440"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2400" spc="-1" strike="noStrike">
                          <a:solidFill>
                            <a:srgbClr val="0000ff"/>
                          </a:solidFill>
                          <a:latin typeface="Times New Roman"/>
                          <a:hlinkClick r:id="rId3" action="ppaction://hlinksldjump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</a:tr>
              <a:tr h="253800"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</a:tr>
              <a:tr h="240480"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</a:tr>
              <a:tr h="352440"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2400" spc="-1" strike="noStrike">
                          <a:solidFill>
                            <a:srgbClr val="0000ff"/>
                          </a:solidFill>
                          <a:latin typeface="Times New Roman"/>
                          <a:hlinkClick r:id="rId4" action="ppaction://hlinksldjump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</a:tr>
              <a:tr h="246240"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</a:tr>
              <a:tr h="253800"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noFill/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noFill/>
                    </a:lnB>
                    <a:solidFill>
                      <a:srgbClr val="e9ecf3"/>
                    </a:solidFill>
                  </a:tcPr>
                </a:tc>
              </a:tr>
              <a:tr h="352440"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2400" spc="-1" strike="noStrike">
                          <a:solidFill>
                            <a:srgbClr val="0000ff"/>
                          </a:solidFill>
                          <a:latin typeface="Times New Roman"/>
                          <a:hlinkClick r:id="rId5" action="ppaction://hlinksldjump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000000"/>
                      </a:solidFill>
                    </a:lnL>
                    <a:lnR w="12240">
                      <a:noFill/>
                    </a:lnR>
                    <a:lnT w="12240">
                      <a:noFill/>
                    </a:lnT>
                    <a:lnB w="12240">
                      <a:noFill/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noFill/>
                    </a:lnL>
                    <a:lnR w="12240">
                      <a:noFill/>
                    </a:lnR>
                    <a:lnT w="12240">
                      <a:noFill/>
                    </a:lnT>
                    <a:lnB w="12240">
                      <a:noFill/>
                    </a:lnB>
                    <a:solidFill>
                      <a:srgbClr val="e9ecf3"/>
                    </a:solidFill>
                  </a:tcPr>
                </a:tc>
              </a:tr>
              <a:tr h="253800"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noFill/>
                    </a:lnT>
                    <a:lnB w="12240">
                      <a:noFill/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noFill/>
                    </a:lnT>
                    <a:lnB w="12240">
                      <a:noFill/>
                    </a:lnB>
                    <a:solidFill>
                      <a:srgbClr val="e9ecf3"/>
                    </a:solidFill>
                  </a:tcPr>
                </a:tc>
              </a:tr>
              <a:tr h="246240"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</a:tr>
              <a:tr h="253800"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</a:tr>
              <a:tr h="352440"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2400" spc="-1" strike="noStrike">
                          <a:solidFill>
                            <a:srgbClr val="0000ff"/>
                          </a:solidFill>
                          <a:latin typeface="Times New Roman"/>
                          <a:hlinkClick r:id="rId6" action="ppaction://hlinksldjump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</a:tr>
              <a:tr h="253800"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</a:tr>
              <a:tr h="253800"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endParaRPr b="0" lang="ru-RU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527760"/>
            <a:ext cx="8229240" cy="5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9000"/>
          </a:bodyPr>
          <a:p>
            <a:pPr indent="0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Задания к кроссворду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13832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 это самостоятельная, осуществляемая на свой риск экономическая деятельность, направленная на систематическое получение прибыли от пользования имуществом и нематериальными активами, продажи товаров, выполнения работ или оказания услуг лицами, зарегистрированными в этом качестве в установленном законом порядке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Овал 3"/>
          <p:cNvSpPr/>
          <p:nvPr/>
        </p:nvSpPr>
        <p:spPr>
          <a:xfrm>
            <a:off x="7626240" y="5720400"/>
            <a:ext cx="1372320" cy="914040"/>
          </a:xfrm>
          <a:prstGeom prst="ellipse">
            <a:avLst/>
          </a:prstGeom>
          <a:solidFill>
            <a:srgbClr val="ffff00"/>
          </a:solidFill>
          <a:ln>
            <a:solidFill>
              <a:srgbClr val="ffff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наз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43640" y="527760"/>
            <a:ext cx="8229240" cy="5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9000"/>
          </a:bodyPr>
          <a:p>
            <a:pPr indent="0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Задания к кроссворду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43640" y="1138320"/>
            <a:ext cx="8094240" cy="519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– (средства производства) ресурсы, используемые в производств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– ресурс, используемый в экономических процессах. Овеществляется во всех компонентах системы производительных сил общества, выступает составным элементом всех моментов процесса труда — и предметом труда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 средством труда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 составной частью живого труда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Овал 3">
            <a:hlinkClick r:id="rId1" action="ppaction://hlinksldjump"/>
          </p:cNvPr>
          <p:cNvSpPr/>
          <p:nvPr/>
        </p:nvSpPr>
        <p:spPr>
          <a:xfrm>
            <a:off x="7626240" y="5720400"/>
            <a:ext cx="1372320" cy="914040"/>
          </a:xfrm>
          <a:prstGeom prst="ellipse">
            <a:avLst/>
          </a:prstGeom>
          <a:solidFill>
            <a:srgbClr val="ffff00"/>
          </a:solidFill>
          <a:ln>
            <a:solidFill>
              <a:srgbClr val="ffff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наз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754200" y="427320"/>
            <a:ext cx="7473960" cy="86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Задания к кроссворду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51920" y="1290960"/>
            <a:ext cx="7473960" cy="427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 - это естественные (природные) ресурсы, необходимые для существования человеческого общества и используемые в хозяйств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 важнейший фактор производства, приводящий в движение все другие факторы производств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Овал 3">
            <a:hlinkClick r:id="rId1" action="ppaction://hlinksldjump"/>
          </p:cNvPr>
          <p:cNvSpPr/>
          <p:nvPr/>
        </p:nvSpPr>
        <p:spPr>
          <a:xfrm>
            <a:off x="7626240" y="5720400"/>
            <a:ext cx="1372320" cy="914040"/>
          </a:xfrm>
          <a:prstGeom prst="ellipse">
            <a:avLst/>
          </a:prstGeom>
          <a:solidFill>
            <a:srgbClr val="ffff00"/>
          </a:solidFill>
          <a:ln>
            <a:solidFill>
              <a:srgbClr val="ffff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наз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059840" y="427320"/>
            <a:ext cx="7168680" cy="86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0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Утверждение неверно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296280" y="1290960"/>
            <a:ext cx="8245800" cy="427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879"/>
              </a:spcBef>
              <a:buNone/>
              <a:tabLst>
                <a:tab algn="l" pos="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РАБОЧАЯ СИЛА     =    ТРУД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879"/>
              </a:spcBef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пособности человека                    способности   +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тоимость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(цена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рабочее время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62" name="Прямая соединительная линия 4"/>
          <p:cNvCxnSpPr/>
          <p:nvPr/>
        </p:nvCxnSpPr>
        <p:spPr>
          <a:xfrm flipH="1">
            <a:off x="5488200" y="1443600"/>
            <a:ext cx="610920" cy="45756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cxnSp>
        <p:nvCxnSpPr>
          <p:cNvPr id="263" name="Прямая со стрелкой 8"/>
          <p:cNvCxnSpPr/>
          <p:nvPr/>
        </p:nvCxnSpPr>
        <p:spPr>
          <a:xfrm>
            <a:off x="2281320" y="2054520"/>
            <a:ext cx="360" cy="916560"/>
          </a:xfrm>
          <a:prstGeom prst="straightConnector1">
            <a:avLst/>
          </a:prstGeom>
          <a:ln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264" name="Прямая со стрелкой 9"/>
          <p:cNvCxnSpPr/>
          <p:nvPr/>
        </p:nvCxnSpPr>
        <p:spPr>
          <a:xfrm>
            <a:off x="7014960" y="2054520"/>
            <a:ext cx="360" cy="916560"/>
          </a:xfrm>
          <a:prstGeom prst="straightConnector1">
            <a:avLst/>
          </a:prstGeom>
          <a:ln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265" name="Овал 3">
            <a:hlinkClick r:id="rId1" action="ppaction://hlinksldjump"/>
          </p:cNvPr>
          <p:cNvSpPr/>
          <p:nvPr/>
        </p:nvSpPr>
        <p:spPr>
          <a:xfrm>
            <a:off x="601560" y="4956120"/>
            <a:ext cx="1832040" cy="1221120"/>
          </a:xfrm>
          <a:prstGeom prst="ellipse">
            <a:avLst/>
          </a:prstGeom>
          <a:solidFill>
            <a:srgbClr val="ffff00"/>
          </a:solidFill>
          <a:ln>
            <a:solidFill>
              <a:srgbClr val="0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 u="sng">
                <a:solidFill>
                  <a:srgbClr val="0000ff"/>
                </a:solidFill>
                <a:uFillTx/>
                <a:latin typeface="Times New Roman"/>
                <a:hlinkClick r:id="rId2" action="ppaction://hlinksldjump"/>
              </a:rPr>
              <a:t>наз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01560" y="374760"/>
            <a:ext cx="6710400" cy="86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3000"/>
          </a:bodyPr>
          <a:p>
            <a:pPr indent="0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Условия развития способностей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48920" y="1290960"/>
            <a:ext cx="6710400" cy="427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Wingdings" charset="2"/>
              <a:buChar char="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онкретный исторический этап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атериальные условия жизни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бщественно-экономические отношения в конкретном государстве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Овал 3">
            <a:hlinkClick r:id="rId1" action="ppaction://hlinksldjump"/>
          </p:cNvPr>
          <p:cNvSpPr/>
          <p:nvPr/>
        </p:nvSpPr>
        <p:spPr>
          <a:xfrm>
            <a:off x="665640" y="5261400"/>
            <a:ext cx="1832040" cy="1221120"/>
          </a:xfrm>
          <a:prstGeom prst="ellipse">
            <a:avLst/>
          </a:prstGeom>
          <a:solidFill>
            <a:srgbClr val="ffff00"/>
          </a:solidFill>
          <a:ln>
            <a:solidFill>
              <a:srgbClr val="0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 u="sng">
                <a:solidFill>
                  <a:srgbClr val="0000ff"/>
                </a:solidFill>
                <a:uFillTx/>
                <a:latin typeface="Times New Roman"/>
                <a:hlinkClick r:id="rId2" action="ppaction://hlinksldjump"/>
              </a:rPr>
              <a:t>наз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527760"/>
            <a:ext cx="8229240" cy="5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9000"/>
          </a:bodyPr>
          <a:p>
            <a:pPr indent="0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Источники и литератур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272240"/>
            <a:ext cx="4039920" cy="63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Интернет источник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57200" y="1901880"/>
            <a:ext cx="4039920" cy="379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Wingdings" charset="2"/>
              <a:buChar char="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ekonomika-st.ru/ekonomika/ekon-teorija/ekon-teorija-57.htm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Wingdings" charset="2"/>
              <a:buChar char="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s://yandex.ru/imag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Wingdings" charset="2"/>
              <a:buChar char="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templated.ru/biznes/246-soveschanie.html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 Сайт шаблонов для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werPoin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645080" y="1272240"/>
            <a:ext cx="4202280" cy="63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6000"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Учебник и справочная литератур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645080" y="1901880"/>
            <a:ext cx="4041360" cy="379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Wingdings" charset="2"/>
              <a:buChar char=""/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кономика. Базовый и углубленный уровни. 10 класс: учебник / Р.И. Хасбулатов. – 3-е изд., стереотип. – М.: Дрофа, 2015. - 15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-162000" y="1596600"/>
            <a:ext cx="7772040" cy="1221120"/>
          </a:xfrm>
          <a:prstGeom prst="rect">
            <a:avLst/>
          </a:prstGeom>
          <a:noFill/>
          <a:ln w="0">
            <a:noFill/>
          </a:ln>
          <a:effectLst>
            <a:outerShdw dist="37674" dir="2700000" blurRad="50760" rotWithShape="0">
              <a:srgbClr val="000000">
                <a:alpha val="82000"/>
              </a:srgbClr>
            </a:outerShdw>
          </a:effectLst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ru-RU" sz="7200" spc="-1" strike="noStrike">
                <a:solidFill>
                  <a:srgbClr val="ff0000"/>
                </a:solidFill>
                <a:latin typeface="Times New Roman"/>
              </a:rPr>
              <a:t>Труд и рынок рабочей силы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96280" y="527760"/>
            <a:ext cx="6710400" cy="86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49000"/>
          </a:bodyPr>
          <a:p>
            <a:pPr indent="0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Каждый ученик 10 класса скоро станет частью рабочей силы!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96280" y="1443960"/>
            <a:ext cx="6710400" cy="473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Что бы быть успешным в современном обществе, что тебе необходимо?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4" name="Picture 4" descr="http://delovoysaratov.ru/wp-content/uploads/2015/12/e483f231f38ccae34038382821d838b2.jpg"/>
          <p:cNvPicPr/>
          <p:nvPr/>
        </p:nvPicPr>
        <p:blipFill>
          <a:blip r:embed="rId1"/>
          <a:stretch/>
        </p:blipFill>
        <p:spPr>
          <a:xfrm>
            <a:off x="448920" y="2970720"/>
            <a:ext cx="3970080" cy="297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212480" y="374760"/>
            <a:ext cx="6710400" cy="86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Цель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43640" y="1290960"/>
            <a:ext cx="8084880" cy="503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звитие экономического образа мышле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           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Задачи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мение обосновывать суждения, давать определения, приводить доказательства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иск нужной информации по заданной теме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именение полученных знаний для определения экономически рационального поведения и порядка действий в конкретных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итуациях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517760" y="427320"/>
            <a:ext cx="6710400" cy="86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План урока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01560" y="1290960"/>
            <a:ext cx="7626600" cy="427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14440" indent="-5144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AutoNum type="arabicPeriod"/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руд как фактор производств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AutoNum type="arabicPeriod"/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бочая сила как товар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AutoNum type="arabicPeriod"/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собенности рынка рабочей сил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AutoNum type="arabicPeriod"/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ачество рабочей силы как фактора рост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AutoNum type="arabicPeriod"/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еория человеческого капитал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AutoNum type="arabicPeriod"/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труктура рынка труд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17760" y="427320"/>
            <a:ext cx="6710400" cy="86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Труд =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914040" y="3695760"/>
            <a:ext cx="6710400" cy="187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пособности, с помощью которых человек воздействует на объекты природы, использую орудия труд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Крест 4"/>
          <p:cNvSpPr/>
          <p:nvPr/>
        </p:nvSpPr>
        <p:spPr>
          <a:xfrm>
            <a:off x="2281320" y="1863360"/>
            <a:ext cx="784800" cy="769320"/>
          </a:xfrm>
          <a:prstGeom prst="plus">
            <a:avLst>
              <a:gd name="adj" fmla="val 41667"/>
            </a:avLst>
          </a:prstGeom>
          <a:solidFill>
            <a:srgbClr val="ffffff"/>
          </a:solidFill>
          <a:ln>
            <a:solidFill>
              <a:srgbClr val="000000"/>
            </a:solidFill>
            <a:round/>
          </a:ln>
        </p:spPr>
        <p:style>
          <a:lnRef idx="2">
            <a:schemeClr val="accent6"/>
          </a:lnRef>
          <a:fillRef idx="1">
            <a:schemeClr val="lt1"/>
          </a:fillRef>
          <a:effectRef idx="0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libri"/>
            </a:endParaRPr>
          </a:p>
        </p:txBody>
      </p:sp>
      <p:sp>
        <p:nvSpPr>
          <p:cNvPr id="182" name="Крест 8"/>
          <p:cNvSpPr/>
          <p:nvPr/>
        </p:nvSpPr>
        <p:spPr>
          <a:xfrm>
            <a:off x="6449760" y="1863360"/>
            <a:ext cx="717840" cy="682560"/>
          </a:xfrm>
          <a:prstGeom prst="plus">
            <a:avLst>
              <a:gd name="adj" fmla="val 41667"/>
            </a:avLst>
          </a:prstGeom>
          <a:solidFill>
            <a:srgbClr val="ffffff"/>
          </a:solidFill>
          <a:ln>
            <a:solidFill>
              <a:srgbClr val="000000"/>
            </a:solidFill>
            <a:round/>
          </a:ln>
        </p:spPr>
        <p:style>
          <a:lnRef idx="2">
            <a:schemeClr val="accent6"/>
          </a:lnRef>
          <a:fillRef idx="1">
            <a:schemeClr val="lt1"/>
          </a:fillRef>
          <a:effectRef idx="0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libri"/>
            </a:endParaRPr>
          </a:p>
        </p:txBody>
      </p:sp>
      <p:sp>
        <p:nvSpPr>
          <p:cNvPr id="183" name="Скругленный прямоугольник 9"/>
          <p:cNvSpPr/>
          <p:nvPr/>
        </p:nvSpPr>
        <p:spPr>
          <a:xfrm>
            <a:off x="120960" y="1560960"/>
            <a:ext cx="2007360" cy="13741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>
            <a:solidFill>
              <a:srgbClr val="000000"/>
            </a:solidFill>
            <a:round/>
          </a:ln>
        </p:spPr>
        <p:style>
          <a:lnRef idx="2">
            <a:schemeClr val="accent6"/>
          </a:lnRef>
          <a:fillRef idx="1">
            <a:schemeClr val="lt1"/>
          </a:fillRef>
          <a:effectRef idx="0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chemeClr val="dk1"/>
                </a:solidFill>
                <a:latin typeface="Times New Roman"/>
              </a:rPr>
              <a:t>Физическ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Скругленный прямоугольник 10"/>
          <p:cNvSpPr/>
          <p:nvPr/>
        </p:nvSpPr>
        <p:spPr>
          <a:xfrm>
            <a:off x="3197520" y="1519200"/>
            <a:ext cx="3164400" cy="16038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>
            <a:solidFill>
              <a:srgbClr val="000000"/>
            </a:solidFill>
            <a:round/>
          </a:ln>
        </p:spPr>
        <p:style>
          <a:lnRef idx="2">
            <a:schemeClr val="accent6"/>
          </a:lnRef>
          <a:fillRef idx="1">
            <a:schemeClr val="lt1"/>
          </a:fillRef>
          <a:effectRef idx="0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chemeClr val="dk1"/>
                </a:solidFill>
                <a:latin typeface="Times New Roman"/>
              </a:rPr>
              <a:t>Профессиональ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Скругленный прямоугольник 11"/>
          <p:cNvSpPr/>
          <p:nvPr/>
        </p:nvSpPr>
        <p:spPr>
          <a:xfrm>
            <a:off x="7264440" y="1517400"/>
            <a:ext cx="1832040" cy="13741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>
            <a:solidFill>
              <a:srgbClr val="000000"/>
            </a:solidFill>
            <a:round/>
          </a:ln>
        </p:spPr>
        <p:style>
          <a:lnRef idx="2">
            <a:schemeClr val="accent6"/>
          </a:lnRef>
          <a:fillRef idx="1">
            <a:schemeClr val="lt1"/>
          </a:fillRef>
          <a:effectRef idx="0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chemeClr val="dk1"/>
                </a:solidFill>
                <a:latin typeface="Times New Roman"/>
              </a:rPr>
              <a:t>и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Правая фигурная скобка 12"/>
          <p:cNvSpPr/>
          <p:nvPr/>
        </p:nvSpPr>
        <p:spPr>
          <a:xfrm rot="5400000">
            <a:off x="4145040" y="215280"/>
            <a:ext cx="687600" cy="6271920"/>
          </a:xfrm>
          <a:prstGeom prst="rightBrace">
            <a:avLst>
              <a:gd name="adj1" fmla="val 8333"/>
              <a:gd name="adj2" fmla="val 49571"/>
            </a:avLst>
          </a:prstGeom>
          <a:noFill/>
          <a:ln w="28575">
            <a:solidFill>
              <a:srgbClr val="000000"/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ru-RU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Скругленный прямоугольник 6"/>
          <p:cNvSpPr/>
          <p:nvPr/>
        </p:nvSpPr>
        <p:spPr>
          <a:xfrm>
            <a:off x="-62640" y="3928680"/>
            <a:ext cx="2900880" cy="1452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solidFill>
              <a:srgbClr val="000000"/>
            </a:solidFill>
            <a:round/>
          </a:ln>
        </p:spPr>
        <p:style>
          <a:lnRef idx="2">
            <a:schemeClr val="accent6"/>
          </a:lnRef>
          <a:fillRef idx="1">
            <a:schemeClr val="lt1"/>
          </a:fillRef>
          <a:effectRef idx="0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dk1"/>
                </a:solidFill>
                <a:latin typeface="Times New Roman"/>
              </a:rPr>
              <a:t>Физическая сила, выносливость, физическое здоровье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2" descr="http://sch2010uv.mskobr.ru/images/88.jpg"/>
          <p:cNvPicPr/>
          <p:nvPr/>
        </p:nvPicPr>
        <p:blipFill>
          <a:blip r:embed="rId1"/>
          <a:stretch/>
        </p:blipFill>
        <p:spPr>
          <a:xfrm>
            <a:off x="0" y="5124240"/>
            <a:ext cx="1401840" cy="1733400"/>
          </a:xfrm>
          <a:prstGeom prst="rect">
            <a:avLst/>
          </a:prstGeom>
          <a:ln w="0">
            <a:noFill/>
          </a:ln>
        </p:spPr>
      </p:pic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17760" y="427320"/>
            <a:ext cx="6710400" cy="86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Рабочая сила  =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040" y="3499560"/>
            <a:ext cx="6710400" cy="49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ПОСОБНОСТИ человека к труд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Крест 4"/>
          <p:cNvSpPr/>
          <p:nvPr/>
        </p:nvSpPr>
        <p:spPr>
          <a:xfrm>
            <a:off x="2411640" y="1788480"/>
            <a:ext cx="784800" cy="769320"/>
          </a:xfrm>
          <a:prstGeom prst="plus">
            <a:avLst>
              <a:gd name="adj" fmla="val 41667"/>
            </a:avLst>
          </a:prstGeom>
          <a:solidFill>
            <a:srgbClr val="ffffff"/>
          </a:solidFill>
          <a:ln>
            <a:solidFill>
              <a:srgbClr val="000000"/>
            </a:solidFill>
            <a:round/>
          </a:ln>
        </p:spPr>
        <p:style>
          <a:lnRef idx="2">
            <a:schemeClr val="accent6"/>
          </a:lnRef>
          <a:fillRef idx="1">
            <a:schemeClr val="lt1"/>
          </a:fillRef>
          <a:effectRef idx="0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libri"/>
            </a:endParaRPr>
          </a:p>
        </p:txBody>
      </p:sp>
      <p:sp>
        <p:nvSpPr>
          <p:cNvPr id="192" name="Крест 8"/>
          <p:cNvSpPr/>
          <p:nvPr/>
        </p:nvSpPr>
        <p:spPr>
          <a:xfrm>
            <a:off x="5946480" y="1832040"/>
            <a:ext cx="717840" cy="682560"/>
          </a:xfrm>
          <a:prstGeom prst="plus">
            <a:avLst>
              <a:gd name="adj" fmla="val 41667"/>
            </a:avLst>
          </a:prstGeom>
          <a:solidFill>
            <a:srgbClr val="ffffff"/>
          </a:solidFill>
          <a:ln>
            <a:solidFill>
              <a:srgbClr val="000000"/>
            </a:solidFill>
            <a:round/>
          </a:ln>
        </p:spPr>
        <p:style>
          <a:lnRef idx="2">
            <a:schemeClr val="accent6"/>
          </a:lnRef>
          <a:fillRef idx="1">
            <a:schemeClr val="lt1"/>
          </a:fillRef>
          <a:effectRef idx="0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libri"/>
            </a:endParaRPr>
          </a:p>
        </p:txBody>
      </p:sp>
      <p:sp>
        <p:nvSpPr>
          <p:cNvPr id="193" name="Скругленный прямоугольник 9"/>
          <p:cNvSpPr/>
          <p:nvPr/>
        </p:nvSpPr>
        <p:spPr>
          <a:xfrm>
            <a:off x="120960" y="1560960"/>
            <a:ext cx="2160000" cy="13741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>
            <a:solidFill>
              <a:srgbClr val="000000"/>
            </a:solidFill>
            <a:round/>
          </a:ln>
        </p:spPr>
        <p:style>
          <a:lnRef idx="2">
            <a:schemeClr val="accent6"/>
          </a:lnRef>
          <a:fillRef idx="1">
            <a:schemeClr val="lt1"/>
          </a:fillRef>
          <a:effectRef idx="0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 u="sng">
                <a:solidFill>
                  <a:schemeClr val="dk1"/>
                </a:solidFill>
                <a:uFillTx/>
                <a:latin typeface="Times New Roman"/>
              </a:rPr>
              <a:t>Физическ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Скругленный прямоугольник 10"/>
          <p:cNvSpPr/>
          <p:nvPr/>
        </p:nvSpPr>
        <p:spPr>
          <a:xfrm>
            <a:off x="3336480" y="1519200"/>
            <a:ext cx="2457000" cy="13741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>
            <a:solidFill>
              <a:srgbClr val="000000"/>
            </a:solidFill>
            <a:round/>
          </a:ln>
        </p:spPr>
        <p:style>
          <a:lnRef idx="2">
            <a:schemeClr val="accent6"/>
          </a:lnRef>
          <a:fillRef idx="1">
            <a:schemeClr val="lt1"/>
          </a:fillRef>
          <a:effectRef idx="0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800" spc="-1" strike="noStrike" u="sng">
                <a:solidFill>
                  <a:schemeClr val="dk1"/>
                </a:solidFill>
                <a:uFillTx/>
                <a:latin typeface="Times New Roman"/>
              </a:rPr>
              <a:t>Умствен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Скругленный прямоугольник 11"/>
          <p:cNvSpPr/>
          <p:nvPr/>
        </p:nvSpPr>
        <p:spPr>
          <a:xfrm>
            <a:off x="6751080" y="1526400"/>
            <a:ext cx="2137680" cy="13741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>
            <a:solidFill>
              <a:srgbClr val="000000"/>
            </a:solidFill>
            <a:round/>
          </a:ln>
        </p:spPr>
        <p:style>
          <a:lnRef idx="2">
            <a:schemeClr val="accent6"/>
          </a:lnRef>
          <a:fillRef idx="1">
            <a:schemeClr val="lt1"/>
          </a:fillRef>
          <a:effectRef idx="0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 u="sng">
                <a:solidFill>
                  <a:schemeClr val="dk1"/>
                </a:solidFill>
                <a:uFillTx/>
                <a:latin typeface="Times New Roman"/>
              </a:rPr>
              <a:t>Духов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Правая фигурная скобка 12"/>
          <p:cNvSpPr/>
          <p:nvPr/>
        </p:nvSpPr>
        <p:spPr>
          <a:xfrm rot="5400000">
            <a:off x="4168440" y="191880"/>
            <a:ext cx="488880" cy="6120360"/>
          </a:xfrm>
          <a:prstGeom prst="rightBrace">
            <a:avLst>
              <a:gd name="adj1" fmla="val 8333"/>
              <a:gd name="adj2" fmla="val 49571"/>
            </a:avLst>
          </a:prstGeom>
          <a:noFill/>
          <a:ln w="28575">
            <a:solidFill>
              <a:srgbClr val="000000"/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Стрелка вниз 3"/>
          <p:cNvSpPr/>
          <p:nvPr/>
        </p:nvSpPr>
        <p:spPr>
          <a:xfrm>
            <a:off x="879480" y="3021840"/>
            <a:ext cx="304920" cy="8622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>
            <a:solidFill>
              <a:srgbClr val="000000"/>
            </a:solidFill>
            <a:round/>
          </a:ln>
        </p:spPr>
        <p:style>
          <a:lnRef idx="2">
            <a:schemeClr val="accent6"/>
          </a:lnRef>
          <a:fillRef idx="1">
            <a:schemeClr val="lt1"/>
          </a:fillRef>
          <a:effectRef idx="0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libri"/>
            </a:endParaRPr>
          </a:p>
        </p:txBody>
      </p:sp>
      <p:sp>
        <p:nvSpPr>
          <p:cNvPr id="198" name="Стрелка вниз 13"/>
          <p:cNvSpPr/>
          <p:nvPr/>
        </p:nvSpPr>
        <p:spPr>
          <a:xfrm>
            <a:off x="7667280" y="3065760"/>
            <a:ext cx="304920" cy="8622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>
            <a:solidFill>
              <a:srgbClr val="000000"/>
            </a:solidFill>
            <a:round/>
          </a:ln>
        </p:spPr>
        <p:style>
          <a:lnRef idx="2">
            <a:schemeClr val="accent6"/>
          </a:lnRef>
          <a:fillRef idx="1">
            <a:schemeClr val="lt1"/>
          </a:fillRef>
          <a:effectRef idx="0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libri"/>
            </a:endParaRPr>
          </a:p>
        </p:txBody>
      </p:sp>
      <p:sp>
        <p:nvSpPr>
          <p:cNvPr id="199" name="Стрелка вниз 14"/>
          <p:cNvSpPr/>
          <p:nvPr/>
        </p:nvSpPr>
        <p:spPr>
          <a:xfrm>
            <a:off x="4412520" y="4138560"/>
            <a:ext cx="304920" cy="8622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>
            <a:solidFill>
              <a:srgbClr val="000000"/>
            </a:solidFill>
            <a:round/>
          </a:ln>
        </p:spPr>
        <p:style>
          <a:lnRef idx="2">
            <a:schemeClr val="accent6"/>
          </a:lnRef>
          <a:fillRef idx="1">
            <a:schemeClr val="lt1"/>
          </a:fillRef>
          <a:effectRef idx="0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libri"/>
            </a:endParaRPr>
          </a:p>
        </p:txBody>
      </p:sp>
      <p:sp>
        <p:nvSpPr>
          <p:cNvPr id="200" name="Скругленный прямоугольник 15"/>
          <p:cNvSpPr/>
          <p:nvPr/>
        </p:nvSpPr>
        <p:spPr>
          <a:xfrm>
            <a:off x="3155040" y="5124240"/>
            <a:ext cx="2900880" cy="1452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solidFill>
              <a:srgbClr val="000000"/>
            </a:solidFill>
            <a:round/>
          </a:ln>
        </p:spPr>
        <p:style>
          <a:lnRef idx="2">
            <a:schemeClr val="accent6"/>
          </a:lnRef>
          <a:fillRef idx="1">
            <a:schemeClr val="lt1"/>
          </a:fillRef>
          <a:effectRef idx="0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dk1"/>
                </a:solidFill>
                <a:latin typeface="Times New Roman"/>
              </a:rPr>
              <a:t>Разумная мыслительная деятельность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Скругленный прямоугольник 16"/>
          <p:cNvSpPr/>
          <p:nvPr/>
        </p:nvSpPr>
        <p:spPr>
          <a:xfrm>
            <a:off x="6242760" y="4056120"/>
            <a:ext cx="2900880" cy="1452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solidFill>
              <a:srgbClr val="000000"/>
            </a:solidFill>
            <a:round/>
          </a:ln>
        </p:spPr>
        <p:style>
          <a:lnRef idx="2">
            <a:schemeClr val="accent6"/>
          </a:lnRef>
          <a:fillRef idx="1">
            <a:schemeClr val="lt1"/>
          </a:fillRef>
          <a:effectRef idx="0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dk1"/>
                </a:solidFill>
                <a:latin typeface="Times New Roman"/>
              </a:rPr>
              <a:t>Абстрактное мышление, потребности в нематериальной сфере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6" descr="http://digitalsubstation.ru/wp-content/uploads/2015/04/Sohranennoe-izobrazhenie-2015-4-28_9-27-35.81.jpg"/>
          <p:cNvPicPr/>
          <p:nvPr/>
        </p:nvPicPr>
        <p:blipFill>
          <a:blip r:embed="rId2"/>
          <a:stretch/>
        </p:blipFill>
        <p:spPr>
          <a:xfrm>
            <a:off x="6782760" y="5474520"/>
            <a:ext cx="2105640" cy="133200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4" descr="http://medicalcollege.ru/imaginator/Illusioms/505ff10e528c4.jpeg"/>
          <p:cNvPicPr/>
          <p:nvPr/>
        </p:nvPicPr>
        <p:blipFill>
          <a:blip r:embed="rId3"/>
          <a:stretch/>
        </p:blipFill>
        <p:spPr>
          <a:xfrm>
            <a:off x="3196440" y="4461480"/>
            <a:ext cx="1196280" cy="8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48920" y="427320"/>
            <a:ext cx="7779240" cy="86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69000"/>
          </a:bodyPr>
          <a:p>
            <a:pPr indent="0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От чего зависит развитие  способностей конкретного человека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640" y="1443960"/>
            <a:ext cx="6710400" cy="427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Wingdings" charset="2"/>
              <a:buChar char=""/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бота с текстом учебника стр. 12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Wingdings" charset="2"/>
              <a:buChar char=""/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озможно добавить свои вариант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Овал 3"/>
          <p:cNvSpPr/>
          <p:nvPr/>
        </p:nvSpPr>
        <p:spPr>
          <a:xfrm>
            <a:off x="143640" y="3123720"/>
            <a:ext cx="3664440" cy="1832040"/>
          </a:xfrm>
          <a:prstGeom prst="ellipse">
            <a:avLst/>
          </a:prstGeom>
          <a:solidFill>
            <a:srgbClr val="ffff00"/>
          </a:solidFill>
          <a:ln>
            <a:solidFill>
              <a:srgbClr val="000000"/>
            </a:solidFill>
            <a:round/>
          </a:ln>
        </p:spPr>
        <p:style>
          <a:lnRef idx="2">
            <a:schemeClr val="accent6"/>
          </a:lnRef>
          <a:fillRef idx="1">
            <a:schemeClr val="lt1"/>
          </a:fillRef>
          <a:effectRef idx="0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 u="sng">
                <a:solidFill>
                  <a:srgbClr val="0000ff"/>
                </a:solidFill>
                <a:uFillTx/>
                <a:latin typeface="Times New Roman"/>
                <a:hlinkClick r:id="rId1" action="ppaction://hlinksldjump"/>
              </a:rPr>
              <a:t>Варианты отве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6</TotalTime>
  <Application>LibreOffice/7.4.7.2$Linux_X86_64 LibreOffice_project/40$Build-2</Application>
  <AppVersion>15.0000</AppVersion>
  <Words>763</Words>
  <Paragraphs>144</Paragraphs>
  <Company>Microsoft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1T19:17:07Z</dcterms:created>
  <dc:creator>Julian</dc:creator>
  <dc:description/>
  <dc:language>en-US</dc:language>
  <cp:lastModifiedBy>Elena</cp:lastModifiedBy>
  <dcterms:modified xsi:type="dcterms:W3CDTF">2016-04-15T23:04:07Z</dcterms:modified>
  <cp:revision>5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25</vt:r8>
  </property>
</Properties>
</file>