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C18-79D6-497B-B530-B7C2FE05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46BF-C09B-4F5D-9B34-009F2D05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729-7CDF-4ACF-B624-BB65D41F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4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924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4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924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08E-7F28-4E79-BF8D-E85DF46C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959C-626C-4252-9DD6-F834FB9A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425A-D7AA-4ACB-886D-091D09A5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3D93-FE00-4AA9-A6B3-24EF3F0A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7E9A-C146-46A5-A1FC-E8A6C38D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AC7A-0159-4EFA-ADEC-4AC653A3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27760"/>
            <a:ext cx="822924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0391-1745-4DB8-AD74-F3C44A45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B797-476E-434B-9160-831F18FD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6B5-4035-4638-8A83-642115E0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2646-A9E2-476D-82C3-AD8A3329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F9BA-8404-4B30-B46E-22AB0BFE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BFCE-4C66-4846-A9D5-7701DBD9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0DAF-30E4-4BFB-99D3-125B6DD5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34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8924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234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8924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07C5-AAA8-4E2F-8020-B6F2ACE6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CA85B-0252-4A7E-83EC-E9E523DA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31092-175A-4513-84A0-0E6E2D19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E4226-A139-4C8F-9C87-7C4BCBDA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1C8F8-8F93-402D-8576-C37B4525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C8621-3F53-4147-9E61-A35A4091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ABB-B6CE-409E-8BCC-5F759459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527760"/>
            <a:ext cx="822924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D3FD4-76CE-47DB-8AEF-7CA12ADC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BDCB3-DB39-4D6E-8737-A051A15F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ACAC7-5D99-49AA-99CE-37D1D028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69A2C-AD9F-478F-8ECA-D741EE37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042BD-6A2B-4F4D-8D6A-0206ECD1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1C12F-197A-424B-801F-55E81FA7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234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18924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8234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18924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5D361-6031-46B8-A692-E76CCFF4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CDE90-51D8-46BD-850F-8FC3204A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F92DD-4DDA-4FA9-8F56-34226330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54BAD-B87B-4E9A-94A6-75232C0D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B57C-6B21-44EF-A6A0-6249B540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E01B8-D7D6-4251-9ACF-5413CA14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34FE2-DEB1-4598-80E4-7EF2F449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527760"/>
            <a:ext cx="822924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F434E-DC46-4ADE-8B57-9E67C07E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80832-3F84-43BB-8E6D-EB22245F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878EB-C1FB-473B-98DE-50626EF5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A4FE5-ADD6-4594-87F9-F09DF5DA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E563D-8FE3-4046-9AC6-1C3CAD87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D0715-6628-4A02-BD3E-386D242B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8234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18924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8234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318924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5731F-909E-4DA6-AA94-8E4F199C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806-7BF8-4D34-9F38-A4572267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27760"/>
            <a:ext cx="822924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BF7-FBE0-4145-BA57-EC872769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A12-6250-459C-87E4-8347DB41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680-BE24-4B02-BCB0-7503B77C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60C-DA2F-4478-BAA8-B37B1D21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59840" y="4345200"/>
            <a:ext cx="7772040" cy="1221120"/>
          </a:xfrm>
          <a:prstGeom prst="rect">
            <a:avLst/>
          </a:prstGeom>
          <a:noFill/>
          <a:ln w="0">
            <a:noFill/>
          </a:ln>
          <a:effectLst>
            <a:outerShdw dist="37674" dir="2700000" blurRad="50760" rotWithShape="0">
              <a:srgbClr val="000000">
                <a:alpha val="82000"/>
              </a:srgbClr>
            </a:outerShdw>
          </a:effectLst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40C578-F52A-4268-8F54-DEBEFF9F5AA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17760" y="1290960"/>
            <a:ext cx="67104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581F6A-BA83-432B-9401-CB877599844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BE2C11-AF08-4365-B386-4F11AA911FC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1901880"/>
            <a:ext cx="4039920" cy="37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4645080" y="12722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645080" y="1901880"/>
            <a:ext cx="4041360" cy="37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8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0C1382-72EC-499C-9AF9-E8246D7501F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5120" y="4803480"/>
            <a:ext cx="7772040" cy="1221120"/>
          </a:xfrm>
          <a:prstGeom prst="rect">
            <a:avLst/>
          </a:prstGeom>
          <a:noFill/>
          <a:ln w="0">
            <a:noFill/>
          </a:ln>
          <a:effectLst>
            <a:outerShdw dist="37674" dir="2700000" blurRad="50760" rotWithShape="0">
              <a:srgbClr val="000000">
                <a:alpha val="82000"/>
              </a:srgbClr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 и рынок рабочей си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07200" y="5719680"/>
            <a:ext cx="824580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Автор: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Добровольская Елена Владимировна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учитель истории и обществознания МАОУ «СШ № 19» г. Хабаровск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Презентация по экономике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для учащихся 10 класса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96280" y="37476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7800" y="5567040"/>
            <a:ext cx="5793120" cy="127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32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экономически активное население в трудоспособном возрасте (с 16 до пенсионного возраста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Прямая со стрелкой 4"/>
          <p:cNvCxnSpPr/>
          <p:nvPr/>
        </p:nvCxnSpPr>
        <p:spPr>
          <a:xfrm flipH="1">
            <a:off x="2739240" y="1013400"/>
            <a:ext cx="803520" cy="5832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0" name="Прямая со стрелкой 6"/>
          <p:cNvCxnSpPr/>
          <p:nvPr/>
        </p:nvCxnSpPr>
        <p:spPr>
          <a:xfrm flipH="1">
            <a:off x="1365120" y="2529720"/>
            <a:ext cx="763920" cy="5940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1" name="Прямая со стрелкой 7"/>
          <p:cNvCxnSpPr/>
          <p:nvPr/>
        </p:nvCxnSpPr>
        <p:spPr>
          <a:xfrm>
            <a:off x="6404400" y="1019520"/>
            <a:ext cx="1374480" cy="929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2" name="Прямоугольник 10"/>
          <p:cNvSpPr/>
          <p:nvPr/>
        </p:nvSpPr>
        <p:spPr>
          <a:xfrm>
            <a:off x="6102360" y="1948680"/>
            <a:ext cx="2988720" cy="944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800" spc="49" strike="noStrike">
                <a:solidFill>
                  <a:srgbClr val="ff0000"/>
                </a:solidFill>
                <a:latin typeface="Calibri"/>
              </a:rPr>
              <a:t>Ост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49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49" strike="noStrike">
                <a:solidFill>
                  <a:srgbClr val="ff0000"/>
                </a:solidFill>
                <a:latin typeface="Calibri"/>
              </a:rPr>
              <a:t>нас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1"/>
          <p:cNvSpPr/>
          <p:nvPr/>
        </p:nvSpPr>
        <p:spPr>
          <a:xfrm>
            <a:off x="471240" y="1606680"/>
            <a:ext cx="4231440" cy="914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Рабочая си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2"/>
          <p:cNvSpPr/>
          <p:nvPr/>
        </p:nvSpPr>
        <p:spPr>
          <a:xfrm>
            <a:off x="2035080" y="92160"/>
            <a:ext cx="5755320" cy="914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Население стра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Прямая со стрелкой 13"/>
          <p:cNvCxnSpPr/>
          <p:nvPr/>
        </p:nvCxnSpPr>
        <p:spPr>
          <a:xfrm>
            <a:off x="2518560" y="2548800"/>
            <a:ext cx="831960" cy="5749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6" name="Прямоугольник 18"/>
          <p:cNvSpPr/>
          <p:nvPr/>
        </p:nvSpPr>
        <p:spPr>
          <a:xfrm>
            <a:off x="624960" y="3123720"/>
            <a:ext cx="1311120" cy="4568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заня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9"/>
          <p:cNvSpPr/>
          <p:nvPr/>
        </p:nvSpPr>
        <p:spPr>
          <a:xfrm>
            <a:off x="3034800" y="3123720"/>
            <a:ext cx="1989000" cy="4568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безраб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Прямая со стрелкой 25"/>
          <p:cNvCxnSpPr>
            <a:stCxn id="216" idx="2"/>
          </p:cNvCxnSpPr>
          <p:nvPr/>
        </p:nvCxnSpPr>
        <p:spPr>
          <a:xfrm>
            <a:off x="1280520" y="3585240"/>
            <a:ext cx="360" cy="3715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9" name="Прямоугольник 28"/>
          <p:cNvSpPr/>
          <p:nvPr/>
        </p:nvSpPr>
        <p:spPr>
          <a:xfrm>
            <a:off x="30600" y="3965760"/>
            <a:ext cx="3083040" cy="118836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наемные работ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предпринимат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военнослужа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Прямая со стрелкой 29"/>
          <p:cNvCxnSpPr/>
          <p:nvPr/>
        </p:nvCxnSpPr>
        <p:spPr>
          <a:xfrm>
            <a:off x="6862320" y="2899440"/>
            <a:ext cx="360" cy="4406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1" name="Прямоугольник 30"/>
          <p:cNvSpPr/>
          <p:nvPr/>
        </p:nvSpPr>
        <p:spPr>
          <a:xfrm>
            <a:off x="5946480" y="3339720"/>
            <a:ext cx="2940840" cy="155412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студенты-оч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пенсион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домохозяй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неищущие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Прямая со стрелкой 32"/>
          <p:cNvCxnSpPr/>
          <p:nvPr/>
        </p:nvCxnSpPr>
        <p:spPr>
          <a:xfrm>
            <a:off x="4266360" y="3593880"/>
            <a:ext cx="360" cy="3718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3" name="Прямоугольник 33"/>
          <p:cNvSpPr/>
          <p:nvPr/>
        </p:nvSpPr>
        <p:spPr>
          <a:xfrm>
            <a:off x="3244320" y="3965760"/>
            <a:ext cx="2347920" cy="4568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ищущие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Скругленная соединительная линия 35"/>
          <p:cNvCxnSpPr/>
          <p:nvPr/>
        </p:nvCxnSpPr>
        <p:spPr>
          <a:xfrm flipV="1" rot="10800000">
            <a:off x="142920" y="2548440"/>
            <a:ext cx="307440" cy="3018240"/>
          </a:xfrm>
          <a:prstGeom prst="curved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43640" y="680400"/>
            <a:ext cx="777924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БОЧАЯ СИЛА  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ТРУ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ерно ли утвержд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яснит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Овал 7">
            <a:hlinkClick r:id="rId1" action="ppaction://hlinksldjump"/>
          </p:cNvPr>
          <p:cNvSpPr/>
          <p:nvPr/>
        </p:nvSpPr>
        <p:spPr>
          <a:xfrm>
            <a:off x="143640" y="4803480"/>
            <a:ext cx="1832040" cy="1221120"/>
          </a:xfrm>
          <a:prstGeom prst="ellipse">
            <a:avLst/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 u="sng">
                <a:solidFill>
                  <a:schemeClr val="dk1"/>
                </a:solidFill>
                <a:uFillTx/>
                <a:latin typeface="Times New Roman"/>
                <a:hlinkClick r:id="rId2" action="ppaction://hlinksldjump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собенности рынка рабочей силы (РТ – рынок труда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48920" y="1290960"/>
            <a:ext cx="777924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звитых странах РТ в относительном равновесии (безработица от 2 до 12 %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устойчивость РТ в развивающихся странах   ( безработица от 20 % и выше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формированный рынок труда в новых капиталистических странах (СНГ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8920" y="427320"/>
            <a:ext cx="777924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оказатели качество рабочий сил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640" y="1138320"/>
            <a:ext cx="8703720" cy="519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штаб и уровень развития национально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кономи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научно-технологическое развитие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тран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ен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валифик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чих и инженеров, наличие разработчиков ид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ень и масштаб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звития нау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работная плат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бщ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циальная обеспечен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Человеческий капита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640" y="1138320"/>
            <a:ext cx="809316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Повышается важность образования и на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Образование, обучение, повышение квалификации – необходимость (Образование через всю жизнь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Физическое здоровье (3 часа физкультуры в школе, нормы ГТО, всеобщие медосмотры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http://takzdorovo-to.ru/upload/iblock/399/399d5c69a4b13c11d3e00337a6bc9528.jpg"/>
          <p:cNvPicPr/>
          <p:nvPr/>
        </p:nvPicPr>
        <p:blipFill>
          <a:blip r:embed="rId1"/>
          <a:stretch/>
        </p:blipFill>
        <p:spPr>
          <a:xfrm>
            <a:off x="754200" y="5108760"/>
            <a:ext cx="1221120" cy="12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96280" y="427320"/>
            <a:ext cx="793224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ынок тру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8920" y="1290960"/>
            <a:ext cx="777924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окупность всех рабочих мест в стра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окупность экономических отношений при покупке и продаже рабочей си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8920" y="680400"/>
            <a:ext cx="777924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ля рынка труда характерно: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96280" y="1138320"/>
            <a:ext cx="7176600" cy="38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ободное движение рабочей силы между предприятиями в одном регионе, между отраслями в масштабе стра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жная многоярусная структура (конкурентный и монополизированный, профсоюзный и государственный)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3"/>
          <p:cNvSpPr/>
          <p:nvPr/>
        </p:nvSpPr>
        <p:spPr>
          <a:xfrm>
            <a:off x="196560" y="4650480"/>
            <a:ext cx="5955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ираясь на свой опыт и знания, используя учебник, охарактеризуйте российский рынок труда  по данным условиям (учебник стр. 123-1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овторим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96280" y="1290960"/>
            <a:ext cx="716868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йте определение понятий «труд», «рабочая сил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е современные требования предъявляют к рабочей сил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такое рынок труда? В чем его отличия от других рынк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 каких факторов может зависеть оплата труда работника?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96280" y="52776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ждый ученик 10 класса скоро станет частью рабочей силы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96280" y="1443960"/>
            <a:ext cx="67104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бы быть успешным в современном обществе, что тебе необходимо?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http://delovoysaratov.ru/wp-content/uploads/2015/12/e483f231f38ccae34038382821d838b2.jpg"/>
          <p:cNvPicPr/>
          <p:nvPr/>
        </p:nvPicPr>
        <p:blipFill>
          <a:blip r:embed="rId1"/>
          <a:stretch/>
        </p:blipFill>
        <p:spPr>
          <a:xfrm>
            <a:off x="448920" y="2970720"/>
            <a:ext cx="3970080" cy="29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1" descr=""/>
          <p:cNvPicPr/>
          <p:nvPr/>
        </p:nvPicPr>
        <p:blipFill>
          <a:blip r:embed="rId1"/>
          <a:stretch/>
        </p:blipFill>
        <p:spPr>
          <a:xfrm>
            <a:off x="0" y="396000"/>
            <a:ext cx="5714640" cy="5714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1320" y="25056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аша карьера зависит от Вас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612720" y="3128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765000" y="4651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2480" y="427320"/>
            <a:ext cx="763488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азовите основные факторы производ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Таблица 1"/>
          <p:cNvGraphicFramePr/>
          <p:nvPr/>
        </p:nvGraphicFramePr>
        <p:xfrm>
          <a:off x="3350520" y="1360800"/>
          <a:ext cx="5191560" cy="5274720"/>
        </p:xfrm>
        <a:graphic>
          <a:graphicData uri="http://schemas.openxmlformats.org/drawingml/2006/table">
            <a:tbl>
              <a:tblPr/>
              <a:tblGrid>
                <a:gridCol w="752760"/>
                <a:gridCol w="360720"/>
                <a:gridCol w="360720"/>
                <a:gridCol w="360720"/>
                <a:gridCol w="392040"/>
                <a:gridCol w="407520"/>
                <a:gridCol w="370440"/>
                <a:gridCol w="350640"/>
                <a:gridCol w="360720"/>
                <a:gridCol w="360720"/>
                <a:gridCol w="360720"/>
                <a:gridCol w="752760"/>
              </a:tblGrid>
              <a:tr h="3524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hlinkClick r:id="rId2" action="ppaction://hlinksldjump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62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62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24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hlinkClick r:id="rId3" action="ppaction://hlinksldjump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048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24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hlinkClick r:id="rId4" action="ppaction://hlinksldjump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62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noFill/>
                    </a:lnB>
                    <a:solidFill>
                      <a:srgbClr val="e9ecf3"/>
                    </a:solidFill>
                  </a:tcPr>
                </a:tc>
              </a:tr>
              <a:tr h="3524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hlinkClick r:id="rId5" action="ppaction://hlinksldjump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e9ecf3"/>
                    </a:solidFill>
                  </a:tcPr>
                </a:tc>
              </a:tr>
              <a:tr h="2462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24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hlinkClick r:id="rId6" action="ppaction://hlinksldjump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ния к кроссворд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383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это самостоятельная, осуществляемая на свой риск экономическая деятельность, направленная на систематическое получение прибыли от пользования имуществом и нематериальными активами, продажи товаров, выполнения работ или оказания услуг лицами, зарегистрированными в этом качестве в установленном законом поряд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Овал 3"/>
          <p:cNvSpPr/>
          <p:nvPr/>
        </p:nvSpPr>
        <p:spPr>
          <a:xfrm>
            <a:off x="7626240" y="5720400"/>
            <a:ext cx="1372320" cy="914040"/>
          </a:xfrm>
          <a:prstGeom prst="ellipse">
            <a:avLst/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64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ния к кроссворд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3640" y="1138320"/>
            <a:ext cx="8094240" cy="519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(средства производства) ресурсы, используемые в производ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ресурс, используемый в экономических процессах. Овеществляется во всех компонентах системы производительных сил общества, выступает составным элементом всех моментов процесса труда — и предметом труд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средством труд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составной частью живого труд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Овал 3">
            <a:hlinkClick r:id="rId1" action="ppaction://hlinksldjump"/>
          </p:cNvPr>
          <p:cNvSpPr/>
          <p:nvPr/>
        </p:nvSpPr>
        <p:spPr>
          <a:xfrm>
            <a:off x="7626240" y="5720400"/>
            <a:ext cx="1372320" cy="914040"/>
          </a:xfrm>
          <a:prstGeom prst="ellipse">
            <a:avLst/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4200" y="427320"/>
            <a:ext cx="747396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ния к кроссворд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0960"/>
            <a:ext cx="747396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- это естественные (природные) ресурсы, необходимые для существования человеческого общества и используемые в хозяйст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ажнейший фактор производства, приводящий в движение все другие факторы произво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Овал 3">
            <a:hlinkClick r:id="rId1" action="ppaction://hlinksldjump"/>
          </p:cNvPr>
          <p:cNvSpPr/>
          <p:nvPr/>
        </p:nvSpPr>
        <p:spPr>
          <a:xfrm>
            <a:off x="7626240" y="5720400"/>
            <a:ext cx="1372320" cy="914040"/>
          </a:xfrm>
          <a:prstGeom prst="ellipse">
            <a:avLst/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59840" y="427320"/>
            <a:ext cx="716868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Утверждение неверн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96280" y="1290960"/>
            <a:ext cx="82458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БОЧАЯ СИЛА     =    ТР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ности человека                    способности   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им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цена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рабочее врем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2" name="Прямая соединительная линия 4"/>
          <p:cNvCxnSpPr/>
          <p:nvPr/>
        </p:nvCxnSpPr>
        <p:spPr>
          <a:xfrm flipH="1">
            <a:off x="5488200" y="1443600"/>
            <a:ext cx="610920" cy="4575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263" name="Прямая со стрелкой 8"/>
          <p:cNvCxnSpPr/>
          <p:nvPr/>
        </p:nvCxnSpPr>
        <p:spPr>
          <a:xfrm>
            <a:off x="2281320" y="2054520"/>
            <a:ext cx="360" cy="9165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64" name="Прямая со стрелкой 9"/>
          <p:cNvCxnSpPr/>
          <p:nvPr/>
        </p:nvCxnSpPr>
        <p:spPr>
          <a:xfrm>
            <a:off x="7014960" y="2054520"/>
            <a:ext cx="360" cy="9165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65" name="Овал 3">
            <a:hlinkClick r:id="rId1" action="ppaction://hlinksldjump"/>
          </p:cNvPr>
          <p:cNvSpPr/>
          <p:nvPr/>
        </p:nvSpPr>
        <p:spPr>
          <a:xfrm>
            <a:off x="601560" y="4956120"/>
            <a:ext cx="1832040" cy="1221120"/>
          </a:xfrm>
          <a:prstGeom prst="ellipse">
            <a:avLst/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1560" y="37476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Условия развития способносте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8920" y="1290960"/>
            <a:ext cx="67104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кретный исторический этап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риальные условия жизн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ественно-экономические отношения в конкретном государств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Овал 3">
            <a:hlinkClick r:id="rId1" action="ppaction://hlinksldjump"/>
          </p:cNvPr>
          <p:cNvSpPr/>
          <p:nvPr/>
        </p:nvSpPr>
        <p:spPr>
          <a:xfrm>
            <a:off x="665640" y="5261400"/>
            <a:ext cx="1832040" cy="1221120"/>
          </a:xfrm>
          <a:prstGeom prst="ellipse">
            <a:avLst/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сточники и литерату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Интернет источ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1901880"/>
            <a:ext cx="4039920" cy="37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konomika-st.ru/ekonomika/ekon-teorija/ekon-teorija-57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s://yandex.ru/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templated.ru/biznes/246-soveschanie.ht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айт шаблонов для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Poi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45080" y="1272240"/>
            <a:ext cx="420228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чебник и справочная 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45080" y="1901880"/>
            <a:ext cx="4041360" cy="37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ономика. Базовый и углубленный уровни. 10 класс: учебник / Р.И. Хасбулатов. – 3-е изд., стереотип. – М.: Дрофа, 2015. - 1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62000" y="1596600"/>
            <a:ext cx="7772040" cy="1221120"/>
          </a:xfrm>
          <a:prstGeom prst="rect">
            <a:avLst/>
          </a:prstGeom>
          <a:noFill/>
          <a:ln w="0">
            <a:noFill/>
          </a:ln>
          <a:effectLst>
            <a:outerShdw dist="37674" dir="2700000" blurRad="50760" rotWithShape="0">
              <a:srgbClr val="000000">
                <a:alpha val="82000"/>
              </a:srgbClr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Труд и рынок рабочей сил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96280" y="52776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ждый ученик 10 класса скоро станет частью рабочей силы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96280" y="1443960"/>
            <a:ext cx="67104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бы быть успешным в современном обществе, что тебе необходимо?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http://delovoysaratov.ru/wp-content/uploads/2015/12/e483f231f38ccae34038382821d838b2.jpg"/>
          <p:cNvPicPr/>
          <p:nvPr/>
        </p:nvPicPr>
        <p:blipFill>
          <a:blip r:embed="rId1"/>
          <a:stretch/>
        </p:blipFill>
        <p:spPr>
          <a:xfrm>
            <a:off x="448920" y="2970720"/>
            <a:ext cx="3970080" cy="29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2480" y="37476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640" y="1290960"/>
            <a:ext cx="80848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экономического образа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ие обосновывать суждения, давать определения, приводить доказательств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иск нужной информации по заданной тем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нение полученных знаний для определения экономически рационального поведения и порядка действий в конкрет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туаци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1560" y="1290960"/>
            <a:ext cx="76266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д как фактор производ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чая сила как това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бенности рынка рабочей си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чество рабочей силы как фактора ро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человеческого капит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уктура рынка тру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руд 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3695760"/>
            <a:ext cx="6710400" cy="18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ности, с помощью которых человек воздействует на объекты природы, использую орудия т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Крест 4"/>
          <p:cNvSpPr/>
          <p:nvPr/>
        </p:nvSpPr>
        <p:spPr>
          <a:xfrm>
            <a:off x="2281320" y="1863360"/>
            <a:ext cx="784800" cy="769320"/>
          </a:xfrm>
          <a:prstGeom prst="plus">
            <a:avLst>
              <a:gd name="adj" fmla="val 41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2" name="Крест 8"/>
          <p:cNvSpPr/>
          <p:nvPr/>
        </p:nvSpPr>
        <p:spPr>
          <a:xfrm>
            <a:off x="6449760" y="1863360"/>
            <a:ext cx="717840" cy="682560"/>
          </a:xfrm>
          <a:prstGeom prst="plus">
            <a:avLst>
              <a:gd name="adj" fmla="val 41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3" name="Скругленный прямоугольник 9"/>
          <p:cNvSpPr/>
          <p:nvPr/>
        </p:nvSpPr>
        <p:spPr>
          <a:xfrm>
            <a:off x="120960" y="1560960"/>
            <a:ext cx="2007360" cy="137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Физ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10"/>
          <p:cNvSpPr/>
          <p:nvPr/>
        </p:nvSpPr>
        <p:spPr>
          <a:xfrm>
            <a:off x="3197520" y="1519200"/>
            <a:ext cx="3164400" cy="1603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Профессион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11"/>
          <p:cNvSpPr/>
          <p:nvPr/>
        </p:nvSpPr>
        <p:spPr>
          <a:xfrm>
            <a:off x="7264440" y="1517400"/>
            <a:ext cx="1832040" cy="137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авая фигурная скобка 12"/>
          <p:cNvSpPr/>
          <p:nvPr/>
        </p:nvSpPr>
        <p:spPr>
          <a:xfrm rot="5400000">
            <a:off x="4145040" y="215280"/>
            <a:ext cx="687600" cy="6271920"/>
          </a:xfrm>
          <a:prstGeom prst="rightBrace">
            <a:avLst>
              <a:gd name="adj1" fmla="val 8333"/>
              <a:gd name="adj2" fmla="val 49571"/>
            </a:avLst>
          </a:prstGeom>
          <a:noFill/>
          <a:ln w="28575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Скругленный прямоугольник 6"/>
          <p:cNvSpPr/>
          <p:nvPr/>
        </p:nvSpPr>
        <p:spPr>
          <a:xfrm>
            <a:off x="-62640" y="3928680"/>
            <a:ext cx="2900880" cy="145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Физическая сила, выносливость, физическое здоровь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http://sch2010uv.mskobr.ru/images/88.jpg"/>
          <p:cNvPicPr/>
          <p:nvPr/>
        </p:nvPicPr>
        <p:blipFill>
          <a:blip r:embed="rId1"/>
          <a:stretch/>
        </p:blipFill>
        <p:spPr>
          <a:xfrm>
            <a:off x="0" y="5124240"/>
            <a:ext cx="1401840" cy="17334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абочая сила  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3499560"/>
            <a:ext cx="6710400" cy="49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НОСТИ человека к тру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Крест 4"/>
          <p:cNvSpPr/>
          <p:nvPr/>
        </p:nvSpPr>
        <p:spPr>
          <a:xfrm>
            <a:off x="2411640" y="1788480"/>
            <a:ext cx="784800" cy="769320"/>
          </a:xfrm>
          <a:prstGeom prst="plus">
            <a:avLst>
              <a:gd name="adj" fmla="val 41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2" name="Крест 8"/>
          <p:cNvSpPr/>
          <p:nvPr/>
        </p:nvSpPr>
        <p:spPr>
          <a:xfrm>
            <a:off x="5946480" y="1832040"/>
            <a:ext cx="717840" cy="682560"/>
          </a:xfrm>
          <a:prstGeom prst="plus">
            <a:avLst>
              <a:gd name="adj" fmla="val 41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3" name="Скругленный прямоугольник 9"/>
          <p:cNvSpPr/>
          <p:nvPr/>
        </p:nvSpPr>
        <p:spPr>
          <a:xfrm>
            <a:off x="120960" y="1560960"/>
            <a:ext cx="2160000" cy="137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chemeClr val="dk1"/>
                </a:solidFill>
                <a:uFillTx/>
                <a:latin typeface="Times New Roman"/>
              </a:rPr>
              <a:t>Физ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10"/>
          <p:cNvSpPr/>
          <p:nvPr/>
        </p:nvSpPr>
        <p:spPr>
          <a:xfrm>
            <a:off x="3336480" y="1519200"/>
            <a:ext cx="2457000" cy="137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 u="sng">
                <a:solidFill>
                  <a:schemeClr val="dk1"/>
                </a:solidFill>
                <a:uFillTx/>
                <a:latin typeface="Times New Roman"/>
              </a:rPr>
              <a:t>Ум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11"/>
          <p:cNvSpPr/>
          <p:nvPr/>
        </p:nvSpPr>
        <p:spPr>
          <a:xfrm>
            <a:off x="6751080" y="1526400"/>
            <a:ext cx="2137680" cy="137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chemeClr val="dk1"/>
                </a:solidFill>
                <a:uFillTx/>
                <a:latin typeface="Times New Roman"/>
              </a:rPr>
              <a:t>Дух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авая фигурная скобка 12"/>
          <p:cNvSpPr/>
          <p:nvPr/>
        </p:nvSpPr>
        <p:spPr>
          <a:xfrm rot="5400000">
            <a:off x="4168440" y="191880"/>
            <a:ext cx="488880" cy="6120360"/>
          </a:xfrm>
          <a:prstGeom prst="rightBrace">
            <a:avLst>
              <a:gd name="adj1" fmla="val 8333"/>
              <a:gd name="adj2" fmla="val 49571"/>
            </a:avLst>
          </a:prstGeom>
          <a:noFill/>
          <a:ln w="28575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Стрелка вниз 3"/>
          <p:cNvSpPr/>
          <p:nvPr/>
        </p:nvSpPr>
        <p:spPr>
          <a:xfrm>
            <a:off x="879480" y="3021840"/>
            <a:ext cx="304920" cy="862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8" name="Стрелка вниз 13"/>
          <p:cNvSpPr/>
          <p:nvPr/>
        </p:nvSpPr>
        <p:spPr>
          <a:xfrm>
            <a:off x="7667280" y="3065760"/>
            <a:ext cx="304920" cy="862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9" name="Стрелка вниз 14"/>
          <p:cNvSpPr/>
          <p:nvPr/>
        </p:nvSpPr>
        <p:spPr>
          <a:xfrm>
            <a:off x="4412520" y="4138560"/>
            <a:ext cx="304920" cy="862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00" name="Скругленный прямоугольник 15"/>
          <p:cNvSpPr/>
          <p:nvPr/>
        </p:nvSpPr>
        <p:spPr>
          <a:xfrm>
            <a:off x="3155040" y="5124240"/>
            <a:ext cx="2900880" cy="145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Разумная мыслительная деятельнос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16"/>
          <p:cNvSpPr/>
          <p:nvPr/>
        </p:nvSpPr>
        <p:spPr>
          <a:xfrm>
            <a:off x="6242760" y="4056120"/>
            <a:ext cx="2900880" cy="145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Абстрактное мышление, потребности в нематериальной сфер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http://digitalsubstation.ru/wp-content/uploads/2015/04/Sohranennoe-izobrazhenie-2015-4-28_9-27-35.81.jpg"/>
          <p:cNvPicPr/>
          <p:nvPr/>
        </p:nvPicPr>
        <p:blipFill>
          <a:blip r:embed="rId2"/>
          <a:stretch/>
        </p:blipFill>
        <p:spPr>
          <a:xfrm>
            <a:off x="6782760" y="5474520"/>
            <a:ext cx="2105640" cy="1332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http://medicalcollege.ru/imaginator/Illusioms/505ff10e528c4.jpeg"/>
          <p:cNvPicPr/>
          <p:nvPr/>
        </p:nvPicPr>
        <p:blipFill>
          <a:blip r:embed="rId3"/>
          <a:stretch/>
        </p:blipFill>
        <p:spPr>
          <a:xfrm>
            <a:off x="3196440" y="4461480"/>
            <a:ext cx="119628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8920" y="427320"/>
            <a:ext cx="777924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т чего зависит развитие  способностей конкретного челове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640" y="1443960"/>
            <a:ext cx="67104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 с текстом учебника стр. 1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 добавить свои вари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Овал 3"/>
          <p:cNvSpPr/>
          <p:nvPr/>
        </p:nvSpPr>
        <p:spPr>
          <a:xfrm>
            <a:off x="143640" y="3123720"/>
            <a:ext cx="3664440" cy="1832040"/>
          </a:xfrm>
          <a:prstGeom prst="ellipse">
            <a:avLst/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Варианты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6</TotalTime>
  <Application>LibreOffice/7.4.7.2$Linux_X86_64 LibreOffice_project/40$Build-2</Application>
  <AppVersion>15.0000</AppVersion>
  <Words>763</Words>
  <Paragraphs>14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7Z</dcterms:created>
  <dc:creator>Julian</dc:creator>
  <dc:description/>
  <dc:language>en-US</dc:language>
  <cp:lastModifiedBy>Elena</cp:lastModifiedBy>
  <dcterms:modified xsi:type="dcterms:W3CDTF">2016-04-15T23:04:07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5</vt:r8>
  </property>
</Properties>
</file>