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2.wmf" ContentType="image/x-wmf"/>
  <Override PartName="/ppt/media/image3.png" ContentType="image/png"/>
  <Override PartName="/ppt/media/image17.jpeg" ContentType="image/jpeg"/>
  <Override PartName="/ppt/media/image13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4.png" ContentType="image/png"/>
  <Override PartName="/ppt/media/image12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128D-FED7-427D-8B0A-70C110CD3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E4E5-A303-4001-B771-805AEB7B1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1AE9-B4C8-4319-9301-7745FD8F5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BF17-1821-4EB5-85C7-8418EAEE2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9FD46-E853-4D6A-9A5A-C4090AD49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32301-B419-4A10-B000-4A6081837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88A30-110F-49D2-873C-F73041079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01102-FA96-4F37-919E-EF1E4FD27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48735-51CA-4262-95B0-3B4EEAFFE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C8933-27C5-4B5F-8FBF-CAA813E50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A08E5-7E80-441B-9584-D2838ABE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54BF-AF75-477A-8423-E233AEBD2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5C2B4-B9D8-4788-951E-DA935CD4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3993D-E3D3-47EC-9EA6-B3E64DAD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29E11-202E-483A-B87C-F6CD01D7D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CAB93-FD1E-4304-AF1B-E5F0CC94A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350AE-E3E9-4BCE-93BC-B84C289DD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CF639D-81BB-47C2-B21E-C47A81841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8628B4-EA0D-48F3-8F63-2AB604197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1DE269-DFB1-43B6-BF88-02BEE5833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B81553-FF50-43BB-9735-196760A9A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FE1841-9F37-4915-80B8-F855B4138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D6CA-370A-436D-AD06-6ECA6BABC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1D5557-4C43-4B35-AC61-6667D4FC2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F63FEE-D24D-49E0-8568-DBC72D0E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4B6E5D-B343-4E4C-8600-D4B42FBB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FC735A-A6CB-4DD0-B8F7-E170D58D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28E63C-8DE9-41A0-AB9A-CDB3E7267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476DF6-78B1-4AAB-857E-C609ECA8C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D6F965-F691-4074-8F33-60225D2B6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6DEEF-2957-47D4-B980-80D09FAA8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3E9B8-B828-46FC-BC58-C8B736C76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A5C8D-24AB-4F42-BD4D-ED669731C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8AD0-5478-4D07-A55A-0EE547E74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73590-9EA2-40FD-814F-97CBDFA5F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B7944-28ED-4105-A23A-CA562E9E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69330-D5CD-4227-ADB0-3F6744DF8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A31F5-4238-4EF4-B292-6AA5F436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CB3E4-82E8-4DD1-9BC0-F0D86BD7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024B5-A873-4FC5-B4EC-3906B728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9725C-6F5D-4FFB-97E5-42D12E1A9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F9389-FE20-4A89-8A29-2D03D2AE6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854AF-BDBA-4D4A-9DAC-24A1F7883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46C6D-2A28-43A4-AE20-9DDB38FD6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2C93-BC2B-4BB6-99C0-2AF3DCA57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02FC6-A472-4AA9-8EC0-F43CC6AB1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30851-8436-4409-B632-99F2C8CB3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3B0E5-F0B5-4D34-AAB9-EDA1EBD53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472BA-6729-4656-9E15-CF0E6C7D9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B961E-495F-49B4-BB1E-B6A199FCA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7DDA0-AA31-473C-8259-23049CA4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EFE08-4C46-43AF-ABFA-413A64B5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DE6F2-ECCC-4F7D-8EDA-90587AA1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925C9-184F-4792-A152-E36906084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054B6-BBC1-4E58-A371-13BB4645B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3BFA-1ECA-43F6-9DC7-CD33979D8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DBC9A-4BFF-47AA-AB0B-ADF8AFF4B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7B86D-2461-444A-A0DB-1413BE1C2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08439-BAB7-4E07-B87C-C6D0F36E1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AD1D2-AA17-4099-843A-A9A266BF2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BB9D5-1A96-4213-A157-4C2B3E4EF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CB6A4-5C19-4186-AEC4-4906C512D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736CF-5767-4E93-9ABA-2CBA9D612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14B5C-68EF-4221-9E7F-7616A796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F53CE-BD5D-4AEB-B9A3-04FED879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FE8EF-6630-4C93-8DB6-E184642E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43D1-D479-40D3-B89D-47DCCD11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97296-439D-4EA2-9D75-50F6350B6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6D28E-940E-43F3-90F1-4EE8FCD5A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896EB-2DA7-40A4-8BA0-550BE6BED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A1DEA8-8C1D-4F3D-991E-CAA7EAD8E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B6215-818F-4642-A312-F151DAB32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15A8FD-0DC2-4C19-82D5-FE976E221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3DFA5-3891-423E-B8DB-6D4926F4B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6179C-D934-458C-94E9-696EE95CA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74AC8-D956-46FB-8AAF-27A9E8164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D9117B-063E-4192-92CF-CAC6FC51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3824-7796-4240-838A-BD9D8F50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5BCDC8-7AB1-447F-BB49-43ECF570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759840-B19E-4CAD-901E-7B215DF6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DD168F-2D44-417B-9B64-EEAA96480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3F1F53-C34F-4BCC-B802-5E0ECDECF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F739D-131E-4A59-92CD-8BD53CFEA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9BA7-C9F6-4300-9904-D06C6D32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37.xml"/><Relationship Id="rId35" Type="http://schemas.openxmlformats.org/officeDocument/2006/relationships/slideLayout" Target="../slideLayouts/slideLayout38.xml"/><Relationship Id="rId36" Type="http://schemas.openxmlformats.org/officeDocument/2006/relationships/slideLayout" Target="../slideLayouts/slideLayout39.xml"/><Relationship Id="rId37" Type="http://schemas.openxmlformats.org/officeDocument/2006/relationships/slideLayout" Target="../slideLayouts/slideLayout40.xml"/><Relationship Id="rId38" Type="http://schemas.openxmlformats.org/officeDocument/2006/relationships/slideLayout" Target="../slideLayouts/slideLayout41.xml"/><Relationship Id="rId39" Type="http://schemas.openxmlformats.org/officeDocument/2006/relationships/slideLayout" Target="../slideLayouts/slideLayout42.xml"/><Relationship Id="rId40" Type="http://schemas.openxmlformats.org/officeDocument/2006/relationships/slideLayout" Target="../slideLayouts/slideLayout43.xml"/><Relationship Id="rId41" Type="http://schemas.openxmlformats.org/officeDocument/2006/relationships/slideLayout" Target="../slideLayouts/slideLayout44.xml"/><Relationship Id="rId42" Type="http://schemas.openxmlformats.org/officeDocument/2006/relationships/slideLayout" Target="../slideLayouts/slideLayout45.xml"/><Relationship Id="rId43" Type="http://schemas.openxmlformats.org/officeDocument/2006/relationships/slideLayout" Target="../slideLayouts/slideLayout46.xml"/><Relationship Id="rId44" Type="http://schemas.openxmlformats.org/officeDocument/2006/relationships/slideLayout" Target="../slideLayouts/slideLayout47.xml"/><Relationship Id="rId4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73.xml"/><Relationship Id="rId35" Type="http://schemas.openxmlformats.org/officeDocument/2006/relationships/slideLayout" Target="../slideLayouts/slideLayout74.xml"/><Relationship Id="rId36" Type="http://schemas.openxmlformats.org/officeDocument/2006/relationships/slideLayout" Target="../slideLayouts/slideLayout75.xml"/><Relationship Id="rId37" Type="http://schemas.openxmlformats.org/officeDocument/2006/relationships/slideLayout" Target="../slideLayouts/slideLayout76.xml"/><Relationship Id="rId38" Type="http://schemas.openxmlformats.org/officeDocument/2006/relationships/slideLayout" Target="../slideLayouts/slideLayout77.xml"/><Relationship Id="rId39" Type="http://schemas.openxmlformats.org/officeDocument/2006/relationships/slideLayout" Target="../slideLayouts/slideLayout78.xml"/><Relationship Id="rId40" Type="http://schemas.openxmlformats.org/officeDocument/2006/relationships/slideLayout" Target="../slideLayouts/slideLayout79.xml"/><Relationship Id="rId41" Type="http://schemas.openxmlformats.org/officeDocument/2006/relationships/slideLayout" Target="../slideLayouts/slideLayout80.xml"/><Relationship Id="rId42" Type="http://schemas.openxmlformats.org/officeDocument/2006/relationships/slideLayout" Target="../slideLayouts/slideLayout81.xml"/><Relationship Id="rId43" Type="http://schemas.openxmlformats.org/officeDocument/2006/relationships/slideLayout" Target="../slideLayouts/slideLayout82.xml"/><Relationship Id="rId44" Type="http://schemas.openxmlformats.org/officeDocument/2006/relationships/slideLayout" Target="../slideLayouts/slideLayout83.xml"/><Relationship Id="rId4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2384B-48B9-4089-81A6-572EB70127F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42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5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A6CE9-52A2-4D1C-9054-34D15AE995EB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D02DE-7067-4BF2-AB42-247150F6EDA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8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9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4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46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9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50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51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52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53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5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1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2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3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4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5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6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7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8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9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70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1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2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3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4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5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6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7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8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9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0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1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2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3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4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5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6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7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8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89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DB3A9-4B1E-453B-B83D-FFE30AE2D99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4"/>
    <p:sldLayoutId id="2147483689" r:id="rId35"/>
    <p:sldLayoutId id="2147483690" r:id="rId36"/>
    <p:sldLayoutId id="2147483691" r:id="rId37"/>
    <p:sldLayoutId id="2147483692" r:id="rId38"/>
    <p:sldLayoutId id="2147483693" r:id="rId39"/>
    <p:sldLayoutId id="2147483694" r:id="rId40"/>
    <p:sldLayoutId id="2147483695" r:id="rId41"/>
    <p:sldLayoutId id="2147483696" r:id="rId42"/>
    <p:sldLayoutId id="2147483697" r:id="rId43"/>
    <p:sldLayoutId id="2147483698" r:id="rId44"/>
    <p:sldLayoutId id="2147483699" r:id="rId4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242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243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5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8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249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4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CF5A5-FC38-4AC4-8415-9CB5BE112087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97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98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3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16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17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79912-D8E0-457B-877A-CCC42589579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4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5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5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5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5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6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7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7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90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22B61-9CF9-4D40-9063-4ADF766D1F89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4"/>
    <p:sldLayoutId id="2147483728" r:id="rId35"/>
    <p:sldLayoutId id="2147483729" r:id="rId36"/>
    <p:sldLayoutId id="2147483730" r:id="rId37"/>
    <p:sldLayoutId id="2147483731" r:id="rId38"/>
    <p:sldLayoutId id="2147483732" r:id="rId39"/>
    <p:sldLayoutId id="2147483733" r:id="rId40"/>
    <p:sldLayoutId id="2147483734" r:id="rId41"/>
    <p:sldLayoutId id="2147483735" r:id="rId42"/>
    <p:sldLayoutId id="2147483736" r:id="rId43"/>
    <p:sldLayoutId id="2147483737" r:id="rId44"/>
    <p:sldLayoutId id="2147483738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WordArt 4"/>
          <p:cNvSpPr txBox="1"/>
          <p:nvPr/>
        </p:nvSpPr>
        <p:spPr>
          <a:xfrm>
            <a:off x="1258920" y="2924280"/>
            <a:ext cx="525636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ловодье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3" name="WordArt 6"/>
          <p:cNvSpPr txBox="1"/>
          <p:nvPr/>
        </p:nvSpPr>
        <p:spPr>
          <a:xfrm>
            <a:off x="684360" y="765000"/>
            <a:ext cx="6840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ff99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66ff99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ff99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тихийные бедствия.</a:t>
            </a:r>
            <a:endParaRPr b="0" lang="en-US" sz="1800" spc="1" strike="noStrike">
              <a:ln w="12600">
                <a:solidFill>
                  <a:srgbClr val="66ff99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44" name="1-Allegro molto.mp3" descr=""/>
          <p:cNvPicPr/>
          <p:nvPr/>
        </p:nvPicPr>
        <p:blipFill>
          <a:blip r:embed="rId3"/>
          <a:stretch/>
        </p:blipFill>
        <p:spPr>
          <a:xfrm>
            <a:off x="0" y="66135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59094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50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информации специалистов районного управления ГОиЧС города Балахны на 20 марта 2007 года уровень воды в реке Волге составляет 69,2 м (критический уровень-71,2 м). Уровень воды в Горьковском водохранилище на 40см ниже верхнего бьефа. Боковой приток к водохранилищу ожидается к началу 2-ой декады апреля. Подъём воды в Волге прогнозируется до 72,9 м. Под угрозой подтопления в эти дни могут оказаться деревня Смирино, ул. Кавказ и мкр.картонного комбинат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WordArt 4"/>
          <p:cNvSpPr txBox="1"/>
          <p:nvPr/>
        </p:nvSpPr>
        <p:spPr>
          <a:xfrm>
            <a:off x="2124000" y="189000"/>
            <a:ext cx="50198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огда будет половодье?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9" name="Picture 4" descr="p8070352_01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71" name="Picture 4" descr="p8070356_01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Половодье в Балахне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680" y="1267920"/>
            <a:ext cx="85406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Arial"/>
              </a:rPr>
              <a:t>Сторожилы города Балахна помнят самые крупные половодья 1936  и 1961 годов, когда была затоплена большая часть города (ул. Кузнецкая и др.).Деревни Ваняты, Самойловка, Игнатово, Могильцы,Постниково, Трестьяны, Гумнища находились в воде. В поселке Правдинск вода доходила до железнодорожного переезда.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WordArt 4"/>
          <p:cNvSpPr txBox="1"/>
          <p:nvPr/>
        </p:nvSpPr>
        <p:spPr>
          <a:xfrm>
            <a:off x="395280" y="2421000"/>
            <a:ext cx="83278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ee1212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амятка населению во время половодья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ee1212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МЯТКА НАСЕЛЕНИ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Весеннее половодь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КАК СПАСТИ СЕБЯ, СВОИХ БЛИЗКИХ И СВОЙ Д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Подготовка дома и подворь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 начала обильного таяния снега необходимо выполнить следующий объем работ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сбросить снег с крыши дома, хозяйственных построек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вывести (вынести) снег из двора в низкие места, где при таянии снега талая вода не будет угрожать подтоплением строениям вашего дома и соседе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очистить от снега и наледи (до грунта) канавы и сточные желоб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запасы овощей из подвалов (погребов) перенести на чердак или сенова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на подворье все предметы, способные уплыть, привязать к столба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оленницы дров скрепить досками и гвоздями, плотно привязать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мебель в доме максимально приподнять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одготовить лодку (если ее нет - связать во дворе плотик из подручных средств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одготовить необходимое количество мешков и песком (землей) для перекрытия доступа прорвавшейся вод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сосредоточить в определенном месте подручные средства для откачки воды (насосы, ведра и др. емкости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вая помощь при переохлаждении организм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Замена мокрого белья на сухо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 Согреть человека, использу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горячее питьё (чай,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ф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алкоголь) , пища внутрь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погружение в тёплую ванну с последующим повышением температуры воды до 39-40 С.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использование биогрелки (тепла человеческого тела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 Эвакуация пострадавшего в лечебное учрежд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СЛЕ  СПАДА ВОД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ед входом в жилище после наводнения необходимо соблюдать меры предосторожности: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бедитесь, что строительные конструкции не пострадали,  только затем открывайте двери и окна для проветрив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льзя пользоваться открытым огнем (возможна взрывопожарная концентрация газов), запрещается включать электроосвещение и другие электропотребители до проверки исправности электрических сетей и газового оборуд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терегайтесь порванных и провисших электрических провод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сушите дом: оставьте окна открытыми, вынесите по возможности все промокшие вещи, соберите воду и влажный мусо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льзоваться электричеством, газом, водопроводом, коммуникациями можно только после того, как разрешат специалист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тегорически запрещается использовать продукты питания, попавшие в воду и употреблять воду без санитарной провер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9" name="Picture 4" descr="polovodj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0" name="WordArt 8"/>
          <p:cNvSpPr txBox="1"/>
          <p:nvPr/>
        </p:nvSpPr>
        <p:spPr>
          <a:xfrm>
            <a:off x="324000" y="189000"/>
            <a:ext cx="83516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Помните наши правила во время половодья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pic>
        <p:nvPicPr>
          <p:cNvPr id="481" name="1-Allegro molto.mp3" descr=""/>
          <p:cNvPicPr/>
          <p:nvPr/>
        </p:nvPicPr>
        <p:blipFill>
          <a:blip r:embed="rId2"/>
          <a:stretch/>
        </p:blipFill>
        <p:spPr>
          <a:xfrm>
            <a:off x="0" y="66135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059094" fill="hold"/>
                                        <p:tgtEl>
                                          <p:spTgt spid="4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полняли презентацию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ыкадоров Роман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жов Алексе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риценко Алексей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ролов Его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молин Паве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кола №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007 год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WordArt 4"/>
          <p:cNvSpPr txBox="1"/>
          <p:nvPr/>
        </p:nvSpPr>
        <p:spPr>
          <a:xfrm>
            <a:off x="1547640" y="620640"/>
            <a:ext cx="6409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Знакомство с создателями.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Как выглядит половодье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448" name="Picture 4" descr="5[1]"/>
          <p:cNvPicPr/>
          <p:nvPr/>
        </p:nvPicPr>
        <p:blipFill>
          <a:blip r:embed="rId1"/>
          <a:stretch/>
        </p:blipFill>
        <p:spPr>
          <a:xfrm>
            <a:off x="971640" y="1854360"/>
            <a:ext cx="8028000" cy="50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1" name="Picture 4" descr="polovodje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4" name="Picture 4" descr="polovodie-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WordArt 5"/>
          <p:cNvSpPr txBox="1"/>
          <p:nvPr/>
        </p:nvSpPr>
        <p:spPr>
          <a:xfrm>
            <a:off x="1042920" y="333360"/>
            <a:ext cx="681048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ичины половодья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6" name="Text Box 930"/>
          <p:cNvSpPr/>
          <p:nvPr/>
        </p:nvSpPr>
        <p:spPr>
          <a:xfrm>
            <a:off x="324000" y="1557360"/>
            <a:ext cx="8820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    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1 .Скорость протекания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аводка.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    2.Количество пасмурных и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олнечных дней.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    3.Объём воды, попадающий в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еку Волгу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7" name=""/>
          <p:cNvGraphicFramePr/>
          <p:nvPr/>
        </p:nvGraphicFramePr>
        <p:xfrm>
          <a:off x="301680" y="1676520"/>
          <a:ext cx="4191120" cy="4422600"/>
        </p:xfrm>
        <a:graphic>
          <a:graphicData uri="http://schemas.openxmlformats.org/drawingml/2006/table">
            <a:tbl>
              <a:tblPr/>
              <a:tblGrid>
                <a:gridCol w="1530360"/>
                <a:gridCol w="1330200"/>
                <a:gridCol w="1330560"/>
              </a:tblGrid>
              <a:tr h="100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Время г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Процен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868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851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ff00"/>
                          </a:solidFill>
                          <a:latin typeface="Arial Cyr"/>
                        </a:rPr>
                        <a:t>Лет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6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852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ff00"/>
                          </a:solidFill>
                          <a:latin typeface="Arial Cyr"/>
                        </a:rPr>
                        <a:t>Вес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6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850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ff00"/>
                          </a:solidFill>
                          <a:latin typeface="Arial Cyr"/>
                        </a:rPr>
                        <a:t>Осен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3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58" name="Object 3533"/>
          <p:cNvGraphicFramePr/>
          <p:nvPr/>
        </p:nvGraphicFramePr>
        <p:xfrm>
          <a:off x="4651200" y="1704960"/>
          <a:ext cx="4189680" cy="439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9" name="Object 35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0" y="1704960"/>
                    <a:ext cx="4189680" cy="43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0" name="WordArt 3541"/>
          <p:cNvSpPr txBox="1"/>
          <p:nvPr/>
        </p:nvSpPr>
        <p:spPr>
          <a:xfrm>
            <a:off x="250920" y="476280"/>
            <a:ext cx="856440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e1212"/>
                </a:solidFill>
                <a:latin typeface="Arial"/>
              </a:rPr>
              <a:t>Опрос населения о времени половодья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ee1212"/>
              </a:solidFill>
              <a:latin typeface="Arial"/>
              <a:ea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4" descr="1084939608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4" name="Picture 4" descr="IMG_0036_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3T13:44:35Z</dcterms:created>
  <dc:creator>Comp2807</dc:creator>
  <dc:description/>
  <dc:language>en-US</dc:language>
  <cp:lastModifiedBy>1</cp:lastModifiedBy>
  <dcterms:modified xsi:type="dcterms:W3CDTF">2008-01-24T08:08:22Z</dcterms:modified>
  <cp:revision>14</cp:revision>
  <dc:subject/>
  <dc:title>Слайд 1</dc:title>
</cp:coreProperties>
</file>