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4.png" ContentType="image/png"/>
  <Override PartName="/ppt/media/image1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7C6-43AC-4C36-8394-88831C15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508-A5C3-470D-97BC-0032A7DC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975-4C03-402D-912E-C67CD64B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169-AD59-4C65-974A-93A58549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ECB2-35AB-462A-A2D7-DC53DAFA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381D-9B50-4C7B-AA44-2E8FA138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9845-579D-4B46-857E-47C86FB7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9C41-C747-4F3A-B160-AA39DAB1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854F-C653-4AD2-90AB-4E4AB951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DADE-5963-4F5A-B003-2046B441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FCFF-679B-464D-A8AB-DB70F5D6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53B-5EA4-46A8-8883-20E9CDF8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5D41-3543-4D9A-B85F-384A6CE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5ED1-17F7-4BB1-ABBA-120F76A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3BDF-BE71-41D8-835B-995E73CC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7BC3-7112-4BDA-938C-AB5908AB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BCDB-B5D0-4676-9354-B7C3A171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E9E2C-1728-4CE0-88BA-9D6532F4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D8E79-F47E-43BA-B484-009C0E5C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13B12-E6AA-4F01-8436-7025FEE6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D1A28-7C80-4AD9-993B-4F84140B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5897F-E89B-4F87-8A68-12727539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17A-48D5-4EBF-BDFA-16C3DEA3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A6E6C-AFC6-42CC-8AF3-B7453E4A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C88A1-25BF-4307-AFD8-00575AA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61B66-75B4-429B-97DA-138F26D1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C0B54-22EE-4826-9634-C0FDC543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0F449-E08D-43CB-822D-173D4D3F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83CCA-2027-4766-A4F5-899DC243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E323D-BDE4-4CD7-86DE-B38D1C7C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DACCE-47A2-4A03-83F8-FBF11903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55D3F-CA35-4B7C-BF48-11436D5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34FCE-6BE7-4AF4-9828-27980BA1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281-48CD-4375-B38B-9203FFF8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213A-4913-4B42-901C-2F8D631A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A710-8F9E-463C-8B2A-2FC7659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8D2E7-1124-49A5-AC00-A7C75C20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85087-534A-423A-960F-CB08DE8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C15B-C515-4BE3-8570-5831066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E846-2C87-44DC-BDB2-AB87659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B140-41A1-4263-8BD4-97F517CE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3838-2105-434C-A5D2-FCF817A7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E1A4-6BE0-49F2-8042-30BEB2A0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ED98-090D-472F-A6F0-B07C8A29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3A9-0219-46C1-A474-BBB14B9B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58B75-1DC6-4C81-A024-74984A44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FFD89-17F0-44FA-88F9-02DDE081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0165-A445-439B-9B8C-1D26D9F8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1E86B-1F07-4FC5-86E0-D1B0A798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78E5-F2C4-4941-811E-381E4A40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108D1-4B1B-4B8F-941D-A849C11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84034-D7AD-49C3-9DD9-205C08A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38B9C-C47D-4D4F-8F31-EA7AFD2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0B739-2C66-49DF-8191-E1A016CE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E9071-4828-4F22-B8F8-40442B96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474-DAAE-431F-BF89-A1F3F2E8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3399-D409-4957-9DC8-C412DD10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D0999-85A3-47C7-81E5-3A8D0990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36E63-2919-4F07-A310-41CDD447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44AA-3060-4001-9FFB-5C098E86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3E8B2-BBE5-4233-B2BB-7BCE6D5E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29BC9-0BC7-40B8-8986-972668C2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6B496-8D90-4C54-A88E-FB5DD572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0CCC-B717-4766-AAD1-5B4546F9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67B8C-FAA8-4B7F-A6E4-4C2908F8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8E566-12C7-4304-B167-BA45BA74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096-B462-4BB1-8424-9176F62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0596-2A5A-4E9B-96E0-663419FA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A5D4-A0EA-451D-94F6-B64D1D1A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A43DF-7294-4E52-9352-B87466A7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04E54-DB31-4AE4-B0F3-9C8B75C5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B013B-7327-4E31-AB0C-A8D9D234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1891-DC90-41D3-ADB0-64A131CE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EEF79-4584-4425-B981-2ECA7C50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FA3A-9FE7-4D48-BEE4-C27E11F7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00DA5-B814-4628-8672-5064010C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FC0BD-6DAE-4EAC-BD09-4768064B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261-74E6-4EF4-B2B9-331CEC5D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3C28A-FF83-4323-BCDD-45B5339C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7E16C-E655-4D01-A8B6-AAE752A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C0F11-F98D-41F8-BE14-28DF744A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26A31-BF1F-490B-A8B5-EDEA4C80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34FF7-71A6-4A41-94C2-C8FB7265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5C8-557C-49BE-9ABD-B707A435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137E-B2DC-4D47-B67E-88D60FA8E0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C8C9-BE9B-424B-9C5B-96A46DF7004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F210-02E3-4A15-B900-E21CFD4775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9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B04D-43D5-464E-9938-BB11869AAC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4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4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49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B0A4-E540-4B50-9DB5-407D51E29B0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590C-5E80-429E-A413-492148D307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DBF2-6164-4963-B043-E638CA9ACCE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4"/>
          <p:cNvSpPr txBox="1"/>
          <p:nvPr/>
        </p:nvSpPr>
        <p:spPr>
          <a:xfrm>
            <a:off x="1258920" y="2924280"/>
            <a:ext cx="5256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оводь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3" name="WordArt 6"/>
          <p:cNvSpPr txBox="1"/>
          <p:nvPr/>
        </p:nvSpPr>
        <p:spPr>
          <a:xfrm>
            <a:off x="684360" y="765000"/>
            <a:ext cx="684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ff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66ff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ff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ихийные бедствия.</a:t>
            </a:r>
            <a:endParaRPr b="0" lang="en-US" sz="1800" spc="1" strike="noStrike">
              <a:ln w="12600">
                <a:solidFill>
                  <a:srgbClr val="66ff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4" name="1-Allegro molto.mp3" descr=""/>
          <p:cNvPicPr/>
          <p:nvPr/>
        </p:nvPicPr>
        <p:blipFill>
          <a:blip r:embed="rId3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9094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формации специалистов районного управления ГОиЧС города Балахны на 20 марта 2007 года уровень воды в реке Волге составляет 69,2 м (критический уровень-71,2 м). Уровень воды в Горьковском водохранилище на 40см ниже верхнего бьефа. Боковой приток к водохранилищу ожидается к началу 2-ой декады апреля. Подъём воды в Волге прогнозируется до 72,9 м. Под угрозой подтопления в эти дни могут оказаться деревня Смирино, ул. Кавказ и мкр.картонного комбина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2124000" y="189000"/>
            <a:ext cx="5019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гда будет половодье?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4" descr="p8070352_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1" name="Picture 4" descr="p8070356_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ловодье в Балахн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Сторожилы города Балахна помнят самые крупные половодья 1936  и 1961 годов, когда была затоплена большая часть города (ул. Кузнецкая и др.).Деревни Ваняты, Самойловка, Игнатово, Могильцы,Постниково, Трестьяны, Гумнища находились в воде. В поселке Правдинск вода доходила до железнодорожного переезда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4"/>
          <p:cNvSpPr txBox="1"/>
          <p:nvPr/>
        </p:nvSpPr>
        <p:spPr>
          <a:xfrm>
            <a:off x="395280" y="2421000"/>
            <a:ext cx="83278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e121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ка населению во время половодь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e121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МЯТКА НАСЕЛ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есеннее половод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АК СПАСТИ СЕБЯ, СВОИХ БЛИЗКИХ И СВОЙ 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дготовка дома и подворь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начала обильного таяния снега необходимо выполнить следующий объем рабо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бросить снег с крыши дома, хозяйственных построе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ывести (вынести) снег из двора в низкие места, где при таянии снега талая вода не будет угрожать подтоплением строениям вашего дома и сосед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чистить от снега и наледи (до грунта) канавы и сточные желоб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пасы овощей из подвалов (погребов) перенести на чердак или сенов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 подворье все предметы, способные уплыть, привязать к столб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ленницы дров скрепить досками и гвоздями, плотно привяз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ебель в доме максимально приподня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дготовить лодку (если ее нет - связать во дворе плотик из подручных средст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дготовить необходимое количество мешков и песком (землей) для перекрытия доступа прорвавшейся во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осредоточить в определенном месте подручные средства для откачки воды (насосы, ведра и др. емк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помощь при переохлаждении организ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Замена мокрого белья на сух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Согреть человека, использу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орячее питьё (чай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ф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лкоголь) , пища внутр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гружение в тёплую ванну с последующим повышением температуры воды до 39-40 С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использование биогрелки (тепла человеческого тел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Эвакуация пострадавшего в лечебное учреж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  СПАДА ВО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входом в жилище после наводнения необходимо соблюдать меры предосторожности: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бедитесь, что строительные конструкции не пострадали,  только затем открывайте двери и окна для проветри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льзя пользоваться открытым огнем (возможна взрывопожарная концентрация газов), запрещается включать электроосвещение и другие электропотребители до проверки исправности электрических сетей и газового обору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ерегайтесь порванных и провисших электрических пров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ушите дом: оставьте окна открытыми, вынесите по возможности все промокшие вещи, соберите воду и влажный мус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ьзоваться электричеством, газом, водопроводом, коммуникациями можно только после того, как разрешат специалис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егорически запрещается использовать продукты питания, попавшие в воду и употреблять воду без санитарной прове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4" descr="polovod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WordArt 8"/>
          <p:cNvSpPr txBox="1"/>
          <p:nvPr/>
        </p:nvSpPr>
        <p:spPr>
          <a:xfrm>
            <a:off x="324000" y="189000"/>
            <a:ext cx="835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омните наши правила во время половодь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81" name="1-Allegro molto.mp3" descr=""/>
          <p:cNvPicPr/>
          <p:nvPr/>
        </p:nvPicPr>
        <p:blipFill>
          <a:blip r:embed="rId2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59094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яли презентац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кадоров Рома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жов Алекс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иценко Алексей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олов Ег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лин Пав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а №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 год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WordArt 4"/>
          <p:cNvSpPr txBox="1"/>
          <p:nvPr/>
        </p:nvSpPr>
        <p:spPr>
          <a:xfrm>
            <a:off x="1547640" y="620640"/>
            <a:ext cx="640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накомство с создателями.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 выглядит половодье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48" name="Picture 4" descr="5[1]"/>
          <p:cNvPicPr/>
          <p:nvPr/>
        </p:nvPicPr>
        <p:blipFill>
          <a:blip r:embed="rId1"/>
          <a:stretch/>
        </p:blipFill>
        <p:spPr>
          <a:xfrm>
            <a:off x="971640" y="1854360"/>
            <a:ext cx="802800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4" descr="polovodj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4" descr="polovodie-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5"/>
          <p:cNvSpPr txBox="1"/>
          <p:nvPr/>
        </p:nvSpPr>
        <p:spPr>
          <a:xfrm>
            <a:off x="1042920" y="333360"/>
            <a:ext cx="68104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чины половодь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Text Box 930"/>
          <p:cNvSpPr/>
          <p:nvPr/>
        </p:nvSpPr>
        <p:spPr>
          <a:xfrm>
            <a:off x="324000" y="1557360"/>
            <a:ext cx="88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.Скорость протекания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водка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   2.Количество пасмурных и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лнечных дней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   3.Объём воды, попадающий в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ку Волгу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01680" y="1676520"/>
          <a:ext cx="4191120" cy="4422600"/>
        </p:xfrm>
        <a:graphic>
          <a:graphicData uri="http://schemas.openxmlformats.org/drawingml/2006/table">
            <a:tbl>
              <a:tblPr/>
              <a:tblGrid>
                <a:gridCol w="1530360"/>
                <a:gridCol w="1330200"/>
                <a:gridCol w="133056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Время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Проц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Вес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8" name="Object 3533"/>
          <p:cNvGraphicFramePr/>
          <p:nvPr/>
        </p:nvGraphicFramePr>
        <p:xfrm>
          <a:off x="4651200" y="1704960"/>
          <a:ext cx="418968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Object 35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704960"/>
                    <a:ext cx="418968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WordArt 3541"/>
          <p:cNvSpPr txBox="1"/>
          <p:nvPr/>
        </p:nvSpPr>
        <p:spPr>
          <a:xfrm>
            <a:off x="250920" y="476280"/>
            <a:ext cx="85644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1212"/>
                </a:solidFill>
                <a:latin typeface="Arial"/>
              </a:rPr>
              <a:t>Опрос населения о времени половодь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1212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108493960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4" descr="IMG_0036_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3:44:35Z</dcterms:created>
  <dc:creator>Comp2807</dc:creator>
  <dc:description/>
  <dc:language>en-US</dc:language>
  <cp:lastModifiedBy>1</cp:lastModifiedBy>
  <dcterms:modified xsi:type="dcterms:W3CDTF">2008-01-24T08:08:22Z</dcterms:modified>
  <cp:revision>14</cp:revision>
  <dc:subject/>
  <dc:title>Слайд 1</dc:title>
</cp:coreProperties>
</file>