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4.png" ContentType="image/png"/>
  <Override PartName="/ppt/media/image1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0A8-07F3-4E78-B286-A9282AE6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26F-1B5E-4790-BD09-438771A6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A1C-D22C-4FF9-8CA8-0CFCA634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FB6-1DCB-4765-B7F4-B5D9A882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108E-BA51-49F7-8605-06349672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6116-25CA-468C-8D33-46748D3A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4CD6-8F30-4C3E-AA46-E2A804C5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5F42-6DDC-4F86-B2A2-4685FDC0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7FCE-0EA2-45C7-840B-0404E2F0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B7C0-FA01-4066-9131-E110CC0D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8784-B292-446E-9BFE-7074DBD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10D-D117-4708-8847-C5765556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9001-556F-4A04-A40F-ACF9B44D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F7DC-76AC-43FD-9471-8B22FA3E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2E2F-A0E7-4A14-A913-1B490545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87A0-E7E4-442F-A659-5572BD44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6CF6-CE95-4535-B011-8E124918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48C3B-6466-4764-9639-A20E2238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48E7C-14F9-4EDA-9F89-DB5ECE23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D141C-0BE8-4302-9602-631066EA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65495-BED0-4DB1-BE25-3D09B759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CB73C-4581-43AB-85D8-5E817E01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AEC-406D-4CC0-8FAE-28D6E397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24CA7-4E5E-4ADB-97C9-1B924EEB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6B61B-AA97-4F85-A929-B97C9190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5218B-C945-4DAF-AFC5-55CF345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3FF47-8F73-47E0-9ED3-3E954CD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B9620-75AB-45EB-9E88-A0E62EF4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D0DA5-68B0-436A-842C-1B816E59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9242F-592F-4E87-AD00-56E389F8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5E09-A2DF-4BBC-97BA-7C24FC17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CCFA-7DED-48F6-87F9-C3CCDC00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607C1-D4F8-475A-A327-2F9B0E8E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293-FF03-4504-AE26-DF3740BB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141D-B671-456C-8D4D-9C328737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84964-5A57-446E-AE11-F8D1A2F3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CF48-6B5D-4A41-A355-BDFF3529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67FA2-5097-4F02-86D6-C8BAF57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920A7-BCA6-4F7E-AB9C-88442CFE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D801-F390-427D-AD0E-30C0F2C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C4944-8BF8-41D5-9C53-EE2945EA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7379A-98CC-4D84-A574-9DE475E4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7BAF9-7A09-4E8A-BB29-9C202944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7FFFF-69F5-4DF4-A510-193BFDC3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A0F-8488-4B11-A746-93F8DDB9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2CC8-18B6-4893-BDDA-B44958EC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00F8E-E511-49A9-BF35-B9C99E8C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3E98F-10BF-45C2-91AD-6C017E27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34521-63D8-49AA-BD13-A746D36B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020B-9BDC-45AC-AD9C-7479C829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C2FB-70D3-45C2-9A62-9D0CDFCF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5302-AA57-4EB0-B774-2CA390C6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EF1DC-B7C0-4E8A-B6CA-DBAC733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FE4EC-52E3-4C33-8F85-0556D54D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8B4E3-564A-45FB-AD2D-9AD7B8D9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439-70A4-41D3-B813-B077FA6E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B3C56-4655-463C-8B19-A697153D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1D64E-CCE9-460C-B37A-60AE3A0E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10CF4-F57C-4A9B-A1B1-C46BF955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2AEEE-7428-4C93-AB42-EBDD5C14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D191C-4BA2-4A0F-A1AD-2DB553E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C7C9-3DD7-44BE-81BC-9AA39EE2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3CB72-F006-443D-864E-4FFECE1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FC639-D2D2-4973-93BC-7CEE9B50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731C-07E2-48C6-A9B4-7DE22190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0823E-A0A2-45E9-AC6F-24E7479D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EED-A88D-4430-A397-B1439FC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6F6C8-B5AE-4A4E-A607-A0EB5DE4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57E3C-C298-4E40-B393-3F148CA0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745A-DCB6-4D9D-ABBB-7F0CF9C9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47AD4-97B1-45D0-9A46-422A6992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842CF-4E13-4F5B-A743-69655B44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800F0-6D22-4424-BA93-0930DDE4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D96E-0474-434B-AAE1-364BEB8B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18CC-1C86-4A21-B2F0-E632BBD5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2076D-AF81-460E-8FD8-528BBA0C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45423-4613-48CD-B7A8-B562119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142-EB39-4924-B1CF-E386CAA2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30759-C236-47F6-86AB-08E76922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92BE6-4A37-4D77-8AA7-B531F6BA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BF52D-42D5-4C6D-9B30-92357975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9E56A-CA7B-4135-9FC7-1875151A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EAA85-320C-4777-ADE3-3E63D93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394-8577-4FB7-8D77-A1DEC6D4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E115-B6E0-4F22-9FED-DB53AAEAB5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7F4A-744B-4C35-B8C3-1F39A3A9B5D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0C09-6FA4-46B2-9401-FDF3183E93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6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0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1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2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3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9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9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8548-4801-4EB8-B43D-0E7D3DF2F3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24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4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49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FCEB-B249-4500-AC08-A544CEC1B77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9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9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CC0F-34AC-4D65-8731-C9C1EC2E53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4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5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5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DF54-9190-46CC-A5FC-383E4E5E82F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4"/>
          <p:cNvSpPr txBox="1"/>
          <p:nvPr/>
        </p:nvSpPr>
        <p:spPr>
          <a:xfrm>
            <a:off x="1258920" y="2924280"/>
            <a:ext cx="5256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оводь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3" name="WordArt 6"/>
          <p:cNvSpPr txBox="1"/>
          <p:nvPr/>
        </p:nvSpPr>
        <p:spPr>
          <a:xfrm>
            <a:off x="684360" y="765000"/>
            <a:ext cx="684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ff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66ff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ff99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ихийные бедствия.</a:t>
            </a:r>
            <a:endParaRPr b="0" lang="en-US" sz="1800" spc="1" strike="noStrike">
              <a:ln w="12600">
                <a:solidFill>
                  <a:srgbClr val="66ff99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4" name="1-Allegro molto.mp3" descr=""/>
          <p:cNvPicPr/>
          <p:nvPr/>
        </p:nvPicPr>
        <p:blipFill>
          <a:blip r:embed="rId3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9094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формации специалистов районного управления ГОиЧС города Балахны на 20 марта 2007 года уровень воды в реке Волге составляет 69,2 м (критический уровень-71,2 м). Уровень воды в Горьковском водохранилище на 40см ниже верхнего бьефа. Боковой приток к водохранилищу ожидается к началу 2-ой декады апреля. Подъём воды в Волге прогнозируется до 72,9 м. Под угрозой подтопления в эти дни могут оказаться деревня Смирино, ул. Кавказ и мкр.картонного комбина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2124000" y="189000"/>
            <a:ext cx="5019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гда будет половодье?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4" descr="p8070352_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1" name="Picture 4" descr="p8070356_0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ловодье в Балахн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Сторожилы города Балахна помнят самые крупные половодья 1936  и 1961 годов, когда была затоплена большая часть города (ул. Кузнецкая и др.).Деревни Ваняты, Самойловка, Игнатово, Могильцы,Постниково, Трестьяны, Гумнища находились в воде. В поселке Правдинск вода доходила до железнодорожного переезда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4"/>
          <p:cNvSpPr txBox="1"/>
          <p:nvPr/>
        </p:nvSpPr>
        <p:spPr>
          <a:xfrm>
            <a:off x="395280" y="2421000"/>
            <a:ext cx="83278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e1212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ка населению во время половодь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e1212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МЯТКА НАСЕЛ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есеннее половод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АК СПАСТИ СЕБЯ, СВОИХ БЛИЗКИХ И СВОЙ 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одготовка дома и подворь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начала обильного таяния снега необходимо выполнить следующий объем рабо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бросить снег с крыши дома, хозяйственных построе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ывести (вынести) снег из двора в низкие места, где при таянии снега талая вода не будет угрожать подтоплением строениям вашего дома и сосед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чистить от снега и наледи (до грунта) канавы и сточные желоб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пасы овощей из подвалов (погребов) перенести на чердак или сенова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 подворье все предметы, способные уплыть, привязать к столб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ленницы дров скрепить досками и гвоздями, плотно привяза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ебель в доме максимально приподня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дготовить лодку (если ее нет - связать во дворе плотик из подручных средст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дготовить необходимое количество мешков и песком (землей) для перекрытия доступа прорвавшейся во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осредоточить в определенном месте подручные средства для откачки воды (насосы, ведра и др. емк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помощь при переохлаждении организ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Замена мокрого белья на сух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Согреть человека, использу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орячее питьё (чай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ф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лкоголь) , пища внутр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гружение в тёплую ванну с последующим повышением температуры воды до 39-40 С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использование биогрелки (тепла человеческого тел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Эвакуация пострадавшего в лечебное учреж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  СПАДА ВОД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входом в жилище после наводнения необходимо соблюдать меры предосторожности: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бедитесь, что строительные конструкции не пострадали,  только затем открывайте двери и окна для проветри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льзя пользоваться открытым огнем (возможна взрывопожарная концентрация газов), запрещается включать электроосвещение и другие электропотребители до проверки исправности электрических сетей и газового оборуд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ерегайтесь порванных и провисших электрических пров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ушите дом: оставьте окна открытыми, вынесите по возможности все промокшие вещи, соберите воду и влажный мус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ьзоваться электричеством, газом, водопроводом, коммуникациями можно только после того, как разрешат специалис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егорически запрещается использовать продукты питания, попавшие в воду и употреблять воду без санитарной прове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4" descr="polovod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WordArt 8"/>
          <p:cNvSpPr txBox="1"/>
          <p:nvPr/>
        </p:nvSpPr>
        <p:spPr>
          <a:xfrm>
            <a:off x="324000" y="189000"/>
            <a:ext cx="8351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омните наши правила во время половодь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81" name="1-Allegro molto.mp3" descr=""/>
          <p:cNvPicPr/>
          <p:nvPr/>
        </p:nvPicPr>
        <p:blipFill>
          <a:blip r:embed="rId2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59094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яли презентаци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кадоров Рома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жов Алекс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иценко Алексей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олов Ег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лин Пав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а №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7 год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WordArt 4"/>
          <p:cNvSpPr txBox="1"/>
          <p:nvPr/>
        </p:nvSpPr>
        <p:spPr>
          <a:xfrm>
            <a:off x="1547640" y="620640"/>
            <a:ext cx="6409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накомство с создателями.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ак выглядит половодье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48" name="Picture 4" descr="5[1]"/>
          <p:cNvPicPr/>
          <p:nvPr/>
        </p:nvPicPr>
        <p:blipFill>
          <a:blip r:embed="rId1"/>
          <a:stretch/>
        </p:blipFill>
        <p:spPr>
          <a:xfrm>
            <a:off x="971640" y="1854360"/>
            <a:ext cx="802800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Picture 4" descr="polovodj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Picture 4" descr="polovodie-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5"/>
          <p:cNvSpPr txBox="1"/>
          <p:nvPr/>
        </p:nvSpPr>
        <p:spPr>
          <a:xfrm>
            <a:off x="1042920" y="333360"/>
            <a:ext cx="68104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чины половодь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Text Box 930"/>
          <p:cNvSpPr/>
          <p:nvPr/>
        </p:nvSpPr>
        <p:spPr>
          <a:xfrm>
            <a:off x="324000" y="1557360"/>
            <a:ext cx="88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.Скорость протекания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аводка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   2.Количество пасмурных и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лнечных дней.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   3.Объём воды, попадающий в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ку Волгу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01680" y="1676520"/>
          <a:ext cx="4191120" cy="4422600"/>
        </p:xfrm>
        <a:graphic>
          <a:graphicData uri="http://schemas.openxmlformats.org/drawingml/2006/table">
            <a:tbl>
              <a:tblPr/>
              <a:tblGrid>
                <a:gridCol w="1530360"/>
                <a:gridCol w="1330200"/>
                <a:gridCol w="1330560"/>
              </a:tblGrid>
              <a:tr h="100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Время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Проц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Вес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ff00"/>
                          </a:solidFill>
                          <a:latin typeface="Arial Cyr"/>
                        </a:rPr>
                        <a:t>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8" name="Object 3533"/>
          <p:cNvGraphicFramePr/>
          <p:nvPr/>
        </p:nvGraphicFramePr>
        <p:xfrm>
          <a:off x="4651200" y="1704960"/>
          <a:ext cx="418968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Object 35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704960"/>
                    <a:ext cx="418968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WordArt 3541"/>
          <p:cNvSpPr txBox="1"/>
          <p:nvPr/>
        </p:nvSpPr>
        <p:spPr>
          <a:xfrm>
            <a:off x="250920" y="476280"/>
            <a:ext cx="85644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1212"/>
                </a:solidFill>
                <a:latin typeface="Arial"/>
              </a:rPr>
              <a:t>Опрос населения о времени половодь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1212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108493960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4" descr="IMG_0036_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3:44:35Z</dcterms:created>
  <dc:creator>Comp2807</dc:creator>
  <dc:description/>
  <dc:language>en-US</dc:language>
  <cp:lastModifiedBy>1</cp:lastModifiedBy>
  <dcterms:modified xsi:type="dcterms:W3CDTF">2008-01-24T08:08:22Z</dcterms:modified>
  <cp:revision>14</cp:revision>
  <dc:subject/>
  <dc:title>Слайд 1</dc:title>
</cp:coreProperties>
</file>