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D64-6AE0-4484-B21F-CE06DC5B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D88-09D0-4CFF-BA42-0914CFF9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550-BC94-409C-9B17-07A91F79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337-FDB6-402D-8A13-93973511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3D0E-5DDE-4F38-AE45-60F9BC72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D236-6080-4B06-BB0E-B43E7F6A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0B07-73AB-4C09-BB27-3916E860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9F1F-3F99-4746-BCE4-49F0D81E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67F9-31FD-46B0-B321-5F5868A2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5D9B-A5FD-41A4-98E6-EB3B6E1E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C543-15BB-4E10-ABF7-1CF48C08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BE8-64A6-4A29-853A-88A6DAB9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5E6E-A814-4705-B682-6B04816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3711-AB17-4565-B3EA-1ED53590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65F3-7C8D-4BA0-BF14-4D29E5A7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3C01-1FBC-4800-B5A6-77AF7D03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B6BB-F7BD-43BB-8E7F-69C1EE36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D9F-A719-47E7-905F-30A731D1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6BE-A07B-48A0-88B5-8F4CFAA5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39D-C188-4C80-B9FA-763479E4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2E1-0A2E-43FB-B6EF-D8247FE3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166-0B0D-42FC-B0D7-0C26531B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8A3-9B63-42E8-9619-E358EFD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D40-B19C-4390-BCE3-FD7FC932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D31F-3A00-41EE-BAF4-496A79C467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CE5E-63EB-4413-B594-E9AE715E57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2124000" y="2205000"/>
            <a:ext cx="518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ебел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ff0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19280" y="260280"/>
            <a:ext cx="61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Стебель - это осевая часть побег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9" name="Picture 4" descr="прямост"/>
          <p:cNvPicPr/>
          <p:nvPr/>
        </p:nvPicPr>
        <p:blipFill>
          <a:blip r:embed="rId1"/>
          <a:stretch/>
        </p:blipFill>
        <p:spPr>
          <a:xfrm>
            <a:off x="395280" y="1341360"/>
            <a:ext cx="1944720" cy="1920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стелющ"/>
          <p:cNvPicPr/>
          <p:nvPr/>
        </p:nvPicPr>
        <p:blipFill>
          <a:blip r:embed="rId2"/>
          <a:stretch/>
        </p:blipFill>
        <p:spPr>
          <a:xfrm>
            <a:off x="2484360" y="2060640"/>
            <a:ext cx="2054160" cy="2047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цепляющ"/>
          <p:cNvPicPr/>
          <p:nvPr/>
        </p:nvPicPr>
        <p:blipFill>
          <a:blip r:embed="rId3"/>
          <a:stretch/>
        </p:blipFill>
        <p:spPr>
          <a:xfrm>
            <a:off x="4643280" y="2637000"/>
            <a:ext cx="2038680" cy="207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укороч"/>
          <p:cNvPicPr/>
          <p:nvPr/>
        </p:nvPicPr>
        <p:blipFill>
          <a:blip r:embed="rId4"/>
          <a:stretch/>
        </p:blipFill>
        <p:spPr>
          <a:xfrm>
            <a:off x="6804000" y="3789360"/>
            <a:ext cx="2124000" cy="2111400"/>
          </a:xfrm>
          <a:prstGeom prst="rect">
            <a:avLst/>
          </a:prstGeom>
          <a:ln w="0">
            <a:noFill/>
          </a:ln>
        </p:spPr>
      </p:pic>
      <p:sp>
        <p:nvSpPr>
          <p:cNvPr id="93" name="WordArt 8"/>
          <p:cNvSpPr txBox="1"/>
          <p:nvPr/>
        </p:nvSpPr>
        <p:spPr>
          <a:xfrm>
            <a:off x="179280" y="3429000"/>
            <a:ext cx="2028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ямостояч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2340000" y="4292640"/>
            <a:ext cx="20289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елющие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10"/>
          <p:cNvSpPr txBox="1"/>
          <p:nvPr/>
        </p:nvSpPr>
        <p:spPr>
          <a:xfrm>
            <a:off x="4427640" y="4941720"/>
            <a:ext cx="20286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пляющие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11"/>
          <p:cNvSpPr txBox="1"/>
          <p:nvPr/>
        </p:nvSpPr>
        <p:spPr>
          <a:xfrm>
            <a:off x="6877080" y="6021360"/>
            <a:ext cx="2028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короченны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бобы"/>
          <p:cNvPicPr/>
          <p:nvPr/>
        </p:nvPicPr>
        <p:blipFill>
          <a:blip r:embed="rId1"/>
          <a:stretch/>
        </p:blipFill>
        <p:spPr>
          <a:xfrm>
            <a:off x="755640" y="404640"/>
            <a:ext cx="3144960" cy="316872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5580000" y="5157720"/>
            <a:ext cx="2028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зуч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ползуч"/>
          <p:cNvPicPr/>
          <p:nvPr/>
        </p:nvPicPr>
        <p:blipFill>
          <a:blip r:embed="rId2"/>
          <a:stretch/>
        </p:blipFill>
        <p:spPr>
          <a:xfrm>
            <a:off x="4932360" y="2395440"/>
            <a:ext cx="2951280" cy="23148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403280" y="4005360"/>
            <a:ext cx="20289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ьющие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стебель"/>
          <p:cNvPicPr/>
          <p:nvPr/>
        </p:nvPicPr>
        <p:blipFill>
          <a:blip r:embed="rId1"/>
          <a:stretch/>
        </p:blipFill>
        <p:spPr>
          <a:xfrm>
            <a:off x="2268360" y="1197000"/>
            <a:ext cx="2791080" cy="3708360"/>
          </a:xfrm>
          <a:prstGeom prst="rect">
            <a:avLst/>
          </a:prstGeom>
          <a:ln w="0">
            <a:noFill/>
          </a:ln>
        </p:spPr>
      </p:pic>
      <p:sp>
        <p:nvSpPr>
          <p:cNvPr id="102" name="Line 6"/>
          <p:cNvSpPr/>
          <p:nvPr/>
        </p:nvSpPr>
        <p:spPr>
          <a:xfrm flipH="1">
            <a:off x="4643280" y="1052640"/>
            <a:ext cx="1224000" cy="50328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797800" y="549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581440" y="69228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ж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4858920" y="1484280"/>
            <a:ext cx="1009800" cy="21600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726160" y="1052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5797440" y="1197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H="1">
            <a:off x="4788000" y="2205000"/>
            <a:ext cx="1009440" cy="21600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724360" y="1773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5798160" y="191628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7093080" y="765000"/>
            <a:ext cx="152280" cy="1511640"/>
          </a:xfrm>
          <a:custGeom>
            <a:avLst/>
            <a:gdLst>
              <a:gd name="textAreaLeft" fmla="*/ 0 w 152280"/>
              <a:gd name="textAreaRight" fmla="*/ 55080 w 15228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7452000" y="11685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V="1">
            <a:off x="1619280" y="2781360"/>
            <a:ext cx="1152360" cy="28728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125892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541440" y="29973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мб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5076720" y="2924280"/>
            <a:ext cx="152640" cy="1511280"/>
          </a:xfrm>
          <a:custGeom>
            <a:avLst/>
            <a:gdLst>
              <a:gd name="textAreaLeft" fmla="*/ 0 w 152640"/>
              <a:gd name="textAreaRight" fmla="*/ 55080 w 152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219640" y="3284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5222880" y="342900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е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4"/>
          <p:cNvSpPr/>
          <p:nvPr/>
        </p:nvSpPr>
        <p:spPr>
          <a:xfrm flipV="1">
            <a:off x="1763640" y="4508280"/>
            <a:ext cx="1440000" cy="36036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1258920" y="450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53800" y="486900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дце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>
            <a:off x="900000" y="836640"/>
            <a:ext cx="1800360" cy="64764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468360" y="404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252360" y="4046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чев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547640" y="189000"/>
            <a:ext cx="597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Лабораторная работа №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39640" y="6165720"/>
            <a:ext cx="828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Работа с годичным кольцом спила древесного ствол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7" name="Picture 6" descr="спил"/>
          <p:cNvPicPr/>
          <p:nvPr/>
        </p:nvPicPr>
        <p:blipFill>
          <a:blip r:embed="rId1"/>
          <a:stretch/>
        </p:blipFill>
        <p:spPr>
          <a:xfrm>
            <a:off x="250920" y="692280"/>
            <a:ext cx="3130560" cy="2290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5364000" y="12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 flipH="1">
            <a:off x="3563280" y="112536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яснить структуру спила дерева, скорость роста годичных колец в зависимости от климатических условий и породы де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24000" y="314748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ассмотрите и зарисуйте спилы двух деревьев. Найдите годичные кольца, сосчитайте их и определите возраст стеб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тветьте на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а ли толщина годичных колец по всей окружности? Как это можно объясн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годичные кольца старше и почему: те кольца, что находятся ближе к коре, или те, что находятся ближе к сердцеви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рьте толщину спилов и вычислите скорость роста побега в толщину по формул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 = 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для каждого растения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скорость роста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радиус,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число колец. Какое растение выгоднее выращивать для получения древесины? Объясните, как зависит рост стебля в толщину от условий внешней сре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547640" y="189000"/>
            <a:ext cx="597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Лабораторная работа №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395280" y="907920"/>
            <a:ext cx="842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latin typeface="Impact"/>
              </a:rPr>
              <a:t>Знакомство с видоизменёнными подземными побегам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pic>
        <p:nvPicPr>
          <p:cNvPr id="133" name="Picture 8" descr="картофель"/>
          <p:cNvPicPr/>
          <p:nvPr/>
        </p:nvPicPr>
        <p:blipFill>
          <a:blip r:embed="rId1"/>
          <a:stretch/>
        </p:blipFill>
        <p:spPr>
          <a:xfrm>
            <a:off x="250920" y="2997360"/>
            <a:ext cx="2020680" cy="1695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250920" y="1597680"/>
            <a:ext cx="85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учить строение и выявить общие признаки видоизмененных побе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627280" y="2492280"/>
            <a:ext cx="612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оение клубня картоф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ассмотрите клубень картофеля, найдите верхушку и основание. Где находится больше глаз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делав тонкий поперечный срез клубня, найдите слои (кору, древесину, сердцевину). Рост клубня в толщину происходит за счет роста клеток камбия. Зарисуйте внешнее и внутреннее строение клуб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971640" y="39218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ение луко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зрежьте луковицу вдоль, найдите кроющие чешуи, донце, почки, придаточные кор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рисуйте внешнее и внутреннее строение луковицы и под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лук"/>
          <p:cNvPicPr/>
          <p:nvPr/>
        </p:nvPicPr>
        <p:blipFill>
          <a:blip r:embed="rId1"/>
          <a:stretch/>
        </p:blipFill>
        <p:spPr>
          <a:xfrm>
            <a:off x="468360" y="189000"/>
            <a:ext cx="339876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619280" y="1916280"/>
            <a:ext cx="637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оение корневища пы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ссмотрите кусочек корневища пырея невооруженным глазом и под лупой. Найдите чешуи, почки, корни. Что такое чешуи? Выясните, как располагаются почки и корни. Можно ли рассматриваемую часть пырея в целом назвать корнем,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Зарисуйте фрагмент корнев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корневище"/>
          <p:cNvPicPr/>
          <p:nvPr/>
        </p:nvPicPr>
        <p:blipFill>
          <a:blip r:embed="rId1"/>
          <a:stretch/>
        </p:blipFill>
        <p:spPr>
          <a:xfrm>
            <a:off x="324000" y="189000"/>
            <a:ext cx="3925800" cy="1739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аспарагус"/>
          <p:cNvPicPr/>
          <p:nvPr/>
        </p:nvPicPr>
        <p:blipFill>
          <a:blip r:embed="rId2"/>
          <a:stretch/>
        </p:blipFill>
        <p:spPr>
          <a:xfrm>
            <a:off x="468360" y="4581360"/>
            <a:ext cx="2065320" cy="164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ирис"/>
          <p:cNvPicPr/>
          <p:nvPr/>
        </p:nvPicPr>
        <p:blipFill>
          <a:blip r:embed="rId3"/>
          <a:stretch/>
        </p:blipFill>
        <p:spPr>
          <a:xfrm>
            <a:off x="2987640" y="4724280"/>
            <a:ext cx="1712880" cy="1470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ландыш"/>
          <p:cNvPicPr/>
          <p:nvPr/>
        </p:nvPicPr>
        <p:blipFill>
          <a:blip r:embed="rId4"/>
          <a:stretch/>
        </p:blipFill>
        <p:spPr>
          <a:xfrm>
            <a:off x="4932360" y="4724280"/>
            <a:ext cx="1698480" cy="149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пырей"/>
          <p:cNvPicPr/>
          <p:nvPr/>
        </p:nvPicPr>
        <p:blipFill>
          <a:blip r:embed="rId5"/>
          <a:stretch/>
        </p:blipFill>
        <p:spPr>
          <a:xfrm>
            <a:off x="6948360" y="4581360"/>
            <a:ext cx="1944720" cy="1582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253800" y="6237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спаргус (спарж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7527240" y="62373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ы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150160" y="6237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421800" y="6237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7:08:20Z</dcterms:created>
  <dc:creator>User</dc:creator>
  <dc:description/>
  <dc:language>en-US</dc:language>
  <cp:lastModifiedBy>Admin</cp:lastModifiedBy>
  <dcterms:modified xsi:type="dcterms:W3CDTF">2012-07-01T17:01:33Z</dcterms:modified>
  <cp:revision>40</cp:revision>
  <dc:subject/>
  <dc:title>Слайд 1</dc:title>
</cp:coreProperties>
</file>