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67C3-C8CC-4D22-9E36-AC0C0324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345C-CD1D-419B-932B-00B99E46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AC9-7A3F-48A2-86F2-8644BF62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7A91-0EA5-47A8-9B36-AEE800C20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9881-C4D8-4E7D-B69A-47105EE1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EDEA-ECEB-489C-A148-E60BAFD6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EEE1-B855-4EBD-BEC6-8AC81B12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A82B-9AEE-48D1-B813-16664A6B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83F2-CFD1-4A0C-888D-E309E1BD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3D01-61C8-4D09-8544-266B3879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26B2-D07D-4476-96BB-71170FFC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4D3A-75D7-402B-AA5A-A50BAE33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4116-92A1-4C8E-825E-5243C13E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615A-7537-42DB-99E4-57E962EC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E077-F6BE-4939-A41F-CBA628ED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B1CD-0100-46DF-AAC1-D0D507BC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CCB1-C41C-4ED0-8B30-CD8F1319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C92B-8F3B-4684-924B-10C206F9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42AB-2598-41E4-BD85-CDEF7FAB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8ACE-6DCA-4679-BE56-9661382C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58B-4F94-4D49-A7D2-3B2A3D37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FDB0-4BE0-4BB1-9035-6A418AC2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358B-C770-4BA6-90FE-76A3BF48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2911-2D5A-43F6-9A3E-14275EB2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CE0A-C7C0-40C3-BBEC-BF406A8523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C:\WINNT\Profiles\rebeccal\Personal\pics\strtegic1.jpg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6BDB-05BE-45B8-B769-DC3631A54BA6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86950"/>
                </a:solidFill>
                <a:latin typeface="Times New Roman"/>
              </a:rPr>
              <a:t>Средства и способы вооруженной борьб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86950"/>
                </a:solidFill>
                <a:latin typeface="Times New Roman"/>
              </a:rPr>
              <a:t>Раздел курса ОБЖ «Основы обороны государства и воинская обязанность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Этапы развития средств боьб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лодное оружие ближнего бо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станционное оруж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лективное оруж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ческое оруж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нестрельное оруж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енные маш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ужие массового пора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ейшие средства борьб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C:\WINDOWS\Application Data\Microsoft\Media Catalog\users_003.jpg"/>
          <p:cNvPicPr/>
          <p:nvPr/>
        </p:nvPicPr>
        <p:blipFill>
          <a:blip r:embed="rId1"/>
          <a:stretch/>
        </p:blipFill>
        <p:spPr>
          <a:xfrm>
            <a:off x="5254560" y="2416320"/>
            <a:ext cx="373716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Этапы развития способов борьб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254200" y="1981080"/>
            <a:ext cx="3737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тика ор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тика фаланг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тика когор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тика кар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нейная так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тика рассыпного бо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тика бесконтактного бо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C:\WINDOWS\Application Data\Microsoft\Media Catalog\Pict0008.JPG"/>
          <p:cNvPicPr/>
          <p:nvPr/>
        </p:nvPicPr>
        <p:blipFill>
          <a:blip r:embed="rId1"/>
          <a:stretch/>
        </p:blipFill>
        <p:spPr>
          <a:xfrm>
            <a:off x="1371600" y="2620800"/>
            <a:ext cx="37368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Развитие стратегии войн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тегия одного сра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тегия компа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тегия театра военных действ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тегия фро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тегия локальной вой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тегия информационной победы (кошачей войн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C:\WINDOWS\Application Data\Microsoft\Media Catalog\users_089.jpg"/>
          <p:cNvPicPr/>
          <p:nvPr/>
        </p:nvPicPr>
        <p:blipFill>
          <a:blip r:embed="rId1"/>
          <a:stretch/>
        </p:blipFill>
        <p:spPr>
          <a:xfrm>
            <a:off x="5254560" y="1981080"/>
            <a:ext cx="3737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Классификация личного оружия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54200" y="1981080"/>
            <a:ext cx="3737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лодное и огнестрель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роны и наступ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ивидуального и массового пора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оразовое и многоразов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уманное и негума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C:\WINDOWS\Application Data\Microsoft\Media Catalog\_FIG1.JPG"/>
          <p:cNvPicPr/>
          <p:nvPr/>
        </p:nvPicPr>
        <p:blipFill>
          <a:blip r:embed="rId1"/>
          <a:stretch/>
        </p:blipFill>
        <p:spPr>
          <a:xfrm>
            <a:off x="1371600" y="3016080"/>
            <a:ext cx="37368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Классификация коллективного оружия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мическое воору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иационное воору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рское оруж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кетно-артиллерийск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ронетех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ства связи, радиолокации и автомат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анспортные сред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М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C:\WINDOWS\Application Data\Microsoft\Media Catalog\VERT0012.JPG"/>
          <p:cNvPicPr/>
          <p:nvPr/>
        </p:nvPicPr>
        <p:blipFill>
          <a:blip r:embed="rId1"/>
          <a:stretch/>
        </p:blipFill>
        <p:spPr>
          <a:xfrm>
            <a:off x="5254560" y="2416320"/>
            <a:ext cx="373716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00"/>
                </a:solidFill>
                <a:latin typeface="Times New Roman"/>
              </a:rPr>
              <a:t>Современные способы борьб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54200" y="1981080"/>
            <a:ext cx="3737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р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ступ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версионная борь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тизанско-террористической борьб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формационно-психологической борьб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C:\WINDOWS\Application Data\Microsoft\Media Catalog\users_046.jpg"/>
          <p:cNvPicPr/>
          <p:nvPr/>
        </p:nvPicPr>
        <p:blipFill>
          <a:blip r:embed="rId1"/>
          <a:stretch/>
        </p:blipFill>
        <p:spPr>
          <a:xfrm>
            <a:off x="1371600" y="2416320"/>
            <a:ext cx="373680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10:37:22Z</dcterms:created>
  <dc:creator>Осокин А.М.</dc:creator>
  <dc:description/>
  <dc:language>en-US</dc:language>
  <cp:lastModifiedBy>Николай</cp:lastModifiedBy>
  <dcterms:modified xsi:type="dcterms:W3CDTF">2013-07-09T13:32:14Z</dcterms:modified>
  <cp:revision>4</cp:revision>
  <dc:subject/>
  <dc:title>Средства и способы вооруженной борьбы</dc:title>
</cp:coreProperties>
</file>