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C36B-3C3E-49DC-A3F4-DDCB5A112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3E19-D671-47D5-A8FE-3CA2513C7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2939-80CC-4B6A-B5B5-CC638729A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AF98-7B6E-4F5A-B05B-934E0CBF3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707B2-3851-406A-9222-833719049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79971-F7B6-4424-85F3-2E8100E2A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66884-5572-4D74-A281-9EEF9FBFA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7D091-C843-4769-8BDC-68DD5FE9D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E7BB0-4DFE-4B37-8E1C-4EB03CCE1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99E11-3ADA-416C-A978-F8DE77B65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3EA5A-3065-45C6-946D-65ECC08F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6703-0592-4528-B11E-5682E3FA7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10A5E-021C-45F1-A9D6-93B70F4A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18DE4-2ACB-4CA8-B123-691F2025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43283-2582-40D7-9006-244E4E3C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BDB7D-A035-4948-8EA6-FF2BCCFEA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34882-41AE-45BA-93DD-8E45205AF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E35B-B1CF-4F41-96B1-DFEAD368F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9C7C-046A-40CD-AB26-1EB703D73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C3F9-EA5B-4F3F-BEE6-145FEE5C0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2EC2-5372-44B3-89AC-B368939AA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B064-6655-4AFD-857D-95CF5028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2708-C4C7-4A39-ABB2-641F9408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6194-64BB-45E9-A9C3-4DA4976C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3F285-3B3F-4D3E-A514-959D0E7D59F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6" descr="C:\WINNT\Profiles\rebeccal\Personal\pics\strtegic1.jpg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C6524-20AA-4D6A-80DE-8E8516F062DF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86950"/>
                </a:solidFill>
                <a:latin typeface="Times New Roman"/>
              </a:rPr>
              <a:t>Средства и способы вооруженной борьбы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86950"/>
                </a:solidFill>
                <a:latin typeface="Times New Roman"/>
              </a:rPr>
              <a:t>Раздел курса ОБЖ «Основы обороны государства и воинская обязанность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Этапы развития средств боьбы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олодное оружие ближнего бо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станционное оруж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ллективное оруж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ханическое оруж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гнестрельное оруж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енные маши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ужие массового пораж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вейшие средства борьб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5" descr="C:\WINDOWS\Application Data\Microsoft\Media Catalog\users_003.jpg"/>
          <p:cNvPicPr/>
          <p:nvPr/>
        </p:nvPicPr>
        <p:blipFill>
          <a:blip r:embed="rId1"/>
          <a:stretch/>
        </p:blipFill>
        <p:spPr>
          <a:xfrm>
            <a:off x="5254560" y="2416320"/>
            <a:ext cx="3737160" cy="32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Этапы развития способов борьбы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254200" y="1981080"/>
            <a:ext cx="3737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тика ор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тика фаланг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тика когор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тика кар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инейная такт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тика рассыпного бо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тика бесконтактного бо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C:\WINDOWS\Application Data\Microsoft\Media Catalog\Pict0008.JPG"/>
          <p:cNvPicPr/>
          <p:nvPr/>
        </p:nvPicPr>
        <p:blipFill>
          <a:blip r:embed="rId1"/>
          <a:stretch/>
        </p:blipFill>
        <p:spPr>
          <a:xfrm>
            <a:off x="1371600" y="2620800"/>
            <a:ext cx="373680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Развитие стратегии войны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ратегия одного сраж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ратегия компан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ратегия театра военных действ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ратегия фрон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ратегия локальной вой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ратегия информационной победы (кошачей войны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C:\WINDOWS\Application Data\Microsoft\Media Catalog\users_089.jpg"/>
          <p:cNvPicPr/>
          <p:nvPr/>
        </p:nvPicPr>
        <p:blipFill>
          <a:blip r:embed="rId1"/>
          <a:stretch/>
        </p:blipFill>
        <p:spPr>
          <a:xfrm>
            <a:off x="5254560" y="1981080"/>
            <a:ext cx="3737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Классификация личного оружия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254200" y="1981080"/>
            <a:ext cx="3737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олодное и огнестрель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ороны и наступ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дивидуального и массового пораж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норазовое и многоразов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уманное и негуман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5" descr="C:\WINDOWS\Application Data\Microsoft\Media Catalog\_FIG1.JPG"/>
          <p:cNvPicPr/>
          <p:nvPr/>
        </p:nvPicPr>
        <p:blipFill>
          <a:blip r:embed="rId1"/>
          <a:stretch/>
        </p:blipFill>
        <p:spPr>
          <a:xfrm>
            <a:off x="1371600" y="3016080"/>
            <a:ext cx="373680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Классификация коллективного оружия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смическое вооруж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виационное вооруж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рское оруж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кетно-артиллерийск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ронетехн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редства связи, радиолокации и автоматиз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анспортные сред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М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5" descr="C:\WINDOWS\Application Data\Microsoft\Media Catalog\VERT0012.JPG"/>
          <p:cNvPicPr/>
          <p:nvPr/>
        </p:nvPicPr>
        <p:blipFill>
          <a:blip r:embed="rId1"/>
          <a:stretch/>
        </p:blipFill>
        <p:spPr>
          <a:xfrm>
            <a:off x="5254560" y="2416320"/>
            <a:ext cx="3737160" cy="32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Современные способы борьбы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254200" y="1981080"/>
            <a:ext cx="3737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оро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ступ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версионная борьб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ртизанско-террористической борьб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формационно-психологической борьб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5" descr="C:\WINDOWS\Application Data\Microsoft\Media Catalog\users_046.jpg"/>
          <p:cNvPicPr/>
          <p:nvPr/>
        </p:nvPicPr>
        <p:blipFill>
          <a:blip r:embed="rId1"/>
          <a:stretch/>
        </p:blipFill>
        <p:spPr>
          <a:xfrm>
            <a:off x="1371600" y="2416320"/>
            <a:ext cx="3736800" cy="32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3T10:37:22Z</dcterms:created>
  <dc:creator>Осокин А.М.</dc:creator>
  <dc:description/>
  <dc:language>en-US</dc:language>
  <cp:lastModifiedBy>Николай</cp:lastModifiedBy>
  <dcterms:modified xsi:type="dcterms:W3CDTF">2013-07-09T13:32:14Z</dcterms:modified>
  <cp:revision>4</cp:revision>
  <dc:subject/>
  <dc:title>Средства и способы вооруженной борьбы</dc:title>
</cp:coreProperties>
</file>