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01E8-0903-43C9-8727-6078488FD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5028-4682-4856-80DF-35CCBD66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46CE-AD1F-408A-B096-F6873F331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175B-10B7-45C0-880C-267C3E6F1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6CA2-7802-4382-915C-7CA3A12EA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7011-9100-4247-9A2D-7EEB75C8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21ED-552F-4CAC-9B8F-D9E8F8D6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773A-AC4D-48DB-B18E-EE0ADAAE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DCC4-7DBA-4581-8C18-B7969290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3AA1-3F3D-424D-A28C-C5235CFE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299A-FB56-4BB4-9FE0-91785A78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C87C-1DC3-4ABE-A133-ECB6C5B3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EECC-5819-4891-976C-62C3C5A5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E66C-CAE8-4F82-B884-C78579E7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76F7-79E7-4F73-A1AC-C981AA31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DAB1-55E3-4ADC-BF4C-FF1991288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0A0C3-F8D5-467A-A88A-4C1BA2E2D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0F2E-F48F-443A-8482-84BBAC54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4183-8BE6-4674-AA19-C0700CFB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D893-E763-4166-BE68-186B8EB4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3F29-6C87-4FEA-995B-5106F89B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21CA-5795-4E78-B4A4-8C573747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FD58-509E-443A-8F79-2DF03AAA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F5AF-0DB9-42FE-8210-E11DF3CA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3CCC-6F5C-4196-A35D-AF539F2EC2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C:\WINNT\Profiles\rebeccal\Personal\pics\strtegic1.jpg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4829-F276-4D32-AE2F-FA79C81CB077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86950"/>
                </a:solidFill>
                <a:latin typeface="Times New Roman"/>
              </a:rPr>
              <a:t>Средства и способы вооруженной борьбы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86950"/>
                </a:solidFill>
                <a:latin typeface="Times New Roman"/>
              </a:rPr>
              <a:t>Раздел курса ОБЖ «Основы обороны государства и воинская обязанность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Этапы развития средств боьбы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лодное оружие ближнего бо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станционное оруж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лективное оруж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ханическое оруж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гнестрельное оруж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енные маши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ужие массового пора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ейшие средства борьб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5" descr="C:\WINDOWS\Application Data\Microsoft\Media Catalog\users_003.jpg"/>
          <p:cNvPicPr/>
          <p:nvPr/>
        </p:nvPicPr>
        <p:blipFill>
          <a:blip r:embed="rId1"/>
          <a:stretch/>
        </p:blipFill>
        <p:spPr>
          <a:xfrm>
            <a:off x="5254560" y="2416320"/>
            <a:ext cx="373716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Этапы развития способов борьбы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254200" y="1981080"/>
            <a:ext cx="3737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тика ор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тика фаланг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тика когор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тика кар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нейная такт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тика рассыпного бо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тика бесконтактного бо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C:\WINDOWS\Application Data\Microsoft\Media Catalog\Pict0008.JPG"/>
          <p:cNvPicPr/>
          <p:nvPr/>
        </p:nvPicPr>
        <p:blipFill>
          <a:blip r:embed="rId1"/>
          <a:stretch/>
        </p:blipFill>
        <p:spPr>
          <a:xfrm>
            <a:off x="1371600" y="2620800"/>
            <a:ext cx="373680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Развитие стратегии войны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атегия одного сра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атегия компан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атегия театра военных действ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атегия фрон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атегия локальной вой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атегия информационной победы (кошачей войн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C:\WINDOWS\Application Data\Microsoft\Media Catalog\users_089.jpg"/>
          <p:cNvPicPr/>
          <p:nvPr/>
        </p:nvPicPr>
        <p:blipFill>
          <a:blip r:embed="rId1"/>
          <a:stretch/>
        </p:blipFill>
        <p:spPr>
          <a:xfrm>
            <a:off x="5254560" y="1981080"/>
            <a:ext cx="3737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Классификация личного оружия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254200" y="1981080"/>
            <a:ext cx="3737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лодное и огнестрель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ороны и наступ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дивидуального и массового пора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оразовое и многоразов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уманное и негуман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C:\WINDOWS\Application Data\Microsoft\Media Catalog\_FIG1.JPG"/>
          <p:cNvPicPr/>
          <p:nvPr/>
        </p:nvPicPr>
        <p:blipFill>
          <a:blip r:embed="rId1"/>
          <a:stretch/>
        </p:blipFill>
        <p:spPr>
          <a:xfrm>
            <a:off x="1371600" y="3016080"/>
            <a:ext cx="37368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Классификация коллективного оружия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смическое воору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иационное воору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рское оруж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кетно-артиллерийск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ронетехн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ства связи, радиолокации и автомат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анспортные сред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М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C:\WINDOWS\Application Data\Microsoft\Media Catalog\VERT0012.JPG"/>
          <p:cNvPicPr/>
          <p:nvPr/>
        </p:nvPicPr>
        <p:blipFill>
          <a:blip r:embed="rId1"/>
          <a:stretch/>
        </p:blipFill>
        <p:spPr>
          <a:xfrm>
            <a:off x="5254560" y="2416320"/>
            <a:ext cx="373716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Современные способы борьбы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254200" y="1981080"/>
            <a:ext cx="3737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ор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ступ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версионная борьб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тизанско-террористической борьб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формационно-психологической борьб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C:\WINDOWS\Application Data\Microsoft\Media Catalog\users_046.jpg"/>
          <p:cNvPicPr/>
          <p:nvPr/>
        </p:nvPicPr>
        <p:blipFill>
          <a:blip r:embed="rId1"/>
          <a:stretch/>
        </p:blipFill>
        <p:spPr>
          <a:xfrm>
            <a:off x="1371600" y="2416320"/>
            <a:ext cx="373680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3T10:37:22Z</dcterms:created>
  <dc:creator>Осокин А.М.</dc:creator>
  <dc:description/>
  <dc:language>en-US</dc:language>
  <cp:lastModifiedBy>Николай</cp:lastModifiedBy>
  <dcterms:modified xsi:type="dcterms:W3CDTF">2013-07-09T13:32:14Z</dcterms:modified>
  <cp:revision>4</cp:revision>
  <dc:subject/>
  <dc:title>Средства и способы вооруженной борьбы</dc:title>
</cp:coreProperties>
</file>