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F7B-EF24-498F-B8BD-3535C7ED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C64-C23F-4750-81C6-1A1DC5E8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BEA2-3832-4BFC-9551-80A322D9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F8A8-47E1-482A-B0D6-46CDDFFE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0C6B-719E-4FF1-9C00-AABCB645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B259-9CA6-4B24-83B5-370B7297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144D-AD30-4D15-814A-D12CDA42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AB8A-2825-4487-BB82-24E88C67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2484-5998-4218-8AE7-C9EF031E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28F9-B492-400C-BDE1-6B687DA5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CB73-6EFC-4B9D-AA85-30630B21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B9FD-2BF0-4FD5-BB20-510518F9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28B5-CACF-4605-9B49-871AB984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05F9-555A-4EA1-A3A8-442FA805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826D-CCEB-48F1-825A-DEF1E810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36F3-6A09-4689-AB96-3CD1B2C3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F425-38FD-4ECF-898D-0A582931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6E5-C757-46D1-AA6C-8C003AD7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D6B-0DCA-4CB4-905F-35A6FC97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2AA-3ADD-40F6-9998-FC89E47B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4F4-CE65-4155-8A7A-D9AB215C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32A-47F3-46B9-804E-09BE3742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ACA-6535-43F5-B008-AD96214A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A02-77C2-4FCE-B92F-042EA392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1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Rectangle 50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grpSp>
          <p:nvGrpSpPr>
            <p:cNvPr id="2" name="Group 2"/>
            <p:cNvGrpSpPr/>
            <p:nvPr/>
          </p:nvGrpSpPr>
          <p:grpSpPr>
            <a:xfrm>
              <a:off x="0" y="-12600"/>
              <a:ext cx="9156600" cy="6870600"/>
              <a:chOff x="0" y="-12600"/>
              <a:chExt cx="9156600" cy="687060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0" y="-12600"/>
                <a:ext cx="5778360" cy="22766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4" name="Freeform 4"/>
              <p:cNvSpPr/>
              <p:nvPr/>
            </p:nvSpPr>
            <p:spPr>
              <a:xfrm>
                <a:off x="0" y="-12600"/>
                <a:ext cx="3168720" cy="196848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0" y="-12600"/>
                <a:ext cx="2514600" cy="160020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1359000" y="228600"/>
                <a:ext cx="5956200" cy="288288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1542960" y="1092240"/>
                <a:ext cx="4095720" cy="180972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1857240" y="1444680"/>
                <a:ext cx="2791080" cy="1104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 rot="21300600">
                <a:off x="2057400" y="1968480"/>
                <a:ext cx="1473120" cy="30492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0" y="2514600"/>
                <a:ext cx="9134640" cy="36194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1676520" y="3187800"/>
                <a:ext cx="2374920" cy="232416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 rot="1158600">
                <a:off x="2057400" y="3416400"/>
                <a:ext cx="1787400" cy="1158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4940280" y="-12600"/>
                <a:ext cx="4203720" cy="538812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5562720" y="-12600"/>
                <a:ext cx="3581280" cy="501660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5" name="Freeform 15"/>
              <p:cNvSpPr/>
              <p:nvPr/>
            </p:nvSpPr>
            <p:spPr>
              <a:xfrm>
                <a:off x="6362640" y="1714680"/>
                <a:ext cx="1663920" cy="1104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6" name="Freeform 16"/>
              <p:cNvSpPr/>
              <p:nvPr/>
            </p:nvSpPr>
            <p:spPr>
              <a:xfrm>
                <a:off x="8123400" y="-12600"/>
                <a:ext cx="868320" cy="1104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0" y="3213360"/>
                <a:ext cx="3149640" cy="36446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0" y="3810240"/>
                <a:ext cx="1295280" cy="303516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4267080" y="5124600"/>
                <a:ext cx="4889520" cy="172080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20" name="Picture 49" descr="Topbanx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" name="Group 44"/>
            <p:cNvGrpSpPr/>
            <p:nvPr/>
          </p:nvGrpSpPr>
          <p:grpSpPr>
            <a:xfrm>
              <a:off x="228600" y="1523880"/>
              <a:ext cx="1676160" cy="457200"/>
              <a:chOff x="228600" y="1523880"/>
              <a:chExt cx="1676160" cy="457200"/>
            </a:xfrm>
          </p:grpSpPr>
          <p:sp>
            <p:nvSpPr>
              <p:cNvPr id="22" name="Line 41"/>
              <p:cNvSpPr/>
              <p:nvPr/>
            </p:nvSpPr>
            <p:spPr>
              <a:xfrm>
                <a:off x="228600" y="1600200"/>
                <a:ext cx="167616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23" name="Line 42"/>
              <p:cNvSpPr/>
              <p:nvPr/>
            </p:nvSpPr>
            <p:spPr>
              <a:xfrm>
                <a:off x="380880" y="1600200"/>
                <a:ext cx="380880" cy="38088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24" name="Oval 43"/>
              <p:cNvSpPr/>
              <p:nvPr/>
            </p:nvSpPr>
            <p:spPr>
              <a:xfrm>
                <a:off x="304560" y="1523880"/>
                <a:ext cx="185760" cy="185760"/>
              </a:xfrm>
              <a:prstGeom prst="ellipse">
                <a:avLst/>
              </a:prstGeom>
              <a:noFill/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a1926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60F0-7293-4718-A30D-C756722E4BB6}" type="slidenum"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54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7" name="Rectangle 51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grpSp>
          <p:nvGrpSpPr>
            <p:cNvPr id="68" name="Group 3"/>
            <p:cNvGrpSpPr/>
            <p:nvPr/>
          </p:nvGrpSpPr>
          <p:grpSpPr>
            <a:xfrm>
              <a:off x="0" y="-12600"/>
              <a:ext cx="9156600" cy="6870600"/>
              <a:chOff x="0" y="-12600"/>
              <a:chExt cx="9156600" cy="6870600"/>
            </a:xfrm>
          </p:grpSpPr>
          <p:sp>
            <p:nvSpPr>
              <p:cNvPr id="69" name="Freeform 4"/>
              <p:cNvSpPr/>
              <p:nvPr/>
            </p:nvSpPr>
            <p:spPr>
              <a:xfrm>
                <a:off x="0" y="-12600"/>
                <a:ext cx="5778360" cy="22766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0" name="Freeform 5"/>
              <p:cNvSpPr/>
              <p:nvPr/>
            </p:nvSpPr>
            <p:spPr>
              <a:xfrm>
                <a:off x="0" y="-12600"/>
                <a:ext cx="3168720" cy="196848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1" name="Freeform 6"/>
              <p:cNvSpPr/>
              <p:nvPr/>
            </p:nvSpPr>
            <p:spPr>
              <a:xfrm>
                <a:off x="0" y="-12600"/>
                <a:ext cx="2514600" cy="160020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2" name="Freeform 7"/>
              <p:cNvSpPr/>
              <p:nvPr/>
            </p:nvSpPr>
            <p:spPr>
              <a:xfrm>
                <a:off x="1359000" y="228600"/>
                <a:ext cx="5956200" cy="288288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3" name="Freeform 8"/>
              <p:cNvSpPr/>
              <p:nvPr/>
            </p:nvSpPr>
            <p:spPr>
              <a:xfrm>
                <a:off x="1542960" y="1092240"/>
                <a:ext cx="4095720" cy="180972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4" name="Freeform 9"/>
              <p:cNvSpPr/>
              <p:nvPr/>
            </p:nvSpPr>
            <p:spPr>
              <a:xfrm>
                <a:off x="1857240" y="1444680"/>
                <a:ext cx="2791080" cy="1104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5" name="Freeform 10"/>
              <p:cNvSpPr/>
              <p:nvPr/>
            </p:nvSpPr>
            <p:spPr>
              <a:xfrm rot="21300600">
                <a:off x="2057400" y="1968480"/>
                <a:ext cx="1473120" cy="30492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6" name="Freeform 11"/>
              <p:cNvSpPr/>
              <p:nvPr/>
            </p:nvSpPr>
            <p:spPr>
              <a:xfrm>
                <a:off x="0" y="2514600"/>
                <a:ext cx="9134640" cy="36194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7" name="Freeform 12"/>
              <p:cNvSpPr/>
              <p:nvPr/>
            </p:nvSpPr>
            <p:spPr>
              <a:xfrm>
                <a:off x="1676520" y="3187800"/>
                <a:ext cx="2374920" cy="232416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8" name="Freeform 13"/>
              <p:cNvSpPr/>
              <p:nvPr/>
            </p:nvSpPr>
            <p:spPr>
              <a:xfrm rot="1158600">
                <a:off x="2057400" y="3416400"/>
                <a:ext cx="1787400" cy="1158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9" name="Freeform 14"/>
              <p:cNvSpPr/>
              <p:nvPr/>
            </p:nvSpPr>
            <p:spPr>
              <a:xfrm>
                <a:off x="4940280" y="-12600"/>
                <a:ext cx="4203720" cy="538812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0" name="Freeform 15"/>
              <p:cNvSpPr/>
              <p:nvPr/>
            </p:nvSpPr>
            <p:spPr>
              <a:xfrm>
                <a:off x="5562720" y="-12600"/>
                <a:ext cx="3581280" cy="501660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1" name="Freeform 16"/>
              <p:cNvSpPr/>
              <p:nvPr/>
            </p:nvSpPr>
            <p:spPr>
              <a:xfrm>
                <a:off x="6362640" y="1714680"/>
                <a:ext cx="1663920" cy="1104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2" name="Freeform 17"/>
              <p:cNvSpPr/>
              <p:nvPr/>
            </p:nvSpPr>
            <p:spPr>
              <a:xfrm>
                <a:off x="8123400" y="-12600"/>
                <a:ext cx="868320" cy="1104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3" name="Freeform 18"/>
              <p:cNvSpPr/>
              <p:nvPr/>
            </p:nvSpPr>
            <p:spPr>
              <a:xfrm>
                <a:off x="0" y="3213360"/>
                <a:ext cx="3149640" cy="36446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4" name="Freeform 19"/>
              <p:cNvSpPr/>
              <p:nvPr/>
            </p:nvSpPr>
            <p:spPr>
              <a:xfrm>
                <a:off x="0" y="3810240"/>
                <a:ext cx="1295280" cy="303516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5" name="Freeform 20"/>
              <p:cNvSpPr/>
              <p:nvPr/>
            </p:nvSpPr>
            <p:spPr>
              <a:xfrm>
                <a:off x="4267080" y="5124600"/>
                <a:ext cx="4889520" cy="172080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86" name="Picture 50" descr="Topbanx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Rectangle 52"/>
          <p:cNvSpPr/>
          <p:nvPr/>
        </p:nvSpPr>
        <p:spPr>
          <a:xfrm>
            <a:off x="380880" y="3352680"/>
            <a:ext cx="4267440" cy="152640"/>
          </a:xfrm>
          <a:prstGeom prst="rect">
            <a:avLst/>
          </a:prstGeom>
          <a:solidFill>
            <a:srgbClr val="3a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a1926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4A6E-5762-4C13-802A-67C221A04FE5}" type="slidenum">
              <a:rPr b="0" i="1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Социальный прогресс и развитие общества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8 класс. Обществознание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2. Какое общественное явление иллюстрирует эта логическая цепочка: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Воздушный шар (1783 г.) 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—</a:t>
            </a: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 Воздушный корабль (1852 г.) 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Þ</a:t>
            </a: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 Дирижабль (1898 г.) 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—</a:t>
            </a: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 Полет на первом самолёте (1903 г.) 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—</a:t>
            </a: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 Вертолёт (1939 г.) 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—</a:t>
            </a: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 Выход в космос (1961 г.)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3. О каком законе истории идет речь: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Самым продолжительным временем был первобытный строй, просуществовавший несколько сот тысяч лет, земледельческая цивилизация длилась 5 000 лет, индустриальная эпоха – лишь пятое столетие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4. О каком законе истории идет речь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В то время когда в Европе и США зарождается развитое индустриальное общество, где главной ценностью стало осознание человека как личности, признание его права определять свободной волей направление своего жизненного пути, на азиатском и африканском континентах жили народы традиционных цивилизаций, считавшие, что жизнь человека только тогда имеет смысл, если она полностью повторяет жизнь предков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5. О каких двух путях прогресса идет речь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А. Изменения в какой-то области общества, ведущие к улучшению, но не меняющие положения коренным образом. Например, компьютеризация школ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Б. Кардинальные изменения в той или иной области общества. Например, введение всеобщего </a:t>
            </a:r>
            <a:r>
              <a:rPr b="1" lang="ru-RU" sz="2800" spc="-1" strike="noStrike">
                <a:solidFill>
                  <a:srgbClr val="eaeaea"/>
                </a:solidFill>
                <a:latin typeface="Arial Narrow"/>
              </a:rPr>
              <a:t>платного</a:t>
            </a: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 образования в государственных и муниципальных школах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6. О каком типе реформ (экономической, политической или социальной) идет речь в следующих примерах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А. Политическая. Б. Социальная. В. Экономическая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1) С 90-х гг. XX в. в нашей стране введено медицинское страхование за оказание медицинских услуг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2) В 2002 году началось проведение пенсионной реформы, согласно которой граждане сами будут зарабатывать накопительную часть пенсии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3) С 1 января 1999 г.  вступил в действие новый налоговый кодекс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4) Президент предложил новый порядок выборов губернаторов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7. Истории человечества известны многочисленные войны. В следующих примерах определите, где войны играли прогрессивную роль, а где – регрессивную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1) Прогрессивная роль.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2) Регрессивная роль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А. В 1883 г. Х. С. Мэксим изобрёл станковый пулемёт. В 1916 г. изобретатель В. Федоров создал новое оружие, которое теперь называют автоматом. Появляются подводные лодки, танки, огнеметы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7. Истории человечества известны многочисленные войны. В следующих примерах определите, где войны играли прогрессивную роль, а где – регрессивную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1) Прогрессивная роль.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2) Регрессивная роль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Б. 22 апреля 1915 г. здесь родилась «химическая война». Дождавшись благоприятного ветра, дувшего в сторону позиций англо-французов, немцы открыли на рассвете интенсивный артиллерийский огонь по селениям, расположенным в ближайшем тылу противника. Было отравлено 15 тысяч человек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7. Истории человечества известны многочисленные войны. В следующих примерах определите, где войны играли прогрессивную роль, а где – регрессивную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1) Прогрессивная роль.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2) Регрессивная роль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В. В ходе начавшейся газовой войны простейшие марлевые повязки были заменены противогазами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7. Истории человечества известны многочисленные войны. В следующих примерах определите, где войны играли прогрессивную роль, а где – регрессивную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1) Прогрессивная роль.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2) Регрессивная роль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Г. В Первую мировую войну Германия развернула пиратскую войну против Англии, в ходе которой немецкие подводные лодки стали топить торговые суда. 7 мая 1915 г. такая участь постигла лайнер «Лузитания», имевший на борту около 2 тыс. пассажиров. Только 784 человека удалось спасти. 1195 человек погибли, среди них 286 женщин и 94 ребенка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8946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Прочитать § 4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8946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Выучить понятия: социальный прогресс, регресс, реформа, революция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8946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В Рабочей тетради: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499ea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На «4»: с. 14 №1, с. 15 №3-4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499ea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На «5»: с. 14 №2, с. 16 №5, с. 17 №6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Закон ускорения общества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928800" y="1857240"/>
            <a:ext cx="7643880" cy="106884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а каждую последующую стадию уходит меньше времени, чем на предыдущую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928800" y="3357720"/>
            <a:ext cx="7786440" cy="19227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ервобытнообщинный строй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40 тыс. до н.э. – конец IV тыс. до  н. э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ревний мир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Конец IV тыс. до н.э. – конец V в. н.э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редние века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V в. н.э. – сер. XVII в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овое время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Сер. XVII – нач. XX в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Закон ускорения общества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928800" y="1714680"/>
            <a:ext cx="7643880" cy="106884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а каждую последующую стадию уходит меньше времени, чем на предыдущую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6" name="Picture 2" descr="Картинка 1 из 1410"/>
          <p:cNvPicPr/>
          <p:nvPr/>
        </p:nvPicPr>
        <p:blipFill>
          <a:blip r:embed="rId1"/>
          <a:stretch/>
        </p:blipFill>
        <p:spPr>
          <a:xfrm>
            <a:off x="1701720" y="2928960"/>
            <a:ext cx="5942160" cy="3733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Закон развития общества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928800" y="1857240"/>
            <a:ext cx="7643880" cy="106884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ароды и нации развиваются с неодинаковой скоростью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39" name="TextBox 4"/>
          <p:cNvGrpSpPr/>
          <p:nvPr/>
        </p:nvGrpSpPr>
        <p:grpSpPr>
          <a:xfrm>
            <a:off x="2865600" y="3176640"/>
            <a:ext cx="3547800" cy="766800"/>
            <a:chOff x="2865600" y="3176640"/>
            <a:chExt cx="3547800" cy="766800"/>
          </a:xfrm>
        </p:grpSpPr>
        <p:pic>
          <p:nvPicPr>
            <p:cNvPr id="140" name="TextBox 4" descr=""/>
            <p:cNvPicPr/>
            <p:nvPr/>
          </p:nvPicPr>
          <p:blipFill>
            <a:blip r:embed="rId1"/>
            <a:stretch/>
          </p:blipFill>
          <p:spPr>
            <a:xfrm>
              <a:off x="2865600" y="3176640"/>
              <a:ext cx="3547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928960" y="328608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aeaea"/>
                  </a:solidFill>
                  <a:latin typeface="Arial Narrow"/>
                </a:rPr>
                <a:t>ускорение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42" name="TextBox 5"/>
          <p:cNvGrpSpPr/>
          <p:nvPr/>
        </p:nvGrpSpPr>
        <p:grpSpPr>
          <a:xfrm>
            <a:off x="725400" y="4102200"/>
            <a:ext cx="3541680" cy="768240"/>
            <a:chOff x="725400" y="4102200"/>
            <a:chExt cx="3541680" cy="768240"/>
          </a:xfrm>
        </p:grpSpPr>
        <p:pic>
          <p:nvPicPr>
            <p:cNvPr id="143" name="TextBox 5" descr=""/>
            <p:cNvPicPr/>
            <p:nvPr/>
          </p:nvPicPr>
          <p:blipFill>
            <a:blip r:embed="rId2"/>
            <a:stretch/>
          </p:blipFill>
          <p:spPr>
            <a:xfrm>
              <a:off x="725400" y="4102200"/>
              <a:ext cx="35416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85880" y="421488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aeaea"/>
                  </a:solidFill>
                  <a:latin typeface="Arial Narrow"/>
                </a:rPr>
                <a:t>прогресс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45" name="TextBox 6"/>
          <p:cNvGrpSpPr/>
          <p:nvPr/>
        </p:nvGrpSpPr>
        <p:grpSpPr>
          <a:xfrm>
            <a:off x="5010120" y="4102200"/>
            <a:ext cx="3548160" cy="768240"/>
            <a:chOff x="5010120" y="4102200"/>
            <a:chExt cx="3548160" cy="768240"/>
          </a:xfrm>
        </p:grpSpPr>
        <p:pic>
          <p:nvPicPr>
            <p:cNvPr id="146" name="TextBox 6" descr=""/>
            <p:cNvPicPr/>
            <p:nvPr/>
          </p:nvPicPr>
          <p:blipFill>
            <a:blip r:embed="rId3"/>
            <a:stretch/>
          </p:blipFill>
          <p:spPr>
            <a:xfrm>
              <a:off x="5010120" y="4102200"/>
              <a:ext cx="35481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072040" y="421488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aeaea"/>
                  </a:solidFill>
                  <a:latin typeface="Arial Narrow"/>
                </a:rPr>
                <a:t>регресс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cxnSp>
        <p:nvCxnSpPr>
          <p:cNvPr id="148" name="Прямая со стрелкой 8"/>
          <p:cNvCxnSpPr>
            <a:stCxn id="140" idx="2"/>
            <a:endCxn id="143" idx="0"/>
          </p:cNvCxnSpPr>
          <p:nvPr/>
        </p:nvCxnSpPr>
        <p:spPr>
          <a:xfrm flipH="1">
            <a:off x="2499480" y="3870000"/>
            <a:ext cx="2143800" cy="3452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arrow" w="med"/>
          </a:ln>
        </p:spPr>
      </p:cxnSp>
      <p:cxnSp>
        <p:nvCxnSpPr>
          <p:cNvPr id="149" name="Прямая со стрелкой 9"/>
          <p:cNvCxnSpPr>
            <a:stCxn id="140" idx="2"/>
            <a:endCxn id="146" idx="0"/>
          </p:cNvCxnSpPr>
          <p:nvPr/>
        </p:nvCxnSpPr>
        <p:spPr>
          <a:xfrm>
            <a:off x="4643280" y="3870000"/>
            <a:ext cx="2144160" cy="3452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150" name="TextBox 12"/>
          <p:cNvSpPr/>
          <p:nvPr/>
        </p:nvSpPr>
        <p:spPr>
          <a:xfrm>
            <a:off x="785880" y="5072040"/>
            <a:ext cx="3429000" cy="45972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зитивные перемены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5072040" y="5072040"/>
            <a:ext cx="3429000" cy="45972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гативные перемены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Социальный прогресс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928800" y="1857240"/>
            <a:ext cx="7643880" cy="1800360"/>
          </a:xfrm>
          <a:prstGeom prst="rect">
            <a:avLst/>
          </a:prstGeom>
          <a:gradFill rotWithShape="0">
            <a:gsLst>
              <a:gs pos="0">
                <a:srgbClr val="387345"/>
              </a:gs>
              <a:gs pos="100000">
                <a:srgbClr val="4b9a5c"/>
              </a:gs>
            </a:gsLst>
            <a:lin ang="16200000"/>
          </a:gradFill>
          <a:ln w="9360">
            <a:solidFill>
              <a:srgbClr val="54926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 Narrow"/>
              </a:rPr>
              <a:t>Социальный прогресс </a:t>
            </a: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-  глобальный, всемирно-исторический процесс восхождения человеческих обществ от состояния дикости к вершинам цивилизации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714240" y="4286160"/>
            <a:ext cx="2214720" cy="825480"/>
          </a:xfrm>
          <a:prstGeom prst="rect">
            <a:avLst/>
          </a:prstGeom>
          <a:solidFill>
            <a:srgbClr val="eaeaea"/>
          </a:solidFill>
          <a:ln w="25560">
            <a:solidFill>
              <a:srgbClr val="589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Экономический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огресс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643200" y="4286160"/>
            <a:ext cx="2214720" cy="825480"/>
          </a:xfrm>
          <a:prstGeom prst="rect">
            <a:avLst/>
          </a:prstGeom>
          <a:solidFill>
            <a:srgbClr val="eaeaea"/>
          </a:solidFill>
          <a:ln w="25560">
            <a:solidFill>
              <a:srgbClr val="589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ехнический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огресс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6643800" y="4286160"/>
            <a:ext cx="2214360" cy="825480"/>
          </a:xfrm>
          <a:prstGeom prst="rect">
            <a:avLst/>
          </a:prstGeom>
          <a:solidFill>
            <a:srgbClr val="eaeaea"/>
          </a:solidFill>
          <a:ln w="25560">
            <a:solidFill>
              <a:srgbClr val="589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Культурный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огресс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cxnSp>
        <p:nvCxnSpPr>
          <p:cNvPr id="157" name="Прямая со стрелкой 8"/>
          <p:cNvCxnSpPr>
            <a:stCxn id="153" idx="2"/>
          </p:cNvCxnSpPr>
          <p:nvPr/>
        </p:nvCxnSpPr>
        <p:spPr>
          <a:xfrm flipH="1">
            <a:off x="1785240" y="3673440"/>
            <a:ext cx="2966040" cy="542160"/>
          </a:xfrm>
          <a:prstGeom prst="straightConnector1">
            <a:avLst/>
          </a:prstGeom>
          <a:ln w="38160">
            <a:solidFill>
              <a:srgbClr val="eaeaea"/>
            </a:solidFill>
            <a:miter/>
            <a:tailEnd len="med" type="arrow" w="med"/>
          </a:ln>
        </p:spPr>
      </p:cxnSp>
      <p:cxnSp>
        <p:nvCxnSpPr>
          <p:cNvPr id="158" name="Прямая со стрелкой 9"/>
          <p:cNvCxnSpPr>
            <a:stCxn id="153" idx="2"/>
            <a:endCxn id="155" idx="0"/>
          </p:cNvCxnSpPr>
          <p:nvPr/>
        </p:nvCxnSpPr>
        <p:spPr>
          <a:xfrm flipH="1">
            <a:off x="4749480" y="3673080"/>
            <a:ext cx="2160" cy="6152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tailEnd len="med" type="arrow" w="med"/>
          </a:ln>
        </p:spPr>
      </p:cxnSp>
      <p:cxnSp>
        <p:nvCxnSpPr>
          <p:cNvPr id="159" name="Прямая со стрелкой 10"/>
          <p:cNvCxnSpPr>
            <a:stCxn id="153" idx="2"/>
            <a:endCxn id="156" idx="0"/>
          </p:cNvCxnSpPr>
          <p:nvPr/>
        </p:nvCxnSpPr>
        <p:spPr>
          <a:xfrm>
            <a:off x="4750200" y="3673440"/>
            <a:ext cx="3001320" cy="6134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160" name="TextBox 15"/>
          <p:cNvSpPr/>
          <p:nvPr/>
        </p:nvSpPr>
        <p:spPr>
          <a:xfrm>
            <a:off x="1143000" y="5500800"/>
            <a:ext cx="7429680" cy="825480"/>
          </a:xfrm>
          <a:prstGeom prst="rect">
            <a:avLst/>
          </a:prstGeom>
          <a:solidFill>
            <a:srgbClr val="589465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По отношению к политике и религии термин «прогресс» неприменим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Социальный прогресс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3071880" y="1857240"/>
            <a:ext cx="3071880" cy="45972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прогресс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857160" y="2928960"/>
            <a:ext cx="3071880" cy="45972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реформа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5143680" y="2928960"/>
            <a:ext cx="3071520" cy="45972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революция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cxnSp>
        <p:nvCxnSpPr>
          <p:cNvPr id="165" name="Прямая со стрелкой 12"/>
          <p:cNvCxnSpPr>
            <a:stCxn id="162" idx="2"/>
          </p:cNvCxnSpPr>
          <p:nvPr/>
        </p:nvCxnSpPr>
        <p:spPr>
          <a:xfrm flipH="1">
            <a:off x="2499840" y="2319120"/>
            <a:ext cx="2108880" cy="53892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66" name="Прямая со стрелкой 13"/>
          <p:cNvCxnSpPr>
            <a:stCxn id="162" idx="2"/>
          </p:cNvCxnSpPr>
          <p:nvPr/>
        </p:nvCxnSpPr>
        <p:spPr>
          <a:xfrm>
            <a:off x="4607280" y="2319120"/>
            <a:ext cx="1964520" cy="53892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pic>
        <p:nvPicPr>
          <p:cNvPr id="167" name="TextBox 17" descr=""/>
          <p:cNvPicPr/>
          <p:nvPr/>
        </p:nvPicPr>
        <p:blipFill>
          <a:blip r:embed="rId1"/>
          <a:stretch/>
        </p:blipFill>
        <p:spPr>
          <a:xfrm>
            <a:off x="841320" y="3840120"/>
            <a:ext cx="585720" cy="2676600"/>
          </a:xfrm>
          <a:prstGeom prst="rect">
            <a:avLst/>
          </a:prstGeom>
          <a:ln w="0">
            <a:noFill/>
          </a:ln>
        </p:spPr>
      </p:pic>
      <p:pic>
        <p:nvPicPr>
          <p:cNvPr id="168" name="TextBox 18" descr=""/>
          <p:cNvPicPr/>
          <p:nvPr/>
        </p:nvPicPr>
        <p:blipFill>
          <a:blip r:embed="rId2"/>
          <a:stretch/>
        </p:blipFill>
        <p:spPr>
          <a:xfrm>
            <a:off x="2073240" y="3840120"/>
            <a:ext cx="590760" cy="2676600"/>
          </a:xfrm>
          <a:prstGeom prst="rect">
            <a:avLst/>
          </a:prstGeom>
          <a:ln w="0">
            <a:noFill/>
          </a:ln>
        </p:spPr>
      </p:pic>
      <p:pic>
        <p:nvPicPr>
          <p:cNvPr id="169" name="TextBox 19" descr=""/>
          <p:cNvPicPr/>
          <p:nvPr/>
        </p:nvPicPr>
        <p:blipFill>
          <a:blip r:embed="rId3"/>
          <a:stretch/>
        </p:blipFill>
        <p:spPr>
          <a:xfrm>
            <a:off x="3340080" y="3840120"/>
            <a:ext cx="592200" cy="267660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 20" descr=""/>
          <p:cNvPicPr/>
          <p:nvPr/>
        </p:nvPicPr>
        <p:blipFill>
          <a:blip r:embed="rId4"/>
          <a:stretch/>
        </p:blipFill>
        <p:spPr>
          <a:xfrm>
            <a:off x="5699160" y="3840120"/>
            <a:ext cx="585720" cy="267660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 21" descr=""/>
          <p:cNvPicPr/>
          <p:nvPr/>
        </p:nvPicPr>
        <p:blipFill>
          <a:blip r:embed="rId5"/>
          <a:stretch/>
        </p:blipFill>
        <p:spPr>
          <a:xfrm>
            <a:off x="7126200" y="3840120"/>
            <a:ext cx="590760" cy="2676600"/>
          </a:xfrm>
          <a:prstGeom prst="rect">
            <a:avLst/>
          </a:prstGeom>
          <a:ln w="0">
            <a:noFill/>
          </a:ln>
        </p:spPr>
      </p:pic>
      <p:cxnSp>
        <p:nvCxnSpPr>
          <p:cNvPr id="172" name="Прямая со стрелкой 23"/>
          <p:cNvCxnSpPr>
            <a:stCxn id="163" idx="2"/>
            <a:endCxn id="167" idx="0"/>
          </p:cNvCxnSpPr>
          <p:nvPr/>
        </p:nvCxnSpPr>
        <p:spPr>
          <a:xfrm flipH="1">
            <a:off x="1133280" y="3390480"/>
            <a:ext cx="1259280" cy="467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73" name="Прямая со стрелкой 24"/>
          <p:cNvCxnSpPr>
            <a:stCxn id="163" idx="2"/>
            <a:endCxn id="168" idx="0"/>
          </p:cNvCxnSpPr>
          <p:nvPr/>
        </p:nvCxnSpPr>
        <p:spPr>
          <a:xfrm flipH="1">
            <a:off x="2366640" y="3390480"/>
            <a:ext cx="25920" cy="467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74" name="Прямая со стрелкой 25"/>
          <p:cNvCxnSpPr>
            <a:stCxn id="163" idx="2"/>
            <a:endCxn id="169" idx="0"/>
          </p:cNvCxnSpPr>
          <p:nvPr/>
        </p:nvCxnSpPr>
        <p:spPr>
          <a:xfrm>
            <a:off x="2391120" y="3390480"/>
            <a:ext cx="1242000" cy="467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75" name="Прямая со стрелкой 26"/>
          <p:cNvCxnSpPr>
            <a:stCxn id="164" idx="2"/>
            <a:endCxn id="171" idx="0"/>
          </p:cNvCxnSpPr>
          <p:nvPr/>
        </p:nvCxnSpPr>
        <p:spPr>
          <a:xfrm>
            <a:off x="6679080" y="3390480"/>
            <a:ext cx="740520" cy="467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76" name="Прямая со стрелкой 27"/>
          <p:cNvCxnSpPr>
            <a:stCxn id="164" idx="2"/>
            <a:endCxn id="170" idx="0"/>
          </p:cNvCxnSpPr>
          <p:nvPr/>
        </p:nvCxnSpPr>
        <p:spPr>
          <a:xfrm flipH="1">
            <a:off x="5990760" y="3390480"/>
            <a:ext cx="689760" cy="467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Реформа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1071720" y="1928880"/>
            <a:ext cx="7286400" cy="155700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еформа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– частичное усовершенствование в какой-либо сфере жизни, проводимое одновременно, ряд постепенных преобразований, не затрагивающих основ существующего социального строя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1071720" y="4214880"/>
            <a:ext cx="3214440" cy="82548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Прогрессивные реформы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5072040" y="4214880"/>
            <a:ext cx="3214800" cy="82548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Регрессивные реформы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cxnSp>
        <p:nvCxnSpPr>
          <p:cNvPr id="181" name="Прямая со стрелкой 7"/>
          <p:cNvCxnSpPr>
            <a:stCxn id="178" idx="2"/>
            <a:endCxn id="179" idx="0"/>
          </p:cNvCxnSpPr>
          <p:nvPr/>
        </p:nvCxnSpPr>
        <p:spPr>
          <a:xfrm flipH="1">
            <a:off x="2677680" y="3498480"/>
            <a:ext cx="2037600" cy="7167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82" name="Прямая со стрелкой 8"/>
          <p:cNvCxnSpPr>
            <a:stCxn id="178" idx="2"/>
            <a:endCxn id="180" idx="0"/>
          </p:cNvCxnSpPr>
          <p:nvPr/>
        </p:nvCxnSpPr>
        <p:spPr>
          <a:xfrm>
            <a:off x="4713840" y="3498480"/>
            <a:ext cx="1965960" cy="7167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Революция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071720" y="1928880"/>
            <a:ext cx="7286400" cy="119124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– полное или комплексное изменение всех или большинства сторон жизни, затрагивающее основы существующего социального строя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071720" y="4214880"/>
            <a:ext cx="3214440" cy="82548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Кратковременная революция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5072040" y="4214880"/>
            <a:ext cx="3214800" cy="82548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Долговременная революция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cxnSp>
        <p:nvCxnSpPr>
          <p:cNvPr id="187" name="Прямая со стрелкой 7"/>
          <p:cNvCxnSpPr>
            <a:stCxn id="184" idx="2"/>
            <a:endCxn id="185" idx="0"/>
          </p:cNvCxnSpPr>
          <p:nvPr/>
        </p:nvCxnSpPr>
        <p:spPr>
          <a:xfrm flipH="1">
            <a:off x="2677680" y="3129120"/>
            <a:ext cx="2037600" cy="10864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88" name="Прямая со стрелкой 8"/>
          <p:cNvCxnSpPr>
            <a:stCxn id="184" idx="2"/>
            <a:endCxn id="186" idx="0"/>
          </p:cNvCxnSpPr>
          <p:nvPr/>
        </p:nvCxnSpPr>
        <p:spPr>
          <a:xfrm>
            <a:off x="4713840" y="3129120"/>
            <a:ext cx="1965960" cy="10864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pic>
        <p:nvPicPr>
          <p:cNvPr id="189" name="Picture 2" descr="Картинка 26 из 466"/>
          <p:cNvPicPr/>
          <p:nvPr/>
        </p:nvPicPr>
        <p:blipFill>
          <a:blip r:embed="rId1"/>
          <a:stretch/>
        </p:blipFill>
        <p:spPr>
          <a:xfrm>
            <a:off x="5429160" y="5143680"/>
            <a:ext cx="2616120" cy="1571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90" name="Picture 4" descr="Картинка 29 из 161"/>
          <p:cNvPicPr/>
          <p:nvPr/>
        </p:nvPicPr>
        <p:blipFill>
          <a:blip r:embed="rId2"/>
          <a:stretch/>
        </p:blipFill>
        <p:spPr>
          <a:xfrm>
            <a:off x="1714680" y="5143680"/>
            <a:ext cx="2055600" cy="1612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1" name="TextBox 9"/>
          <p:cNvSpPr/>
          <p:nvPr/>
        </p:nvSpPr>
        <p:spPr>
          <a:xfrm>
            <a:off x="714240" y="6416640"/>
            <a:ext cx="3786480" cy="368280"/>
          </a:xfrm>
          <a:prstGeom prst="rect">
            <a:avLst/>
          </a:prstGeom>
          <a:gradFill rotWithShape="0">
            <a:gsLst>
              <a:gs pos="0">
                <a:srgbClr val="a6e5f7"/>
              </a:gs>
              <a:gs pos="100000">
                <a:srgbClr val="e6f8fd"/>
              </a:gs>
            </a:gsLst>
            <a:lin ang="16200000"/>
          </a:gradFill>
          <a:ln w="9360">
            <a:solidFill>
              <a:srgbClr val="459ca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ранцузская революция 1789 – 1794гг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4929120" y="6416640"/>
            <a:ext cx="3786120" cy="368280"/>
          </a:xfrm>
          <a:prstGeom prst="rect">
            <a:avLst/>
          </a:prstGeom>
          <a:gradFill rotWithShape="0">
            <a:gsLst>
              <a:gs pos="0">
                <a:srgbClr val="a6e5f7"/>
              </a:gs>
              <a:gs pos="100000">
                <a:srgbClr val="e6f8fd"/>
              </a:gs>
            </a:gsLst>
            <a:lin ang="16200000"/>
          </a:gradFill>
          <a:ln w="9360">
            <a:solidFill>
              <a:srgbClr val="459ca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олитическая революция 3000 лет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1. О каком понятии идет речь: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Глобальный, всемирно-исторический процесс движения человеческого общества от дикости к цивилизации на всём протяжении исторического времени называется ___________________________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01:36:36Z</dcterms:created>
  <dc:creator>user_2</dc:creator>
  <dc:description/>
  <cp:keywords/>
  <dc:language>en-US</dc:language>
  <cp:lastModifiedBy>user_2</cp:lastModifiedBy>
  <dcterms:modified xsi:type="dcterms:W3CDTF">2011-10-07T04:04:43Z</dcterms:modified>
  <cp:revision>11</cp:revision>
  <dc:subject/>
  <dc:title>Социальный прогресс и развитие общ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891049</vt:lpwstr>
  </property>
</Properties>
</file>