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FA1-3C52-4972-BC6F-237D49B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170-34D8-4F7F-B7D0-03893A41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0DF-ED23-462C-8BFB-80F21EA4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437-802D-4FB9-9078-898F0390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FFF-1C26-4EC1-9093-CBF197E0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8F11-4C19-4C80-8BC7-E27B6D0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5844-BDD3-4FC8-A410-4D2746B2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BD9-F3C7-4F40-A1CD-530AB8E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6EB-FE41-49E3-ACF0-31FB2B58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5D2-49DC-4303-BB8D-E3996456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C13-6644-4234-A9F9-F6720E5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063-1ACF-425A-9263-CE2DDFB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B8FA-93F9-4013-A8DB-C75835C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BA1-9403-499D-89A1-67B2CFF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886D-9FEE-453B-ABC8-FD114350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8DBD-C681-4325-947A-D28F7B59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2BD-84D4-4B9E-B5D8-48CAB6DF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CC7-40ED-4DC2-8890-74D98A5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2A6-455B-4814-9B23-605CC461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3D6-FF4E-4D10-8DB8-E40B8B5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252-4418-44D1-B92A-F81B9BD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06F-3E8B-4312-AE3A-77AA544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338-37E5-41A5-B3BE-2ACBDAF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AFA-64AD-4E6A-BD82-2F6089E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2" name="Group 2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20" name="Picture 49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" name="Group 44"/>
            <p:cNvGrpSpPr/>
            <p:nvPr/>
          </p:nvGrpSpPr>
          <p:grpSpPr>
            <a:xfrm>
              <a:off x="228600" y="1523880"/>
              <a:ext cx="1676160" cy="457200"/>
              <a:chOff x="228600" y="1523880"/>
              <a:chExt cx="1676160" cy="457200"/>
            </a:xfrm>
          </p:grpSpPr>
          <p:sp>
            <p:nvSpPr>
              <p:cNvPr id="22" name="Line 41"/>
              <p:cNvSpPr/>
              <p:nvPr/>
            </p:nvSpPr>
            <p:spPr>
              <a:xfrm>
                <a:off x="228600" y="1600200"/>
                <a:ext cx="16761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3" name="Line 42"/>
              <p:cNvSpPr/>
              <p:nvPr/>
            </p:nvSpPr>
            <p:spPr>
              <a:xfrm>
                <a:off x="380880" y="1600200"/>
                <a:ext cx="38088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4" name="Oval 43"/>
              <p:cNvSpPr/>
              <p:nvPr/>
            </p:nvSpPr>
            <p:spPr>
              <a:xfrm>
                <a:off x="304560" y="1523880"/>
                <a:ext cx="185760" cy="185760"/>
              </a:xfrm>
              <a:prstGeom prst="ellipse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DC37-91AE-4454-A87A-5BF3C6922E7C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4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7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68" name="Group 3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69" name="Freeform 4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0" name="Freeform 5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1" name="Freeform 6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3" name="Freeform 8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4" name="Freeform 9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5" name="Freeform 10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7" name="Freeform 12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2" name="Freeform 17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3" name="Freeform 18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86" name="Picture 50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52"/>
          <p:cNvSpPr/>
          <p:nvPr/>
        </p:nvSpPr>
        <p:spPr>
          <a:xfrm>
            <a:off x="380880" y="3352680"/>
            <a:ext cx="4267440" cy="152640"/>
          </a:xfrm>
          <a:prstGeom prst="rect">
            <a:avLst/>
          </a:prstGeom>
          <a:solidFill>
            <a:srgbClr val="3a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6083-CF66-41BD-92F2-E3AB4AD165C2}" type="slidenum"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 и развитие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8 класс. 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2. Какое общественное явление иллюстрирует эта логическая цепочка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оздушный шар (178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оздушный корабль (1852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Þ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Дирижабль (1898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Полет на первом самолёте (190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ертолёт (1939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ыход в космос (1961 г.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3. О каком законе истор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Самым продолжительным временем был первобытный строй, просуществовавший несколько сот тысяч лет, земледельческая цивилизация длилась 5 000 лет, индустриальная эпоха – лишь пятое столетие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4. О каком законе истории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В то время когда в Европе и США зарождается развитое индустриальное общество, где главной ценностью стало осознание человека как личности, признание его права определять свободной волей направление своего жизненного пути, на азиатском и африканском континентах жили народы традиционных цивилизаций, считавшие, что жизнь человека только тогда имеет смысл, если она полностью повторяет жизнь предков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5. О каких двух путях прогресса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А. Изменения в какой-то области общества, ведущие к улучшению, но не меняющие положения коренным образом. Например, компьютеризация школ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Б. Кардинальные изменения в той или иной области общества. Например, введение всеобщего 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платного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 образования в государственных и муниципальных школах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6. О каком типе реформ (экономической, политической или социальной) идет речь в следующих примерах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А. Политическая. Б. Социальная. В. Экономическа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1) С 90-х гг. XX в. в нашей стране введено медицинское страхование за оказание медицинских услуг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2) В 2002 году началось проведение пенсионной реформы, согласно которой граждане сами будут зарабатывать накопительную часть пенси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3) С 1 января 1999 г.  вступил в действие новый налоговый кодекс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4) Президент предложил новый порядок выборов губернаторов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А. В 1883 г. Х. С. Мэксим изобрёл станковый пулемёт. В 1916 г. изобретатель В. Федоров создал новое оружие, которое теперь называют автоматом. Появляются подводные лодки, танки, огнемет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Б. 22 апреля 1915 г. здесь родилась «химическая война». Дождавшись благоприятного ветра, дувшего в сторону позиций англо-французов, немцы открыли на рассвете интенсивный артиллерийский огонь по селениям, расположенным в ближайшем тылу противника. Было отравлено 15 тысяч человек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В. В ходе начавшейся газовой войны простейшие марлевые повязки были заменены противогазам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Г. В Первую мировую войну Германия развернула пиратскую войну против Англии, в ходе которой немецкие подводные лодки стали топить торговые суда. 7 мая 1915 г. такая участь постигла лайнер «Лузитания», имевший на борту около 2 тыс. пассажиров. Только 784 человека удалось спасти. 1195 человек погибли, среди них 286 женщин и 94 ребенк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Прочитать § 4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ыучить понятия: социальный прогресс, регресс, реформа, революция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 Рабочей тетради: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4»: с. 14 №1, с. 15 №3-4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5»: с. 14 №2, с. 16 №5, с. 17 №6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928800" y="3357720"/>
            <a:ext cx="7786440" cy="19227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обытнообщинный строй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40 тыс. до н.э. – конец IV тыс. до  н. 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ревний мир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Конец IV тыс. до н.э. – конец V в. н.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едние века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V в. н.э. – сер. XVII в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ое врем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Сер. XVII – нач. XX в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28800" y="171468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6" name="Picture 2" descr="Картинка 1 из 1410"/>
          <p:cNvPicPr/>
          <p:nvPr/>
        </p:nvPicPr>
        <p:blipFill>
          <a:blip r:embed="rId1"/>
          <a:stretch/>
        </p:blipFill>
        <p:spPr>
          <a:xfrm>
            <a:off x="1701720" y="2928960"/>
            <a:ext cx="5942160" cy="3733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развит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роды и нации развиваются с неодинаковой скорость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9" name="TextBox 4"/>
          <p:cNvGrpSpPr/>
          <p:nvPr/>
        </p:nvGrpSpPr>
        <p:grpSpPr>
          <a:xfrm>
            <a:off x="2865600" y="3176640"/>
            <a:ext cx="3547800" cy="766800"/>
            <a:chOff x="2865600" y="3176640"/>
            <a:chExt cx="3547800" cy="766800"/>
          </a:xfrm>
        </p:grpSpPr>
        <p:pic>
          <p:nvPicPr>
            <p:cNvPr id="140" name="TextBox 4" descr=""/>
            <p:cNvPicPr/>
            <p:nvPr/>
          </p:nvPicPr>
          <p:blipFill>
            <a:blip r:embed="rId1"/>
            <a:stretch/>
          </p:blipFill>
          <p:spPr>
            <a:xfrm>
              <a:off x="2865600" y="3176640"/>
              <a:ext cx="3547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928960" y="32860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ускорение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2" name="TextBox 5"/>
          <p:cNvGrpSpPr/>
          <p:nvPr/>
        </p:nvGrpSpPr>
        <p:grpSpPr>
          <a:xfrm>
            <a:off x="725400" y="4102200"/>
            <a:ext cx="3541680" cy="768240"/>
            <a:chOff x="725400" y="4102200"/>
            <a:chExt cx="3541680" cy="768240"/>
          </a:xfrm>
        </p:grpSpPr>
        <p:pic>
          <p:nvPicPr>
            <p:cNvPr id="143" name="TextBox 5" descr=""/>
            <p:cNvPicPr/>
            <p:nvPr/>
          </p:nvPicPr>
          <p:blipFill>
            <a:blip r:embed="rId2"/>
            <a:stretch/>
          </p:blipFill>
          <p:spPr>
            <a:xfrm>
              <a:off x="725400" y="4102200"/>
              <a:ext cx="35416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8588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про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5" name="TextBox 6"/>
          <p:cNvGrpSpPr/>
          <p:nvPr/>
        </p:nvGrpSpPr>
        <p:grpSpPr>
          <a:xfrm>
            <a:off x="5010120" y="4102200"/>
            <a:ext cx="3548160" cy="768240"/>
            <a:chOff x="5010120" y="4102200"/>
            <a:chExt cx="3548160" cy="768240"/>
          </a:xfrm>
        </p:grpSpPr>
        <p:pic>
          <p:nvPicPr>
            <p:cNvPr id="146" name="TextBox 6" descr=""/>
            <p:cNvPicPr/>
            <p:nvPr/>
          </p:nvPicPr>
          <p:blipFill>
            <a:blip r:embed="rId3"/>
            <a:stretch/>
          </p:blipFill>
          <p:spPr>
            <a:xfrm>
              <a:off x="5010120" y="4102200"/>
              <a:ext cx="354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7204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ре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cxnSp>
        <p:nvCxnSpPr>
          <p:cNvPr id="148" name="Прямая со стрелкой 8"/>
          <p:cNvCxnSpPr>
            <a:stCxn id="140" idx="2"/>
            <a:endCxn id="143" idx="0"/>
          </p:cNvCxnSpPr>
          <p:nvPr/>
        </p:nvCxnSpPr>
        <p:spPr>
          <a:xfrm flipH="1">
            <a:off x="2499480" y="3870000"/>
            <a:ext cx="214380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stCxn id="140" idx="2"/>
            <a:endCxn id="146" idx="0"/>
          </p:cNvCxnSpPr>
          <p:nvPr/>
        </p:nvCxnSpPr>
        <p:spPr>
          <a:xfrm>
            <a:off x="4643280" y="3870000"/>
            <a:ext cx="214416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50" name="TextBox 12"/>
          <p:cNvSpPr/>
          <p:nvPr/>
        </p:nvSpPr>
        <p:spPr>
          <a:xfrm>
            <a:off x="78588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зи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507204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га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28800" y="1857240"/>
            <a:ext cx="7643880" cy="1800360"/>
          </a:xfrm>
          <a:prstGeom prst="rect">
            <a:avLst/>
          </a:prstGeom>
          <a:gradFill rotWithShape="0">
            <a:gsLst>
              <a:gs pos="0">
                <a:srgbClr val="387345"/>
              </a:gs>
              <a:gs pos="100000">
                <a:srgbClr val="4b9a5c"/>
              </a:gs>
            </a:gsLst>
            <a:lin ang="16200000"/>
          </a:gradFill>
          <a:ln w="9360">
            <a:solidFill>
              <a:srgbClr val="54926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Социальный прогресс 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-  глобальный, всемирно-исторический процесс восхождения человеческих обществ от состояния дикости к вершинам цивилизаци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1424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коном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64320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хн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643800" y="4286160"/>
            <a:ext cx="221436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ультурный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57" name="Прямая со стрелкой 8"/>
          <p:cNvCxnSpPr>
            <a:stCxn id="153" idx="2"/>
          </p:cNvCxnSpPr>
          <p:nvPr/>
        </p:nvCxnSpPr>
        <p:spPr>
          <a:xfrm flipH="1">
            <a:off x="1785240" y="3673440"/>
            <a:ext cx="2966040" cy="54216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8" name="Прямая со стрелкой 9"/>
          <p:cNvCxnSpPr>
            <a:stCxn id="153" idx="2"/>
            <a:endCxn id="155" idx="0"/>
          </p:cNvCxnSpPr>
          <p:nvPr/>
        </p:nvCxnSpPr>
        <p:spPr>
          <a:xfrm flipH="1">
            <a:off x="4749480" y="3673080"/>
            <a:ext cx="2160" cy="6152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9" name="Прямая со стрелкой 10"/>
          <p:cNvCxnSpPr>
            <a:stCxn id="153" idx="2"/>
            <a:endCxn id="156" idx="0"/>
          </p:cNvCxnSpPr>
          <p:nvPr/>
        </p:nvCxnSpPr>
        <p:spPr>
          <a:xfrm>
            <a:off x="4750200" y="3673440"/>
            <a:ext cx="3001320" cy="61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60" name="TextBox 15"/>
          <p:cNvSpPr/>
          <p:nvPr/>
        </p:nvSpPr>
        <p:spPr>
          <a:xfrm>
            <a:off x="1143000" y="5500800"/>
            <a:ext cx="7429680" cy="825480"/>
          </a:xfrm>
          <a:prstGeom prst="rect">
            <a:avLst/>
          </a:prstGeom>
          <a:solidFill>
            <a:srgbClr val="589465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По отношению к политике и религии термин «прогресс» неприменим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071880" y="185724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857160" y="292896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форма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143680" y="2928960"/>
            <a:ext cx="307152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5" name="Прямая со стрелкой 12"/>
          <p:cNvCxnSpPr>
            <a:stCxn id="162" idx="2"/>
          </p:cNvCxnSpPr>
          <p:nvPr/>
        </p:nvCxnSpPr>
        <p:spPr>
          <a:xfrm flipH="1">
            <a:off x="2499840" y="2319120"/>
            <a:ext cx="210888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66" name="Прямая со стрелкой 13"/>
          <p:cNvCxnSpPr>
            <a:stCxn id="162" idx="2"/>
          </p:cNvCxnSpPr>
          <p:nvPr/>
        </p:nvCxnSpPr>
        <p:spPr>
          <a:xfrm>
            <a:off x="4607280" y="2319120"/>
            <a:ext cx="196452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67" name="TextBox 17" descr=""/>
          <p:cNvPicPr/>
          <p:nvPr/>
        </p:nvPicPr>
        <p:blipFill>
          <a:blip r:embed="rId1"/>
          <a:stretch/>
        </p:blipFill>
        <p:spPr>
          <a:xfrm>
            <a:off x="84132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 18" descr=""/>
          <p:cNvPicPr/>
          <p:nvPr/>
        </p:nvPicPr>
        <p:blipFill>
          <a:blip r:embed="rId2"/>
          <a:stretch/>
        </p:blipFill>
        <p:spPr>
          <a:xfrm>
            <a:off x="2073240" y="3840120"/>
            <a:ext cx="590760" cy="267660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19" descr=""/>
          <p:cNvPicPr/>
          <p:nvPr/>
        </p:nvPicPr>
        <p:blipFill>
          <a:blip r:embed="rId3"/>
          <a:stretch/>
        </p:blipFill>
        <p:spPr>
          <a:xfrm>
            <a:off x="3340080" y="3840120"/>
            <a:ext cx="592200" cy="26766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0" descr=""/>
          <p:cNvPicPr/>
          <p:nvPr/>
        </p:nvPicPr>
        <p:blipFill>
          <a:blip r:embed="rId4"/>
          <a:stretch/>
        </p:blipFill>
        <p:spPr>
          <a:xfrm>
            <a:off x="569916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1" descr=""/>
          <p:cNvPicPr/>
          <p:nvPr/>
        </p:nvPicPr>
        <p:blipFill>
          <a:blip r:embed="rId5"/>
          <a:stretch/>
        </p:blipFill>
        <p:spPr>
          <a:xfrm>
            <a:off x="7126200" y="3840120"/>
            <a:ext cx="590760" cy="267660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23"/>
          <p:cNvCxnSpPr>
            <a:stCxn id="163" idx="2"/>
            <a:endCxn id="167" idx="0"/>
          </p:cNvCxnSpPr>
          <p:nvPr/>
        </p:nvCxnSpPr>
        <p:spPr>
          <a:xfrm flipH="1">
            <a:off x="1133280" y="3390480"/>
            <a:ext cx="125928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3" name="Прямая со стрелкой 24"/>
          <p:cNvCxnSpPr>
            <a:stCxn id="163" idx="2"/>
            <a:endCxn id="168" idx="0"/>
          </p:cNvCxnSpPr>
          <p:nvPr/>
        </p:nvCxnSpPr>
        <p:spPr>
          <a:xfrm flipH="1">
            <a:off x="2366640" y="3390480"/>
            <a:ext cx="259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4" name="Прямая со стрелкой 25"/>
          <p:cNvCxnSpPr>
            <a:stCxn id="163" idx="2"/>
            <a:endCxn id="169" idx="0"/>
          </p:cNvCxnSpPr>
          <p:nvPr/>
        </p:nvCxnSpPr>
        <p:spPr>
          <a:xfrm>
            <a:off x="2391120" y="3390480"/>
            <a:ext cx="124200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5" name="Прямая со стрелкой 26"/>
          <p:cNvCxnSpPr>
            <a:stCxn id="164" idx="2"/>
            <a:endCxn id="171" idx="0"/>
          </p:cNvCxnSpPr>
          <p:nvPr/>
        </p:nvCxnSpPr>
        <p:spPr>
          <a:xfrm>
            <a:off x="6679080" y="3390480"/>
            <a:ext cx="7405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6" name="Прямая со стрелкой 27"/>
          <p:cNvCxnSpPr>
            <a:stCxn id="164" idx="2"/>
            <a:endCxn id="170" idx="0"/>
          </p:cNvCxnSpPr>
          <p:nvPr/>
        </p:nvCxnSpPr>
        <p:spPr>
          <a:xfrm flipH="1">
            <a:off x="5990760" y="3390480"/>
            <a:ext cx="68976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форм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071720" y="1928880"/>
            <a:ext cx="7286400" cy="155700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форм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частичное усовершенствование в какой-либо сфере жизни, проводимое одновременно, ряд постепенных преобразований, не затрагивающих основ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1" name="Прямая со стрелкой 7"/>
          <p:cNvCxnSpPr>
            <a:stCxn id="178" idx="2"/>
            <a:endCxn id="179" idx="0"/>
          </p:cNvCxnSpPr>
          <p:nvPr/>
        </p:nvCxnSpPr>
        <p:spPr>
          <a:xfrm flipH="1">
            <a:off x="2677680" y="3498480"/>
            <a:ext cx="203760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2" name="Прямая со стрелкой 8"/>
          <p:cNvCxnSpPr>
            <a:stCxn id="178" idx="2"/>
            <a:endCxn id="180" idx="0"/>
          </p:cNvCxnSpPr>
          <p:nvPr/>
        </p:nvCxnSpPr>
        <p:spPr>
          <a:xfrm>
            <a:off x="4713840" y="3498480"/>
            <a:ext cx="196596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волюция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071720" y="1928880"/>
            <a:ext cx="7286400" cy="11912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– полное или комплексное изменение всех или большинства сторон жизни, затрагивающее основы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ратк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Долг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7" name="Прямая со стрелкой 7"/>
          <p:cNvCxnSpPr>
            <a:stCxn id="184" idx="2"/>
            <a:endCxn id="185" idx="0"/>
          </p:cNvCxnSpPr>
          <p:nvPr/>
        </p:nvCxnSpPr>
        <p:spPr>
          <a:xfrm flipH="1">
            <a:off x="2677680" y="3129120"/>
            <a:ext cx="203760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8" name="Прямая со стрелкой 8"/>
          <p:cNvCxnSpPr>
            <a:stCxn id="184" idx="2"/>
            <a:endCxn id="186" idx="0"/>
          </p:cNvCxnSpPr>
          <p:nvPr/>
        </p:nvCxnSpPr>
        <p:spPr>
          <a:xfrm>
            <a:off x="4713840" y="3129120"/>
            <a:ext cx="196596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89" name="Picture 2" descr="Картинка 26 из 466"/>
          <p:cNvPicPr/>
          <p:nvPr/>
        </p:nvPicPr>
        <p:blipFill>
          <a:blip r:embed="rId1"/>
          <a:stretch/>
        </p:blipFill>
        <p:spPr>
          <a:xfrm>
            <a:off x="5429160" y="5143680"/>
            <a:ext cx="2616120" cy="157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4" descr="Картинка 29 из 161"/>
          <p:cNvPicPr/>
          <p:nvPr/>
        </p:nvPicPr>
        <p:blipFill>
          <a:blip r:embed="rId2"/>
          <a:stretch/>
        </p:blipFill>
        <p:spPr>
          <a:xfrm>
            <a:off x="1714680" y="5143680"/>
            <a:ext cx="2055600" cy="161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Box 9"/>
          <p:cNvSpPr/>
          <p:nvPr/>
        </p:nvSpPr>
        <p:spPr>
          <a:xfrm>
            <a:off x="714240" y="6416640"/>
            <a:ext cx="378648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ранцузская революция 1789 – 1794гг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929120" y="6416640"/>
            <a:ext cx="378612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литическая революция 3000 лет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1. О каком понят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Глобальный, всемирно-исторический процесс движения человеческого общества от дикости к цивилизации на всём протяжении исторического времени называется ___________________________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1:36:36Z</dcterms:created>
  <dc:creator>user_2</dc:creator>
  <dc:description/>
  <cp:keywords/>
  <dc:language>en-US</dc:language>
  <cp:lastModifiedBy>user_2</cp:lastModifiedBy>
  <dcterms:modified xsi:type="dcterms:W3CDTF">2011-10-07T04:04:43Z</dcterms:modified>
  <cp:revision>11</cp:revision>
  <dc:subject/>
  <dc:title>Социальный прогресс и развити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91049</vt:lpwstr>
  </property>
</Properties>
</file>