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FCF-1F82-4C9E-BA54-151CA128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F48-863C-46FD-AC90-F0A467B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FAE-BAC0-443D-98BC-96B71601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48B-BCD2-40B2-B37E-0BCDCB50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82A-B5A8-4AF4-A5C2-A16CE93A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B0E-56D1-4918-91B5-AF997A44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8B7-1587-4050-9526-FEDD2A60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DA7-000A-4E5D-B2D1-61E222E4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B4C-0BED-4A9A-B907-9CE60EA5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436-ED2F-4FE7-AEA8-3AFE0BE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6EF-2D02-413D-8488-6A4108D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FB5-DE27-4F57-A892-A3C4259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476-FFC9-466E-8312-547DC03E3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953680" y="20304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ГБОУ СОШ № 4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имени Сергея Жу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384560" y="2079720"/>
            <a:ext cx="675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Литературно – музыкальная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ком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«Сыны Отечеств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487120" y="3573360"/>
            <a:ext cx="346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по воспитательн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адыхбе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ветлана Матв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99760" y="59500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анкт –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donskoi"/>
          <p:cNvPicPr/>
          <p:nvPr/>
        </p:nvPicPr>
        <p:blipFill>
          <a:blip r:embed="rId1"/>
          <a:stretch/>
        </p:blipFill>
        <p:spPr>
          <a:xfrm>
            <a:off x="2195640" y="333360"/>
            <a:ext cx="4757760" cy="568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2938320" y="609300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Князь Дмитрий До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eresv_b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192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471760" y="566100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оединок Пересвета с Челуб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krin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564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010600" y="595008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Сергий Радонежский благослов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Дмитрия Донского на ратный подв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276120" y="33336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XVII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век. См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1320264070_lissner"/>
          <p:cNvPicPr/>
          <p:nvPr/>
        </p:nvPicPr>
        <p:blipFill>
          <a:blip r:embed="rId1"/>
          <a:stretch/>
        </p:blipFill>
        <p:spPr>
          <a:xfrm>
            <a:off x="684360" y="928800"/>
            <a:ext cx="7848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Smolenskij-voevoda-boyarin-Mihail-Borislvich-SHein"/>
          <p:cNvPicPr/>
          <p:nvPr/>
        </p:nvPicPr>
        <p:blipFill>
          <a:blip r:embed="rId1"/>
          <a:stretch/>
        </p:blipFill>
        <p:spPr>
          <a:xfrm>
            <a:off x="2411280" y="189000"/>
            <a:ext cx="4324320" cy="5832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743920" y="616572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олководец Михаил Ш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0312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-Шуйский"/>
          <p:cNvPicPr/>
          <p:nvPr/>
        </p:nvPicPr>
        <p:blipFill>
          <a:blip r:embed="rId1"/>
          <a:stretch/>
        </p:blipFill>
        <p:spPr>
          <a:xfrm>
            <a:off x="2050920" y="260280"/>
            <a:ext cx="506124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"/>
          <p:cNvSpPr/>
          <p:nvPr/>
        </p:nvSpPr>
        <p:spPr>
          <a:xfrm>
            <a:off x="2680200" y="6237360"/>
            <a:ext cx="36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Воевода Скопин-Шу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666px-Moskva_plastika_kniezata_Dmitrija_Michajlovica_Požarskeho11"/>
          <p:cNvPicPr/>
          <p:nvPr/>
        </p:nvPicPr>
        <p:blipFill>
          <a:blip r:embed="rId1"/>
          <a:stretch/>
        </p:blipFill>
        <p:spPr>
          <a:xfrm>
            <a:off x="1476360" y="189000"/>
            <a:ext cx="6335640" cy="5829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704600" y="6237360"/>
            <a:ext cx="59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амятник Минину и Пожарскому в Моск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7a3adc8b1"/>
          <p:cNvPicPr/>
          <p:nvPr/>
        </p:nvPicPr>
        <p:blipFill>
          <a:blip r:embed="rId1"/>
          <a:stretch/>
        </p:blipFill>
        <p:spPr>
          <a:xfrm>
            <a:off x="539640" y="260280"/>
            <a:ext cx="8137800" cy="5389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480400" y="5734080"/>
            <a:ext cx="451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Отечественная война 1812 год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нашествие Наполеона на Россию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Otstuplenie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491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49520" y="5950080"/>
            <a:ext cx="44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Отступление французской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283913245_brdn029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830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891360" y="623736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Бородинское сражение 26 августа (7 сентября) 181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RbtxmrfGSR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547640" y="0"/>
            <a:ext cx="67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щитники Оте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российской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99db50643b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6016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3709440" y="623736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Бород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301294258275757565"/>
          <p:cNvPicPr/>
          <p:nvPr/>
        </p:nvPicPr>
        <p:blipFill>
          <a:blip r:embed="rId1"/>
          <a:stretch/>
        </p:blipFill>
        <p:spPr>
          <a:xfrm>
            <a:off x="2124000" y="260280"/>
            <a:ext cx="4853160" cy="583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192040" y="6165720"/>
            <a:ext cx="47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-фельдмаршал М.И.Куту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986200" y="6165720"/>
            <a:ext cx="31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 П.И.Баграт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80px-Bagration_P_I"/>
          <p:cNvPicPr/>
          <p:nvPr/>
        </p:nvPicPr>
        <p:blipFill>
          <a:blip r:embed="rId1"/>
          <a:stretch/>
        </p:blipFill>
        <p:spPr>
          <a:xfrm>
            <a:off x="1979640" y="260280"/>
            <a:ext cx="49323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336040" y="616572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-лейтенант Д.В.Давы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80px-Denisdavydov"/>
          <p:cNvPicPr/>
          <p:nvPr/>
        </p:nvPicPr>
        <p:blipFill>
          <a:blip r:embed="rId1"/>
          <a:stretch/>
        </p:blipFill>
        <p:spPr>
          <a:xfrm>
            <a:off x="1979640" y="260280"/>
            <a:ext cx="504036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056760" y="623736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 Н.Н.Ра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70px-Rajevskij_N_N"/>
          <p:cNvPicPr/>
          <p:nvPr/>
        </p:nvPicPr>
        <p:blipFill>
          <a:blip r:embed="rId1"/>
          <a:stretch/>
        </p:blipFill>
        <p:spPr>
          <a:xfrm>
            <a:off x="2050920" y="260280"/>
            <a:ext cx="51418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418200" y="6237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С.Х.Ставр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tavrakov_Semyon_Hristoforovich"/>
          <p:cNvPicPr/>
          <p:nvPr/>
        </p:nvPicPr>
        <p:blipFill>
          <a:blip r:embed="rId1"/>
          <a:stretch/>
        </p:blipFill>
        <p:spPr>
          <a:xfrm>
            <a:off x="1979640" y="260280"/>
            <a:ext cx="51325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418560" y="623736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М.А.Милорад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iloradovich"/>
          <p:cNvPicPr/>
          <p:nvPr/>
        </p:nvPicPr>
        <p:blipFill>
          <a:blip r:embed="rId1"/>
          <a:stretch/>
        </p:blipFill>
        <p:spPr>
          <a:xfrm>
            <a:off x="2050920" y="260280"/>
            <a:ext cx="51501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708000" y="623736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М.И.Пл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latov"/>
          <p:cNvPicPr/>
          <p:nvPr/>
        </p:nvPicPr>
        <p:blipFill>
          <a:blip r:embed="rId1"/>
          <a:stretch/>
        </p:blipFill>
        <p:spPr>
          <a:xfrm>
            <a:off x="1979640" y="260280"/>
            <a:ext cx="51148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708360" y="623736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Ф.Ф.Дов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517px-Dovre_Fyodor_Filippovich"/>
          <p:cNvPicPr/>
          <p:nvPr/>
        </p:nvPicPr>
        <p:blipFill>
          <a:blip r:embed="rId1"/>
          <a:stretch/>
        </p:blipFill>
        <p:spPr>
          <a:xfrm>
            <a:off x="1979640" y="260280"/>
            <a:ext cx="51595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707280" y="630864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П.А.Фил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ilisov_Pavel_Andreevich"/>
          <p:cNvPicPr/>
          <p:nvPr/>
        </p:nvPicPr>
        <p:blipFill>
          <a:blip r:embed="rId1"/>
          <a:stretch/>
        </p:blipFill>
        <p:spPr>
          <a:xfrm>
            <a:off x="2050920" y="333360"/>
            <a:ext cx="5148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image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4981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2813760" y="5373720"/>
            <a:ext cx="39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1922 год. Образование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418200" y="623736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П.М.Волко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rince_Pyotr_Mikhailovich_Volkonsky"/>
          <p:cNvPicPr/>
          <p:nvPr/>
        </p:nvPicPr>
        <p:blipFill>
          <a:blip r:embed="rId1"/>
          <a:stretch/>
        </p:blipFill>
        <p:spPr>
          <a:xfrm>
            <a:off x="1979640" y="260280"/>
            <a:ext cx="520056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634920" y="623736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Д.В.Голиц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523px-Dmitriy_Vladimirovich_Golitsyn"/>
          <p:cNvPicPr/>
          <p:nvPr/>
        </p:nvPicPr>
        <p:blipFill>
          <a:blip r:embed="rId1"/>
          <a:stretch/>
        </p:blipFill>
        <p:spPr>
          <a:xfrm>
            <a:off x="2050920" y="333360"/>
            <a:ext cx="509292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3640" y="623736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А.Ф.Щерб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537px-Scherbatov_Alexandr_Fyodorovich"/>
          <p:cNvPicPr/>
          <p:nvPr/>
        </p:nvPicPr>
        <p:blipFill>
          <a:blip r:embed="rId1"/>
          <a:stretch/>
        </p:blipFill>
        <p:spPr>
          <a:xfrm>
            <a:off x="1979640" y="260280"/>
            <a:ext cx="52941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696760" y="623736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Крестьянин Герасим Ку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pic_28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484360" y="260280"/>
            <a:ext cx="416880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57807871_sablya_nagradnaya_Anninska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808200" y="538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WOW007"/>
          <p:cNvPicPr/>
          <p:nvPr/>
        </p:nvPicPr>
        <p:blipFill>
          <a:blip r:embed="rId1"/>
          <a:stretch/>
        </p:blipFill>
        <p:spPr>
          <a:xfrm>
            <a:off x="3780000" y="1341360"/>
            <a:ext cx="5219640" cy="382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0_61c8d_a631740f_XL"/>
          <p:cNvPicPr/>
          <p:nvPr/>
        </p:nvPicPr>
        <p:blipFill>
          <a:blip r:embed="rId2"/>
          <a:stretch/>
        </p:blipFill>
        <p:spPr>
          <a:xfrm>
            <a:off x="179280" y="2565360"/>
            <a:ext cx="3510000" cy="381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3"/>
          <p:cNvSpPr/>
          <p:nvPr/>
        </p:nvSpPr>
        <p:spPr>
          <a:xfrm>
            <a:off x="1980720" y="331920"/>
            <a:ext cx="49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еликая Отечественн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41 -194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605091218571898"/>
          <p:cNvPicPr/>
          <p:nvPr/>
        </p:nvPicPr>
        <p:blipFill>
          <a:blip r:embed="rId1"/>
          <a:stretch/>
        </p:blipFill>
        <p:spPr>
          <a:xfrm>
            <a:off x="179280" y="3271680"/>
            <a:ext cx="4897440" cy="344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a12a7390cad4ab1d5a3118a9f1877fa"/>
          <p:cNvPicPr/>
          <p:nvPr/>
        </p:nvPicPr>
        <p:blipFill>
          <a:blip r:embed="rId2"/>
          <a:stretch/>
        </p:blipFill>
        <p:spPr>
          <a:xfrm>
            <a:off x="3851280" y="189000"/>
            <a:ext cx="51228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23_fevralya_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brdn034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6035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2349720" y="623736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Отечественная война 181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4435351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4846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876040" y="537372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1242 год. Ледовое побо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640x480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279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164400" y="5661000"/>
            <a:ext cx="29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862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год. Начало 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70484_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851280" y="609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Князь Александр 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to3_1"/>
          <p:cNvPicPr/>
          <p:nvPr/>
        </p:nvPicPr>
        <p:blipFill>
          <a:blip r:embed="rId1"/>
          <a:stretch/>
        </p:blipFill>
        <p:spPr>
          <a:xfrm>
            <a:off x="3419640" y="333360"/>
            <a:ext cx="467964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018800" y="4046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XIII</a:t>
            </a: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nevskii"/>
          <p:cNvPicPr/>
          <p:nvPr/>
        </p:nvPicPr>
        <p:blipFill>
          <a:blip r:embed="rId2"/>
          <a:stretch/>
        </p:blipFill>
        <p:spPr>
          <a:xfrm>
            <a:off x="324000" y="1268280"/>
            <a:ext cx="268416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1263540810_979249662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4637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916360" y="59500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Утро на Куликовом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57440" y="3445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XIV</a:t>
            </a: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21:11Z</dcterms:created>
  <dc:creator>Admin</dc:creator>
  <dc:description/>
  <dc:language>en-US</dc:language>
  <cp:lastModifiedBy>Олег</cp:lastModifiedBy>
  <dcterms:modified xsi:type="dcterms:W3CDTF">2012-05-20T18:12:07Z</dcterms:modified>
  <cp:revision>117</cp:revision>
  <dc:subject/>
  <dc:title>ГОУ СОШ № 453 им.Сергея Жукова</dc:title>
</cp:coreProperties>
</file>