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F3F-8A89-485D-B211-7582284B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44B-F2B1-45CA-953F-3B64C9B7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540-7717-47A2-8AFE-CAE109F6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9E0-7E7D-4225-983E-6AA2B6BB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038-14C6-4AE4-BF50-F12A416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DEA-EF6F-4034-BFAA-1C34DA61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115-9BD4-48AE-9EC1-E69916C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B22-7E63-4946-9404-34D1B70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866-C38E-47CE-83CA-6187F7C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59C-04C2-4871-8880-3A81535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07A-8C2E-4EEB-A291-FB964C8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594-B027-4C1F-9C16-D8DCCDFC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8F06-418A-4E0C-919E-18AAD9D82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953680" y="20304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ГБОУ СОШ № 4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имени Сергея Жу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84560" y="2079720"/>
            <a:ext cx="675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Литературно – музыкальная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«Сыны Отечест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487120" y="3573360"/>
            <a:ext cx="346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по воспитатель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дыхб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ветлана Матв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99760" y="59500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нкт –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donskoi"/>
          <p:cNvPicPr/>
          <p:nvPr/>
        </p:nvPicPr>
        <p:blipFill>
          <a:blip r:embed="rId1"/>
          <a:stretch/>
        </p:blipFill>
        <p:spPr>
          <a:xfrm>
            <a:off x="2195640" y="333360"/>
            <a:ext cx="4757760" cy="568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938320" y="609300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Дмитрий Д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eresv_b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471760" y="566100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единок Пересвета с Челуб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krin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564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010600" y="595008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Сергий Радонежский благосло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Дмитрия Донского на ратный подв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276120" y="33336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XVII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ек. См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1320264070_lissner"/>
          <p:cNvPicPr/>
          <p:nvPr/>
        </p:nvPicPr>
        <p:blipFill>
          <a:blip r:embed="rId1"/>
          <a:stretch/>
        </p:blipFill>
        <p:spPr>
          <a:xfrm>
            <a:off x="684360" y="928800"/>
            <a:ext cx="7848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Smolenskij-voevoda-boyarin-Mihail-Borislvich-SHein"/>
          <p:cNvPicPr/>
          <p:nvPr/>
        </p:nvPicPr>
        <p:blipFill>
          <a:blip r:embed="rId1"/>
          <a:stretch/>
        </p:blipFill>
        <p:spPr>
          <a:xfrm>
            <a:off x="2411280" y="189000"/>
            <a:ext cx="432432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743920" y="616572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лководец Михаил Ш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0312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-Шуйский"/>
          <p:cNvPicPr/>
          <p:nvPr/>
        </p:nvPicPr>
        <p:blipFill>
          <a:blip r:embed="rId1"/>
          <a:stretch/>
        </p:blipFill>
        <p:spPr>
          <a:xfrm>
            <a:off x="2050920" y="260280"/>
            <a:ext cx="506124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2680200" y="6237360"/>
            <a:ext cx="36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оевода Скопин-Шу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6px-Moskva_plastika_kniezata_Dmitrija_Michajlovica_Požarskeho11"/>
          <p:cNvPicPr/>
          <p:nvPr/>
        </p:nvPicPr>
        <p:blipFill>
          <a:blip r:embed="rId1"/>
          <a:stretch/>
        </p:blipFill>
        <p:spPr>
          <a:xfrm>
            <a:off x="1476360" y="189000"/>
            <a:ext cx="6335640" cy="5829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704600" y="6237360"/>
            <a:ext cx="59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амятник Минину и Пожарскому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7a3adc8b1"/>
          <p:cNvPicPr/>
          <p:nvPr/>
        </p:nvPicPr>
        <p:blipFill>
          <a:blip r:embed="rId1"/>
          <a:stretch/>
        </p:blipFill>
        <p:spPr>
          <a:xfrm>
            <a:off x="539640" y="260280"/>
            <a:ext cx="8137800" cy="5389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480400" y="5734080"/>
            <a:ext cx="451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ечественная война 1812 г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нашествие Наполеона на Россию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Otstuplenie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49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49520" y="5950080"/>
            <a:ext cx="44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ступление французской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283913245_brdn029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830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891360" y="623736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ское сражение 26 августа (7 сентября) 181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RbtxmrfGSR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547640" y="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щитники Оте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российско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99db50643b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016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3709440" y="623736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301294258275757565"/>
          <p:cNvPicPr/>
          <p:nvPr/>
        </p:nvPicPr>
        <p:blipFill>
          <a:blip r:embed="rId1"/>
          <a:stretch/>
        </p:blipFill>
        <p:spPr>
          <a:xfrm>
            <a:off x="2124000" y="260280"/>
            <a:ext cx="4853160" cy="583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192040" y="6165720"/>
            <a:ext cx="47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фельдмаршал М.И.Кут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986200" y="616572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П.И.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80px-Bagration_P_I"/>
          <p:cNvPicPr/>
          <p:nvPr/>
        </p:nvPicPr>
        <p:blipFill>
          <a:blip r:embed="rId1"/>
          <a:stretch/>
        </p:blipFill>
        <p:spPr>
          <a:xfrm>
            <a:off x="1979640" y="260280"/>
            <a:ext cx="4932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336040" y="616572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лейтенант Д.В.Давы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80px-Denisdavydov"/>
          <p:cNvPicPr/>
          <p:nvPr/>
        </p:nvPicPr>
        <p:blipFill>
          <a:blip r:embed="rId1"/>
          <a:stretch/>
        </p:blipFill>
        <p:spPr>
          <a:xfrm>
            <a:off x="1979640" y="260280"/>
            <a:ext cx="504036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056760" y="623736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Н.Н.Ра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70px-Rajevskij_N_N"/>
          <p:cNvPicPr/>
          <p:nvPr/>
        </p:nvPicPr>
        <p:blipFill>
          <a:blip r:embed="rId1"/>
          <a:stretch/>
        </p:blipFill>
        <p:spPr>
          <a:xfrm>
            <a:off x="2050920" y="260280"/>
            <a:ext cx="5141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418200" y="6237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С.Х.Ставр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tavrakov_Semyon_Hristof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32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418560" y="623736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А.Милорад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iloradovich"/>
          <p:cNvPicPr/>
          <p:nvPr/>
        </p:nvPicPr>
        <p:blipFill>
          <a:blip r:embed="rId1"/>
          <a:stretch/>
        </p:blipFill>
        <p:spPr>
          <a:xfrm>
            <a:off x="2050920" y="260280"/>
            <a:ext cx="5150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708000" y="62373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И.П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latov"/>
          <p:cNvPicPr/>
          <p:nvPr/>
        </p:nvPicPr>
        <p:blipFill>
          <a:blip r:embed="rId1"/>
          <a:stretch/>
        </p:blipFill>
        <p:spPr>
          <a:xfrm>
            <a:off x="1979640" y="260280"/>
            <a:ext cx="5114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708360" y="62373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Ф.Ф.Дов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517px-Dovre_Fyodor_Filipp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59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707280" y="630864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А.Фил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ilisov_Pavel_Andreevich"/>
          <p:cNvPicPr/>
          <p:nvPr/>
        </p:nvPicPr>
        <p:blipFill>
          <a:blip r:embed="rId1"/>
          <a:stretch/>
        </p:blipFill>
        <p:spPr>
          <a:xfrm>
            <a:off x="2050920" y="333360"/>
            <a:ext cx="5148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image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4981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2813760" y="5373720"/>
            <a:ext cx="39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922 год. Образование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418200" y="623736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М.Волк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rince_Pyotr_Mikhailovich_Volkonsky"/>
          <p:cNvPicPr/>
          <p:nvPr/>
        </p:nvPicPr>
        <p:blipFill>
          <a:blip r:embed="rId1"/>
          <a:stretch/>
        </p:blipFill>
        <p:spPr>
          <a:xfrm>
            <a:off x="1979640" y="260280"/>
            <a:ext cx="520056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634920" y="623736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Д.В.Голиц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523px-Dmitriy_Vladimirovich_Golitsyn"/>
          <p:cNvPicPr/>
          <p:nvPr/>
        </p:nvPicPr>
        <p:blipFill>
          <a:blip r:embed="rId1"/>
          <a:stretch/>
        </p:blipFill>
        <p:spPr>
          <a:xfrm>
            <a:off x="2050920" y="333360"/>
            <a:ext cx="50929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3640" y="623736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.Ф.Щерб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537px-Scherbatov_Alexandr_Fyod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294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696760" y="6237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Крестьянин Герасим Ку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pic_28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84360" y="260280"/>
            <a:ext cx="41688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57807871_sablya_nagradnaya_Anninsk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80820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WOW007"/>
          <p:cNvPicPr/>
          <p:nvPr/>
        </p:nvPicPr>
        <p:blipFill>
          <a:blip r:embed="rId1"/>
          <a:stretch/>
        </p:blipFill>
        <p:spPr>
          <a:xfrm>
            <a:off x="3780000" y="1341360"/>
            <a:ext cx="5219640" cy="382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0_61c8d_a631740f_XL"/>
          <p:cNvPicPr/>
          <p:nvPr/>
        </p:nvPicPr>
        <p:blipFill>
          <a:blip r:embed="rId2"/>
          <a:stretch/>
        </p:blipFill>
        <p:spPr>
          <a:xfrm>
            <a:off x="179280" y="2565360"/>
            <a:ext cx="3510000" cy="381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3"/>
          <p:cNvSpPr/>
          <p:nvPr/>
        </p:nvSpPr>
        <p:spPr>
          <a:xfrm>
            <a:off x="1980720" y="331920"/>
            <a:ext cx="49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еликая Отечественн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41 -194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605091218571898"/>
          <p:cNvPicPr/>
          <p:nvPr/>
        </p:nvPicPr>
        <p:blipFill>
          <a:blip r:embed="rId1"/>
          <a:stretch/>
        </p:blipFill>
        <p:spPr>
          <a:xfrm>
            <a:off x="179280" y="3271680"/>
            <a:ext cx="4897440" cy="344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a12a7390cad4ab1d5a3118a9f1877fa"/>
          <p:cNvPicPr/>
          <p:nvPr/>
        </p:nvPicPr>
        <p:blipFill>
          <a:blip r:embed="rId2"/>
          <a:stretch/>
        </p:blipFill>
        <p:spPr>
          <a:xfrm>
            <a:off x="3851280" y="189000"/>
            <a:ext cx="51228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3_fevralya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brdn034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6035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349720" y="623736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Отечественная война 18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443535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4846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876040" y="53737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242 год. Ледовое побо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640x480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279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164400" y="566100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862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год. Начало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70484_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851280" y="609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to3_1"/>
          <p:cNvPicPr/>
          <p:nvPr/>
        </p:nvPicPr>
        <p:blipFill>
          <a:blip r:embed="rId1"/>
          <a:stretch/>
        </p:blipFill>
        <p:spPr>
          <a:xfrm>
            <a:off x="3419640" y="333360"/>
            <a:ext cx="467964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018800" y="4046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II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nevskii"/>
          <p:cNvPicPr/>
          <p:nvPr/>
        </p:nvPicPr>
        <p:blipFill>
          <a:blip r:embed="rId2"/>
          <a:stretch/>
        </p:blipFill>
        <p:spPr>
          <a:xfrm>
            <a:off x="324000" y="1268280"/>
            <a:ext cx="26841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1263540810_979249662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4637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916360" y="59500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Утро на Куликовом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57440" y="3445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V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21:11Z</dcterms:created>
  <dc:creator>Admin</dc:creator>
  <dc:description/>
  <dc:language>en-US</dc:language>
  <cp:lastModifiedBy>Олег</cp:lastModifiedBy>
  <dcterms:modified xsi:type="dcterms:W3CDTF">2012-05-20T18:12:07Z</dcterms:modified>
  <cp:revision>117</cp:revision>
  <dc:subject/>
  <dc:title>ГОУ СОШ № 453 им.Сергея Жукова</dc:title>
</cp:coreProperties>
</file>