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.gif" ContentType="image/gif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24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7.jpeg" ContentType="image/jpeg"/>
  <Override PartName="/ppt/media/image3.png" ContentType="image/png"/>
  <Override PartName="/ppt/media/image12.gif" ContentType="image/gif"/>
  <Override PartName="/ppt/media/image17.jpeg" ContentType="image/jpeg"/>
  <Override PartName="/ppt/media/image7.jpeg" ContentType="image/jpeg"/>
  <Override PartName="/ppt/media/image38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A4AA-30AB-44E0-9DF0-C8600C650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6FD7-233C-43B2-BB91-43A23B131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AA80-3910-4648-81F2-3085BD95A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FA66-B9FD-465F-865A-CBDA97D35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D7E61-A6D1-4A0D-96E9-4095E5028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EDACF-14D1-4D0A-AAF1-FE17EEC94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CB7A1-A498-421E-8E74-1A6781F23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68C4F-5583-4D09-B1F6-4D12D84DA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55A8B-EEE1-485C-BCD9-108141F54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5BAE3-AB7D-4A84-A7AE-33F4B9B31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19E1E-F708-4216-BA44-190EAEEC7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8D4B-8C32-45D9-823E-E0267482E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F1041-62EF-4187-9743-6C4163FA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038DF-6A1D-4E2D-A9C4-D6D6F0289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B3BEA-23EC-40CF-B27E-0E62C225C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F08B1-CB6A-4B67-B134-1E1F58413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26E9D-B8B5-4468-AA94-511AB249D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CD74-760E-4AF1-98E0-F9E22EC9F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EA2A-46F9-452E-A1E7-30A7896C9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1150-BE2F-4EA5-A36E-444E1D349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1521-185B-4674-B557-1C6A151C5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CD99-94E9-420B-856E-3940CE87A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45F8-D7A8-4457-975D-FF36DFB9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96BD-C90B-4B5B-82E4-7A38C0E36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263A9-F8D4-4F84-9116-39DDFB04B05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1BFB2-C0F0-4018-A01C-F0587F40F2C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2640" y="1143000"/>
            <a:ext cx="6553080" cy="17524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3399"/>
                </a:solidFill>
                <a:latin typeface="Tahoma"/>
              </a:rPr>
              <a:t>Съедобное и    </a:t>
            </a:r>
            <a:br>
              <a:rPr sz="6000"/>
            </a:br>
            <a:r>
              <a:rPr b="0" lang="ru-RU" sz="6000" spc="-1" strike="noStrike">
                <a:solidFill>
                  <a:srgbClr val="003399"/>
                </a:solidFill>
                <a:latin typeface="Tahoma"/>
              </a:rPr>
              <a:t>                несъедобное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9" name="Picture 4" descr="i?id=22605176&amp;tov=0"/>
          <p:cNvPicPr/>
          <p:nvPr/>
        </p:nvPicPr>
        <p:blipFill>
          <a:blip r:embed="rId1"/>
          <a:stretch/>
        </p:blipFill>
        <p:spPr>
          <a:xfrm>
            <a:off x="380880" y="3429000"/>
            <a:ext cx="2347920" cy="27050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cl47"/>
          <p:cNvPicPr/>
          <p:nvPr/>
        </p:nvPicPr>
        <p:blipFill>
          <a:blip r:embed="rId2"/>
          <a:stretch/>
        </p:blipFill>
        <p:spPr>
          <a:xfrm>
            <a:off x="7010280" y="762120"/>
            <a:ext cx="1676520" cy="13269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4952880" y="4724280"/>
            <a:ext cx="386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втор: учитель ОБЖ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ихонов В.Н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Tahoma"/>
              </a:rPr>
              <a:t>Добыча воды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92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ahoma"/>
              </a:rPr>
              <a:t>Учтите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что выпитая вода не может сразу же уменьшить жажду, так как ее всасывание и поступление в кровь и ткани организма начинается примерно через 10—15 мину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4" descr="i?id=39426282&amp;tov=8"/>
          <p:cNvPicPr/>
          <p:nvPr/>
        </p:nvPicPr>
        <p:blipFill>
          <a:blip r:embed="rId1"/>
          <a:stretch/>
        </p:blipFill>
        <p:spPr>
          <a:xfrm>
            <a:off x="6095880" y="1676520"/>
            <a:ext cx="2814840" cy="41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Tahoma"/>
              </a:rPr>
              <a:t>Помните!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2286000"/>
            <a:ext cx="5181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 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Ни при каких обстоятельствах нельзя терять надежду найти что-либо пригодное в пищу.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4" descr="cl110"/>
          <p:cNvPicPr/>
          <p:nvPr/>
        </p:nvPicPr>
        <p:blipFill>
          <a:blip r:embed="rId1"/>
          <a:stretch/>
        </p:blipFill>
        <p:spPr>
          <a:xfrm>
            <a:off x="609480" y="685800"/>
            <a:ext cx="12956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i?id=5802804&amp;tov=3"/>
          <p:cNvPicPr/>
          <p:nvPr/>
        </p:nvPicPr>
        <p:blipFill>
          <a:blip r:embed="rId2"/>
          <a:stretch/>
        </p:blipFill>
        <p:spPr>
          <a:xfrm>
            <a:off x="5410080" y="1676520"/>
            <a:ext cx="3505320" cy="30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Tahoma"/>
              </a:rPr>
              <a:t>Добыча пищи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15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ища животного происхождения более питательна по сравнению с растительной, но ее труднее добы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сли вы знаете, какие животные съедобны, где они обитают и как их поймать, то ваши шансы на хороший обед повышаются.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     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4" descr="i?id=4445836&amp;tov=2"/>
          <p:cNvPicPr/>
          <p:nvPr/>
        </p:nvPicPr>
        <p:blipFill>
          <a:blip r:embed="rId1"/>
          <a:stretch/>
        </p:blipFill>
        <p:spPr>
          <a:xfrm>
            <a:off x="6019920" y="2133720"/>
            <a:ext cx="29718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Tahoma"/>
              </a:rPr>
              <a:t>Добыча пищи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24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ля охоты на мелких животных и птиц можно использовать обычную рогатку, различные ловушки, силки, другие приспособлен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4" descr="1"/>
          <p:cNvPicPr/>
          <p:nvPr/>
        </p:nvPicPr>
        <p:blipFill>
          <a:blip r:embed="rId1"/>
          <a:stretch/>
        </p:blipFill>
        <p:spPr>
          <a:xfrm>
            <a:off x="5181480" y="1752480"/>
            <a:ext cx="377208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Tahoma"/>
              </a:rPr>
              <a:t>Помните!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355480"/>
            <a:ext cx="8229600" cy="37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ялых и падших зверьков есть нельзя! Как правило, такие животные больны или пали от болезн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4" descr="cl110"/>
          <p:cNvPicPr/>
          <p:nvPr/>
        </p:nvPicPr>
        <p:blipFill>
          <a:blip r:embed="rId1"/>
          <a:stretch/>
        </p:blipFill>
        <p:spPr>
          <a:xfrm>
            <a:off x="609480" y="685800"/>
            <a:ext cx="1676520" cy="762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i?id=2939994&amp;tov=3"/>
          <p:cNvPicPr/>
          <p:nvPr/>
        </p:nvPicPr>
        <p:blipFill>
          <a:blip r:embed="rId2"/>
          <a:stretch/>
        </p:blipFill>
        <p:spPr>
          <a:xfrm>
            <a:off x="4800600" y="4065480"/>
            <a:ext cx="3886200" cy="268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7732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ahoma"/>
              </a:rPr>
              <a:t>Из всего разнообразия съедобных растений можно условно выделить несколько основных групп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0440" y="2363400"/>
            <a:ext cx="4992480" cy="37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вощ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лубни и корень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лаки и трав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рукты и ягод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рехи и желуд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рибы и лишайни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доросли и водяные растения 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5" descr="i?id=48239646&amp;tov=0"/>
          <p:cNvPicPr/>
          <p:nvPr/>
        </p:nvPicPr>
        <p:blipFill>
          <a:blip r:embed="rId1"/>
          <a:stretch/>
        </p:blipFill>
        <p:spPr>
          <a:xfrm>
            <a:off x="5181480" y="2133720"/>
            <a:ext cx="3556080" cy="264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6600" y="274320"/>
            <a:ext cx="79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Tahoma"/>
              </a:rPr>
              <a:t>Лесные ягоды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2436840"/>
            <a:ext cx="7929360" cy="31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Съедобные                   Несъедоб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33"/>
                </a:solidFill>
                <a:latin typeface="Tahoma"/>
              </a:rPr>
              <a:t>черника                                   вороний глаз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33"/>
                </a:solidFill>
                <a:latin typeface="Tahoma"/>
              </a:rPr>
              <a:t>лесная малина                       майский ландыш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33"/>
                </a:solidFill>
                <a:latin typeface="Tahoma"/>
              </a:rPr>
              <a:t>рябина                                     волчье лык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33"/>
                </a:solidFill>
                <a:latin typeface="Tahoma"/>
              </a:rPr>
              <a:t>земляни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Line 6"/>
          <p:cNvSpPr/>
          <p:nvPr/>
        </p:nvSpPr>
        <p:spPr>
          <a:xfrm>
            <a:off x="5562720" y="1295280"/>
            <a:ext cx="68580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Line 7"/>
          <p:cNvSpPr/>
          <p:nvPr/>
        </p:nvSpPr>
        <p:spPr>
          <a:xfrm flipH="1">
            <a:off x="2742840" y="1295280"/>
            <a:ext cx="76212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Tahoma"/>
              </a:rPr>
              <a:t>Съедобные ягоды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0" y="1447560"/>
            <a:ext cx="41911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3300"/>
                </a:solidFill>
                <a:latin typeface="Tahoma"/>
              </a:rPr>
              <a:t>Черника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Представляет собой листопадный ветвистый кустарник высотой 15-40 см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Ягоды черники шаровидные, сочные, черно-синие с фиолетовой мякотью, приятным кисловато-сладким вкусом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Цветет в июне, ягоды созревают в июле-августе. Растет в сосняках, ельниках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5" descr="plant04"/>
          <p:cNvPicPr/>
          <p:nvPr/>
        </p:nvPicPr>
        <p:blipFill>
          <a:blip r:embed="rId1"/>
          <a:stretch/>
        </p:blipFill>
        <p:spPr>
          <a:xfrm>
            <a:off x="152280" y="2286000"/>
            <a:ext cx="4114800" cy="34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Tahoma"/>
              </a:rPr>
              <a:t>Съедобные ягоды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4956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ahoma"/>
              </a:rPr>
              <a:t>Земляник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ноголетнее травянистое растение 5-20 см высото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Цветки белого цвета, крупные диаметром до 2см.Плоды продолговато- конической формы, ярко- красного цве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Цветет в конце мая - начале июня, плоды созревают в июл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емляника растет в хвойных, смешанных и лиственных лесах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4" descr="i_211_32"/>
          <p:cNvPicPr/>
          <p:nvPr/>
        </p:nvPicPr>
        <p:blipFill>
          <a:blip r:embed="rId1"/>
          <a:stretch/>
        </p:blipFill>
        <p:spPr>
          <a:xfrm>
            <a:off x="5334120" y="1676520"/>
            <a:ext cx="342900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Tahoma"/>
              </a:rPr>
              <a:t>Съедобные ягоды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9520" y="1599840"/>
            <a:ext cx="4953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3300"/>
                </a:solidFill>
                <a:latin typeface="Tahoma"/>
              </a:rPr>
              <a:t>Малина лесная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Многолетний кустарник высотой до 2м с волосистыми красноватыми игольчатыми шипами.  Листья темно- зеленые, пильчатой формы. Цветки белые, диаметром около 1см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Цветет в июне, плоды поспевают в июле- августе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Растет по опушкам, полянам, оврагам, образуя густые заросли. Плоды красные , сладкие с ароматным вкусом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4" descr="plant05"/>
          <p:cNvPicPr/>
          <p:nvPr/>
        </p:nvPicPr>
        <p:blipFill>
          <a:blip r:embed="rId1"/>
          <a:stretch/>
        </p:blipFill>
        <p:spPr>
          <a:xfrm>
            <a:off x="324000" y="1905120"/>
            <a:ext cx="314316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Картинка 94 из 3236"/>
          <p:cNvPicPr/>
          <p:nvPr/>
        </p:nvPicPr>
        <p:blipFill>
          <a:blip r:embed="rId2"/>
          <a:stretch/>
        </p:blipFill>
        <p:spPr>
          <a:xfrm>
            <a:off x="-228600" y="20520"/>
            <a:ext cx="9906120" cy="68374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ahoma"/>
              </a:rPr>
              <a:t>В лесу остались без воды,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ahoma"/>
              </a:rPr>
              <a:t>          </a:t>
            </a:r>
            <a:r>
              <a:rPr b="0" lang="ru-RU" sz="4400" spc="-1" strike="noStrike">
                <a:solidFill>
                  <a:srgbClr val="ff3300"/>
                </a:solidFill>
                <a:latin typeface="Tahoma"/>
              </a:rPr>
              <a:t>И как добыть себе еды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Tahoma"/>
              </a:rPr>
              <a:t>Несъедобные ягоды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5334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Tahoma"/>
              </a:rPr>
              <a:t>Вороний глаз 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Невысокое(15-35см)многолетнее растение. листья большие, расположенные крест-накрест, с тремя крупными продольными жилками. Всего  листьев четыре .на верхушке побега синевато-черная ягодка., окруженная длинными позеленевшими листочками и тычинками. 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Вороний глаз встречается поодиночке, иногда редкими группами во влажных, тенистых, лиственных лесах. Цветет он в мае - июне, плодоносит с конца июля. </a:t>
            </a:r>
            <a:r>
              <a:rPr b="0" lang="ru-RU" sz="2300" spc="-1" strike="noStrike">
                <a:solidFill>
                  <a:srgbClr val="ff3300"/>
                </a:solidFill>
                <a:latin typeface="Tahoma"/>
              </a:rPr>
              <a:t>Ядовито все растение, особенно плоды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4" descr="plant01"/>
          <p:cNvPicPr/>
          <p:nvPr/>
        </p:nvPicPr>
        <p:blipFill>
          <a:blip r:embed="rId1"/>
          <a:stretch/>
        </p:blipFill>
        <p:spPr>
          <a:xfrm>
            <a:off x="5952960" y="1752480"/>
            <a:ext cx="298476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Tahoma"/>
              </a:rPr>
              <a:t>Несъедобные ягоды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352320" y="1447920"/>
            <a:ext cx="5334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ahoma"/>
              </a:rPr>
              <a:t>Ландыш майский     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ноголетние травянистое растение высотой до 20см. листья большие, темно- зеленые. Растение цветет в конце мая, плоды- оранжевые ягоды- созревают в сентябре. 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андыш майский растет в лесах, на полянах, образует большие сплошные заросли. </a:t>
            </a:r>
            <a:r>
              <a:rPr b="0" lang="ru-RU" sz="2800" spc="-1" strike="noStrike">
                <a:solidFill>
                  <a:srgbClr val="ff3300"/>
                </a:solidFill>
                <a:latin typeface="Tahoma"/>
              </a:rPr>
              <a:t>Все растение ядовито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icture 4" descr="plant02"/>
          <p:cNvPicPr/>
          <p:nvPr/>
        </p:nvPicPr>
        <p:blipFill>
          <a:blip r:embed="rId1"/>
          <a:stretch/>
        </p:blipFill>
        <p:spPr>
          <a:xfrm>
            <a:off x="380880" y="1600200"/>
            <a:ext cx="2600280" cy="441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Tahoma"/>
              </a:rPr>
              <a:t>Несъедобные ягоды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3300"/>
                </a:solidFill>
                <a:latin typeface="Tahoma"/>
              </a:rPr>
              <a:t>Волчье лыко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7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Кустарник высотой 30- 120 см. Листья тонкие, суживающиеся в короткий черешок, расположены на концах побегов. Цветки мелкие, розовые или вишневые, редко белые. Плоды - костянки, сочные, ярко- красные , густо сидят на концах побегов, созревает в конце июля. 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7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Волчье лыко растет по опушкам и в сырых местах. </a:t>
            </a:r>
            <a:r>
              <a:rPr b="0" lang="ru-RU" sz="2300" spc="-1" strike="noStrike">
                <a:solidFill>
                  <a:srgbClr val="ff3300"/>
                </a:solidFill>
                <a:latin typeface="Tahoma"/>
              </a:rPr>
              <a:t>Все растение, особенно плоды и кора, очень ядовито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Picture 4" descr="plant03"/>
          <p:cNvPicPr/>
          <p:nvPr/>
        </p:nvPicPr>
        <p:blipFill>
          <a:blip r:embed="rId1"/>
          <a:stretch/>
        </p:blipFill>
        <p:spPr>
          <a:xfrm>
            <a:off x="5978520" y="1676520"/>
            <a:ext cx="287496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Это должен знать каждый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410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 собирай грибы, которых не знаешь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 собирай те грибы, в съедобности которых есть хоть малейшее сомнени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стоянно пополняйте свои знания о грибах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Picture 4" descr="18"/>
          <p:cNvPicPr/>
          <p:nvPr/>
        </p:nvPicPr>
        <p:blipFill>
          <a:blip r:embed="rId1"/>
          <a:stretch/>
        </p:blipFill>
        <p:spPr>
          <a:xfrm>
            <a:off x="5956200" y="1371600"/>
            <a:ext cx="288468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Tahoma"/>
              </a:rPr>
              <a:t>Съедобные грибы нашего леса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0" name="Picture 7" descr="Картинка 16 из 22405"/>
          <p:cNvPicPr/>
          <p:nvPr/>
        </p:nvPicPr>
        <p:blipFill>
          <a:blip r:embed="rId1"/>
          <a:stretch/>
        </p:blipFill>
        <p:spPr>
          <a:xfrm>
            <a:off x="5867280" y="1752480"/>
            <a:ext cx="3124440" cy="23432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сыроежки"/>
          <p:cNvPicPr/>
          <p:nvPr/>
        </p:nvPicPr>
        <p:blipFill>
          <a:blip r:embed="rId2"/>
          <a:stretch/>
        </p:blipFill>
        <p:spPr>
          <a:xfrm>
            <a:off x="3429000" y="3124080"/>
            <a:ext cx="2017800" cy="2286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" descr="Свинухи"/>
          <p:cNvPicPr/>
          <p:nvPr/>
        </p:nvPicPr>
        <p:blipFill>
          <a:blip r:embed="rId3"/>
          <a:stretch/>
        </p:blipFill>
        <p:spPr>
          <a:xfrm>
            <a:off x="152280" y="167652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1"/>
          <p:cNvSpPr/>
          <p:nvPr/>
        </p:nvSpPr>
        <p:spPr>
          <a:xfrm>
            <a:off x="533520" y="44560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винух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12"/>
          <p:cNvSpPr/>
          <p:nvPr/>
        </p:nvSpPr>
        <p:spPr>
          <a:xfrm>
            <a:off x="3581280" y="5827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ыроеж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Text Box 13"/>
          <p:cNvSpPr/>
          <p:nvPr/>
        </p:nvSpPr>
        <p:spPr>
          <a:xfrm>
            <a:off x="6400800" y="44560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асля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Tahoma"/>
              </a:rPr>
              <a:t>Съедобные грибы наших лесов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880" y="4267080"/>
            <a:ext cx="2819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Белый гриб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Picture 4" descr="http://dom4u.narod.ru/dec/0109/mash015.htm"/>
          <p:cNvPicPr/>
          <p:nvPr/>
        </p:nvPicPr>
        <p:blipFill>
          <a:blip r:embed="rId1"/>
          <a:stretch/>
        </p:blipFill>
        <p:spPr>
          <a:xfrm>
            <a:off x="228600" y="1600200"/>
            <a:ext cx="2535120" cy="22622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cantharellus_cib1"/>
          <p:cNvPicPr/>
          <p:nvPr/>
        </p:nvPicPr>
        <p:blipFill>
          <a:blip r:embed="rId2"/>
          <a:stretch/>
        </p:blipFill>
        <p:spPr>
          <a:xfrm>
            <a:off x="3316320" y="4114800"/>
            <a:ext cx="2703600" cy="25146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gjljcbyjdbr"/>
          <p:cNvPicPr/>
          <p:nvPr/>
        </p:nvPicPr>
        <p:blipFill>
          <a:blip r:embed="rId3"/>
          <a:stretch/>
        </p:blipFill>
        <p:spPr>
          <a:xfrm>
            <a:off x="6324480" y="1676520"/>
            <a:ext cx="2590920" cy="227484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7"/>
          <p:cNvSpPr/>
          <p:nvPr/>
        </p:nvSpPr>
        <p:spPr>
          <a:xfrm>
            <a:off x="3657600" y="2057400"/>
            <a:ext cx="18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3352680" y="2819520"/>
            <a:ext cx="227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исичка настоящ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6478200" y="4346640"/>
            <a:ext cx="22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досинови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Tahoma"/>
              </a:rPr>
              <a:t>Ядовитые грибы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5" name="Picture 4" descr="28"/>
          <p:cNvPicPr/>
          <p:nvPr/>
        </p:nvPicPr>
        <p:blipFill>
          <a:blip r:embed="rId1"/>
          <a:stretch/>
        </p:blipFill>
        <p:spPr>
          <a:xfrm>
            <a:off x="0" y="1676520"/>
            <a:ext cx="4724280" cy="487656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5"/>
          <p:cNvSpPr/>
          <p:nvPr/>
        </p:nvSpPr>
        <p:spPr>
          <a:xfrm>
            <a:off x="5105520" y="1225440"/>
            <a:ext cx="40384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 – панэолус;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 – поплавок серый;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 – говорушка светящаяся;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 – веселка обыкновенная;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 – бледная поганка;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 – мухомор белый (весенний). 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Tahoma"/>
              </a:rPr>
              <a:t>Ядовитые грибы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8" name="Picture 4" descr="29"/>
          <p:cNvPicPr/>
          <p:nvPr/>
        </p:nvPicPr>
        <p:blipFill>
          <a:blip r:embed="rId1"/>
          <a:stretch/>
        </p:blipFill>
        <p:spPr>
          <a:xfrm>
            <a:off x="3733920" y="1600200"/>
            <a:ext cx="5410080" cy="480060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5"/>
          <p:cNvSpPr/>
          <p:nvPr/>
        </p:nvSpPr>
        <p:spPr>
          <a:xfrm>
            <a:off x="152280" y="2167560"/>
            <a:ext cx="3886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7 –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ухомор   красный;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8 – шампиньон пестрый;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9 – сыроежка рвотная;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0 – валуй;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1 – энтолома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Tahoma"/>
              </a:rPr>
              <a:t>Ядовитые грибы наших лесов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0080" y="2209680"/>
            <a:ext cx="2276280" cy="10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Бледная поган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Picture 4" descr="gypholoma_fasc1"/>
          <p:cNvPicPr/>
          <p:nvPr/>
        </p:nvPicPr>
        <p:blipFill>
          <a:blip r:embed="rId1"/>
          <a:stretch/>
        </p:blipFill>
        <p:spPr>
          <a:xfrm>
            <a:off x="6400800" y="3809880"/>
            <a:ext cx="2440080" cy="25146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291"/>
          <p:cNvPicPr/>
          <p:nvPr/>
        </p:nvPicPr>
        <p:blipFill>
          <a:blip r:embed="rId2"/>
          <a:stretch/>
        </p:blipFill>
        <p:spPr>
          <a:xfrm>
            <a:off x="457200" y="3733920"/>
            <a:ext cx="2057400" cy="26668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http://myco.narod.ru/poison.htm"/>
          <p:cNvPicPr/>
          <p:nvPr/>
        </p:nvPicPr>
        <p:blipFill>
          <a:blip r:embed="rId3"/>
          <a:stretch/>
        </p:blipFill>
        <p:spPr>
          <a:xfrm>
            <a:off x="2971800" y="1676520"/>
            <a:ext cx="3048120" cy="244296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7"/>
          <p:cNvSpPr/>
          <p:nvPr/>
        </p:nvSpPr>
        <p:spPr>
          <a:xfrm>
            <a:off x="3588120" y="4713120"/>
            <a:ext cx="178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ухомо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6273000" y="2390760"/>
            <a:ext cx="272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ожные опя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Tahoma"/>
              </a:rPr>
              <a:t>Съедобные травы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Чаще смотрите под ноги. В сезон там можно найти нечто вкусное и полезное, а именно — молодые зеленые раст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Picture 4" descr="Картинка 27 из 838"/>
          <p:cNvPicPr/>
          <p:nvPr/>
        </p:nvPicPr>
        <p:blipFill>
          <a:blip r:embed="rId1"/>
          <a:stretch/>
        </p:blipFill>
        <p:spPr>
          <a:xfrm>
            <a:off x="5257800" y="2286000"/>
            <a:ext cx="373392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6" descr="Картинка 122 из 323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Tahoma"/>
              </a:rPr>
              <a:t>Цель: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741400"/>
            <a:ext cx="8229600" cy="33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3300"/>
                </a:solidFill>
                <a:latin typeface="Tahoma"/>
              </a:rPr>
              <a:t>Как добыть пищу и воду в природных условиях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Tahoma"/>
              </a:rPr>
              <a:t>Съедобные травы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63560" y="2277720"/>
            <a:ext cx="21304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Крапи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4" descr="Картинка 12 из 33"/>
          <p:cNvPicPr/>
          <p:nvPr/>
        </p:nvPicPr>
        <p:blipFill>
          <a:blip r:embed="rId1"/>
          <a:stretch/>
        </p:blipFill>
        <p:spPr>
          <a:xfrm>
            <a:off x="228600" y="3352680"/>
            <a:ext cx="3124080" cy="29718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5" descr="0000053159-preview"/>
          <p:cNvPicPr/>
          <p:nvPr/>
        </p:nvPicPr>
        <p:blipFill>
          <a:blip r:embed="rId2"/>
          <a:stretch/>
        </p:blipFill>
        <p:spPr>
          <a:xfrm>
            <a:off x="6781680" y="3200400"/>
            <a:ext cx="2292480" cy="3200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yaray300"/>
          <p:cNvPicPr/>
          <p:nvPr/>
        </p:nvPicPr>
        <p:blipFill>
          <a:blip r:embed="rId3"/>
          <a:stretch/>
        </p:blipFill>
        <p:spPr>
          <a:xfrm>
            <a:off x="3505320" y="1523880"/>
            <a:ext cx="3124080" cy="212256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7"/>
          <p:cNvSpPr/>
          <p:nvPr/>
        </p:nvSpPr>
        <p:spPr>
          <a:xfrm>
            <a:off x="3965400" y="4495680"/>
            <a:ext cx="211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дуванчи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7318800" y="2209680"/>
            <a:ext cx="159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Щавел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Вывод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8394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Добыча пищи и вод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Line 4"/>
          <p:cNvSpPr/>
          <p:nvPr/>
        </p:nvSpPr>
        <p:spPr>
          <a:xfrm flipH="1">
            <a:off x="2057040" y="1600200"/>
            <a:ext cx="114300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Line 6"/>
          <p:cNvSpPr/>
          <p:nvPr/>
        </p:nvSpPr>
        <p:spPr>
          <a:xfrm>
            <a:off x="6553080" y="1676520"/>
            <a:ext cx="83844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0" y="2057400"/>
            <a:ext cx="2414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c00"/>
                </a:solidFill>
                <a:latin typeface="Arial"/>
              </a:rPr>
              <a:t>Животн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00"/>
                </a:solidFill>
                <a:latin typeface="Arial"/>
              </a:rPr>
              <a:t>(трудно добыть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3429000" y="205740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растительн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6629400" y="2133720"/>
            <a:ext cx="251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0093"/>
                </a:solidFill>
                <a:latin typeface="Arial"/>
              </a:rPr>
              <a:t>Питьевая во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0" y="3657600"/>
            <a:ext cx="81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00"/>
                </a:solidFill>
                <a:latin typeface="Arial"/>
              </a:rPr>
              <a:t>звер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11"/>
          <p:cNvSpPr/>
          <p:nvPr/>
        </p:nvSpPr>
        <p:spPr>
          <a:xfrm>
            <a:off x="914400" y="3657600"/>
            <a:ext cx="83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00"/>
                </a:solidFill>
                <a:latin typeface="Arial"/>
              </a:rPr>
              <a:t>рыб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Text Box 12"/>
          <p:cNvSpPr/>
          <p:nvPr/>
        </p:nvSpPr>
        <p:spPr>
          <a:xfrm>
            <a:off x="1752480" y="36576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00"/>
                </a:solidFill>
                <a:latin typeface="Arial"/>
              </a:rPr>
              <a:t>насекомы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Text Box 13"/>
          <p:cNvSpPr/>
          <p:nvPr/>
        </p:nvSpPr>
        <p:spPr>
          <a:xfrm>
            <a:off x="3507480" y="297180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ягод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14"/>
          <p:cNvSpPr/>
          <p:nvPr/>
        </p:nvSpPr>
        <p:spPr>
          <a:xfrm>
            <a:off x="4879080" y="297180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трав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Text Box 15"/>
          <p:cNvSpPr/>
          <p:nvPr/>
        </p:nvSpPr>
        <p:spPr>
          <a:xfrm>
            <a:off x="6097320" y="289548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гриб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Text Box 19"/>
          <p:cNvSpPr/>
          <p:nvPr/>
        </p:nvSpPr>
        <p:spPr>
          <a:xfrm>
            <a:off x="7848720" y="3048120"/>
            <a:ext cx="106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60093"/>
                </a:solidFill>
                <a:latin typeface="Arial"/>
              </a:rPr>
              <a:t>родни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60093"/>
                </a:solidFill>
                <a:latin typeface="Arial"/>
              </a:rPr>
              <a:t>руч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Line 24"/>
          <p:cNvSpPr/>
          <p:nvPr/>
        </p:nvSpPr>
        <p:spPr>
          <a:xfrm>
            <a:off x="4343400" y="1600200"/>
            <a:ext cx="53352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Line 25"/>
          <p:cNvSpPr/>
          <p:nvPr/>
        </p:nvSpPr>
        <p:spPr>
          <a:xfrm flipH="1">
            <a:off x="304560" y="2666880"/>
            <a:ext cx="60948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Line 26"/>
          <p:cNvSpPr/>
          <p:nvPr/>
        </p:nvSpPr>
        <p:spPr>
          <a:xfrm flipH="1">
            <a:off x="1295280" y="2666880"/>
            <a:ext cx="7632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Line 27"/>
          <p:cNvSpPr/>
          <p:nvPr/>
        </p:nvSpPr>
        <p:spPr>
          <a:xfrm>
            <a:off x="1981080" y="2666880"/>
            <a:ext cx="3812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Line 28"/>
          <p:cNvSpPr/>
          <p:nvPr/>
        </p:nvSpPr>
        <p:spPr>
          <a:xfrm flipH="1">
            <a:off x="3733560" y="2514600"/>
            <a:ext cx="6094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Line 29"/>
          <p:cNvSpPr/>
          <p:nvPr/>
        </p:nvSpPr>
        <p:spPr>
          <a:xfrm>
            <a:off x="4952880" y="25146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Line 30"/>
          <p:cNvSpPr/>
          <p:nvPr/>
        </p:nvSpPr>
        <p:spPr>
          <a:xfrm>
            <a:off x="5715000" y="2514600"/>
            <a:ext cx="30492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Line 31"/>
          <p:cNvSpPr/>
          <p:nvPr/>
        </p:nvSpPr>
        <p:spPr>
          <a:xfrm>
            <a:off x="8381880" y="27432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Line 36"/>
          <p:cNvSpPr/>
          <p:nvPr/>
        </p:nvSpPr>
        <p:spPr>
          <a:xfrm flipH="1">
            <a:off x="3123720" y="3429000"/>
            <a:ext cx="762120" cy="1752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Line 37"/>
          <p:cNvSpPr/>
          <p:nvPr/>
        </p:nvSpPr>
        <p:spPr>
          <a:xfrm flipH="1">
            <a:off x="3733920" y="3352680"/>
            <a:ext cx="2743200" cy="1752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Text Box 38"/>
          <p:cNvSpPr/>
          <p:nvPr/>
        </p:nvSpPr>
        <p:spPr>
          <a:xfrm>
            <a:off x="1981080" y="5181480"/>
            <a:ext cx="239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Съедоб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Text Box 39"/>
          <p:cNvSpPr/>
          <p:nvPr/>
        </p:nvSpPr>
        <p:spPr>
          <a:xfrm>
            <a:off x="4586040" y="5160960"/>
            <a:ext cx="282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Несъедоб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Line 40"/>
          <p:cNvSpPr/>
          <p:nvPr/>
        </p:nvSpPr>
        <p:spPr>
          <a:xfrm>
            <a:off x="5257800" y="3429000"/>
            <a:ext cx="457200" cy="1828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Line 41"/>
          <p:cNvSpPr/>
          <p:nvPr/>
        </p:nvSpPr>
        <p:spPr>
          <a:xfrm flipH="1">
            <a:off x="6171840" y="3429000"/>
            <a:ext cx="304920" cy="1676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Line 42"/>
          <p:cNvSpPr/>
          <p:nvPr/>
        </p:nvSpPr>
        <p:spPr>
          <a:xfrm flipH="1">
            <a:off x="3429000" y="3429000"/>
            <a:ext cx="1752480" cy="1676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Line 43"/>
          <p:cNvSpPr/>
          <p:nvPr/>
        </p:nvSpPr>
        <p:spPr>
          <a:xfrm>
            <a:off x="3962520" y="3429000"/>
            <a:ext cx="1523880" cy="1752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Line 44"/>
          <p:cNvSpPr/>
          <p:nvPr/>
        </p:nvSpPr>
        <p:spPr>
          <a:xfrm>
            <a:off x="8381880" y="33526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Line 45"/>
          <p:cNvSpPr/>
          <p:nvPr/>
        </p:nvSpPr>
        <p:spPr>
          <a:xfrm>
            <a:off x="8381880" y="40384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Text Box 46"/>
          <p:cNvSpPr/>
          <p:nvPr/>
        </p:nvSpPr>
        <p:spPr>
          <a:xfrm>
            <a:off x="7924680" y="4419720"/>
            <a:ext cx="990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60093"/>
                </a:solidFill>
                <a:latin typeface="Arial"/>
              </a:rPr>
              <a:t>дожд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60093"/>
                </a:solidFill>
                <a:latin typeface="Arial"/>
              </a:rPr>
              <a:t>снег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60093"/>
                </a:solidFill>
                <a:latin typeface="Arial"/>
              </a:rPr>
              <a:t>рос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Line 47"/>
          <p:cNvSpPr/>
          <p:nvPr/>
        </p:nvSpPr>
        <p:spPr>
          <a:xfrm>
            <a:off x="8381880" y="4876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Line 48"/>
          <p:cNvSpPr/>
          <p:nvPr/>
        </p:nvSpPr>
        <p:spPr>
          <a:xfrm>
            <a:off x="838188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Список литератур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Жуковский Н.М.Полезные растения и их сородичи.Москва,1998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ляков В.В.Безопасность человека в экстремальных ситуациях.Москва,1998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рижев А.Волшебные травы России.Москва,2006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Хардинг П.П.Грибы.Москва,1993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Tahoma"/>
              </a:rPr>
              <a:t>Задачи: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Изучить способы добычи воды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Изучить виды растений и животных, употребляемых человеком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Где кончается вода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             - там кончается жизнь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1" name="Picture 9" descr="voda"/>
          <p:cNvPicPr/>
          <p:nvPr/>
        </p:nvPicPr>
        <p:blipFill>
          <a:blip r:embed="rId1"/>
          <a:stretch/>
        </p:blipFill>
        <p:spPr>
          <a:xfrm>
            <a:off x="1219320" y="1714680"/>
            <a:ext cx="685800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4" descr="80465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-360" y="137124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ru-RU" sz="3600" spc="-1" strike="noStrike">
                <a:solidFill>
                  <a:srgbClr val="003399"/>
                </a:solidFill>
                <a:latin typeface="Tahoma"/>
              </a:rPr>
              <a:t>Известно, что человеческий организм почти на 65% состоит из воды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ahoma"/>
              </a:rPr>
              <a:t>      </a:t>
            </a:r>
            <a:r>
              <a:rPr b="1" lang="ru-RU" sz="3600" spc="-1" strike="noStrike">
                <a:solidFill>
                  <a:srgbClr val="ff3300"/>
                </a:solidFill>
                <a:latin typeface="Tahoma"/>
              </a:rPr>
              <a:t>В жарких районах без воды человек может погибнуть через 5-7 суток, а без пищи, при наличии воды, человек может жить длительное время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00"/>
                </a:solidFill>
                <a:latin typeface="Tahoma"/>
              </a:rPr>
              <a:t>Вода-источник жизни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Tahoma"/>
              </a:rPr>
              <a:t>Источники питьевой воды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733560" y="190512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учший источник воды это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родник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но шансы найти его очень малы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Текущий ручей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- ваш следующий шанс, движение воды уменьшает грязь. Но знайте, что употребление воды из ручьев может приводит к некоторым паразитическим заболеваниям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6" descr="191378"/>
          <p:cNvPicPr/>
          <p:nvPr/>
        </p:nvPicPr>
        <p:blipFill>
          <a:blip r:embed="rId1"/>
          <a:stretch/>
        </p:blipFill>
        <p:spPr>
          <a:xfrm>
            <a:off x="152280" y="1371600"/>
            <a:ext cx="343224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Tahoma"/>
              </a:rPr>
              <a:t>Источник воды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343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Дождь, снег и рос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могут быть хорошим источником чистой питьевой воды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4" descr="i?id=41835551&amp;tov=6"/>
          <p:cNvPicPr/>
          <p:nvPr/>
        </p:nvPicPr>
        <p:blipFill>
          <a:blip r:embed="rId1"/>
          <a:stretch/>
        </p:blipFill>
        <p:spPr>
          <a:xfrm>
            <a:off x="4952880" y="1828800"/>
            <a:ext cx="403884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Tahoma"/>
              </a:rPr>
              <a:t>Добыча воды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1920" y="1219320"/>
            <a:ext cx="53341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ля утоления жажды можно воспользоваться соком березы или клен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ля этого в коре молодого деревца сделайте ножом продольные, поперечные или в виде буквы «V» надрезы глубиной 3—4 см Под надрезом укрепите желобок из бересты или кусок бинта. Стекающий сок соберите в сосуд. За ночь таким способом можно получить до 1 литра сок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4" descr="v5"/>
          <p:cNvPicPr/>
          <p:nvPr/>
        </p:nvPicPr>
        <p:blipFill>
          <a:blip r:embed="rId1"/>
          <a:stretch/>
        </p:blipFill>
        <p:spPr>
          <a:xfrm>
            <a:off x="5486400" y="1752480"/>
            <a:ext cx="3505320" cy="2667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ладислав</cp:lastModifiedBy>
  <dcterms:modified xsi:type="dcterms:W3CDTF">2012-02-04T14:25:37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