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69B-AA5C-403D-8F2B-41683B8E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6A5-462E-48F3-8E33-30BCF857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8CE-4C8A-4CFE-92A3-9EF38641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3B4-AFE6-4DE0-8E2D-5DF2E309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C84F-196A-4C83-8F75-0C3AE67C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5EC-2D40-48F0-91DE-EDC25AF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5966-7D50-45C8-899A-5B16503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CD79-1F7D-4F15-B630-6B38087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C0A-917A-4075-863E-7A3C026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FCF-5C8D-4383-A396-9376342B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84A1-D220-4E33-ACFD-9E8B6A0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17B-1312-4607-BE8A-019133E0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4EB-ECE0-49AD-B79C-CE8B8AD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9FB-393F-4F82-8FC4-DE99016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FF1F-3B78-40B7-A170-60B29EB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1E8F-344A-432D-A45E-B23686CE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0EBE-312B-4FC6-BE3F-09A62CA6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B1B-9A29-44A3-8250-829ED0E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180-48ED-4719-9B4E-041E41D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8C3-C7C1-4713-BB4C-9C51EC4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0D2-0DCB-4655-AF7D-5C32171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340-1C49-49C3-8DC1-679E977F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46B-09EF-471B-92C5-E69E323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D89-D81F-4424-B827-0034F38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E07-7BA2-4222-B007-0E8548DC71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61B0-EC5A-42B3-A149-C58681D9C9F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Съедобное и    </a:t>
            </a:r>
            <a:br>
              <a:rPr sz="6000"/>
            </a:br>
            <a:r>
              <a:rPr b="0" lang="ru-RU" sz="6000" spc="-1" strike="noStrike">
                <a:solidFill>
                  <a:srgbClr val="003399"/>
                </a:solidFill>
                <a:latin typeface="Tahoma"/>
              </a:rPr>
              <a:t>                несъедобное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4" descr="i?id=22605176&amp;tov=0"/>
          <p:cNvPicPr/>
          <p:nvPr/>
        </p:nvPicPr>
        <p:blipFill>
          <a:blip r:embed="rId1"/>
          <a:stretch/>
        </p:blipFill>
        <p:spPr>
          <a:xfrm>
            <a:off x="380880" y="3429000"/>
            <a:ext cx="234792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l47"/>
          <p:cNvPicPr/>
          <p:nvPr/>
        </p:nvPicPr>
        <p:blipFill>
          <a:blip r:embed="rId2"/>
          <a:stretch/>
        </p:blipFill>
        <p:spPr>
          <a:xfrm>
            <a:off x="7010280" y="762120"/>
            <a:ext cx="1676520" cy="1326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952880" y="47242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учитель ОБЖ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онов В.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2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Учтите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то выпитая вода не может сразу же уменьшить жажду, так как ее всасывание и поступление в кровь и ткани организма начинается примерно через 10—15 мин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i?id=39426282&amp;tov=8"/>
          <p:cNvPicPr/>
          <p:nvPr/>
        </p:nvPicPr>
        <p:blipFill>
          <a:blip r:embed="rId1"/>
          <a:stretch/>
        </p:blipFill>
        <p:spPr>
          <a:xfrm>
            <a:off x="6095880" y="1676520"/>
            <a:ext cx="28148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518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и при каких обстоятельствах нельзя терять надежду найти что-либо пригодное в пищу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?id=5802804&amp;tov=3"/>
          <p:cNvPicPr/>
          <p:nvPr/>
        </p:nvPicPr>
        <p:blipFill>
          <a:blip r:embed="rId2"/>
          <a:stretch/>
        </p:blipFill>
        <p:spPr>
          <a:xfrm>
            <a:off x="5410080" y="1676520"/>
            <a:ext cx="350532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ща животного происхождения более питательна по сравнению с растительной, но ее труднее добы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ы знаете, какие животные съедобны, где они обитают и как их поймать, то ваши шансы на хороший обед повышаютс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   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i?id=4445836&amp;tov=2"/>
          <p:cNvPicPr/>
          <p:nvPr/>
        </p:nvPicPr>
        <p:blipFill>
          <a:blip r:embed="rId1"/>
          <a:stretch/>
        </p:blipFill>
        <p:spPr>
          <a:xfrm>
            <a:off x="6019920" y="213372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пищ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хоты на мелких животных и птиц можно использовать обычную рогатку, различные ловушки, силки, другие приспособ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1"/>
          <p:cNvPicPr/>
          <p:nvPr/>
        </p:nvPicPr>
        <p:blipFill>
          <a:blip r:embed="rId1"/>
          <a:stretch/>
        </p:blipFill>
        <p:spPr>
          <a:xfrm>
            <a:off x="5181480" y="1752480"/>
            <a:ext cx="37720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омните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55480"/>
            <a:ext cx="82296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ялых и падших зверьков есть нельзя! Как правило, такие животные больны или пали от болезн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cl110"/>
          <p:cNvPicPr/>
          <p:nvPr/>
        </p:nvPicPr>
        <p:blipFill>
          <a:blip r:embed="rId1"/>
          <a:stretch/>
        </p:blipFill>
        <p:spPr>
          <a:xfrm>
            <a:off x="609480" y="685800"/>
            <a:ext cx="1676520" cy="762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i?id=2939994&amp;tov=3"/>
          <p:cNvPicPr/>
          <p:nvPr/>
        </p:nvPicPr>
        <p:blipFill>
          <a:blip r:embed="rId2"/>
          <a:stretch/>
        </p:blipFill>
        <p:spPr>
          <a:xfrm>
            <a:off x="4800600" y="406548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Из всего разнообразия съедобных растений можно условно выделить несколько основных групп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0440" y="2363400"/>
            <a:ext cx="499248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вощ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убни и корень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аки и тра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укты и яг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ехи и желуд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бы и лишай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росли и водяные растения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i?id=48239646&amp;tov=0"/>
          <p:cNvPicPr/>
          <p:nvPr/>
        </p:nvPicPr>
        <p:blipFill>
          <a:blip r:embed="rId1"/>
          <a:stretch/>
        </p:blipFill>
        <p:spPr>
          <a:xfrm>
            <a:off x="5181480" y="2133720"/>
            <a:ext cx="35560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6600" y="274320"/>
            <a:ext cx="79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Лес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436840"/>
            <a:ext cx="792936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ъедобные                   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черника                                   вороний гл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лесная малина                       майский ланды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рябина                                     волчье лы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33"/>
                </a:solidFill>
                <a:latin typeface="Tahoma"/>
              </a:rPr>
              <a:t>земля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562720" y="1295280"/>
            <a:ext cx="68580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742840" y="1295280"/>
            <a:ext cx="7621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Черни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редставляет собой листопадный ветвистый кустарник высотой 15-40 с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Ягоды черники шаровидные, сочные, черно-синие с фиолетовой мякотью, приятным кисловато-сладким вкусо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ягоды созревают в июле-августе. Растет в сосняках, ельниках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plant04"/>
          <p:cNvPicPr/>
          <p:nvPr/>
        </p:nvPicPr>
        <p:blipFill>
          <a:blip r:embed="rId1"/>
          <a:stretch/>
        </p:blipFill>
        <p:spPr>
          <a:xfrm>
            <a:off x="152280" y="2286000"/>
            <a:ext cx="4114800" cy="34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Земляни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летнее травянистое растение 5-20 см высот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ки белого цвета, крупные диаметром до 2см.Плоды продолговато- конической формы, ярко- красного ц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ветет в конце мая - начале июня, плоды созревают в июл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ника растет в хвойных, смешанных и лиственных лес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i_211_32"/>
          <p:cNvPicPr/>
          <p:nvPr/>
        </p:nvPicPr>
        <p:blipFill>
          <a:blip r:embed="rId1"/>
          <a:stretch/>
        </p:blipFill>
        <p:spPr>
          <a:xfrm>
            <a:off x="5334120" y="167652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9520" y="1599840"/>
            <a:ext cx="49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Малина лесна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Многолетний кустарник высотой до 2м с волосистыми красноватыми игольчатыми шипами.  Листья темно- зеленые, пильчатой формы. Цветки белые, диаметром около 1см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Цветет в июне, плоды поспевают в июле- август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Растет по опушкам, полянам, оврагам, образуя густые заросли. Плоды красные , сладкие с ароматным вкусом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plant05"/>
          <p:cNvPicPr/>
          <p:nvPr/>
        </p:nvPicPr>
        <p:blipFill>
          <a:blip r:embed="rId1"/>
          <a:stretch/>
        </p:blipFill>
        <p:spPr>
          <a:xfrm>
            <a:off x="324000" y="1905120"/>
            <a:ext cx="3143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Картинка 94 из 3236"/>
          <p:cNvPicPr/>
          <p:nvPr/>
        </p:nvPicPr>
        <p:blipFill>
          <a:blip r:embed="rId2"/>
          <a:stretch/>
        </p:blipFill>
        <p:spPr>
          <a:xfrm>
            <a:off x="-228600" y="20520"/>
            <a:ext cx="9906120" cy="6837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В лесу остались без воды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И как добыть себе е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роний глаз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высокое(15-35см)многолетнее растение. листья большие, расположенные крест-накрест, с тремя крупными продольными жилками. Всего  листьев четыре .на верхушке побега синевато-черная ягодка., окруженная длинными позеленевшими листочками и тычинками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роний глаз встречается поодиночке, иногда редкими группами во влажных, тенистых, лиственных лесах. Цветет он в мае - июне, плодоносит с конца июля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Ядовито все растение, особенно плод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plant01"/>
          <p:cNvPicPr/>
          <p:nvPr/>
        </p:nvPicPr>
        <p:blipFill>
          <a:blip r:embed="rId1"/>
          <a:stretch/>
        </p:blipFill>
        <p:spPr>
          <a:xfrm>
            <a:off x="5952960" y="1752480"/>
            <a:ext cx="298476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52320" y="144792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Ландыш майский     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олетние травянистое растение высотой до 20см. листья большие, темно- зеленые. Растение цветет в конце мая, плоды- оранжевые ягоды- созревают в сентябре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ндыш майский растет в лесах, на полянах, образует большие сплошные заросли.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Все растение ядови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plant02"/>
          <p:cNvPicPr/>
          <p:nvPr/>
        </p:nvPicPr>
        <p:blipFill>
          <a:blip r:embed="rId1"/>
          <a:stretch/>
        </p:blipFill>
        <p:spPr>
          <a:xfrm>
            <a:off x="380880" y="1600200"/>
            <a:ext cx="26002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Несъедобные яг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олчье лык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устарник высотой 30- 120 см. Листья тонкие, суживающиеся в короткий черешок, расположены на концах побегов. Цветки мелкие, розовые или вишневые, редко белые. Плоды - костянки, сочные, ярко- красные , густо сидят на концах побегов, созревает в конце июля. 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лчье лыко растет по опушкам и в сырых местах. </a:t>
            </a:r>
            <a:r>
              <a:rPr b="0" lang="ru-RU" sz="2300" spc="-1" strike="noStrike">
                <a:solidFill>
                  <a:srgbClr val="ff3300"/>
                </a:solidFill>
                <a:latin typeface="Tahoma"/>
              </a:rPr>
              <a:t>Все растение, особенно плоды и кора, очень ядовито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plant03"/>
          <p:cNvPicPr/>
          <p:nvPr/>
        </p:nvPicPr>
        <p:blipFill>
          <a:blip r:embed="rId1"/>
          <a:stretch/>
        </p:blipFill>
        <p:spPr>
          <a:xfrm>
            <a:off x="5978520" y="1676520"/>
            <a:ext cx="2874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Это должен знать кажды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грибы, которых не знаеш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обирай те грибы, в съедобности которых есть хоть малейшее сомн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о пополняйте свои знания о гриб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18"/>
          <p:cNvPicPr/>
          <p:nvPr/>
        </p:nvPicPr>
        <p:blipFill>
          <a:blip r:embed="rId1"/>
          <a:stretch/>
        </p:blipFill>
        <p:spPr>
          <a:xfrm>
            <a:off x="5956200" y="1371600"/>
            <a:ext cx="2884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его лес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Картинка 16 из 22405"/>
          <p:cNvPicPr/>
          <p:nvPr/>
        </p:nvPicPr>
        <p:blipFill>
          <a:blip r:embed="rId1"/>
          <a:stretch/>
        </p:blipFill>
        <p:spPr>
          <a:xfrm>
            <a:off x="5867280" y="1752480"/>
            <a:ext cx="3124440" cy="2343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сыроежки"/>
          <p:cNvPicPr/>
          <p:nvPr/>
        </p:nvPicPr>
        <p:blipFill>
          <a:blip r:embed="rId2"/>
          <a:stretch/>
        </p:blipFill>
        <p:spPr>
          <a:xfrm>
            <a:off x="3429000" y="3124080"/>
            <a:ext cx="201780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Свинухи"/>
          <p:cNvPicPr/>
          <p:nvPr/>
        </p:nvPicPr>
        <p:blipFill>
          <a:blip r:embed="rId3"/>
          <a:stretch/>
        </p:blipFill>
        <p:spPr>
          <a:xfrm>
            <a:off x="152280" y="1676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4456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инух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81280" y="5827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400800" y="4456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ля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Съедобн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426708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лый гри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http://dom4u.narod.ru/dec/0109/mash015.htm"/>
          <p:cNvPicPr/>
          <p:nvPr/>
        </p:nvPicPr>
        <p:blipFill>
          <a:blip r:embed="rId1"/>
          <a:stretch/>
        </p:blipFill>
        <p:spPr>
          <a:xfrm>
            <a:off x="228600" y="1600200"/>
            <a:ext cx="2535120" cy="226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antharellus_cib1"/>
          <p:cNvPicPr/>
          <p:nvPr/>
        </p:nvPicPr>
        <p:blipFill>
          <a:blip r:embed="rId2"/>
          <a:stretch/>
        </p:blipFill>
        <p:spPr>
          <a:xfrm>
            <a:off x="3316320" y="4114800"/>
            <a:ext cx="2703600" cy="2514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gjljcbyjdbr"/>
          <p:cNvPicPr/>
          <p:nvPr/>
        </p:nvPicPr>
        <p:blipFill>
          <a:blip r:embed="rId3"/>
          <a:stretch/>
        </p:blipFill>
        <p:spPr>
          <a:xfrm>
            <a:off x="6324480" y="1676520"/>
            <a:ext cx="2590920" cy="2274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3657600" y="20574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352680" y="2819520"/>
            <a:ext cx="227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ичка настоящ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478200" y="4346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4" descr="28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4876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5105520" y="1225440"/>
            <a:ext cx="4038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– панэолус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– поплавок се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– говорушка светящаяс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– веселка обыкновен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– бледная поганка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 – мухомор белый (весенний)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Ядовитые гриб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29"/>
          <p:cNvPicPr/>
          <p:nvPr/>
        </p:nvPicPr>
        <p:blipFill>
          <a:blip r:embed="rId1"/>
          <a:stretch/>
        </p:blipFill>
        <p:spPr>
          <a:xfrm>
            <a:off x="3733920" y="1600200"/>
            <a:ext cx="5410080" cy="4800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152280" y="2167560"/>
            <a:ext cx="38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хомор   красн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– шампиньон пестры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– сыроежка рвотная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– валуй;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 – энтолом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Ядовитые грибы наших лес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0080" y="2209680"/>
            <a:ext cx="227628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ледная пога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gypholoma_fasc1"/>
          <p:cNvPicPr/>
          <p:nvPr/>
        </p:nvPicPr>
        <p:blipFill>
          <a:blip r:embed="rId1"/>
          <a:stretch/>
        </p:blipFill>
        <p:spPr>
          <a:xfrm>
            <a:off x="6400800" y="3809880"/>
            <a:ext cx="244008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291"/>
          <p:cNvPicPr/>
          <p:nvPr/>
        </p:nvPicPr>
        <p:blipFill>
          <a:blip r:embed="rId2"/>
          <a:stretch/>
        </p:blipFill>
        <p:spPr>
          <a:xfrm>
            <a:off x="457200" y="3733920"/>
            <a:ext cx="2057400" cy="2666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myco.narod.ru/poison.htm"/>
          <p:cNvPicPr/>
          <p:nvPr/>
        </p:nvPicPr>
        <p:blipFill>
          <a:blip r:embed="rId3"/>
          <a:stretch/>
        </p:blipFill>
        <p:spPr>
          <a:xfrm>
            <a:off x="2971800" y="1676520"/>
            <a:ext cx="3048120" cy="2442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588120" y="471312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273000" y="239076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ожные опя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ще смотрите под ноги. В сезон там можно найти нечто вкусное и полезное, а именно — молодые зеленые раст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Картинка 27 из 838"/>
          <p:cNvPicPr/>
          <p:nvPr/>
        </p:nvPicPr>
        <p:blipFill>
          <a:blip r:embed="rId1"/>
          <a:stretch/>
        </p:blipFill>
        <p:spPr>
          <a:xfrm>
            <a:off x="5257800" y="22860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артинка 122 из 32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Цель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741400"/>
            <a:ext cx="822960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ahoma"/>
              </a:rPr>
              <a:t>Как добыть пищу и воду в природных условия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Съедобные трав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560" y="2277720"/>
            <a:ext cx="2130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п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Картинка 12 из 33"/>
          <p:cNvPicPr/>
          <p:nvPr/>
        </p:nvPicPr>
        <p:blipFill>
          <a:blip r:embed="rId1"/>
          <a:stretch/>
        </p:blipFill>
        <p:spPr>
          <a:xfrm>
            <a:off x="228600" y="33526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0000053159-preview"/>
          <p:cNvPicPr/>
          <p:nvPr/>
        </p:nvPicPr>
        <p:blipFill>
          <a:blip r:embed="rId2"/>
          <a:stretch/>
        </p:blipFill>
        <p:spPr>
          <a:xfrm>
            <a:off x="6781680" y="3200400"/>
            <a:ext cx="2292480" cy="3200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yaray300"/>
          <p:cNvPicPr/>
          <p:nvPr/>
        </p:nvPicPr>
        <p:blipFill>
          <a:blip r:embed="rId3"/>
          <a:stretch/>
        </p:blipFill>
        <p:spPr>
          <a:xfrm>
            <a:off x="3505320" y="1523880"/>
            <a:ext cx="3124080" cy="212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3965400" y="449568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318800" y="2209680"/>
            <a:ext cx="15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ав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ыча пищи и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2057040" y="16002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6553080" y="167652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0" y="2057400"/>
            <a:ext cx="2414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"/>
              </a:rPr>
              <a:t>Живо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(трудно добы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429000" y="2057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ти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629400" y="21337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Питьевая в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0" y="36576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зве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14400" y="36576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7524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насеко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507480" y="2971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яг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879080" y="29718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ав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097320" y="2895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риб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7848720" y="30481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д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уч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24"/>
          <p:cNvSpPr/>
          <p:nvPr/>
        </p:nvSpPr>
        <p:spPr>
          <a:xfrm>
            <a:off x="4343400" y="1600200"/>
            <a:ext cx="5335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25"/>
          <p:cNvSpPr/>
          <p:nvPr/>
        </p:nvSpPr>
        <p:spPr>
          <a:xfrm flipH="1">
            <a:off x="304560" y="266688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26"/>
          <p:cNvSpPr/>
          <p:nvPr/>
        </p:nvSpPr>
        <p:spPr>
          <a:xfrm flipH="1">
            <a:off x="1295280" y="2666880"/>
            <a:ext cx="763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1981080" y="2666880"/>
            <a:ext cx="3812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28"/>
          <p:cNvSpPr/>
          <p:nvPr/>
        </p:nvSpPr>
        <p:spPr>
          <a:xfrm flipH="1">
            <a:off x="3733560" y="25146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495288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715000" y="251460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8381880" y="2743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36"/>
          <p:cNvSpPr/>
          <p:nvPr/>
        </p:nvSpPr>
        <p:spPr>
          <a:xfrm flipH="1">
            <a:off x="3123720" y="342900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37"/>
          <p:cNvSpPr/>
          <p:nvPr/>
        </p:nvSpPr>
        <p:spPr>
          <a:xfrm flipH="1">
            <a:off x="3733920" y="3352680"/>
            <a:ext cx="2743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1981080" y="518148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4586040" y="516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Несъедоб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40"/>
          <p:cNvSpPr/>
          <p:nvPr/>
        </p:nvSpPr>
        <p:spPr>
          <a:xfrm>
            <a:off x="5257800" y="3429000"/>
            <a:ext cx="4572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41"/>
          <p:cNvSpPr/>
          <p:nvPr/>
        </p:nvSpPr>
        <p:spPr>
          <a:xfrm flipH="1">
            <a:off x="6171840" y="3429000"/>
            <a:ext cx="3049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42"/>
          <p:cNvSpPr/>
          <p:nvPr/>
        </p:nvSpPr>
        <p:spPr>
          <a:xfrm flipH="1">
            <a:off x="3429000" y="3429000"/>
            <a:ext cx="175248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43"/>
          <p:cNvSpPr/>
          <p:nvPr/>
        </p:nvSpPr>
        <p:spPr>
          <a:xfrm>
            <a:off x="3962520" y="3429000"/>
            <a:ext cx="152388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Line 44"/>
          <p:cNvSpPr/>
          <p:nvPr/>
        </p:nvSpPr>
        <p:spPr>
          <a:xfrm>
            <a:off x="838188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45"/>
          <p:cNvSpPr/>
          <p:nvPr/>
        </p:nvSpPr>
        <p:spPr>
          <a:xfrm>
            <a:off x="838188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46"/>
          <p:cNvSpPr/>
          <p:nvPr/>
        </p:nvSpPr>
        <p:spPr>
          <a:xfrm>
            <a:off x="7924680" y="4419720"/>
            <a:ext cx="99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сне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о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47"/>
          <p:cNvSpPr/>
          <p:nvPr/>
        </p:nvSpPr>
        <p:spPr>
          <a:xfrm>
            <a:off x="8381880" y="4876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48"/>
          <p:cNvSpPr/>
          <p:nvPr/>
        </p:nvSpPr>
        <p:spPr>
          <a:xfrm>
            <a:off x="8381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уковский Н.М.Полезные растения и их сородичи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ков В.В.Безопасность человека в экстремальных ситуациях.Москва,199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ижев А.Волшебные травы России.Москва,2006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динг П.П.Грибы.Москва,1993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Задачи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способы добычи в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Изучить виды растений и животных, употребляемых человек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де кончается вода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            - там кончается жизн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9" descr="voda"/>
          <p:cNvPicPr/>
          <p:nvPr/>
        </p:nvPicPr>
        <p:blipFill>
          <a:blip r:embed="rId1"/>
          <a:stretch/>
        </p:blipFill>
        <p:spPr>
          <a:xfrm>
            <a:off x="1219320" y="17146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8046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Известно, что человеческий организм почти на 65% состоит из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      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В жарких районах без воды человек может погибнуть через 5-7 суток, а без пищи, при наличии воды, человек может жить длительное врем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ahoma"/>
              </a:rPr>
              <a:t>Вода-источник жизни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Источники питьевой вод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чший источник воды эт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родни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но шансы найти его очень ма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Текущий руч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ваш следующий шанс, движение воды уменьшает грязь. Но знайте, что употребление воды из ручьев может приводит к некоторым паразитическим заболеваниям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6" descr="191378"/>
          <p:cNvPicPr/>
          <p:nvPr/>
        </p:nvPicPr>
        <p:blipFill>
          <a:blip r:embed="rId1"/>
          <a:stretch/>
        </p:blipFill>
        <p:spPr>
          <a:xfrm>
            <a:off x="152280" y="1371600"/>
            <a:ext cx="3432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Источник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ождь, снег и рос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огут быть хорошим источником чистой питьевой 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i?id=41835551&amp;tov=6"/>
          <p:cNvPicPr/>
          <p:nvPr/>
        </p:nvPicPr>
        <p:blipFill>
          <a:blip r:embed="rId1"/>
          <a:stretch/>
        </p:blipFill>
        <p:spPr>
          <a:xfrm>
            <a:off x="4952880" y="1828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обыча воды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утоления жажды можно воспользоваться соком березы или к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в коре молодого деревца сделайте ножом продольные, поперечные или в виде буквы «V» надрезы глубиной 3—4 см Под надрезом укрепите желобок из бересты или кусок бинта. Стекающий сок соберите в сосуд. За ночь таким способом можно получить до 1 литра со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v5"/>
          <p:cNvPicPr/>
          <p:nvPr/>
        </p:nvPicPr>
        <p:blipFill>
          <a:blip r:embed="rId1"/>
          <a:stretch/>
        </p:blipFill>
        <p:spPr>
          <a:xfrm>
            <a:off x="5486400" y="17524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слав</cp:lastModifiedBy>
  <dcterms:modified xsi:type="dcterms:W3CDTF">2012-02-04T14:25:3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