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D52-060E-4C1C-8DEC-880F6665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989-E97E-4D1A-83C3-2DAEBA9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017-639E-42B5-9CB0-CF316171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848-8575-4592-A326-A37BEAD4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5485-09C8-4584-AA5C-9429B3C6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81AC-618D-4CE1-8A1D-E55679D0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01E-99FA-43CB-BF99-E188D0AA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1EB4-B0BD-4462-A504-5B653FB8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D97-7F31-4394-9BC4-E924D6C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41CF-B73A-4F60-B1C3-D312219F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2055-8CC1-4238-BF73-FC08B21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C02-A238-491F-9923-4923A395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EEAF-4103-44A7-A115-F38EB3D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CA90-35A3-443E-9670-D907FEB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C2CE-0D33-44DB-B324-2D29493C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520A-DC32-49B1-9119-36B5E93C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0E1D-E8D4-47B2-A746-6F559BED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52C-6AA1-49B0-AB9F-534155F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528-2CF7-4922-B0A4-8366A09C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868-A4B8-4947-9386-9901633E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8C2-D927-4F40-BB4F-320FA45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FDF-866A-4B6E-A232-B58B242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6AE-DD0B-425E-92B4-7E26A80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D33-A705-4BA7-B18A-2F74377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9FE-2A4D-4160-91DA-7B561F4C4F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C518-6E5E-4D3C-942A-70AFB692C5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Tahoma"/>
              </a:rPr>
              <a:t>Съедобное и    </a:t>
            </a:r>
            <a:br>
              <a:rPr sz="6000"/>
            </a:br>
            <a:r>
              <a:rPr b="0" lang="ru-RU" sz="6000" spc="-1" strike="noStrike">
                <a:solidFill>
                  <a:srgbClr val="003399"/>
                </a:solidFill>
                <a:latin typeface="Tahoma"/>
              </a:rPr>
              <a:t>                несъедобно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i?id=22605176&amp;tov=0"/>
          <p:cNvPicPr/>
          <p:nvPr/>
        </p:nvPicPr>
        <p:blipFill>
          <a:blip r:embed="rId1"/>
          <a:stretch/>
        </p:blipFill>
        <p:spPr>
          <a:xfrm>
            <a:off x="380880" y="3429000"/>
            <a:ext cx="234792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l47"/>
          <p:cNvPicPr/>
          <p:nvPr/>
        </p:nvPicPr>
        <p:blipFill>
          <a:blip r:embed="rId2"/>
          <a:stretch/>
        </p:blipFill>
        <p:spPr>
          <a:xfrm>
            <a:off x="7010280" y="762120"/>
            <a:ext cx="1676520" cy="1326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952880" y="47242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учитель ОБ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онов В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Учтит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то выпитая вода не может сразу же уменьшить жажду, так как ее всасывание и поступление в кровь и ткани организма начинается примерно через 10—15 мин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i?id=39426282&amp;tov=8"/>
          <p:cNvPicPr/>
          <p:nvPr/>
        </p:nvPicPr>
        <p:blipFill>
          <a:blip r:embed="rId1"/>
          <a:stretch/>
        </p:blipFill>
        <p:spPr>
          <a:xfrm>
            <a:off x="6095880" y="1676520"/>
            <a:ext cx="28148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омните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и при каких обстоятельствах нельзя терять надежду найти что-либо пригодное в пищу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l110"/>
          <p:cNvPicPr/>
          <p:nvPr/>
        </p:nvPicPr>
        <p:blipFill>
          <a:blip r:embed="rId1"/>
          <a:stretch/>
        </p:blipFill>
        <p:spPr>
          <a:xfrm>
            <a:off x="609480" y="6858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?id=5802804&amp;tov=3"/>
          <p:cNvPicPr/>
          <p:nvPr/>
        </p:nvPicPr>
        <p:blipFill>
          <a:blip r:embed="rId2"/>
          <a:stretch/>
        </p:blipFill>
        <p:spPr>
          <a:xfrm>
            <a:off x="5410080" y="1676520"/>
            <a:ext cx="3505320" cy="30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пищ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ща животного происхождения более питательна по сравнению с растительной, но ее труднее добы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ы знаете, какие животные съедобны, где они обитают и как их поймать, то ваши шансы на хороший обед повышаютс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i?id=4445836&amp;tov=2"/>
          <p:cNvPicPr/>
          <p:nvPr/>
        </p:nvPicPr>
        <p:blipFill>
          <a:blip r:embed="rId1"/>
          <a:stretch/>
        </p:blipFill>
        <p:spPr>
          <a:xfrm>
            <a:off x="6019920" y="213372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пищ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хоты на мелких животных и птиц можно использовать обычную рогатку, различные ловушки, силки, другие приспособ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1"/>
          <p:cNvPicPr/>
          <p:nvPr/>
        </p:nvPicPr>
        <p:blipFill>
          <a:blip r:embed="rId1"/>
          <a:stretch/>
        </p:blipFill>
        <p:spPr>
          <a:xfrm>
            <a:off x="5181480" y="1752480"/>
            <a:ext cx="37720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омните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5548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ялых и падших зверьков есть нельзя! Как правило, такие животные больны или пали от боле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cl110"/>
          <p:cNvPicPr/>
          <p:nvPr/>
        </p:nvPicPr>
        <p:blipFill>
          <a:blip r:embed="rId1"/>
          <a:stretch/>
        </p:blipFill>
        <p:spPr>
          <a:xfrm>
            <a:off x="609480" y="685800"/>
            <a:ext cx="167652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?id=2939994&amp;tov=3"/>
          <p:cNvPicPr/>
          <p:nvPr/>
        </p:nvPicPr>
        <p:blipFill>
          <a:blip r:embed="rId2"/>
          <a:stretch/>
        </p:blipFill>
        <p:spPr>
          <a:xfrm>
            <a:off x="4800600" y="4065480"/>
            <a:ext cx="388620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Из всего разнообразия съедобных растений можно условно выделить несколько основных групп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0440" y="2363400"/>
            <a:ext cx="499248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во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убни и корень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аки и тра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укты и яг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ехи и желуд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ибы и лиша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росли и водяные растения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i?id=48239646&amp;tov=0"/>
          <p:cNvPicPr/>
          <p:nvPr/>
        </p:nvPicPr>
        <p:blipFill>
          <a:blip r:embed="rId1"/>
          <a:stretch/>
        </p:blipFill>
        <p:spPr>
          <a:xfrm>
            <a:off x="5181480" y="2133720"/>
            <a:ext cx="355608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Лес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436840"/>
            <a:ext cx="792936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ъедобные                   Не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черника                                   вороний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лесная малина                       майский ланды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рябина                                     волчье лы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земля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562720" y="129528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742840" y="1295280"/>
            <a:ext cx="76212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Черни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редставляет собой листопадный ветвистый кустарник высотой 15-40 с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Ягоды черники шаровидные, сочные, черно-синие с фиолетовой мякотью, приятным кисловато-сладким вкусо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ветет в июне, ягоды созревают в июле-августе. Растет в сосняках, ельниках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plant04"/>
          <p:cNvPicPr/>
          <p:nvPr/>
        </p:nvPicPr>
        <p:blipFill>
          <a:blip r:embed="rId1"/>
          <a:stretch/>
        </p:blipFill>
        <p:spPr>
          <a:xfrm>
            <a:off x="152280" y="2286000"/>
            <a:ext cx="4114800" cy="34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емлян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летнее травянистое растение 5-20 см высот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ки белого цвета, крупные диаметром до 2см.Плоды продолговато- конической формы, ярко- красн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в конце мая - начале июня, плоды созревают в ию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яника растет в хвойных, смешанных и лиственных лес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i_211_32"/>
          <p:cNvPicPr/>
          <p:nvPr/>
        </p:nvPicPr>
        <p:blipFill>
          <a:blip r:embed="rId1"/>
          <a:stretch/>
        </p:blipFill>
        <p:spPr>
          <a:xfrm>
            <a:off x="5334120" y="167652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9520" y="1599840"/>
            <a:ext cx="49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Малина лесна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Многолетний кустарник высотой до 2м с волосистыми красноватыми игольчатыми шипами.  Листья темно- зеленые, пильчатой формы. Цветки белые, диаметром около 1с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ветет в июне, плоды поспевают в июле- август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Растет по опушкам, полянам, оврагам, образуя густые заросли. Плоды красные , сладкие с ароматным вкусом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plant05"/>
          <p:cNvPicPr/>
          <p:nvPr/>
        </p:nvPicPr>
        <p:blipFill>
          <a:blip r:embed="rId1"/>
          <a:stretch/>
        </p:blipFill>
        <p:spPr>
          <a:xfrm>
            <a:off x="324000" y="1905120"/>
            <a:ext cx="3143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Картинка 94 из 3236"/>
          <p:cNvPicPr/>
          <p:nvPr/>
        </p:nvPicPr>
        <p:blipFill>
          <a:blip r:embed="rId2"/>
          <a:stretch/>
        </p:blipFill>
        <p:spPr>
          <a:xfrm>
            <a:off x="-228600" y="20520"/>
            <a:ext cx="990612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В лесу остались без воды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И как добыть себе е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роний глаз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высокое(15-35см)многолетнее растение. листья большие, расположенные крест-накрест, с тремя крупными продольными жилками. Всего  листьев четыре .на верхушке побега синевато-черная ягодка., окруженная длинными позеленевшими листочками и тычинками. 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роний глаз встречается поодиночке, иногда редкими группами во влажных, тенистых, лиственных лесах. Цветет он в мае - июне, плодоносит с конца июля. </a:t>
            </a: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Ядовито все растение, особенно плод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plant01"/>
          <p:cNvPicPr/>
          <p:nvPr/>
        </p:nvPicPr>
        <p:blipFill>
          <a:blip r:embed="rId1"/>
          <a:stretch/>
        </p:blipFill>
        <p:spPr>
          <a:xfrm>
            <a:off x="5952960" y="1752480"/>
            <a:ext cx="298476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52320" y="144792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Ландыш майский    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летние травянистое растение высотой до 20см. листья большие, темно- зеленые. Растение цветет в конце мая, плоды- оранжевые ягоды- созревают в сентябре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ндыш майский растет в лесах, на полянах, образует большие сплошные заросли.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Все растение ядови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plant02"/>
          <p:cNvPicPr/>
          <p:nvPr/>
        </p:nvPicPr>
        <p:blipFill>
          <a:blip r:embed="rId1"/>
          <a:stretch/>
        </p:blipFill>
        <p:spPr>
          <a:xfrm>
            <a:off x="380880" y="1600200"/>
            <a:ext cx="26002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Волчье лык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устарник высотой 30- 120 см. Листья тонкие, суживающиеся в короткий черешок, расположены на концах побегов. Цветки мелкие, розовые или вишневые, редко белые. Плоды - костянки, сочные, ярко- красные , густо сидят на концах побегов, созревает в конце июля. 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лчье лыко растет по опушкам и в сырых местах. </a:t>
            </a: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Все растение, особенно плоды и кора, очень ядовито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plant03"/>
          <p:cNvPicPr/>
          <p:nvPr/>
        </p:nvPicPr>
        <p:blipFill>
          <a:blip r:embed="rId1"/>
          <a:stretch/>
        </p:blipFill>
        <p:spPr>
          <a:xfrm>
            <a:off x="5978520" y="1676520"/>
            <a:ext cx="2874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о должен знать кажды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обирай грибы, которых не знаеш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обирай те грибы, в съедобности которых есть хоть малейшее сомн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о пополняйте свои знания о гриб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18"/>
          <p:cNvPicPr/>
          <p:nvPr/>
        </p:nvPicPr>
        <p:blipFill>
          <a:blip r:embed="rId1"/>
          <a:stretch/>
        </p:blipFill>
        <p:spPr>
          <a:xfrm>
            <a:off x="5956200" y="1371600"/>
            <a:ext cx="2884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ъедобные грибы нашего лес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Картинка 16 из 22405"/>
          <p:cNvPicPr/>
          <p:nvPr/>
        </p:nvPicPr>
        <p:blipFill>
          <a:blip r:embed="rId1"/>
          <a:stretch/>
        </p:blipFill>
        <p:spPr>
          <a:xfrm>
            <a:off x="5867280" y="17524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сыроежки"/>
          <p:cNvPicPr/>
          <p:nvPr/>
        </p:nvPicPr>
        <p:blipFill>
          <a:blip r:embed="rId2"/>
          <a:stretch/>
        </p:blipFill>
        <p:spPr>
          <a:xfrm>
            <a:off x="3429000" y="3124080"/>
            <a:ext cx="201780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Свинухи"/>
          <p:cNvPicPr/>
          <p:nvPr/>
        </p:nvPicPr>
        <p:blipFill>
          <a:blip r:embed="rId3"/>
          <a:stretch/>
        </p:blipFill>
        <p:spPr>
          <a:xfrm>
            <a:off x="152280" y="1676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4456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ух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581280" y="5827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400800" y="4456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ля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ъедобные грибы наших лес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426708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ый гри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http://dom4u.narod.ru/dec/0109/mash015.htm"/>
          <p:cNvPicPr/>
          <p:nvPr/>
        </p:nvPicPr>
        <p:blipFill>
          <a:blip r:embed="rId1"/>
          <a:stretch/>
        </p:blipFill>
        <p:spPr>
          <a:xfrm>
            <a:off x="228600" y="1600200"/>
            <a:ext cx="2535120" cy="226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antharellus_cib1"/>
          <p:cNvPicPr/>
          <p:nvPr/>
        </p:nvPicPr>
        <p:blipFill>
          <a:blip r:embed="rId2"/>
          <a:stretch/>
        </p:blipFill>
        <p:spPr>
          <a:xfrm>
            <a:off x="3316320" y="4114800"/>
            <a:ext cx="270360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gjljcbyjdbr"/>
          <p:cNvPicPr/>
          <p:nvPr/>
        </p:nvPicPr>
        <p:blipFill>
          <a:blip r:embed="rId3"/>
          <a:stretch/>
        </p:blipFill>
        <p:spPr>
          <a:xfrm>
            <a:off x="6324480" y="1676520"/>
            <a:ext cx="2590920" cy="2274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3657600" y="20574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352680" y="2819520"/>
            <a:ext cx="22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ичка настоя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478200" y="4346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Ядовитые гриб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4" descr="28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4876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5105520" y="1225440"/>
            <a:ext cx="4038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– панэолус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– поплавок сер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– говорушка светящаяс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– веселка обыкновенна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– бледная поганка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 – мухомор белый (весенний)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Ядовитые гриб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29"/>
          <p:cNvPicPr/>
          <p:nvPr/>
        </p:nvPicPr>
        <p:blipFill>
          <a:blip r:embed="rId1"/>
          <a:stretch/>
        </p:blipFill>
        <p:spPr>
          <a:xfrm>
            <a:off x="3733920" y="1600200"/>
            <a:ext cx="5410080" cy="4800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52280" y="2167560"/>
            <a:ext cx="38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хомор   красн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 – шампиньон пестр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– сыроежка рвотна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– валу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 – энтолом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Ядовитые грибы наших лес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080" y="2209680"/>
            <a:ext cx="22762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ледная пога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gypholoma_fasc1"/>
          <p:cNvPicPr/>
          <p:nvPr/>
        </p:nvPicPr>
        <p:blipFill>
          <a:blip r:embed="rId1"/>
          <a:stretch/>
        </p:blipFill>
        <p:spPr>
          <a:xfrm>
            <a:off x="6400800" y="3809880"/>
            <a:ext cx="244008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291"/>
          <p:cNvPicPr/>
          <p:nvPr/>
        </p:nvPicPr>
        <p:blipFill>
          <a:blip r:embed="rId2"/>
          <a:stretch/>
        </p:blipFill>
        <p:spPr>
          <a:xfrm>
            <a:off x="457200" y="373392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myco.narod.ru/poison.htm"/>
          <p:cNvPicPr/>
          <p:nvPr/>
        </p:nvPicPr>
        <p:blipFill>
          <a:blip r:embed="rId3"/>
          <a:stretch/>
        </p:blipFill>
        <p:spPr>
          <a:xfrm>
            <a:off x="2971800" y="1676520"/>
            <a:ext cx="3048120" cy="2442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588120" y="47131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хом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273000" y="239076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жные опя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тра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аще смотрите под ноги. В сезон там можно найти нечто вкусное и полезное, а именно — молодые зеленые раст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Картинка 27 из 838"/>
          <p:cNvPicPr/>
          <p:nvPr/>
        </p:nvPicPr>
        <p:blipFill>
          <a:blip r:embed="rId1"/>
          <a:stretch/>
        </p:blipFill>
        <p:spPr>
          <a:xfrm>
            <a:off x="5257800" y="22860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артинка 122 из 32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Цель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741400"/>
            <a:ext cx="82296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Как добыть пищу и воду в природных условия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тра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2277720"/>
            <a:ext cx="2130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п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Картинка 12 из 33"/>
          <p:cNvPicPr/>
          <p:nvPr/>
        </p:nvPicPr>
        <p:blipFill>
          <a:blip r:embed="rId1"/>
          <a:stretch/>
        </p:blipFill>
        <p:spPr>
          <a:xfrm>
            <a:off x="228600" y="33526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0000053159-preview"/>
          <p:cNvPicPr/>
          <p:nvPr/>
        </p:nvPicPr>
        <p:blipFill>
          <a:blip r:embed="rId2"/>
          <a:stretch/>
        </p:blipFill>
        <p:spPr>
          <a:xfrm>
            <a:off x="6781680" y="3200400"/>
            <a:ext cx="2292480" cy="320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yaray300"/>
          <p:cNvPicPr/>
          <p:nvPr/>
        </p:nvPicPr>
        <p:blipFill>
          <a:blip r:embed="rId3"/>
          <a:stretch/>
        </p:blipFill>
        <p:spPr>
          <a:xfrm>
            <a:off x="3505320" y="1523880"/>
            <a:ext cx="3124080" cy="212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3965400" y="449568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318800" y="220968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ав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быча пищи и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4"/>
          <p:cNvSpPr/>
          <p:nvPr/>
        </p:nvSpPr>
        <p:spPr>
          <a:xfrm flipH="1">
            <a:off x="2057040" y="16002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6553080" y="167652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0" y="2057400"/>
            <a:ext cx="241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Живо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(трудно добы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429000" y="2057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ти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6629400" y="21337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Питьева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0" y="36576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зве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14400" y="36576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7524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насеко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507480" y="2971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яг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879080" y="2971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097320" y="2895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ри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7848720" y="30481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о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уч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24"/>
          <p:cNvSpPr/>
          <p:nvPr/>
        </p:nvSpPr>
        <p:spPr>
          <a:xfrm>
            <a:off x="4343400" y="1600200"/>
            <a:ext cx="5335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5"/>
          <p:cNvSpPr/>
          <p:nvPr/>
        </p:nvSpPr>
        <p:spPr>
          <a:xfrm flipH="1">
            <a:off x="304560" y="266688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1295280" y="2666880"/>
            <a:ext cx="763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1981080" y="2666880"/>
            <a:ext cx="3812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28"/>
          <p:cNvSpPr/>
          <p:nvPr/>
        </p:nvSpPr>
        <p:spPr>
          <a:xfrm flipH="1">
            <a:off x="3733560" y="25146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495288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715000" y="25146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8381880" y="274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36"/>
          <p:cNvSpPr/>
          <p:nvPr/>
        </p:nvSpPr>
        <p:spPr>
          <a:xfrm flipH="1">
            <a:off x="3123720" y="342900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37"/>
          <p:cNvSpPr/>
          <p:nvPr/>
        </p:nvSpPr>
        <p:spPr>
          <a:xfrm flipH="1">
            <a:off x="3733920" y="3352680"/>
            <a:ext cx="2743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1981080" y="518148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4586040" y="516096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40"/>
          <p:cNvSpPr/>
          <p:nvPr/>
        </p:nvSpPr>
        <p:spPr>
          <a:xfrm>
            <a:off x="5257800" y="3429000"/>
            <a:ext cx="4572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41"/>
          <p:cNvSpPr/>
          <p:nvPr/>
        </p:nvSpPr>
        <p:spPr>
          <a:xfrm flipH="1">
            <a:off x="6171840" y="3429000"/>
            <a:ext cx="3049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42"/>
          <p:cNvSpPr/>
          <p:nvPr/>
        </p:nvSpPr>
        <p:spPr>
          <a:xfrm flipH="1">
            <a:off x="3429000" y="3429000"/>
            <a:ext cx="175248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43"/>
          <p:cNvSpPr/>
          <p:nvPr/>
        </p:nvSpPr>
        <p:spPr>
          <a:xfrm>
            <a:off x="3962520" y="3429000"/>
            <a:ext cx="152388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Line 44"/>
          <p:cNvSpPr/>
          <p:nvPr/>
        </p:nvSpPr>
        <p:spPr>
          <a:xfrm>
            <a:off x="838188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Line 45"/>
          <p:cNvSpPr/>
          <p:nvPr/>
        </p:nvSpPr>
        <p:spPr>
          <a:xfrm>
            <a:off x="838188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6"/>
          <p:cNvSpPr/>
          <p:nvPr/>
        </p:nvSpPr>
        <p:spPr>
          <a:xfrm>
            <a:off x="7924680" y="4419720"/>
            <a:ext cx="99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сне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о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47"/>
          <p:cNvSpPr/>
          <p:nvPr/>
        </p:nvSpPr>
        <p:spPr>
          <a:xfrm>
            <a:off x="8381880" y="4876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8"/>
          <p:cNvSpPr/>
          <p:nvPr/>
        </p:nvSpPr>
        <p:spPr>
          <a:xfrm>
            <a:off x="8381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ковский Н.М.Полезные растения и их сородичи.Москва,199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ков В.В.Безопасность человека в экстремальных ситуациях.Москва,199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ижев А.Волшебные травы России.Москва,2006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динг П.П.Грибы.Москва,1993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зучить способы добычи вод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зучить виды растений и животных, употребляемых челове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де кончается вод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- там кончается жиз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9" descr="voda"/>
          <p:cNvPicPr/>
          <p:nvPr/>
        </p:nvPicPr>
        <p:blipFill>
          <a:blip r:embed="rId1"/>
          <a:stretch/>
        </p:blipFill>
        <p:spPr>
          <a:xfrm>
            <a:off x="1219320" y="17146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8046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Известно, что человеческий организм почти на 65% состоит из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     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В жарких районах без воды человек может погибнуть через 5-7 суток, а без пищи, при наличии воды, человек может жить длительное врем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Вода-источник жизн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Источники питьевой вод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чший источник воды эт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одни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о шансы найти его очень мал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екущий руч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ваш следующий шанс, движение воды уменьшает грязь. Но знайте, что употребление воды из ручьев может приводит к некоторым паразитическим заболеваниям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191378"/>
          <p:cNvPicPr/>
          <p:nvPr/>
        </p:nvPicPr>
        <p:blipFill>
          <a:blip r:embed="rId1"/>
          <a:stretch/>
        </p:blipFill>
        <p:spPr>
          <a:xfrm>
            <a:off x="152280" y="1371600"/>
            <a:ext cx="3432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Источник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ождь, снег и 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гут быть хорошим источником чистой питьевой в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i?id=41835551&amp;tov=6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утоления жажды можно воспользоваться соком березы или к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в коре молодого деревца сделайте ножом продольные, поперечные или в виде буквы «V» надрезы глубиной 3—4 см Под надрезом укрепите желобок из бересты или кусок бинта. Стекающий сок соберите в сосуд. За ночь таким способом можно получить до 1 литра со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v5"/>
          <p:cNvPicPr/>
          <p:nvPr/>
        </p:nvPicPr>
        <p:blipFill>
          <a:blip r:embed="rId1"/>
          <a:stretch/>
        </p:blipFill>
        <p:spPr>
          <a:xfrm>
            <a:off x="5486400" y="17524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слав</cp:lastModifiedBy>
  <dcterms:modified xsi:type="dcterms:W3CDTF">2012-02-04T14:25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