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F8B-C50A-4D4E-A3A1-7B9FE47D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1F0-E0C8-449E-BF88-1C252DB4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E54-909D-4E67-BBB1-9EB6FBE9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F42-0B3C-475C-B8D6-5411F7D0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FC01-B14B-4176-B1C6-ED0EC095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9A5C-90DD-4B93-B93C-0A43733B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D6A6-0F31-48CF-B1C3-229A52A9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9872-6B9B-4DF2-A8B7-0F694BE0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3152-E40D-48B9-B93A-0F57AA93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18A9-39C9-43E0-BADE-E59F0FEB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ECCE-35B4-40CC-8424-3D20E2BD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A42-2B3D-4091-B14A-8CCF75DB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ED3B-EEE5-49CC-8347-F7AB5B5B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8693-D438-4332-89C3-7E05D8CF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43B8-4224-490A-BC20-DA9CCDC8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2FCB-6790-4069-93DB-39E1F5BE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8C76-13D4-4D03-884F-0C7CEF98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B434-AD84-48DF-9EE2-42652560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0E84-2B71-481B-B264-9516A9F1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B3CD-5F22-42A9-8380-1EFA8019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FBB9-9B09-43D9-A26A-6C549EA4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8B99-7724-41AA-A8AA-B6869965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73A-E312-49B5-AB3A-2EF69817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35E0-6273-446D-9852-5EE87A1B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DC470-2687-47F8-B807-A0BF794D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E634-02A0-45C8-8D93-B3DE3A4B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F849-BBA6-4E3C-AA34-55BDEC2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5371-625D-4EA2-B224-1E6E4355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414A-8230-44CC-B2A7-E555F7C1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628A-537D-4C97-823F-7703770D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73C0-1993-4BB4-B8E5-48279A90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55A5-68A7-4F68-A80B-B2767BC1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64ACD-BB55-4C8D-B4C8-F678A01F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306-4D4F-4BD3-9F09-2BC234BB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927B-972A-4685-B16C-2FE5E2B5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48D25-420D-4AA7-9083-45233AEC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17604-BED6-49D5-8B80-81AFBF44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487E-92FF-4BCF-B562-346B306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E8CE5-4B40-4F67-828E-27C77EC4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449F-8E8F-4FE9-AE2A-3875DF1B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E301E-3CB0-48F6-9745-B62CAB51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9A88F-EED4-49FF-AB87-D148EF98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1D782-A9C5-4865-860C-D5F857D0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24B-58C7-411E-AFD8-7CD9994D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AB5-B13E-4C63-A156-0BFF409E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92A-6E9A-4AFE-97DE-BA08EB0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310-F500-43E5-B25D-D5670FD6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0F0-D03D-4F2C-9718-36A7A070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A2C6-050A-4C46-9AAA-A80B88E1F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7681-43CD-448A-A0BB-95A3C73D2B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47DC-2F19-4FC2-9DC1-F0DB9294FB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674A-5E85-47F7-9919-D707B7DA1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kinopoisk.ru/picture/513315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765000"/>
            <a:ext cx="8183520" cy="13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ль общения </a:t>
            </a:r>
            <a:endParaRPr b="0" i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жизнедеятельности человека.</a:t>
            </a:r>
            <a:endParaRPr b="0" i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751640" cy="34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Общение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990000"/>
                </a:solidFill>
                <a:latin typeface="Arial"/>
              </a:rPr>
              <a:t>означает обмен между людьми определенными результатами их психической деятельности – информацией, мыслями, чувств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1857240" cy="1895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flipH="1">
            <a:off x="7092720" y="189000"/>
            <a:ext cx="18572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469116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«Не от недостатка ума нет разговора, а от эгоизма. Всякий человек хочет говорить о себе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о том, что его занима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Л.Н. Толстой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Лев Толстой (Leo Tolstoy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836640"/>
            <a:ext cx="3830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Garamond"/>
              </a:rPr>
              <a:t>Древние заповеди культуры общения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Verdana"/>
              </a:rPr>
              <a:t>Доверие к тому, с кем общаеш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99"/>
                </a:solidFill>
                <a:latin typeface="Verdana"/>
              </a:rPr>
              <a:t>Вера в то, что человек, с которым ты общаешься, хороший, что он расположен к в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Verdana"/>
              </a:rPr>
              <a:t>Уважение к тому, с кем общаеш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Verdana"/>
              </a:rPr>
              <a:t>Признание человека как данность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03640" y="4005360"/>
            <a:ext cx="24224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5280" y="54936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М.М. Рощин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«Попробуйте не наступать, а уступ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захватить, а от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спрятать, а подел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орать, а выслушать, не разорвать, а скле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кулак показать, а протянутую ладон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6" descr="PIC_0008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260280"/>
            <a:ext cx="8280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MCj04374570000[1]"/>
          <p:cNvPicPr/>
          <p:nvPr/>
        </p:nvPicPr>
        <p:blipFill>
          <a:blip r:embed="rId1"/>
          <a:srcRect l="0" t="3161" r="0" b="7891"/>
          <a:stretch/>
        </p:blipFill>
        <p:spPr>
          <a:xfrm>
            <a:off x="971640" y="0"/>
            <a:ext cx="712944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908000" y="1125360"/>
            <a:ext cx="5329440" cy="4176720"/>
            <a:chOff x="1908000" y="1125360"/>
            <a:chExt cx="5329440" cy="4176720"/>
          </a:xfrm>
        </p:grpSpPr>
        <p:grpSp>
          <p:nvGrpSpPr>
            <p:cNvPr id="186" name="Группа 23"/>
            <p:cNvGrpSpPr/>
            <p:nvPr/>
          </p:nvGrpSpPr>
          <p:grpSpPr>
            <a:xfrm>
              <a:off x="1908000" y="2205000"/>
              <a:ext cx="1873440" cy="1873440"/>
              <a:chOff x="1908000" y="2205000"/>
              <a:chExt cx="1873440" cy="1873440"/>
            </a:xfrm>
          </p:grpSpPr>
          <p:pic>
            <p:nvPicPr>
              <p:cNvPr id="187" name="Picture 10" descr="MCj04348300000[1]"/>
              <p:cNvPicPr/>
              <p:nvPr/>
            </p:nvPicPr>
            <p:blipFill>
              <a:blip r:embed="rId2"/>
              <a:stretch/>
            </p:blipFill>
            <p:spPr>
              <a:xfrm>
                <a:off x="1908000" y="2205000"/>
                <a:ext cx="187344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Rectangle 11"/>
              <p:cNvSpPr/>
              <p:nvPr/>
            </p:nvSpPr>
            <p:spPr>
              <a:xfrm>
                <a:off x="2140560" y="2639880"/>
                <a:ext cx="1389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Активны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образ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жизн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Группа 21"/>
            <p:cNvGrpSpPr/>
            <p:nvPr/>
          </p:nvGrpSpPr>
          <p:grpSpPr>
            <a:xfrm>
              <a:off x="5364000" y="2492280"/>
              <a:ext cx="1873440" cy="1873440"/>
              <a:chOff x="5364000" y="2492280"/>
              <a:chExt cx="1873440" cy="1873440"/>
            </a:xfrm>
          </p:grpSpPr>
          <p:pic>
            <p:nvPicPr>
              <p:cNvPr id="190" name="Picture 7" descr="MCj04348300000[1]"/>
              <p:cNvPicPr/>
              <p:nvPr/>
            </p:nvPicPr>
            <p:blipFill>
              <a:blip r:embed="rId3"/>
              <a:stretch/>
            </p:blipFill>
            <p:spPr>
              <a:xfrm>
                <a:off x="5364000" y="2492280"/>
                <a:ext cx="187344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4"/>
              <p:cNvSpPr/>
              <p:nvPr/>
            </p:nvSpPr>
            <p:spPr>
              <a:xfrm>
                <a:off x="5651280" y="3066840"/>
                <a:ext cx="131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Общени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Группа 19"/>
            <p:cNvGrpSpPr/>
            <p:nvPr/>
          </p:nvGrpSpPr>
          <p:grpSpPr>
            <a:xfrm>
              <a:off x="3851280" y="1125360"/>
              <a:ext cx="1873080" cy="1873440"/>
              <a:chOff x="3851280" y="1125360"/>
              <a:chExt cx="1873080" cy="1873440"/>
            </a:xfrm>
          </p:grpSpPr>
          <p:pic>
            <p:nvPicPr>
              <p:cNvPr id="193" name="Picture 8" descr="MCj04348300000[1]"/>
              <p:cNvPicPr/>
              <p:nvPr/>
            </p:nvPicPr>
            <p:blipFill>
              <a:blip r:embed="rId4"/>
              <a:stretch/>
            </p:blipFill>
            <p:spPr>
              <a:xfrm>
                <a:off x="3851280" y="1125360"/>
                <a:ext cx="187308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Text Box 15"/>
              <p:cNvSpPr/>
              <p:nvPr/>
            </p:nvSpPr>
            <p:spPr>
              <a:xfrm>
                <a:off x="4197240" y="1752480"/>
                <a:ext cx="11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Гигие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Группа 25"/>
            <p:cNvGrpSpPr/>
            <p:nvPr/>
          </p:nvGrpSpPr>
          <p:grpSpPr>
            <a:xfrm>
              <a:off x="3419640" y="3429000"/>
              <a:ext cx="1873080" cy="1873080"/>
              <a:chOff x="3419640" y="3429000"/>
              <a:chExt cx="1873080" cy="1873080"/>
            </a:xfrm>
          </p:grpSpPr>
          <p:pic>
            <p:nvPicPr>
              <p:cNvPr id="196" name="Picture 6" descr="MCj04348300000[1]"/>
              <p:cNvPicPr/>
              <p:nvPr/>
            </p:nvPicPr>
            <p:blipFill>
              <a:blip r:embed="rId5"/>
              <a:stretch/>
            </p:blipFill>
            <p:spPr>
              <a:xfrm>
                <a:off x="3419640" y="3429000"/>
                <a:ext cx="1873080" cy="18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16"/>
              <p:cNvSpPr/>
              <p:nvPr/>
            </p:nvSpPr>
            <p:spPr>
              <a:xfrm>
                <a:off x="3564000" y="3933720"/>
                <a:ext cx="160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Правильное пит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Picture 21" descr="sw58"/>
          <p:cNvPicPr/>
          <p:nvPr/>
        </p:nvPicPr>
        <p:blipFill>
          <a:blip r:embed="rId6"/>
          <a:stretch/>
        </p:blipFill>
        <p:spPr>
          <a:xfrm>
            <a:off x="395280" y="404640"/>
            <a:ext cx="1530360" cy="15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5:29:32Z</dcterms:created>
  <dc:creator>марина</dc:creator>
  <dc:description/>
  <dc:language>en-US</dc:language>
  <cp:lastModifiedBy>марина</cp:lastModifiedBy>
  <dcterms:modified xsi:type="dcterms:W3CDTF">2009-02-15T17:59:01Z</dcterms:modified>
  <cp:revision>3</cp:revision>
  <dc:subject/>
  <dc:title>Слайд 1</dc:title>
</cp:coreProperties>
</file>