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785-665E-4CB9-B6A5-FD5E90D3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35C-C506-4542-AC04-F5BC8A8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3B9-C81F-4861-9855-761ACECB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77F-0653-4A80-A5E2-0922B368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F8EA-E5CF-4006-88AB-A86EBFFC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64C-CC67-4A21-B9B9-CE71CE5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CE2B-77CE-4CE3-9CF6-E042701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CACC-4C8D-463E-9B1B-284F13B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052-1B9A-4455-8B7E-0B7A82EA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A2D4-6121-448B-9C5B-ED379E0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A821-EDDD-4A9E-B06D-1071877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3D5-3F67-4E83-B2D1-5CDD29D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7246-49B3-421E-AD3D-AB25AFA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2DE-EA69-4579-9857-32F7690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AD90-0B04-4B6F-AB6C-EEDCB428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52D5-DF68-4FFE-8597-12B1CF7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5D1-3E7E-4E9C-846A-D7BB10A9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01AE-9943-427E-96CF-7EA99AD6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06DB-64FC-4A41-907F-C8C42F58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C2A0-FF21-4010-BA2F-42CFF75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EE02-390F-47FE-AB33-109F1C3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5BEB-3BF0-494D-99AA-BEFFB796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BAA-7CF3-4F21-BD12-C2152E6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8A4F-B8A2-48CC-A7E1-B9D818A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018F-A594-4F86-AFED-0237EED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29B2-C3FC-40A2-BCB8-6568D12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8BAF-C85C-494E-A5B3-57A4CCC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C1D8-D84C-4395-974C-25FBDE7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90F9-0707-404D-B5FF-309837DA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DAF5-070D-4167-8F99-E8C4924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8D9E-5774-481C-A87A-8FC82582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C61F-D11A-489C-B22F-F007D2F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908B-D099-416C-9B66-A78D91A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C1E-9237-4EF4-9B16-030A7DEC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D3AF-160F-446F-9DA5-5975F63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C406-7035-40A7-A354-51953AAE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AE38-22B6-4EE0-BE4E-2B4A79A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D7D4-A2F4-4C81-9D0F-D319248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69CA-5616-404B-91D0-23F1414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BBEB-4815-4B51-A281-BB7BE63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6114-38EF-457B-912B-A8722333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5BC7-7500-40DA-A55F-731A9680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FD56-B1A5-4E47-B05C-371C5D4A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211-09C3-4363-8720-84C4798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EE3-9A0C-41CA-8EDA-BDF41E7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FA4-8079-4D06-896E-A1CD279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358-5CE3-456A-9D88-512422B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7D6-B3A7-4AED-98DC-F412728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9C5-323A-489C-B43B-C996AE0D5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DB3-7954-4E91-8247-5EC15877EF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EBA8-64CB-41D2-95D4-D05A7E79E2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659-211E-4E4B-A978-39F45AAE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kinopoisk.ru/picture/513315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765000"/>
            <a:ext cx="818352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ль общения 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жизнедеятельности человека.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7516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Общение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990000"/>
                </a:solidFill>
                <a:latin typeface="Arial"/>
              </a:rPr>
              <a:t>означает обмен между людьми определенными результатами их психической деятельности – информацией, мыслями, чувст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1857240" cy="1895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7092720" y="18900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469116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Не от недостатка ума нет разговора, а от эгоизма. Всякий человек хочет говорить о себе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 том, что его заним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Л.Н. Толстой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Лев Толстой (Leo Tolstoy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836640"/>
            <a:ext cx="3830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Древние заповеди культуры общения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Verdana"/>
              </a:rPr>
              <a:t>Довер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99"/>
                </a:solidFill>
                <a:latin typeface="Verdana"/>
              </a:rPr>
              <a:t>Вера в то, что человек, с которым ты общаешься, хороший, что он расположен к в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Уважен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Признание человека как данность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422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5493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М.М. Рощин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Попробуйте не наступать, а уст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захватить, а от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спрятать, а подел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орать, а выслушать, не разорвать, а скле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кулак показать, а протянутую ладо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6" descr="PIC_0008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26028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MCj04374570000[1]"/>
          <p:cNvPicPr/>
          <p:nvPr/>
        </p:nvPicPr>
        <p:blipFill>
          <a:blip r:embed="rId1"/>
          <a:srcRect l="0" t="3161" r="0" b="7891"/>
          <a:stretch/>
        </p:blipFill>
        <p:spPr>
          <a:xfrm>
            <a:off x="971640" y="0"/>
            <a:ext cx="71294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08000" y="1125360"/>
            <a:ext cx="5329440" cy="4176720"/>
            <a:chOff x="1908000" y="1125360"/>
            <a:chExt cx="5329440" cy="4176720"/>
          </a:xfrm>
        </p:grpSpPr>
        <p:grpSp>
          <p:nvGrpSpPr>
            <p:cNvPr id="186" name="Группа 23"/>
            <p:cNvGrpSpPr/>
            <p:nvPr/>
          </p:nvGrpSpPr>
          <p:grpSpPr>
            <a:xfrm>
              <a:off x="1908000" y="2205000"/>
              <a:ext cx="1873440" cy="1873440"/>
              <a:chOff x="1908000" y="2205000"/>
              <a:chExt cx="1873440" cy="1873440"/>
            </a:xfrm>
          </p:grpSpPr>
          <p:pic>
            <p:nvPicPr>
              <p:cNvPr id="187" name="Picture 10" descr="MCj04348300000[1]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220500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1"/>
              <p:cNvSpPr/>
              <p:nvPr/>
            </p:nvSpPr>
            <p:spPr>
              <a:xfrm>
                <a:off x="2140560" y="2639880"/>
                <a:ext cx="138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Активны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раз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жизн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Группа 21"/>
            <p:cNvGrpSpPr/>
            <p:nvPr/>
          </p:nvGrpSpPr>
          <p:grpSpPr>
            <a:xfrm>
              <a:off x="5364000" y="2492280"/>
              <a:ext cx="1873440" cy="1873440"/>
              <a:chOff x="5364000" y="2492280"/>
              <a:chExt cx="1873440" cy="1873440"/>
            </a:xfrm>
          </p:grpSpPr>
          <p:pic>
            <p:nvPicPr>
              <p:cNvPr id="190" name="Picture 7" descr="MCj04348300000[1]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49228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4"/>
              <p:cNvSpPr/>
              <p:nvPr/>
            </p:nvSpPr>
            <p:spPr>
              <a:xfrm>
                <a:off x="5651280" y="3066840"/>
                <a:ext cx="131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щени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Группа 19"/>
            <p:cNvGrpSpPr/>
            <p:nvPr/>
          </p:nvGrpSpPr>
          <p:grpSpPr>
            <a:xfrm>
              <a:off x="3851280" y="1125360"/>
              <a:ext cx="1873080" cy="1873440"/>
              <a:chOff x="3851280" y="1125360"/>
              <a:chExt cx="1873080" cy="1873440"/>
            </a:xfrm>
          </p:grpSpPr>
          <p:pic>
            <p:nvPicPr>
              <p:cNvPr id="193" name="Picture 8" descr="MCj04348300000[1]"/>
              <p:cNvPicPr/>
              <p:nvPr/>
            </p:nvPicPr>
            <p:blipFill>
              <a:blip r:embed="rId4"/>
              <a:stretch/>
            </p:blipFill>
            <p:spPr>
              <a:xfrm>
                <a:off x="3851280" y="1125360"/>
                <a:ext cx="187308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15"/>
              <p:cNvSpPr/>
              <p:nvPr/>
            </p:nvSpPr>
            <p:spPr>
              <a:xfrm>
                <a:off x="4197240" y="175248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Гигие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Группа 25"/>
            <p:cNvGrpSpPr/>
            <p:nvPr/>
          </p:nvGrpSpPr>
          <p:grpSpPr>
            <a:xfrm>
              <a:off x="3419640" y="3429000"/>
              <a:ext cx="1873080" cy="1873080"/>
              <a:chOff x="3419640" y="3429000"/>
              <a:chExt cx="1873080" cy="1873080"/>
            </a:xfrm>
          </p:grpSpPr>
          <p:pic>
            <p:nvPicPr>
              <p:cNvPr id="196" name="Picture 6" descr="MCj04348300000[1]"/>
              <p:cNvPicPr/>
              <p:nvPr/>
            </p:nvPicPr>
            <p:blipFill>
              <a:blip r:embed="rId5"/>
              <a:stretch/>
            </p:blipFill>
            <p:spPr>
              <a:xfrm>
                <a:off x="3419640" y="3429000"/>
                <a:ext cx="1873080" cy="18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6"/>
              <p:cNvSpPr/>
              <p:nvPr/>
            </p:nvSpPr>
            <p:spPr>
              <a:xfrm>
                <a:off x="3564000" y="3933720"/>
                <a:ext cx="160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Правильное пит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21" descr="sw58"/>
          <p:cNvPicPr/>
          <p:nvPr/>
        </p:nvPicPr>
        <p:blipFill>
          <a:blip r:embed="rId6"/>
          <a:stretch/>
        </p:blipFill>
        <p:spPr>
          <a:xfrm>
            <a:off x="395280" y="404640"/>
            <a:ext cx="153036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29:32Z</dcterms:created>
  <dc:creator>марина</dc:creator>
  <dc:description/>
  <dc:language>en-US</dc:language>
  <cp:lastModifiedBy>марина</cp:lastModifiedBy>
  <dcterms:modified xsi:type="dcterms:W3CDTF">2009-02-15T17:59:01Z</dcterms:modified>
  <cp:revision>3</cp:revision>
  <dc:subject/>
  <dc:title>Слайд 1</dc:title>
</cp:coreProperties>
</file>