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BE0-2F23-41CF-BEC1-E3614AB9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D35-79A9-4161-A114-3497913E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2D5-0874-459B-8035-8FA4D66D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C7D-CB20-444D-A389-A5267FA1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3E2C-C46D-4E3D-AA60-90673087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9C0-67F1-4AAC-8D2B-7738A28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0C9-C9AF-4E38-8038-F5269AF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BCEC-9929-4453-9956-C6E421EB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B5DE-58AA-4733-A7DA-429EF9A1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F95-5426-4F38-AEF3-F092994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69B0-E624-4539-A65A-7FB6AC8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33B-91A0-4BD6-BC27-56337B55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96EF-87F0-46DC-A4D1-9F85287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D8B4-6013-42B3-9419-AFD3AFB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72AC-0812-43F4-BDDA-EC2FDD0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3D0-0863-46BA-84ED-E4996248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B10E-5565-46BB-9871-0124AE43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FF8A-A869-4129-86CD-DFE2871D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D6A1-7400-4EEF-B79C-2A27F885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9354-B134-4CAA-A02B-8849E017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FBE4-AD97-4DFD-B1F3-5F57D7BF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6E3A-D634-4BBB-95E3-DE873DE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543-F79C-4EBA-AC21-E4C09B6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47D4-0237-4A02-948F-B917C9FD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7071-AF57-4237-A7B3-CFE150F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FA08-75C0-46B1-B1A3-0E0F838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BC41-1B03-45CC-AD75-1309DD3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17AB-98A5-4319-A73E-88536D1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33E4-0DB8-493D-8CF8-D5AE3902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FEF7-BF6D-4927-9C58-8FBBBCF3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A2A5-3B2A-4A9F-AC7D-DA156606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1B96-42CE-446F-BC19-3D88C55E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F902-CCA3-4C79-8B4B-635F2D1A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B3C-D8A4-4DF7-BB58-3240E3C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1B77-D72C-4CBC-96E1-78472BE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5533-8AA0-4DCB-A0AF-D52C201D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7C81-FCE9-4BC5-A3B5-EEC81F0D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851C-82A1-4511-B31A-F0E84EC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2B77-0E80-42C8-B5EA-5B96F08D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4680-F5D5-4603-8A19-265B89C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1CE2-0AAB-4776-AF04-62CC4B5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158C-2499-45BD-BC43-A71833D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E72B-5458-4B91-A444-292512D3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653-37F5-4280-9FFA-57216DC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912-BDC1-43BB-9355-8A5BBD9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B14-BD76-4A73-AFAC-B56CF9F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B77-5D6A-4340-889D-3E2FFE7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6D8-F31E-49BA-A568-8D96E84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AE2E-E9F8-4952-AB4F-473744B6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B6F-5195-4E4F-BFA8-AA7E6780A5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0442-580E-4538-9150-6E8C60F929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671-4B7C-4FCC-84E5-3EC83850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kinopoisk.ru/picture/513315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765000"/>
            <a:ext cx="818352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ль общения 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жизнедеятельности человека.</a:t>
            </a:r>
            <a:endParaRPr b="0" i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7516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Общение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990000"/>
                </a:solidFill>
                <a:latin typeface="Arial"/>
              </a:rPr>
              <a:t>означает обмен между людьми определенными результатами их психической деятельности – информацией, мыслями, чувст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1857240" cy="1895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7092720" y="18900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469116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Не от недостатка ума нет разговора, а от эгоизма. Всякий человек хочет говорить о себе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 том, что его заним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Л.Н. Толстой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Лев Толстой (Leo Tolstoy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836640"/>
            <a:ext cx="3830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Древние заповеди культуры общения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Verdana"/>
              </a:rPr>
              <a:t>Доверие к тому, с кем общаеш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99"/>
                </a:solidFill>
                <a:latin typeface="Verdana"/>
              </a:rPr>
              <a:t>Вера в то, что человек, с которым ты общаешься, хороший, что он расположен к в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Verdana"/>
              </a:rPr>
              <a:t>Уважение к тому, с кем общаеш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Признание человека как данность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2422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8d"/>
            </a:gs>
            <a:gs pos="50000">
              <a:srgbClr val="fee7f2"/>
            </a:gs>
            <a:gs pos="100000">
              <a:srgbClr val="f7d4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5493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М.М. Рощин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Попробуйте не наступать, а уст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захватить, а от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спрятать, а подел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орать, а выслушать, не разорвать, а скле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Не кулак показать, а протянутую ладо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6" descr="PIC_0008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26028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MCj04374570000[1]"/>
          <p:cNvPicPr/>
          <p:nvPr/>
        </p:nvPicPr>
        <p:blipFill>
          <a:blip r:embed="rId1"/>
          <a:srcRect l="0" t="3161" r="0" b="7891"/>
          <a:stretch/>
        </p:blipFill>
        <p:spPr>
          <a:xfrm>
            <a:off x="971640" y="0"/>
            <a:ext cx="71294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908000" y="1125360"/>
            <a:ext cx="5329440" cy="4176720"/>
            <a:chOff x="1908000" y="1125360"/>
            <a:chExt cx="5329440" cy="4176720"/>
          </a:xfrm>
        </p:grpSpPr>
        <p:grpSp>
          <p:nvGrpSpPr>
            <p:cNvPr id="186" name="Группа 23"/>
            <p:cNvGrpSpPr/>
            <p:nvPr/>
          </p:nvGrpSpPr>
          <p:grpSpPr>
            <a:xfrm>
              <a:off x="1908000" y="2205000"/>
              <a:ext cx="1873440" cy="1873440"/>
              <a:chOff x="1908000" y="2205000"/>
              <a:chExt cx="1873440" cy="1873440"/>
            </a:xfrm>
          </p:grpSpPr>
          <p:pic>
            <p:nvPicPr>
              <p:cNvPr id="187" name="Picture 10" descr="MCj04348300000[1]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2205000"/>
                <a:ext cx="18734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Rectangle 11"/>
              <p:cNvSpPr/>
              <p:nvPr/>
            </p:nvSpPr>
            <p:spPr>
              <a:xfrm>
                <a:off x="2140560" y="2639880"/>
                <a:ext cx="138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Активны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образ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жизн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Группа 21"/>
            <p:cNvGrpSpPr/>
            <p:nvPr/>
          </p:nvGrpSpPr>
          <p:grpSpPr>
            <a:xfrm>
              <a:off x="5364000" y="2492280"/>
              <a:ext cx="1873440" cy="1873440"/>
              <a:chOff x="5364000" y="2492280"/>
              <a:chExt cx="1873440" cy="1873440"/>
            </a:xfrm>
          </p:grpSpPr>
          <p:pic>
            <p:nvPicPr>
              <p:cNvPr id="190" name="Picture 7" descr="MCj04348300000[1]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2492280"/>
                <a:ext cx="18734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4"/>
              <p:cNvSpPr/>
              <p:nvPr/>
            </p:nvSpPr>
            <p:spPr>
              <a:xfrm>
                <a:off x="5651280" y="3066840"/>
                <a:ext cx="131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Общени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Группа 19"/>
            <p:cNvGrpSpPr/>
            <p:nvPr/>
          </p:nvGrpSpPr>
          <p:grpSpPr>
            <a:xfrm>
              <a:off x="3851280" y="1125360"/>
              <a:ext cx="1873080" cy="1873440"/>
              <a:chOff x="3851280" y="1125360"/>
              <a:chExt cx="1873080" cy="1873440"/>
            </a:xfrm>
          </p:grpSpPr>
          <p:pic>
            <p:nvPicPr>
              <p:cNvPr id="193" name="Picture 8" descr="MCj04348300000[1]"/>
              <p:cNvPicPr/>
              <p:nvPr/>
            </p:nvPicPr>
            <p:blipFill>
              <a:blip r:embed="rId4"/>
              <a:stretch/>
            </p:blipFill>
            <p:spPr>
              <a:xfrm>
                <a:off x="3851280" y="1125360"/>
                <a:ext cx="187308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15"/>
              <p:cNvSpPr/>
              <p:nvPr/>
            </p:nvSpPr>
            <p:spPr>
              <a:xfrm>
                <a:off x="4197240" y="175248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Гигие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Группа 25"/>
            <p:cNvGrpSpPr/>
            <p:nvPr/>
          </p:nvGrpSpPr>
          <p:grpSpPr>
            <a:xfrm>
              <a:off x="3419640" y="3429000"/>
              <a:ext cx="1873080" cy="1873080"/>
              <a:chOff x="3419640" y="3429000"/>
              <a:chExt cx="1873080" cy="1873080"/>
            </a:xfrm>
          </p:grpSpPr>
          <p:pic>
            <p:nvPicPr>
              <p:cNvPr id="196" name="Picture 6" descr="MCj04348300000[1]"/>
              <p:cNvPicPr/>
              <p:nvPr/>
            </p:nvPicPr>
            <p:blipFill>
              <a:blip r:embed="rId5"/>
              <a:stretch/>
            </p:blipFill>
            <p:spPr>
              <a:xfrm>
                <a:off x="3419640" y="3429000"/>
                <a:ext cx="1873080" cy="18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16"/>
              <p:cNvSpPr/>
              <p:nvPr/>
            </p:nvSpPr>
            <p:spPr>
              <a:xfrm>
                <a:off x="3564000" y="3933720"/>
                <a:ext cx="160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cc"/>
                    </a:solidFill>
                    <a:latin typeface="Arial"/>
                  </a:rPr>
                  <a:t>Правильное пит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Picture 21" descr="sw58"/>
          <p:cNvPicPr/>
          <p:nvPr/>
        </p:nvPicPr>
        <p:blipFill>
          <a:blip r:embed="rId6"/>
          <a:stretch/>
        </p:blipFill>
        <p:spPr>
          <a:xfrm>
            <a:off x="395280" y="404640"/>
            <a:ext cx="153036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29:32Z</dcterms:created>
  <dc:creator>марина</dc:creator>
  <dc:description/>
  <dc:language>en-US</dc:language>
  <cp:lastModifiedBy>марина</cp:lastModifiedBy>
  <dcterms:modified xsi:type="dcterms:W3CDTF">2009-02-15T17:59:01Z</dcterms:modified>
  <cp:revision>3</cp:revision>
  <dc:subject/>
  <dc:title>Слайд 1</dc:title>
</cp:coreProperties>
</file>